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6B9-45AE-4419-A4D6-7ABBEF65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6EFB-97A2-4833-9718-15A110A8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52DB-A637-4EAA-9493-EA239963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E8CD-A8D0-451B-ABDD-2F522E18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7BDB-0C23-496A-B938-E0B56373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3292-DC5E-41F4-9F00-65BE97A4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4D58-C54C-435F-B460-04E6B168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CC3D-168C-4492-9EF2-AA15D42C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3FB7-A3C4-4444-AA2F-A4E05503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4E9F-A699-41BB-A8B1-59221F45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1EC0-3342-4B08-879D-62C145B8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86EC-5BF6-4896-920F-DBE4C0AF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B0FF-8EB3-4255-8A61-CE62742D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ED00-5A7D-49B8-92BE-3E967432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15B2-0EB2-41C0-B44F-87535996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CFCC-76A5-42C1-840A-8AD5CEF9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0A2F-CD2F-4125-8BDD-8F162192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FC46-5B5D-499B-A4B1-8040FE0F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87AD-E61A-4C61-A76E-1792E139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ADE2-3E7F-4F3E-AC9D-F9BA43FD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DBFF-61A0-411C-8CAD-989F478E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AA7F-B42A-4670-A89E-0F1D5952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BA4-B028-44D0-AF20-7F1EC58D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17A1-FB76-43E1-BB53-4D581EC5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6E3D-B2D0-4FE9-B825-36268FA82C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6C6F-4EA4-4AAB-9CA4-F2E6C3E587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Смотр общественных знаний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ллель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х, прямой и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7. По рисунку перечислите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плоскости, параллельные прям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плоскости, параллельные прям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603160" y="2895480"/>
            <a:ext cx="3792600" cy="3409920"/>
            <a:chOff x="2603160" y="2895480"/>
            <a:chExt cx="3792600" cy="3409920"/>
          </a:xfrm>
        </p:grpSpPr>
        <p:sp>
          <p:nvSpPr>
            <p:cNvPr id="166" name="Cube 6147"/>
            <p:cNvSpPr/>
            <p:nvPr/>
          </p:nvSpPr>
          <p:spPr>
            <a:xfrm>
              <a:off x="3063240" y="3375720"/>
              <a:ext cx="2829960" cy="24076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Straight Connector 6148"/>
            <p:cNvSpPr/>
            <p:nvPr/>
          </p:nvSpPr>
          <p:spPr>
            <a:xfrm>
              <a:off x="3664440" y="3375720"/>
              <a:ext cx="0" cy="18064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Straight Connector 6149"/>
            <p:cNvSpPr/>
            <p:nvPr/>
          </p:nvSpPr>
          <p:spPr>
            <a:xfrm>
              <a:off x="3664440" y="5182200"/>
              <a:ext cx="2228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Straight Connector 6150"/>
            <p:cNvSpPr/>
            <p:nvPr/>
          </p:nvSpPr>
          <p:spPr>
            <a:xfrm flipH="1">
              <a:off x="3062880" y="5182200"/>
              <a:ext cx="600840" cy="601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6151"/>
            <p:cNvSpPr/>
            <p:nvPr/>
          </p:nvSpPr>
          <p:spPr>
            <a:xfrm>
              <a:off x="2713320" y="5697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6152"/>
            <p:cNvSpPr/>
            <p:nvPr/>
          </p:nvSpPr>
          <p:spPr>
            <a:xfrm>
              <a:off x="3677400" y="47484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6153"/>
            <p:cNvSpPr/>
            <p:nvPr/>
          </p:nvSpPr>
          <p:spPr>
            <a:xfrm>
              <a:off x="5955120" y="4807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6154"/>
            <p:cNvSpPr/>
            <p:nvPr/>
          </p:nvSpPr>
          <p:spPr>
            <a:xfrm>
              <a:off x="5293440" y="57848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6157"/>
            <p:cNvSpPr/>
            <p:nvPr/>
          </p:nvSpPr>
          <p:spPr>
            <a:xfrm>
              <a:off x="2603160" y="389232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99ff"/>
                  </a:solidFill>
                  <a:latin typeface="Arial"/>
                </a:rPr>
                <a:t>А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6158"/>
            <p:cNvSpPr/>
            <p:nvPr/>
          </p:nvSpPr>
          <p:spPr>
            <a:xfrm>
              <a:off x="3617280" y="289548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B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6159"/>
            <p:cNvSpPr/>
            <p:nvPr/>
          </p:nvSpPr>
          <p:spPr>
            <a:xfrm>
              <a:off x="5844600" y="289548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C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6160"/>
            <p:cNvSpPr/>
            <p:nvPr/>
          </p:nvSpPr>
          <p:spPr>
            <a:xfrm>
              <a:off x="5295240" y="385776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D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8. По рисунку перечислите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парно параллельные прямые в плоскости невидимого 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арно параллельные прямые в плоскости невидимой боковой г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60160" y="3048120"/>
            <a:ext cx="3792600" cy="3409560"/>
            <a:chOff x="1460160" y="3048120"/>
            <a:chExt cx="3792600" cy="3409560"/>
          </a:xfrm>
        </p:grpSpPr>
        <p:sp>
          <p:nvSpPr>
            <p:cNvPr id="182" name="Cube 6147"/>
            <p:cNvSpPr/>
            <p:nvPr/>
          </p:nvSpPr>
          <p:spPr>
            <a:xfrm>
              <a:off x="1920240" y="3528360"/>
              <a:ext cx="2829960" cy="24076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6148"/>
            <p:cNvSpPr/>
            <p:nvPr/>
          </p:nvSpPr>
          <p:spPr>
            <a:xfrm>
              <a:off x="2521440" y="3528360"/>
              <a:ext cx="0" cy="18061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traight Connector 6149"/>
            <p:cNvSpPr/>
            <p:nvPr/>
          </p:nvSpPr>
          <p:spPr>
            <a:xfrm>
              <a:off x="2521440" y="5334840"/>
              <a:ext cx="2228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traight Connector 6150"/>
            <p:cNvSpPr/>
            <p:nvPr/>
          </p:nvSpPr>
          <p:spPr>
            <a:xfrm flipH="1">
              <a:off x="1919880" y="5334840"/>
              <a:ext cx="600840" cy="601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6151"/>
            <p:cNvSpPr/>
            <p:nvPr/>
          </p:nvSpPr>
          <p:spPr>
            <a:xfrm>
              <a:off x="1570320" y="5849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6152"/>
            <p:cNvSpPr/>
            <p:nvPr/>
          </p:nvSpPr>
          <p:spPr>
            <a:xfrm>
              <a:off x="2534400" y="4900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6153"/>
            <p:cNvSpPr/>
            <p:nvPr/>
          </p:nvSpPr>
          <p:spPr>
            <a:xfrm>
              <a:off x="4812120" y="49604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6154"/>
            <p:cNvSpPr/>
            <p:nvPr/>
          </p:nvSpPr>
          <p:spPr>
            <a:xfrm>
              <a:off x="4150440" y="5937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6157"/>
            <p:cNvSpPr/>
            <p:nvPr/>
          </p:nvSpPr>
          <p:spPr>
            <a:xfrm>
              <a:off x="1460160" y="40446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99ff"/>
                  </a:solidFill>
                  <a:latin typeface="Arial"/>
                </a:rPr>
                <a:t>А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6158"/>
            <p:cNvSpPr/>
            <p:nvPr/>
          </p:nvSpPr>
          <p:spPr>
            <a:xfrm>
              <a:off x="2474280" y="304812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B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6159"/>
            <p:cNvSpPr/>
            <p:nvPr/>
          </p:nvSpPr>
          <p:spPr>
            <a:xfrm>
              <a:off x="4701600" y="304812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C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6160"/>
            <p:cNvSpPr/>
            <p:nvPr/>
          </p:nvSpPr>
          <p:spPr>
            <a:xfrm>
              <a:off x="4152240" y="401004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D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9. По рисунку перечислите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у пересекающихся прямых в плоскости видимой боковой г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у пересекающихся прямых в плоскости видимого 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460160" y="3048120"/>
            <a:ext cx="3792600" cy="3409560"/>
            <a:chOff x="1460160" y="3048120"/>
            <a:chExt cx="3792600" cy="3409560"/>
          </a:xfrm>
        </p:grpSpPr>
        <p:sp>
          <p:nvSpPr>
            <p:cNvPr id="198" name="Cube 6147"/>
            <p:cNvSpPr/>
            <p:nvPr/>
          </p:nvSpPr>
          <p:spPr>
            <a:xfrm>
              <a:off x="1920240" y="3528360"/>
              <a:ext cx="2829960" cy="24076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traight Connector 6148"/>
            <p:cNvSpPr/>
            <p:nvPr/>
          </p:nvSpPr>
          <p:spPr>
            <a:xfrm>
              <a:off x="2521440" y="3528360"/>
              <a:ext cx="0" cy="18061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Straight Connector 6149"/>
            <p:cNvSpPr/>
            <p:nvPr/>
          </p:nvSpPr>
          <p:spPr>
            <a:xfrm>
              <a:off x="2521440" y="5334840"/>
              <a:ext cx="2228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traight Connector 6150"/>
            <p:cNvSpPr/>
            <p:nvPr/>
          </p:nvSpPr>
          <p:spPr>
            <a:xfrm flipH="1">
              <a:off x="1919880" y="5334840"/>
              <a:ext cx="600840" cy="601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6151"/>
            <p:cNvSpPr/>
            <p:nvPr/>
          </p:nvSpPr>
          <p:spPr>
            <a:xfrm>
              <a:off x="1570320" y="5849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6152"/>
            <p:cNvSpPr/>
            <p:nvPr/>
          </p:nvSpPr>
          <p:spPr>
            <a:xfrm>
              <a:off x="2534400" y="4900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6153"/>
            <p:cNvSpPr/>
            <p:nvPr/>
          </p:nvSpPr>
          <p:spPr>
            <a:xfrm>
              <a:off x="4812120" y="49604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6154"/>
            <p:cNvSpPr/>
            <p:nvPr/>
          </p:nvSpPr>
          <p:spPr>
            <a:xfrm>
              <a:off x="4150440" y="5937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6157"/>
            <p:cNvSpPr/>
            <p:nvPr/>
          </p:nvSpPr>
          <p:spPr>
            <a:xfrm>
              <a:off x="1460160" y="40446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99ff"/>
                  </a:solidFill>
                  <a:latin typeface="Arial"/>
                </a:rPr>
                <a:t>А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6158"/>
            <p:cNvSpPr/>
            <p:nvPr/>
          </p:nvSpPr>
          <p:spPr>
            <a:xfrm>
              <a:off x="2474280" y="304812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B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6159"/>
            <p:cNvSpPr/>
            <p:nvPr/>
          </p:nvSpPr>
          <p:spPr>
            <a:xfrm>
              <a:off x="4701600" y="304812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C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6160"/>
            <p:cNvSpPr/>
            <p:nvPr/>
          </p:nvSpPr>
          <p:spPr>
            <a:xfrm>
              <a:off x="4152240" y="401004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D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3. Математический диктант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чайте «да» или «нет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Верно ли утверждение: «Прямая параллельна плоскости, если она параллельна прямой, лежащей в этой плоскости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чайте «да» или «нет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ерно ли, что через данную точку, не лежащую в плоскости, можно провести прямую, параллельную данной плоскости, и притом только одн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чайте «да» или «нет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Известно, что прямая параллельна плоскости. Верно ли, что она параллельна любой прямой, лежащей в плоск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чайте «да» или «нет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Известно, что прямая параллельна плоскости. Верно ли, что она пересекает хотя бы одну прямую этой плоско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чайте «да» или «нет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Каждая из прямых a и b параллельна одной и той же плоск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едует ли из этого, что прямые a и b параллель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чайте «да» или «нет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Каждая из двух плоскосте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араллельна одной и той же прямой. Верно ли, что эти плоскости параллель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1. Словарный диктант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4. Тестирование 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3033720" cy="30481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434304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C и A1D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C, A1D1, B1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C и 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C, A1D1, B1C1, BB1, C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ный ответ не указан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Учитывая, что все грани куба - квадраты, укажите по рисунку все прямые параллельные прямо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AD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4343400"/>
            <a:ext cx="3886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1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 и A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C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ный ответ не указан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кая из следующих плоскостей параллельна прямой AA1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(AD)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411480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BB1C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D1B1C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1C1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BCD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7960" y="411480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1D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D1C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1C1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BCD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31240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колько прямых, параллельных данной плоскости, можно провести через данную точку не лежащую в плоскости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одн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дв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ни одн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бесконечно мног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зависит от расположения точки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4. Определите по рисунку, какое из утверждений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неверно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ая DM лежит в плоскости B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ая NC не имеет с плоскостью ABD общих то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ая DM 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ет плоскость A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скости AMD и BNC имеют общую прямую 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495680" y="2133720"/>
            <a:ext cx="41148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Две стороны треугольника параллельны плоскости. Каково взаимное расположение третьей стороны треугольника и данной плоскости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и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и пересекаются или параллель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и параллельны или сторона лежит в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тья сторона всегда параллельна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чего определенного сказать нельз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положение может быть люб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. Самостоятельная работ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Решите задачу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666880"/>
            <a:ext cx="5578560" cy="1844640"/>
          </a:xfrm>
          <a:custGeom>
            <a:avLst/>
            <a:gdLst/>
            <a:ahLst/>
            <a:rect l="l" t="t" r="r" b="b"/>
            <a:pathLst>
              <a:path w="3514" h="1162">
                <a:moveTo>
                  <a:pt x="1805" y="19"/>
                </a:moveTo>
                <a:lnTo>
                  <a:pt x="1162" y="29"/>
                </a:lnTo>
                <a:lnTo>
                  <a:pt x="0" y="1162"/>
                </a:lnTo>
                <a:lnTo>
                  <a:pt x="2477" y="1162"/>
                </a:lnTo>
                <a:lnTo>
                  <a:pt x="3514" y="0"/>
                </a:lnTo>
                <a:lnTo>
                  <a:pt x="2784" y="10"/>
                </a:lnTo>
              </a:path>
            </a:pathLst>
          </a:custGeom>
          <a:solidFill>
            <a:srgbClr val="00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35160" y="1782720"/>
            <a:ext cx="2879640" cy="2103480"/>
          </a:xfrm>
          <a:custGeom>
            <a:avLst/>
            <a:gdLst/>
            <a:ahLst/>
            <a:rect l="l" t="t" r="r" b="b"/>
            <a:pathLst>
              <a:path w="1814" h="1325">
                <a:moveTo>
                  <a:pt x="0" y="1325"/>
                </a:moveTo>
                <a:lnTo>
                  <a:pt x="181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62240" y="2357280"/>
            <a:ext cx="14436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38400" y="3436920"/>
            <a:ext cx="511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79120" y="2933640"/>
            <a:ext cx="51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05120" y="19969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01120" y="134928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06400" y="35100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14800" y="1752480"/>
            <a:ext cx="442800" cy="1524240"/>
          </a:xfrm>
          <a:custGeom>
            <a:avLst/>
            <a:gdLst/>
            <a:ahLst/>
            <a:rect l="l" t="t" r="r" b="b"/>
            <a:pathLst>
              <a:path w="279" h="960">
                <a:moveTo>
                  <a:pt x="0" y="0"/>
                </a:moveTo>
                <a:lnTo>
                  <a:pt x="279" y="96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62320" y="2438280"/>
            <a:ext cx="272880" cy="1020960"/>
          </a:xfrm>
          <a:custGeom>
            <a:avLst/>
            <a:gdLst/>
            <a:ahLst/>
            <a:rect l="l" t="t" r="r" b="b"/>
            <a:pathLst>
              <a:path w="172" h="643">
                <a:moveTo>
                  <a:pt x="172" y="64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49200" y="3292560"/>
            <a:ext cx="3292560" cy="593640"/>
          </a:xfrm>
          <a:custGeom>
            <a:avLst/>
            <a:gdLst/>
            <a:ahLst/>
            <a:rect l="l" t="t" r="r" b="b"/>
            <a:pathLst>
              <a:path w="2074" h="374">
                <a:moveTo>
                  <a:pt x="0" y="374"/>
                </a:moveTo>
                <a:lnTo>
                  <a:pt x="207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25720" y="2697120"/>
            <a:ext cx="1447920" cy="1800"/>
          </a:xfrm>
          <a:custGeom>
            <a:avLst/>
            <a:gdLst/>
            <a:ahLst/>
            <a:rect l="l" t="t" r="r" b="b"/>
            <a:pathLst>
              <a:path w="912" h="1">
                <a:moveTo>
                  <a:pt x="0" y="0"/>
                </a:moveTo>
                <a:lnTo>
                  <a:pt x="912" y="0"/>
                </a:lnTo>
              </a:path>
            </a:pathLst>
          </a:custGeom>
          <a:noFill/>
          <a:ln w="2232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7320" y="4013280"/>
            <a:ext cx="3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6666cc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76920" y="1600200"/>
            <a:ext cx="388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€ АВ; А €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€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∩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€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 : СВ = 3 :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0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казат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, В1, С1 лежат  на одн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йт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С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спользуя подобие треугольни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09880" y="2644920"/>
            <a:ext cx="504720" cy="482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78240" y="1636560"/>
            <a:ext cx="504720" cy="4827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66cc"/>
                                      </p:to>
                                    </p:animClr>
                                    <p:set>
                                      <p:cBhvr>
                                        <p:cTn id="8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2. Программированный контроль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.Закончи предлож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е прямые в пространстве называются параллельными, если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ямая и плоскость называются параллельными, если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2. Сформулируйте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знак параллельности прямой и плос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орему о параллельности трех прямых в простран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3. Закончи предлож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ез любую точку пространства, не лежащую на данной прямой, проходит прямая, параллельная данной, и 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одна из двух параллельных прямых пересекает данную плоскость, то и другая прямая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4. Изобразите…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учаи взаимного расположения прямой и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учаи взаимного расположения прямых в простран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5. Перечислите все ребра, параллельные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р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р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526840" y="2437920"/>
            <a:ext cx="4368960" cy="3855960"/>
            <a:chOff x="2526840" y="2437920"/>
            <a:chExt cx="4368960" cy="3855960"/>
          </a:xfrm>
        </p:grpSpPr>
        <p:sp>
          <p:nvSpPr>
            <p:cNvPr id="112" name=""/>
            <p:cNvSpPr/>
            <p:nvPr/>
          </p:nvSpPr>
          <p:spPr>
            <a:xfrm flipV="1">
              <a:off x="5638680" y="2590560"/>
              <a:ext cx="99072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526840" y="2437920"/>
              <a:ext cx="4368960" cy="3855960"/>
              <a:chOff x="2526840" y="2437920"/>
              <a:chExt cx="4368960" cy="3855960"/>
            </a:xfrm>
          </p:grpSpPr>
          <p:sp>
            <p:nvSpPr>
              <p:cNvPr id="114" name=""/>
              <p:cNvSpPr/>
              <p:nvPr/>
            </p:nvSpPr>
            <p:spPr>
              <a:xfrm>
                <a:off x="3551400" y="3346560"/>
                <a:ext cx="2665080" cy="82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959200" y="3948120"/>
                <a:ext cx="2295360" cy="180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2526840" y="2437920"/>
                <a:ext cx="4368960" cy="3855960"/>
                <a:chOff x="2526840" y="2437920"/>
                <a:chExt cx="4368960" cy="3855960"/>
              </a:xfrm>
            </p:grpSpPr>
            <p:grpSp>
              <p:nvGrpSpPr>
                <p:cNvPr id="117" name=""/>
                <p:cNvGrpSpPr/>
                <p:nvPr/>
              </p:nvGrpSpPr>
              <p:grpSpPr>
                <a:xfrm>
                  <a:off x="2526840" y="2895480"/>
                  <a:ext cx="3832920" cy="3398400"/>
                  <a:chOff x="2526840" y="2895480"/>
                  <a:chExt cx="3832920" cy="3398400"/>
                </a:xfrm>
              </p:grpSpPr>
              <p:sp>
                <p:nvSpPr>
                  <p:cNvPr id="118" name="Cube 6147"/>
                  <p:cNvSpPr/>
                  <p:nvPr/>
                </p:nvSpPr>
                <p:spPr>
                  <a:xfrm>
                    <a:off x="2992680" y="3373560"/>
                    <a:ext cx="2863800" cy="2397240"/>
                  </a:xfrm>
                  <a:prstGeom prst="cube">
                    <a:avLst>
                      <a:gd name="adj" fmla="val 25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Straight Connector 6148"/>
                  <p:cNvSpPr/>
                  <p:nvPr/>
                </p:nvSpPr>
                <p:spPr>
                  <a:xfrm>
                    <a:off x="3601080" y="3373560"/>
                    <a:ext cx="0" cy="1798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Straight Connector 6149"/>
                  <p:cNvSpPr/>
                  <p:nvPr/>
                </p:nvSpPr>
                <p:spPr>
                  <a:xfrm>
                    <a:off x="3601080" y="5172120"/>
                    <a:ext cx="22554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Straight Connector 6150"/>
                  <p:cNvSpPr/>
                  <p:nvPr/>
                </p:nvSpPr>
                <p:spPr>
                  <a:xfrm flipH="1">
                    <a:off x="2992320" y="5172120"/>
                    <a:ext cx="608040" cy="598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TextBox 6151"/>
                  <p:cNvSpPr/>
                  <p:nvPr/>
                </p:nvSpPr>
                <p:spPr>
                  <a:xfrm>
                    <a:off x="2640240" y="5686200"/>
                    <a:ext cx="43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А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TextBox 6152"/>
                  <p:cNvSpPr/>
                  <p:nvPr/>
                </p:nvSpPr>
                <p:spPr>
                  <a:xfrm>
                    <a:off x="3616920" y="4741200"/>
                    <a:ext cx="43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Box 6153"/>
                  <p:cNvSpPr/>
                  <p:nvPr/>
                </p:nvSpPr>
                <p:spPr>
                  <a:xfrm>
                    <a:off x="5919120" y="4800960"/>
                    <a:ext cx="43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C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Box 6154"/>
                  <p:cNvSpPr/>
                  <p:nvPr/>
                </p:nvSpPr>
                <p:spPr>
                  <a:xfrm>
                    <a:off x="5248440" y="5773320"/>
                    <a:ext cx="43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D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TextBox 6157"/>
                  <p:cNvSpPr/>
                  <p:nvPr/>
                </p:nvSpPr>
                <p:spPr>
                  <a:xfrm>
                    <a:off x="2526840" y="3887640"/>
                    <a:ext cx="5511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9999ff"/>
                        </a:solidFill>
                        <a:latin typeface="Arial"/>
                      </a:rPr>
                      <a:t>А</a:t>
                    </a:r>
                    <a:r>
                      <a:rPr b="1" lang="en-US" sz="2800" spc="-1" strike="noStrike" baseline="-25000">
                        <a:solidFill>
                          <a:srgbClr val="9999ff"/>
                        </a:solidFill>
                        <a:latin typeface="Arial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TextBox 6158"/>
                  <p:cNvSpPr/>
                  <p:nvPr/>
                </p:nvSpPr>
                <p:spPr>
                  <a:xfrm>
                    <a:off x="3550320" y="2895480"/>
                    <a:ext cx="5511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B</a:t>
                    </a:r>
                    <a:r>
                      <a:rPr b="1" lang="en-US" sz="2800" spc="-1" strike="noStrike" baseline="-25000">
                        <a:solidFill>
                          <a:srgbClr val="9999ff"/>
                        </a:solidFill>
                        <a:latin typeface="Arial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TextBox 6159"/>
                  <p:cNvSpPr/>
                  <p:nvPr/>
                </p:nvSpPr>
                <p:spPr>
                  <a:xfrm>
                    <a:off x="5808600" y="2895480"/>
                    <a:ext cx="5511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C</a:t>
                    </a:r>
                    <a:r>
                      <a:rPr b="1" lang="en-US" sz="2800" spc="-1" strike="noStrike" baseline="-25000">
                        <a:solidFill>
                          <a:srgbClr val="9999ff"/>
                        </a:solidFill>
                        <a:latin typeface="Arial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TextBox 6160"/>
                  <p:cNvSpPr/>
                  <p:nvPr/>
                </p:nvSpPr>
                <p:spPr>
                  <a:xfrm>
                    <a:off x="5250960" y="3852000"/>
                    <a:ext cx="5511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D</a:t>
                    </a:r>
                    <a:r>
                      <a:rPr b="1" lang="en-US" sz="2800" spc="-1" strike="noStrike" baseline="-25000">
                        <a:solidFill>
                          <a:srgbClr val="9999ff"/>
                        </a:solidFill>
                        <a:latin typeface="Arial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" name=""/>
                <p:cNvSpPr/>
                <p:nvPr/>
              </p:nvSpPr>
              <p:spPr>
                <a:xfrm flipV="1">
                  <a:off x="5254560" y="2437920"/>
                  <a:ext cx="1298520" cy="331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Box 6159"/>
                <p:cNvSpPr/>
                <p:nvPr/>
              </p:nvSpPr>
              <p:spPr>
                <a:xfrm>
                  <a:off x="5997240" y="37972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9999ff"/>
                      </a:solidFill>
                      <a:latin typeface="Arial"/>
                    </a:rPr>
                    <a:t>K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772240" y="4022640"/>
                  <a:ext cx="147600" cy="150840"/>
                </a:xfrm>
                <a:prstGeom prst="ellipse">
                  <a:avLst/>
                </a:prstGeom>
                <a:solidFill>
                  <a:srgbClr val="66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TextBox 6159"/>
                <p:cNvSpPr/>
                <p:nvPr/>
              </p:nvSpPr>
              <p:spPr>
                <a:xfrm>
                  <a:off x="6478920" y="281952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9999ff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6324480" y="2743200"/>
                <a:ext cx="147600" cy="150840"/>
              </a:xfrm>
              <a:prstGeom prst="ellipse">
                <a:avLst/>
              </a:prstGeom>
              <a:solidFill>
                <a:srgbClr val="66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6. Как располагаются прямы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526840" y="2437920"/>
            <a:ext cx="4368960" cy="3855960"/>
            <a:chOff x="2526840" y="2437920"/>
            <a:chExt cx="4368960" cy="3855960"/>
          </a:xfrm>
        </p:grpSpPr>
        <p:sp>
          <p:nvSpPr>
            <p:cNvPr id="139" name=""/>
            <p:cNvSpPr/>
            <p:nvPr/>
          </p:nvSpPr>
          <p:spPr>
            <a:xfrm flipV="1">
              <a:off x="5638680" y="2590560"/>
              <a:ext cx="99072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526840" y="2437920"/>
              <a:ext cx="4368960" cy="3855960"/>
              <a:chOff x="2526840" y="2437920"/>
              <a:chExt cx="4368960" cy="3855960"/>
            </a:xfrm>
          </p:grpSpPr>
          <p:sp>
            <p:nvSpPr>
              <p:cNvPr id="141" name=""/>
              <p:cNvSpPr/>
              <p:nvPr/>
            </p:nvSpPr>
            <p:spPr>
              <a:xfrm>
                <a:off x="3551400" y="3346560"/>
                <a:ext cx="2665080" cy="82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959200" y="3948120"/>
                <a:ext cx="2295360" cy="180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2526840" y="2437920"/>
                <a:ext cx="4368960" cy="3855960"/>
                <a:chOff x="2526840" y="2437920"/>
                <a:chExt cx="4368960" cy="385596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2526840" y="2895480"/>
                  <a:ext cx="3832920" cy="3398400"/>
                  <a:chOff x="2526840" y="2895480"/>
                  <a:chExt cx="3832920" cy="3398400"/>
                </a:xfrm>
              </p:grpSpPr>
              <p:sp>
                <p:nvSpPr>
                  <p:cNvPr id="145" name="Cube 6147"/>
                  <p:cNvSpPr/>
                  <p:nvPr/>
                </p:nvSpPr>
                <p:spPr>
                  <a:xfrm>
                    <a:off x="2992680" y="3373560"/>
                    <a:ext cx="2863800" cy="2397240"/>
                  </a:xfrm>
                  <a:prstGeom prst="cube">
                    <a:avLst>
                      <a:gd name="adj" fmla="val 25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Straight Connector 6148"/>
                  <p:cNvSpPr/>
                  <p:nvPr/>
                </p:nvSpPr>
                <p:spPr>
                  <a:xfrm>
                    <a:off x="3601080" y="3373560"/>
                    <a:ext cx="0" cy="1798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Straight Connector 6149"/>
                  <p:cNvSpPr/>
                  <p:nvPr/>
                </p:nvSpPr>
                <p:spPr>
                  <a:xfrm>
                    <a:off x="3601080" y="5172120"/>
                    <a:ext cx="22554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Straight Connector 6150"/>
                  <p:cNvSpPr/>
                  <p:nvPr/>
                </p:nvSpPr>
                <p:spPr>
                  <a:xfrm flipH="1">
                    <a:off x="2992320" y="5172120"/>
                    <a:ext cx="608040" cy="598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TextBox 6151"/>
                  <p:cNvSpPr/>
                  <p:nvPr/>
                </p:nvSpPr>
                <p:spPr>
                  <a:xfrm>
                    <a:off x="2640240" y="5686200"/>
                    <a:ext cx="43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А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TextBox 6152"/>
                  <p:cNvSpPr/>
                  <p:nvPr/>
                </p:nvSpPr>
                <p:spPr>
                  <a:xfrm>
                    <a:off x="3616920" y="4741200"/>
                    <a:ext cx="43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TextBox 6153"/>
                  <p:cNvSpPr/>
                  <p:nvPr/>
                </p:nvSpPr>
                <p:spPr>
                  <a:xfrm>
                    <a:off x="5919120" y="4800960"/>
                    <a:ext cx="43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C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TextBox 6154"/>
                  <p:cNvSpPr/>
                  <p:nvPr/>
                </p:nvSpPr>
                <p:spPr>
                  <a:xfrm>
                    <a:off x="5248440" y="5773320"/>
                    <a:ext cx="43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D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TextBox 6157"/>
                  <p:cNvSpPr/>
                  <p:nvPr/>
                </p:nvSpPr>
                <p:spPr>
                  <a:xfrm>
                    <a:off x="2526840" y="3887640"/>
                    <a:ext cx="5511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9999ff"/>
                        </a:solidFill>
                        <a:latin typeface="Arial"/>
                      </a:rPr>
                      <a:t>А</a:t>
                    </a:r>
                    <a:r>
                      <a:rPr b="1" lang="en-US" sz="2800" spc="-1" strike="noStrike" baseline="-25000">
                        <a:solidFill>
                          <a:srgbClr val="9999ff"/>
                        </a:solidFill>
                        <a:latin typeface="Arial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TextBox 6158"/>
                  <p:cNvSpPr/>
                  <p:nvPr/>
                </p:nvSpPr>
                <p:spPr>
                  <a:xfrm>
                    <a:off x="3550320" y="2895480"/>
                    <a:ext cx="5511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B</a:t>
                    </a:r>
                    <a:r>
                      <a:rPr b="1" lang="en-US" sz="2800" spc="-1" strike="noStrike" baseline="-25000">
                        <a:solidFill>
                          <a:srgbClr val="9999ff"/>
                        </a:solidFill>
                        <a:latin typeface="Arial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TextBox 6159"/>
                  <p:cNvSpPr/>
                  <p:nvPr/>
                </p:nvSpPr>
                <p:spPr>
                  <a:xfrm>
                    <a:off x="5808600" y="2895480"/>
                    <a:ext cx="5511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C</a:t>
                    </a:r>
                    <a:r>
                      <a:rPr b="1" lang="en-US" sz="2800" spc="-1" strike="noStrike" baseline="-25000">
                        <a:solidFill>
                          <a:srgbClr val="9999ff"/>
                        </a:solidFill>
                        <a:latin typeface="Arial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TextBox 6160"/>
                  <p:cNvSpPr/>
                  <p:nvPr/>
                </p:nvSpPr>
                <p:spPr>
                  <a:xfrm>
                    <a:off x="5250960" y="3852000"/>
                    <a:ext cx="5511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D</a:t>
                    </a:r>
                    <a:r>
                      <a:rPr b="1" lang="en-US" sz="2800" spc="-1" strike="noStrike" baseline="-25000">
                        <a:solidFill>
                          <a:srgbClr val="9999ff"/>
                        </a:solidFill>
                        <a:latin typeface="Arial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"/>
                <p:cNvSpPr/>
                <p:nvPr/>
              </p:nvSpPr>
              <p:spPr>
                <a:xfrm flipV="1">
                  <a:off x="5254560" y="2437920"/>
                  <a:ext cx="1298520" cy="331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TextBox 6159"/>
                <p:cNvSpPr/>
                <p:nvPr/>
              </p:nvSpPr>
              <p:spPr>
                <a:xfrm>
                  <a:off x="5997240" y="37972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9999ff"/>
                      </a:solidFill>
                      <a:latin typeface="Arial"/>
                    </a:rPr>
                    <a:t>K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772240" y="4022640"/>
                  <a:ext cx="147600" cy="150840"/>
                </a:xfrm>
                <a:prstGeom prst="ellipse">
                  <a:avLst/>
                </a:prstGeom>
                <a:solidFill>
                  <a:srgbClr val="66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TextBox 6159"/>
                <p:cNvSpPr/>
                <p:nvPr/>
              </p:nvSpPr>
              <p:spPr>
                <a:xfrm>
                  <a:off x="6478920" y="281952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9999ff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6324480" y="2743200"/>
                <a:ext cx="147600" cy="150840"/>
              </a:xfrm>
              <a:prstGeom prst="ellipse">
                <a:avLst/>
              </a:prstGeom>
              <a:solidFill>
                <a:srgbClr val="66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b</cp:lastModifiedBy>
  <dcterms:modified xsi:type="dcterms:W3CDTF">2000-12-31T19:44:29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