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D8F-BFF3-4711-8349-AAF36811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FE7-5769-4636-BC0A-5D4BCAC4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A7D-5372-4639-8436-2AD19617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650-3E73-40A5-BFCD-8DC3A056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3283-3A59-4391-9250-805A0971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9877-BDE8-482A-9E0D-0BC4E54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E86-15FC-402B-86D0-6D859DD9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3AD-C509-444A-92C5-1FD935F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658D-2EA9-4E38-BC63-78142C9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394-8119-4B17-BF70-0F39B37B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F10A-FB01-4A12-A0A1-446F2AC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C82-7669-4B8F-9138-89906E49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068-F3A2-41E5-880F-F388CD3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036-020B-42EF-85A7-3817AAE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21F1-A9B7-47D6-B2D0-C90333CF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7CDB-A9D9-48B6-AE0C-F4AA898E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FAD-5508-4754-9918-0BBC7794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A8F-DC19-4EBB-8294-0DBC04C2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937-639D-4280-B40C-1EFFB28F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083-758E-46E8-8AD8-C3A36FCD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6DA-9408-4DA3-842E-7A5E427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4E1-2EC7-4729-9470-8BF840A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01A-6E6F-4221-A502-C438BB78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7BC-AF1C-4DDB-B759-1228E1D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EC5-FF1B-4088-8B65-B10C4BEFB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7DA0-BF32-4252-A57A-411253C4A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мотр общественных знани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х, прямой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03160" y="2895480"/>
            <a:ext cx="3792600" cy="3409920"/>
            <a:chOff x="2603160" y="2895480"/>
            <a:chExt cx="3792600" cy="3409920"/>
          </a:xfrm>
        </p:grpSpPr>
        <p:sp>
          <p:nvSpPr>
            <p:cNvPr id="166" name="Cube 6147"/>
            <p:cNvSpPr/>
            <p:nvPr/>
          </p:nvSpPr>
          <p:spPr>
            <a:xfrm>
              <a:off x="3063240" y="337572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6148"/>
            <p:cNvSpPr/>
            <p:nvPr/>
          </p:nvSpPr>
          <p:spPr>
            <a:xfrm>
              <a:off x="3664440" y="3375720"/>
              <a:ext cx="0" cy="1806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6149"/>
            <p:cNvSpPr/>
            <p:nvPr/>
          </p:nvSpPr>
          <p:spPr>
            <a:xfrm>
              <a:off x="3664440" y="518220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150"/>
            <p:cNvSpPr/>
            <p:nvPr/>
          </p:nvSpPr>
          <p:spPr>
            <a:xfrm flipH="1">
              <a:off x="3062880" y="518220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6151"/>
            <p:cNvSpPr/>
            <p:nvPr/>
          </p:nvSpPr>
          <p:spPr>
            <a:xfrm>
              <a:off x="2713320" y="56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152"/>
            <p:cNvSpPr/>
            <p:nvPr/>
          </p:nvSpPr>
          <p:spPr>
            <a:xfrm>
              <a:off x="3677400" y="4748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6153"/>
            <p:cNvSpPr/>
            <p:nvPr/>
          </p:nvSpPr>
          <p:spPr>
            <a:xfrm>
              <a:off x="5955120" y="480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6154"/>
            <p:cNvSpPr/>
            <p:nvPr/>
          </p:nvSpPr>
          <p:spPr>
            <a:xfrm>
              <a:off x="5293440" y="5784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6157"/>
            <p:cNvSpPr/>
            <p:nvPr/>
          </p:nvSpPr>
          <p:spPr>
            <a:xfrm>
              <a:off x="2603160" y="38923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158"/>
            <p:cNvSpPr/>
            <p:nvPr/>
          </p:nvSpPr>
          <p:spPr>
            <a:xfrm>
              <a:off x="361728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159"/>
            <p:cNvSpPr/>
            <p:nvPr/>
          </p:nvSpPr>
          <p:spPr>
            <a:xfrm>
              <a:off x="584460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160"/>
            <p:cNvSpPr/>
            <p:nvPr/>
          </p:nvSpPr>
          <p:spPr>
            <a:xfrm>
              <a:off x="5295240" y="38577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8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82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9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98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3. Математически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ерно ли утверждение: «Прямая параллельна плоскости, если она параллельна прямой, лежащей в этой плоскост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рно ли, что через данную точку, не лежащую в плоскости, можно провести прямую, параллельную данной плоскости, и притом только од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Известно, что прямая параллельна плоскости. Верно ли, что она параллельна любой прямой, лежащей в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Известно, что прямая параллельна плоскости. Верно ли, что она пересекает хотя бы одну прямую этой плоск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Каждая из прямых a и b параллельна одной и той же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ует ли из этого, что прямые a и b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ждая из двух плоскост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аллельна одной и той же прямой. Верно ли, что эти плоскости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1. Словарны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4. Тестирование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033720" cy="3048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4343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 и A1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 и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, BB1, 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Учитывая, что все грани куба - квадраты, укажите по рисунку все прямые параллельные прям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D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34340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 и 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ая из следующих плоскостей параллельна прямой AA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(AD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1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3124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колько прямых, параллельных данной плоскости, можно провести через данную точку не лежащую в плоскости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одн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и од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есконечно м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зависит от расположения точк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4. Определите по рисунку, какое из утверждений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неверно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лежит в плоскости B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NC не имеет с плоскостью ABD общи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ет плоскость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и AMD и BNC имеют общую прямую 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114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Две стороны треугольника параллельны плоскости. Каково взаимное расположение третьей стороны треугольника и данной плоскост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 ил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араллельны или сторона лежит в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тья сторона всегда параллель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го определенного сказ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оложение может быть люб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. Самостоятельная работ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Решите задачу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666880"/>
            <a:ext cx="5578560" cy="1844640"/>
          </a:xfrm>
          <a:custGeom>
            <a:avLst/>
            <a:gdLst/>
            <a:ahLst/>
            <a:rect l="l" t="t" r="r" b="b"/>
            <a:pathLst>
              <a:path w="3514" h="1162">
                <a:moveTo>
                  <a:pt x="1805" y="19"/>
                </a:moveTo>
                <a:lnTo>
                  <a:pt x="1162" y="29"/>
                </a:lnTo>
                <a:lnTo>
                  <a:pt x="0" y="1162"/>
                </a:lnTo>
                <a:lnTo>
                  <a:pt x="2477" y="1162"/>
                </a:lnTo>
                <a:lnTo>
                  <a:pt x="3514" y="0"/>
                </a:lnTo>
                <a:lnTo>
                  <a:pt x="2784" y="10"/>
                </a:lnTo>
              </a:path>
            </a:pathLst>
          </a:custGeom>
          <a:solidFill>
            <a:srgbClr val="00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5160" y="1782720"/>
            <a:ext cx="2879640" cy="2103480"/>
          </a:xfrm>
          <a:custGeom>
            <a:avLst/>
            <a:gdLst/>
            <a:ahLst/>
            <a:rect l="l" t="t" r="r" b="b"/>
            <a:pathLst>
              <a:path w="1814" h="1325">
                <a:moveTo>
                  <a:pt x="0" y="1325"/>
                </a:moveTo>
                <a:lnTo>
                  <a:pt x="181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62240" y="235728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8400" y="3436920"/>
            <a:ext cx="51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79120" y="2933640"/>
            <a:ext cx="51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05120" y="1996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01120" y="13492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6400" y="3510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752480"/>
            <a:ext cx="442800" cy="1524240"/>
          </a:xfrm>
          <a:custGeom>
            <a:avLst/>
            <a:gdLst/>
            <a:ahLst/>
            <a:rect l="l" t="t" r="r" b="b"/>
            <a:pathLst>
              <a:path w="279" h="960">
                <a:moveTo>
                  <a:pt x="0" y="0"/>
                </a:moveTo>
                <a:lnTo>
                  <a:pt x="279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62320" y="2438280"/>
            <a:ext cx="272880" cy="1020960"/>
          </a:xfrm>
          <a:custGeom>
            <a:avLst/>
            <a:gdLst/>
            <a:ahLst/>
            <a:rect l="l" t="t" r="r" b="b"/>
            <a:pathLst>
              <a:path w="172" h="643">
                <a:moveTo>
                  <a:pt x="172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49200" y="3292560"/>
            <a:ext cx="3292560" cy="593640"/>
          </a:xfrm>
          <a:custGeom>
            <a:avLst/>
            <a:gdLst/>
            <a:ahLst/>
            <a:rect l="l" t="t" r="r" b="b"/>
            <a:pathLst>
              <a:path w="2074" h="374">
                <a:moveTo>
                  <a:pt x="0" y="374"/>
                </a:moveTo>
                <a:lnTo>
                  <a:pt x="20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25720" y="2697120"/>
            <a:ext cx="1447920" cy="180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7320" y="40132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6666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€ АВ; А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: СВ = 3 :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казат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, В1, С1 лежат  на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уя подобие треуголь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09880" y="2644920"/>
            <a:ext cx="504720" cy="482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78240" y="1636560"/>
            <a:ext cx="504720" cy="482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cc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2. Программированный контрол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прямые в пространстве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ая и плоскость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. Сформулируй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знак параллельности прямой и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му о параллельности трех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. 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любую точку пространства, не лежащую на данной прямой, проходит прямая, параллельная данной, и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одна из двух параллельных прямых пересекает данную плоскость, то и другая прямая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. Изобразите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ой и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Перечислите все ребра, параллельные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12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14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18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6. Как располагаются прям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39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41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45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b</cp:lastModifiedBy>
  <dcterms:modified xsi:type="dcterms:W3CDTF">2000-12-31T19:44:2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