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36AA9-5033-41AB-BA36-34E5E96E3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564CF-19E7-4BB2-8B44-4F77BFA83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775F2-CA4C-4489-89EB-672780B8A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5D215-B9A0-40FB-9802-CAF91F63B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D88AC-BCD6-4C8E-B1AC-C96E96947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FB8F6-5710-431D-94D0-ABBEC58F0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58A8B-8327-47F6-818D-94BBC77F0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E83CA-C125-4260-AEC5-A9E908568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5B955-D436-43AB-A44A-ACBFB9D60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7E16D-7900-4169-9BD8-21DD9164B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F45BF-D080-472F-82F6-B009A7B2C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93AD4-08B7-48BF-B4A9-C05D70A17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28F6D-A358-4A23-BA0D-4A234B2B3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F26AE-9162-48E5-9410-446C5E51C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99CCD-4FC8-4977-AB41-A503A6576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EE8E5-3CD5-4A23-95E7-280F8A267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655C2-DB5A-44AC-B3B6-C57F7DA7F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36CEB-570F-4419-B6B4-3463A490C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F8B51-F748-4B70-98DE-2C363D6E7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FEDB7-D975-405B-9C10-CA3E1B4B6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E422F-AD3A-4FA7-83A0-41B9A565B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1E883-DDA9-4D9A-9E1E-71AE2D772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E9D14-DAC3-4B66-B3F7-367E529A1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55707-4819-4FAF-98AF-7E27E49C2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71949-232B-4CCB-98C7-6206AA8BBE3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68458-C68E-43D6-B1C4-8197FA5515C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Смотр общественных знаний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араллельност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ямых, прямой и плоск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7. По рисунку перечислите…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886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ариант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е плоскости, параллельные прямой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47960" y="1599840"/>
            <a:ext cx="3886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ариант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е плоскости, параллельные прямой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603160" y="2895480"/>
            <a:ext cx="3792600" cy="3409920"/>
            <a:chOff x="2603160" y="2895480"/>
            <a:chExt cx="3792600" cy="3409920"/>
          </a:xfrm>
        </p:grpSpPr>
        <p:sp>
          <p:nvSpPr>
            <p:cNvPr id="166" name="Cube 6147"/>
            <p:cNvSpPr/>
            <p:nvPr/>
          </p:nvSpPr>
          <p:spPr>
            <a:xfrm>
              <a:off x="3063240" y="3375720"/>
              <a:ext cx="2829960" cy="2407680"/>
            </a:xfrm>
            <a:prstGeom prst="cube">
              <a:avLst>
                <a:gd name="adj" fmla="val 25000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Straight Connector 6148"/>
            <p:cNvSpPr/>
            <p:nvPr/>
          </p:nvSpPr>
          <p:spPr>
            <a:xfrm>
              <a:off x="3664440" y="3375720"/>
              <a:ext cx="0" cy="180648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Straight Connector 6149"/>
            <p:cNvSpPr/>
            <p:nvPr/>
          </p:nvSpPr>
          <p:spPr>
            <a:xfrm>
              <a:off x="3664440" y="5182200"/>
              <a:ext cx="222876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Straight Connector 6150"/>
            <p:cNvSpPr/>
            <p:nvPr/>
          </p:nvSpPr>
          <p:spPr>
            <a:xfrm flipH="1">
              <a:off x="3062880" y="5182200"/>
              <a:ext cx="600840" cy="60120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TextBox 6151"/>
            <p:cNvSpPr/>
            <p:nvPr/>
          </p:nvSpPr>
          <p:spPr>
            <a:xfrm>
              <a:off x="2713320" y="569736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999ff"/>
                  </a:solidFill>
                  <a:latin typeface="Arial"/>
                </a:rPr>
                <a:t>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TextBox 6152"/>
            <p:cNvSpPr/>
            <p:nvPr/>
          </p:nvSpPr>
          <p:spPr>
            <a:xfrm>
              <a:off x="3677400" y="474840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999ff"/>
                  </a:solidFill>
                  <a:latin typeface="Arial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TextBox 6153"/>
            <p:cNvSpPr/>
            <p:nvPr/>
          </p:nvSpPr>
          <p:spPr>
            <a:xfrm>
              <a:off x="5955120" y="480780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999ff"/>
                  </a:solidFill>
                  <a:latin typeface="Arial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TextBox 6154"/>
            <p:cNvSpPr/>
            <p:nvPr/>
          </p:nvSpPr>
          <p:spPr>
            <a:xfrm>
              <a:off x="5293440" y="578484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999ff"/>
                  </a:solidFill>
                  <a:latin typeface="Arial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TextBox 6157"/>
            <p:cNvSpPr/>
            <p:nvPr/>
          </p:nvSpPr>
          <p:spPr>
            <a:xfrm>
              <a:off x="2603160" y="3892320"/>
              <a:ext cx="5511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9999ff"/>
                  </a:solidFill>
                  <a:latin typeface="Arial"/>
                </a:rPr>
                <a:t>А</a:t>
              </a:r>
              <a:r>
                <a:rPr b="1" lang="en-US" sz="2800" spc="-1" strike="noStrike" baseline="-25000">
                  <a:solidFill>
                    <a:srgbClr val="9999ff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TextBox 6158"/>
            <p:cNvSpPr/>
            <p:nvPr/>
          </p:nvSpPr>
          <p:spPr>
            <a:xfrm>
              <a:off x="3617280" y="2895480"/>
              <a:ext cx="5511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999ff"/>
                  </a:solidFill>
                  <a:latin typeface="Arial"/>
                </a:rPr>
                <a:t>B</a:t>
              </a:r>
              <a:r>
                <a:rPr b="1" lang="en-US" sz="2800" spc="-1" strike="noStrike" baseline="-25000">
                  <a:solidFill>
                    <a:srgbClr val="9999ff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TextBox 6159"/>
            <p:cNvSpPr/>
            <p:nvPr/>
          </p:nvSpPr>
          <p:spPr>
            <a:xfrm>
              <a:off x="5844600" y="2895480"/>
              <a:ext cx="5511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999ff"/>
                  </a:solidFill>
                  <a:latin typeface="Arial"/>
                </a:rPr>
                <a:t>C</a:t>
              </a:r>
              <a:r>
                <a:rPr b="1" lang="en-US" sz="2800" spc="-1" strike="noStrike" baseline="-25000">
                  <a:solidFill>
                    <a:srgbClr val="9999ff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TextBox 6160"/>
            <p:cNvSpPr/>
            <p:nvPr/>
          </p:nvSpPr>
          <p:spPr>
            <a:xfrm>
              <a:off x="5295240" y="3857760"/>
              <a:ext cx="5511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999ff"/>
                  </a:solidFill>
                  <a:latin typeface="Arial"/>
                </a:rPr>
                <a:t>D</a:t>
              </a:r>
              <a:r>
                <a:rPr b="1" lang="en-US" sz="2800" spc="-1" strike="noStrike" baseline="-25000">
                  <a:solidFill>
                    <a:srgbClr val="9999ff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8. По рисунку перечислите…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886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ариант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парно параллельные прямые в плоскости невидимого осн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47960" y="1599840"/>
            <a:ext cx="3886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ариант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парно параллельные прямые в плоскости невидимой боковой гра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1460160" y="3048120"/>
            <a:ext cx="3792600" cy="3409560"/>
            <a:chOff x="1460160" y="3048120"/>
            <a:chExt cx="3792600" cy="3409560"/>
          </a:xfrm>
        </p:grpSpPr>
        <p:sp>
          <p:nvSpPr>
            <p:cNvPr id="182" name="Cube 6147"/>
            <p:cNvSpPr/>
            <p:nvPr/>
          </p:nvSpPr>
          <p:spPr>
            <a:xfrm>
              <a:off x="1920240" y="3528360"/>
              <a:ext cx="2829960" cy="2407680"/>
            </a:xfrm>
            <a:prstGeom prst="cube">
              <a:avLst>
                <a:gd name="adj" fmla="val 25000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Straight Connector 6148"/>
            <p:cNvSpPr/>
            <p:nvPr/>
          </p:nvSpPr>
          <p:spPr>
            <a:xfrm>
              <a:off x="2521440" y="3528360"/>
              <a:ext cx="0" cy="180612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Straight Connector 6149"/>
            <p:cNvSpPr/>
            <p:nvPr/>
          </p:nvSpPr>
          <p:spPr>
            <a:xfrm>
              <a:off x="2521440" y="5334840"/>
              <a:ext cx="222876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Straight Connector 6150"/>
            <p:cNvSpPr/>
            <p:nvPr/>
          </p:nvSpPr>
          <p:spPr>
            <a:xfrm flipH="1">
              <a:off x="1919880" y="5334840"/>
              <a:ext cx="600840" cy="60120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TextBox 6151"/>
            <p:cNvSpPr/>
            <p:nvPr/>
          </p:nvSpPr>
          <p:spPr>
            <a:xfrm>
              <a:off x="1570320" y="584964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999ff"/>
                  </a:solidFill>
                  <a:latin typeface="Arial"/>
                </a:rPr>
                <a:t>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TextBox 6152"/>
            <p:cNvSpPr/>
            <p:nvPr/>
          </p:nvSpPr>
          <p:spPr>
            <a:xfrm>
              <a:off x="2534400" y="490068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999ff"/>
                  </a:solidFill>
                  <a:latin typeface="Arial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TextBox 6153"/>
            <p:cNvSpPr/>
            <p:nvPr/>
          </p:nvSpPr>
          <p:spPr>
            <a:xfrm>
              <a:off x="4812120" y="496044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999ff"/>
                  </a:solidFill>
                  <a:latin typeface="Arial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TextBox 6154"/>
            <p:cNvSpPr/>
            <p:nvPr/>
          </p:nvSpPr>
          <p:spPr>
            <a:xfrm>
              <a:off x="4150440" y="593712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999ff"/>
                  </a:solidFill>
                  <a:latin typeface="Arial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TextBox 6157"/>
            <p:cNvSpPr/>
            <p:nvPr/>
          </p:nvSpPr>
          <p:spPr>
            <a:xfrm>
              <a:off x="1460160" y="4044600"/>
              <a:ext cx="5511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9999ff"/>
                  </a:solidFill>
                  <a:latin typeface="Arial"/>
                </a:rPr>
                <a:t>А</a:t>
              </a:r>
              <a:r>
                <a:rPr b="1" lang="en-US" sz="2800" spc="-1" strike="noStrike" baseline="-25000">
                  <a:solidFill>
                    <a:srgbClr val="9999ff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TextBox 6158"/>
            <p:cNvSpPr/>
            <p:nvPr/>
          </p:nvSpPr>
          <p:spPr>
            <a:xfrm>
              <a:off x="2474280" y="3048120"/>
              <a:ext cx="5511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999ff"/>
                  </a:solidFill>
                  <a:latin typeface="Arial"/>
                </a:rPr>
                <a:t>B</a:t>
              </a:r>
              <a:r>
                <a:rPr b="1" lang="en-US" sz="2800" spc="-1" strike="noStrike" baseline="-25000">
                  <a:solidFill>
                    <a:srgbClr val="9999ff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TextBox 6159"/>
            <p:cNvSpPr/>
            <p:nvPr/>
          </p:nvSpPr>
          <p:spPr>
            <a:xfrm>
              <a:off x="4701600" y="3048120"/>
              <a:ext cx="5511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999ff"/>
                  </a:solidFill>
                  <a:latin typeface="Arial"/>
                </a:rPr>
                <a:t>C</a:t>
              </a:r>
              <a:r>
                <a:rPr b="1" lang="en-US" sz="2800" spc="-1" strike="noStrike" baseline="-25000">
                  <a:solidFill>
                    <a:srgbClr val="9999ff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Box 6160"/>
            <p:cNvSpPr/>
            <p:nvPr/>
          </p:nvSpPr>
          <p:spPr>
            <a:xfrm>
              <a:off x="4152240" y="4010040"/>
              <a:ext cx="5511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999ff"/>
                  </a:solidFill>
                  <a:latin typeface="Arial"/>
                </a:rPr>
                <a:t>D</a:t>
              </a:r>
              <a:r>
                <a:rPr b="1" lang="en-US" sz="2800" spc="-1" strike="noStrike" baseline="-25000">
                  <a:solidFill>
                    <a:srgbClr val="9999ff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9. По рисунку перечислите…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886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ариант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ару пересекающихся прямых в плоскости видимой боковой гра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47960" y="1599840"/>
            <a:ext cx="3886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ариант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ару пересекающихся прямых в плоскости видимого осн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1460160" y="3048120"/>
            <a:ext cx="3792600" cy="3409560"/>
            <a:chOff x="1460160" y="3048120"/>
            <a:chExt cx="3792600" cy="3409560"/>
          </a:xfrm>
        </p:grpSpPr>
        <p:sp>
          <p:nvSpPr>
            <p:cNvPr id="198" name="Cube 6147"/>
            <p:cNvSpPr/>
            <p:nvPr/>
          </p:nvSpPr>
          <p:spPr>
            <a:xfrm>
              <a:off x="1920240" y="3528360"/>
              <a:ext cx="2829960" cy="2407680"/>
            </a:xfrm>
            <a:prstGeom prst="cube">
              <a:avLst>
                <a:gd name="adj" fmla="val 25000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Straight Connector 6148"/>
            <p:cNvSpPr/>
            <p:nvPr/>
          </p:nvSpPr>
          <p:spPr>
            <a:xfrm>
              <a:off x="2521440" y="3528360"/>
              <a:ext cx="0" cy="180612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Straight Connector 6149"/>
            <p:cNvSpPr/>
            <p:nvPr/>
          </p:nvSpPr>
          <p:spPr>
            <a:xfrm>
              <a:off x="2521440" y="5334840"/>
              <a:ext cx="222876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Straight Connector 6150"/>
            <p:cNvSpPr/>
            <p:nvPr/>
          </p:nvSpPr>
          <p:spPr>
            <a:xfrm flipH="1">
              <a:off x="1919880" y="5334840"/>
              <a:ext cx="600840" cy="60120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TextBox 6151"/>
            <p:cNvSpPr/>
            <p:nvPr/>
          </p:nvSpPr>
          <p:spPr>
            <a:xfrm>
              <a:off x="1570320" y="584964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999ff"/>
                  </a:solidFill>
                  <a:latin typeface="Arial"/>
                </a:rPr>
                <a:t>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TextBox 6152"/>
            <p:cNvSpPr/>
            <p:nvPr/>
          </p:nvSpPr>
          <p:spPr>
            <a:xfrm>
              <a:off x="2534400" y="490068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999ff"/>
                  </a:solidFill>
                  <a:latin typeface="Arial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TextBox 6153"/>
            <p:cNvSpPr/>
            <p:nvPr/>
          </p:nvSpPr>
          <p:spPr>
            <a:xfrm>
              <a:off x="4812120" y="496044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999ff"/>
                  </a:solidFill>
                  <a:latin typeface="Arial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TextBox 6154"/>
            <p:cNvSpPr/>
            <p:nvPr/>
          </p:nvSpPr>
          <p:spPr>
            <a:xfrm>
              <a:off x="4150440" y="593712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999ff"/>
                  </a:solidFill>
                  <a:latin typeface="Arial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TextBox 6157"/>
            <p:cNvSpPr/>
            <p:nvPr/>
          </p:nvSpPr>
          <p:spPr>
            <a:xfrm>
              <a:off x="1460160" y="4044600"/>
              <a:ext cx="5511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9999ff"/>
                  </a:solidFill>
                  <a:latin typeface="Arial"/>
                </a:rPr>
                <a:t>А</a:t>
              </a:r>
              <a:r>
                <a:rPr b="1" lang="en-US" sz="2800" spc="-1" strike="noStrike" baseline="-25000">
                  <a:solidFill>
                    <a:srgbClr val="9999ff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TextBox 6158"/>
            <p:cNvSpPr/>
            <p:nvPr/>
          </p:nvSpPr>
          <p:spPr>
            <a:xfrm>
              <a:off x="2474280" y="3048120"/>
              <a:ext cx="5511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999ff"/>
                  </a:solidFill>
                  <a:latin typeface="Arial"/>
                </a:rPr>
                <a:t>B</a:t>
              </a:r>
              <a:r>
                <a:rPr b="1" lang="en-US" sz="2800" spc="-1" strike="noStrike" baseline="-25000">
                  <a:solidFill>
                    <a:srgbClr val="9999ff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TextBox 6159"/>
            <p:cNvSpPr/>
            <p:nvPr/>
          </p:nvSpPr>
          <p:spPr>
            <a:xfrm>
              <a:off x="4701600" y="3048120"/>
              <a:ext cx="5511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999ff"/>
                  </a:solidFill>
                  <a:latin typeface="Arial"/>
                </a:rPr>
                <a:t>C</a:t>
              </a:r>
              <a:r>
                <a:rPr b="1" lang="en-US" sz="2800" spc="-1" strike="noStrike" baseline="-25000">
                  <a:solidFill>
                    <a:srgbClr val="9999ff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TextBox 6160"/>
            <p:cNvSpPr/>
            <p:nvPr/>
          </p:nvSpPr>
          <p:spPr>
            <a:xfrm>
              <a:off x="4152240" y="4010040"/>
              <a:ext cx="5511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999ff"/>
                  </a:solidFill>
                  <a:latin typeface="Arial"/>
                </a:rPr>
                <a:t>D</a:t>
              </a:r>
              <a:r>
                <a:rPr b="1" lang="en-US" sz="2800" spc="-1" strike="noStrike" baseline="-25000">
                  <a:solidFill>
                    <a:srgbClr val="9999ff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3. Математический диктант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Отвечайте «да» или «нет»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Верно ли утверждение: «Прямая параллельна плоскости, если она параллельна прямой, лежащей в этой плоскости»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Отвечайте «да» или «нет»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Верно ли, что через данную точку, не лежащую в плоскости, можно провести прямую, параллельную данной плоскости, и притом только одн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Отвечайте «да» или «нет»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 Известно, что прямая параллельна плоскости. Верно ли, что она параллельна любой прямой, лежащей в плоскост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Отвечайте «да» или «нет»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Известно, что прямая параллельна плоскости. Верно ли, что она пересекает хотя бы одну прямую этой плоскости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Отвечайте «да» или «нет»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 Каждая из прямых a и b параллельна одной и той же плоскост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ледует ли из этого, что прямые a и b параллельн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Отвечайте «да» или «нет»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6. Каждая из двух плоскостей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параллельна одной и той же прямой. Верно ли, что эти плоскости параллельн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1. Словарный диктант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4. Тестирование  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2895480" y="1371600"/>
            <a:ext cx="3033720" cy="30481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 txBox="1"/>
          <p:nvPr/>
        </p:nvSpPr>
        <p:spPr>
          <a:xfrm>
            <a:off x="457200" y="4343040"/>
            <a:ext cx="403848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499"/>
              </a:spcBef>
              <a:buClr>
                <a:srgbClr val="996666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BC и A1D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996666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BC, A1D1, B1C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996666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DC и A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996666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BC, A1D1, B1C1, BB1, CC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996666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ерный ответ не указан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28600" y="38088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 Учитывая, что все грани куба - квадраты, укажите по рисунку все прямые параллельные прямой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AD (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A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)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648320" y="4343400"/>
            <a:ext cx="38862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>
              <a:spcBef>
                <a:spcPts val="499"/>
              </a:spcBef>
              <a:buClr>
                <a:srgbClr val="996666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B1 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D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996666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D и A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996666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B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D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D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C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C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996666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B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D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D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C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C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DC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1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C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996666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ерный ответ не указан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Какая из следующих плоскостей параллельна прямой AA1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(AD)</a:t>
            </a: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09120" y="4114800"/>
            <a:ext cx="38862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BB1C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D1B1C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A1C1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BCD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47960" y="4114800"/>
            <a:ext cx="38862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1D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1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D1C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A1C1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BCD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3200400" y="1371600"/>
            <a:ext cx="312408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Сколько прямых, параллельных данной плоскости, можно провести через данную точку не лежащую в плоскости?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) одну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) две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) ни одной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) бесконечно много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5) зависит от расположения точки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4. Определите по рисунку, какое из утверждений </a:t>
            </a: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неверно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ямая DM лежит в плоскости BD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ямая NC не имеет с плоскостью ABD общих точе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ямая DM н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секает плоскость AD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лоскости AMD и BNC имеют общую прямую M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4495680" y="2133720"/>
            <a:ext cx="4114800" cy="32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 Две стороны треугольника параллельны плоскости. Каково взаимное расположение третьей стороны треугольника и данной плоскости?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ни пересекаю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ни пересекаются или параллель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ни параллельны или сторона лежит в плоск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ретья сторона всегда параллельна плоск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ичего определенного сказать нельз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сположение может быть любы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ru-RU" sz="4600" spc="-1" strike="noStrike">
                <a:solidFill>
                  <a:srgbClr val="ffffff"/>
                </a:solidFill>
                <a:latin typeface="Arial"/>
              </a:rPr>
              <a:t>. Самостоятельная работа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Comic Sans MS"/>
              </a:rPr>
              <a:t>Решите задачу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0" y="2666880"/>
            <a:ext cx="5578560" cy="1844640"/>
          </a:xfrm>
          <a:custGeom>
            <a:avLst/>
            <a:gdLst/>
            <a:ahLst/>
            <a:rect l="l" t="t" r="r" b="b"/>
            <a:pathLst>
              <a:path w="3514" h="1162">
                <a:moveTo>
                  <a:pt x="1805" y="19"/>
                </a:moveTo>
                <a:lnTo>
                  <a:pt x="1162" y="29"/>
                </a:lnTo>
                <a:lnTo>
                  <a:pt x="0" y="1162"/>
                </a:lnTo>
                <a:lnTo>
                  <a:pt x="2477" y="1162"/>
                </a:lnTo>
                <a:lnTo>
                  <a:pt x="3514" y="0"/>
                </a:lnTo>
                <a:lnTo>
                  <a:pt x="2784" y="10"/>
                </a:lnTo>
              </a:path>
            </a:pathLst>
          </a:custGeom>
          <a:solidFill>
            <a:srgbClr val="00ffff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235160" y="1782720"/>
            <a:ext cx="2879640" cy="2103480"/>
          </a:xfrm>
          <a:custGeom>
            <a:avLst/>
            <a:gdLst/>
            <a:ahLst/>
            <a:rect l="l" t="t" r="r" b="b"/>
            <a:pathLst>
              <a:path w="1814" h="1325">
                <a:moveTo>
                  <a:pt x="0" y="1325"/>
                </a:moveTo>
                <a:lnTo>
                  <a:pt x="1814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162240" y="2357280"/>
            <a:ext cx="144360" cy="1224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038400" y="3436920"/>
            <a:ext cx="5112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С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479120" y="2933640"/>
            <a:ext cx="513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В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805120" y="1996920"/>
            <a:ext cx="39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101120" y="1349280"/>
            <a:ext cx="40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806400" y="3510000"/>
            <a:ext cx="40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114800" y="1752480"/>
            <a:ext cx="442800" cy="1524240"/>
          </a:xfrm>
          <a:custGeom>
            <a:avLst/>
            <a:gdLst/>
            <a:ahLst/>
            <a:rect l="l" t="t" r="r" b="b"/>
            <a:pathLst>
              <a:path w="279" h="960">
                <a:moveTo>
                  <a:pt x="0" y="0"/>
                </a:moveTo>
                <a:lnTo>
                  <a:pt x="279" y="96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62320" y="2438280"/>
            <a:ext cx="272880" cy="1020960"/>
          </a:xfrm>
          <a:custGeom>
            <a:avLst/>
            <a:gdLst/>
            <a:ahLst/>
            <a:rect l="l" t="t" r="r" b="b"/>
            <a:pathLst>
              <a:path w="172" h="643">
                <a:moveTo>
                  <a:pt x="172" y="643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49200" y="3292560"/>
            <a:ext cx="3292560" cy="593640"/>
          </a:xfrm>
          <a:custGeom>
            <a:avLst/>
            <a:gdLst/>
            <a:ahLst/>
            <a:rect l="l" t="t" r="r" b="b"/>
            <a:pathLst>
              <a:path w="2074" h="374">
                <a:moveTo>
                  <a:pt x="0" y="374"/>
                </a:moveTo>
                <a:lnTo>
                  <a:pt x="2074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925720" y="2697120"/>
            <a:ext cx="1447920" cy="1800"/>
          </a:xfrm>
          <a:custGeom>
            <a:avLst/>
            <a:gdLst/>
            <a:ahLst/>
            <a:rect l="l" t="t" r="r" b="b"/>
            <a:pathLst>
              <a:path w="912" h="1">
                <a:moveTo>
                  <a:pt x="0" y="0"/>
                </a:moveTo>
                <a:lnTo>
                  <a:pt x="912" y="0"/>
                </a:lnTo>
              </a:path>
            </a:pathLst>
          </a:custGeom>
          <a:noFill/>
          <a:ln w="22320">
            <a:solidFill>
              <a:srgbClr val="0000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27320" y="4013280"/>
            <a:ext cx="37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800" spc="-1" strike="noStrike">
                <a:solidFill>
                  <a:srgbClr val="6666cc"/>
                </a:solidFill>
                <a:latin typeface="Times New Roman"/>
                <a:ea typeface="Times New Roman"/>
              </a:rPr>
              <a:t>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876920" y="1600200"/>
            <a:ext cx="38862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Дано:</a:t>
            </a:r>
            <a:r>
              <a:rPr b="1" i="1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 € АВ; А €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|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СС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В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∩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В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В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€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С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∩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С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С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€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С : СВ = 3 : 2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В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20 с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Доказать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, В1, С1 лежат  на одной прям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Найти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 СС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используя подобие треугольников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baseline="-25000">
                <a:solidFill>
                  <a:srgbClr val="000000"/>
                </a:solidFill>
                <a:latin typeface="Comic Sans MS"/>
                <a:ea typeface="Times New Roman"/>
              </a:rPr>
              <a:t>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009880" y="2644920"/>
            <a:ext cx="504720" cy="48240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378240" y="1636560"/>
            <a:ext cx="504720" cy="48276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9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5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8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2" dur="2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6666cc"/>
                                      </p:to>
                                    </p:animClr>
                                    <p:set>
                                      <p:cBhvr>
                                        <p:cTn id="83" dur="2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91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2. Программированный контроль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.Закончи предложение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ариант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ве прямые в пространстве называются параллельными, если 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4796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ариант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ямая и плоскость называются параллельными, если 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2. Сформулируйте…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ариант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изнак параллельности прямой и плоскост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796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ариант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еорему о параллельности трех прямых в пространств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3. Закончи предложение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ариант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Через любую точку пространства, не лежащую на данной прямой, проходит прямая, параллельная данной, и 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4796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ариант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сли одна из двух параллельных прямых пересекает данную плоскость, то и другая прямая 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4. Изобразите…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ариант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лучаи взаимного расположения прямой и плоск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4796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ариант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лучаи взаимного расположения прямых в пространств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5. Перечислите все ребра, параллельные…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886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ариант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бру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47960" y="1599840"/>
            <a:ext cx="3886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ариант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бру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A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2526840" y="2437920"/>
            <a:ext cx="4368960" cy="3855960"/>
            <a:chOff x="2526840" y="2437920"/>
            <a:chExt cx="4368960" cy="3855960"/>
          </a:xfrm>
        </p:grpSpPr>
        <p:sp>
          <p:nvSpPr>
            <p:cNvPr id="112" name=""/>
            <p:cNvSpPr/>
            <p:nvPr/>
          </p:nvSpPr>
          <p:spPr>
            <a:xfrm flipV="1">
              <a:off x="5638680" y="2590560"/>
              <a:ext cx="990720" cy="99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3" name=""/>
            <p:cNvGrpSpPr/>
            <p:nvPr/>
          </p:nvGrpSpPr>
          <p:grpSpPr>
            <a:xfrm>
              <a:off x="2526840" y="2437920"/>
              <a:ext cx="4368960" cy="3855960"/>
              <a:chOff x="2526840" y="2437920"/>
              <a:chExt cx="4368960" cy="3855960"/>
            </a:xfrm>
          </p:grpSpPr>
          <p:sp>
            <p:nvSpPr>
              <p:cNvPr id="114" name=""/>
              <p:cNvSpPr/>
              <p:nvPr/>
            </p:nvSpPr>
            <p:spPr>
              <a:xfrm>
                <a:off x="3551400" y="3346560"/>
                <a:ext cx="2665080" cy="826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2959200" y="3948120"/>
                <a:ext cx="2295360" cy="1803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6" name=""/>
              <p:cNvGrpSpPr/>
              <p:nvPr/>
            </p:nvGrpSpPr>
            <p:grpSpPr>
              <a:xfrm>
                <a:off x="2526840" y="2437920"/>
                <a:ext cx="4368960" cy="3855960"/>
                <a:chOff x="2526840" y="2437920"/>
                <a:chExt cx="4368960" cy="3855960"/>
              </a:xfrm>
            </p:grpSpPr>
            <p:grpSp>
              <p:nvGrpSpPr>
                <p:cNvPr id="117" name=""/>
                <p:cNvGrpSpPr/>
                <p:nvPr/>
              </p:nvGrpSpPr>
              <p:grpSpPr>
                <a:xfrm>
                  <a:off x="2526840" y="2895480"/>
                  <a:ext cx="3832920" cy="3398400"/>
                  <a:chOff x="2526840" y="2895480"/>
                  <a:chExt cx="3832920" cy="3398400"/>
                </a:xfrm>
              </p:grpSpPr>
              <p:sp>
                <p:nvSpPr>
                  <p:cNvPr id="118" name="Cube 6147"/>
                  <p:cNvSpPr/>
                  <p:nvPr/>
                </p:nvSpPr>
                <p:spPr>
                  <a:xfrm>
                    <a:off x="2992680" y="3373560"/>
                    <a:ext cx="2863800" cy="2397240"/>
                  </a:xfrm>
                  <a:prstGeom prst="cube">
                    <a:avLst>
                      <a:gd name="adj" fmla="val 25000"/>
                    </a:avLst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" name="Straight Connector 6148"/>
                  <p:cNvSpPr/>
                  <p:nvPr/>
                </p:nvSpPr>
                <p:spPr>
                  <a:xfrm>
                    <a:off x="3601080" y="3373560"/>
                    <a:ext cx="0" cy="17985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Straight Connector 6149"/>
                  <p:cNvSpPr/>
                  <p:nvPr/>
                </p:nvSpPr>
                <p:spPr>
                  <a:xfrm>
                    <a:off x="3601080" y="5172120"/>
                    <a:ext cx="225540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Straight Connector 6150"/>
                  <p:cNvSpPr/>
                  <p:nvPr/>
                </p:nvSpPr>
                <p:spPr>
                  <a:xfrm flipH="1">
                    <a:off x="2992320" y="5172120"/>
                    <a:ext cx="608040" cy="5986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TextBox 6151"/>
                  <p:cNvSpPr/>
                  <p:nvPr/>
                </p:nvSpPr>
                <p:spPr>
                  <a:xfrm>
                    <a:off x="2640240" y="5686200"/>
                    <a:ext cx="43668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800" spc="-1" strike="noStrike">
                        <a:solidFill>
                          <a:srgbClr val="9999ff"/>
                        </a:solidFill>
                        <a:latin typeface="Arial"/>
                      </a:rPr>
                      <a:t>А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TextBox 6152"/>
                  <p:cNvSpPr/>
                  <p:nvPr/>
                </p:nvSpPr>
                <p:spPr>
                  <a:xfrm>
                    <a:off x="3616920" y="4741200"/>
                    <a:ext cx="43668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800" spc="-1" strike="noStrike">
                        <a:solidFill>
                          <a:srgbClr val="9999ff"/>
                        </a:solidFill>
                        <a:latin typeface="Arial"/>
                      </a:rPr>
                      <a:t>B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TextBox 6153"/>
                  <p:cNvSpPr/>
                  <p:nvPr/>
                </p:nvSpPr>
                <p:spPr>
                  <a:xfrm>
                    <a:off x="5919120" y="4800960"/>
                    <a:ext cx="43668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800" spc="-1" strike="noStrike">
                        <a:solidFill>
                          <a:srgbClr val="9999ff"/>
                        </a:solidFill>
                        <a:latin typeface="Arial"/>
                      </a:rPr>
                      <a:t>C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TextBox 6154"/>
                  <p:cNvSpPr/>
                  <p:nvPr/>
                </p:nvSpPr>
                <p:spPr>
                  <a:xfrm>
                    <a:off x="5248440" y="5773320"/>
                    <a:ext cx="43668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800" spc="-1" strike="noStrike">
                        <a:solidFill>
                          <a:srgbClr val="9999ff"/>
                        </a:solidFill>
                        <a:latin typeface="Arial"/>
                      </a:rPr>
                      <a:t>D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TextBox 6157"/>
                  <p:cNvSpPr/>
                  <p:nvPr/>
                </p:nvSpPr>
                <p:spPr>
                  <a:xfrm>
                    <a:off x="2526840" y="3887640"/>
                    <a:ext cx="551160" cy="579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2800" spc="-1" strike="noStrike">
                        <a:solidFill>
                          <a:srgbClr val="9999ff"/>
                        </a:solidFill>
                        <a:latin typeface="Arial"/>
                      </a:rPr>
                      <a:t>А</a:t>
                    </a:r>
                    <a:r>
                      <a:rPr b="1" lang="en-US" sz="2800" spc="-1" strike="noStrike" baseline="-25000">
                        <a:solidFill>
                          <a:srgbClr val="9999ff"/>
                        </a:solidFill>
                        <a:latin typeface="Arial"/>
                      </a:rPr>
                      <a:t>1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TextBox 6158"/>
                  <p:cNvSpPr/>
                  <p:nvPr/>
                </p:nvSpPr>
                <p:spPr>
                  <a:xfrm>
                    <a:off x="3550320" y="2895480"/>
                    <a:ext cx="551160" cy="579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800" spc="-1" strike="noStrike">
                        <a:solidFill>
                          <a:srgbClr val="9999ff"/>
                        </a:solidFill>
                        <a:latin typeface="Arial"/>
                      </a:rPr>
                      <a:t>B</a:t>
                    </a:r>
                    <a:r>
                      <a:rPr b="1" lang="en-US" sz="2800" spc="-1" strike="noStrike" baseline="-25000">
                        <a:solidFill>
                          <a:srgbClr val="9999ff"/>
                        </a:solidFill>
                        <a:latin typeface="Arial"/>
                      </a:rPr>
                      <a:t>1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" name="TextBox 6159"/>
                  <p:cNvSpPr/>
                  <p:nvPr/>
                </p:nvSpPr>
                <p:spPr>
                  <a:xfrm>
                    <a:off x="5808600" y="2895480"/>
                    <a:ext cx="551160" cy="579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800" spc="-1" strike="noStrike">
                        <a:solidFill>
                          <a:srgbClr val="9999ff"/>
                        </a:solidFill>
                        <a:latin typeface="Arial"/>
                      </a:rPr>
                      <a:t>C</a:t>
                    </a:r>
                    <a:r>
                      <a:rPr b="1" lang="en-US" sz="2800" spc="-1" strike="noStrike" baseline="-25000">
                        <a:solidFill>
                          <a:srgbClr val="9999ff"/>
                        </a:solidFill>
                        <a:latin typeface="Arial"/>
                      </a:rPr>
                      <a:t>1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" name="TextBox 6160"/>
                  <p:cNvSpPr/>
                  <p:nvPr/>
                </p:nvSpPr>
                <p:spPr>
                  <a:xfrm>
                    <a:off x="5250960" y="3852000"/>
                    <a:ext cx="551160" cy="579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800" spc="-1" strike="noStrike">
                        <a:solidFill>
                          <a:srgbClr val="9999ff"/>
                        </a:solidFill>
                        <a:latin typeface="Arial"/>
                      </a:rPr>
                      <a:t>D</a:t>
                    </a:r>
                    <a:r>
                      <a:rPr b="1" lang="en-US" sz="2800" spc="-1" strike="noStrike" baseline="-25000">
                        <a:solidFill>
                          <a:srgbClr val="9999ff"/>
                        </a:solidFill>
                        <a:latin typeface="Arial"/>
                      </a:rPr>
                      <a:t>1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0" name=""/>
                <p:cNvSpPr/>
                <p:nvPr/>
              </p:nvSpPr>
              <p:spPr>
                <a:xfrm flipV="1">
                  <a:off x="5254560" y="2437920"/>
                  <a:ext cx="1298520" cy="33130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" name="TextBox 6159"/>
                <p:cNvSpPr/>
                <p:nvPr/>
              </p:nvSpPr>
              <p:spPr>
                <a:xfrm>
                  <a:off x="5997240" y="3797280"/>
                  <a:ext cx="4366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9999ff"/>
                      </a:solidFill>
                      <a:latin typeface="Arial"/>
                    </a:rPr>
                    <a:t>K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5772240" y="4022640"/>
                  <a:ext cx="147600" cy="150840"/>
                </a:xfrm>
                <a:prstGeom prst="ellipse">
                  <a:avLst/>
                </a:prstGeom>
                <a:solidFill>
                  <a:srgbClr val="6666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" name="TextBox 6159"/>
                <p:cNvSpPr/>
                <p:nvPr/>
              </p:nvSpPr>
              <p:spPr>
                <a:xfrm>
                  <a:off x="6478920" y="2819520"/>
                  <a:ext cx="416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9999ff"/>
                      </a:solidFill>
                      <a:latin typeface="Arial"/>
                    </a:rPr>
                    <a:t>P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4" name=""/>
              <p:cNvSpPr/>
              <p:nvPr/>
            </p:nvSpPr>
            <p:spPr>
              <a:xfrm>
                <a:off x="6324480" y="2743200"/>
                <a:ext cx="147600" cy="150840"/>
              </a:xfrm>
              <a:prstGeom prst="ellipse">
                <a:avLst/>
              </a:prstGeom>
              <a:solidFill>
                <a:srgbClr val="6666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6. Как располагаются прямые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886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ариант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7960" y="1599840"/>
            <a:ext cx="3886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ариант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2526840" y="2437920"/>
            <a:ext cx="4368960" cy="3855960"/>
            <a:chOff x="2526840" y="2437920"/>
            <a:chExt cx="4368960" cy="3855960"/>
          </a:xfrm>
        </p:grpSpPr>
        <p:sp>
          <p:nvSpPr>
            <p:cNvPr id="139" name=""/>
            <p:cNvSpPr/>
            <p:nvPr/>
          </p:nvSpPr>
          <p:spPr>
            <a:xfrm flipV="1">
              <a:off x="5638680" y="2590560"/>
              <a:ext cx="990720" cy="99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0" name=""/>
            <p:cNvGrpSpPr/>
            <p:nvPr/>
          </p:nvGrpSpPr>
          <p:grpSpPr>
            <a:xfrm>
              <a:off x="2526840" y="2437920"/>
              <a:ext cx="4368960" cy="3855960"/>
              <a:chOff x="2526840" y="2437920"/>
              <a:chExt cx="4368960" cy="3855960"/>
            </a:xfrm>
          </p:grpSpPr>
          <p:sp>
            <p:nvSpPr>
              <p:cNvPr id="141" name=""/>
              <p:cNvSpPr/>
              <p:nvPr/>
            </p:nvSpPr>
            <p:spPr>
              <a:xfrm>
                <a:off x="3551400" y="3346560"/>
                <a:ext cx="2665080" cy="826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2959200" y="3948120"/>
                <a:ext cx="2295360" cy="1803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3" name=""/>
              <p:cNvGrpSpPr/>
              <p:nvPr/>
            </p:nvGrpSpPr>
            <p:grpSpPr>
              <a:xfrm>
                <a:off x="2526840" y="2437920"/>
                <a:ext cx="4368960" cy="3855960"/>
                <a:chOff x="2526840" y="2437920"/>
                <a:chExt cx="4368960" cy="3855960"/>
              </a:xfrm>
            </p:grpSpPr>
            <p:grpSp>
              <p:nvGrpSpPr>
                <p:cNvPr id="144" name=""/>
                <p:cNvGrpSpPr/>
                <p:nvPr/>
              </p:nvGrpSpPr>
              <p:grpSpPr>
                <a:xfrm>
                  <a:off x="2526840" y="2895480"/>
                  <a:ext cx="3832920" cy="3398400"/>
                  <a:chOff x="2526840" y="2895480"/>
                  <a:chExt cx="3832920" cy="3398400"/>
                </a:xfrm>
              </p:grpSpPr>
              <p:sp>
                <p:nvSpPr>
                  <p:cNvPr id="145" name="Cube 6147"/>
                  <p:cNvSpPr/>
                  <p:nvPr/>
                </p:nvSpPr>
                <p:spPr>
                  <a:xfrm>
                    <a:off x="2992680" y="3373560"/>
                    <a:ext cx="2863800" cy="2397240"/>
                  </a:xfrm>
                  <a:prstGeom prst="cube">
                    <a:avLst>
                      <a:gd name="adj" fmla="val 25000"/>
                    </a:avLst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Straight Connector 6148"/>
                  <p:cNvSpPr/>
                  <p:nvPr/>
                </p:nvSpPr>
                <p:spPr>
                  <a:xfrm>
                    <a:off x="3601080" y="3373560"/>
                    <a:ext cx="0" cy="17985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Straight Connector 6149"/>
                  <p:cNvSpPr/>
                  <p:nvPr/>
                </p:nvSpPr>
                <p:spPr>
                  <a:xfrm>
                    <a:off x="3601080" y="5172120"/>
                    <a:ext cx="225540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" name="Straight Connector 6150"/>
                  <p:cNvSpPr/>
                  <p:nvPr/>
                </p:nvSpPr>
                <p:spPr>
                  <a:xfrm flipH="1">
                    <a:off x="2992320" y="5172120"/>
                    <a:ext cx="608040" cy="5986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" name="TextBox 6151"/>
                  <p:cNvSpPr/>
                  <p:nvPr/>
                </p:nvSpPr>
                <p:spPr>
                  <a:xfrm>
                    <a:off x="2640240" y="5686200"/>
                    <a:ext cx="43668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800" spc="-1" strike="noStrike">
                        <a:solidFill>
                          <a:srgbClr val="9999ff"/>
                        </a:solidFill>
                        <a:latin typeface="Arial"/>
                      </a:rPr>
                      <a:t>А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" name="TextBox 6152"/>
                  <p:cNvSpPr/>
                  <p:nvPr/>
                </p:nvSpPr>
                <p:spPr>
                  <a:xfrm>
                    <a:off x="3616920" y="4741200"/>
                    <a:ext cx="43668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800" spc="-1" strike="noStrike">
                        <a:solidFill>
                          <a:srgbClr val="9999ff"/>
                        </a:solidFill>
                        <a:latin typeface="Arial"/>
                      </a:rPr>
                      <a:t>B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TextBox 6153"/>
                  <p:cNvSpPr/>
                  <p:nvPr/>
                </p:nvSpPr>
                <p:spPr>
                  <a:xfrm>
                    <a:off x="5919120" y="4800960"/>
                    <a:ext cx="43668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800" spc="-1" strike="noStrike">
                        <a:solidFill>
                          <a:srgbClr val="9999ff"/>
                        </a:solidFill>
                        <a:latin typeface="Arial"/>
                      </a:rPr>
                      <a:t>C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" name="TextBox 6154"/>
                  <p:cNvSpPr/>
                  <p:nvPr/>
                </p:nvSpPr>
                <p:spPr>
                  <a:xfrm>
                    <a:off x="5248440" y="5773320"/>
                    <a:ext cx="43668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800" spc="-1" strike="noStrike">
                        <a:solidFill>
                          <a:srgbClr val="9999ff"/>
                        </a:solidFill>
                        <a:latin typeface="Arial"/>
                      </a:rPr>
                      <a:t>D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TextBox 6157"/>
                  <p:cNvSpPr/>
                  <p:nvPr/>
                </p:nvSpPr>
                <p:spPr>
                  <a:xfrm>
                    <a:off x="2526840" y="3887640"/>
                    <a:ext cx="551160" cy="579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2800" spc="-1" strike="noStrike">
                        <a:solidFill>
                          <a:srgbClr val="9999ff"/>
                        </a:solidFill>
                        <a:latin typeface="Arial"/>
                      </a:rPr>
                      <a:t>А</a:t>
                    </a:r>
                    <a:r>
                      <a:rPr b="1" lang="en-US" sz="2800" spc="-1" strike="noStrike" baseline="-25000">
                        <a:solidFill>
                          <a:srgbClr val="9999ff"/>
                        </a:solidFill>
                        <a:latin typeface="Arial"/>
                      </a:rPr>
                      <a:t>1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" name="TextBox 6158"/>
                  <p:cNvSpPr/>
                  <p:nvPr/>
                </p:nvSpPr>
                <p:spPr>
                  <a:xfrm>
                    <a:off x="3550320" y="2895480"/>
                    <a:ext cx="551160" cy="579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800" spc="-1" strike="noStrike">
                        <a:solidFill>
                          <a:srgbClr val="9999ff"/>
                        </a:solidFill>
                        <a:latin typeface="Arial"/>
                      </a:rPr>
                      <a:t>B</a:t>
                    </a:r>
                    <a:r>
                      <a:rPr b="1" lang="en-US" sz="2800" spc="-1" strike="noStrike" baseline="-25000">
                        <a:solidFill>
                          <a:srgbClr val="9999ff"/>
                        </a:solidFill>
                        <a:latin typeface="Arial"/>
                      </a:rPr>
                      <a:t>1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" name="TextBox 6159"/>
                  <p:cNvSpPr/>
                  <p:nvPr/>
                </p:nvSpPr>
                <p:spPr>
                  <a:xfrm>
                    <a:off x="5808600" y="2895480"/>
                    <a:ext cx="551160" cy="579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800" spc="-1" strike="noStrike">
                        <a:solidFill>
                          <a:srgbClr val="9999ff"/>
                        </a:solidFill>
                        <a:latin typeface="Arial"/>
                      </a:rPr>
                      <a:t>C</a:t>
                    </a:r>
                    <a:r>
                      <a:rPr b="1" lang="en-US" sz="2800" spc="-1" strike="noStrike" baseline="-25000">
                        <a:solidFill>
                          <a:srgbClr val="9999ff"/>
                        </a:solidFill>
                        <a:latin typeface="Arial"/>
                      </a:rPr>
                      <a:t>1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" name="TextBox 6160"/>
                  <p:cNvSpPr/>
                  <p:nvPr/>
                </p:nvSpPr>
                <p:spPr>
                  <a:xfrm>
                    <a:off x="5250960" y="3852000"/>
                    <a:ext cx="551160" cy="579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800" spc="-1" strike="noStrike">
                        <a:solidFill>
                          <a:srgbClr val="9999ff"/>
                        </a:solidFill>
                        <a:latin typeface="Arial"/>
                      </a:rPr>
                      <a:t>D</a:t>
                    </a:r>
                    <a:r>
                      <a:rPr b="1" lang="en-US" sz="2800" spc="-1" strike="noStrike" baseline="-25000">
                        <a:solidFill>
                          <a:srgbClr val="9999ff"/>
                        </a:solidFill>
                        <a:latin typeface="Arial"/>
                      </a:rPr>
                      <a:t>1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7" name=""/>
                <p:cNvSpPr/>
                <p:nvPr/>
              </p:nvSpPr>
              <p:spPr>
                <a:xfrm flipV="1">
                  <a:off x="5254560" y="2437920"/>
                  <a:ext cx="1298520" cy="33130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" name="TextBox 6159"/>
                <p:cNvSpPr/>
                <p:nvPr/>
              </p:nvSpPr>
              <p:spPr>
                <a:xfrm>
                  <a:off x="5997240" y="3797280"/>
                  <a:ext cx="4366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9999ff"/>
                      </a:solidFill>
                      <a:latin typeface="Arial"/>
                    </a:rPr>
                    <a:t>K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772240" y="4022640"/>
                  <a:ext cx="147600" cy="150840"/>
                </a:xfrm>
                <a:prstGeom prst="ellipse">
                  <a:avLst/>
                </a:prstGeom>
                <a:solidFill>
                  <a:srgbClr val="6666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TextBox 6159"/>
                <p:cNvSpPr/>
                <p:nvPr/>
              </p:nvSpPr>
              <p:spPr>
                <a:xfrm>
                  <a:off x="6478920" y="2819520"/>
                  <a:ext cx="416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9999ff"/>
                      </a:solidFill>
                      <a:latin typeface="Arial"/>
                    </a:rPr>
                    <a:t>P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1" name=""/>
              <p:cNvSpPr/>
              <p:nvPr/>
            </p:nvSpPr>
            <p:spPr>
              <a:xfrm>
                <a:off x="6324480" y="2743200"/>
                <a:ext cx="147600" cy="150840"/>
              </a:xfrm>
              <a:prstGeom prst="ellipse">
                <a:avLst/>
              </a:prstGeom>
              <a:solidFill>
                <a:srgbClr val="6666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b</cp:lastModifiedBy>
  <dcterms:modified xsi:type="dcterms:W3CDTF">2000-12-31T19:44:29Z</dcterms:modified>
  <cp:revision>2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