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9882-F1CB-45D9-A615-E0C98961F7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2203-182A-4E60-A80B-EDF6F2084B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CCF4-47C0-4C6B-86EA-882585FD99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5F8F-9A99-470F-A5DB-072F3F3C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30B5-BF48-427D-BC2E-80B98245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8A9F9-EACF-4F5A-9DFA-040D4938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4FEF-3476-42D6-A60B-1E18A95B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625A-35A7-4400-9371-9EB5178F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B68C-63D8-45A9-9185-CD570D03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911E-1379-4F77-AE94-E7B54D0E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35FC-58FB-49BB-91AA-A837376D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F220-E98D-4754-AE34-13263694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ADF7-47C0-470F-836E-2EC7CF0D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BEE9-B1AC-4CC7-B5EE-73813D92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4F64-D832-4CD9-BD3F-C08A54CC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A406-C21B-4288-A09A-33AA3F60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0F27-7C56-4176-A831-D438F2D7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AA65-0237-404D-97C2-B9FA5BC2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7148-8A0F-4DD3-8533-D3BD8B07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E193-1D49-4300-9ADB-850DD7D5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0627-1900-45BB-8B53-31EA6B36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6B5C-0C33-4CC5-AC07-552A4C6E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4491-E90A-4310-9F14-9AFECE1A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8000-EC3B-4167-9D94-59DF4C0A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C487-39C8-42B9-A91D-A17BD6EB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D2CC-C621-4BC6-ADC6-E0163BE4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B176-729C-42B3-B1DD-DC76B1CC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B6A7-82F8-46DC-BC7B-F67C407809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FB3C-EE04-49F0-8BEC-C719CE42230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000" y="1125360"/>
            <a:ext cx="5846760" cy="274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Bauhaus 93"/>
              </a:rPr>
              <a:t>Математика</a:t>
            </a:r>
            <a:br>
              <a:rPr sz="800"/>
            </a:br>
            <a:r>
              <a:rPr b="1" lang="ru-RU" sz="2800" spc="-1" strike="noStrike">
                <a:solidFill>
                  <a:srgbClr val="ffffff"/>
                </a:solidFill>
                <a:latin typeface="Bauhaus 93"/>
              </a:rPr>
              <a:t>2 класс</a:t>
            </a:r>
            <a:br>
              <a:rPr sz="2800"/>
            </a:br>
            <a:r>
              <a:rPr b="1" lang="ru-RU" sz="4100" spc="-1" strike="noStrike">
                <a:solidFill>
                  <a:srgbClr val="ffffff"/>
                </a:solidFill>
                <a:latin typeface="Bauhaus 93"/>
              </a:rPr>
              <a:t>Урок-открытие</a:t>
            </a:r>
            <a:br>
              <a:rPr sz="4100"/>
            </a:br>
            <a:r>
              <a:rPr b="1" lang="ru-RU" sz="4100" spc="-1" strike="noStrike">
                <a:solidFill>
                  <a:srgbClr val="008080"/>
                </a:solidFill>
                <a:latin typeface="Bauhaus 93"/>
              </a:rPr>
              <a:t>Площадь прямоугольника</a:t>
            </a: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000" y="4267080"/>
            <a:ext cx="867564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Автор: </a:t>
            </a:r>
            <a:r>
              <a:rPr b="1" i="1" lang="ru-RU" sz="2800" spc="-1" strike="noStrike">
                <a:solidFill>
                  <a:srgbClr val="008080"/>
                </a:solidFill>
                <a:latin typeface="Arial"/>
              </a:rPr>
              <a:t>Хромова Татьян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ОУ Митрофановской сош Кантемировского муниципального района Воронежской обла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8080"/>
                </a:solidFill>
                <a:latin typeface="Arial"/>
              </a:rPr>
              <a:t>Банк маленьких открыти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7705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– д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 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шир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 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 –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лощадь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 – д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853800" y="1844280"/>
            <a:ext cx="19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Рисунок 3" descr="cdolls118.gif"/>
          <p:cNvPicPr/>
          <p:nvPr/>
        </p:nvPicPr>
        <p:blipFill>
          <a:blip r:embed="rId1"/>
          <a:stretch/>
        </p:blipFill>
        <p:spPr>
          <a:xfrm>
            <a:off x="5940360" y="2997360"/>
            <a:ext cx="296244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8080"/>
                </a:solidFill>
                <a:latin typeface="Arial"/>
              </a:rPr>
              <a:t>Эталон для самопроверк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62040" y="2070000"/>
            <a:ext cx="1792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) и 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j0343363"/>
          <p:cNvPicPr/>
          <p:nvPr/>
        </p:nvPicPr>
        <p:blipFill>
          <a:blip r:embed="rId1"/>
          <a:stretch/>
        </p:blipFill>
        <p:spPr>
          <a:xfrm>
            <a:off x="2700360" y="4108320"/>
            <a:ext cx="3048120" cy="27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187280" y="479520"/>
            <a:ext cx="72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Сегодня на урок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Вы искали и твори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Знания новые открыл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Научились их применят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Arial"/>
              </a:rPr>
              <a:t>Теперь задания легко Вам выполнять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n09"/>
          <p:cNvPicPr/>
          <p:nvPr/>
        </p:nvPicPr>
        <p:blipFill>
          <a:blip r:embed="rId1"/>
          <a:stretch/>
        </p:blipFill>
        <p:spPr>
          <a:xfrm>
            <a:off x="395280" y="4508640"/>
            <a:ext cx="1871640" cy="16873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3" descr="a3.gif"/>
          <p:cNvPicPr/>
          <p:nvPr/>
        </p:nvPicPr>
        <p:blipFill>
          <a:blip r:embed="rId2"/>
          <a:stretch/>
        </p:blipFill>
        <p:spPr>
          <a:xfrm>
            <a:off x="6300720" y="4292640"/>
            <a:ext cx="266544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339640" y="1125000"/>
            <a:ext cx="600228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ум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друж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вниматель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старательны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ы – отлично учим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се у нас получит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AMERI006"/>
          <p:cNvPicPr/>
          <p:nvPr/>
        </p:nvPicPr>
        <p:blipFill>
          <a:blip r:embed="rId1"/>
          <a:stretch/>
        </p:blipFill>
        <p:spPr>
          <a:xfrm flipH="1">
            <a:off x="-360" y="3789360"/>
            <a:ext cx="2598840" cy="280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MERI007"/>
          <p:cNvPicPr/>
          <p:nvPr/>
        </p:nvPicPr>
        <p:blipFill>
          <a:blip r:embed="rId2"/>
          <a:stretch/>
        </p:blipFill>
        <p:spPr>
          <a:xfrm>
            <a:off x="6526080" y="0"/>
            <a:ext cx="261792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 rot="6719400">
            <a:off x="2172240" y="1095840"/>
            <a:ext cx="900000" cy="1225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1692360" y="2133720"/>
            <a:ext cx="1511280" cy="647640"/>
          </a:xfrm>
          <a:prstGeom prst="parallelogram">
            <a:avLst>
              <a:gd name="adj" fmla="val 58338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835280" y="3141720"/>
            <a:ext cx="1224000" cy="718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 flipV="1">
            <a:off x="1979640" y="4220640"/>
            <a:ext cx="799920" cy="685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908000" y="4869000"/>
            <a:ext cx="14292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700360" y="4149720"/>
            <a:ext cx="14292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 rot="2704200">
            <a:off x="1843920" y="5004360"/>
            <a:ext cx="1152360" cy="1170000"/>
          </a:xfrm>
          <a:prstGeom prst="diamond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932360" y="857160"/>
            <a:ext cx="36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ез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о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ямо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тырехуг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 flipV="1">
            <a:off x="3564000" y="1268280"/>
            <a:ext cx="2087640" cy="14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3492360" y="1557360"/>
            <a:ext cx="2016360" cy="12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3203640" y="2276640"/>
            <a:ext cx="223200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3132000" y="2421000"/>
            <a:ext cx="2160720" cy="20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3132000" y="2924280"/>
            <a:ext cx="230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3132000" y="3573360"/>
            <a:ext cx="2303640" cy="14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3132000" y="3716280"/>
            <a:ext cx="208764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7"/>
          <p:cNvSpPr/>
          <p:nvPr/>
        </p:nvSpPr>
        <p:spPr>
          <a:xfrm flipV="1">
            <a:off x="2916360" y="2060640"/>
            <a:ext cx="316836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2843280" y="2997000"/>
            <a:ext cx="266544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9"/>
          <p:cNvSpPr/>
          <p:nvPr/>
        </p:nvSpPr>
        <p:spPr>
          <a:xfrm flipV="1">
            <a:off x="2843280" y="3860280"/>
            <a:ext cx="2592360" cy="172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 flipV="1">
            <a:off x="2916360" y="4581360"/>
            <a:ext cx="244764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 flipV="1">
            <a:off x="2916360" y="5445000"/>
            <a:ext cx="316836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60436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8080"/>
                </a:solidFill>
                <a:latin typeface="Arial"/>
              </a:rPr>
              <a:t>Эталон для взаимопроверки и взаимоконтро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771280" y="6922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: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(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+ b) ·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: 3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a + b + a +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 = a · 2 + b ·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27240" y="912600"/>
            <a:ext cx="26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Вы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с перемен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663240" y="105192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Форму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BBERASER"/>
          <p:cNvPicPr/>
          <p:nvPr/>
        </p:nvPicPr>
        <p:blipFill>
          <a:blip r:embed="rId1"/>
          <a:stretch/>
        </p:blipFill>
        <p:spPr>
          <a:xfrm>
            <a:off x="6230880" y="4405320"/>
            <a:ext cx="291312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5 0.02683 L -0.21753 0.16301 E">
                                      <p:cBhvr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61 0.02359 L -0.22309 0.06544 E">
                                      <p:cBhvr>
                                        <p:cTn id="3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86 0.02219 L -0.20972 0.06404 E">
                                      <p:cBhvr>
                                        <p:cTn id="4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0.0067 L -0.22187 -0.10844 E">
                                      <p:cBhvr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06 0.0148 L 0.30816 0.04624 E">
                                      <p:cBhvr>
                                        <p:cTn id="5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177 -0.00046 L 0.28924 -0.11584 E">
                                      <p:cBhvr>
                                        <p:cTn id="5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43 0.00833 L 0.3059 -0.08601 E">
                                      <p:cBhvr>
                                        <p:cTn id="62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611280" y="2852640"/>
            <a:ext cx="1296720" cy="1224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 flipV="1">
            <a:off x="2050920" y="2923920"/>
            <a:ext cx="2016360" cy="115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4067280" y="2781360"/>
            <a:ext cx="1441440" cy="136692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6084720" y="32839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7020000" y="2708280"/>
            <a:ext cx="1655640" cy="1441440"/>
          </a:xfrm>
          <a:prstGeom prst="hexagon">
            <a:avLst>
              <a:gd name="adj" fmla="val 28715"/>
              <a:gd name="vf" fmla="val 115470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997080" y="85140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Р -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16040" y="4976640"/>
          <a:ext cx="6162840" cy="1100160"/>
        </p:xfrm>
        <a:graphic>
          <a:graphicData uri="http://schemas.openxmlformats.org/drawingml/2006/table">
            <a:tbl>
              <a:tblPr/>
              <a:tblGrid>
                <a:gridCol w="881280"/>
                <a:gridCol w="879480"/>
                <a:gridCol w="880920"/>
                <a:gridCol w="879480"/>
                <a:gridCol w="881280"/>
                <a:gridCol w="879480"/>
                <a:gridCol w="8809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8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124000" y="404640"/>
          <a:ext cx="4753080" cy="4632480"/>
        </p:xfrm>
        <a:graphic>
          <a:graphicData uri="http://schemas.openxmlformats.org/drawingml/2006/table">
            <a:tbl>
              <a:tblPr/>
              <a:tblGrid>
                <a:gridCol w="781200"/>
                <a:gridCol w="2940120"/>
                <a:gridCol w="103176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· 4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2+3+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+3+8+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+4+ 4+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+1) ·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· 2 + 5 ·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2+1+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+2) ·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66"/>
          <p:cNvSpPr/>
          <p:nvPr/>
        </p:nvSpPr>
        <p:spPr>
          <a:xfrm>
            <a:off x="3924360" y="4580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67"/>
          <p:cNvSpPr/>
          <p:nvPr/>
        </p:nvSpPr>
        <p:spPr>
          <a:xfrm>
            <a:off x="973080" y="5512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8"/>
          <p:cNvSpPr/>
          <p:nvPr/>
        </p:nvSpPr>
        <p:spPr>
          <a:xfrm>
            <a:off x="2125440" y="55159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9"/>
          <p:cNvSpPr/>
          <p:nvPr/>
        </p:nvSpPr>
        <p:spPr>
          <a:xfrm>
            <a:off x="3203640" y="55159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0"/>
          <p:cNvSpPr/>
          <p:nvPr/>
        </p:nvSpPr>
        <p:spPr>
          <a:xfrm>
            <a:off x="4357440" y="55159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1"/>
          <p:cNvSpPr/>
          <p:nvPr/>
        </p:nvSpPr>
        <p:spPr>
          <a:xfrm>
            <a:off x="5581800" y="5515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72"/>
          <p:cNvSpPr/>
          <p:nvPr/>
        </p:nvSpPr>
        <p:spPr>
          <a:xfrm>
            <a:off x="6734160" y="55159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3"/>
          <p:cNvSpPr/>
          <p:nvPr/>
        </p:nvSpPr>
        <p:spPr>
          <a:xfrm>
            <a:off x="7958880" y="55159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4" descr="bd07223_"/>
          <p:cNvPicPr/>
          <p:nvPr/>
        </p:nvPicPr>
        <p:blipFill>
          <a:blip r:embed="rId1"/>
          <a:stretch/>
        </p:blipFill>
        <p:spPr>
          <a:xfrm>
            <a:off x="7020000" y="1389240"/>
            <a:ext cx="1944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22560" y="457200"/>
            <a:ext cx="476424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Площадь -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1440" y="50835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ая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PILE1"/>
          <p:cNvPicPr/>
          <p:nvPr/>
        </p:nvPicPr>
        <p:blipFill>
          <a:blip r:embed="rId2"/>
          <a:stretch/>
        </p:blipFill>
        <p:spPr>
          <a:xfrm>
            <a:off x="2124000" y="189000"/>
            <a:ext cx="2487600" cy="2046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 rot="1907400">
            <a:off x="1908000" y="1339920"/>
            <a:ext cx="212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егова С.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i-main-pic" descr="Картинка 2 из 68879"/>
          <p:cNvPicPr/>
          <p:nvPr/>
        </p:nvPicPr>
        <p:blipFill>
          <a:blip r:embed="rId3"/>
          <a:stretch/>
        </p:blipFill>
        <p:spPr>
          <a:xfrm>
            <a:off x="3348000" y="2852640"/>
            <a:ext cx="2508120" cy="2030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3277800" y="5083560"/>
            <a:ext cx="26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илая площ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086160" y="508356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щадь фиг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6732720" y="2852640"/>
            <a:ext cx="1800000" cy="1800360"/>
          </a:xfrm>
          <a:custGeom>
            <a:avLst/>
            <a:gdLst>
              <a:gd name="textAreaLeft" fmla="*/ 374760 w 1800000"/>
              <a:gd name="textAreaRight" fmla="*/ 1425240 w 1800000"/>
              <a:gd name="textAreaTop" fmla="*/ 375120 h 1800360"/>
              <a:gd name="textAreaBottom" fmla="*/ 1425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93800" y="764640"/>
            <a:ext cx="69264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Тем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урок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3500"/>
            </a:b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«Площадь </a:t>
            </a:r>
            <a:br>
              <a:rPr sz="4000"/>
            </a:br>
            <a:r>
              <a:rPr b="1" lang="ru-RU" sz="4000" spc="-1" strike="noStrike">
                <a:solidFill>
                  <a:srgbClr val="008080"/>
                </a:solidFill>
                <a:latin typeface="Arial"/>
              </a:rPr>
              <a:t>                прямоугольни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74400" y="2327040"/>
            <a:ext cx="6512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познакомимся с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сформируем умени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развивае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воспитывае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STUDENT1"/>
          <p:cNvPicPr/>
          <p:nvPr/>
        </p:nvPicPr>
        <p:blipFill>
          <a:blip r:embed="rId1"/>
          <a:stretch/>
        </p:blipFill>
        <p:spPr>
          <a:xfrm flipH="1">
            <a:off x="6300360" y="3860640"/>
            <a:ext cx="2592360" cy="27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 rot="20796000">
            <a:off x="2050920" y="1844280"/>
            <a:ext cx="4032360" cy="23036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 rot="20796000">
            <a:off x="3781800" y="422064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л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 rot="20788200">
            <a:off x="6372360" y="1844280"/>
            <a:ext cx="19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шир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 flipV="1">
            <a:off x="2340000" y="3644640"/>
            <a:ext cx="3960720" cy="93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 flipV="1">
            <a:off x="1835280" y="1412640"/>
            <a:ext cx="3960720" cy="936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835280" y="2349360"/>
            <a:ext cx="504720" cy="215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5796000" y="1484280"/>
            <a:ext cx="504720" cy="215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9" descr="pe01821_"/>
          <p:cNvPicPr/>
          <p:nvPr/>
        </p:nvPicPr>
        <p:blipFill>
          <a:blip r:embed="rId1"/>
          <a:stretch/>
        </p:blipFill>
        <p:spPr>
          <a:xfrm flipH="1">
            <a:off x="-360" y="4332240"/>
            <a:ext cx="2398680" cy="25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4:10:21Z</dcterms:created>
  <dc:creator>Хромова Татьяна Николаевна</dc:creator>
  <dc:description/>
  <dc:language>en-US</dc:language>
  <cp:lastModifiedBy>Коля</cp:lastModifiedBy>
  <dcterms:modified xsi:type="dcterms:W3CDTF">2013-03-30T22:07:29Z</dcterms:modified>
  <cp:revision>3</cp:revision>
  <dc:subject/>
  <dc:title>Математика 2 класс Урок-открытие Площадь прямоугольника</dc:title>
</cp:coreProperties>
</file>