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0C6A-0948-48FA-A990-CCACE4D99C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357-8ACE-494E-9DCD-417DAA5340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B2B-F688-47A0-975E-5CFFEEF609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04E7-3FEC-41A8-8712-0C132B3A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AFBE-B8C5-4170-8D14-30280A1F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67AE-775C-4DCB-9B69-1C4D3BD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01C5-0558-4AD6-A405-2537C724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A555-494B-4AE0-8611-F9A2128C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F950-4E30-4574-AEF7-C3F18F7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4B5-3890-49A9-93D7-E6F2D3E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02B-C576-4571-BB18-1B3CD27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8ED7-9732-4B70-9DA3-BDADF21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0D72-D330-4CC6-93A4-81C5BD12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8294-8A99-4E86-8F7A-083D12A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30D5-3FBA-48F8-9A4F-8DFBBB04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E956-FB03-4FF5-B98B-C4968E0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424-4430-43F5-B282-45E4A01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E461-14B2-48E4-A3BD-A96C2008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EA4F-8881-4D5E-B81B-FA9B4B0E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1343-8FAB-4DAC-84A6-6139EE00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6EF8-8B8F-4315-B6D7-940F112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886A-0A14-42C2-B271-1B6C64F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E134-557E-4A7E-8953-AE55F0A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D148-8089-45E1-8111-88433106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634B-DC93-4FC0-B869-9046482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457A-2394-447F-B791-E5A9B5D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D0DB-088E-45CD-B06F-48BB5D2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78EF-895E-4B37-9D3B-284B44350F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7782-584C-40E5-BB71-D1F5A2B6EC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584676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Математика</a:t>
            </a:r>
            <a:br>
              <a:rPr sz="800"/>
            </a:br>
            <a:r>
              <a:rPr b="1" lang="ru-RU" sz="2800" spc="-1" strike="noStrike">
                <a:solidFill>
                  <a:srgbClr val="ffffff"/>
                </a:solidFill>
                <a:latin typeface="Bauhaus 93"/>
              </a:rPr>
              <a:t>2 класс</a:t>
            </a:r>
            <a:br>
              <a:rPr sz="2800"/>
            </a:b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Урок-открытие</a:t>
            </a:r>
            <a:br>
              <a:rPr sz="4100"/>
            </a:br>
            <a:r>
              <a:rPr b="1" lang="ru-RU" sz="4100" spc="-1" strike="noStrike">
                <a:solidFill>
                  <a:srgbClr val="008080"/>
                </a:solidFill>
                <a:latin typeface="Bauhaus 93"/>
              </a:rPr>
              <a:t>Площадь прямоугольника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000" y="4267080"/>
            <a:ext cx="867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Хромова Татьян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У Митрофановской сош Кантемировского муниципального района Воронежской обла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Банк маленьких открыт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шир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53800" y="184428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Рисунок 3" descr="cdolls118.gif"/>
          <p:cNvPicPr/>
          <p:nvPr/>
        </p:nvPicPr>
        <p:blipFill>
          <a:blip r:embed="rId1"/>
          <a:stretch/>
        </p:blipFill>
        <p:spPr>
          <a:xfrm>
            <a:off x="5940360" y="299736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Эталон для самопровер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2040" y="2070000"/>
            <a:ext cx="179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 и 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j0343363"/>
          <p:cNvPicPr/>
          <p:nvPr/>
        </p:nvPicPr>
        <p:blipFill>
          <a:blip r:embed="rId1"/>
          <a:stretch/>
        </p:blipFill>
        <p:spPr>
          <a:xfrm>
            <a:off x="2700360" y="4108320"/>
            <a:ext cx="304812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187280" y="47952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Сегодня на уро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Вы искали и твор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Знания новые откр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Научились их применя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Теперь задания легко Вам выполнят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n09"/>
          <p:cNvPicPr/>
          <p:nvPr/>
        </p:nvPicPr>
        <p:blipFill>
          <a:blip r:embed="rId1"/>
          <a:stretch/>
        </p:blipFill>
        <p:spPr>
          <a:xfrm>
            <a:off x="395280" y="4508640"/>
            <a:ext cx="1871640" cy="1687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a3.gif"/>
          <p:cNvPicPr/>
          <p:nvPr/>
        </p:nvPicPr>
        <p:blipFill>
          <a:blip r:embed="rId2"/>
          <a:stretch/>
        </p:blipFill>
        <p:spPr>
          <a:xfrm>
            <a:off x="6300720" y="4292640"/>
            <a:ext cx="26654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39640" y="1125000"/>
            <a:ext cx="60022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ум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друж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вним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стар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отлично учим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 у нас получит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AMERI006"/>
          <p:cNvPicPr/>
          <p:nvPr/>
        </p:nvPicPr>
        <p:blipFill>
          <a:blip r:embed="rId1"/>
          <a:stretch/>
        </p:blipFill>
        <p:spPr>
          <a:xfrm flipH="1">
            <a:off x="-360" y="3789360"/>
            <a:ext cx="2598840" cy="280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MERI007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 rot="6719400">
            <a:off x="2172240" y="1095840"/>
            <a:ext cx="900000" cy="1225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92360" y="2133720"/>
            <a:ext cx="1511280" cy="647640"/>
          </a:xfrm>
          <a:prstGeom prst="parallelogram">
            <a:avLst>
              <a:gd name="adj" fmla="val 5833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35280" y="3141720"/>
            <a:ext cx="12240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979640" y="4220640"/>
            <a:ext cx="79992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908000" y="4869000"/>
            <a:ext cx="14292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700360" y="4149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2704200">
            <a:off x="1843920" y="5004360"/>
            <a:ext cx="1152360" cy="117000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932360" y="857160"/>
            <a:ext cx="36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е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тырех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3564000" y="1268280"/>
            <a:ext cx="208764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492360" y="1557360"/>
            <a:ext cx="201636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203640" y="2276640"/>
            <a:ext cx="2232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3132000" y="2421000"/>
            <a:ext cx="2160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3132000" y="2924280"/>
            <a:ext cx="230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3132000" y="3573360"/>
            <a:ext cx="230364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3132000" y="3716280"/>
            <a:ext cx="2087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 flipV="1">
            <a:off x="2916360" y="2060640"/>
            <a:ext cx="316836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843280" y="2997000"/>
            <a:ext cx="266544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2843280" y="3860280"/>
            <a:ext cx="2592360" cy="172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2916360" y="4581360"/>
            <a:ext cx="2447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2916360" y="5445000"/>
            <a:ext cx="3168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Эталон для взаимопроверки и взаимоконтро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71280" y="6922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b)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 3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+ b + a +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· 2 + b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27240" y="91260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с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663240" y="10519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Форм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BBERASER"/>
          <p:cNvPicPr/>
          <p:nvPr/>
        </p:nvPicPr>
        <p:blipFill>
          <a:blip r:embed="rId1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02683 L -0.21753 0.16301 E">
                                      <p:cBhvr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2359 L -0.22309 0.06544 E">
                                      <p:cBhvr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2219 L -0.20972 0.06404 E">
                                      <p:cBhvr>
                                        <p:cTn id="4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67 L -0.22187 -0.10844 E">
                                      <p:cBhvr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148 L 0.30816 0.04624 E">
                                      <p:cBhvr>
                                        <p:cTn id="5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77 -0.00046 L 0.28924 -0.11584 E">
                                      <p:cBhvr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43 0.00833 L 0.3059 -0.08601 E">
                                      <p:cBhvr>
                                        <p:cTn id="6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611280" y="2852640"/>
            <a:ext cx="1296720" cy="1224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 flipV="1">
            <a:off x="2050920" y="2923920"/>
            <a:ext cx="2016360" cy="115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067280" y="2781360"/>
            <a:ext cx="1441440" cy="13669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084720" y="3283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7020000" y="2708280"/>
            <a:ext cx="1655640" cy="1441440"/>
          </a:xfrm>
          <a:prstGeom prst="hexagon">
            <a:avLst>
              <a:gd name="adj" fmla="val 28715"/>
              <a:gd name="vf" fmla="val 11547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97080" y="8514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Р -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16040" y="4976640"/>
          <a:ext cx="6162840" cy="1100160"/>
        </p:xfrm>
        <a:graphic>
          <a:graphicData uri="http://schemas.openxmlformats.org/drawingml/2006/table">
            <a:tbl>
              <a:tblPr/>
              <a:tblGrid>
                <a:gridCol w="881280"/>
                <a:gridCol w="879480"/>
                <a:gridCol w="880920"/>
                <a:gridCol w="879480"/>
                <a:gridCol w="881280"/>
                <a:gridCol w="879480"/>
                <a:gridCol w="8809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24000" y="404640"/>
          <a:ext cx="4753080" cy="4632480"/>
        </p:xfrm>
        <a:graphic>
          <a:graphicData uri="http://schemas.openxmlformats.org/drawingml/2006/table">
            <a:tbl>
              <a:tblPr/>
              <a:tblGrid>
                <a:gridCol w="781200"/>
                <a:gridCol w="2940120"/>
                <a:gridCol w="10317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· 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2+3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+3+8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+4+ 4+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+1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· 2 + 5 ·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2+1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+2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6"/>
          <p:cNvSpPr/>
          <p:nvPr/>
        </p:nvSpPr>
        <p:spPr>
          <a:xfrm>
            <a:off x="3924360" y="458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973080" y="5512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8"/>
          <p:cNvSpPr/>
          <p:nvPr/>
        </p:nvSpPr>
        <p:spPr>
          <a:xfrm>
            <a:off x="212544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320364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0"/>
          <p:cNvSpPr/>
          <p:nvPr/>
        </p:nvSpPr>
        <p:spPr>
          <a:xfrm>
            <a:off x="4357440" y="55159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1"/>
          <p:cNvSpPr/>
          <p:nvPr/>
        </p:nvSpPr>
        <p:spPr>
          <a:xfrm>
            <a:off x="5581800" y="5515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2"/>
          <p:cNvSpPr/>
          <p:nvPr/>
        </p:nvSpPr>
        <p:spPr>
          <a:xfrm>
            <a:off x="673416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3"/>
          <p:cNvSpPr/>
          <p:nvPr/>
        </p:nvSpPr>
        <p:spPr>
          <a:xfrm>
            <a:off x="795888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4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22560" y="457200"/>
            <a:ext cx="47642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лощадь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1440" y="50835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PILE1"/>
          <p:cNvPicPr/>
          <p:nvPr/>
        </p:nvPicPr>
        <p:blipFill>
          <a:blip r:embed="rId2"/>
          <a:stretch/>
        </p:blipFill>
        <p:spPr>
          <a:xfrm>
            <a:off x="2124000" y="189000"/>
            <a:ext cx="2487600" cy="2046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 rot="1907400">
            <a:off x="1908000" y="133992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егова С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-main-pic" descr="Картинка 2 из 68879"/>
          <p:cNvPicPr/>
          <p:nvPr/>
        </p:nvPicPr>
        <p:blipFill>
          <a:blip r:embed="rId3"/>
          <a:stretch/>
        </p:blipFill>
        <p:spPr>
          <a:xfrm>
            <a:off x="3348000" y="2852640"/>
            <a:ext cx="2508120" cy="2030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3277800" y="508356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л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86160" y="50835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732720" y="2852640"/>
            <a:ext cx="1800000" cy="1800360"/>
          </a:xfrm>
          <a:custGeom>
            <a:avLst/>
            <a:gdLst>
              <a:gd name="textAreaLeft" fmla="*/ 374760 w 1800000"/>
              <a:gd name="textAreaRight" fmla="*/ 1425240 w 1800000"/>
              <a:gd name="textAreaTop" fmla="*/ 375120 h 1800360"/>
              <a:gd name="textAreaBottom" fmla="*/ 1425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3800" y="764640"/>
            <a:ext cx="6926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урок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«Площадь </a:t>
            </a:r>
            <a:br>
              <a:rPr sz="4000"/>
            </a:b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                прямоуголь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74400" y="2327040"/>
            <a:ext cx="6512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ознакомимся с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сформируем уме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разви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воспиты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STUDENT1"/>
          <p:cNvPicPr/>
          <p:nvPr/>
        </p:nvPicPr>
        <p:blipFill>
          <a:blip r:embed="rId1"/>
          <a:stretch/>
        </p:blipFill>
        <p:spPr>
          <a:xfrm flipH="1">
            <a:off x="6300360" y="3860640"/>
            <a:ext cx="2592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 rot="20796000">
            <a:off x="2050920" y="1844280"/>
            <a:ext cx="4032360" cy="2303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 rot="20796000">
            <a:off x="3781800" y="422064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 rot="20788200">
            <a:off x="6372360" y="184428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V="1">
            <a:off x="2340000" y="3644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V="1">
            <a:off x="1835280" y="1412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2349360"/>
            <a:ext cx="504720" cy="215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5796000" y="1484280"/>
            <a:ext cx="504720" cy="21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pe01821_"/>
          <p:cNvPicPr/>
          <p:nvPr/>
        </p:nvPicPr>
        <p:blipFill>
          <a:blip r:embed="rId1"/>
          <a:stretch/>
        </p:blipFill>
        <p:spPr>
          <a:xfrm flipH="1">
            <a:off x="-360" y="4332240"/>
            <a:ext cx="23986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10:21Z</dcterms:created>
  <dc:creator>Хромова Татьяна Николаевна</dc:creator>
  <dc:description/>
  <dc:language>en-US</dc:language>
  <cp:lastModifiedBy>Коля</cp:lastModifiedBy>
  <dcterms:modified xsi:type="dcterms:W3CDTF">2013-03-30T22:07:29Z</dcterms:modified>
  <cp:revision>3</cp:revision>
  <dc:subject/>
  <dc:title>Математика 2 класс Урок-открытие Площадь прямоугольника</dc:title>
</cp:coreProperties>
</file>