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5100-0C7A-41E6-BD7E-E897CC6F28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D979-24D7-4E9C-920D-9CC78383A9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72D-7C3D-4C0A-8DCB-4638353546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9A44-3EED-4D91-96F7-C6C8DE8E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9AEF-C681-458C-9A49-2F4BE37C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B721-4A65-43E1-B2D3-3F31DD6F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C712-04D5-446C-9B8A-BC894354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9151-C17C-49F6-8576-D84842CA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1486-B77D-46B1-8D6A-EEC8B152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FCFF-0C80-4C64-93FA-7C48B4BD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84FF-AD24-4297-A35B-330E32D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800C-6AE7-4BCD-9822-68B76317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17C1-C4DD-498D-8E00-12E38FFF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4F3B-6B96-4A87-8988-228D2CA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F0E4-3C94-4E18-95EB-6A03D25C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D7E-60F9-4798-8E56-6E464D2C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FD3D-F455-4273-AE55-D578FF4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EBB8-9744-46DE-8406-F8EB1CD1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86AF-7E4F-4D11-9273-975F7F25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B353-351E-40EF-A0C0-79457629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9A95-4475-46B2-BA38-300995F2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3A7C-56D5-4C40-B32E-6398A1EE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AA2C-483E-45C1-A851-63CD1C83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093E-6A91-4EE9-BFB9-A756989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84A6-576C-4A80-9479-8AC57613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EF15-3481-4B1B-A3F2-AD774A5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FEBE-0811-401D-9EAE-C4130CE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AA0B-3D6C-4BB3-B343-BAE1DA8FDE5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130-94C5-4B18-B46A-FB15657962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000" y="1125360"/>
            <a:ext cx="5846760" cy="27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Bauhaus 93"/>
              </a:rPr>
              <a:t>Математика</a:t>
            </a:r>
            <a:br>
              <a:rPr sz="800"/>
            </a:br>
            <a:r>
              <a:rPr b="1" lang="ru-RU" sz="2800" spc="-1" strike="noStrike">
                <a:solidFill>
                  <a:srgbClr val="ffffff"/>
                </a:solidFill>
                <a:latin typeface="Bauhaus 93"/>
              </a:rPr>
              <a:t>2 класс</a:t>
            </a:r>
            <a:br>
              <a:rPr sz="2800"/>
            </a:br>
            <a:r>
              <a:rPr b="1" lang="ru-RU" sz="4100" spc="-1" strike="noStrike">
                <a:solidFill>
                  <a:srgbClr val="ffffff"/>
                </a:solidFill>
                <a:latin typeface="Bauhaus 93"/>
              </a:rPr>
              <a:t>Урок-открытие</a:t>
            </a:r>
            <a:br>
              <a:rPr sz="4100"/>
            </a:br>
            <a:r>
              <a:rPr b="1" lang="ru-RU" sz="4100" spc="-1" strike="noStrike">
                <a:solidFill>
                  <a:srgbClr val="008080"/>
                </a:solidFill>
                <a:latin typeface="Bauhaus 93"/>
              </a:rPr>
              <a:t>Площадь прямоугольника</a:t>
            </a: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000" y="4267080"/>
            <a:ext cx="867564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втор: </a:t>
            </a: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Хромова Татьян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ОУ Митрофановской сош Кантемировского муниципального района Воронежской обла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8080"/>
                </a:solidFill>
                <a:latin typeface="Arial"/>
              </a:rPr>
              <a:t>Банк маленьких открыти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7705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 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шир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853800" y="1844280"/>
            <a:ext cx="19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Рисунок 3" descr="cdolls118.gif"/>
          <p:cNvPicPr/>
          <p:nvPr/>
        </p:nvPicPr>
        <p:blipFill>
          <a:blip r:embed="rId1"/>
          <a:stretch/>
        </p:blipFill>
        <p:spPr>
          <a:xfrm>
            <a:off x="5940360" y="2997360"/>
            <a:ext cx="296244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8080"/>
                </a:solidFill>
                <a:latin typeface="Arial"/>
              </a:rPr>
              <a:t>Эталон для самопровер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62040" y="2070000"/>
            <a:ext cx="1792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 и 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j0343363"/>
          <p:cNvPicPr/>
          <p:nvPr/>
        </p:nvPicPr>
        <p:blipFill>
          <a:blip r:embed="rId1"/>
          <a:stretch/>
        </p:blipFill>
        <p:spPr>
          <a:xfrm>
            <a:off x="2700360" y="4108320"/>
            <a:ext cx="3048120" cy="27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187280" y="47952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Сегодня на урок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Вы искали и твори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Знания новые откры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Научились их применя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Теперь задания легко Вам выполнять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n09"/>
          <p:cNvPicPr/>
          <p:nvPr/>
        </p:nvPicPr>
        <p:blipFill>
          <a:blip r:embed="rId1"/>
          <a:stretch/>
        </p:blipFill>
        <p:spPr>
          <a:xfrm>
            <a:off x="395280" y="4508640"/>
            <a:ext cx="1871640" cy="16873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3" descr="a3.gif"/>
          <p:cNvPicPr/>
          <p:nvPr/>
        </p:nvPicPr>
        <p:blipFill>
          <a:blip r:embed="rId2"/>
          <a:stretch/>
        </p:blipFill>
        <p:spPr>
          <a:xfrm>
            <a:off x="6300720" y="4292640"/>
            <a:ext cx="266544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39640" y="1125000"/>
            <a:ext cx="600228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ум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друж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вним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стар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отлично учим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се у нас получит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AMERI006"/>
          <p:cNvPicPr/>
          <p:nvPr/>
        </p:nvPicPr>
        <p:blipFill>
          <a:blip r:embed="rId1"/>
          <a:stretch/>
        </p:blipFill>
        <p:spPr>
          <a:xfrm flipH="1">
            <a:off x="-360" y="3789360"/>
            <a:ext cx="2598840" cy="280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MERI007"/>
          <p:cNvPicPr/>
          <p:nvPr/>
        </p:nvPicPr>
        <p:blipFill>
          <a:blip r:embed="rId2"/>
          <a:stretch/>
        </p:blipFill>
        <p:spPr>
          <a:xfrm>
            <a:off x="6526080" y="0"/>
            <a:ext cx="26179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 rot="6719400">
            <a:off x="2172240" y="1095840"/>
            <a:ext cx="900000" cy="1225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692360" y="2133720"/>
            <a:ext cx="1511280" cy="647640"/>
          </a:xfrm>
          <a:prstGeom prst="parallelogram">
            <a:avLst>
              <a:gd name="adj" fmla="val 58338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835280" y="3141720"/>
            <a:ext cx="1224000" cy="718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1979640" y="4220640"/>
            <a:ext cx="799920" cy="685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908000" y="4869000"/>
            <a:ext cx="14292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700360" y="41497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 rot="2704200">
            <a:off x="1843920" y="5004360"/>
            <a:ext cx="1152360" cy="1170000"/>
          </a:xfrm>
          <a:prstGeom prst="diamond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932360" y="857160"/>
            <a:ext cx="36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е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тырех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V="1">
            <a:off x="3564000" y="1268280"/>
            <a:ext cx="2087640" cy="14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3492360" y="1557360"/>
            <a:ext cx="201636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203640" y="2276640"/>
            <a:ext cx="223200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3132000" y="2421000"/>
            <a:ext cx="216072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3132000" y="2924280"/>
            <a:ext cx="230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3132000" y="3573360"/>
            <a:ext cx="230364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3132000" y="3716280"/>
            <a:ext cx="208764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7"/>
          <p:cNvSpPr/>
          <p:nvPr/>
        </p:nvSpPr>
        <p:spPr>
          <a:xfrm flipV="1">
            <a:off x="2916360" y="2060640"/>
            <a:ext cx="316836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843280" y="2997000"/>
            <a:ext cx="266544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2843280" y="3860280"/>
            <a:ext cx="2592360" cy="172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 flipV="1">
            <a:off x="2916360" y="4581360"/>
            <a:ext cx="244764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2916360" y="5445000"/>
            <a:ext cx="316836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60436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Эталон для взаимопроверки и взаимоконтро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771280" y="6922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(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+ b)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: 3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+ b + a +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· 2 + b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27240" y="912600"/>
            <a:ext cx="26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Вы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с переме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663240" y="105192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Форму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BBERASER"/>
          <p:cNvPicPr/>
          <p:nvPr/>
        </p:nvPicPr>
        <p:blipFill>
          <a:blip r:embed="rId1"/>
          <a:stretch/>
        </p:blipFill>
        <p:spPr>
          <a:xfrm>
            <a:off x="6230880" y="4405320"/>
            <a:ext cx="291312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5 0.02683 L -0.21753 0.16301 E">
                                      <p:cBhvr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61 0.02359 L -0.22309 0.06544 E">
                                      <p:cBhvr>
                                        <p:cTn id="3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86 0.02219 L -0.20972 0.06404 E">
                                      <p:cBhvr>
                                        <p:cTn id="4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0.0067 L -0.22187 -0.10844 E">
                                      <p:cBhvr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06 0.0148 L 0.30816 0.04624 E">
                                      <p:cBhvr>
                                        <p:cTn id="5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77 -0.00046 L 0.28924 -0.11584 E">
                                      <p:cBhvr>
                                        <p:cTn id="5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43 0.00833 L 0.3059 -0.08601 E">
                                      <p:cBhvr>
                                        <p:cTn id="62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611280" y="2852640"/>
            <a:ext cx="1296720" cy="1224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 flipV="1">
            <a:off x="2050920" y="2923920"/>
            <a:ext cx="2016360" cy="115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067280" y="2781360"/>
            <a:ext cx="1441440" cy="13669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084720" y="32839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7020000" y="2708280"/>
            <a:ext cx="1655640" cy="1441440"/>
          </a:xfrm>
          <a:prstGeom prst="hexagon">
            <a:avLst>
              <a:gd name="adj" fmla="val 28715"/>
              <a:gd name="vf" fmla="val 11547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97080" y="85140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Р -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16040" y="4976640"/>
          <a:ext cx="6162840" cy="1100160"/>
        </p:xfrm>
        <a:graphic>
          <a:graphicData uri="http://schemas.openxmlformats.org/drawingml/2006/table">
            <a:tbl>
              <a:tblPr/>
              <a:tblGrid>
                <a:gridCol w="881280"/>
                <a:gridCol w="879480"/>
                <a:gridCol w="880920"/>
                <a:gridCol w="879480"/>
                <a:gridCol w="881280"/>
                <a:gridCol w="879480"/>
                <a:gridCol w="8809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24000" y="404640"/>
          <a:ext cx="4753080" cy="4632480"/>
        </p:xfrm>
        <a:graphic>
          <a:graphicData uri="http://schemas.openxmlformats.org/drawingml/2006/table">
            <a:tbl>
              <a:tblPr/>
              <a:tblGrid>
                <a:gridCol w="781200"/>
                <a:gridCol w="2940120"/>
                <a:gridCol w="103176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· 4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2+3+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+3+8+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+4+ 4+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+1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· 2 + 5 ·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2+1+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+2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66"/>
          <p:cNvSpPr/>
          <p:nvPr/>
        </p:nvSpPr>
        <p:spPr>
          <a:xfrm>
            <a:off x="3924360" y="458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7"/>
          <p:cNvSpPr/>
          <p:nvPr/>
        </p:nvSpPr>
        <p:spPr>
          <a:xfrm>
            <a:off x="973080" y="5512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8"/>
          <p:cNvSpPr/>
          <p:nvPr/>
        </p:nvSpPr>
        <p:spPr>
          <a:xfrm>
            <a:off x="2125440" y="55159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9"/>
          <p:cNvSpPr/>
          <p:nvPr/>
        </p:nvSpPr>
        <p:spPr>
          <a:xfrm>
            <a:off x="3203640" y="5515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0"/>
          <p:cNvSpPr/>
          <p:nvPr/>
        </p:nvSpPr>
        <p:spPr>
          <a:xfrm>
            <a:off x="4357440" y="55159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1"/>
          <p:cNvSpPr/>
          <p:nvPr/>
        </p:nvSpPr>
        <p:spPr>
          <a:xfrm>
            <a:off x="5581800" y="5515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72"/>
          <p:cNvSpPr/>
          <p:nvPr/>
        </p:nvSpPr>
        <p:spPr>
          <a:xfrm>
            <a:off x="6734160" y="55159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3"/>
          <p:cNvSpPr/>
          <p:nvPr/>
        </p:nvSpPr>
        <p:spPr>
          <a:xfrm>
            <a:off x="7958880" y="5515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4" descr="bd07223_"/>
          <p:cNvPicPr/>
          <p:nvPr/>
        </p:nvPicPr>
        <p:blipFill>
          <a:blip r:embed="rId1"/>
          <a:stretch/>
        </p:blipFill>
        <p:spPr>
          <a:xfrm>
            <a:off x="7020000" y="1389240"/>
            <a:ext cx="1944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22560" y="457200"/>
            <a:ext cx="47642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Площадь -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1440" y="50835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PILE1"/>
          <p:cNvPicPr/>
          <p:nvPr/>
        </p:nvPicPr>
        <p:blipFill>
          <a:blip r:embed="rId2"/>
          <a:stretch/>
        </p:blipFill>
        <p:spPr>
          <a:xfrm>
            <a:off x="2124000" y="189000"/>
            <a:ext cx="2487600" cy="2046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 rot="1907400">
            <a:off x="1908000" y="1339920"/>
            <a:ext cx="212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егова С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-main-pic" descr="Картинка 2 из 68879"/>
          <p:cNvPicPr/>
          <p:nvPr/>
        </p:nvPicPr>
        <p:blipFill>
          <a:blip r:embed="rId3"/>
          <a:stretch/>
        </p:blipFill>
        <p:spPr>
          <a:xfrm>
            <a:off x="3348000" y="2852640"/>
            <a:ext cx="2508120" cy="2030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3277800" y="508356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л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086160" y="508356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фиг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6732720" y="2852640"/>
            <a:ext cx="1800000" cy="1800360"/>
          </a:xfrm>
          <a:custGeom>
            <a:avLst/>
            <a:gdLst>
              <a:gd name="textAreaLeft" fmla="*/ 374760 w 1800000"/>
              <a:gd name="textAreaRight" fmla="*/ 1425240 w 1800000"/>
              <a:gd name="textAreaTop" fmla="*/ 375120 h 1800360"/>
              <a:gd name="textAreaBottom" fmla="*/ 1425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93800" y="764640"/>
            <a:ext cx="69264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урок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«Площадь </a:t>
            </a:r>
            <a:br>
              <a:rPr sz="4000"/>
            </a:b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                прямоугольн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74400" y="2327040"/>
            <a:ext cx="6512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познакомимся с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сформируем умени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разви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воспиты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STUDENT1"/>
          <p:cNvPicPr/>
          <p:nvPr/>
        </p:nvPicPr>
        <p:blipFill>
          <a:blip r:embed="rId1"/>
          <a:stretch/>
        </p:blipFill>
        <p:spPr>
          <a:xfrm flipH="1">
            <a:off x="6300360" y="3860640"/>
            <a:ext cx="259236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 rot="20796000">
            <a:off x="2050920" y="1844280"/>
            <a:ext cx="4032360" cy="23036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 rot="20796000">
            <a:off x="3781800" y="422064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л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 rot="20788200">
            <a:off x="6372360" y="184428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ши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V="1">
            <a:off x="2340000" y="3644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 flipV="1">
            <a:off x="1835280" y="1412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835280" y="2349360"/>
            <a:ext cx="504720" cy="215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5796000" y="1484280"/>
            <a:ext cx="504720" cy="215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9" descr="pe01821_"/>
          <p:cNvPicPr/>
          <p:nvPr/>
        </p:nvPicPr>
        <p:blipFill>
          <a:blip r:embed="rId1"/>
          <a:stretch/>
        </p:blipFill>
        <p:spPr>
          <a:xfrm flipH="1">
            <a:off x="-360" y="4332240"/>
            <a:ext cx="2398680" cy="25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10:21Z</dcterms:created>
  <dc:creator>Хромова Татьяна Николаевна</dc:creator>
  <dc:description/>
  <dc:language>en-US</dc:language>
  <cp:lastModifiedBy>Коля</cp:lastModifiedBy>
  <dcterms:modified xsi:type="dcterms:W3CDTF">2013-03-30T22:07:29Z</dcterms:modified>
  <cp:revision>3</cp:revision>
  <dc:subject/>
  <dc:title>Математика 2 класс Урок-открытие Площадь прямоугольника</dc:title>
</cp:coreProperties>
</file>