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75D-E503-4FF0-89E5-3B49A9EC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E11-6D61-43DD-8CAD-01D14BC0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237-EEDC-403A-B5F5-78EAF97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C4A-6CFE-4AE5-8818-D1D1EB80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E3F-AB41-422C-9F0A-9A65B37E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728D-4C7C-4193-8BF3-BC708AB4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5D6-ABAD-49B1-B285-2763CA86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AF44-A916-49AC-AC07-E2325E13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F529-B046-4B99-91ED-884F6B97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6FAB-A195-4050-B4A2-10E2884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E989-6599-4D4C-8180-74BEA018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730-8633-47D8-89C9-39A8AF6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ED20-E58F-4F37-8639-F55D6B8C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82C4-4044-46F4-A70B-ECAED1C9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D9CD-06FF-45CC-98A2-81AD885C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3D2D-9148-4DB6-B812-6E3CB4DE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4CEE-3F16-44B3-AC38-209793FC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D7D-0187-41D6-B0E5-B60CCD1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07D-03F8-4627-AE6A-571159CF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6CB-3E83-431F-946B-8059134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40F-AADA-4591-800A-D60807DB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628-85BE-4C0C-A42A-5219563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06B-BA8F-4C57-BB28-1196330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C28-C30B-4905-AC11-2940D04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9AAD-A50E-4E46-A2E0-DA2C661462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FAD0-D0D4-4D2B-81A9-42E9F2F235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Times New Roman"/>
              </a:rPr>
              <a:t>Трапеция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200040" y="4114440"/>
            <a:ext cx="2971800" cy="152388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3880"/>
              <a:gd name="textAreaBottom" fmla="*/ 11887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Немного из истории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Times New Roman"/>
              </a:rPr>
              <a:t>«Трапеци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слово греческого происхождения, означавшее в древности «столик» (по гречески «трапедзион» означает столик, обеденный сто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Times New Roman"/>
              </a:rPr>
              <a:t>«Трапеци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нашем смысле встречается впервые у древнегреческого математика Посейдона . В средние века трапецией называли, по Евклиду , любой четырёхугольник (не параллелограмм); лишь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. это слово приобретает современный смысл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00ffff"/>
                </a:solidFill>
                <a:uFillTx/>
                <a:latin typeface="Times New Roman"/>
              </a:rPr>
              <a:t>Трапеци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зывается четырёхугольник , у которого две стороны параллельны, а две другие стороны не параллель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724280"/>
            <a:ext cx="2743200" cy="1752840"/>
          </a:xfrm>
          <a:custGeom>
            <a:avLst/>
            <a:gdLst>
              <a:gd name="textAreaLeft" fmla="*/ 603000 w 2743200"/>
              <a:gd name="textAreaRight" fmla="*/ 2140200 w 27432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4876920" y="5486040"/>
            <a:ext cx="2133360" cy="609480"/>
          </a:xfrm>
          <a:custGeom>
            <a:avLst/>
            <a:gdLst>
              <a:gd name="textAreaLeft" fmla="*/ 469080 w 2133360"/>
              <a:gd name="textAreaRight" fmla="*/ 1664280 w 213336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285640" y="5029200"/>
            <a:ext cx="1219320" cy="13716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401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ллельные стороны трапеции называются её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ания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две другие стороны –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боковыми сторонам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5028840" y="2361600"/>
            <a:ext cx="3352680" cy="1981080"/>
          </a:xfrm>
          <a:custGeom>
            <a:avLst/>
            <a:gdLst>
              <a:gd name="textAreaLeft" fmla="*/ 737280 w 3352680"/>
              <a:gd name="textAreaRight" fmla="*/ 2615400 w 3352680"/>
              <a:gd name="textAreaTop" fmla="*/ 435600 h 1981080"/>
              <a:gd name="textAreaBottom" fmla="*/ 15454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1219320"/>
            <a:ext cx="1752480" cy="685800"/>
          </a:xfrm>
          <a:prstGeom prst="wedgeRectCallout">
            <a:avLst>
              <a:gd name="adj1" fmla="val 9509"/>
              <a:gd name="adj2" fmla="val 121064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711800">
            <a:off x="5351040" y="4593960"/>
            <a:ext cx="1828800" cy="838080"/>
          </a:xfrm>
          <a:prstGeom prst="wedgeRoundRectCallout">
            <a:avLst>
              <a:gd name="adj1" fmla="val -48342"/>
              <a:gd name="adj2" fmla="val 87236"/>
              <a:gd name="adj3" fmla="val 1666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828800"/>
            <a:ext cx="1295280" cy="1295280"/>
          </a:xfrm>
          <a:prstGeom prst="wedgeEllipseCallout">
            <a:avLst>
              <a:gd name="adj1" fmla="val -34560"/>
              <a:gd name="adj2" fmla="val 81861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2600" y="46483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54040" y="1279440"/>
            <a:ext cx="1591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057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ок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орона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Виды трапеции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апеция называется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равнобедренно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если её боковые стороны рав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равнобедренной трапеции углы при основании равны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789800">
            <a:off x="3200400" y="2742840"/>
            <a:ext cx="2440080" cy="1676520"/>
          </a:xfrm>
          <a:custGeom>
            <a:avLst/>
            <a:gdLst>
              <a:gd name="textAreaLeft" fmla="*/ 536400 w 2440080"/>
              <a:gd name="textAreaRight" fmla="*/ 1903680 w 244008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2520" y="4114800"/>
            <a:ext cx="608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800" y="411480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рапеция , один из углов которой прямой , называется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66ff33"/>
                </a:solidFill>
                <a:uFillTx/>
                <a:latin typeface="Times New Roman"/>
              </a:rPr>
              <a:t>прямоугольной</a:t>
            </a:r>
            <a:r>
              <a:rPr b="1" lang="ru-RU" sz="3200" spc="-1" strike="noStrike" u="sng">
                <a:solidFill>
                  <a:srgbClr val="66ff33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362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362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3733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ffff"/>
                </a:solidFill>
                <a:latin typeface="Times New Roman"/>
              </a:rPr>
              <a:t>Конец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ы слайд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ьмухаметов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олотцев 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BS00580_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70656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6:25:12Z</dcterms:created>
  <dc:creator>User</dc:creator>
  <dc:description/>
  <dc:language>en-US</dc:language>
  <cp:lastModifiedBy>User</cp:lastModifiedBy>
  <dcterms:modified xsi:type="dcterms:W3CDTF">2003-12-06T06:52:54Z</dcterms:modified>
  <cp:revision>11</cp:revision>
  <dc:subject/>
  <dc:title>Трапеция</dc:title>
</cp:coreProperties>
</file>