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27B7-24F1-4573-85AF-9F3869FBA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0016-A426-464C-BA43-B9D2DB8C3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143B-BBA0-41B5-AE50-45EDA45C6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B74E-006E-4072-8127-683610245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1B781-F12B-4585-BBBC-D5C339CE0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0B7DB-2A8D-446D-BF8F-FA18DD039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10E1E-0045-493D-A36D-8BE02781A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F7472-D65F-42D3-8D51-CD1222967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6804D-6C97-46D5-B59C-0024017AC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3DEDC-E9B3-48F9-AB3C-A8D648105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90157-FAC8-48FF-A0C4-3923CA7C1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13D9-6DB6-421D-88D8-2420822B3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70B19-C921-4971-89F5-66BE258C3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01A38-72A9-4BAA-BFA6-A7A900716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E0905-E7C7-46B7-9BA1-E6FE89C30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03D8D-B5D2-41B8-BFB3-C70A14E65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EFFF0-964B-426E-9C5F-71B93BE74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821B-E14E-4F21-A52E-0A7E2CEEF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7705-EA75-4698-9EF1-9C9A40890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DBC1-A343-4044-805C-57D28171C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0985-19F8-4900-874E-1A003F4F0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2E63-9F13-4B59-AC2C-82627ED98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A353-0DE6-40AD-8992-D95EE9E17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0946-F221-4934-9EFD-E47A35141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50A21-EFC1-49AA-BC15-DC0D91AFC09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D0708-4EDA-46BE-8824-9C61CD75915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ffff"/>
                </a:solidFill>
                <a:latin typeface="Times New Roman"/>
              </a:rPr>
              <a:t>Трапеция</a:t>
            </a:r>
            <a:endParaRPr b="0" lang="en-US" sz="5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10800000">
            <a:off x="3200040" y="4114440"/>
            <a:ext cx="2971800" cy="1523880"/>
          </a:xfrm>
          <a:custGeom>
            <a:avLst/>
            <a:gdLst>
              <a:gd name="textAreaLeft" fmla="*/ 653400 w 2971800"/>
              <a:gd name="textAreaRight" fmla="*/ 2318400 w 2971800"/>
              <a:gd name="textAreaTop" fmla="*/ 335160 h 1523880"/>
              <a:gd name="textAreaBottom" fmla="*/ 118872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ff"/>
                </a:solidFill>
                <a:latin typeface="Times New Roman"/>
              </a:rPr>
              <a:t>Немного из истории…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66ff"/>
                </a:solidFill>
                <a:uFillTx/>
                <a:latin typeface="Times New Roman"/>
              </a:rPr>
              <a:t>«Трапеция»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- слово греческого происхождения, означавшее в древности «столик» (по гречески «трапедзион» означает столик, обеденный стол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66ff"/>
                </a:solidFill>
                <a:latin typeface="Times New Roman"/>
              </a:rPr>
              <a:t>«Трапеция»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в нашем смысле встречается впервые у древнегреческого математика Посейдона . В средние века трапецией называли, по Евклиду , любой четырёхугольник (не параллелограмм); лишь в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XVIII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в. это слово приобретает современный смысл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ff"/>
                </a:solidFill>
                <a:latin typeface="Times New Roman"/>
              </a:rPr>
              <a:t>              </a:t>
            </a: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Определение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 u="sng">
                <a:solidFill>
                  <a:srgbClr val="00ffff"/>
                </a:solidFill>
                <a:uFillTx/>
                <a:latin typeface="Times New Roman"/>
              </a:rPr>
              <a:t>Трапецией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называется четырёхугольник , у которого две стороны параллельны, а две другие стороны не параллельн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48120" y="4724280"/>
            <a:ext cx="2743200" cy="1752840"/>
          </a:xfrm>
          <a:custGeom>
            <a:avLst/>
            <a:gdLst>
              <a:gd name="textAreaLeft" fmla="*/ 603000 w 2743200"/>
              <a:gd name="textAreaRight" fmla="*/ 2140200 w 2743200"/>
              <a:gd name="textAreaTop" fmla="*/ 385200 h 1752840"/>
              <a:gd name="textAreaBottom" fmla="*/ 136764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0800000">
            <a:off x="4876920" y="5486040"/>
            <a:ext cx="2133360" cy="609480"/>
          </a:xfrm>
          <a:custGeom>
            <a:avLst/>
            <a:gdLst>
              <a:gd name="textAreaLeft" fmla="*/ 469080 w 2133360"/>
              <a:gd name="textAreaRight" fmla="*/ 1664280 w 2133360"/>
              <a:gd name="textAreaTop" fmla="*/ 133920 h 609480"/>
              <a:gd name="textAreaBottom" fmla="*/ 475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0800000">
            <a:off x="2285640" y="5029200"/>
            <a:ext cx="1219320" cy="1371600"/>
          </a:xfrm>
          <a:custGeom>
            <a:avLst/>
            <a:gdLst>
              <a:gd name="textAreaLeft" fmla="*/ 268200 w 1219320"/>
              <a:gd name="textAreaRight" fmla="*/ 951120 w 1219320"/>
              <a:gd name="textAreaTop" fmla="*/ 301680 h 1371600"/>
              <a:gd name="textAreaBottom" fmla="*/ 10699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6840" y="1066680"/>
            <a:ext cx="401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араллельные стороны трапеции называются её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ru-RU" sz="2800" spc="-1" strike="noStrike" u="sng">
                <a:solidFill>
                  <a:srgbClr val="ffff00"/>
                </a:solidFill>
                <a:uFillTx/>
                <a:latin typeface="Times New Roman"/>
              </a:rPr>
              <a:t>основаниями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 а две другие стороны –</a:t>
            </a:r>
            <a:r>
              <a:rPr b="0" lang="ru-RU" sz="2800" spc="-1" strike="noStrike" u="sng">
                <a:solidFill>
                  <a:srgbClr val="ffff00"/>
                </a:solidFill>
                <a:uFillTx/>
                <a:latin typeface="Times New Roman"/>
              </a:rPr>
              <a:t>боковыми сторонами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10800000">
            <a:off x="5028840" y="2361600"/>
            <a:ext cx="3352680" cy="1981080"/>
          </a:xfrm>
          <a:custGeom>
            <a:avLst/>
            <a:gdLst>
              <a:gd name="textAreaLeft" fmla="*/ 737280 w 3352680"/>
              <a:gd name="textAreaRight" fmla="*/ 2615400 w 3352680"/>
              <a:gd name="textAreaTop" fmla="*/ 435600 h 1981080"/>
              <a:gd name="textAreaBottom" fmla="*/ 154548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791320" y="1219320"/>
            <a:ext cx="1752480" cy="685800"/>
          </a:xfrm>
          <a:prstGeom prst="wedgeRectCallout">
            <a:avLst>
              <a:gd name="adj1" fmla="val 9509"/>
              <a:gd name="adj2" fmla="val 121064"/>
            </a:avLst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10711800">
            <a:off x="5351040" y="4593960"/>
            <a:ext cx="1828800" cy="838080"/>
          </a:xfrm>
          <a:prstGeom prst="wedgeRoundRectCallout">
            <a:avLst>
              <a:gd name="adj1" fmla="val -48342"/>
              <a:gd name="adj2" fmla="val 87236"/>
              <a:gd name="adj3" fmla="val 16667"/>
            </a:avLst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848720" y="1828800"/>
            <a:ext cx="1295280" cy="1295280"/>
          </a:xfrm>
          <a:prstGeom prst="wedgeEllipseCallout">
            <a:avLst>
              <a:gd name="adj1" fmla="val -34560"/>
              <a:gd name="adj2" fmla="val 81861"/>
            </a:avLst>
          </a:prstGeom>
          <a:solidFill>
            <a:srgbClr val="ff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412600" y="4648320"/>
            <a:ext cx="159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нова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54040" y="1279440"/>
            <a:ext cx="159192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нова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848720" y="2057400"/>
            <a:ext cx="167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Бокова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Сторона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ff"/>
                </a:solidFill>
                <a:latin typeface="Times New Roman"/>
              </a:rPr>
              <a:t>Виды трапеции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7000"/>
          </a:bodyPr>
          <a:p>
            <a:pPr marL="160920" indent="-16092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Трапеция называется </a:t>
            </a: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равнобедренной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, если её боковые стороны равн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60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60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60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60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60920" indent="-16092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В равнобедренной трапеции углы при основании равны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60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10789800">
            <a:off x="3200400" y="2742840"/>
            <a:ext cx="2440080" cy="1676520"/>
          </a:xfrm>
          <a:custGeom>
            <a:avLst/>
            <a:gdLst>
              <a:gd name="textAreaLeft" fmla="*/ 536400 w 2440080"/>
              <a:gd name="textAreaRight" fmla="*/ 1903680 w 2440080"/>
              <a:gd name="textAreaTop" fmla="*/ 368640 h 1676520"/>
              <a:gd name="textAreaBottom" fmla="*/ 1307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3505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105520" y="3505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972520" y="4114800"/>
            <a:ext cx="608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5257800" y="4114800"/>
            <a:ext cx="60912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Трапеция , один из углов которой прямой , называется</a:t>
            </a: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i="1" lang="ru-RU" sz="3200" spc="-1" strike="noStrike" u="sng">
                <a:solidFill>
                  <a:srgbClr val="66ff33"/>
                </a:solidFill>
                <a:uFillTx/>
                <a:latin typeface="Times New Roman"/>
              </a:rPr>
              <a:t>прямоугольной</a:t>
            </a:r>
            <a:r>
              <a:rPr b="1" lang="ru-RU" sz="3200" spc="-1" strike="noStrike" u="sng">
                <a:solidFill>
                  <a:srgbClr val="66ff33"/>
                </a:solidFill>
                <a:uFillTx/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562720" y="236232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562720" y="23623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10280" y="2362320"/>
            <a:ext cx="68580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562720" y="37339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543800" y="37339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ffff"/>
                </a:solidFill>
                <a:latin typeface="Times New Roman"/>
              </a:rPr>
              <a:t>Конец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вторы слайда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льмухаметов 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олотцев К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BS00580_" descr=""/>
          <p:cNvPicPr/>
          <p:nvPr/>
        </p:nvPicPr>
        <p:blipFill>
          <a:blip r:embed="rId1"/>
          <a:stretch/>
        </p:blipFill>
        <p:spPr>
          <a:xfrm>
            <a:off x="5105520" y="2209680"/>
            <a:ext cx="3706560" cy="35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1T06:25:12Z</dcterms:created>
  <dc:creator>User</dc:creator>
  <dc:description/>
  <dc:language>en-US</dc:language>
  <cp:lastModifiedBy>User</cp:lastModifiedBy>
  <dcterms:modified xsi:type="dcterms:W3CDTF">2003-12-06T06:52:54Z</dcterms:modified>
  <cp:revision>11</cp:revision>
  <dc:subject/>
  <dc:title>Трапеция</dc:title>
</cp:coreProperties>
</file>