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0FC-FC42-476A-9CAC-6499BA67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8A6-93B8-4456-994D-E510C97F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334-D479-415A-8F58-453D8040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7735-6596-4F60-82E4-63891B95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A46D-B49A-4DE8-A1E8-EB6550BF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891B-4442-47D9-BFC2-4A2592D2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4697-E27F-4414-B4FA-3F7C38E7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EFD4-A900-48A3-9B36-7E66CD08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4B04-3AFA-4404-B8A1-661E1CA8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75E7-8A94-4875-BE2C-A6E70486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2B34-9CAE-4CAC-B3BC-46C003E3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4C3-154A-4288-8BDA-A2BCC870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3E1F-BCF4-41AB-BA99-98B1EDA3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27AF-8AFE-4D6F-93FD-F330C7DA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2A5B-51FA-4E8D-A5C9-1C9A132A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3C72-82A9-4ACF-BD6F-5ABD4A86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8A88-2087-466E-95B6-D50AF67C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8C8-DF92-4FE8-9321-96D581F9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9D0-4D1A-4428-BB46-EE8C42CE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2681-F76A-4464-932C-EAC98BD2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967-F384-4F32-9156-36889AE2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B59-401F-4957-8F99-BF6CA9D7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74B-A4FF-49E9-BA52-CC98E8DD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FF4-29DF-4A69-BDD6-8ADD4601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F4EC-7C39-476B-A45C-6257192A31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90C5-249B-4584-A53C-CA5AE18154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Times New Roman"/>
              </a:rPr>
              <a:t>Трапеция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3200040" y="4114440"/>
            <a:ext cx="2971800" cy="1523880"/>
          </a:xfrm>
          <a:custGeom>
            <a:avLst/>
            <a:gdLst>
              <a:gd name="textAreaLeft" fmla="*/ 653400 w 2971800"/>
              <a:gd name="textAreaRight" fmla="*/ 2318400 w 2971800"/>
              <a:gd name="textAreaTop" fmla="*/ 335160 h 1523880"/>
              <a:gd name="textAreaBottom" fmla="*/ 11887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Немного из истории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ff"/>
                </a:solidFill>
                <a:uFillTx/>
                <a:latin typeface="Times New Roman"/>
              </a:rPr>
              <a:t>«Трапеция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слово греческого происхождения, означавшее в древности «столик» (по гречески «трапедзион» означает столик, обеденный стол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66ff"/>
                </a:solidFill>
                <a:latin typeface="Times New Roman"/>
              </a:rPr>
              <a:t>«Трапеция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нашем смысле встречается впервые у древнегреческого математика Посейдона . В средние века трапецией называли, по Евклиду , любой четырёхугольник (не параллелограмм); лишь в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. это слово приобретает современный смысл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             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00ffff"/>
                </a:solidFill>
                <a:uFillTx/>
                <a:latin typeface="Times New Roman"/>
              </a:rPr>
              <a:t>Трапецие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зывается четырёхугольник , у которого две стороны параллельны, а две другие стороны не параллель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4724280"/>
            <a:ext cx="2743200" cy="1752840"/>
          </a:xfrm>
          <a:custGeom>
            <a:avLst/>
            <a:gdLst>
              <a:gd name="textAreaLeft" fmla="*/ 603000 w 2743200"/>
              <a:gd name="textAreaRight" fmla="*/ 2140200 w 274320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0800000">
            <a:off x="4876920" y="5486040"/>
            <a:ext cx="2133360" cy="609480"/>
          </a:xfrm>
          <a:custGeom>
            <a:avLst/>
            <a:gdLst>
              <a:gd name="textAreaLeft" fmla="*/ 469080 w 2133360"/>
              <a:gd name="textAreaRight" fmla="*/ 1664280 w 2133360"/>
              <a:gd name="textAreaTop" fmla="*/ 133920 h 609480"/>
              <a:gd name="textAreaBottom" fmla="*/ 475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2285640" y="5029200"/>
            <a:ext cx="1219320" cy="137160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401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аллельные стороны трапеции называются её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основаниям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а две другие стороны –</a:t>
            </a:r>
            <a:r>
              <a:rPr b="0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боковыми сторонами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5028840" y="2361600"/>
            <a:ext cx="3352680" cy="1981080"/>
          </a:xfrm>
          <a:custGeom>
            <a:avLst/>
            <a:gdLst>
              <a:gd name="textAreaLeft" fmla="*/ 737280 w 3352680"/>
              <a:gd name="textAreaRight" fmla="*/ 2615400 w 3352680"/>
              <a:gd name="textAreaTop" fmla="*/ 435600 h 1981080"/>
              <a:gd name="textAreaBottom" fmla="*/ 154548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1219320"/>
            <a:ext cx="1752480" cy="685800"/>
          </a:xfrm>
          <a:prstGeom prst="wedgeRectCallout">
            <a:avLst>
              <a:gd name="adj1" fmla="val 9509"/>
              <a:gd name="adj2" fmla="val 121064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0711800">
            <a:off x="5351040" y="4593960"/>
            <a:ext cx="1828800" cy="838080"/>
          </a:xfrm>
          <a:prstGeom prst="wedgeRoundRectCallout">
            <a:avLst>
              <a:gd name="adj1" fmla="val -48342"/>
              <a:gd name="adj2" fmla="val 87236"/>
              <a:gd name="adj3" fmla="val 16667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828800"/>
            <a:ext cx="1295280" cy="1295280"/>
          </a:xfrm>
          <a:prstGeom prst="wedgeEllipseCallout">
            <a:avLst>
              <a:gd name="adj1" fmla="val -34560"/>
              <a:gd name="adj2" fmla="val 81861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2600" y="464832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54040" y="1279440"/>
            <a:ext cx="1591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205740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Боков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торона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imes New Roman"/>
              </a:rPr>
              <a:t>Виды трапеции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рапеция называется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равнобедренной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, если её боковые стороны рав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равнобедренной трапеции углы при основании равны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0789800">
            <a:off x="3200400" y="2742840"/>
            <a:ext cx="2440080" cy="1676520"/>
          </a:xfrm>
          <a:custGeom>
            <a:avLst/>
            <a:gdLst>
              <a:gd name="textAreaLeft" fmla="*/ 536400 w 2440080"/>
              <a:gd name="textAreaRight" fmla="*/ 1903680 w 2440080"/>
              <a:gd name="textAreaTop" fmla="*/ 368640 h 1676520"/>
              <a:gd name="textAreaBottom" fmla="*/ 1307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2520" y="4114800"/>
            <a:ext cx="608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57800" y="4114800"/>
            <a:ext cx="6091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Трапеция , один из углов которой прямой , называется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66ff33"/>
                </a:solidFill>
                <a:uFillTx/>
                <a:latin typeface="Times New Roman"/>
              </a:rPr>
              <a:t>прямоугольной</a:t>
            </a:r>
            <a:r>
              <a:rPr b="1" lang="ru-RU" sz="3200" spc="-1" strike="noStrike" u="sng">
                <a:solidFill>
                  <a:srgbClr val="66ff33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3623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362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36232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3733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ffff"/>
                </a:solidFill>
                <a:latin typeface="Times New Roman"/>
              </a:rPr>
              <a:t>Конец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ры слайд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льмухаметов 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олотцев 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BS00580_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70656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06:25:12Z</dcterms:created>
  <dc:creator>User</dc:creator>
  <dc:description/>
  <dc:language>en-US</dc:language>
  <cp:lastModifiedBy>User</cp:lastModifiedBy>
  <dcterms:modified xsi:type="dcterms:W3CDTF">2003-12-06T06:52:54Z</dcterms:modified>
  <cp:revision>11</cp:revision>
  <dc:subject/>
  <dc:title>Трапеция</dc:title>
</cp:coreProperties>
</file>