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ABB-EFC1-4A5C-A847-B3D2E56E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CE6-B0D5-4AD9-AC3E-5990B036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A20-DA5C-41B4-80F8-DE7BE127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5BC-0D76-4A01-8B58-0D686B2A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B0FB-9F41-4C29-94E6-8EB079A1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076C-57A3-4DC4-9960-189CE3DF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E172-E4B8-4D00-B71F-82941BD4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C342-752E-4F1F-A524-5F33A89C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E4DF-A53D-4D75-B7EE-A25AD0D5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2FCD-CD66-4B2C-A557-E28D204B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E3E5-2F89-4F01-9580-CAE905B1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F5C-3523-4D7E-AE6D-2FEFEA70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D2A6-9725-46ED-80F0-422EA1D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F63F-B656-4828-9DC6-54D76139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986-582F-457F-8137-5ED592E3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1F45-2FA6-490F-9FED-8BC69A01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0A8-23C4-4123-BE8E-737E5CEF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1B7-71A3-4449-AAE2-40C5105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BF2-6A61-45E0-8363-A6D9F74E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8EC-5A4E-48C7-AB18-7EDD5C7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24A-A3A6-4F78-9CBC-AF7054B2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1A6-BE81-4558-97F0-5DE9CAC9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CE1-5A36-463D-A943-7FBA2A0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D89-4A96-4978-901C-C8129420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40F6-9472-40DC-B5F0-38538FCD8F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DF2-677F-496B-9802-C138309B64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43280" y="3573360"/>
            <a:ext cx="4500720" cy="32846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НО-ИССЛЕДОВАТЕЛЬСКАЯ РАБОТА (рефер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ЛИТЕРАТУРНОМУ ЧТЕНИЮ (развитию речи, русскому языку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Ы –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рабанова Светлан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ница 3 «А» класса, ГОУ СОШ №1981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рабанов Никола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ник 10 «А»,  ФМШ №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Барабанова Светлана Никола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-2009 учебн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нопки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0" y="-243360"/>
            <a:ext cx="4572000" cy="321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Перво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Второ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Треть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Четвёртое значение слова «кнопка»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AutoShape 9">
            <a:hlinkClick r:id="" action="ppaction://hlinkshowjump?jump=endshow"/>
          </p:cNvPr>
          <p:cNvSpPr/>
          <p:nvPr/>
        </p:nvSpPr>
        <p:spPr>
          <a:xfrm>
            <a:off x="349236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539640" y="2133720"/>
            <a:ext cx="374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Так ли безобидна кнопка?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4145400"/>
            <a:ext cx="4859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Метафизика «простых вещей» или,                            как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2"/>
          <p:cNvSpPr txBox="1"/>
          <p:nvPr/>
        </p:nvSpPr>
        <p:spPr>
          <a:xfrm>
            <a:off x="4680000" y="189000"/>
            <a:ext cx="446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авторов и научного руководител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7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2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шки торчк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вост крендель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1440000" cy="2158920"/>
          </a:xfrm>
          <a:prstGeom prst="rect">
            <a:avLst/>
          </a:prstGeom>
          <a:ln w="0">
            <a:noFill/>
          </a:ln>
        </p:spPr>
      </p:pic>
      <p:sp>
        <p:nvSpPr>
          <p:cNvPr id="172" name="WordArt 9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сон на неё на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опеллер зажужж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288144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500"/>
                            </p:stCondLst>
                            <p:childTnLst>
                              <p:par>
                                <p:cTn id="6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0"/>
                            </p:stCondLst>
                            <p:childTnLst>
                              <p:par>
                                <p:cTn id="6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адим её Ми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е сползли штан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5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00"/>
                            </p:stCondLst>
                            <p:childTnLst>
                              <p:par>
                                <p:cTn id="7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её вз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сем нам по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3313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7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к пальто её приш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отом гулять п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3"/>
          <a:stretch/>
        </p:blipFill>
        <p:spPr>
          <a:xfrm>
            <a:off x="7451640" y="1989000"/>
            <a:ext cx="720720" cy="64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4"/>
          <a:stretch/>
        </p:blipFill>
        <p:spPr>
          <a:xfrm>
            <a:off x="2411280" y="4149720"/>
            <a:ext cx="28814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0"/>
                            </p:stCondLst>
                            <p:childTnLst>
                              <p:par>
                                <p:cTn id="8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7000"/>
                            </p:stCondLst>
                            <p:childTnLst>
                              <p:par>
                                <p:cTn id="8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7500"/>
                            </p:stCondLst>
                            <p:childTnLst>
                              <p:par>
                                <p:cTn id="8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500"/>
                            </p:stCondLst>
                            <p:childTnLst>
                              <p:par>
                                <p:cTn id="8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зка о КНОП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ял на столе кухонный Комбайн. Всё было хорошо, пока не заспорили Кофемолка, Соковыжималка и Миксер. Они начали выяснять, кто из них самый нужный в хозяй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Без меня хозяйка не сможет по утрам пить кофе. А она его так любит! – похвасталась Кофемо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 без меня дети останутся без сока,- хлопнула крышкой Соковыжима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 как без меня сделают лёгкий, воздушный крем для торта? – спросил Мик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спор прервал старый Нож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се вы по-своему правы. Все ВЫ нужные и важные. Но всё-таки главной в вашем Комбайне является Кноп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ак это Кнопка? Она совсем ничего не делает! – закричали в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на вас всех приводит в движение. И, если Кнопка сломается, вы будете бесполезны, - спокойно ответил Но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 Ученики 1 «б» класса ГОУ СОШ №198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8"/>
          <p:cNvSpPr txBox="1"/>
          <p:nvPr/>
        </p:nvSpPr>
        <p:spPr>
          <a:xfrm>
            <a:off x="2411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 теперь - время сказк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0"/>
                            </p:stCondLst>
                            <p:childTnLst>
                              <p:par>
                                <p:cTn id="8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9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7000"/>
                            </p:stCondLst>
                            <p:childTnLst>
                              <p:par>
                                <p:cTn id="8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7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8000"/>
                            </p:stCondLst>
                            <p:childTnLst>
                              <p:par>
                                <p:cTn id="8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1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9000"/>
                            </p:stCondLst>
                            <p:childTnLst>
                              <p:par>
                                <p:cTn id="8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5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9" dur="1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9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6836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ила-была на свете кнопочка звонка. Простая, такая, черненькая в белой юбочке. Родилась она веселой и жизнерадостной. Собирал её подслеповатый дядечка на заводе, заботливо приговаривая: «Будешь ты самая красивая девочка из всех кнопочек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 не все люди на заводе любили свою работу, одна толстая тетка периодически подходила к столу мастера и грязной картонкой смахивала новые кнопочки в большой полиэтиленовый мешок. Так кнопочка звонка оказалась, среди себе подобных, в большом мире кнопок. Утром приехала тяжелая машина и увезла мешки с кнопками на рынок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пав на рынок, кнопочка не сразу поняла, что её подружки потихоньку исчезают из пакета, это называлось продажа. Кнопочке очень нравилось среди подружек и она никак не хотела продаваться. Всякий раз, когда мозолистая рука продавца погружалась в пакет, кнопка старалась спрятаться, как можно подальше в угол, и затеряться среди подруг, чтобы её не продали. Шли дни, маленькой кнопке уже стало комфортно в пакете и она стала мечтать о том, что её уже никогда не продадут, но случилось ей влюбиться. Как-то утром большая машина привезла на рынок новый пакет выключателей. Маленькой кнопочке звонка понравился один белозубый красавец-выключатель, они лежали всегда рядом в пакетах и не сводили глаз друг с друга, глядя сквозь стенк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ступала весна, в воздухе запахло мимозой и тюльпанами, птички пили талую воду и все казалось таким легким и беззаботным, что кнопочка не заметила, как оказалась в руке продавца. Её грубо завернули в шершавую бумагу и чужая рука положила её в карман. Кнопка пыталась выпрыгнуть из кармана, но новый хозяин застегнул на кармане «молнию» и тогда она заплакала. Ей было жаль расставаться с выключателем, столиком, птичками, весенним небом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й хозяин быстро, ловкими движениями прикрутил к кнопочке медные провода и повесил её около двери. «За что меня связали?» – подумала кнопка, -«почему на меня нельзя просто любоваться?» Прошло три ужасных дня, все кому не лень тыкали в кнопочку пальцами и ей было ужасно стыдно и больно. К вечеру ей стало невыносимо грустно, она притянула к груди два провода, заискрилась и расплавилась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к закончилась короткая жизнь обыкновенной кнопки звонка. Да, какая бы маленькая не была кнопка, она хочет жить большой, полнокровной жизнью, любить и не быть закованной. И уж точно, ни одна кнопка не хочет, чтобы в неё по всякому поводу тыкали пальцам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2843280" y="115920"/>
            <a:ext cx="6049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а про крохотную кнопку дверного звонка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2268360" y="630864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3916"/>
                </a:moveTo>
                <a:lnTo>
                  <a:pt x="17806" y="10922"/>
                </a:lnTo>
                <a:lnTo>
                  <a:pt x="3794" y="1792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>
            <a:hlinkClick r:id="" action="ppaction://hlinkshowjump?jump=previousslide"/>
          </p:cNvPr>
          <p:cNvSpPr/>
          <p:nvPr/>
        </p:nvSpPr>
        <p:spPr>
          <a:xfrm>
            <a:off x="2268360" y="558792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10922"/>
                </a:moveTo>
                <a:lnTo>
                  <a:pt x="17806" y="3916"/>
                </a:lnTo>
                <a:lnTo>
                  <a:pt x="17806" y="1792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>
            <a:hlinkClick r:id="" action="ppaction://hlinkshowjump?jump=firstslide"/>
          </p:cNvPr>
          <p:cNvSpPr/>
          <p:nvPr/>
        </p:nvSpPr>
        <p:spPr>
          <a:xfrm>
            <a:off x="2268360" y="5948280"/>
            <a:ext cx="287640" cy="2890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91"/>
                </a:moveTo>
                <a:lnTo>
                  <a:pt x="13376" y="6502"/>
                </a:lnTo>
                <a:lnTo>
                  <a:pt x="13376" y="4761"/>
                </a:lnTo>
                <a:lnTo>
                  <a:pt x="15152" y="4761"/>
                </a:lnTo>
                <a:lnTo>
                  <a:pt x="15152" y="8278"/>
                </a:lnTo>
                <a:lnTo>
                  <a:pt x="17763" y="10854"/>
                </a:lnTo>
                <a:lnTo>
                  <a:pt x="16109" y="10854"/>
                </a:lnTo>
                <a:lnTo>
                  <a:pt x="16109" y="18043"/>
                </a:lnTo>
                <a:lnTo>
                  <a:pt x="5491" y="18043"/>
                </a:lnTo>
                <a:lnTo>
                  <a:pt x="5491" y="10854"/>
                </a:lnTo>
                <a:lnTo>
                  <a:pt x="3837" y="10854"/>
                </a:lnTo>
                <a:close/>
              </a:path>
              <a:path fill="darkenLess" w="21600" h="21708">
                <a:moveTo>
                  <a:pt x="13376" y="6502"/>
                </a:moveTo>
                <a:lnTo>
                  <a:pt x="13376" y="4761"/>
                </a:lnTo>
                <a:lnTo>
                  <a:pt x="15152" y="4761"/>
                </a:lnTo>
                <a:lnTo>
                  <a:pt x="15152" y="8278"/>
                </a:lnTo>
                <a:close/>
              </a:path>
              <a:path fill="darkenLess" w="21600" h="21708">
                <a:moveTo>
                  <a:pt x="9877" y="14353"/>
                </a:moveTo>
                <a:lnTo>
                  <a:pt x="11723" y="14353"/>
                </a:lnTo>
                <a:lnTo>
                  <a:pt x="11723" y="18043"/>
                </a:lnTo>
                <a:lnTo>
                  <a:pt x="16109" y="18043"/>
                </a:lnTo>
                <a:lnTo>
                  <a:pt x="16109" y="10854"/>
                </a:lnTo>
                <a:lnTo>
                  <a:pt x="5491" y="10854"/>
                </a:lnTo>
                <a:lnTo>
                  <a:pt x="5491" y="18043"/>
                </a:lnTo>
                <a:lnTo>
                  <a:pt x="9877" y="18043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" action="ppaction://hlinkshowjump?jump=endshow"/>
          </p:cNvPr>
          <p:cNvSpPr/>
          <p:nvPr/>
        </p:nvSpPr>
        <p:spPr>
          <a:xfrm>
            <a:off x="2268360" y="522756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7615"/>
                </a:moveTo>
                <a:lnTo>
                  <a:pt x="7301" y="7615"/>
                </a:lnTo>
                <a:lnTo>
                  <a:pt x="7301" y="12950"/>
                </a:lnTo>
                <a:cubicBezTo>
                  <a:pt x="7301" y="13873"/>
                  <a:pt x="8102" y="14604"/>
                  <a:pt x="9138" y="14604"/>
                </a:cubicBezTo>
                <a:lnTo>
                  <a:pt x="10800" y="14604"/>
                </a:lnTo>
                <a:cubicBezTo>
                  <a:pt x="11836" y="14604"/>
                  <a:pt x="12636" y="13873"/>
                  <a:pt x="12636" y="12950"/>
                </a:cubicBezTo>
                <a:lnTo>
                  <a:pt x="12636" y="7615"/>
                </a:lnTo>
                <a:lnTo>
                  <a:pt x="10800" y="7615"/>
                </a:lnTo>
                <a:lnTo>
                  <a:pt x="14308" y="4107"/>
                </a:lnTo>
                <a:lnTo>
                  <a:pt x="17981" y="7615"/>
                </a:lnTo>
                <a:lnTo>
                  <a:pt x="16144" y="7615"/>
                </a:lnTo>
                <a:lnTo>
                  <a:pt x="16144" y="12950"/>
                </a:lnTo>
                <a:cubicBezTo>
                  <a:pt x="16144" y="15718"/>
                  <a:pt x="13568" y="18277"/>
                  <a:pt x="10800" y="18277"/>
                </a:cubicBezTo>
                <a:lnTo>
                  <a:pt x="9138" y="18277"/>
                </a:lnTo>
                <a:cubicBezTo>
                  <a:pt x="6370" y="18277"/>
                  <a:pt x="3794" y="15718"/>
                  <a:pt x="3794" y="12950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411280" y="1557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36c03"/>
                </a:solidFill>
                <a:latin typeface="Arial"/>
              </a:rPr>
              <a:t>Можно констатировать, что ни одному предмету не уделяется столь малое внимание и ни от одного предмета современный мир не зависел бы настолько, насколько он зависит от кнопки. Кнопка изменила мир человека, сделала его возможности тысячекратно превышающими его физическую природу. В результате мир, окружающий человека, изменился в сторону техн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700360" y="189000"/>
            <a:ext cx="59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так, мы прошли с вами большой путь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слова к тексту,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текста к пониманию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его мира.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000"/>
                            </p:stCondLst>
                            <p:childTnLst>
                              <p:par>
                                <p:cTn id="9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500"/>
                            </p:stCondLst>
                            <p:childTnLst>
                              <p:par>
                                <p:cTn id="9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  http://mega.km.ru/ojigov/encyclop.asp?TopicNumber= 12535&amp;search, а также http://www.efriova.info/search/, http://dic.acadiic.ru/dic.nsf/ushakov/8356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иницын «Путь к сло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serg.com/buttons-2007-08-2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лов, В. 10 секретных кнопок // http://10buttons.powerbooks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ник Самарского Гуманитарного Университета. ( философия и фил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3059280" y="549360"/>
            <a:ext cx="446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итература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AutoShape 7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>
            <a:hlinkClick r:id="" action="ppaction://hlinkshowjump?jump=firstslide"/>
          </p:cNvPr>
          <p:cNvSpPr/>
          <p:nvPr/>
        </p:nvSpPr>
        <p:spPr>
          <a:xfrm>
            <a:off x="824400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>
            <a:hlinkClick r:id="" action="ppaction://hlinkshowjump?jump=endshow"/>
          </p:cNvPr>
          <p:cNvSpPr/>
          <p:nvPr/>
        </p:nvSpPr>
        <p:spPr>
          <a:xfrm>
            <a:off x="651672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9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8000"/>
                            </p:stCondLst>
                            <p:childTnLst>
                              <p:par>
                                <p:cTn id="9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« Так ли безобидна кнопка?</a:t>
            </a:r>
            <a:br>
              <a:rPr sz="1600"/>
            </a:b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- Кстати, о какой кнопке идёт речь?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7920" y="1844280"/>
            <a:ext cx="3124440" cy="475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"/>
              </a:rPr>
              <a:t>« </a:t>
            </a:r>
            <a:r>
              <a:rPr b="0" i="1" lang="ru-RU" sz="1400" spc="-1" strike="noStrike">
                <a:solidFill>
                  <a:srgbClr val="006600"/>
                </a:solidFill>
                <a:latin typeface="comic"/>
              </a:rPr>
              <a:t>Комплексное развитие связной речи у учащихся младших классов подразумевает постепенность включения детей в творческую деятельность по развитию реч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comic"/>
              </a:rPr>
              <a:t>    </a:t>
            </a:r>
            <a:r>
              <a:rPr b="0" lang="ru-RU" sz="1400" spc="-1" strike="noStrike">
                <a:solidFill>
                  <a:srgbClr val="006600"/>
                </a:solidFill>
                <a:latin typeface="comic"/>
              </a:rPr>
              <a:t>о</a:t>
            </a:r>
            <a:r>
              <a:rPr b="0" i="1" lang="ru-RU" sz="1400" spc="-1" strike="noStrike" u="sng">
                <a:solidFill>
                  <a:srgbClr val="006600"/>
                </a:solidFill>
                <a:uFillTx/>
                <a:latin typeface="comic"/>
              </a:rPr>
              <a:t>т работы над значениями отдельных слов и расширения словаря ребенка до написания собственных литературных произведений (сочинения- сказки, рифмование слов).  Работа со значением слова позволяет расширить использование лексики учащимися младших классов и постепенно подводит ребят к работе над такими сложными формами как изложение и сочинение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5000" y="1844280"/>
            <a:ext cx="3124080" cy="381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Учить умению общ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Развивать у младших школьников интерес к познанию родн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Развивать чувство слова, речевое творчество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3348000" y="206064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6300720" y="2060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2484360" y="1268280"/>
            <a:ext cx="640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авторов и научного руководител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AutoShape 9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860640" y="476280"/>
            <a:ext cx="37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Чтобы ответить на этот вопро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решить вопрос безобидности кноп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надо понять смысл слова «кнопка»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55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905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375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645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95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45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795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Первое значение слова «кнопка»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c"/>
                </a:solidFill>
                <a:latin typeface="Arial"/>
              </a:rPr>
              <a:t>Канцелярская кнопка.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«Тонкий короткий гвоздик с широкой плоской шляпкой для закрепления бумаги, ткан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firstslide"/>
          </p:cNvPr>
          <p:cNvSpPr/>
          <p:nvPr/>
        </p:nvSpPr>
        <p:spPr>
          <a:xfrm>
            <a:off x="680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</p:cNvPr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>
            <a:hlinkClick r:id="" action="ppaction://hlinkshowjump?jump=endshow"/>
          </p:cNvPr>
          <p:cNvSpPr/>
          <p:nvPr/>
        </p:nvSpPr>
        <p:spPr>
          <a:xfrm>
            <a:off x="5580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>
            <a:off x="2987640" y="4581360"/>
            <a:ext cx="230508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Второе значение слова «кнопка»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«Кнопка-застёжка» на одежде, обуви, состоящая из двух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firstslide"/>
          </p:cNvPr>
          <p:cNvSpPr/>
          <p:nvPr/>
        </p:nvSpPr>
        <p:spPr>
          <a:xfrm>
            <a:off x="6659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previousslide"/>
          </p:cNvPr>
          <p:cNvSpPr/>
          <p:nvPr/>
        </p:nvSpPr>
        <p:spPr>
          <a:xfrm>
            <a:off x="5364000" y="5589720"/>
            <a:ext cx="1151280" cy="1042920"/>
          </a:xfrm>
          <a:custGeom>
            <a:avLst/>
            <a:gdLst>
              <a:gd name="textAreaLeft" fmla="*/ 67320 w 1151280"/>
              <a:gd name="textAreaRight" fmla="*/ 1083960 w 1151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3843" h="21600">
                <a:moveTo>
                  <a:pt x="0" y="0"/>
                </a:moveTo>
                <a:lnTo>
                  <a:pt x="23843" y="0"/>
                </a:lnTo>
                <a:lnTo>
                  <a:pt x="23843" y="21600"/>
                </a:lnTo>
                <a:lnTo>
                  <a:pt x="0" y="21600"/>
                </a:lnTo>
                <a:close/>
              </a:path>
              <a:path fill="lightenLess" w="23843" h="21600">
                <a:moveTo>
                  <a:pt x="0" y="0"/>
                </a:moveTo>
                <a:lnTo>
                  <a:pt x="23843" y="0"/>
                </a:lnTo>
                <a:lnTo>
                  <a:pt x="22443" y="1400"/>
                </a:lnTo>
                <a:lnTo>
                  <a:pt x="1400" y="1400"/>
                </a:lnTo>
                <a:close/>
              </a:path>
              <a:path fill="darken" w="23843" h="21600">
                <a:moveTo>
                  <a:pt x="23843" y="0"/>
                </a:moveTo>
                <a:lnTo>
                  <a:pt x="23843" y="21600"/>
                </a:lnTo>
                <a:lnTo>
                  <a:pt x="22443" y="20200"/>
                </a:lnTo>
                <a:lnTo>
                  <a:pt x="22443" y="1400"/>
                </a:lnTo>
                <a:close/>
              </a:path>
              <a:path fill="darkenLess" w="23843" h="21600">
                <a:moveTo>
                  <a:pt x="23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3" y="20200"/>
                </a:lnTo>
                <a:close/>
              </a:path>
              <a:path fill="lighten" w="23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3" h="21600">
                <a:moveTo>
                  <a:pt x="4915" y="10800"/>
                </a:moveTo>
                <a:lnTo>
                  <a:pt x="18928" y="3794"/>
                </a:lnTo>
                <a:lnTo>
                  <a:pt x="18928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" action="ppaction://hlinkshowjump?jump=endshow"/>
          </p:cNvPr>
          <p:cNvSpPr/>
          <p:nvPr/>
        </p:nvSpPr>
        <p:spPr>
          <a:xfrm>
            <a:off x="4067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187308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2916360" y="329076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А у плюшевого Мишки сползли шт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Эта кнопка для Ми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Чтобы не сползли шт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75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25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4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75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5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75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25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Третье значение слова «кнопка»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- Есть ли у вас среди друзей, знакомых те, кого ласково, шутливо  называют «кнопкой» или «кнопочкой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сли и хотите так назвать кого-то, скажите ласково, чтобы не обидеть, так как «у каждого слова своя душа, на душу говорящего похож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16072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2987640" y="3429000"/>
            <a:ext cx="23050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6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6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1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6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1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Четвёртое значение слова «кнопка»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опк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игруш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елевиз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узыкальный цент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агнитоф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ылесо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офемолка, стиральная машинка и т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6948360" y="1341360"/>
            <a:ext cx="1689120" cy="12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1209600" cy="103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4"/>
          <a:stretch/>
        </p:blipFill>
        <p:spPr>
          <a:xfrm>
            <a:off x="2195640" y="5661000"/>
            <a:ext cx="1180800" cy="10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5"/>
          <a:stretch/>
        </p:blipFill>
        <p:spPr>
          <a:xfrm>
            <a:off x="7740720" y="2708280"/>
            <a:ext cx="1057320" cy="1266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6"/>
          <a:stretch/>
        </p:blipFill>
        <p:spPr>
          <a:xfrm>
            <a:off x="2195640" y="4581360"/>
            <a:ext cx="1238040" cy="8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7"/>
          <a:stretch/>
        </p:blipFill>
        <p:spPr>
          <a:xfrm>
            <a:off x="3708360" y="5648400"/>
            <a:ext cx="1228680" cy="120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8"/>
          <a:stretch/>
        </p:blipFill>
        <p:spPr>
          <a:xfrm>
            <a:off x="3635280" y="4292640"/>
            <a:ext cx="102888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9"/>
          <a:stretch/>
        </p:blipFill>
        <p:spPr>
          <a:xfrm>
            <a:off x="4932360" y="44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"/>
          <p:cNvPicPr/>
          <p:nvPr/>
        </p:nvPicPr>
        <p:blipFill>
          <a:blip r:embed="rId10"/>
          <a:stretch/>
        </p:blipFill>
        <p:spPr>
          <a:xfrm>
            <a:off x="6227640" y="4365720"/>
            <a:ext cx="120996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"/>
          <p:cNvPicPr/>
          <p:nvPr/>
        </p:nvPicPr>
        <p:blipFill>
          <a:blip r:embed="rId11"/>
          <a:stretch/>
        </p:blipFill>
        <p:spPr>
          <a:xfrm>
            <a:off x="4140360" y="213372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"/>
          <p:cNvPicPr/>
          <p:nvPr/>
        </p:nvPicPr>
        <p:blipFill>
          <a:blip r:embed="rId12"/>
          <a:stretch/>
        </p:blipFill>
        <p:spPr>
          <a:xfrm>
            <a:off x="7596360" y="4149720"/>
            <a:ext cx="1223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3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35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85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35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85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350"/>
                            </p:stCondLst>
                            <p:childTnLst>
                              <p:par>
                                <p:cTn id="3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85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35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85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35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35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5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35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85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НО КНОПКИ БЫВАЮТ ОПАСНЫ, ЕСЛИ НЕ УМЕТЬ ИМИ ПОЛЬЗОВАТЬСЯ.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6804000" cy="4892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2367000" cy="3313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6">
            <a:hlinkClick r:id="" action="ppaction://hlinkshowjump?jump=nextslide"/>
          </p:cNvPr>
          <p:cNvSpPr/>
          <p:nvPr/>
        </p:nvSpPr>
        <p:spPr>
          <a:xfrm>
            <a:off x="878364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previousslide"/>
          </p:cNvPr>
          <p:cNvSpPr/>
          <p:nvPr/>
        </p:nvSpPr>
        <p:spPr>
          <a:xfrm>
            <a:off x="784692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" action="ppaction://hlinkshowjump?jump=firstslide"/>
          </p:cNvPr>
          <p:cNvSpPr/>
          <p:nvPr/>
        </p:nvSpPr>
        <p:spPr>
          <a:xfrm>
            <a:off x="8352000" y="1844640"/>
            <a:ext cx="325440" cy="36036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  <a:path fill="darken" w="21600" h="23915">
                <a:moveTo>
                  <a:pt x="10800" y="4995"/>
                </a:moveTo>
                <a:lnTo>
                  <a:pt x="13376" y="7606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8"/>
                </a:lnTo>
                <a:lnTo>
                  <a:pt x="16109" y="11958"/>
                </a:lnTo>
                <a:lnTo>
                  <a:pt x="16109" y="19147"/>
                </a:lnTo>
                <a:lnTo>
                  <a:pt x="5491" y="19147"/>
                </a:lnTo>
                <a:lnTo>
                  <a:pt x="5491" y="11958"/>
                </a:lnTo>
                <a:lnTo>
                  <a:pt x="3837" y="11958"/>
                </a:lnTo>
                <a:close/>
              </a:path>
              <a:path fill="darkenLess" w="21600" h="23915">
                <a:moveTo>
                  <a:pt x="13376" y="7606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5">
                <a:moveTo>
                  <a:pt x="9877" y="15456"/>
                </a:moveTo>
                <a:lnTo>
                  <a:pt x="11723" y="15456"/>
                </a:lnTo>
                <a:lnTo>
                  <a:pt x="11723" y="19147"/>
                </a:lnTo>
                <a:lnTo>
                  <a:pt x="16109" y="19147"/>
                </a:lnTo>
                <a:lnTo>
                  <a:pt x="16109" y="11958"/>
                </a:lnTo>
                <a:lnTo>
                  <a:pt x="5491" y="11958"/>
                </a:lnTo>
                <a:lnTo>
                  <a:pt x="5491" y="19147"/>
                </a:lnTo>
                <a:lnTo>
                  <a:pt x="9877" y="19147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>
            <a:hlinkClick r:id="" action="ppaction://hlinkshowjump?jump=endshow"/>
          </p:cNvPr>
          <p:cNvSpPr/>
          <p:nvPr/>
        </p:nvSpPr>
        <p:spPr>
          <a:xfrm>
            <a:off x="734364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333 E">
                                      <p:cBhvr>
                                        <p:cTn id="44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200"/>
                            </p:stCondLst>
                            <p:childTnLst>
                              <p:par>
                                <p:cTn id="448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  <p:animClr clrSpc="rgb">
                                      <p:cBhvr>
                                        <p:cTn id="4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  <p:set>
                                      <p:cBhvr>
                                        <p:cTn id="4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2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7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700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200"/>
                            </p:stCondLst>
                            <p:childTnLst>
                              <p:par>
                                <p:cTn id="4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700"/>
                            </p:stCondLst>
                            <p:childTnLst>
                              <p:par>
                                <p:cTn id="4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20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c0039"/>
                </a:solidFill>
                <a:latin typeface="Arial"/>
              </a:rPr>
              <a:t>Кнопка – это слово многозначное.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рактер этого слова связан с мыслями человека. «ЖИЗНЬ ДАНА НА ДОБРЫЕ ДЕЛ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627280" y="3297240"/>
            <a:ext cx="3859200" cy="2816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978560" y="3596400"/>
            <a:ext cx="721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енькая кноп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ала в коробочк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А мы продолжили рифмовать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(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1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2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3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4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>
            <a:hlinkClick r:id="" action="ppaction://hlinkshowjump?jump=firstslide"/>
          </p:cNvPr>
          <p:cNvSpPr/>
          <p:nvPr/>
        </p:nvSpPr>
        <p:spPr>
          <a:xfrm>
            <a:off x="8244000" y="6524640"/>
            <a:ext cx="355320" cy="333360"/>
          </a:xfrm>
          <a:custGeom>
            <a:avLst/>
            <a:gdLst>
              <a:gd name="textAreaLeft" fmla="*/ 21600 w 355320"/>
              <a:gd name="textAreaRight" fmla="*/ 333720 w 355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021" h="21600">
                <a:moveTo>
                  <a:pt x="0" y="0"/>
                </a:moveTo>
                <a:lnTo>
                  <a:pt x="23021" y="0"/>
                </a:lnTo>
                <a:lnTo>
                  <a:pt x="23021" y="21600"/>
                </a:lnTo>
                <a:lnTo>
                  <a:pt x="0" y="21600"/>
                </a:lnTo>
                <a:close/>
              </a:path>
              <a:path fill="lightenLess" w="23021" h="21600">
                <a:moveTo>
                  <a:pt x="0" y="0"/>
                </a:moveTo>
                <a:lnTo>
                  <a:pt x="23021" y="0"/>
                </a:lnTo>
                <a:lnTo>
                  <a:pt x="21621" y="1400"/>
                </a:lnTo>
                <a:lnTo>
                  <a:pt x="1400" y="1400"/>
                </a:lnTo>
                <a:close/>
              </a:path>
              <a:path fill="darken" w="23021" h="21600">
                <a:moveTo>
                  <a:pt x="23021" y="0"/>
                </a:moveTo>
                <a:lnTo>
                  <a:pt x="23021" y="21600"/>
                </a:lnTo>
                <a:lnTo>
                  <a:pt x="21621" y="20200"/>
                </a:lnTo>
                <a:lnTo>
                  <a:pt x="21621" y="1400"/>
                </a:lnTo>
                <a:close/>
              </a:path>
              <a:path fill="darkenLess" w="23021" h="21600">
                <a:moveTo>
                  <a:pt x="2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1" y="20200"/>
                </a:lnTo>
                <a:close/>
              </a:path>
              <a:path fill="lighten" w="2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1" h="21600">
                <a:moveTo>
                  <a:pt x="11511" y="3837"/>
                </a:moveTo>
                <a:lnTo>
                  <a:pt x="14087" y="6448"/>
                </a:lnTo>
                <a:lnTo>
                  <a:pt x="14087" y="4707"/>
                </a:lnTo>
                <a:lnTo>
                  <a:pt x="15863" y="4707"/>
                </a:lnTo>
                <a:lnTo>
                  <a:pt x="15863" y="8224"/>
                </a:lnTo>
                <a:lnTo>
                  <a:pt x="18474" y="10800"/>
                </a:lnTo>
                <a:lnTo>
                  <a:pt x="16820" y="10800"/>
                </a:lnTo>
                <a:lnTo>
                  <a:pt x="16820" y="17989"/>
                </a:lnTo>
                <a:lnTo>
                  <a:pt x="6201" y="17989"/>
                </a:lnTo>
                <a:lnTo>
                  <a:pt x="6201" y="10800"/>
                </a:lnTo>
                <a:lnTo>
                  <a:pt x="4548" y="10800"/>
                </a:lnTo>
                <a:close/>
              </a:path>
              <a:path fill="darkenLess" w="23021" h="21600">
                <a:moveTo>
                  <a:pt x="14087" y="6448"/>
                </a:moveTo>
                <a:lnTo>
                  <a:pt x="14087" y="4707"/>
                </a:lnTo>
                <a:lnTo>
                  <a:pt x="15863" y="4707"/>
                </a:lnTo>
                <a:lnTo>
                  <a:pt x="15863" y="8224"/>
                </a:lnTo>
                <a:close/>
              </a:path>
              <a:path fill="darkenLess" w="23021" h="21600">
                <a:moveTo>
                  <a:pt x="10588" y="14299"/>
                </a:moveTo>
                <a:lnTo>
                  <a:pt x="12433" y="14299"/>
                </a:lnTo>
                <a:lnTo>
                  <a:pt x="12433" y="17989"/>
                </a:lnTo>
                <a:lnTo>
                  <a:pt x="16820" y="17989"/>
                </a:lnTo>
                <a:lnTo>
                  <a:pt x="16820" y="10800"/>
                </a:lnTo>
                <a:lnTo>
                  <a:pt x="6201" y="10800"/>
                </a:lnTo>
                <a:lnTo>
                  <a:pt x="6201" y="17989"/>
                </a:lnTo>
                <a:lnTo>
                  <a:pt x="10588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>
            <a:hlinkClick r:id="" action="ppaction://hlinkshowjump?jump=endshow"/>
          </p:cNvPr>
          <p:cNvSpPr/>
          <p:nvPr/>
        </p:nvSpPr>
        <p:spPr>
          <a:xfrm>
            <a:off x="7236000" y="6524640"/>
            <a:ext cx="393480" cy="333360"/>
          </a:xfrm>
          <a:custGeom>
            <a:avLst/>
            <a:gdLst>
              <a:gd name="textAreaLeft" fmla="*/ 21600 w 393480"/>
              <a:gd name="textAreaRight" fmla="*/ 371880 w 3934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491" h="21600">
                <a:moveTo>
                  <a:pt x="0" y="0"/>
                </a:moveTo>
                <a:lnTo>
                  <a:pt x="25491" y="0"/>
                </a:lnTo>
                <a:lnTo>
                  <a:pt x="25491" y="21600"/>
                </a:lnTo>
                <a:lnTo>
                  <a:pt x="0" y="21600"/>
                </a:lnTo>
                <a:close/>
              </a:path>
              <a:path fill="lightenLess" w="25491" h="21600">
                <a:moveTo>
                  <a:pt x="0" y="0"/>
                </a:moveTo>
                <a:lnTo>
                  <a:pt x="25491" y="0"/>
                </a:lnTo>
                <a:lnTo>
                  <a:pt x="24091" y="1400"/>
                </a:lnTo>
                <a:lnTo>
                  <a:pt x="1400" y="1400"/>
                </a:lnTo>
                <a:close/>
              </a:path>
              <a:path fill="darken" w="25491" h="21600">
                <a:moveTo>
                  <a:pt x="25491" y="0"/>
                </a:moveTo>
                <a:lnTo>
                  <a:pt x="25491" y="21600"/>
                </a:lnTo>
                <a:lnTo>
                  <a:pt x="24091" y="20200"/>
                </a:lnTo>
                <a:lnTo>
                  <a:pt x="24091" y="1400"/>
                </a:lnTo>
                <a:close/>
              </a:path>
              <a:path fill="darkenLess" w="25491" h="21600">
                <a:moveTo>
                  <a:pt x="25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1" y="20200"/>
                </a:lnTo>
                <a:close/>
              </a:path>
              <a:path fill="lighten" w="25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1" h="21600">
                <a:moveTo>
                  <a:pt x="5739" y="7493"/>
                </a:moveTo>
                <a:lnTo>
                  <a:pt x="9247" y="7493"/>
                </a:lnTo>
                <a:lnTo>
                  <a:pt x="9247" y="12828"/>
                </a:lnTo>
                <a:cubicBezTo>
                  <a:pt x="9247" y="13751"/>
                  <a:pt x="10047" y="14482"/>
                  <a:pt x="11083" y="14482"/>
                </a:cubicBezTo>
                <a:lnTo>
                  <a:pt x="12746" y="14482"/>
                </a:lnTo>
                <a:cubicBezTo>
                  <a:pt x="13781" y="14482"/>
                  <a:pt x="14582" y="13751"/>
                  <a:pt x="14582" y="12828"/>
                </a:cubicBezTo>
                <a:lnTo>
                  <a:pt x="14582" y="7493"/>
                </a:lnTo>
                <a:lnTo>
                  <a:pt x="12746" y="7493"/>
                </a:lnTo>
                <a:lnTo>
                  <a:pt x="16253" y="3985"/>
                </a:lnTo>
                <a:lnTo>
                  <a:pt x="19926" y="7493"/>
                </a:lnTo>
                <a:lnTo>
                  <a:pt x="18090" y="7493"/>
                </a:lnTo>
                <a:lnTo>
                  <a:pt x="18090" y="12828"/>
                </a:lnTo>
                <a:cubicBezTo>
                  <a:pt x="18090" y="15596"/>
                  <a:pt x="15513" y="18155"/>
                  <a:pt x="12746" y="18155"/>
                </a:cubicBezTo>
                <a:lnTo>
                  <a:pt x="11083" y="18155"/>
                </a:lnTo>
                <a:cubicBezTo>
                  <a:pt x="8315" y="18155"/>
                  <a:pt x="5739" y="15596"/>
                  <a:pt x="5739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2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72361 C 0.37275 -0.72083 0.36806 -0.71713 0.36251 -0.71528 C 0.35712 -0.7081 0.35122 -0.7 0.3448 -0.69444 C 0.34254 -0.68241 0.34601 -0.69398 0.33959 -0.6875 C 0.3356 -0.68356 0.33004 -0.67361 0.32709 -0.66806 C 0.32258 -0.65926 0.31494 -0.64306 0.31251 -0.63333 C 0.30782 -0.61435 0.3139 -0.62662 0.30626 -0.61389 C 0.30435 -0.60532 0.30192 -0.59884 0.30001 -0.59028 C 0.29706 -0.54769 0.29914 -0.56991 0.29376 -0.52361 C 0.29306 -0.51759 0.29167 -0.50556 0.29167 -0.50556 C 0.29028 -0.47153 0.28855 -0.4463 0.28022 -0.41528 C 0.27726 -0.35185 0.2757 -0.2875 0.26667 -0.225 C 0.26528 -0.21574 0.26129 -0.20764 0.25938 -0.19861 C 0.2573 -0.17662 0.2606 -0.19769 0.25417 -0.17917 C 0.25035 -0.16806 0.25001 -0.15463 0.24792 -0.14306 C 0.24532 -0.12894 0.23872 -0.11551 0.23542 -0.10139 C 0.23178 -0.08611 0.22969 -0.06597 0.22084 -0.05417 C 0.21702 -0.03634 0.2132 -0.02755 0.20313 -0.01389 C 0.20018 -0.00995 0.19879 -0.00394 0.19584 1.11111E-006 C 0.19393 0.00255 0.1915 0.00417 0.18959 0.00694 C 0.18785 0.00949 0.18733 0.01273 0.18542 0.01528 C 0.18456 0.0162 0.17449 0.0206 0.17397 0.0206 C 0.17067 0.02731 0.16772 0.02801 0.16251 0.03194 C 0.15973 0.03403 0.15799 0.03819 0.15522 0.04028 C 0.15174 0.04282 0.1474 0.04259 0.14376 0.04444 C 0.13456 0.04884 0.12622 0.05301 0.11667 0.05556 C 0.10244 0.06389 0.08855 0.06667 0.07292 0.06806 C 0.00712 0.06551 0.02153 0.07384 -0.01041 0.05972 C -0.02499 0.04421 -0.0059 0.06296 -0.02187 0.05139 C -0.02638 0.04769 -0.03107 0.0419 -0.03541 0.03727 C -0.04409 0.01458 -0.03159 0.04514 -0.04478 0.0206 C -0.0493 0.01227 -0.05225 0.00278 -0.05728 -0.00556 C -0.05919 -0.01968 -0.06093 -0.02639 -0.06562 -0.03912 C -0.06805 -0.06505 -0.06406 -0.03426 -0.07187 -0.06111 C -0.07378 -0.06782 -0.07465 -0.075 -0.07603 -0.08194 C -0.08628 -0.19213 -0.08437 -0.30903 -0.03645 -0.40139 C -0.03176 -0.41042 -0.02742 -0.42014 -0.02291 -0.42917 C -0.02117 -0.43264 -0.021 -0.4375 -0.01874 -0.44028 C -0.01215 -0.44884 -0.00416 -0.45509 0.00313 -0.4625 C 0.01858 -0.47824 0.02379 -0.49352 0.04272 -0.50278 C 0.054 -0.51551 0.06789 -0.52361 0.07917 -0.53611 C 0.08334 -0.54074 0.08716 -0.54606 0.09167 -0.55 C 0.11268 -0.56898 0.08959 -0.54167 0.10938 -0.56389 C 0.11546 -0.57083 0.1191 -0.5794 0.12397 -0.5875 C 0.12518 -0.59699 0.12813 -0.60139 0.12917 -0.61111 C 0.12848 -0.62523 0.13282 -0.64236 0.12605 -0.65278 C 0.1231 -0.65764 0.11893 -0.65718 0.11563 -0.66111 C 0.11407 -0.66273 0.1132 -0.66551 0.11147 -0.66667 C 0.10956 -0.66782 0.1073 -0.66759 0.10522 -0.66806 C 0.09497 -0.67894 0.08126 -0.68426 0.06876 -0.68889 C 0.06424 -0.69051 0.06094 -0.69676 0.05626 -0.69722 C 0.04515 -0.69815 0.03403 -0.69907 0.02292 -0.7 C 0.01042 -0.69954 -0.00208 -0.69977 -0.01458 -0.69861 C -0.02152 -0.69792 -0.03263 -0.68819 -0.04062 -0.68611 C -0.04826 -0.68102 -0.05225 -0.68056 -0.06145 -0.67917 C -0.06562 -0.67639 -0.06944 -0.67269 -0.07395 -0.67083 C -0.07864 -0.66898 -0.08211 -0.66852 -0.08645 -0.66528 C -0.09253 -0.66065 -0.09756 -0.65162 -0.10416 -0.64861 C -0.10485 -0.64676 -0.10538 -0.64491 -0.10624 -0.64306 C -0.10711 -0.64144 -0.10867 -0.64051 -0.10937 -0.63889 C -0.11492 -0.62569 -0.10728 -0.63472 -0.11562 -0.62639 C -0.11996 -0.61481 -0.12621 -0.60486 -0.1302 -0.59306 C -0.13454 -0.58009 -0.13732 -0.56481 -0.14062 -0.55139 C -0.13958 -0.50625 -0.13923 -0.46065 -0.13749 -0.41528 C -0.13715 -0.40602 -0.12829 -0.39977 -0.12499 -0.3919 C -0.11215 -0.36019 -0.06544 -0.33542 -0.03958 -0.3294 C -0.0335 -0.32292 -0.02742 -0.32315 -0.02083 -0.31806 C -0.01041 -0.31042 -0.01892 -0.31366 -0.00937 -0.31111 C -0.00659 -0.30926 -0.00399 -0.30718 -0.00103 -0.30556 C 0.00157 -0.30417 0.00469 -0.30417 0.0073 -0.30301 C 0.00956 -0.30139 0.01129 -0.29884 0.01355 -0.29722 C 0.0231 -0.29144 0.0356 -0.28681 0.04584 -0.28495 C 0.05539 -0.27616 0.06581 -0.26852 0.07501 -0.25972 C 0.09688 -0.23935 0.07778 -0.25046 0.09897 -0.24028 C 0.11754 -0.21968 0.13907 -0.20532 0.15834 -0.18611 C 0.16216 -0.17083 0.15921 -0.17662 0.16667 -0.16667 C 0.16824 -0.16157 0.16858 -0.15625 0.17084 -0.15139 C 0.17344 -0.14583 0.17796 -0.14213 0.18022 -0.13634 C 0.18386 -0.12639 0.18768 -0.11852 0.19272 -0.10972 C 0.19376 -0.10394 0.19376 -0.09769 0.1948 -0.0919 C 0.19567 -0.08727 0.19792 -0.08356 0.19897 -0.07917 C 0.20001 -0.06782 0.20226 -0.06204 0.20522 -0.05162 C 0.20556 -0.04375 0.20487 -0.03542 0.20626 -0.02778 C 0.20678 -0.025 0.20973 -0.02361 0.21042 -0.02083 C 0.21285 -0.01227 0.21303 -0.00301 0.21563 0.00532 C 0.21633 0.00787 0.21702 0.01019 0.21772 0.0125 C 0.22153 0.06921 0.2356 0.1419 0.20626 0.1875 C 0.19272 0.20833 0.16563 0.22662 0.14584 0.23472 C 0.14272 0.23611 0.13351 0.23843 0.13022 0.24028 C 0.1231 0.24421 0.10938 0.25278 0.10938 0.25278 C -0.05017 0.24838 -0.17065 0.32847 -0.27812 0.21389 C -0.27951 0.21019 -0.28038 0.20602 -0.28228 0.20255 C -0.28402 0.2 -0.28697 0.19884 -0.28853 0.19583 C -0.29496 0.1838 -0.29461 0.17523 -0.30312 0.16389 C -0.30624 0.14907 -0.30989 0.13403 -0.31353 0.11944 C -0.31857 0.07269 -0.31597 0.10069 -0.31145 -0.00556 C -0.31093 -0.01759 -0.3019 -0.02639 -0.29791 -0.03611 C -0.28506 -0.06806 -0.27656 -0.08565 -0.24895 -0.09028 C -0.22343 -0.11296 -0.16614 -0.12153 -0.13541 -0.12361 C -0.08541 -0.12685 -0.03541 -0.12917 0.01459 -0.13218 C 0.03022 -0.13426 0.04653 -0.13264 0.06147 -0.13889 C 0.08004 -0.14699 0.09167 -0.15741 0.11147 -0.16111 C 0.13855 -0.17801 0.12153 -0.16875 0.16355 -0.18495 C 0.18056 -0.1912 0.19028 -0.20208 0.20834 -0.20556 C 0.21251 -0.20764 0.22883 -0.21528 0.2323 -0.21806 C 0.23647 -0.22153 0.24376 -0.23056 0.24376 -0.23056 C 0.24775 -0.2412 0.24341 -0.23148 0.25105 -0.24167 C 0.25469 -0.24653 0.26216 -0.26042 0.26459 -0.2669 C 0.2764 -0.2956 0.28647 -0.32315 0.29063 -0.35556 C 0.28994 -0.37778 0.29115 -0.40023 0.28855 -0.42222 C 0.28803 -0.42708 0.28317 -0.42917 0.28126 -0.43333 C 0.27622 -0.44468 0.27501 -0.45833 0.26772 -0.46806 C 0.26164 -0.47616 0.24949 -0.48102 0.24272 -0.48611 C 0.21962 -0.50347 0.22535 -0.5088 0.19272 -0.525 C 0.18056 -0.53102 0.16893 -0.53912 0.15626 -0.54306 C 0.14897 -0.5456 0.1415 -0.54676 0.13438 -0.55 C 0.12796 -0.55278 0.12206 -0.5581 0.11563 -0.56111 C 0.08039 -0.57708 0.04393 -0.58935 0.00834 -0.60417 C -0.00798 -0.61088 -0.02291 -0.62477 -0.03958 -0.62917 C -0.05694 -0.6338 -0.07603 -0.63542 -0.09374 -0.63889 C -0.11805 -0.63681 -0.14253 -0.63565 -0.16666 -0.63194 C -0.18038 -0.62986 -0.19149 -0.61088 -0.20208 -0.60139 C -0.2151 -0.59005 -0.22864 -0.57963 -0.24166 -0.56806 C -0.24895 -0.55278 -0.25624 -0.53657 -0.26458 -0.52245 C -0.26944 -0.4963 -0.27725 -0.47153 -0.28541 -0.44722 C -0.28732 -0.43287 -0.28992 -0.42315 -0.29374 -0.40995 C -0.29704 -0.39792 -0.29669 -0.38727 -0.30208 -0.37639 C -0.30069 -0.32593 -0.30051 -0.27546 -0.29791 -0.225 C -0.29669 -0.20046 -0.27812 -0.17245 -0.2677 -0.15417 C -0.26006 -0.14074 -0.2585 -0.12847 -0.24687 -0.12083 C -0.24357 -0.11505 -0.24183 -0.1081 -0.23645 -0.10556 C -0.22656 -0.08565 -0.22968 -0.10486 -0.21458 -0.08472 C -0.20364 -0.07014 -0.19149 -0.06458 -0.17708 -0.06111 C -0.16614 -0.05394 -0.15538 -0.05162 -0.14374 -0.04745 C -0.13524 -0.04421 -0.12725 -0.0375 -0.11874 -0.03472 C -0.11492 -0.0338 -0.1111 -0.03333 -0.10728 -0.03194 C -0.10485 -0.03125 -0.10242 -0.03009 -0.09999 -0.02917 C -0.08697 -0.01759 -0.06822 -0.0125 -0.05312 -0.01134 C -0.03923 -0.0037 -0.03836 -0.00394 -0.01978 -0.00301 C -0.01197 0.00417 -0.01788 1.11111E-006 7.22222E-006 1.11111E-006 E">
                                      <p:cBhvr>
                                        <p:cTn id="498" dur="3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2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200"/>
                            </p:stCondLst>
                            <p:childTnLst>
                              <p:par>
                                <p:cTn id="5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8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9200"/>
                            </p:stCondLst>
                            <p:childTnLst>
                              <p:par>
                                <p:cTn id="5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5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8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22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70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3200"/>
                            </p:stCondLst>
                            <p:childTnLst>
                              <p:par>
                                <p:cTn id="5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3700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стно шептала 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икому я не нуж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1440000" cy="2158920"/>
          </a:xfrm>
          <a:prstGeom prst="rect">
            <a:avLst/>
          </a:prstGeom>
          <a:ln w="0">
            <a:noFill/>
          </a:ln>
        </p:spPr>
      </p:pic>
      <p:sp>
        <p:nvSpPr>
          <p:cNvPr id="165" name="WordArt 9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700"/>
                            </p:stCondLst>
                            <p:childTnLst>
                              <p:par>
                                <p:cTn id="5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7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2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700"/>
                            </p:stCondLst>
                            <p:childTnLst>
                              <p:par>
                                <p:cTn id="5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200"/>
                            </p:stCondLst>
                            <p:childTnLst>
                              <p:par>
                                <p:cTn id="5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8:34:36Z</dcterms:created>
  <dc:creator>Николай</dc:creator>
  <dc:description/>
  <dc:language>en-US</dc:language>
  <cp:lastModifiedBy>Admin</cp:lastModifiedBy>
  <dcterms:modified xsi:type="dcterms:W3CDTF">2010-11-23T15:52:41Z</dcterms:modified>
  <cp:revision>15</cp:revision>
  <dc:subject/>
  <dc:title>Слайд 1</dc:title>
</cp:coreProperties>
</file>