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10.wav" ContentType="audio/x-wav"/>
  <Override PartName="/ppt/media/08.wav" ContentType="audio/x-wav"/>
  <Override PartName="/ppt/media/12.wav" ContentType="audio/x-wav"/>
  <Override PartName="/ppt/media/image6.jpeg" ContentType="image/jpeg"/>
  <Override PartName="/ppt/media/04.wav" ContentType="audio/x-wav"/>
  <Override PartName="/ppt/media/image4.jpeg" ContentType="image/jpeg"/>
  <Override PartName="/ppt/media/image2.jpeg" ContentType="image/jpeg"/>
  <Override PartName="/ppt/media/image5.jpeg" ContentType="image/jpeg"/>
  <Override PartName="/ppt/media/02.wav" ContentType="audio/x-wav"/>
  <Override PartName="/ppt/media/01%20Speak%20English.wav" ContentType="audio/x-wav"/>
  <Override PartName="/ppt/media/image11.jpeg" ContentType="image/jpeg"/>
  <Override PartName="/ppt/media/image9.jpeg" ContentType="image/jpeg"/>
  <Override PartName="/ppt/media/20.wav" ContentType="audio/x-wav"/>
  <Override PartName="/ppt/media/18.wav" ContentType="audio/x-wav"/>
  <Override PartName="/ppt/media/image1.png" ContentType="image/png"/>
  <Override PartName="/ppt/media/image3.jpeg" ContentType="image/jpeg"/>
  <Override PartName="/ppt/media/06.wav" ContentType="audio/x-wav"/>
  <Override PartName="/ppt/media/image8.jpeg" ContentType="image/jpeg"/>
  <Override PartName="/ppt/media/image10.jpeg" ContentType="image/jpeg"/>
  <Override PartName="/ppt/media/14.wav" ContentType="audio/x-wav"/>
  <Override PartName="/ppt/media/16.wav" ContentType="audio/x-wav"/>
  <Override PartName="/ppt/media/22.wav" ContentType="audio/x-wav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FCF6-D4EF-4D87-ADF3-A65E3CE54E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722A-1E1A-43E0-A6AF-57672DFFC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езентации на английском языке вы можете скачать на сайте http://www.danilova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0EDC-E302-462E-8408-CFCECCF88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AEBE-6403-42DE-879B-DEA1BA4B58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4AAB-D8C8-4260-906D-6A9479043B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F5A1-2EE3-4487-8AC7-C36297C8AE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52C0-A147-484C-881B-BDD88B64A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BCC-850B-4FD1-92F7-9F65DFF81A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FBB8-510F-4434-8B7B-87642DEA64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878-8BBF-4D9A-BE8B-E375F34538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0D0-1AD9-409B-B0BF-366AF95892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6629-1DD2-4167-8D7E-0A2499936C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4D8-8A77-48F3-8051-3F7B693521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1AD1-BF9A-4ECF-9954-7F0990A176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4A0-0466-494D-B0DA-FCFC4B663E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503C-C778-401B-84D7-2B18A11C2D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A5F-B7AE-473D-B8B6-0BA4DF5C3A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6B05-B0C9-4A9D-8A3D-3A5C11C6FC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44D3-4BD8-4938-9E44-2A2BF9047A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6335-EABB-4D80-BE80-73D47559BD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9B70-21F9-43A2-B187-863EA5BD0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2E23-16D8-4CD1-871B-C3A4840F5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C82-DDC1-4D38-85A3-F2698F9F69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B3E-780E-405F-B484-2B60890BF7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F32-186E-4590-94B1-6FA79A8C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0A9-5067-40FA-94C4-6445FBC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07A-B76B-4C63-87BA-0A069261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AEC-98BE-4E64-B897-FF4A1C3A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D00-5E03-4C86-A16B-289CC1B0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046-7F40-44C9-9623-8A350710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429-C6B1-4AB3-9F6A-C0DDE12E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471-19E5-4E1D-AB9B-A166D459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DA1-E34D-4816-9AA0-7079779D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8B7-C2C5-41DE-AAD1-E782098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1D7-8F99-4ABE-8D05-FA4FD9E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64A-B008-4975-A5CE-B512FA5D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3383-3B44-4428-8B0A-E03D8DE4AA4B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%20Speak%20Engli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1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1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1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1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1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0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2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2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04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06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08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wtp"/>
          <p:cNvPicPr/>
          <p:nvPr/>
        </p:nvPicPr>
        <p:blipFill>
          <a:blip r:embed="rId1"/>
          <a:stretch/>
        </p:blipFill>
        <p:spPr>
          <a:xfrm>
            <a:off x="2514600" y="304920"/>
            <a:ext cx="42418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FIGURE-SKAT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2" descr="фигкатание"/>
          <p:cNvPicPr/>
          <p:nvPr/>
        </p:nvPicPr>
        <p:blipFill>
          <a:blip r:embed="rId1"/>
          <a:stretch/>
        </p:blipFill>
        <p:spPr>
          <a:xfrm>
            <a:off x="1835280" y="0"/>
            <a:ext cx="577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FITNES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фитнесс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SOCCER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футбол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HOCKE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хокей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336600"/>
                </a:solidFill>
                <a:latin typeface="Arial"/>
                <a:ea typeface="MS PGothic"/>
              </a:rPr>
              <a:t>MOTOSPOR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1" descr="мотоцикл"/>
          <p:cNvPicPr/>
          <p:nvPr/>
        </p:nvPicPr>
        <p:blipFill>
          <a:blip r:embed="rId1"/>
          <a:stretch/>
        </p:blipFill>
        <p:spPr>
          <a:xfrm>
            <a:off x="395280" y="260280"/>
            <a:ext cx="8459640" cy="62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162864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336600"/>
                </a:solidFill>
                <a:latin typeface="Arial"/>
                <a:ea typeface="MS PGothic"/>
              </a:rPr>
              <a:t>SPORTS</a:t>
            </a:r>
            <a:endParaRPr b="1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900" spc="-1" strike="noStrike">
                <a:solidFill>
                  <a:srgbClr val="336600"/>
                </a:solidFill>
                <a:latin typeface="Arial"/>
                <a:ea typeface="MS PGothic"/>
              </a:rPr>
              <a:t>SKY-JUMPING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парашют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900" spc="-1" strike="noStrike">
                <a:solidFill>
                  <a:srgbClr val="336600"/>
                </a:solidFill>
                <a:latin typeface="Arial"/>
                <a:ea typeface="MS PGothic"/>
              </a:rPr>
              <a:t>ARTISTIC</a:t>
            </a:r>
            <a:r>
              <a:rPr b="1" lang="en-US" sz="99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1" lang="en-US" sz="9900" spc="-1" strike="noStrike">
                <a:solidFill>
                  <a:srgbClr val="336600"/>
                </a:solidFill>
                <a:latin typeface="Arial"/>
                <a:ea typeface="MS PGothic"/>
              </a:rPr>
              <a:t>GYMNASTICS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1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5" descr="баскетбол"/>
          <p:cNvPicPr/>
          <p:nvPr/>
        </p:nvPicPr>
        <p:blipFill>
          <a:blip r:embed="rId1"/>
          <a:stretch/>
        </p:blipFill>
        <p:spPr>
          <a:xfrm>
            <a:off x="179280" y="333360"/>
            <a:ext cx="2125800" cy="302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photo_2007_5_20_23_41_20"/>
          <p:cNvPicPr/>
          <p:nvPr/>
        </p:nvPicPr>
        <p:blipFill>
          <a:blip r:embed="rId2"/>
          <a:stretch/>
        </p:blipFill>
        <p:spPr>
          <a:xfrm>
            <a:off x="611280" y="3789360"/>
            <a:ext cx="352728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плавание"/>
          <p:cNvPicPr/>
          <p:nvPr/>
        </p:nvPicPr>
        <p:blipFill>
          <a:blip r:embed="rId3"/>
          <a:stretch/>
        </p:blipFill>
        <p:spPr>
          <a:xfrm>
            <a:off x="2700360" y="8366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футбол"/>
          <p:cNvPicPr/>
          <p:nvPr/>
        </p:nvPicPr>
        <p:blipFill>
          <a:blip r:embed="rId4"/>
          <a:stretch/>
        </p:blipFill>
        <p:spPr>
          <a:xfrm>
            <a:off x="4788000" y="3789360"/>
            <a:ext cx="3636720" cy="2581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фигкатание"/>
          <p:cNvPicPr/>
          <p:nvPr/>
        </p:nvPicPr>
        <p:blipFill>
          <a:blip r:embed="rId5"/>
          <a:stretch/>
        </p:blipFill>
        <p:spPr>
          <a:xfrm>
            <a:off x="6300720" y="333360"/>
            <a:ext cx="2546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8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6600"/>
                </a:solidFill>
                <a:latin typeface="Arial"/>
                <a:ea typeface="MS PGothic"/>
              </a:rPr>
              <a:t>BASKETBALL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баскетбол"/>
          <p:cNvPicPr/>
          <p:nvPr/>
        </p:nvPicPr>
        <p:blipFill>
          <a:blip r:embed="rId1"/>
          <a:stretch/>
        </p:blipFill>
        <p:spPr>
          <a:xfrm>
            <a:off x="219564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HIGH JUMP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5" descr="photo_2007_5_20_23_41_20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336600"/>
                </a:solidFill>
                <a:latin typeface="Arial"/>
                <a:ea typeface="MS PGothic"/>
              </a:rPr>
              <a:t>SWIMMIN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плавание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1:07:44Z</dcterms:created>
  <dc:creator>Сайт "Раннее развитие детей"</dc:creator>
  <dc:description/>
  <dc:language>en-US</dc:language>
  <cp:lastModifiedBy>Коля</cp:lastModifiedBy>
  <dcterms:modified xsi:type="dcterms:W3CDTF">2013-05-13T14:31:25Z</dcterms:modified>
  <cp:revision>59</cp:revision>
  <dc:subject/>
  <dc:title>Английский язык. Виды спорта</dc:title>
</cp:coreProperties>
</file>