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10.wav" ContentType="audio/x-wav"/>
  <Override PartName="/ppt/media/08.wav" ContentType="audio/x-wav"/>
  <Override PartName="/ppt/media/12.wav" ContentType="audio/x-wav"/>
  <Override PartName="/ppt/media/image6.jpeg" ContentType="image/jpeg"/>
  <Override PartName="/ppt/media/04.wav" ContentType="audio/x-wav"/>
  <Override PartName="/ppt/media/image4.jpeg" ContentType="image/jpeg"/>
  <Override PartName="/ppt/media/image2.jpeg" ContentType="image/jpeg"/>
  <Override PartName="/ppt/media/image5.jpeg" ContentType="image/jpeg"/>
  <Override PartName="/ppt/media/02.wav" ContentType="audio/x-wav"/>
  <Override PartName="/ppt/media/01%20Speak%20English.wav" ContentType="audio/x-wav"/>
  <Override PartName="/ppt/media/image11.jpeg" ContentType="image/jpeg"/>
  <Override PartName="/ppt/media/image9.jpeg" ContentType="image/jpeg"/>
  <Override PartName="/ppt/media/20.wav" ContentType="audio/x-wav"/>
  <Override PartName="/ppt/media/18.wav" ContentType="audio/x-wav"/>
  <Override PartName="/ppt/media/image1.png" ContentType="image/png"/>
  <Override PartName="/ppt/media/image3.jpeg" ContentType="image/jpeg"/>
  <Override PartName="/ppt/media/06.wav" ContentType="audio/x-wav"/>
  <Override PartName="/ppt/media/image8.jpeg" ContentType="image/jpeg"/>
  <Override PartName="/ppt/media/image10.jpeg" ContentType="image/jpeg"/>
  <Override PartName="/ppt/media/14.wav" ContentType="audio/x-wav"/>
  <Override PartName="/ppt/media/16.wav" ContentType="audio/x-wav"/>
  <Override PartName="/ppt/media/22.wav" ContentType="audio/x-wav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68D80-DD05-4F4E-BBE3-5FA9644323B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946C4-2408-4C74-96F4-17FAB54EA85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ругие презентации на английском языке вы можете скачать на сайте http://www.danilova.r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FB3F9-2ECC-4A34-BF20-2D899BB7E65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30B13-41E8-4BAB-B453-04F82DC23F5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632D6-879D-4E30-8886-CED9CEA70F6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60D08-A5D7-4239-B918-B0D49DF3160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7BEC4-2B3B-403D-91C5-30B2072270B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007F3-3896-4184-A24D-F934C760635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47949-8ACA-455C-8003-341A73866FA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0F043-08E9-427A-9981-36F9865FF3F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DEAB-BA51-410B-8C5D-1D27B07EE53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25FF0-420C-4180-B62A-993B13E01A8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2CA50-5B69-4644-AAF4-E81A09DF032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516C2-FE4A-411B-8E2E-AABDDD93D2B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DEA27-7132-4DF8-8368-5A47227A3B6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27CC4-5785-4952-94D9-422B728DFB9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FB64F-508D-4811-A947-88C1B209410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05CFB-8B76-415F-AEC4-A93C5730E4B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2C480-A44B-406B-BF1F-823896B5C98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4CEE6-D3F5-44D5-84E3-67357B0A954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B605E-FC0D-42DA-A4F0-3D022A2330F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AAFD2-81AF-41E2-A829-83AB1B8E110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55DB1-686F-423A-BF48-A1EAE8CE54F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8F9E4-8C7D-4B0B-957E-3CD6A6DD1D9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A69C-EE23-436C-8F5F-912B956F5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887C-7E61-435F-88AC-2D7C5E8FD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BB7A-A61D-45BE-A1B6-060CF6EF7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F5E0-BE39-4FE3-ADCE-2154F76E8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1773-8EF7-4948-B9B8-52092032F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5525-639B-413D-9898-4E4563F48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1694-2CA5-4925-9380-5ABC264B0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1957-0517-4B47-90BA-839B92DF7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44F3-AFE2-4A83-B540-CABB15DF5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98DD-3C10-40B2-9EEC-910E7C98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C3B2-29F1-4AEF-8191-EF4EAC01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5625-B539-4BF6-B20C-0A4099C5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1B4FC-5888-45DB-BEDB-AC15C1B0BFFD}" type="slidenum">
              <a:rPr b="0" lang="ja-JP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01%20Speak%20Engli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10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12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14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16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18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02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20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22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04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06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08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wtp"/>
          <p:cNvPicPr/>
          <p:nvPr/>
        </p:nvPicPr>
        <p:blipFill>
          <a:blip r:embed="rId1"/>
          <a:stretch/>
        </p:blipFill>
        <p:spPr>
          <a:xfrm>
            <a:off x="2514600" y="304920"/>
            <a:ext cx="4241880" cy="60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1360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336600"/>
                </a:solidFill>
                <a:latin typeface="Arial"/>
                <a:ea typeface="MS PGothic"/>
              </a:rPr>
              <a:t>FIGURE-SKATING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2" descr="фигкатание"/>
          <p:cNvPicPr/>
          <p:nvPr/>
        </p:nvPicPr>
        <p:blipFill>
          <a:blip r:embed="rId1"/>
          <a:stretch/>
        </p:blipFill>
        <p:spPr>
          <a:xfrm>
            <a:off x="1835280" y="0"/>
            <a:ext cx="57751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988640"/>
            <a:ext cx="91440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336600"/>
                </a:solidFill>
                <a:latin typeface="Arial"/>
                <a:ea typeface="MS PGothic"/>
              </a:rPr>
              <a:t>FITNESS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9" descr="фитнесс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9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1988640"/>
            <a:ext cx="91440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336600"/>
                </a:solidFill>
                <a:latin typeface="Arial"/>
                <a:ea typeface="MS PGothic"/>
              </a:rPr>
              <a:t>SOCCER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9" descr="футбол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9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1360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336600"/>
                </a:solidFill>
                <a:latin typeface="Arial"/>
                <a:ea typeface="MS PGothic"/>
              </a:rPr>
              <a:t>HOCKEY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8" descr="хокей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62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988640"/>
            <a:ext cx="91440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900" spc="-1" strike="noStrike">
                <a:solidFill>
                  <a:srgbClr val="336600"/>
                </a:solidFill>
                <a:latin typeface="Arial"/>
                <a:ea typeface="MS PGothic"/>
              </a:rPr>
              <a:t>MOTOSPORT</a:t>
            </a: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1" descr="мотоцикл"/>
          <p:cNvPicPr/>
          <p:nvPr/>
        </p:nvPicPr>
        <p:blipFill>
          <a:blip r:embed="rId1"/>
          <a:stretch/>
        </p:blipFill>
        <p:spPr>
          <a:xfrm>
            <a:off x="395280" y="260280"/>
            <a:ext cx="8459640" cy="625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0" y="1628640"/>
            <a:ext cx="9144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0" spc="-1" strike="noStrike">
                <a:solidFill>
                  <a:srgbClr val="336600"/>
                </a:solidFill>
                <a:latin typeface="Arial"/>
                <a:ea typeface="MS PGothic"/>
              </a:rPr>
              <a:t>SPORTS</a:t>
            </a:r>
            <a:endParaRPr b="1" lang="en-US" sz="1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1988640"/>
            <a:ext cx="91440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900" spc="-1" strike="noStrike">
                <a:solidFill>
                  <a:srgbClr val="336600"/>
                </a:solidFill>
                <a:latin typeface="Arial"/>
                <a:ea typeface="MS PGothic"/>
              </a:rPr>
              <a:t>SKY-JUMPING</a:t>
            </a: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9" descr="парашют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26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349000"/>
            <a:ext cx="91440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900" spc="-1" strike="noStrike">
                <a:solidFill>
                  <a:srgbClr val="336600"/>
                </a:solidFill>
                <a:latin typeface="Arial"/>
                <a:ea typeface="MS PGothic"/>
              </a:rPr>
              <a:t>ARTISTIC</a:t>
            </a:r>
            <a:r>
              <a:rPr b="1" lang="en-US" sz="9900" spc="-1" strike="noStrike">
                <a:solidFill>
                  <a:srgbClr val="ff0000"/>
                </a:solidFill>
                <a:latin typeface="Arial"/>
                <a:ea typeface="MS PGothic"/>
              </a:rPr>
              <a:t> </a:t>
            </a:r>
            <a:r>
              <a:rPr b="1" lang="en-US" sz="9900" spc="-1" strike="noStrike">
                <a:solidFill>
                  <a:srgbClr val="336600"/>
                </a:solidFill>
                <a:latin typeface="Arial"/>
                <a:ea typeface="MS PGothic"/>
              </a:rPr>
              <a:t>GYMNASTICS</a:t>
            </a:r>
            <a:endParaRPr b="0" lang="en-US" sz="9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1"/>
          <p:cNvPicPr/>
          <p:nvPr/>
        </p:nvPicPr>
        <p:blipFill>
          <a:blip r:embed="rId1"/>
          <a:stretch/>
        </p:blipFill>
        <p:spPr>
          <a:xfrm>
            <a:off x="0" y="407880"/>
            <a:ext cx="9144000" cy="604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5" descr="баскетбол"/>
          <p:cNvPicPr/>
          <p:nvPr/>
        </p:nvPicPr>
        <p:blipFill>
          <a:blip r:embed="rId1"/>
          <a:stretch/>
        </p:blipFill>
        <p:spPr>
          <a:xfrm>
            <a:off x="179280" y="333360"/>
            <a:ext cx="2125800" cy="3024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" descr="photo_2007_5_20_23_41_20"/>
          <p:cNvPicPr/>
          <p:nvPr/>
        </p:nvPicPr>
        <p:blipFill>
          <a:blip r:embed="rId2"/>
          <a:stretch/>
        </p:blipFill>
        <p:spPr>
          <a:xfrm>
            <a:off x="611280" y="3789360"/>
            <a:ext cx="3527280" cy="256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7" descr="плавание"/>
          <p:cNvPicPr/>
          <p:nvPr/>
        </p:nvPicPr>
        <p:blipFill>
          <a:blip r:embed="rId3"/>
          <a:stretch/>
        </p:blipFill>
        <p:spPr>
          <a:xfrm>
            <a:off x="2700360" y="836640"/>
            <a:ext cx="3313080" cy="2360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8" descr="футбол"/>
          <p:cNvPicPr/>
          <p:nvPr/>
        </p:nvPicPr>
        <p:blipFill>
          <a:blip r:embed="rId4"/>
          <a:stretch/>
        </p:blipFill>
        <p:spPr>
          <a:xfrm>
            <a:off x="4788000" y="3789360"/>
            <a:ext cx="3636720" cy="2581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9" descr="фигкатание"/>
          <p:cNvPicPr/>
          <p:nvPr/>
        </p:nvPicPr>
        <p:blipFill>
          <a:blip r:embed="rId5"/>
          <a:stretch/>
        </p:blipFill>
        <p:spPr>
          <a:xfrm>
            <a:off x="6300720" y="333360"/>
            <a:ext cx="2546280" cy="30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382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336600"/>
                </a:solidFill>
                <a:latin typeface="Arial"/>
                <a:ea typeface="MS PGothic"/>
              </a:rPr>
              <a:t>BASKETBALL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0" y="0"/>
            <a:ext cx="91440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7" descr="баскетбол"/>
          <p:cNvPicPr/>
          <p:nvPr/>
        </p:nvPicPr>
        <p:blipFill>
          <a:blip r:embed="rId1"/>
          <a:stretch/>
        </p:blipFill>
        <p:spPr>
          <a:xfrm>
            <a:off x="2195640" y="0"/>
            <a:ext cx="48211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1988640"/>
            <a:ext cx="91440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336600"/>
                </a:solidFill>
                <a:latin typeface="Arial"/>
                <a:ea typeface="MS PGothic"/>
              </a:rPr>
              <a:t>HIGH JUMP 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0" y="0"/>
            <a:ext cx="91440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5" descr="photo_2007_5_20_23_41_20"/>
          <p:cNvPicPr/>
          <p:nvPr/>
        </p:nvPicPr>
        <p:blipFill>
          <a:blip r:embed="rId1"/>
          <a:stretch/>
        </p:blipFill>
        <p:spPr>
          <a:xfrm>
            <a:off x="468360" y="333360"/>
            <a:ext cx="8209080" cy="59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1988640"/>
            <a:ext cx="91440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336600"/>
                </a:solidFill>
                <a:latin typeface="Arial"/>
                <a:ea typeface="MS PGothic"/>
              </a:rPr>
              <a:t>SWIMMING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8" descr="плавание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518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2T11:07:44Z</dcterms:created>
  <dc:creator>Сайт "Раннее развитие детей"</dc:creator>
  <dc:description/>
  <dc:language>en-US</dc:language>
  <cp:lastModifiedBy>Коля</cp:lastModifiedBy>
  <dcterms:modified xsi:type="dcterms:W3CDTF">2013-05-13T14:31:25Z</dcterms:modified>
  <cp:revision>59</cp:revision>
  <dc:subject/>
  <dc:title>Английский язык. Виды спорта</dc:title>
</cp:coreProperties>
</file>