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10.wav" ContentType="audio/x-wav"/>
  <Override PartName="/ppt/media/08.wav" ContentType="audio/x-wav"/>
  <Override PartName="/ppt/media/12.wav" ContentType="audio/x-wav"/>
  <Override PartName="/ppt/media/image6.jpeg" ContentType="image/jpeg"/>
  <Override PartName="/ppt/media/04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02.wav" ContentType="audio/x-wav"/>
  <Override PartName="/ppt/media/01%20Speak%20English.wav" ContentType="audio/x-wav"/>
  <Override PartName="/ppt/media/image11.jpeg" ContentType="image/jpeg"/>
  <Override PartName="/ppt/media/image9.jpeg" ContentType="image/jpeg"/>
  <Override PartName="/ppt/media/20.wav" ContentType="audio/x-wav"/>
  <Override PartName="/ppt/media/18.wav" ContentType="audio/x-wav"/>
  <Override PartName="/ppt/media/image1.png" ContentType="image/png"/>
  <Override PartName="/ppt/media/image3.jpeg" ContentType="image/jpeg"/>
  <Override PartName="/ppt/media/06.wav" ContentType="audio/x-wav"/>
  <Override PartName="/ppt/media/image8.jpeg" ContentType="image/jpeg"/>
  <Override PartName="/ppt/media/image10.jpeg" ContentType="image/jpeg"/>
  <Override PartName="/ppt/media/14.wav" ContentType="audio/x-wav"/>
  <Override PartName="/ppt/media/16.wav" ContentType="audio/x-wav"/>
  <Override PartName="/ppt/media/22.wav" ContentType="audio/x-wav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911E-E6B9-4D16-B54E-7826803FB1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C38C-194F-451B-92AE-3ACF90BAF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148-F766-4F0E-8D98-4A67AC2C7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7DA6-375C-4092-A9E1-A984BC360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3FC6-28F3-4168-BCB5-63DA0C576B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F852-2648-492F-AA48-C14EA4F8D2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BF2-4A81-46F8-936A-3141AD1329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129E-902C-4605-B1CD-2E7119FEC3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DCE-2C70-4756-9C7F-9B88060E2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C7A3-E961-45A4-8656-B62B35C82B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2DF3-EDC4-4A30-8499-9354512833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A40-AA1C-451D-B006-9EDDD355E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9CF-EA98-44EC-AEE4-1ED9689A0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126E-B551-4C96-93F6-EB373DC18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E4E0-098B-42EB-BC28-654EA191B3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A506-7D3F-443C-A059-85FAD0A833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936-B79E-430B-B362-5566717E9A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B809-7FC5-4FFC-B763-A1D8B870B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869E-15CB-4539-A5D8-5DBF94542C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08EE-613B-4761-8935-549427E94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B213-F7B7-4031-9902-90DB723FC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E457-F386-40BB-9A7D-7375E2A20D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BF7-5520-435D-9BAC-98149BE62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9E09-BA19-478E-84DA-7DA68F574C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CB7-9AD2-4E09-BCFD-F5847A0D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FA1-B006-4FB1-89A1-91A54B5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F12-A885-41F3-AF98-9E7BB9A5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BAC-F84F-4125-8639-CB8E085A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E66-CB6B-46A2-8283-6E88C524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E8B-423F-41DD-8644-F2D785D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380-4C51-4D27-A028-B786A64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B2-63DD-4844-BA64-C6867DEF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D51-26C0-4487-9E57-C28F0DB2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04D-B7C3-44A4-8BFA-501B4680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9A6-6AE6-4CF3-990B-EDB4281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EF3-9FED-42B4-BD71-4A27F27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EC4C-2EBD-42B7-8281-BD699CB44944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%20Speak%20Engli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1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1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0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2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wtp"/>
          <p:cNvPicPr/>
          <p:nvPr/>
        </p:nvPicPr>
        <p:blipFill>
          <a:blip r:embed="rId1"/>
          <a:stretch/>
        </p:blipFill>
        <p:spPr>
          <a:xfrm>
            <a:off x="2514600" y="304920"/>
            <a:ext cx="4241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GURE-SKAT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" descr="фигкатание"/>
          <p:cNvPicPr/>
          <p:nvPr/>
        </p:nvPicPr>
        <p:blipFill>
          <a:blip r:embed="rId1"/>
          <a:stretch/>
        </p:blipFill>
        <p:spPr>
          <a:xfrm>
            <a:off x="183528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TNES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фитнесс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OCCER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футбол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OCKE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хокей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MOTOSPOR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мотоцикл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62864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336600"/>
                </a:solidFill>
                <a:latin typeface="Arial"/>
                <a:ea typeface="MS PGothic"/>
              </a:rPr>
              <a:t>SPORTS</a:t>
            </a:r>
            <a:endParaRPr b="1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SKY-JUMPING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парашют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ARTISTIC</a:t>
            </a:r>
            <a:r>
              <a:rPr b="1" lang="en-US" sz="99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GYMNASTICS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1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баскетбол"/>
          <p:cNvPicPr/>
          <p:nvPr/>
        </p:nvPicPr>
        <p:blipFill>
          <a:blip r:embed="rId1"/>
          <a:stretch/>
        </p:blipFill>
        <p:spPr>
          <a:xfrm>
            <a:off x="179280" y="333360"/>
            <a:ext cx="21258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photo_2007_5_20_23_41_20"/>
          <p:cNvPicPr/>
          <p:nvPr/>
        </p:nvPicPr>
        <p:blipFill>
          <a:blip r:embed="rId2"/>
          <a:stretch/>
        </p:blipFill>
        <p:spPr>
          <a:xfrm>
            <a:off x="611280" y="3789360"/>
            <a:ext cx="352728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плавание"/>
          <p:cNvPicPr/>
          <p:nvPr/>
        </p:nvPicPr>
        <p:blipFill>
          <a:blip r:embed="rId3"/>
          <a:stretch/>
        </p:blipFill>
        <p:spPr>
          <a:xfrm>
            <a:off x="2700360" y="8366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футбол"/>
          <p:cNvPicPr/>
          <p:nvPr/>
        </p:nvPicPr>
        <p:blipFill>
          <a:blip r:embed="rId4"/>
          <a:stretch/>
        </p:blipFill>
        <p:spPr>
          <a:xfrm>
            <a:off x="4788000" y="3789360"/>
            <a:ext cx="3636720" cy="258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фигкатание"/>
          <p:cNvPicPr/>
          <p:nvPr/>
        </p:nvPicPr>
        <p:blipFill>
          <a:blip r:embed="rId5"/>
          <a:stretch/>
        </p:blipFill>
        <p:spPr>
          <a:xfrm>
            <a:off x="6300720" y="333360"/>
            <a:ext cx="2546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6600"/>
                </a:solidFill>
                <a:latin typeface="Arial"/>
                <a:ea typeface="MS PGothic"/>
              </a:rPr>
              <a:t>BASKETBALL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баскетбол"/>
          <p:cNvPicPr/>
          <p:nvPr/>
        </p:nvPicPr>
        <p:blipFill>
          <a:blip r:embed="rId1"/>
          <a:stretch/>
        </p:blipFill>
        <p:spPr>
          <a:xfrm>
            <a:off x="219564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IGH JUMP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5" descr="photo_2007_5_20_23_41_20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WIMM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плавание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1:07:44Z</dcterms:created>
  <dc:creator>Сайт "Раннее развитие детей"</dc:creator>
  <dc:description/>
  <dc:language>en-US</dc:language>
  <cp:lastModifiedBy>Коля</cp:lastModifiedBy>
  <dcterms:modified xsi:type="dcterms:W3CDTF">2013-05-13T14:31:25Z</dcterms:modified>
  <cp:revision>59</cp:revision>
  <dc:subject/>
  <dc:title>Английский язык. Виды спорта</dc:title>
</cp:coreProperties>
</file>