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E2672-FB08-44E8-BDA9-D8334ABC2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952E0-489A-4E7D-BD99-4C0E020D5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F9897-4089-4167-AA7B-545A89BDB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1D24C-21F2-411C-928B-EA05534FE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6BF4F-2C7F-49CC-96F1-7B17B7AEB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A4BB0-1024-4E4C-A5D0-40D67B90A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78A39-0C3A-4C48-9180-C1C8108BA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9ABB5-31E3-4BD1-B1AC-1E39E3743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81EDB-2B82-4B54-B285-B908D8739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2E164-68FF-4BCB-8B77-42F923419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AB432-3C06-4FA5-8A56-D69C1A800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00735-F84B-4F35-AAA8-2B6C0BDB6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21331-174F-4A17-B50D-7561912D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E6FE7-E913-4DF0-9519-A284EFB1D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DD56B-DAC9-44C0-9C9E-7831DE624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1D9A6-A640-4499-916D-F39874386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56169-011B-4D32-A298-939CB7DA7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C48E9-45BC-414B-9406-DA47487EF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6EC79-9187-4FAB-8FDE-E34065376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925D4-23CF-4C5F-B248-7F2BE7FD1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D748C-5F23-4D8B-B10D-C27FE0FE4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FDA3A-215E-43C2-B9A8-C7E2FFF3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5490E-DD90-4CDF-B5DF-6B0C056C2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8A213-7656-474B-9CEC-19D84AFA3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A29E3-4078-4FA0-9416-223DD4AF346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BA020-CE63-4233-A26B-0B7E85E87FB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Специфика</a:t>
            </a:r>
            <a:br>
              <a:rPr sz="3600"/>
            </a:b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коммуникативного поведения нации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258560" y="2997000"/>
            <a:ext cx="64818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Цель данного исследования –  влияние  специфики нации на коммуникативные  нормы этикетного общ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2210040" y="57312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исследовательский проект ( немецкий язык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2376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.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еждународный этик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авила хороших манер - 20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нание истории и  культуры зарубежных стран- 50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трудняюсь ответить-5%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ругое  - репутация, традиции, религия, знать иностранные языки,                                                                                                                  интеллигентност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ациональные норм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т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диции-60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емперамент-2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трудняюсь ответить-30%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ругое - честность, деловитость, соблюдение норм и правил, терпимость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Дорожный этик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Гонки на выживание»- 2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ДД- 34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трудняюсь ответить- 12%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ругое – справедливость, «профи”, дисциплина, жизнь, приехать воврем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Приветствие и прощани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uten Morgen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uten Tag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uten Abend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uten Tag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rr/Frau Müller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g (im Norden Deutschlands)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üß Gott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im Süden Deutschlands,in Österreich und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der Schweiz)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llo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üß sich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g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üß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Sie, hey Mensc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ch verabschieden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uf  Wiedersehen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Herr/Frau Müller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schüs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rvus (im Süden Deutschlands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 Österreich)Ade (im Süden Deutschlands)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iao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is bald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is denn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ld dich mal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Заключени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сследования показали  необходимость изучения специфики коммуникативного поведения нации и интеграции элементов современных этикетно - культурологических подходов к людям через «мир языка», в контексте человеческих отношений и взаимоотношен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cc"/>
                </a:solidFill>
                <a:latin typeface="Tahoma"/>
              </a:rPr>
              <a:t>Интеграция этикетного общения</a:t>
            </a:r>
            <a:br>
              <a:rPr sz="2500"/>
            </a:br>
            <a:r>
              <a:rPr b="0" lang="ru-RU" sz="2500" spc="-1" strike="noStrike">
                <a:solidFill>
                  <a:srgbClr val="ffffcc"/>
                </a:solidFill>
                <a:latin typeface="Tahoma"/>
              </a:rPr>
              <a:t> через «мир языка»</a:t>
            </a:r>
            <a:endParaRPr b="0" lang="en-US" sz="25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Oval 17"/>
          <p:cNvSpPr/>
          <p:nvPr/>
        </p:nvSpPr>
        <p:spPr>
          <a:xfrm>
            <a:off x="2771640" y="2421000"/>
            <a:ext cx="3168720" cy="1152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Oval 18"/>
          <p:cNvSpPr/>
          <p:nvPr/>
        </p:nvSpPr>
        <p:spPr>
          <a:xfrm>
            <a:off x="1835280" y="5373720"/>
            <a:ext cx="4248000" cy="1150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Oval 19"/>
          <p:cNvSpPr/>
          <p:nvPr/>
        </p:nvSpPr>
        <p:spPr>
          <a:xfrm>
            <a:off x="611280" y="765000"/>
            <a:ext cx="2233440" cy="17290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732720" y="2997360"/>
            <a:ext cx="1873080" cy="863280"/>
          </a:xfrm>
          <a:prstGeom prst="ellipse">
            <a:avLst/>
          </a:prstGeom>
          <a:solidFill>
            <a:srgbClr val="ebf25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4643280" y="1341360"/>
            <a:ext cx="3025800" cy="1150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0" y="2924280"/>
            <a:ext cx="2881440" cy="1584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3924360" y="3860640"/>
            <a:ext cx="2089080" cy="1150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6227640" y="4437000"/>
            <a:ext cx="2594160" cy="1150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2aa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Text Box 34"/>
          <p:cNvSpPr/>
          <p:nvPr/>
        </p:nvSpPr>
        <p:spPr>
          <a:xfrm>
            <a:off x="5219640" y="16286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bf25a"/>
                </a:solidFill>
                <a:latin typeface="Arial"/>
              </a:rPr>
              <a:t>Менталите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Text Box 35"/>
          <p:cNvSpPr/>
          <p:nvPr/>
        </p:nvSpPr>
        <p:spPr>
          <a:xfrm>
            <a:off x="684360" y="1484280"/>
            <a:ext cx="200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лерантн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Text Box 37"/>
          <p:cNvSpPr/>
          <p:nvPr/>
        </p:nvSpPr>
        <p:spPr>
          <a:xfrm>
            <a:off x="6567480" y="2944800"/>
            <a:ext cx="1533600" cy="641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словицы 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говорк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Text Box 38"/>
          <p:cNvSpPr/>
          <p:nvPr/>
        </p:nvSpPr>
        <p:spPr>
          <a:xfrm>
            <a:off x="6663600" y="4797360"/>
            <a:ext cx="21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орожный этике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Text Box 39"/>
          <p:cNvSpPr/>
          <p:nvPr/>
        </p:nvSpPr>
        <p:spPr>
          <a:xfrm>
            <a:off x="2991600" y="2637000"/>
            <a:ext cx="276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ецифика повед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ц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40"/>
          <p:cNvSpPr/>
          <p:nvPr/>
        </p:nvSpPr>
        <p:spPr>
          <a:xfrm>
            <a:off x="4140360" y="4005360"/>
            <a:ext cx="174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ветствие 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ща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Rectangle 42"/>
          <p:cNvSpPr/>
          <p:nvPr/>
        </p:nvSpPr>
        <p:spPr>
          <a:xfrm>
            <a:off x="324000" y="3284640"/>
            <a:ext cx="23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ично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странств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Text Box 43"/>
          <p:cNvSpPr/>
          <p:nvPr/>
        </p:nvSpPr>
        <p:spPr>
          <a:xfrm>
            <a:off x="2411280" y="5445000"/>
            <a:ext cx="36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рмы международног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деловог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икет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Менталитет нации неразрывно связан с этикетом и  позволяет  не только совершать правильные поступки в массовых, повторяющихся ситуациях, но и</a:t>
            </a: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предписывает им определенные нормы речевого общения. Совокупность особенностей мышления народа определяет и правила поведения в особых обстоятельствах жизни. </a:t>
            </a:r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5" descr="Кёльнский собор в Германии"/>
          <p:cNvPicPr/>
          <p:nvPr/>
        </p:nvPicPr>
        <p:blipFill>
          <a:blip r:embed="rId1"/>
          <a:stretch/>
        </p:blipFill>
        <p:spPr>
          <a:xfrm>
            <a:off x="539640" y="2320920"/>
            <a:ext cx="107964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Специфика немецкого менталитета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ильные черты немецкого менталитета общеизвестны: трудолюбие, прилежание, пунктуальность, рациональность, бережливость, педантичность, серьезность, расчетливость, стремление к упорядоченност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4" descr="пейзажи Германии"/>
          <p:cNvPicPr/>
          <p:nvPr/>
        </p:nvPicPr>
        <p:blipFill>
          <a:blip r:embed="rId1"/>
          <a:stretch/>
        </p:blipFill>
        <p:spPr>
          <a:xfrm>
            <a:off x="4648320" y="1628640"/>
            <a:ext cx="114768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6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Детали: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сли на совещании вам надо что-то записать, попросите разрешения;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 начальству часто обращаются по названию профессии или по занимаемой должност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гда разговариваете с немцем или пожимаете руку, никогда не оставляйте руку в  кармане - это считается верхом неуважен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 знакомстве важны чины и назван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 увлекайтесь светскими разговорами  - это бизнес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 спрашивайте у людей, где они были во время войны, а также есть ли у них семья и де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Личное пространство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ичное пространство людей, проживающих в Европе, делится на ряд зон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нтимная  зона  (15см -46 см)- самая  главная; доступ в эту зону разрешен только тем  лицам, которые находятся с данным  лицом  в доверительном эмоциональном контакте ( дети, супруг, друзья, родные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ичная зона  (4,6м -1,2 м) - расстояние, разделяющее людей  во   время официальных приемов, дружеских вечеров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циальная зона  (1,2м - 3,6 м) - ограждает нас от малознакомых и незнакомых люде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) Общественная зона  (более 3м- 6 м) - это пространство между человеком и большой группой людей, перед которой он выступает (профессор, читающий лекции студентам). Общаясь с  людьми, всегда следует придерживаться  золотого правила:  «Соблюдай дистанцию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cc"/>
                </a:solidFill>
                <a:latin typeface="Tahoma"/>
              </a:rPr>
              <a:t>Дорожный этикет</a:t>
            </a:r>
            <a:endParaRPr b="0" lang="en-US" sz="29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верки на дорогах, когда полиция останавливает "просто так",  явление в Германии  исключительно  редкое.  На  дорогах  полиции  вообще  не  видно. Эффективность ее работы сочетается с  какой-то  фантастической  незримостью. Нигде в ФРГ нет того, что у нас  называют  "постами  ГАИ"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9" descr="_MG_1559"/>
          <p:cNvPicPr/>
          <p:nvPr/>
        </p:nvPicPr>
        <p:blipFill>
          <a:blip r:embed="rId1"/>
          <a:srcRect l="0" t="9995" r="-348" b="9995"/>
          <a:stretch/>
        </p:blipFill>
        <p:spPr>
          <a:xfrm>
            <a:off x="5156280" y="1600200"/>
            <a:ext cx="1144440" cy="6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Поездка в транспорт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Этикетные ситуации затрагивают многие сферы жизнедеятельности человека. Одной из таких сфер является поездка в транспорте. Особенно хотелось бы акцентировать внимание на поведение пассажиров в общественном транспорте. Во-первых, уважающий себя человек никогда не допустит, чтобы его статус, авторитет, честь и душевное спокойствие можно было оценить в сумму проездного талона. В мелочах проявляется главное — и если человек позволяет себе неадекватное поведение в общественном транспорте, вряд ли от него можно ожидать нечто большее как в личной, так и в деловой жизни. Культура поведения на дороге, распространяется как на пассажиров, так и на водителей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7" descr="Скоростной поезд в Германии"/>
          <p:cNvPicPr/>
          <p:nvPr/>
        </p:nvPicPr>
        <p:blipFill>
          <a:blip r:embed="rId1"/>
          <a:stretch/>
        </p:blipFill>
        <p:spPr>
          <a:xfrm>
            <a:off x="4648320" y="1700280"/>
            <a:ext cx="136368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6" name="Picture 10" descr="germ_dresden_03"/>
          <p:cNvPicPr/>
          <p:nvPr/>
        </p:nvPicPr>
        <p:blipFill>
          <a:blip r:embed="rId1"/>
          <a:stretch/>
        </p:blipFill>
        <p:spPr>
          <a:xfrm>
            <a:off x="1332000" y="2924280"/>
            <a:ext cx="1871640" cy="20286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1"/>
          <p:cNvSpPr/>
          <p:nvPr/>
        </p:nvSpPr>
        <p:spPr>
          <a:xfrm>
            <a:off x="324000" y="5084640"/>
            <a:ext cx="88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Итоги теста </a:t>
            </a: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«Этикет как стиль жизни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-4032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Этикет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этикетка- 3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вокупность правил- 60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трудняюсь ответить-20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ругое – уважение, культура, общени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.«Геометрия пространства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ичное пространство-60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"воздушная оболочка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”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20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трудняюсь ответить-15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ругое -  интимные, опасные, настораживающие зон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. Деловой этик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изнес-50%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еждународные нормы-  40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трудняюсь ответить- 0%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ругое - жёсткие правила, бережливость, знание культуры других стран, доверие партнёров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1:07:09Z</dcterms:created>
  <dc:creator>Раиса Башарина</dc:creator>
  <dc:description/>
  <dc:language>en-US</dc:language>
  <cp:lastModifiedBy>Раиса Башарина</cp:lastModifiedBy>
  <dcterms:modified xsi:type="dcterms:W3CDTF">2012-10-21T14:54:25Z</dcterms:modified>
  <cp:revision>18</cp:revision>
  <dc:subject/>
  <dc:title>Специфика  коммуникативного поведения нации</dc:title>
</cp:coreProperties>
</file>