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D85A7-6C0D-468B-B3F4-E2D08C97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26A2A-D1D3-461C-9485-AC5A07DF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783D0-B578-489E-BFE2-403B00C3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605A0-8731-4AAA-9946-5807985C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D933-6CE4-4373-ADC8-DED1E7B1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3D1D-57CB-4D3F-9CC5-CD7D7C32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8A44-D121-49C1-89BC-863719AF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9E58-2B59-4AC1-9FD3-864F9924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4958-78BE-4550-B7D2-282E79D4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89FC-BB5B-4426-A85D-988BEE32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E8E4-818D-4FA3-9930-64A92302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8B7D-15BB-4B38-9301-EA46E7EF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CBD8-2BBD-4A72-8A20-9F0273AF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9F99-AFAD-4EAD-BB22-15C9CF98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B3AC-EAE8-4C9E-9F22-396A119A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C921-4CE4-4A77-9D8F-FEC0DDBD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ECC2-B775-49CC-8F26-B9A6CF2C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8678B-1D54-48B3-801E-8E6769B1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D713C-58E7-483C-AAAF-00F7B794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57E2D-FD80-4153-8B87-275241B8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33375-36C1-4092-8CBE-74B949B4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9EEA2-AADA-4895-8AAF-4525646B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7E13B-F90F-4D20-8927-C524BC0F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75582-4BF3-4BC9-A95E-3A81136B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5EEF-05FF-4B4B-97AD-135D434FFBE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5C99-1CC4-4AFB-912D-A2A57E631FD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пецифика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коммуникативного поведения наци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58560" y="2997000"/>
            <a:ext cx="64818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ь данного исследования –  влияние  специфики нации на коммуникативные  нормы этикетного общ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210040" y="5731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исследовательский проект ( немецкий язык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237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ждународный этик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авила хороших манер - 2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ние истории и  культуры зарубежных стран- 5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рудняюсь ответить-5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ое  - репутация, традиции, религия, знать иностранные языки,                                                                                                                  интеллигент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циональные нор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диции-6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мперамент-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рудняюсь ответить-30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ое - честность, деловитость, соблюдение норм и правил, терпим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орожный этик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Гонки на выживание»- 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ДД- 34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рудняюсь ответить- 12%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ое – справедливость, «профи”, дисциплина, жизнь, приехать воврем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иветствие и прощ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ten Morge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ten Tag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ten Aben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ten Tag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rr/Frau Mülle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g (im Norden Deutschlands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üß Got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im Süden Deutschlands,in Österreich un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der Schweiz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lo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üß sich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g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üß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Sie, hey Mens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ch verabschiede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f  Wiedersehe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err/Frau Mülle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schü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us (im Süden Deutschland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 Österreich)Ade (im Süden Deutschlands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ao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s bal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s den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d dich mal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ключ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следования показали  необходимость изучения специфики коммуникативного поведения нации и интеграции элементов современных этикетно - культурологических подходов к людям через «мир языка», в контексте человеческих отношений и взаимо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ahoma"/>
              </a:rPr>
              <a:t>Интеграция этикетного общения</a:t>
            </a:r>
            <a:br>
              <a:rPr sz="2500"/>
            </a:br>
            <a:r>
              <a:rPr b="0" lang="ru-RU" sz="2500" spc="-1" strike="noStrike">
                <a:solidFill>
                  <a:srgbClr val="ffffcc"/>
                </a:solidFill>
                <a:latin typeface="Tahoma"/>
              </a:rPr>
              <a:t> через «мир языка»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Oval 17"/>
          <p:cNvSpPr/>
          <p:nvPr/>
        </p:nvSpPr>
        <p:spPr>
          <a:xfrm>
            <a:off x="2771640" y="2421000"/>
            <a:ext cx="3168720" cy="1152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Oval 18"/>
          <p:cNvSpPr/>
          <p:nvPr/>
        </p:nvSpPr>
        <p:spPr>
          <a:xfrm>
            <a:off x="1835280" y="5373720"/>
            <a:ext cx="4248000" cy="1150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Oval 19"/>
          <p:cNvSpPr/>
          <p:nvPr/>
        </p:nvSpPr>
        <p:spPr>
          <a:xfrm>
            <a:off x="611280" y="765000"/>
            <a:ext cx="2233440" cy="1729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732720" y="2997360"/>
            <a:ext cx="1873080" cy="863280"/>
          </a:xfrm>
          <a:prstGeom prst="ellipse">
            <a:avLst/>
          </a:prstGeom>
          <a:solidFill>
            <a:srgbClr val="ebf25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4643280" y="1341360"/>
            <a:ext cx="3025800" cy="1150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0" y="2924280"/>
            <a:ext cx="2881440" cy="158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3924360" y="3860640"/>
            <a:ext cx="2089080" cy="1150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6227640" y="4437000"/>
            <a:ext cx="2594160" cy="1150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2a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5219640" y="1628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f25a"/>
                </a:solidFill>
                <a:latin typeface="Arial"/>
              </a:rPr>
              <a:t>Менталит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684360" y="148428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ерант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6567480" y="2944800"/>
            <a:ext cx="1533600" cy="641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ловицы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говор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663600" y="479736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рожный этик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39"/>
          <p:cNvSpPr/>
          <p:nvPr/>
        </p:nvSpPr>
        <p:spPr>
          <a:xfrm>
            <a:off x="2991600" y="2637000"/>
            <a:ext cx="27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цифика повед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4140360" y="4005360"/>
            <a:ext cx="174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ветствие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щ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42"/>
          <p:cNvSpPr/>
          <p:nvPr/>
        </p:nvSpPr>
        <p:spPr>
          <a:xfrm>
            <a:off x="324000" y="328464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ч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стран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2411280" y="544500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рмы международ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елов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е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Менталитет нации неразрывно связан с этикетом и  позволяет  не только совершать правильные поступки в массовых, повторяющихся ситуациях, но и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едписывает им определенные нормы речевого общения. Совокупность особенностей мышления народа определяет и правила поведения в особых обстоятельствах жизни. 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Кёльнский собор в Германии"/>
          <p:cNvPicPr/>
          <p:nvPr/>
        </p:nvPicPr>
        <p:blipFill>
          <a:blip r:embed="rId1"/>
          <a:stretch/>
        </p:blipFill>
        <p:spPr>
          <a:xfrm>
            <a:off x="539640" y="2320920"/>
            <a:ext cx="107964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пецифика немецкого менталите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льные черты немецкого менталитета общеизвестны: трудолюбие, прилежание, пунктуальность, рациональность, бережливость, педантичность, серьезность, расчетливость, стремление к упорядоч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пейзажи Германии"/>
          <p:cNvPicPr/>
          <p:nvPr/>
        </p:nvPicPr>
        <p:blipFill>
          <a:blip r:embed="rId1"/>
          <a:stretch/>
        </p:blipFill>
        <p:spPr>
          <a:xfrm>
            <a:off x="4648320" y="1628640"/>
            <a:ext cx="11476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Детали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на совещании вам надо что-то записать, попросите разрешения;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начальству часто обращаются по названию профессии или по занимаемой долж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разговариваете с немцем или пожимаете руку, никогда не оставляйте руку в  кармане - это считается верхом неуваж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знакомстве важны чины и наз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увлекайтесь светскими разговорами  - это бизнес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спрашивайте у людей, где они были во время войны, а также есть ли у них семья и де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Личное пространств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чное пространство людей, проживающих в Европе, делится на ряд зо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тимная  зона  (15см -46 см)- самая  главная; доступ в эту зону разрешен только тем  лицам, которые находятся с данным  лицом  в доверительном эмоциональном контакте ( дети, супруг, друзья, родные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чная зона  (4,6м -1,2 м) - расстояние, разделяющее людей  во   время официальных приемов, дружеских вечер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циальная зона  (1,2м - 3,6 м) - ограждает нас от малознакомых и незнакомых люд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Общественная зона  (более 3м- 6 м) - это пространство между человеком и большой группой людей, перед которой он выступает (профессор, читающий лекции студентам). Общаясь с  людьми, всегда следует придерживаться  золотого правила:  «Соблюдай дистанцию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cc"/>
                </a:solidFill>
                <a:latin typeface="Tahoma"/>
              </a:rPr>
              <a:t>Дорожный этикет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рки на дорогах, когда полиция останавливает "просто так",  явление в Германии  исключительно  редкое.  На  дорогах  полиции  вообще  не  видно. Эффективность ее работы сочетается с  какой-то  фантастической  незримостью. Нигде в ФРГ нет того, что у нас  называют  "постами  ГАИ"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9" descr="_MG_1559"/>
          <p:cNvPicPr/>
          <p:nvPr/>
        </p:nvPicPr>
        <p:blipFill>
          <a:blip r:embed="rId1"/>
          <a:srcRect l="0" t="9995" r="-348" b="9995"/>
          <a:stretch/>
        </p:blipFill>
        <p:spPr>
          <a:xfrm>
            <a:off x="5156280" y="1600200"/>
            <a:ext cx="114444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ездка в транспорт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икетные ситуации затрагивают многие сферы жизнедеятельности человека. Одной из таких сфер является поездка в транспорте. Особенно хотелось бы акцентировать внимание на поведение пассажиров в общественном транспорте. Во-первых, уважающий себя человек никогда не допустит, чтобы его статус, авторитет, честь и душевное спокойствие можно было оценить в сумму проездного талона. В мелочах проявляется главное — и если человек позволяет себе неадекватное поведение в общественном транспорте, вряд ли от него можно ожидать нечто большее как в личной, так и в деловой жизни. Культура поведения на дороге, распространяется как на пассажиров, так и на водителе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7" descr="Скоростной поезд в Германии"/>
          <p:cNvPicPr/>
          <p:nvPr/>
        </p:nvPicPr>
        <p:blipFill>
          <a:blip r:embed="rId1"/>
          <a:stretch/>
        </p:blipFill>
        <p:spPr>
          <a:xfrm>
            <a:off x="4648320" y="1700280"/>
            <a:ext cx="13636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Picture 10" descr="germ_dresden_03"/>
          <p:cNvPicPr/>
          <p:nvPr/>
        </p:nvPicPr>
        <p:blipFill>
          <a:blip r:embed="rId1"/>
          <a:stretch/>
        </p:blipFill>
        <p:spPr>
          <a:xfrm>
            <a:off x="1332000" y="2924280"/>
            <a:ext cx="1871640" cy="20286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324000" y="508464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тоги теста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«Этикет как стиль жизн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403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Этике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икетка- 3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окупность правил- 6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рудняюсь ответить-2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ое – уважение, культура, общ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«Геометрия пространств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чное пространство-6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"воздушная оболочк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2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рудняюсь ответить-15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ое -  интимные, опасные, настораживающие зо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 Деловой этик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знес-50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ждународные нормы-  4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рудняюсь ответить- 0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ое - жёсткие правила, бережливость, знание культуры других стран, доверие партнёр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07:09Z</dcterms:created>
  <dc:creator>Раиса Башарина</dc:creator>
  <dc:description/>
  <dc:language>en-US</dc:language>
  <cp:lastModifiedBy>Раиса Башарина</cp:lastModifiedBy>
  <dcterms:modified xsi:type="dcterms:W3CDTF">2012-10-21T14:54:25Z</dcterms:modified>
  <cp:revision>18</cp:revision>
  <dc:subject/>
  <dc:title>Специфика  коммуникативного поведения нации</dc:title>
</cp:coreProperties>
</file>