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526A-A9A3-470C-8680-134AF43C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6692-D4F6-40F2-A24B-DB5141D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2E97-E8A6-481E-B4AA-4F00BECA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C488-77AF-4337-9113-1A0B5FD7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4C7C-CBEA-40D6-B98F-58428AF1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5D76-1E64-4E3E-88FF-E4694A4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F524-15C3-4A26-8851-EE350126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C861-1799-4C1B-986B-4A8BA876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3847-DE87-4B74-95C5-CFB72CF8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5473-C464-4ED7-B72F-36B13E99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1BD8-0803-4F2A-AE6E-76747227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5080-3644-4B06-B7DB-6A2106C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3873-C28F-4515-B6AD-534DA3FA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E287-D938-44F9-A43C-C4E8CBDB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39D8-9971-411A-B0F0-FBA03972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DEA6-C7C3-43F3-B06D-4C725E56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8AF6-6EEA-4C0B-9386-789B25DA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84DE-79D3-4A55-A90B-CB785239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F9C5-BC1F-4750-B6B9-B92C47BA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2EB4-66B8-4E4F-8B3E-09E5BA66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B523-CA8C-4EB4-91A0-7E88337B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32A8-0468-449B-A08D-2B3E0D31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21F9-BECF-4CA5-B210-121361E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58FD-BC81-4CF8-9297-CFDA109F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5F3C-1703-46FA-B412-DEC50F1E05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D994-1FD3-41BC-893E-F1B555765F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пецифика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коммуникативного поведения на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58560" y="2997000"/>
            <a:ext cx="6481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данного исследования –  влияние  специфики нации на коммуникативные  нормы этикетного общ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210040" y="573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исследовательский проект ( немецкий язы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ждународный этик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ила хороших манер - 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ние истории и  культуры зарубежных стран- 5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5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 - репутация, традиции, религия, знать иностранные языки,                                                                                                                  интеллигент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циональные нор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диции-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ерамент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30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- честность, деловитость, соблюдение норм и правил, терпим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рожный этик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Гонки на выживание»-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ДД- 3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 12%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– справедливость, «профи”, дисциплина, жизнь, приехать во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ветствие и прощ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Morg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Ta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Aben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Ta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r/Frau Müll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g (im Norden Deutschlands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üß Got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m Süden Deutschlands,in Österreich un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der Schweiz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üß sic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g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üß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Sie, hey Mens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ch verabschied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f  Wiederseh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err/Frau Müll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schü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us (im Süden Deutschland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Österreich)Ade (im Süden Deutschlands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a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 bal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 den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d dich m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следования показали  необходимость изучения специфики коммуникативного поведения нации и интеграции элементов современных этикетно - культурологических подходов к людям через «мир языка», в контексте человеческих отношений и взаим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Интеграция этикетного общения</a:t>
            </a:r>
            <a:br>
              <a:rPr sz="2500"/>
            </a:b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 через «мир языка»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2771640" y="2421000"/>
            <a:ext cx="3168720" cy="115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18"/>
          <p:cNvSpPr/>
          <p:nvPr/>
        </p:nvSpPr>
        <p:spPr>
          <a:xfrm>
            <a:off x="1835280" y="5373720"/>
            <a:ext cx="424800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611280" y="765000"/>
            <a:ext cx="2233440" cy="1729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732720" y="2997360"/>
            <a:ext cx="1873080" cy="863280"/>
          </a:xfrm>
          <a:prstGeom prst="ellipse">
            <a:avLst/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4643280" y="1341360"/>
            <a:ext cx="302580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0" y="2924280"/>
            <a:ext cx="2881440" cy="158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3924360" y="3860640"/>
            <a:ext cx="208908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6227640" y="4437000"/>
            <a:ext cx="259416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21964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f25a"/>
                </a:solidFill>
                <a:latin typeface="Arial"/>
              </a:rPr>
              <a:t>Менталит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84360" y="14842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ерант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6567480" y="2944800"/>
            <a:ext cx="1533600" cy="641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овицы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говор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663600" y="479736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рожный этик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2991600" y="2637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ка пове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4140360" y="400536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ветствие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щ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2"/>
          <p:cNvSpPr/>
          <p:nvPr/>
        </p:nvSpPr>
        <p:spPr>
          <a:xfrm>
            <a:off x="324000" y="32846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2411280" y="54450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рмы международ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елов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енталитет нации неразрывно связан с этикетом и  позволяет  не только совершать правильные поступки в массовых, повторяющихся ситуациях, но и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едписывает им определенные нормы речевого общения. Совокупность особенностей мышления народа определяет и правила поведения в особых обстоятельствах жизни. 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Кёльнский собор в Германии"/>
          <p:cNvPicPr/>
          <p:nvPr/>
        </p:nvPicPr>
        <p:blipFill>
          <a:blip r:embed="rId1"/>
          <a:stretch/>
        </p:blipFill>
        <p:spPr>
          <a:xfrm>
            <a:off x="539640" y="2320920"/>
            <a:ext cx="10796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пецифика немецкого менталите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льные черты немецкого менталитета общеизвестны: трудолюбие, прилежание, пунктуальность, рациональность, бережливость, педантичность, серьезность, расчетливость, стремление к упорядоч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пейзажи Германии"/>
          <p:cNvPicPr/>
          <p:nvPr/>
        </p:nvPicPr>
        <p:blipFill>
          <a:blip r:embed="rId1"/>
          <a:stretch/>
        </p:blipFill>
        <p:spPr>
          <a:xfrm>
            <a:off x="4648320" y="1628640"/>
            <a:ext cx="11476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Детали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на совещании вам надо что-то записать, попросите разрешения;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начальству часто обращаются по названию профессии или по занимаемой долж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разговариваете с немцем или пожимаете руку, никогда не оставляйте руку в  кармане - это считается верхом неуваж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накомстве важны чины и наз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увлекайтесь светскими разговорами  - это бизне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спрашивайте у людей, где они были во время войны, а также есть ли у них семья и де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ичное пространств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ое пространство людей, проживающих в Европе, делится на ряд зо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имная  зона  (15см -46 см)- самая  главная; доступ в эту зону разрешен только тем  лицам, которые находятся с данным  лицом  в доверительном эмоциональном контакте ( дети, супруг, друзья, родные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ая зона  (4,6м -1,2 м) - расстояние, разделяющее людей  во   время официальных приемов, дружеских вечер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циальная зона  (1,2м - 3,6 м) - ограждает нас от малознакомых и незнакомых люд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Общественная зона  (более 3м- 6 м) - это пространство между человеком и большой группой людей, перед которой он выступает (профессор, читающий лекции студентам). Общаясь с  людьми, всегда следует придерживаться  золотого правила:  «Соблюдай дистанцию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cc"/>
                </a:solidFill>
                <a:latin typeface="Tahoma"/>
              </a:rPr>
              <a:t>Дорожный этикет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и на дорогах, когда полиция останавливает "просто так",  явление в Германии  исключительно  редкое.  На  дорогах  полиции  вообще  не  видно. Эффективность ее работы сочетается с  какой-то  фантастической  незримостью. Нигде в ФРГ нет того, что у нас  называют  "постами  ГАИ"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9" descr="_MG_1559"/>
          <p:cNvPicPr/>
          <p:nvPr/>
        </p:nvPicPr>
        <p:blipFill>
          <a:blip r:embed="rId1"/>
          <a:srcRect l="0" t="9995" r="-348" b="9995"/>
          <a:stretch/>
        </p:blipFill>
        <p:spPr>
          <a:xfrm>
            <a:off x="5156280" y="1600200"/>
            <a:ext cx="114444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ездка в транспорт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икетные ситуации затрагивают многие сферы жизнедеятельности человека. Одной из таких сфер является поездка в транспорте. Особенно хотелось бы акцентировать внимание на поведение пассажиров в общественном транспорте. Во-первых, уважающий себя человек никогда не допустит, чтобы его статус, авторитет, честь и душевное спокойствие можно было оценить в сумму проездного талона. В мелочах проявляется главное — и если человек позволяет себе неадекватное поведение в общественном транспорте, вряд ли от него можно ожидать нечто большее как в личной, так и в деловой жизни. Культура поведения на дороге, распространяется как на пассажиров, так и на водителе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Скоростной поезд в Германии"/>
          <p:cNvPicPr/>
          <p:nvPr/>
        </p:nvPicPr>
        <p:blipFill>
          <a:blip r:embed="rId1"/>
          <a:stretch/>
        </p:blipFill>
        <p:spPr>
          <a:xfrm>
            <a:off x="4648320" y="1700280"/>
            <a:ext cx="13636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10" descr="germ_dresden_03"/>
          <p:cNvPicPr/>
          <p:nvPr/>
        </p:nvPicPr>
        <p:blipFill>
          <a:blip r:embed="rId1"/>
          <a:stretch/>
        </p:blipFill>
        <p:spPr>
          <a:xfrm>
            <a:off x="1332000" y="2924280"/>
            <a:ext cx="1871640" cy="2028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324000" y="5084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тоги теста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Этикет как стиль жи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40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тике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икетка- 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окупность правил- 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– уважение, культура, общ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«Геометрия простран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ое пространство-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"воздушная оболочк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15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-  интимные, опасные, настораживающие зо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Деловой этик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знес-50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дународные нормы-  4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 0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- жёсткие правила, бережливость, знание культуры других стран, доверие партнёр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07:09Z</dcterms:created>
  <dc:creator>Раиса Башарина</dc:creator>
  <dc:description/>
  <dc:language>en-US</dc:language>
  <cp:lastModifiedBy>Раиса Башарина</cp:lastModifiedBy>
  <dcterms:modified xsi:type="dcterms:W3CDTF">2012-10-21T14:54:25Z</dcterms:modified>
  <cp:revision>18</cp:revision>
  <dc:subject/>
  <dc:title>Специфика  коммуникативного поведения нации</dc:title>
</cp:coreProperties>
</file>