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523-2820-4D1C-92D1-AA125EF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13C-8396-414F-86A6-E1452450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835-9B4F-41E2-8EB1-8A572BF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44D-6707-4F1E-804A-DD6EDB30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5E1-664D-4CDE-A1E5-2457BE25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C0B2-CADA-42A6-951C-4456D504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079F-9E75-478B-BFF2-DB7E000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D1AE-AE24-40A7-B527-89E2847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16E-5F9A-47B1-9505-C251C8B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9172-F5C8-4997-BD60-8F46B2C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A424-29F9-43C9-99C9-C1E89FD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445-D090-4DC7-A917-B4430F5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420-ECDA-41C6-BDFC-6151770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EDD-56D6-482A-BD1F-AA82E96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9AA5-0106-45AD-B184-818546B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8D3-32DD-4540-A0D4-6B6BA781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6C10-3F16-48EE-901D-08A27703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112-EB4D-4DAD-B113-33DE8EE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762-1FC3-41C5-95F3-3520397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02E-27E0-4E80-B302-511AE0EF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D12-1469-4E16-92E1-FF0A57A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49D-9D8F-4577-9A8D-572BBBF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CAD-E194-4CB2-A521-A691ABD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813-9D07-4583-8BCA-48C92875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DB7C-6C49-4A5A-8590-14868766B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C1FD-62AD-46DC-BABB-E1C468318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Современны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олимпийски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игр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556" t="22023" r="13539" b="25674"/>
          <a:stretch/>
        </p:blipFill>
        <p:spPr>
          <a:xfrm>
            <a:off x="2340000" y="4689360"/>
            <a:ext cx="45370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ервые современные Олимпийские игр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Традиция, существовавшая в Древней Греции, возродилась благодаря французскому общественному деятелю Пьеру де Кубертену. Игры проходили 12 дней с 6 по 15 апреля 1896 года в Афинах и стали крупнейшим международным событием..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187280" y="2060640"/>
            <a:ext cx="6337440" cy="438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9080" y="649044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ериканские спортсмены из Принстонского универс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Желание возродить олимпийское мышление и культуру распространилось довольно быстро по всей Европе. </a:t>
            </a:r>
            <a:br>
              <a:rPr sz="2000"/>
            </a:b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Французский барон Пьер де Кубертен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сказал тогда: «Германия раскопала то, что осталось от древней Олимпии. Почему Франция не может восстановить старое величие?»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4980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мнению Кубертена, именно слабое физическое состояние французских солдат стало одной из причин поражения французов в Франко-прусской войне 1870-1871 годов. Он стремился изменить положение с помощью улучшения физической культуры французов. Одновременно с этим, он хотел преодолеть национальный эгоизм и сделать вклад в борьбу за мир и международное взаимопонимание. «Молодежь мира» должна была мериться силами в спортивных состязаниях, а не на полях би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5381640" y="1484280"/>
            <a:ext cx="376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а конгрессе, проведённом 16-23 июня 1894 года в парижском университете Сорбонне, он представил свои мысли и идеи международной публике. В последний день конгресса было принято решение о том, что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первые Олимпийские Игры современности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должны состояться в 1896 году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258920" y="2138400"/>
            <a:ext cx="6480000" cy="388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720" y="6165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лены Международного олимпийского ком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ервые Игры современности прошли с большим успехом. Несмотря на то, что участие в Играх приняли всего 241 атлетов из 14 стран, Игры стали крупнейшим спортивным событием, прошедшим когда-либо со времён Древней Греции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395280" y="2349360"/>
            <a:ext cx="4968720" cy="336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5800" y="616500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ремония открытия игр в Афинах, 1896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6084720" y="1413000"/>
            <a:ext cx="2749680" cy="43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5840" y="60210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е 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ца 1896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начально Кубертен хотел сделать Олимпийские игры любительским соревнованием, в которому нет места профессионалам, занимающимся спортом за деньги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413000"/>
            <a:ext cx="4762440" cy="340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100480" y="1484280"/>
            <a:ext cx="4043520" cy="2741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6520" y="4437000"/>
            <a:ext cx="38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узские велогонщ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 Фламан и Поль Масс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аман завоевал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нке на 100 км, а Массон выиг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ые медал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анциях 2 км и 10 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" y="50839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тарте соревнований по велоспор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93840" y="2852280"/>
            <a:ext cx="424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ревнование по фехтован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932360" y="0"/>
            <a:ext cx="4032360" cy="2903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246640" y="3357720"/>
            <a:ext cx="3897360" cy="271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4160" y="6092280"/>
            <a:ext cx="29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нировка легкоатл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мараф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История первых Олимпийских Игр современности. 1896 год"/>
          <p:cNvPicPr/>
          <p:nvPr/>
        </p:nvPicPr>
        <p:blipFill>
          <a:blip r:embed="rId4"/>
          <a:srcRect l="6425" t="0" r="5669" b="-451"/>
          <a:stretch/>
        </p:blipFill>
        <p:spPr>
          <a:xfrm>
            <a:off x="611280" y="0"/>
            <a:ext cx="284004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80" y="6021000"/>
            <a:ext cx="55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еческий спортсмен Спиридон Спиридон Луис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бедитель первого олимпийского мараф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788000" y="3645000"/>
            <a:ext cx="4066920" cy="285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67600" y="649044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оревнованиях по теннис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788000" y="11592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8920" y="306828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мецкий гимнаст Карл Шум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вший олимпийским чемпи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История первых Олимпийских Игр современности. 1896 год"/>
          <p:cNvPicPr/>
          <p:nvPr/>
        </p:nvPicPr>
        <p:blipFill>
          <a:blip r:embed="rId4"/>
          <a:stretch/>
        </p:blipFill>
        <p:spPr>
          <a:xfrm>
            <a:off x="179280" y="260280"/>
            <a:ext cx="426564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7840" y="594936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идов гимнаст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ревнований - кан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89000"/>
            <a:ext cx="375768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0000" y="580500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кобол Роберт Гарре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оевавший олимпийское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572000" y="115920"/>
            <a:ext cx="4352760" cy="554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56760" y="587628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й стадион в Афин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19:17Z</dcterms:created>
  <dc:creator>1</dc:creator>
  <dc:description/>
  <dc:language>en-US</dc:language>
  <cp:lastModifiedBy>1</cp:lastModifiedBy>
  <dcterms:modified xsi:type="dcterms:W3CDTF">2010-11-19T07:21:50Z</dcterms:modified>
  <cp:revision>3</cp:revision>
  <dc:subject/>
  <dc:title>Современные олимпийские игры</dc:title>
</cp:coreProperties>
</file>