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38C-BFE9-45A3-96C7-3CE99FBA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171-8B7E-4AA7-A82F-229E1B19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76E-876C-41C2-A8EA-D899B8F0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6D4-0DD9-4478-B639-EB4E6003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B27D-667B-44CD-8397-0E7935E4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64F3-D932-419A-8FA1-FC9070FC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9C92-9F3D-4ACF-A124-52D830B4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280E-55E5-4E9B-99CD-1050688B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5CBD-F380-4DE8-AFE2-41F28746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5938-5358-4E71-8322-9A7C516B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DB90-F97F-4F3F-9DB9-BA94408D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8BA-2A69-437E-907B-13D8F83B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E5EF-B68E-4913-BE86-79AC2480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09C4-3813-4BE6-AD2A-8C225B4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BC98-8ADD-4FAE-904F-DB8C6F7E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65F7-E5A9-4BAE-8F15-EAADE712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AFA6-55EB-4CF6-AC83-31F6C06F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1A6-F9BB-45E9-A794-886F54BB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580-AC63-40CB-B7D2-F284D501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572-E937-4944-A767-1960FDB4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D02-AA51-4027-A6BA-17373C80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E9E-60B8-4417-AE2B-BDAEC544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E27-5F86-46EE-9B55-90F3AB9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4CC-3808-4660-A290-CED934E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82C6-09EA-49F2-BA67-9B3E4CFF7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F7C4-FF0E-4B06-A603-C1E4B3BEA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Современные</a:t>
            </a: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олимпийские</a:t>
            </a: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игр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3556" t="22023" r="13539" b="25674"/>
          <a:stretch/>
        </p:blipFill>
        <p:spPr>
          <a:xfrm>
            <a:off x="2340000" y="4689360"/>
            <a:ext cx="45370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ервые современные Олимпийские игр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Традиция, существовавшая в Древней Греции, возродилась благодаря французскому общественному деятелю Пьеру де Кубертену. Игры проходили 12 дней с 6 по 15 апреля 1896 года в Афинах и стали крупнейшим международным событием..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187280" y="2060640"/>
            <a:ext cx="6337440" cy="438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9080" y="649044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ериканские спортсмены из Принстонского университе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Желание возродить олимпийское мышление и культуру распространилось довольно быстро по всей Европе. </a:t>
            </a:r>
            <a:br>
              <a:rPr sz="2000"/>
            </a:b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Французский барон Пьер де Кубертен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сказал тогда: «Германия раскопала то, что осталось от древней Олимпии. Почему Франция не может восстановить старое величие?»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2852280"/>
            <a:ext cx="49802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 мнению Кубертена, именно слабое физическое состояние французских солдат стало одной из причин поражения французов в Франко-прусской войне 1870-1871 годов. Он стремился изменить положение с помощью улучшения физической культуры французов. Одновременно с этим, он хотел преодолеть национальный эгоизм и сделать вклад в борьбу за мир и международное взаимопонимание. «Молодежь мира» должна была мериться силами в спортивных состязаниях, а не на полях би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5381640" y="1484280"/>
            <a:ext cx="376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а конгрессе, проведённом 16-23 июня 1894 года в парижском университете Сорбонне, он представил свои мысли и идеи международной публике. В последний день конгресса было принято решение о том, что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первые Олимпийские Игры современности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должны состояться в 1896 году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258920" y="2138400"/>
            <a:ext cx="6480000" cy="3887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6720" y="616500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лены Международного олимпийского комите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ервые Игры современности прошли с большим успехом. Несмотря на то, что участие в Играх приняли всего 241 атлетов из 14 стран, Игры стали крупнейшим спортивным событием, прошедшим когда-либо со времён Древней Греции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395280" y="2349360"/>
            <a:ext cx="4968720" cy="3368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5800" y="6165000"/>
            <a:ext cx="50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ремония открытия игр в Афинах, 1896 г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6084720" y="1413000"/>
            <a:ext cx="2749680" cy="439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5840" y="602100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импийские мед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зца 1896 г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начально Кубертен хотел сделать Олимпийские игры любительским соревнованием, в которому нет места профессионалам, занимающимся спортом за деньги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79280" y="1413000"/>
            <a:ext cx="4762440" cy="3400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5100480" y="1484280"/>
            <a:ext cx="4043520" cy="2741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6520" y="4437000"/>
            <a:ext cx="38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узские велогонщ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он Фламан и Поль Масс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ламан завоевал золо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нке на 100 км, а Массон выиг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ые медали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танциях 2 км и 10 к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" y="508392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старте соревнований по велоспор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93840" y="2852280"/>
            <a:ext cx="424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ревнование по фехтовани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4932360" y="0"/>
            <a:ext cx="4032360" cy="2903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5246640" y="3357720"/>
            <a:ext cx="3897360" cy="271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14160" y="6092280"/>
            <a:ext cx="29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енировка легкоатл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 марафо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История первых Олимпийских Игр современности. 1896 год"/>
          <p:cNvPicPr/>
          <p:nvPr/>
        </p:nvPicPr>
        <p:blipFill>
          <a:blip r:embed="rId4"/>
          <a:srcRect l="6425" t="0" r="5669" b="-451"/>
          <a:stretch/>
        </p:blipFill>
        <p:spPr>
          <a:xfrm>
            <a:off x="611280" y="0"/>
            <a:ext cx="2840040" cy="609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80" y="6021000"/>
            <a:ext cx="552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еческий спортсмен Спиридон Спиридон Луис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бедитель первого олимпийского мараф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4788000" y="3645000"/>
            <a:ext cx="4066920" cy="2855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67600" y="649044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соревнованиях по теннис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4788000" y="11592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858920" y="3068280"/>
            <a:ext cx="39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мецкий гимнаст Карл Шум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вший олимпийским чемпио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История первых Олимпийских Игр современности. 1896 год"/>
          <p:cNvPicPr/>
          <p:nvPr/>
        </p:nvPicPr>
        <p:blipFill>
          <a:blip r:embed="rId4"/>
          <a:stretch/>
        </p:blipFill>
        <p:spPr>
          <a:xfrm>
            <a:off x="179280" y="260280"/>
            <a:ext cx="4265640" cy="5545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7840" y="594936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ин из видов гимнастичес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ревнований - кан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79280" y="189000"/>
            <a:ext cx="375768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0000" y="580500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кобол Роберт Гарре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оевавший олимпийское золо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4572000" y="115920"/>
            <a:ext cx="4352760" cy="5545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56760" y="5876280"/>
            <a:ext cx="37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импийский стадион в Афин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8:19:17Z</dcterms:created>
  <dc:creator>1</dc:creator>
  <dc:description/>
  <dc:language>en-US</dc:language>
  <cp:lastModifiedBy>1</cp:lastModifiedBy>
  <dcterms:modified xsi:type="dcterms:W3CDTF">2010-11-19T07:21:50Z</dcterms:modified>
  <cp:revision>3</cp:revision>
  <dc:subject/>
  <dc:title>Современные олимпийские игры</dc:title>
</cp:coreProperties>
</file>