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8FA-5D6B-4DAA-9650-3543C30E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FA0-4C4D-4A00-A5DB-717FD553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784-ABB8-4137-9D0B-8B91F391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55C-6ADE-4AAF-A970-3AD83356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E27D-91C6-47E9-87AE-E9E29EBD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FD1C-DA71-4FCF-9548-949B679E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E04C-FAE0-403D-93A2-E838E890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A5C7-6CDC-4363-AEF8-AAE38450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0A8D-0A38-469E-AFD0-16280EFB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2EFE-507D-4AA8-A2EC-0BC7E0CA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3F9C-3E17-479D-9063-6CF36BF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21E-64ED-4C84-9310-3C22CE27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95BD-0639-404F-8578-9AF855CA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7AA8-5F1E-479C-A14E-AA67C69E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F8C5-005D-450D-A7B6-C9EAE802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A2AF-984C-4824-8210-3223A971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ADA5-4B8C-4013-BB6F-5B8B2F56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074-6AD4-46CC-B74D-EEADB7FF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3D3-36A2-458E-9E08-00E8840D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3CD-6F15-401F-A3CE-98D18495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766-ED67-42FE-961C-DA9E1D8F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A2B-6A2A-4618-84D5-CF9205B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CFE-6EB5-44DF-9215-FB546BFD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E7F-4E5D-4B1C-87DF-3F436BA8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043F-B944-44B5-8881-785769003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68B4-5BAD-4067-9D29-43B7543C2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Современные</a:t>
            </a: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олимпийские</a:t>
            </a: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игры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3556" t="22023" r="13539" b="25674"/>
          <a:stretch/>
        </p:blipFill>
        <p:spPr>
          <a:xfrm>
            <a:off x="2340000" y="4689360"/>
            <a:ext cx="45370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ервые современные Олимпийские игр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Традиция, существовавшая в Древней Греции, возродилась благодаря французскому общественному деятелю Пьеру де Кубертену. Игры проходили 12 дней с 6 по 15 апреля 1896 года в Афинах и стали крупнейшим международным событием..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187280" y="2060640"/>
            <a:ext cx="6337440" cy="438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9080" y="649044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мериканские спортсмены из Принстонского университе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Желание возродить олимпийское мышление и культуру распространилось довольно быстро по всей Европе. </a:t>
            </a:r>
            <a:br>
              <a:rPr sz="2000"/>
            </a:b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Французский барон Пьер де Кубертен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сказал тогда: «Германия раскопала то, что осталось от древней Олимпии. Почему Франция не может восстановить старое величие?»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2852280"/>
            <a:ext cx="49802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 мнению Кубертена, именно слабое физическое состояние французских солдат стало одной из причин поражения французов в Франко-прусской войне 1870-1871 годов. Он стремился изменить положение с помощью улучшения физической культуры французов. Одновременно с этим, он хотел преодолеть национальный эгоизм и сделать вклад в борьбу за мир и международное взаимопонимание. «Молодежь мира» должна была мериться силами в спортивных состязаниях, а не на полях би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5381640" y="1484280"/>
            <a:ext cx="376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а конгрессе, проведённом 16-23 июня 1894 года в парижском университете Сорбонне, он представил свои мысли и идеи международной публике. В последний день конгресса было принято решение о том, что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первые Олимпийские Игры современности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должны состояться в 1896 году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258920" y="2138400"/>
            <a:ext cx="6480000" cy="3887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6720" y="616500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лены Международного олимпийского комите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ервые Игры современности прошли с большим успехом. Несмотря на то, что участие в Играх приняли всего 241 атлетов из 14 стран, Игры стали крупнейшим спортивным событием, прошедшим когда-либо со времён Древней Греции.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395280" y="2349360"/>
            <a:ext cx="4968720" cy="3368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5800" y="6165000"/>
            <a:ext cx="50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ремония открытия игр в Афинах, 1896 г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6084720" y="1413000"/>
            <a:ext cx="2749680" cy="439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225840" y="602100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импийские меда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бразца 1896 г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начально Кубертен хотел сделать Олимпийские игры любительским соревнованием, в которому нет места профессионалам, занимающимся спортом за деньги</a:t>
            </a:r>
            <a:br>
              <a:rPr sz="2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79280" y="1413000"/>
            <a:ext cx="4762440" cy="3400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5100480" y="1484280"/>
            <a:ext cx="4043520" cy="2741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6520" y="4437000"/>
            <a:ext cx="38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узские велогонщ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он Фламан и Поль Масс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ламан завоевал золо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нке на 100 км, а Массон выиг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ые медали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танциях 2 км и 10 к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" y="508392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старте соревнований по велоспор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93840" y="2852280"/>
            <a:ext cx="424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ревнование по фехтовани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4932360" y="0"/>
            <a:ext cx="4032360" cy="2903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5246640" y="3357720"/>
            <a:ext cx="3897360" cy="271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14160" y="6092280"/>
            <a:ext cx="29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енировка легкоатл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д марафо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История первых Олимпийских Игр современности. 1896 год"/>
          <p:cNvPicPr/>
          <p:nvPr/>
        </p:nvPicPr>
        <p:blipFill>
          <a:blip r:embed="rId4"/>
          <a:srcRect l="6425" t="0" r="5669" b="-451"/>
          <a:stretch/>
        </p:blipFill>
        <p:spPr>
          <a:xfrm>
            <a:off x="611280" y="0"/>
            <a:ext cx="2840040" cy="609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80" y="6021000"/>
            <a:ext cx="552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еческий спортсмен Спиридон Спиридон Луис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бедитель первого олимпийского мараф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4788000" y="3645000"/>
            <a:ext cx="4066920" cy="2855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67600" y="6490440"/>
            <a:ext cx="34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соревнованиях по теннис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4788000" y="115920"/>
            <a:ext cx="4211640" cy="293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858920" y="3068280"/>
            <a:ext cx="39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мецкий гимнаст Карл Шум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вший олимпийским чемпио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История первых Олимпийских Игр современности. 1896 год"/>
          <p:cNvPicPr/>
          <p:nvPr/>
        </p:nvPicPr>
        <p:blipFill>
          <a:blip r:embed="rId4"/>
          <a:stretch/>
        </p:blipFill>
        <p:spPr>
          <a:xfrm>
            <a:off x="179280" y="260280"/>
            <a:ext cx="4265640" cy="5545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7840" y="594936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ин из видов гимнастичес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ревнований - кан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История первых Олимпийских Игр современности. 1896 год"/>
          <p:cNvPicPr/>
          <p:nvPr/>
        </p:nvPicPr>
        <p:blipFill>
          <a:blip r:embed="rId2"/>
          <a:stretch/>
        </p:blipFill>
        <p:spPr>
          <a:xfrm>
            <a:off x="179280" y="189000"/>
            <a:ext cx="375768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0000" y="580500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кобол Роберт Гарре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воевавший олимпийское золо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История первых Олимпийских Игр современности. 1896 год"/>
          <p:cNvPicPr/>
          <p:nvPr/>
        </p:nvPicPr>
        <p:blipFill>
          <a:blip r:embed="rId3"/>
          <a:stretch/>
        </p:blipFill>
        <p:spPr>
          <a:xfrm>
            <a:off x="4572000" y="115920"/>
            <a:ext cx="4352760" cy="5545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56760" y="5876280"/>
            <a:ext cx="37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импийский стадион в Афин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8:19:17Z</dcterms:created>
  <dc:creator>1</dc:creator>
  <dc:description/>
  <dc:language>en-US</dc:language>
  <cp:lastModifiedBy>1</cp:lastModifiedBy>
  <dcterms:modified xsi:type="dcterms:W3CDTF">2010-11-19T07:21:50Z</dcterms:modified>
  <cp:revision>3</cp:revision>
  <dc:subject/>
  <dc:title>Современные олимпийские игры</dc:title>
</cp:coreProperties>
</file>