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596-A280-46DE-AC1A-22ABA412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4B6-BE4D-4F5D-8564-6F7B8250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BD2-AB58-4973-A3B2-42BBAE24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77D-A669-47D0-A3A3-CE3A58AA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DF3-3DDA-430A-A4A4-B10A143D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CCF-08A2-4019-9239-A88D5776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FBC-C7C1-4DFF-890D-2E27C940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2DD-46D1-4D45-ACA2-F63863EA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079-273A-435F-B9AF-5EBB9A33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A91-EFFF-43F8-8FD5-4BF0205E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274-88A0-4D29-ACD0-A72D5C88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9D7-2A5D-47FB-8872-041D22C0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9A04-9086-4882-90D2-6C75E0EAC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557360"/>
            <a:ext cx="7769160" cy="20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имфонический</a:t>
            </a:r>
            <a:endParaRPr b="1" i="1" lang="en-US" sz="8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       </a:t>
            </a:r>
            <a:r>
              <a:rPr b="1" i="1" lang="en-US" sz="8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оркестр</a:t>
            </a:r>
            <a:endParaRPr b="1" i="1" lang="en-US" sz="8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877000"/>
            <a:ext cx="41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: Матрос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10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3680" y="549360"/>
            <a:ext cx="71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Симфонический оркес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9440" y="404640"/>
            <a:ext cx="8009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имфонический орке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о главе орк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сположение инструментов в оркест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сновные группы орк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руппа деревянных духовых инстру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ак звучит симфонический оркест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4653000"/>
            <a:ext cx="30240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617840"/>
            <a:ext cx="8713800" cy="481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47640" y="189000"/>
            <a:ext cx="78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Схем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расположения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музыкантов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симфонического оркестра на с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7815" r="0" b="0"/>
          <a:stretch/>
        </p:blipFill>
        <p:spPr>
          <a:xfrm>
            <a:off x="0" y="0"/>
            <a:ext cx="9144000" cy="561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6000" y="189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 главе орке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587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ириж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8560" y="2421000"/>
            <a:ext cx="5545080" cy="158256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мфонический оркес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549360"/>
            <a:ext cx="3240000" cy="1079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Деревянные дух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76280"/>
            <a:ext cx="3240000" cy="1079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трунные смы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724280"/>
            <a:ext cx="3313080" cy="1079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Медные дух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4724280"/>
            <a:ext cx="3313080" cy="1079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414972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414972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177336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77336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5048280" cy="326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741760" y="765000"/>
            <a:ext cx="36590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флейта</a:t>
            </a:r>
            <a:endParaRPr b="0" lang="en-US" sz="5400" spc="-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1623960"/>
            <a:ext cx="4824360" cy="4567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231000">
            <a:off x="1258920" y="1412640"/>
            <a:ext cx="223848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1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бой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1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1762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59280" y="1773360"/>
            <a:ext cx="306720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рнет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2847960" cy="4029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6720" y="2708280"/>
            <a:ext cx="2305080" cy="942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фагот</a:t>
            </a:r>
            <a:endParaRPr b="0" lang="en-US" sz="6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7:37:30Z</dcterms:created>
  <dc:creator>Mmc2</dc:creator>
  <dc:description/>
  <dc:language>en-US</dc:language>
  <cp:lastModifiedBy>Mmc2</cp:lastModifiedBy>
  <dcterms:modified xsi:type="dcterms:W3CDTF">2009-11-16T12:03:51Z</dcterms:modified>
  <cp:revision>8</cp:revision>
  <dc:subject/>
  <dc:title>Слайд 1</dc:title>
</cp:coreProperties>
</file>