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468-9E3B-407C-AA9E-F2A73BC8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6F8-4809-49EC-82E4-315EEF25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200-8130-489E-9394-1454DEBF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A99-6B25-486D-9F20-E0122F3C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B7E-55FF-4528-ACA4-29BE9D0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FA8-C5CE-4CC5-AE45-38E62447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2ED-C554-42BD-95B7-7EFF79F4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5BE-0FF3-4025-8D4F-01BE1689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A69-2559-4335-9EEC-DC38918D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1A1-4875-44AD-AE78-1497E2A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157-A754-4B9F-AF4A-0C9D8A0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9B0-FEB4-4288-A60D-36D3870D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F3F-E6E6-42EB-B58A-788BE195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557360"/>
            <a:ext cx="776916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имфонический</a:t>
            </a:r>
            <a:endParaRPr b="1" i="1" lang="en-US" sz="8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       </a:t>
            </a: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ркестр</a:t>
            </a:r>
            <a:endParaRPr b="1" i="1" lang="en-US" sz="8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877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: Матрос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3680" y="549360"/>
            <a:ext cx="71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Симфонический оркес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9440" y="404640"/>
            <a:ext cx="8009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 главе орк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положение инструментов в оркес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сновные группы орк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уппа деревянных духовых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 звучит симфонический оркест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617840"/>
            <a:ext cx="8713800" cy="481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189000"/>
            <a:ext cx="78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хем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расположения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музыканто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имфонического оркестра на с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815" r="0" b="0"/>
          <a:stretch/>
        </p:blipFill>
        <p:spPr>
          <a:xfrm>
            <a:off x="0" y="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1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главе орк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ириж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8560" y="2421000"/>
            <a:ext cx="5545080" cy="158256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мфонический 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549360"/>
            <a:ext cx="3240000" cy="1079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еревян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76280"/>
            <a:ext cx="324000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трунные 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724280"/>
            <a:ext cx="331308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Мед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4724280"/>
            <a:ext cx="331308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414972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414972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773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773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048280" cy="326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41760" y="765000"/>
            <a:ext cx="36590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флейта</a:t>
            </a:r>
            <a:endParaRPr b="0" lang="en-US" sz="5400" spc="-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1623960"/>
            <a:ext cx="482436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231000">
            <a:off x="1258920" y="1412640"/>
            <a:ext cx="223848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бой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59280" y="1773360"/>
            <a:ext cx="30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рнет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2847960" cy="402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6720" y="2708280"/>
            <a:ext cx="2305080" cy="94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фагот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7:37:30Z</dcterms:created>
  <dc:creator>Mmc2</dc:creator>
  <dc:description/>
  <dc:language>en-US</dc:language>
  <cp:lastModifiedBy>Mmc2</cp:lastModifiedBy>
  <dcterms:modified xsi:type="dcterms:W3CDTF">2009-11-16T12:03:51Z</dcterms:modified>
  <cp:revision>8</cp:revision>
  <dc:subject/>
  <dc:title>Слайд 1</dc:title>
</cp:coreProperties>
</file>