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093-9027-4AC8-8650-E71C0095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EAB-E519-4F21-A256-067E925A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3B8-AD34-468A-977C-D5D99CBB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D6D-1458-41D0-8272-93C3F408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897-109C-412D-B6C9-39E8EE65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DB05-FE5A-4669-AC76-ABE1CA18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6F8-A83D-4822-82B4-CD36701F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27D-CBB7-4098-B0E8-E370DD4B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726-1182-455E-964F-C0B711DC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EC6-2AEE-4171-9EC4-9773EA3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1E9-68E6-4361-BB5B-3B3249CC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37E-D6F7-4534-97FF-0A8CDE2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A15A-78B3-4888-9A93-D54B9F4D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557360"/>
            <a:ext cx="776916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имфонический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       </a:t>
            </a:r>
            <a:r>
              <a:rPr b="1" i="1" lang="en-US" sz="80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оркестр</a:t>
            </a:r>
            <a:endParaRPr b="1" i="1" lang="en-US" sz="80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5877000"/>
            <a:ext cx="41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: Матрос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1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83680" y="549360"/>
            <a:ext cx="71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Симфонический оркес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9440" y="404640"/>
            <a:ext cx="800964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имфонический орке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 главе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сположение инструментов в оркест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Основные группы орк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руппа деревянных духовых инстру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 звучит симфонический оркест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617840"/>
            <a:ext cx="8713800" cy="48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47640" y="189000"/>
            <a:ext cx="78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хем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расположения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музыканто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симфонического оркестра на с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7815" r="0" b="0"/>
          <a:stretch/>
        </p:blipFill>
        <p:spPr>
          <a:xfrm>
            <a:off x="0" y="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189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 главе орке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ириж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8560" y="2421000"/>
            <a:ext cx="5545080" cy="158256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мфонический оркес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549360"/>
            <a:ext cx="3240000" cy="1079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еревян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76280"/>
            <a:ext cx="324000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Струнные 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Медные дух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4724280"/>
            <a:ext cx="3313080" cy="1079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д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4149720"/>
            <a:ext cx="216000" cy="503280"/>
          </a:xfrm>
          <a:prstGeom prst="down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773360"/>
            <a:ext cx="216000" cy="503280"/>
          </a:xfrm>
          <a:prstGeom prst="upArrow">
            <a:avLst>
              <a:gd name="adj1" fmla="val 50000"/>
              <a:gd name="adj2" fmla="val 5825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048280" cy="326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41760" y="765000"/>
            <a:ext cx="36590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флейта</a:t>
            </a:r>
            <a:endParaRPr b="0" lang="en-US" sz="54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1623960"/>
            <a:ext cx="482436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31000">
            <a:off x="1258920" y="1412640"/>
            <a:ext cx="223848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7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обой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7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1762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59280" y="1773360"/>
            <a:ext cx="30672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рнет</a:t>
            </a:r>
            <a:endParaRPr b="0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2847960" cy="4029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33336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2520" y="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еревянные дух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08640"/>
            <a:ext cx="9144000" cy="730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6720" y="2708280"/>
            <a:ext cx="2305080" cy="942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фагот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7:37:30Z</dcterms:created>
  <dc:creator>Mmc2</dc:creator>
  <dc:description/>
  <dc:language>en-US</dc:language>
  <cp:lastModifiedBy>Mmc2</cp:lastModifiedBy>
  <dcterms:modified xsi:type="dcterms:W3CDTF">2009-11-16T12:03:51Z</dcterms:modified>
  <cp:revision>8</cp:revision>
  <dc:subject/>
  <dc:title>Слайд 1</dc:title>
</cp:coreProperties>
</file>