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B7B-5514-4DEE-81A6-82FCD533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1E9-2701-4106-893C-E5557FAE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311-4DE4-4250-B2A9-59DEF51D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E53-DFFB-47C2-8C10-C16D31B4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6AE0-F8B3-4590-A45B-94D5AA12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C683-5D0F-4CCF-AD52-FE89653F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4237-824F-44D0-8629-A55F4330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BE12-00A4-4AF9-A6BD-D5A9C403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302F-954B-4F9D-887E-D13A6494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459A-B5F1-4DA2-99D4-DACE6189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1687-7ED4-4A69-B5BD-0F6110FE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70A-0B2B-41C0-B05D-5999F1C9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2663-653A-48EE-AAAE-1D4A1FE7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AEBA-D530-4E6B-9468-C7955E52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8FCF-A2D7-4F87-B674-C038BB44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0C3F-BE1F-4E69-A4A1-B8F190BA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C1D7-E9D3-4E33-952B-A3139BA4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D7E-5079-4C23-850A-5F8DD696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A4FF-BF29-4DCF-A104-9799491F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FBE-4C0F-420E-A97E-7212D3DB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E56-A25A-4319-8FC8-9F64A393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BD8-CB32-43D7-9B4C-DC17C7A5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728-2458-41AB-BEBD-FDB9B768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DFA-2C0A-4501-B5B8-4844FF5A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A990-764D-408F-AEB1-E77C249BA0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AB6B-DB26-4AAE-BF23-160D470456C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4000" y="184464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Arial"/>
              </a:rPr>
              <a:t>«Право семьи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311640" cy="24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4572000" y="3429000"/>
          <a:ext cx="3313080" cy="244800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16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Основания для прекращения бра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рак прекращается вследствие смерти или вследствие объявления судом одного из супругов умерш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Брак может быть прекращен путем его расторжения по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явлению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одного или обоих супругов, а также по заявлению опекуна супруга, признанного судом недееспособны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татья 17.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Ограничение права на предъявление мужем требования о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расторжении брак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уж не вправе без согласия жены возбуждать дело о расторжении брака во время беременности жены и в течение одного года после рождения реб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665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татья 19.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Расторжение брака в органах записи актов гражданского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состоян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При взаимном согласии на расторжение брака супругов, не имеющих общих несовершеннолетних детей, расторжение брака производится в органа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записи актов гражданского состоя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2. Расторжение брака по заявлению одного из супругов независимо от наличия у супругов общих несовершеннолетних детей производится в органа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записи актов гражданского состояния, если другой супруг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1) признан судом безвестно отсутствующи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2) признан судом недееспособны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3) осужден за совершение преступления к лишению свободы на срок свыше трех ле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34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вместная собственность супруг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7280" y="1628280"/>
            <a:ext cx="8569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мущество, нажитое супругами во время брака, является их совместной собственно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2.        К имуществу, нажитому супругами во время брака (общему имуществу супругов), относятся доходы каждого из супругов от трудовой деятельности, предпринимательской деятельности и результатов интеллектуальной деятельности, полученные ими пенсии, пособия, а также денежные выплаты, не имеющие специального целевого назначения (суммы материальной помощи, суммы, выплаченные в возмещение ущерба в связи с утратой трудоспособности вследствие увечья либо иного повреждения здоровья, и другие). Общим имуществом супругов являются также приобретенные за счет общих доходов супругов движимые и недвижимые вещи, ценные бумаги, паи, вклады, доли в капитале, внесенные в кредитные учреждения или в иные коммерческие организации, и любое другое нажитое супругами в период брака имущество независимо от того, на имя кого из супругов оно приобретено либо на имя кого или кем из супругов внесены денежные сред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6360" y="404280"/>
            <a:ext cx="7989840" cy="5488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"/>
              </a:rPr>
              <a:t>Статья 40. </a:t>
            </a: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Брачный договор.</a:t>
            </a:r>
            <a:br>
              <a:rPr sz="4800"/>
            </a:br>
            <a:br>
              <a:rPr sz="36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рачным договором признается соглашение лиц, вступающих в брак, или соглашение супругов, определя-ющее имущественные права и обя-занности супругов в браке и (или) в случае его расторжения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76360" y="2420640"/>
            <a:ext cx="696744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учить Главу 8 (ст.40-44) Семейного кодекса РФ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ить брачный догов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2676600" y="765000"/>
            <a:ext cx="3695760" cy="552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2627280" y="692280"/>
          <a:ext cx="3780000" cy="561636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56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24000" y="475920"/>
            <a:ext cx="6696000" cy="22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Брачный союз - первая ступень человеческого общества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Марк Туллий Цицер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2644560" cy="174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2"/>
          <a:stretch/>
        </p:blipFill>
        <p:spPr>
          <a:xfrm>
            <a:off x="5840280" y="3998880"/>
            <a:ext cx="2476800" cy="16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444600" y="4005360"/>
          <a:ext cx="2687400" cy="1728720"/>
        </p:xfrm>
        <a:graphic>
          <a:graphicData uri="http://schemas.openxmlformats.org/drawingml/2006/table">
            <a:tbl>
              <a:tblPr/>
              <a:tblGrid>
                <a:gridCol w="268740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867280" y="4005360"/>
          <a:ext cx="2448000" cy="165564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1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Основные начала семейного законодательст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2. Признается брак, заключенный только в органах записи актов гражданского состоя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3. Регулирование семейных отношений осуществляется в соответствии с принципами добровольности брачного союза мужчины и женщины, равенства прав супругов в семье, разрешения внутрисемейных вопросов по взаимному согласию, приоритета семейного воспитания детей, заботы об их благосостоянии и   развитии, обеспечения приоритетной защиты прав и интересов несовершеннолетних и нетрудоспособных членов семь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4. Запрещаются любые формы ограничения прав граждан при вступлении в брак и в семейных отношениях по признакам социальной, расовой, национальной, языковой или религиозной принадле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10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Заключение бра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рак заключается в органах записи актов гражданского состоя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ава и обязанности супругов возникают со дня государственной регистрации заключения брака в органах записи актов гражданского состоя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11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Порядок заключения брак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Заключение брака производится в личном присутствии лиц, вступающих в брак, по истечении одного месяца со дня подачи ими заявления в органы записи актов гражданского состоя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2.  При наличии уважительных причин орган записи актов гражданского состояния по месту государственной регистрации заключения брака может разрешить заключение брака до истечения одного месяца, а также может увеличить этот срок, но не более чем на один меся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3. При наличии особых обстоятельств (беременности, рождения ребенка, непосредственной угрозы жизни одной из сторон и других особых обстоятельств) брак может быть заключен в день подачи зая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12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Условия заключения брак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 Для заключения брака необходимы взаимное добровольное соглас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ужчины и женщины, вступающих в брак, и достижение ими брачно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Брак не может быть заключен при наличии обстоятельств, указанных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татье 14 настоящего Кодек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атья 13. 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Брачный возрас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179000"/>
            <a:ext cx="8353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рачный возраст устанавливается в восемнадцать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2. При наличии уважительных причин органы местного самоуправления по месту жительства лиц, желающих вступить в брак, вправе по просьбе данных лиц разрешить вступить в брак лицам, достигшим возраста шестнадцати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3. В виде исключения при наличии особых обстоятельств может быть разрешено вступление в брак лицам, не достигшим возраста шестнадцати лет. (Сем. кодекс Р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4. Особыми обстоятельствами, дающими право на разрешение вступить в брак лицам, желающим вступить в брак и не достигшим возраста шестнадцати лет, являются беременность, рождение ребенка, непосредственная угроза жизни одной из сторон, иные обстоятельства, которые могут быть признаны особ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14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Обстоятельства, препятствующие заключению брак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 допускается заключение брака межд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ицами, из которых хотя бы одно лицо уже состоит в другом зарегистрированном бра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2) близкими родственниками (родственниками по прямой восходящей и нисходящей линии (родителями и детьми, дедушкой, бабушкой и внуками), полнородными и неполнородными (имеющими общих отца или мать) братьями и сестрам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3) усыновителями и усыновленны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4) лицами, из которых хотя бы одно лицо признано судом недееспособным вследствие психического расстро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8:10:43Z</dcterms:created>
  <dc:creator>User</dc:creator>
  <dc:description/>
  <dc:language>en-US</dc:language>
  <cp:lastModifiedBy>Пользователь</cp:lastModifiedBy>
  <dcterms:modified xsi:type="dcterms:W3CDTF">2013-10-31T19:49:26Z</dcterms:modified>
  <cp:revision>47</cp:revision>
  <dc:subject/>
  <dc:title>Тема урока: </dc:title>
</cp:coreProperties>
</file>