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572F-99F4-46A8-87D0-D13672999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F649-8339-4830-ADC7-C1384B305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7CA8-EAED-4300-87D9-BD0D03F39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7D01-FB61-4666-9B42-E475DA3CB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7F9F8-3C8C-4DD7-8C30-F713B9CC8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A5F03-816F-4C06-A87F-BEB11CB99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7C39F-E729-4296-918D-FA47BE1DF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D8C5F-AE60-4502-9979-3D6292834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0B655-E62C-4D88-B26D-2044AF66B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3FD72-3DCF-438E-B63D-9DDEDCFED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BFE53-7CE5-4051-9003-89872D18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36AE-CB8D-4C0A-89BD-5DAEB5152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3ACE4-F33E-41F5-A2D1-9ADB6FD9A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A5959-70D9-4191-B480-F283CCC63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3E3D9-6E69-49C9-8DA1-AE0DC9165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5D1AD-E8C7-4A96-8A0C-7FC467FCB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4A1AA-C86A-41EF-94C8-196BC1E8C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233F-E44F-4A98-A8A8-DFE9078E2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7B91-EDCC-45AA-BAF8-600C19216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D2C2-C2BC-47BE-8C21-425826BA9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D208-3BE1-4FFB-B172-35FBFE1E7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8C1A-DE66-4BF2-B482-5555BF0A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8769-DEB5-4696-B4B6-4763AA17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3A5F-8FB5-46D1-B807-C815AFEC7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10F19-7F66-478E-8DA5-213D37A273B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FFBD4-1272-4171-8D47-58E0B5CEDF1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84000" y="1844640"/>
            <a:ext cx="7848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c00"/>
                </a:solidFill>
                <a:latin typeface="Arial"/>
              </a:rPr>
              <a:t>«Право семьи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5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3311640" cy="248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4572000" y="3429000"/>
          <a:ext cx="3313080" cy="2448000"/>
        </p:xfrm>
        <a:graphic>
          <a:graphicData uri="http://schemas.openxmlformats.org/drawingml/2006/table">
            <a:tbl>
              <a:tblPr/>
              <a:tblGrid>
                <a:gridCol w="3313080"/>
              </a:tblGrid>
              <a:tr h="24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"/>
              </a:rPr>
              <a:t>Статья 16. </a:t>
            </a: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Основания для прекращения брак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Брак прекращается вследствие смерти или вследствие объявления судом одного из супругов умерши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2. Брак может быть прекращен путем его расторжения по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заявлению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одного или обоих супругов, а также по заявлению опекуна супруга, признанного судом недееспособным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Статья 17. </a:t>
            </a: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Ограничение права на предъявление мужем требования о</a:t>
            </a:r>
            <a:br>
              <a:rPr sz="3200"/>
            </a:b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расторжении брака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Муж не вправе без согласия жены возбуждать дело о расторжении брака во время беременности жены и в течение одного года после рождения ребен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9240" y="226800"/>
            <a:ext cx="766584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Статья 19. </a:t>
            </a: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Расторжение брака в органах записи актов гражданского</a:t>
            </a:r>
            <a:br>
              <a:rPr sz="3200"/>
            </a:b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состояния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ru-RU" sz="2200" spc="-1" strike="noStrike">
                <a:solidFill>
                  <a:srgbClr val="ffff00"/>
                </a:solidFill>
                <a:latin typeface="Arial"/>
              </a:rPr>
              <a:t>При взаимном согласии на расторжение брака супругов, не имеющих общих несовершеннолетних детей, расторжение брака производится в органах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ru-RU" sz="2200" spc="-1" strike="noStrike">
                <a:solidFill>
                  <a:srgbClr val="ffff00"/>
                </a:solidFill>
                <a:latin typeface="Arial"/>
              </a:rPr>
              <a:t>записи актов гражданского состояни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Arial"/>
              </a:rPr>
              <a:t>2. Расторжение брака по заявлению одного из супругов независимо от наличия у супругов общих несовершеннолетних детей производится в органах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Arial"/>
              </a:rPr>
              <a:t>записи актов гражданского состояния, если другой супруг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Arial"/>
              </a:rPr>
              <a:t>1) признан судом безвестно отсутствующим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Arial"/>
              </a:rPr>
              <a:t>2) признан судом недееспособным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Arial"/>
              </a:rPr>
              <a:t>3) осужден за совершение преступления к лишению свободы на срок свыше трех лет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"/>
              </a:rPr>
              <a:t>Статья 34. </a:t>
            </a: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Совместная собственность супругов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87280" y="1628280"/>
            <a:ext cx="85694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3502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Имущество, нажитое супругами во время брака, является их совместной собственность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02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50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2.        К имуществу, нажитому супругами во время брака (общему имуществу супругов), относятся доходы каждого из супругов от трудовой деятельности, предпринимательской деятельности и результатов интеллектуальной деятельности, полученные ими пенсии, пособия, а также денежные выплаты, не имеющие специального целевого назначения (суммы материальной помощи, суммы, выплаченные в возмещение ущерба в связи с утратой трудоспособности вследствие увечья либо иного повреждения здоровья, и другие). Общим имуществом супругов являются также приобретенные за счет общих доходов супругов движимые и недвижимые вещи, ценные бумаги, паи, вклады, доли в капитале, внесенные в кредитные учреждения или в иные коммерческие организации, и любое другое нажитое супругами в период брака имущество независимо от того, на имя кого из супругов оно приобретено либо на имя кого или кем из супругов внесены денежные сред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6360" y="404280"/>
            <a:ext cx="7989840" cy="5488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Arial"/>
              </a:rPr>
              <a:t>Статья 40. </a:t>
            </a:r>
            <a:r>
              <a:rPr b="1" lang="ru-RU" sz="4800" spc="-1" strike="noStrike">
                <a:solidFill>
                  <a:srgbClr val="ffcc00"/>
                </a:solidFill>
                <a:latin typeface="Arial"/>
              </a:rPr>
              <a:t>Брачный договор.</a:t>
            </a:r>
            <a:br>
              <a:rPr sz="4800"/>
            </a:br>
            <a:br>
              <a:rPr sz="3600"/>
            </a:b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Брачным договором признается соглашение лиц, вступающих в брак, или соглашение супругов, определя-ющее имущественные права и обя-занности супругов в браке и (или) в случае его расторжения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476360" y="2420640"/>
            <a:ext cx="696744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зучить Главу 8 (ст.40-44) Семейного кодекса РФ 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ставить брачный догово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5" descr=""/>
          <p:cNvPicPr/>
          <p:nvPr/>
        </p:nvPicPr>
        <p:blipFill>
          <a:blip r:embed="rId1"/>
          <a:stretch/>
        </p:blipFill>
        <p:spPr>
          <a:xfrm>
            <a:off x="2676600" y="765000"/>
            <a:ext cx="3695760" cy="552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6" name=""/>
          <p:cNvGraphicFramePr/>
          <p:nvPr/>
        </p:nvGraphicFramePr>
        <p:xfrm>
          <a:off x="2627280" y="692280"/>
          <a:ext cx="3780000" cy="5616360"/>
        </p:xfrm>
        <a:graphic>
          <a:graphicData uri="http://schemas.openxmlformats.org/drawingml/2006/table">
            <a:tbl>
              <a:tblPr/>
              <a:tblGrid>
                <a:gridCol w="3780000"/>
              </a:tblGrid>
              <a:tr h="561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324000" y="475920"/>
            <a:ext cx="6696000" cy="22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Брачный союз - первая ступень человеческого общества.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00"/>
                </a:solidFill>
                <a:latin typeface="Arial"/>
              </a:rPr>
              <a:t>Марк Туллий Цицеро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6" descr=""/>
          <p:cNvPicPr/>
          <p:nvPr/>
        </p:nvPicPr>
        <p:blipFill>
          <a:blip r:embed="rId1"/>
          <a:stretch/>
        </p:blipFill>
        <p:spPr>
          <a:xfrm>
            <a:off x="468360" y="4005360"/>
            <a:ext cx="2644560" cy="1746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8" descr=""/>
          <p:cNvPicPr/>
          <p:nvPr/>
        </p:nvPicPr>
        <p:blipFill>
          <a:blip r:embed="rId2"/>
          <a:stretch/>
        </p:blipFill>
        <p:spPr>
          <a:xfrm>
            <a:off x="5840280" y="3998880"/>
            <a:ext cx="2476800" cy="16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0" name=""/>
          <p:cNvGraphicFramePr/>
          <p:nvPr/>
        </p:nvGraphicFramePr>
        <p:xfrm>
          <a:off x="444600" y="4005360"/>
          <a:ext cx="2687400" cy="1728720"/>
        </p:xfrm>
        <a:graphic>
          <a:graphicData uri="http://schemas.openxmlformats.org/drawingml/2006/table">
            <a:tbl>
              <a:tblPr/>
              <a:tblGrid>
                <a:gridCol w="2687400"/>
              </a:tblGrid>
              <a:tr h="17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5867280" y="4005360"/>
          <a:ext cx="2448000" cy="1655640"/>
        </p:xfrm>
        <a:graphic>
          <a:graphicData uri="http://schemas.openxmlformats.org/drawingml/2006/table">
            <a:tbl>
              <a:tblPr/>
              <a:tblGrid>
                <a:gridCol w="2448000"/>
              </a:tblGrid>
              <a:tr h="16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"/>
              </a:rPr>
              <a:t>Статья 1. </a:t>
            </a: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Основные начала семейного законодательств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2. Признается брак, заключенный только в органах записи актов гражданского состоя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3. Регулирование семейных отношений осуществляется в соответствии с принципами добровольности брачного союза мужчины и женщины, равенства прав супругов в семье, разрешения внутрисемейных вопросов по взаимному согласию, приоритета семейного воспитания детей, заботы об их благосостоянии и   развитии, обеспечения приоритетной защиты прав и интересов несовершеннолетних и нетрудоспособных членов семь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4. Запрещаются любые формы ограничения прав граждан при вступлении в брак и в семейных отношениях по признакам социальной, расовой, национальной, языковой или религиозной принадлеж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"/>
              </a:rPr>
              <a:t>Статья 10. </a:t>
            </a: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Заключение брак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Брак заключается в органах записи актов гражданского состоя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Права и обязанности супругов возникают со дня государственной регистрации заключения брака в органах записи актов гражданского состоя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"/>
              </a:rPr>
              <a:t>Статья 11. </a:t>
            </a: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Порядок заключения брака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Заключение брака производится в личном присутствии лиц, вступающих в брак, по истечении одного месяца со дня подачи ими заявления в органы записи актов гражданского состоя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2.  При наличии уважительных причин орган записи актов гражданского состояния по месту государственной регистрации заключения брака может разрешить заключение брака до истечения одного месяца, а также может увеличить этот срок, но не более чем на один месяц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3. При наличии особых обстоятельств (беременности, рождения ребенка, непосредственной угрозы жизни одной из сторон и других особых обстоятельств) брак может быть заключен в день подачи заявл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"/>
              </a:rPr>
              <a:t>Статья 12. </a:t>
            </a: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Условия заключения брака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. Для заключения брака необходимы взаимное добровольное соглас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мужчины и женщины, вступающих в брак, и достижение ими брачного возрас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2. Брак не может быть заключен при наличии обстоятельств, указанных 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статье 14 настоящего Кодекс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Статья 13. </a:t>
            </a: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Брачный возрас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179000"/>
            <a:ext cx="83534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Брачный возраст устанавливается в восемнадцать л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2. При наличии уважительных причин органы местного самоуправления по месту жительства лиц, желающих вступить в брак, вправе по просьбе данных лиц разрешить вступить в брак лицам, достигшим возраста шестнадцати л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3. В виде исключения при наличии особых обстоятельств может быть разрешено вступление в брак лицам, не достигшим возраста шестнадцати лет. (Сем. кодекс РТ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4. Особыми обстоятельствами, дающими право на разрешение вступить в брак лицам, желающим вступить в брак и не достигшим возраста шестнадцати лет, являются беременность, рождение ребенка, непосредственная угроза жизни одной из сторон, иные обстоятельства, которые могут быть признаны особы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"/>
              </a:rPr>
              <a:t>Статья 14. </a:t>
            </a: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Обстоятельства, препятствующие заключению брака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Не допускается заключение брака между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лицами, из которых хотя бы одно лицо уже состоит в другом зарегистрированном брак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2) близкими родственниками (родственниками по прямой восходящей и нисходящей линии (родителями и детьми, дедушкой, бабушкой и внуками), полнородными и неполнородными (имеющими общих отца или мать) братьями и сестрами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3) усыновителями и усыновленным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4) лицами, из которых хотя бы одно лицо признано судом недееспособным вследствие психического расстрой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5T18:10:43Z</dcterms:created>
  <dc:creator>User</dc:creator>
  <dc:description/>
  <dc:language>en-US</dc:language>
  <cp:lastModifiedBy>Пользователь</cp:lastModifiedBy>
  <dcterms:modified xsi:type="dcterms:W3CDTF">2013-10-31T19:49:26Z</dcterms:modified>
  <cp:revision>47</cp:revision>
  <dc:subject/>
  <dc:title>Тема урока: </dc:title>
</cp:coreProperties>
</file>