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664-C064-4DFB-A9B9-A337707C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7CA-D33D-4866-9B43-A1830CFF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C8F-2EFC-4A60-B36C-64CB8A8B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E8E-FAD8-45B8-A1CC-28B268AC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6D09-E9D1-4179-9AE7-D5611DF3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819-846A-4B53-BAEA-CE75953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99F-16CB-49CF-BF85-241F66D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FD15-CD52-4C1F-B102-F5DB297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BF00-529F-493E-B1E0-039F35E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A41-4C05-40F7-868C-9045BDD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7540-6B41-47DC-8861-2A644C1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57C-3A19-4D1B-A704-C69F927D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E63-711A-485F-BA35-80C42C7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AD7C-6522-43EA-A021-E7D9488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3BF-5A6E-4554-9C4F-40F4C00B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30F-F7A2-4F10-8B31-0BD63F66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A0F-2A75-48AD-9F7F-42A2E519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AD1-FAF4-4ED9-BC9B-0F1BF3AC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799-47C5-4BC2-B4B1-399063B4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2F2-CF17-4641-8C2F-3ABE3D9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F0F-0A6C-4143-BDC2-2B7DABF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656-AC1A-4589-ACBC-7EE4C2B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404-D3C1-4976-8B6F-61992E5D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71B-B859-4647-BB02-6BD1875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A78-166E-4232-88BC-F1C64AD5EB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2931-A478-40F8-8B3E-980301BB52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Arial"/>
              </a:rPr>
              <a:t>«Право семьи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11640" cy="24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572000" y="3429000"/>
          <a:ext cx="3313080" cy="244800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6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ания для прекращения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прекращается вследствие смерти или вследствие объявления судом одного из супругов умерш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может быть прекращен путем его расторжения п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явлению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одного или обоих супругов, а также по заявлению опекуна супруга, признанного судом недееспособ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7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е права на предъявление мужем требования 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и бра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 не вправе без согласия жены возбуждать дело о расторжении брака во время беременности жены и в течение одного года после рождения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атья 19.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сторжение брака в органах записи актов гражданского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При взаимном согласии на расторжение брака супругов, не имеющих общих несовершеннолетних детей, расторжение брака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. Расторжение брака по заявлению одного из супругов независимо от наличия у супругов общих несовершеннолетних детей производится в орган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записи актов гражданского состояния, если другой супруг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1) признан судом безвестно отсутствующи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2) признан судом недееспособны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3) осужден за совершение преступления к лишению свободы на срок свыше трех л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3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вместная собственность супруг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569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мущество, нажитое супругами во время брака, является их совместной собств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      К имуществу, нажитому супругами во время брака (общему имуществу супругов), относятся доходы каждого из супругов от трудовой деятельности, предпринимательской деятельности и результатов интеллектуальной деятельности, полученные ими пенсии, пособия, а также денежные выплаты, не имеющие специального целевого назначения (суммы материальной помощи, суммы, выплаченные в возмещение ущерба в связи с утратой трудоспособности вследствие увечья либо иного повреждения здоровья, и другие). Общим имуществом супругов являются также приобретенные за счет общих доходов супругов движимые и недвижимые вещи, ценные бумаги, паи, вклады, доли в капитале, внесенные в кредитные учреждения или в иные коммерческие организации, и любое другое нажитое супругами в период брака имущество независимо от того, на имя кого из супругов оно приобретено либо на имя кого или кем из супругов внесены денежные сре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6360" y="404280"/>
            <a:ext cx="7989840" cy="5488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Статья 40.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Брачный договор.</a:t>
            </a:r>
            <a:br>
              <a:rPr sz="4800"/>
            </a:b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чным договором признается соглашение лиц, вступающих в брак, или соглашение супругов, определя-ющее имущественные права и обя-занности супругов в браке и (или) в случае его расторже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696744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Главу 8 (ст.40-44) Семейного кодекса РФ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брачный догов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676600" y="765000"/>
            <a:ext cx="3695760" cy="552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2627280" y="692280"/>
          <a:ext cx="3780000" cy="561636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56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66960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рачный союз - первая ступень человеческого общества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Марк Туллий Цице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644560" cy="174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5840280" y="3998880"/>
            <a:ext cx="2476800" cy="16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44600" y="4005360"/>
          <a:ext cx="2687400" cy="1728720"/>
        </p:xfrm>
        <a:graphic>
          <a:graphicData uri="http://schemas.openxmlformats.org/drawingml/2006/table">
            <a:tbl>
              <a:tblPr/>
              <a:tblGrid>
                <a:gridCol w="26874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4005360"/>
          <a:ext cx="2448000" cy="1655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сновные начала семейного законодатель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Признается брак, заключенный только в органах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Регулирование семейных отношений осуществляется в соответствии с принципами добровольности брачного союза мужчины и женщины, равенства прав супругов в семье, разрешения внутрисемейных вопросов по взаимному согласию, приоритета семейного воспитания детей, заботы об их благосостоянии и   развитии, обеспечения приоритетной защиты прав и интересов несовершеннолетних и нетрудоспособны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. Запрещаются любые формы ограничения прав граждан при вступлении в брак и в семейных отношениях по признакам социальной, расовой, национальной, языковой или религиозной принадл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0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ключение бр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рак заключается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ава и обязанности супругов возникают со дня государственной регистрации заключения брака в органах записи актов гражданского состоя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1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рядок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ключение брака производится в личном присутствии лиц, вступающих в брак, по истечении одного месяца со дня подачи ими заявления в органы записи актов гражданского 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2.  При наличии уважительных причин орган записи актов гражданского состояния по месту государственной регистрации заключения брака может разрешить заключение брака до истечения одного месяца, а также может увеличить этот срок, но не более чем на один меся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3. При наличии особых обстоятельств (беременности, рождения ребенка, непосредственной угрозы жизни одной из сторон и других особых обстоятельств) брак может быть заключен в день подачи за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2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словия заключения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Для заключения брака необходимы взаимное добровольное соглас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жчины и женщины, вступающих в брак, и достижение ими брач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Брак не может быть заключен при наличии обстоятельств, указанных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татье 14 настоящего Кодек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ья 13.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Брачный возра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179000"/>
            <a:ext cx="8353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ачный возраст устанавливается в восемнадцать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 При наличии уважительных причин органы местного самоуправления по месту жительства лиц, желающих вступить в брак, вправе по просьбе данных лиц разрешить вступить в брак лицам, достигшим возраста шестнадцат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 В виде исключения при наличии особых обстоятельств может быть разрешено вступление в брак лицам, не достигшим возраста шестнадцати лет. (Сем. кодекс Р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Особыми обстоятельствами, дающими право на разрешение вступить в брак лицам, желающим вступить в брак и не достигшим возраста шестнадцати лет, являются беременность, рождение ребенка, непосредственная угроза жизни одной из сторон, иные обстоятельства, которые могут быть признаны особ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татья 14.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бстоятельства, препятствующие заключению бра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допускается заключение брака меж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ми, из которых хотя бы одно лицо уже состоит в другом зарегистрированном бра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) близкими родственниками (родственниками по прямой восходящей и нисходящей линии (родителями и детьми, дедушкой, бабушкой и внуками), полнородными и неполнородными (имеющими общих отца или мать) братьями и сестр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) усыновителями и усыновле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) лицами, из которых хотя бы одно лицо признано судом недееспособным вследствие психического рас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10:43Z</dcterms:created>
  <dc:creator>User</dc:creator>
  <dc:description/>
  <dc:language>en-US</dc:language>
  <cp:lastModifiedBy>Пользователь</cp:lastModifiedBy>
  <dcterms:modified xsi:type="dcterms:W3CDTF">2013-10-31T19:49:26Z</dcterms:modified>
  <cp:revision>47</cp:revision>
  <dc:subject/>
  <dc:title>Тема урока: </dc:title>
</cp:coreProperties>
</file>