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021-0142-4226-AF79-5BAD21EB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4F9-F3E1-44A5-9861-FA96B686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B2B-533C-4C87-9584-AACF0DE2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D6D-2783-4596-91A0-8DED5FE6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BCB1-FFF6-459E-8619-445E668C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2183-5804-447E-83B1-A6D3A73E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1072-8385-4805-BA2E-92922363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41F9-1B61-4432-9316-BDC4AB5D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BD41-EB6C-44F2-B907-0ACF679B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CF4C-6C0B-4E0B-A7C4-E4FC2BFB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3DB4-0396-4A88-B536-6488A9D6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4F2-8F35-4836-965B-0546F624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6B4C-0D25-4E19-8763-E0F5686B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8308-3634-427F-AC60-4D554259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2FE8-A313-43C2-97A1-F3A5906E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CB3B-814B-488F-B3FE-5DC16ABF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6C2F-EAC2-4FC6-8B61-036CAFE3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AB7-48FE-4F74-A6D4-E51ECEA4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05A-B3FB-4189-8E96-ABB65608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0DE3-2EC8-46EC-8D8C-F629870F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065-1579-441B-AA41-E5EB9B4C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D9E-0622-4FCC-B861-206635B1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A62-E20D-429F-92EA-CE14A666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0366-0B49-41F2-9D74-1FA73294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0B21-14AE-462A-8FF9-32B41C6A7E6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8B79-3C34-489B-B096-393BE94851B0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4392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en-US" sz="4300" spc="-1" strike="noStrike">
                <a:solidFill>
                  <a:srgbClr val="ffffcc"/>
                </a:solidFill>
                <a:latin typeface="Arial"/>
              </a:rPr>
              <a:t>Развитие представлений личности по Рубинштейну С.Л.</a:t>
            </a:r>
            <a:endParaRPr b="0" lang="en-US" sz="4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24000" y="3860280"/>
            <a:ext cx="403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ыполнила студентка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I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 курс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Райлян Татья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932360" y="1268280"/>
            <a:ext cx="38545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260280"/>
            <a:ext cx="864072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Человек не изолированное, замкнутое существо, которое живет и развивается из самого себя. Он связан с окружающим его миром и нуждается в нем. В процессе исторического развития круг того, в чем человек нуждается, расширяется. Эта объективная нужда, отражаясь в психике человека, испытывается им как 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потребность.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омимо предметов, необходимых для существования человека, в которых он испытывает потребность, без которых его существование или вообще, или на данном уровне невозможно, имеются и другие, наличие которых, не будучи объективно необходимым и не испытываясь субъективно как потребность, представляет для человека 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интерес.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Над потребностями и интересами возвышаются 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идеалы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Испытываемая или осознаваемая человеком зависимость его от того, в чем он нуждается или в чем он заинтересован, порождает 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направленность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на соответствующий предмет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роблема направленности – это прежде всего вопрос о динамических тенденциях, которые в качестве мотивов определяют человеческую деятельность, сами в свою очередь определяясь ее целями и задачами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692280"/>
            <a:ext cx="813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Из тенденций (стремлений) выделяется как особый момент 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установка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Установка личности – это занятая ею позиция, которая заключается в определенном отношении к стоящим целям или задачам и выражается в избирательной мобилизованности и готовности к деятельности, направленной на их осуществление.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Установка возникает в результате определенного распределения и внутреннего взаимодействия тенденций, выражающих направленность личности, представляя их итог в состоянии динамического покоя и предпосылку, фон, на котором они в дальнейшем развиваютс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Установка, так понимаемая, играет значительную роль во всей деятельности личност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333360"/>
            <a:ext cx="87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260280"/>
            <a:ext cx="8656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Установка, соотносительна с тенденциями. Тенденции выступают как стремления, когда намечается не только исходный, но и конечный их пункт. Тенденции, как связанные с состояниями напряжения динамические силы, образующиеся в процессе деятельности и побуждающие к ней, заключаются в потребностях, интересах и идеалах. Потребности в свою очередь по мере их осознания могут выступать как влечения и как желания. От интереса, как специфической направленности на тот или иной предмет, отчленяется склонность, как направленность на соответствующую деятельность. Таким образом, выявляется разветвленная система проявлений личности и их психологических понятий, благодаря которым сама личность из мертвой схемы, какой она нередко рисуется в курсах психологии, превращается в живое существо со своими потребностями и интересами, своими запросами и установками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260280"/>
            <a:ext cx="842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о всем расширяющемся контакте с окружающим миром человек сталкивается со все новыми предметами и сторонами действительности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Личность, субъект – это не "чистое сознание" (Канта и кантианцев), не всегда себе равное "я" (" Я+Я" – Фихте) и не саморазвивающийся "дух" (Гегель); это конкретный, исторический, живой индивид, включенный в реальные отношения к реальному миру.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Задача психологии – изучать психику, сознание и самосознание личности, но суть дела заключается в том, чтобы она изучала их именно как психику и сознание "реальных живых индивидов" в их реальной обусловленности. Человек является личностью, лишь поскольку он выделяет себя из природы, и отношение его к природе и к другим людям дано ему как отношение, т.е. поскольку у него есть сознание. Процесс становления, человеческой личности включает в себя поэтому как неотъемлемый компонент формирование его сознания и самосознания: это есть процесс развития сознательной личности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60480"/>
            <a:ext cx="60483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Личность как сознательный субъект осознает не только окружающее, но и себя в своих отношениях с окружающим.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ервый этап в формировании личности как самостоятельного субъекта, связан с овладением собственным телом, с возникновением произвольных движений. Дальнейшей ступенькой на этом же пути является начало ходьбы, самостоятельного передвижения. И в этом втором, как и в первом, случае существенна не столько сама по себе техника этого дела, сколько то изменение во взаимоотношениях индивида с окружающими людьми, к которому приводит возможность самостоятельного передвижения, так же как и самостоятельного овладения предметом посредством хватательных движений. Одно, как и другое, одно вместе с другим порождает некоторую самостоятельность ребенка по отношению к другим людям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480000" y="3429000"/>
            <a:ext cx="2664000" cy="2989440"/>
            <a:chOff x="6480000" y="3429000"/>
            <a:chExt cx="2664000" cy="29894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6480000" y="3429000"/>
              <a:ext cx="2664000" cy="29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 txBox="1"/>
            <p:nvPr/>
          </p:nvSpPr>
          <p:spPr>
            <a:xfrm>
              <a:off x="6480000" y="3429000"/>
              <a:ext cx="2664000" cy="298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333360"/>
            <a:ext cx="5508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 осознанием этого объективного факта и связано зарождение самосознания личности, первое представление ее о своем "я" При этом человек осознает свою самостоятельность, свою обособленность от окружения лишь через свои отношения с окружающими его людьми, и он приходит к самосознанию, к познанию собственного "я" через познание других людей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759280" y="2249640"/>
            <a:ext cx="338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0920" y="260280"/>
            <a:ext cx="763416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ущественным звеном в ряде основных событий в истории становления самосознания является и овладение речью, представляющей собой форму существования мышления и сознания в целом.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Играя значительную роль в развитии сознания ребенка, речь вместе с тем существенно увеличивает действенные возможности ребенка, изменяя его взаимоотношения с окружающими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4753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9280" y="260280"/>
            <a:ext cx="8569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сякий человек является личностью, сознательным субъектом, обладающим и известным самосознанием; но не у каждого человека те качества его, в силу которых он признается нами личностью, представлены в равной мере, с той же яркостью и силой.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Мы не смешаем этого впечатления даже с тем очень близким, казалось бы, к нему чувством, которое мы обычно выражаем, говоря о человеке, что он индивидуальность. "Индивидуальность", – говорим мы о человеке ярком, т.е. выделяющемся известным своеобразием.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Личностью в специфическом смысле этого слова является человек, у которого есть свои позиции, свое ярко выраженное сознательное отношение к жизни, мировоззрение, к которому он пришел в итоге большой сознательной работы. У личности есть свое лицо. Такой человек не просто выделяется в том впечатлении, которое он производит на другого; он сам сознательно выделяет себя из окружающего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260280"/>
            <a:ext cx="842472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Но личность – это не существо, которое просто вросло в среду; личностью является лишь человек, способный выделить себя из своего окружения для того, чтобы по-новому, сугубо избирательно связаться с ним. Личностью является лишь человек, который относится определенным образом к окружающему, сознательно устанавливает это свое отношение так, что оно выявляется во всем его существе. Подлинная личность определенностью своего отношения к основным явлениям жизни заставляет и других самоопределиться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3141720"/>
            <a:ext cx="3429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9280" y="189000"/>
            <a:ext cx="857736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aeaea"/>
                </a:solidFill>
                <a:latin typeface="Verdana"/>
              </a:rPr>
              <a:t>Личностью человек не рождается; личностью он становится. Это становление личности существенно отлично от развития организма, совершающегося в процессе простого органического созревания. Сущность человеческой личности находит свое завершающее выражение в том, что она не только развивается как всякий организм, но и имеет свою историю. Своя концепция человеческой личности стоит и за всеми построениями нашей психологии. Это реальный живой человек из плоти и крови; ему не чужды внутренние противоречия, у него имеются не только ощущения, представления, мысли, но также и потребности, и влечения; в его жизни бывают конфликты. Но сфера и реальная значимость высших ступеней сознания у него все ширятся и укрепляются. Эти высшие уровни сознательной жизни не надстраиваются внешним образом над низшими; они все глубже в них проникают и перестраивают их; потребности человека все в большей мере становятся подлинно человеческими потребностями; ничего не утрачивая в своей природной естественности, они сами, а не только надстраивающиеся над ними идеальные проявления человека, все в большей степени превращаются в проявления исторической, общественной, подлинно человеческой сущности человека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1. Биографические данные Рубинштейна Сергея Леонидович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2. Определение понятия «личность» в разных психологических словарях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3. Развитие представления личности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Личность есть совокупность внутренних условий, через которых преломляются все внешни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се психические процессы составляют психическое содержание жизни личност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Становление личности зависит от направленности, навыков, умений, а также  от индивидуально- типологических особенносте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04000" cy="6815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708360" y="5300640"/>
            <a:ext cx="4967280" cy="1081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СПАСИБО ЗА ВНИМАНИЕ!!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писок основной литературы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Рубинштейн С. Основы общей психологи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3816360" cy="54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636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8900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Немного  из биографи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48428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801720"/>
            <a:ext cx="8642160" cy="54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Verdana"/>
              </a:rPr>
              <a:t>Сергей Леонидович Рубинштейн </a:t>
            </a:r>
            <a:br>
              <a:rPr sz="2300"/>
            </a:br>
            <a:r>
              <a:rPr b="0" lang="en-US" sz="2300" spc="-1" strike="noStrike">
                <a:solidFill>
                  <a:srgbClr val="eaeaea"/>
                </a:solidFill>
                <a:latin typeface="Verdana"/>
              </a:rPr>
              <a:t>(1889—1960) - выдающийся российский психолог и философ.</a:t>
            </a:r>
            <a:r>
              <a:rPr b="0" lang="en-US" sz="2300" spc="-1" strike="noStrike">
                <a:solidFill>
                  <a:srgbClr val="eaeaea"/>
                </a:solidFill>
                <a:latin typeface="Verdana"/>
              </a:rPr>
              <a:t> Автор фундаментальных учебников для университетов «Основы психологии» (1935)  и «Основы общей психологии» (1940, 1946). С. Л. Рубинштейн родился в Одессе в семье успешного адвоката. В 1908 году окончил с золотой медалью Ришельевскую гимназию, после чего поехал получать университетское образование в Германию. Сначала он поступил во Фрайбургский университет, но через 2 семестра перевёлся на факультет философии Марбургского университета, который окончил в 1914 г., и сразу защитил докторскую диссертацию по философии на тему «К проблеме метода». Его учителями были такие знаменитые философы, как Г. Коген и П. Наторп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1483920"/>
            <a:ext cx="4762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89000"/>
            <a:ext cx="8820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По приезду в Ленинград в 1930 году возглавил вспомогательную кафедру психологии отделения педологии ЛГПИ им. Герцена.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Научные исследования Рубинштейна в области психологии получили широкое развитие именно в 1930, после переезда в Ленинград. Здесь он положил начало крупной научной философско-психологической школы. Область научных интересов — теория и методология общей психологии, педагогическая психология, философия, логика, психология мышления, история психологии, психология эмоций, темперамента, способностей. Одним из первых отечественных психологов сформулировал принцип единства сознания и деятельности — центральный в теории деятельностного подхода в психологии (1922). В 30-е годы содержательно обосновал этот принцип, суть которого состоит в том, что человек и его психика формируются и проявляются в деятельности изначально практической, сформулировал программу создания психологии на основе философии марксизма, разработал новые методологические принципы психологической науки, в частности, принцип детерминизма («внешние причины действуют через внутренние условия»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Умер в 1960 году в Москве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1916280"/>
            <a:ext cx="403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Личность есть совокупность внутренних условий, через которые преломляются все внешние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0464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Определение личности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С.Л. Рубинштейн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3280" y="1916280"/>
            <a:ext cx="40388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410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89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aeaea"/>
                </a:solidFill>
                <a:latin typeface="Verdana"/>
              </a:rPr>
              <a:t>Развитие представления личности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792000"/>
            <a:ext cx="874872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се психические процессы, с изучения которых начинается  анализ психического содержания деятельности человека, протекают в личности, и каждый из них в своем реальном протекании зависит от нее. Зависимость психических процессов от личности как индивидуальности выражается, во-первых, в индивидуально-дифференциальных различиях. Люди в зависимости от общего склада их индивидуальности различаются по типам восприятия и наблюдения, памяти, внимания и (в смысле переключаемости) и т.д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Зависимость психических процессов от личности выражается, во-вторых, в том, что они, не имея самостоятельной линии, зависят от общего развития личности. Тот факт, что психические процессы человека суть проявления личности, выражается, в-третьих, в том, что у человека они не остаются только процессами, совершающимися самотеком, а превращаются в сознательно регулируемые действия или операции, которыми личность как бы овладевает и которые она направляет на разрешение встающих перед ней в жизни задач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18900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 Все психические процессы составляют психическое содержание жизни личности. Каждый вид психических процессов вносит свой вклад в богатство ее внутренней жизни. Психические процессы и психические свойства личности фактически неотрывны друг от друга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2890800" cy="4608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03640" y="3860640"/>
            <a:ext cx="2232000" cy="486000"/>
          </a:xfrm>
          <a:prstGeom prst="leftRightArrow">
            <a:avLst>
              <a:gd name="adj1" fmla="val 50000"/>
              <a:gd name="adj2" fmla="val 9142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508720" y="1989000"/>
            <a:ext cx="3429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труктура личности по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. Л. Рубинштейну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600200"/>
            <a:ext cx="864216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6:27:33Z</dcterms:created>
  <dc:creator>Masha</dc:creator>
  <dc:description/>
  <dc:language>en-US</dc:language>
  <cp:lastModifiedBy>Tanea</cp:lastModifiedBy>
  <dcterms:modified xsi:type="dcterms:W3CDTF">2013-02-20T20:37:41Z</dcterms:modified>
  <cp:revision>123</cp:revision>
  <dc:subject/>
  <dc:title>Слайд 1</dc:title>
</cp:coreProperties>
</file>