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10B-D886-4657-A8D3-02DC4C19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629-56FD-4E01-BE3A-FBA8E71C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AB2-90C1-44DC-B462-39918A00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1C2-0D6D-4DB7-98EF-A4EBC3EB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2D0C-1734-444B-9EF7-E6693253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15DD-0107-4E5E-ABF1-D910897F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9F3-C2E5-42D3-8252-847181D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2F0B-9571-408C-A9A4-98E948AD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3681-061E-40AC-B091-B46255E2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618F-17A8-4FFC-9705-2C3EAD16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2AC-BCEB-46AF-B1DE-EC8191DF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BE2-5F91-4A57-834F-26F4AC13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B29F-80D6-4079-BB99-9C6DE9C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CEF-4C3B-4CED-9F5E-FDD2A1F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C202-F6BC-4E15-88F0-55EBD7B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C749-578B-49B3-AAA0-9719F9A9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0CB8-2CD6-4D08-9280-F391A4B1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438-C090-462B-8DEE-DCDFFAEB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FAC-0088-4379-A542-8E674062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12E-34DE-40E8-86CA-23A3D1AB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9C3-7BEB-4E3B-91CD-CD2BE26E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EAE-4AFC-436B-B974-FF18AA91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789-EA9A-47A2-BC30-46FE391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2E8-962D-4DB0-BC79-DB73AC6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F3B-39AE-432F-9E4E-1EB06FD2846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F1D4-AC36-4804-BCA2-5D543DD258F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392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4300" spc="-1" strike="noStrike">
                <a:solidFill>
                  <a:srgbClr val="ffffcc"/>
                </a:solidFill>
                <a:latin typeface="Arial"/>
              </a:rPr>
              <a:t>Развитие представлений личности по Рубинштейну С.Л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3860280"/>
            <a:ext cx="40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полнила студентка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курс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Райлян Татья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854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260280"/>
            <a:ext cx="864072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еловек не изолированное, замкнутое существо, которое живет и развивается из самого себя. Он связан с окружающим его миром и нуждается в нем. В процессе исторического развития круг того, в чем человек нуждается, расширяется. Эта объективная нужда, отражаясь в психике человека, испытывается им как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потребность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мимо предметов, необходимых для существования человека, в которых он испытывает потребность, без которых его существование или вообще, или на данном уровне невозможно, имеются и другие, наличие которых, не будучи объективно необходимым и не испытываясь субъективно как потребность, представляет для человека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интерес.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Над потребностями и интересами возвышаются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идеал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спытываемая или осознаваемая человеком зависимость его от того, в чем он нуждается или в чем он заинтересован, порождает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направленность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на соответствующий предмет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роблема направленности – это прежде всего вопрос о динамических тенденциях, которые в качестве мотивов определяют человеческую деятельность, сами в свою очередь определяясь ее целями и задачами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69228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з тенденций (стремлений) выделяется как особый момент 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установк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 личности – это занятая ею позиция, которая заключается в определенном отношении к стоящим целям или задачам и выражается в избирательной мобилизованности и готовности к деятельности, направленной на их осуществление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 возникает в результате определенного распределения и внутреннего взаимодействия тенденций, выражающих направленность личности, представляя их итог в состоянии динамического покоя и предпосылку, фон, на котором они в дальнейшем развиваютс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, так понимаемая, играет значительную роль во всей деятельности личност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33360"/>
            <a:ext cx="87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0280"/>
            <a:ext cx="8656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становка, соотносительна с тенденциями. Тенденции выступают как стремления, когда намечается не только исходный, но и конечный их пункт. Тенденции, как связанные с состояниями напряжения динамические силы, образующиеся в процессе деятельности и побуждающие к ней, заключаются в потребностях, интересах и идеалах. Потребности в свою очередь по мере их осознания могут выступать как влечения и как желания. От интереса, как специфической направленности на тот или иной предмет, отчленяется склонность, как направленность на соответствующую деятельность. Таким образом, выявляется разветвленная система проявлений личности и их психологических понятий, благодаря которым сама личность из мертвой схемы, какой она нередко рисуется в курсах психологии, превращается в живое существо со своими потребностями и интересами, своими запросами и установкам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26028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о всем расширяющемся контакте с окружающим миром человек сталкивается со все новыми предметами и сторонами действительност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ичность, субъект – это не "чистое сознание" (Канта и кантианцев), не всегда себе равное "я" (" Я+Я" – Фихте) и не саморазвивающийся "дух" (Гегель); это конкретный, исторический, живой индивид, включенный в реальные отношения к реальному миру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дача психологии – изучать психику, сознание и самосознание личности, но суть дела заключается в том, чтобы она изучала их именно как психику и сознание "реальных живых индивидов" в их реальной обусловленности. Человек является личностью, лишь поскольку он выделяет себя из природы, и отношение его к природе и к другим людям дано ему как отношение, т.е. поскольку у него есть сознание. Процесс становления, человеческой личности включает в себя поэтому как неотъемлемый компонент формирование его сознания и самосознания: это есть процесс развития сознательной личност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60480"/>
            <a:ext cx="6048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ичность как сознательный субъект осознает не только окружающее, но и себя в своих отношениях с окружающим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ервый этап в формировании личности как самостоятельного субъекта, связан с овладением собственным телом, с возникновением произвольных движений. Дальнейшей ступенькой на этом же пути является начало ходьбы, самостоятельного передвижения. И в этом втором, как и в первом, случае существенна не столько сама по себе техника этого дела, сколько то изменение во взаимоотношениях индивида с окружающими людьми, к которому приводит возможность самостоятельного передвижения, так же как и самостоятельного овладения предметом посредством хватательных движений. Одно, как и другое, одно вместе с другим порождает некоторую самостоятельность ребенка по отношению к другим людям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80000" y="3429000"/>
            <a:ext cx="2664000" cy="2989440"/>
            <a:chOff x="6480000" y="3429000"/>
            <a:chExt cx="2664000" cy="29894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480000" y="3429000"/>
              <a:ext cx="266400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 txBox="1"/>
            <p:nvPr/>
          </p:nvSpPr>
          <p:spPr>
            <a:xfrm>
              <a:off x="6480000" y="3429000"/>
              <a:ext cx="2664000" cy="29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33360"/>
            <a:ext cx="55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 осознанием этого объективного факта и связано зарождение самосознания личности, первое представление ее о своем "я" При этом человек осознает свою самостоятельность, свою обособленность от окружения лишь через свои отношения с окружающими его людьми, и он приходит к самосознанию, к познанию собственного "я" через познание других люд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759280" y="2249640"/>
            <a:ext cx="33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260280"/>
            <a:ext cx="76341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ущественным звеном в ряде основных событий в истории становления самосознания является и овладение речью, представляющей собой форму существования мышления и сознания в целом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Играя значительную роль в развитии сознания ребенка, речь вместе с тем существенно увеличивает действенные возможности ребенка, изменяя его взаимоотношения с окружающими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4753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26028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який человек является личностью, сознательным субъектом, обладающим и известным самосознанием; но не у каждого человека те качества его, в силу которых он признается нами личностью, представлены в равной мере, с той же яркостью и силой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Мы не смешаем этого впечатления даже с тем очень близким, казалось бы, к нему чувством, которое мы обычно выражаем, говоря о человеке, что он индивидуальность. "Индивидуальность", – говорим мы о человеке ярком, т.е. выделяющемся известным своеобразием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Личностью в специфическом смысле этого слова является человек, у которого есть свои позиции, свое ярко выраженное сознательное отношение к жизни, мировоззрение, к которому он пришел в итоге большой сознательной работы. У личности есть свое лицо. Такой человек не просто выделяется в том впечатлении, которое он производит на другого; он сам сознательно выделяет себя из окружающего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260280"/>
            <a:ext cx="842472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о личность – это не существо, которое просто вросло в среду; личностью является лишь человек, способный выделить себя из своего окружения для того, чтобы по-новому, сугубо избирательно связаться с ним. Личностью является лишь человек, который относится определенным образом к окружающему, сознательно устанавливает это свое отношение так, что оно выявляется во всем его существе. Подлинная личность определенностью своего отношения к основным явлениям жизни заставляет и других самоопределиться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3141720"/>
            <a:ext cx="3429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189000"/>
            <a:ext cx="857736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aeaea"/>
                </a:solidFill>
                <a:latin typeface="Verdana"/>
              </a:rPr>
              <a:t>Личностью человек не рождается; личностью он становится. Это становление личности существенно отлично от развития организма, совершающегося в процессе простого органического созревания. Сущность человеческой личности находит свое завершающее выражение в том, что она не только развивается как всякий организм, но и имеет свою историю. Своя концепция человеческой личности стоит и за всеми построениями нашей психологии. Это реальный живой человек из плоти и крови; ему не чужды внутренние противоречия, у него имеются не только ощущения, представления, мысли, но также и потребности, и влечения; в его жизни бывают конфликты. Но сфера и реальная значимость высших ступеней сознания у него все ширятся и укрепляются. Эти высшие уровни сознательной жизни не надстраиваются внешним образом над низшими; они все глубже в них проникают и перестраивают их; потребности человека все в большей мере становятся подлинно человеческими потребностями; ничего не утрачивая в своей природной естественности, они сами, а не только надстраивающиеся над ними идеальные проявления человека, все в большей степени превращаются в проявления исторической, общественной, подлинно человеческой сущности человека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1. Биографические данные Рубинштейна Сергея Леонидович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2. Определение понятия «личность» в разных психологических словаря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3. Развитие представления лич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ичность есть совокупность внутренних условий, через которых преломляются все внешн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се психические процессы составляют психическое содержание жизни личнос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тановление личности зависит от направленности, навыков, умений, а также  от индивидуально- типологических особеннос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15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708360" y="5300640"/>
            <a:ext cx="4967280" cy="1081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СПАСИБО ЗА ВНИМАНИЕ!!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писок основной литературы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убинштейн С. Основы общей психолог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81636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636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9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Немного  из биографи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4842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801720"/>
            <a:ext cx="864216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Сергей Леонидович Рубинштейн </a:t>
            </a:r>
            <a:br>
              <a:rPr sz="2300"/>
            </a:b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(1889—1960) - выдающийся российский психолог и философ.</a:t>
            </a: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 Автор фундаментальных учебников для университетов «Основы психологии» (1935)  и «Основы общей психологии» (1940, 1946). С. Л. Рубинштейн родился в Одессе в семье успешного адвоката. В 1908 году окончил с золотой медалью Ришельевскую гимназию, после чего поехал получать университетское образование в Германию. Сначала он поступил во Фрайбургский университет, но через 2 семестра перевёлся на факультет философии Марбургского университета, который окончил в 1914 г., и сразу защитил докторскую диссертацию по философии на тему «К проблеме метода». Его учителями были такие знаменитые философы, как Г. Коген и П. Наторп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483920"/>
            <a:ext cx="4762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89000"/>
            <a:ext cx="8820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По приезду в Ленинград в 1930 году возглавил вспомогательную кафедру психологии отделения педологии ЛГПИ им. Герцена.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аучные исследования Рубинштейна в области психологии получили широкое развитие именно в 1930, после переезда в Ленинград. Здесь он положил начало крупной научной философско-психологической школы. Область научных интересов — теория и методология общей психологии, педагогическая психология, философия, логика, психология мышления, история психологии, психология эмоций, темперамента, способностей. Одним из первых отечественных психологов сформулировал принцип единства сознания и деятельности — центральный в теории деятельностного подхода в психологии (1922). В 30-е годы содержательно обосновал этот принцип, суть которого состоит в том, что человек и его психика формируются и проявляются в деятельности изначально практической, сформулировал программу создания психологии на основе философии марксизма, разработал новые методологические принципы психологической науки, в частности, принцип детерминизма («внешние причины действуют через внутренние условия»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мер в 1960 году в Москв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91628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Личность есть совокупность внутренних условий, через которые преломляются все внешние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0464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Определение личности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С.Л. Рубинштейн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410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Verdana"/>
              </a:rPr>
              <a:t>Развитие представления лич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792000"/>
            <a:ext cx="87487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е психические процессы, с изучения которых начинается  анализ психического содержания деятельности человека, протекают в личности, и каждый из них в своем реальном протекании зависит от нее. Зависимость психических процессов от личности как индивидуальности выражается, во-первых, в индивидуально-дифференциальных различиях. Люди в зависимости от общего склада их индивидуальности различаются по типам восприятия и наблюдения, памяти, внимания и (в смысле переключаемости) и т.д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висимость психических процессов от личности выражается, во-вторых, в том, что они, не имея самостоятельной линии, зависят от общего развития личности. Тот факт, что психические процессы человека суть проявления личности, выражается, в-третьих, в том, что у человека они не остаются только процессами, совершающимися самотеком, а превращаются в сознательно регулируемые действия или операции, которыми личность как бы овладевает и которые она направляет на разрешение встающих перед ней в жизни задач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890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Все психические процессы составляют психическое содержание жизни личности. Каждый вид психических процессов вносит свой вклад в богатство ее внутренней жизни. Психические процессы и психические свойства личности фактически неотрывны друг от друга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2890800" cy="460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03640" y="3860640"/>
            <a:ext cx="2232000" cy="486000"/>
          </a:xfrm>
          <a:prstGeom prst="leftRightArrow">
            <a:avLst>
              <a:gd name="adj1" fmla="val 50000"/>
              <a:gd name="adj2" fmla="val 9142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3429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труктура личности по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. Л. Рубинштейн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6421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6:27:33Z</dcterms:created>
  <dc:creator>Masha</dc:creator>
  <dc:description/>
  <dc:language>en-US</dc:language>
  <cp:lastModifiedBy>Tanea</cp:lastModifiedBy>
  <dcterms:modified xsi:type="dcterms:W3CDTF">2013-02-20T20:37:41Z</dcterms:modified>
  <cp:revision>123</cp:revision>
  <dc:subject/>
  <dc:title>Слайд 1</dc:title>
</cp:coreProperties>
</file>