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F78-D9CB-469C-BBD5-89043D74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A0F6-E5D7-4B66-ADBA-303D1931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7111-CC96-4946-A45D-4E15FD5F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00E-22FB-48A4-86E7-489D00A0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F88-A905-4D9E-B71C-65B9128A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C14-4CB2-4985-AE1E-B82A78AD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D97-A91A-4E03-9AAB-89429261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8932-1641-4339-B8CE-5EAA9121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2F0-48A8-4CA6-B1BF-1FA9821E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9C1-BD11-4FB6-B9D6-571066BA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85A-86B7-4C5F-907C-BAFC7367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7CE-7021-4D38-9963-8F14747F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03EA-35CC-4C11-B411-B5898F9A6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549360"/>
            <a:ext cx="50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еометрия, 10 класс. Профильный урове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2760" y="1628640"/>
            <a:ext cx="78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9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бранные вопросы плани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5 уро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393372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ойство и призн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исанного четырёхуго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6160" y="321300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0920" y="5734080"/>
            <a:ext cx="60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математики  МБОУ СОШ №1  Щербакова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flipV="1">
            <a:off x="1332000" y="2565000"/>
            <a:ext cx="1079280" cy="79236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2565360"/>
            <a:ext cx="2089440" cy="57636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000" y="3141720"/>
            <a:ext cx="2232360" cy="10080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332000" y="3357360"/>
            <a:ext cx="0" cy="71892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637000"/>
            <a:ext cx="1441440" cy="129672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49640" y="41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1916280"/>
            <a:ext cx="1490400" cy="141912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413000"/>
            <a:ext cx="2232000" cy="86364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659280" y="2276640"/>
            <a:ext cx="649080" cy="11523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76720" y="1413000"/>
            <a:ext cx="574920" cy="187164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3284640"/>
            <a:ext cx="1008000" cy="1443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11280" y="549000"/>
            <a:ext cx="720720" cy="86364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49360"/>
            <a:ext cx="1295280" cy="115092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39280" y="1700280"/>
            <a:ext cx="2087640" cy="50472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39640" y="1413000"/>
            <a:ext cx="71640" cy="79200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1052640"/>
            <a:ext cx="770040" cy="76968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32000" y="549000"/>
            <a:ext cx="216000" cy="115092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1413000"/>
            <a:ext cx="144720" cy="129528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1700280"/>
            <a:ext cx="1368720" cy="10080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981000"/>
            <a:ext cx="1152360" cy="105876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348000" y="549000"/>
            <a:ext cx="1008000" cy="8636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796000" y="260280"/>
            <a:ext cx="1800360" cy="720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6000" y="981000"/>
            <a:ext cx="2232000" cy="647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96360" y="260280"/>
            <a:ext cx="1296720" cy="1008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956720" y="1267920"/>
            <a:ext cx="936360" cy="360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88000" y="549360"/>
            <a:ext cx="792360" cy="71892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44000" y="981000"/>
            <a:ext cx="433440" cy="43200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95640" y="4041720"/>
            <a:ext cx="1800360" cy="754200"/>
          </a:xfrm>
          <a:custGeom>
            <a:avLst/>
            <a:gdLst/>
            <a:ahLst/>
            <a:rect l="l" t="t" r="r" b="b"/>
            <a:pathLst>
              <a:path w="1134" h="475">
                <a:moveTo>
                  <a:pt x="0" y="68"/>
                </a:moveTo>
                <a:cubicBezTo>
                  <a:pt x="64" y="174"/>
                  <a:pt x="129" y="280"/>
                  <a:pt x="227" y="340"/>
                </a:cubicBezTo>
                <a:cubicBezTo>
                  <a:pt x="325" y="400"/>
                  <a:pt x="454" y="475"/>
                  <a:pt x="590" y="430"/>
                </a:cubicBezTo>
                <a:cubicBezTo>
                  <a:pt x="726" y="385"/>
                  <a:pt x="952" y="136"/>
                  <a:pt x="1043" y="68"/>
                </a:cubicBezTo>
                <a:cubicBezTo>
                  <a:pt x="1134" y="0"/>
                  <a:pt x="1126" y="30"/>
                  <a:pt x="1134" y="22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850920" y="4149720"/>
            <a:ext cx="144360" cy="180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4724280"/>
            <a:ext cx="1368360" cy="136872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5950080"/>
            <a:ext cx="1225440" cy="28728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076720" y="4076640"/>
            <a:ext cx="719280" cy="21607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331640" y="4076280"/>
            <a:ext cx="936360" cy="7308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68560" y="21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1328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94720" y="352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61640" y="15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76920" y="611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72360" y="3500280"/>
            <a:ext cx="1224000" cy="1800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96360" y="3500280"/>
            <a:ext cx="576000" cy="3024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4360" y="4005360"/>
            <a:ext cx="576360" cy="57600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372360" y="4941360"/>
            <a:ext cx="1079280" cy="358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7451640" y="4941360"/>
            <a:ext cx="720720" cy="1582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2720" y="5084640"/>
            <a:ext cx="934920" cy="86544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2000" y="58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684360" y="5950080"/>
            <a:ext cx="684000" cy="466560"/>
          </a:xfrm>
          <a:custGeom>
            <a:avLst/>
            <a:gdLst>
              <a:gd name="textAreaLeft" fmla="*/ 30240 w 684000"/>
              <a:gd name="textAreaRight" fmla="*/ 653760 w 68400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31659" h="21600">
                <a:moveTo>
                  <a:pt x="0" y="0"/>
                </a:moveTo>
                <a:lnTo>
                  <a:pt x="31659" y="0"/>
                </a:lnTo>
                <a:lnTo>
                  <a:pt x="31659" y="21600"/>
                </a:lnTo>
                <a:lnTo>
                  <a:pt x="0" y="21600"/>
                </a:lnTo>
                <a:close/>
              </a:path>
              <a:path fill="lightenLess" w="31659" h="21600">
                <a:moveTo>
                  <a:pt x="0" y="0"/>
                </a:moveTo>
                <a:lnTo>
                  <a:pt x="31659" y="0"/>
                </a:lnTo>
                <a:lnTo>
                  <a:pt x="30259" y="1400"/>
                </a:lnTo>
                <a:lnTo>
                  <a:pt x="1400" y="1400"/>
                </a:lnTo>
                <a:close/>
              </a:path>
              <a:path fill="darken" w="31659" h="21600">
                <a:moveTo>
                  <a:pt x="31659" y="0"/>
                </a:moveTo>
                <a:lnTo>
                  <a:pt x="31659" y="21600"/>
                </a:lnTo>
                <a:lnTo>
                  <a:pt x="30259" y="20200"/>
                </a:lnTo>
                <a:lnTo>
                  <a:pt x="30259" y="1400"/>
                </a:lnTo>
                <a:close/>
              </a:path>
              <a:path fill="darkenLess" w="31659" h="21600">
                <a:moveTo>
                  <a:pt x="31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59" y="20200"/>
                </a:lnTo>
                <a:close/>
              </a:path>
              <a:path fill="lighten" w="31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59" h="21600">
                <a:moveTo>
                  <a:pt x="8823" y="3794"/>
                </a:moveTo>
                <a:lnTo>
                  <a:pt x="22836" y="10800"/>
                </a:lnTo>
                <a:lnTo>
                  <a:pt x="8823" y="17806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02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орема 9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96000" y="5877000"/>
            <a:ext cx="1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97520" y="404640"/>
            <a:ext cx="525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писанном четырёхуголь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ммы противолежащих сторон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19640" y="2924280"/>
            <a:ext cx="2519280" cy="2449440"/>
          </a:xfrm>
          <a:prstGeom prst="ellipse">
            <a:avLst/>
          </a:prstGeom>
          <a:solidFill>
            <a:srgbClr val="ffffd9">
              <a:alpha val="99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84720" y="2565360"/>
            <a:ext cx="1008000" cy="50328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564000" y="2565360"/>
            <a:ext cx="720720" cy="93492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306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3068640"/>
            <a:ext cx="863640" cy="504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940360" y="3573360"/>
            <a:ext cx="216000" cy="9352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724360" y="4508640"/>
            <a:ext cx="216000" cy="79200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858920" y="5300640"/>
            <a:ext cx="863640" cy="7308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124000" y="5373720"/>
            <a:ext cx="2664000" cy="1429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124000" y="3499920"/>
            <a:ext cx="1440000" cy="201636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558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050920" y="5300640"/>
            <a:ext cx="3672000" cy="21600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24360" y="3500280"/>
            <a:ext cx="432000" cy="18003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284360" y="2492280"/>
            <a:ext cx="1871640" cy="100800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050920" y="2491920"/>
            <a:ext cx="2233800" cy="3025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32 -0.05231 L -0.08264 -0.05764 E">
                                      <p:cBhvr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79191E-006 L 0.11632 -0.14682 E">
                                      <p:cBhvr>
                                        <p:cTn id="14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48148E-006 L 0.11614 0.14306 E">
                                      <p:cBhvr>
                                        <p:cTn id="1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459280" y="6021000"/>
            <a:ext cx="22716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10930" r="0" b="45446"/>
          <a:stretch/>
        </p:blipFill>
        <p:spPr>
          <a:xfrm>
            <a:off x="395280" y="836640"/>
            <a:ext cx="8569440" cy="280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349800" y="40464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орема 9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2720" y="386064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2720" y="4292640"/>
            <a:ext cx="11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7080" y="3860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21640" y="3881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52200" y="3881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69280" y="3881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02000" y="3881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17280" y="3881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33640" y="3881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76920" y="38815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80920" y="3881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69280" y="38815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02000" y="3881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78000" y="4313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21640" y="43131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52200" y="43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69280" y="43131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1080" y="4292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5080" y="4292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52720" y="4292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68720" y="42926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01800" y="4292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89440" y="42926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21080" y="4292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17640" y="43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6520" y="4292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3080" y="4292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36920" y="43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51480" y="431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52920" y="43131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34160" y="4292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28920" y="43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65800" y="4292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58880" y="4292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720920" y="43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10520" y="42926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18520" y="4292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65040" y="4797360"/>
            <a:ext cx="66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свойству касательных, проведённых из одной точ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52920" y="51768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85280" y="5176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2360" y="51768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33280" y="5176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21640" y="51768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52200" y="5176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1640" y="5176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2000" y="5176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89640" y="51768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12720" y="5157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52920" y="5176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86000" y="5176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74000" y="51768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76560" y="5176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66360" y="51768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68920" y="5176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34360" y="5753160"/>
            <a:ext cx="42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овательно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D = AD +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60200" y="43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88560" y="3881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604000" y="-41896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3280" y="1125360"/>
            <a:ext cx="1368360" cy="129564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971640" y="981000"/>
            <a:ext cx="72072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981000"/>
            <a:ext cx="11509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971640" y="2421000"/>
            <a:ext cx="172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700000" y="1268280"/>
            <a:ext cx="14292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6160" y="249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216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97280" y="100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57640" y="63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1280" y="1360440"/>
            <a:ext cx="4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05280" y="712800"/>
            <a:ext cx="4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26000" y="1720800"/>
            <a:ext cx="4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2920" y="25844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58920" y="31417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5 + 8 = x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24360" y="981000"/>
            <a:ext cx="1562400" cy="144000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96000" y="98100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580000" y="2421000"/>
            <a:ext cx="187164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580000" y="981000"/>
            <a:ext cx="21600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64360" y="981000"/>
            <a:ext cx="28728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4000" y="2513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8216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6160" y="69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7440" y="69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24160" y="784080"/>
            <a:ext cx="13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 =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 = 2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 = 14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0880" y="4762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30160" y="40464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6880" y="4221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8000" y="4724280"/>
            <a:ext cx="1656000" cy="165744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124000" y="4723920"/>
            <a:ext cx="12970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47640" y="6381720"/>
            <a:ext cx="230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547280" y="4724280"/>
            <a:ext cx="57636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4724280"/>
            <a:ext cx="43164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92360" y="566100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635280" y="5734080"/>
            <a:ext cx="144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68920" y="517680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31240" y="4869000"/>
            <a:ext cx="294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равнобокой трапе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ковая сторона 21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йти среднюю ли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18360" y="308916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D = (26+14)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:2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7885080" y="5950080"/>
            <a:ext cx="611280" cy="63792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37920"/>
              <a:gd name="textAreaBottom" fmla="*/ 598320 h 637920"/>
            </a:gdLst>
            <a:ahLst/>
            <a:rect l="textAreaLeft" t="textAreaTop" r="textAreaRight" b="textAreaBottom"/>
            <a:pathLst>
              <a:path w="21600" h="22541">
                <a:moveTo>
                  <a:pt x="0" y="0"/>
                </a:moveTo>
                <a:lnTo>
                  <a:pt x="21600" y="0"/>
                </a:lnTo>
                <a:lnTo>
                  <a:pt x="21600" y="22541"/>
                </a:lnTo>
                <a:lnTo>
                  <a:pt x="0" y="22541"/>
                </a:lnTo>
                <a:close/>
              </a:path>
              <a:path fill="lightenLess" w="21600" h="225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41">
                <a:moveTo>
                  <a:pt x="21600" y="0"/>
                </a:moveTo>
                <a:lnTo>
                  <a:pt x="21600" y="22541"/>
                </a:lnTo>
                <a:lnTo>
                  <a:pt x="20200" y="21141"/>
                </a:lnTo>
                <a:lnTo>
                  <a:pt x="20200" y="1400"/>
                </a:lnTo>
                <a:close/>
              </a:path>
              <a:path fill="darkenLess" w="21600" h="22541">
                <a:moveTo>
                  <a:pt x="21600" y="22541"/>
                </a:moveTo>
                <a:lnTo>
                  <a:pt x="0" y="22541"/>
                </a:lnTo>
                <a:lnTo>
                  <a:pt x="1400" y="21141"/>
                </a:lnTo>
                <a:lnTo>
                  <a:pt x="20200" y="21141"/>
                </a:lnTo>
                <a:close/>
              </a:path>
              <a:path fill="lighten" w="21600" h="22541">
                <a:moveTo>
                  <a:pt x="0" y="225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41"/>
                </a:lnTo>
                <a:close/>
              </a:path>
              <a:path fill="darken" w="21600" h="22541">
                <a:moveTo>
                  <a:pt x="3794" y="11270"/>
                </a:moveTo>
                <a:lnTo>
                  <a:pt x="17806" y="4264"/>
                </a:lnTo>
                <a:lnTo>
                  <a:pt x="17806" y="18277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403280" y="765000"/>
            <a:ext cx="1297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39280" y="765000"/>
            <a:ext cx="863640" cy="1584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39640" y="1844640"/>
            <a:ext cx="2737080" cy="50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00360" y="765000"/>
            <a:ext cx="576360" cy="1079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8000" y="114444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44920" y="352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2000" y="10000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65440" y="21337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1948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3429000"/>
            <a:ext cx="936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4797360"/>
            <a:ext cx="5256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4360" y="3428640"/>
            <a:ext cx="2016000" cy="1368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429000"/>
            <a:ext cx="2305080" cy="1368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342900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410920" y="4508640"/>
            <a:ext cx="289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4508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364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68920" y="2944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5440" y="49417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81280" y="3808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580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94720" y="46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5800" y="306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13440" y="306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7800" y="486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720" y="2811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6000" y="30891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92680" y="5589720"/>
            <a:ext cx="661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жно ли вписать окружность в равнобокую трапец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основаниями  1 м и 9 м и высотой 3 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97960" y="639720"/>
            <a:ext cx="401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жно ли  вписать окру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четырёхугольник со сторо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м, 14 м и 13 м, 10 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36560" y="1865160"/>
            <a:ext cx="31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Да, так как  9 + 14 = 13 +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80000" y="306864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АК = (9 – 1) : 2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97440" y="3645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AD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09640" y="424008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AB + DC = AD +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987640" y="1268280"/>
            <a:ext cx="0" cy="446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87640" y="357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547640" y="3573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547640" y="1267920"/>
            <a:ext cx="1440000" cy="230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2987280" y="1267920"/>
            <a:ext cx="1513080" cy="230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47640" y="3573360"/>
            <a:ext cx="1440000" cy="2160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987640" y="3573360"/>
            <a:ext cx="1513080" cy="2160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45080" y="83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02520" y="33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43280" y="580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16000" y="335772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8720" y="36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00560" y="1000080"/>
            <a:ext cx="311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о: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CD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мб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 = 8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 = 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ти: радиус вписа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76720" y="220500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гонали ромба перпендикулярн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72360" y="2781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028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46160" y="2708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3141720"/>
            <a:ext cx="36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 = ОС = 4 м, ОВ=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3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6720" y="350028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508720" y="3573000"/>
            <a:ext cx="14292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3573360"/>
            <a:ext cx="144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08720" y="37162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52520" y="344808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ОВ египетский, АВ = 5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975920" y="3860640"/>
            <a:ext cx="39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 + DC = AD + B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оэт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омб можно впис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44920" y="4724280"/>
            <a:ext cx="469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агонали ромба – биссектри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го углов, поэтому точка О я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нтром вписанной окру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98560" y="5516640"/>
            <a:ext cx="24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∙ DB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00360" y="3284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0036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947280" y="5516640"/>
            <a:ext cx="15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∙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 ∙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32360" y="595008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= 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 6 : 20 = 2,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44160" y="62564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т: 2,4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5280" y="4237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16720" y="5949720"/>
            <a:ext cx="369720" cy="1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042920" y="1773360"/>
          <a:ext cx="7199280" cy="4416480"/>
        </p:xfrm>
        <a:graphic>
          <a:graphicData uri="http://schemas.openxmlformats.org/drawingml/2006/table">
            <a:tbl>
              <a:tblPr/>
              <a:tblGrid>
                <a:gridCol w="936720"/>
                <a:gridCol w="1366920"/>
                <a:gridCol w="1247760"/>
                <a:gridCol w="623880"/>
                <a:gridCol w="1728720"/>
                <a:gridCol w="129528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-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м, 8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492360" y="4653000"/>
                <a:ext cx="551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093080" y="4581360"/>
                <a:ext cx="6188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e>
                        </m:rad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9:14:59Z</dcterms:created>
  <dc:creator>Щербакова</dc:creator>
  <dc:description/>
  <dc:language>en-US</dc:language>
  <cp:lastModifiedBy>Щербакова</cp:lastModifiedBy>
  <dcterms:modified xsi:type="dcterms:W3CDTF">2012-01-20T15:17:07Z</dcterms:modified>
  <cp:revision>13</cp:revision>
  <dc:subject/>
  <dc:title>Слайд 1</dc:title>
</cp:coreProperties>
</file>