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769-8602-4532-80B0-F705FCBE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F6C-B36C-49D9-B916-C5581DB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382-2BA8-48CC-9C1A-9112E8D5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444-8B4B-465F-AA28-B51A3B24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047-199A-4087-A2F2-DCA3A896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F4A-8EA5-4C2D-ABB5-04DC256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187-6224-4B92-A7FA-9497760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D84-E57E-457A-A126-2BDE5F63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119-7E55-4477-9027-5D918E05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DEC-E33A-40A5-9636-74CAA66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7D8-9D72-473B-8480-BCBBF97F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FB5-F087-4E2C-A498-F80E32D8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6A4E-E1F4-457D-AACE-F38AC79F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0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метрия, 10 класс. Профильный уров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2760" y="1628640"/>
            <a:ext cx="78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ранные вопросы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5 уро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393372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йство и при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исанного четырёх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6160" y="3213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0920" y="573408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 МБОУ СОШ №1  Щербакова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1332000" y="2565000"/>
            <a:ext cx="1079280" cy="79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565360"/>
            <a:ext cx="2089440" cy="576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000" y="3141720"/>
            <a:ext cx="2232360" cy="10080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32000" y="3357360"/>
            <a:ext cx="0" cy="718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37000"/>
            <a:ext cx="1441440" cy="1296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4964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916280"/>
            <a:ext cx="1490400" cy="14191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413000"/>
            <a:ext cx="2232000" cy="863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659280" y="2276640"/>
            <a:ext cx="649080" cy="1152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1413000"/>
            <a:ext cx="574920" cy="1871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284640"/>
            <a:ext cx="1008000" cy="144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11280" y="549000"/>
            <a:ext cx="720720" cy="86364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49360"/>
            <a:ext cx="1295280" cy="1150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9280" y="1700280"/>
            <a:ext cx="2087640" cy="5047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9640" y="1413000"/>
            <a:ext cx="71640" cy="792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052640"/>
            <a:ext cx="770040" cy="76968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32000" y="549000"/>
            <a:ext cx="216000" cy="11509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1413000"/>
            <a:ext cx="144720" cy="1295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700280"/>
            <a:ext cx="1368720" cy="100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981000"/>
            <a:ext cx="1152360" cy="105876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48000" y="549000"/>
            <a:ext cx="1008000" cy="863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96000" y="260280"/>
            <a:ext cx="1800360" cy="72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981000"/>
            <a:ext cx="2232000" cy="647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260280"/>
            <a:ext cx="129672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956720" y="1267920"/>
            <a:ext cx="936360" cy="360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549360"/>
            <a:ext cx="792360" cy="7189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981000"/>
            <a:ext cx="433440" cy="432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4041720"/>
            <a:ext cx="1800360" cy="754200"/>
          </a:xfrm>
          <a:custGeom>
            <a:avLst/>
            <a:gdLst/>
            <a:ahLst/>
            <a:rect l="l" t="t" r="r" b="b"/>
            <a:pathLst>
              <a:path w="1134" h="475">
                <a:moveTo>
                  <a:pt x="0" y="68"/>
                </a:moveTo>
                <a:cubicBezTo>
                  <a:pt x="64" y="174"/>
                  <a:pt x="129" y="280"/>
                  <a:pt x="227" y="340"/>
                </a:cubicBezTo>
                <a:cubicBezTo>
                  <a:pt x="325" y="400"/>
                  <a:pt x="454" y="475"/>
                  <a:pt x="590" y="430"/>
                </a:cubicBezTo>
                <a:cubicBezTo>
                  <a:pt x="726" y="385"/>
                  <a:pt x="952" y="136"/>
                  <a:pt x="1043" y="68"/>
                </a:cubicBezTo>
                <a:cubicBezTo>
                  <a:pt x="1134" y="0"/>
                  <a:pt x="1126" y="30"/>
                  <a:pt x="1134" y="22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50920" y="4149720"/>
            <a:ext cx="144360" cy="180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4724280"/>
            <a:ext cx="1368360" cy="1368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5950080"/>
            <a:ext cx="1225440" cy="2872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076640"/>
            <a:ext cx="71928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331640" y="4076280"/>
            <a:ext cx="936360" cy="730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6856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328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9472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1640" y="15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7692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72360" y="3500280"/>
            <a:ext cx="1224000" cy="1800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3500280"/>
            <a:ext cx="576000" cy="3024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4005360"/>
            <a:ext cx="576360" cy="576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4941360"/>
            <a:ext cx="1079280" cy="35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451640" y="4941360"/>
            <a:ext cx="720720" cy="158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5084640"/>
            <a:ext cx="934920" cy="8654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200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84360" y="5950080"/>
            <a:ext cx="684000" cy="466560"/>
          </a:xfrm>
          <a:custGeom>
            <a:avLst/>
            <a:gdLst>
              <a:gd name="textAreaLeft" fmla="*/ 30240 w 684000"/>
              <a:gd name="textAreaRight" fmla="*/ 653760 w 684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659" h="21600">
                <a:moveTo>
                  <a:pt x="0" y="0"/>
                </a:moveTo>
                <a:lnTo>
                  <a:pt x="31659" y="0"/>
                </a:lnTo>
                <a:lnTo>
                  <a:pt x="31659" y="21600"/>
                </a:lnTo>
                <a:lnTo>
                  <a:pt x="0" y="21600"/>
                </a:lnTo>
                <a:close/>
              </a:path>
              <a:path fill="lightenLess" w="31659" h="21600">
                <a:moveTo>
                  <a:pt x="0" y="0"/>
                </a:moveTo>
                <a:lnTo>
                  <a:pt x="31659" y="0"/>
                </a:lnTo>
                <a:lnTo>
                  <a:pt x="30259" y="1400"/>
                </a:lnTo>
                <a:lnTo>
                  <a:pt x="1400" y="1400"/>
                </a:lnTo>
                <a:close/>
              </a:path>
              <a:path fill="darken" w="31659" h="21600">
                <a:moveTo>
                  <a:pt x="31659" y="0"/>
                </a:moveTo>
                <a:lnTo>
                  <a:pt x="31659" y="21600"/>
                </a:lnTo>
                <a:lnTo>
                  <a:pt x="30259" y="20200"/>
                </a:lnTo>
                <a:lnTo>
                  <a:pt x="30259" y="1400"/>
                </a:lnTo>
                <a:close/>
              </a:path>
              <a:path fill="darkenLess" w="31659" h="21600">
                <a:moveTo>
                  <a:pt x="3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59" y="20200"/>
                </a:lnTo>
                <a:close/>
              </a:path>
              <a:path fill="lighten" w="3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59" h="21600">
                <a:moveTo>
                  <a:pt x="8823" y="3794"/>
                </a:moveTo>
                <a:lnTo>
                  <a:pt x="22836" y="10800"/>
                </a:lnTo>
                <a:lnTo>
                  <a:pt x="8823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96000" y="5877000"/>
            <a:ext cx="1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97520" y="404640"/>
            <a:ext cx="52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писанном четырёхуголь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ммы противолежащих сторон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924280"/>
            <a:ext cx="2519280" cy="2449440"/>
          </a:xfrm>
          <a:prstGeom prst="ellipse">
            <a:avLst/>
          </a:prstGeom>
          <a:solidFill>
            <a:srgbClr val="ffffd9">
              <a:alpha val="9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2565360"/>
            <a:ext cx="1008000" cy="5032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564000" y="2565360"/>
            <a:ext cx="720720" cy="934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068640"/>
            <a:ext cx="863640" cy="50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40360" y="3573360"/>
            <a:ext cx="216000" cy="935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24360" y="4508640"/>
            <a:ext cx="216000" cy="792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858920" y="5300640"/>
            <a:ext cx="863640" cy="73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24000" y="5373720"/>
            <a:ext cx="2664000" cy="1429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24000" y="3499920"/>
            <a:ext cx="1440000" cy="2016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5300640"/>
            <a:ext cx="3672000" cy="216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24360" y="3500280"/>
            <a:ext cx="432000" cy="1800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284360" y="2492280"/>
            <a:ext cx="1871640" cy="1008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50920" y="2491920"/>
            <a:ext cx="2233800" cy="302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2 -0.05231 L -0.08264 -0.05764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79191E-006 L 0.11632 -0.14682 E">
                                      <p:cBhvr>
                                        <p:cTn id="1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48148E-006 L 0.11614 0.14306 E">
                                      <p:cBhvr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459280" y="6021000"/>
            <a:ext cx="22716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0930" r="0" b="45446"/>
          <a:stretch/>
        </p:blipFill>
        <p:spPr>
          <a:xfrm>
            <a:off x="395280" y="836640"/>
            <a:ext cx="856944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9800" y="40464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орема 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720" y="386064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2720" y="429264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7080" y="3860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1640" y="38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5220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9280" y="38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0200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728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364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76920" y="3881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092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69280" y="3881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200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78000" y="4313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2164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220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928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5080" y="429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872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1800" y="429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944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1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764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6520" y="4292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3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6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5148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52920" y="4313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416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28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8880" y="4292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20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052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852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65040" y="479736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свойству касательных, проведённых из одной т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92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8528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236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3328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2164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5220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1640" y="5176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200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89640" y="5176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1272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2920" y="5176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600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74000" y="5176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7656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6636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6892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4360" y="5753160"/>
            <a:ext cx="42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D = AD +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6020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856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604000" y="-41896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1125360"/>
            <a:ext cx="1368360" cy="12956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71640" y="981000"/>
            <a:ext cx="72072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981000"/>
            <a:ext cx="11509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71640" y="2421000"/>
            <a:ext cx="172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700000" y="1268280"/>
            <a:ext cx="1429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616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216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7280" y="100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57640" y="63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1280" y="136044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05280" y="71280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6000" y="172080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2920" y="2584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31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5 + 8 = 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981000"/>
            <a:ext cx="1562400" cy="1440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981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80000" y="2421000"/>
            <a:ext cx="187164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580000" y="981000"/>
            <a:ext cx="21600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981000"/>
            <a:ext cx="2872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400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216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616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744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24160" y="784080"/>
            <a:ext cx="13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=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= 2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= 1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0880" y="476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30160" y="4046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6880" y="4221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4724280"/>
            <a:ext cx="1656000" cy="16574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124000" y="4723920"/>
            <a:ext cx="129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638172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47280" y="4724280"/>
            <a:ext cx="57636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4724280"/>
            <a:ext cx="43164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5661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635280" y="573408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68920" y="5176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1240" y="4869000"/>
            <a:ext cx="29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авнобокой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ковая сторона 21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ти среднюю ли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18360" y="30891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D = (26+14)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:2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885080" y="5950080"/>
            <a:ext cx="611280" cy="637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37920"/>
              <a:gd name="textAreaBottom" fmla="*/ 598320 h 637920"/>
            </a:gdLst>
            <a:ahLst/>
            <a:rect l="textAreaLeft" t="textAreaTop" r="textAreaRight" b="textAreaBottom"/>
            <a:pathLst>
              <a:path w="21600" h="22541">
                <a:moveTo>
                  <a:pt x="0" y="0"/>
                </a:moveTo>
                <a:lnTo>
                  <a:pt x="21600" y="0"/>
                </a:lnTo>
                <a:lnTo>
                  <a:pt x="21600" y="22541"/>
                </a:lnTo>
                <a:lnTo>
                  <a:pt x="0" y="22541"/>
                </a:lnTo>
                <a:close/>
              </a:path>
              <a:path fill="lightenLess" w="21600" h="22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1">
                <a:moveTo>
                  <a:pt x="21600" y="0"/>
                </a:moveTo>
                <a:lnTo>
                  <a:pt x="21600" y="22541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1">
                <a:moveTo>
                  <a:pt x="21600" y="22541"/>
                </a:moveTo>
                <a:lnTo>
                  <a:pt x="0" y="22541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1">
                <a:moveTo>
                  <a:pt x="0" y="22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  <a:path fill="darken" w="21600" h="22541">
                <a:moveTo>
                  <a:pt x="3794" y="11270"/>
                </a:moveTo>
                <a:lnTo>
                  <a:pt x="17806" y="4264"/>
                </a:lnTo>
                <a:lnTo>
                  <a:pt x="17806" y="18277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03280" y="765000"/>
            <a:ext cx="1297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9280" y="765000"/>
            <a:ext cx="863640" cy="158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9640" y="1844640"/>
            <a:ext cx="2737080" cy="50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765000"/>
            <a:ext cx="576360" cy="1079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" y="11444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44920" y="352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2000" y="1000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65440" y="2133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9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429000"/>
            <a:ext cx="936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797360"/>
            <a:ext cx="525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4360" y="3428640"/>
            <a:ext cx="2016000" cy="136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429000"/>
            <a:ext cx="2305080" cy="136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4508640"/>
            <a:ext cx="28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68920" y="2944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5440" y="4941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81280" y="3808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5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94720" y="46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580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344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780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720" y="281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6000" y="3089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92680" y="5589720"/>
            <a:ext cx="66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 вписать окружность в равнобокую трапе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основаниями  1 м и 9 м и высотой 3 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7960" y="639720"/>
            <a:ext cx="40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  вписать 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четырёхугольник со стор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м, 14 м и 13 м, 10 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36560" y="1865160"/>
            <a:ext cx="31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Да, так как  9 + 14 = 13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306864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АК = (9 – 1) : 2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7440" y="3645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D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09640" y="4240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B + DC = AD +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987640" y="1268280"/>
            <a:ext cx="0" cy="446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47640" y="3573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547640" y="1267920"/>
            <a:ext cx="1440000" cy="230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87280" y="1267920"/>
            <a:ext cx="1513080" cy="230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3573360"/>
            <a:ext cx="1440000" cy="21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87640" y="3573360"/>
            <a:ext cx="1513080" cy="21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4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2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58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33577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872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00560" y="1000080"/>
            <a:ext cx="31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= 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= 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радиус впис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2205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онали ромба перпендикулярн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278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28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46160" y="2708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3141720"/>
            <a:ext cx="36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 = ОС = 4 м, ОВ=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3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35002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08720" y="357300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35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52520" y="344808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ОВ египетский, АВ = 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75920" y="38606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+ DC = AD + 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мб можно в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44920" y="47242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онали ромба – биссектр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го углов, поэтому точка О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ом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8560" y="551664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∙ DB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32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7280" y="55166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∙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59500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6 : 20 = 2,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4160" y="6256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2,4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280" y="423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16720" y="5949720"/>
            <a:ext cx="369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42920" y="1773360"/>
          <a:ext cx="7199280" cy="441648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247760"/>
                <a:gridCol w="623880"/>
                <a:gridCol w="1728720"/>
                <a:gridCol w="129528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м, 8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492360" y="4653000"/>
                <a:ext cx="551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93080" y="4581360"/>
                <a:ext cx="6188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9:14:59Z</dcterms:created>
  <dc:creator>Щербакова</dc:creator>
  <dc:description/>
  <dc:language>en-US</dc:language>
  <cp:lastModifiedBy>Щербакова</cp:lastModifiedBy>
  <dcterms:modified xsi:type="dcterms:W3CDTF">2012-01-20T15:17:07Z</dcterms:modified>
  <cp:revision>13</cp:revision>
  <dc:subject/>
  <dc:title>Слайд 1</dc:title>
</cp:coreProperties>
</file>