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6704-A192-4FA0-B1A3-6FB10EA22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1471-8E2B-4B64-8D62-AC35CC60E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*. Если ссадина на руке или ноге, то ее можно погрузить ненадолго в теплую воду, чтобы смягчить перед тем, как удалять грязь.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65E6-2BE2-429D-9545-2BF088D80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948-62F1-40B3-AB50-ADBBF893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80B-2B1E-4A89-9245-6BD1D9A2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6D9-81A3-407D-A7BB-05C809EE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960-E914-4AF1-938A-D4ED0849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496-9193-492D-A02F-A6202329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C87-466F-4ECE-BB35-78854662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AA0-13A8-40EB-B5A9-259F841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BDE-E4E0-41B3-BAA6-8F4351D0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641-47A0-4A2C-A5F8-666771D0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0BE-D5E8-4558-858F-F3EF0A2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862-6C4E-47B7-A8B7-0847A2E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32F-9DCA-421B-BE56-9284453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870D-7E1C-44FC-81E9-B48E667443D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DEB-5619-4FDA-9700-0B5B409BA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s-extreme.ru/images/multimedia/22omz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Arial"/>
              </a:rPr>
              <a:t>Основы безопасности жизнедеятельности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933-AB24-4C91-94A5-735CE22A6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нородное тело в ране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764640"/>
            <a:ext cx="57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. Если в ране находится инородное тело (осколок стекла, кусок металла, щепка), для остановки кровотечения осторожно надавите вокруг н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. Сделайте объемную повязку вокруг или с двух сторон от раны.                  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Нельзя самостоятельно вынимать инородное тело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т.к. оно может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держивать кровот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. Зафиксируйте повязку восьмеркой из бинта вокруг инородного тел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ратитесь за медицинской помощью как можно скорее, поскольку инородное тело нужно удалить крайне осторожно во избежание возобновления кровотечения и дальнейшего повреждения тканей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300280"/>
            <a:ext cx="44337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3" descr="C:\Documents and Settings\Черчение\Рабочий стол\Мои рисунки\презентация 001.jpg"/>
          <p:cNvPicPr/>
          <p:nvPr/>
        </p:nvPicPr>
        <p:blipFill>
          <a:blip r:embed="rId1"/>
          <a:srcRect l="8859" t="8202" r="4429" b="12303"/>
          <a:stretch/>
        </p:blipFill>
        <p:spPr>
          <a:xfrm>
            <a:off x="5940360" y="4508640"/>
            <a:ext cx="2906640" cy="19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Черчение\Рабочий стол\Мои рисунки\презентация 001.jpg"/>
          <p:cNvPicPr/>
          <p:nvPr/>
        </p:nvPicPr>
        <p:blipFill>
          <a:blip r:embed="rId2"/>
          <a:srcRect l="6152" t="14353" r="0" b="6151"/>
          <a:stretch/>
        </p:blipFill>
        <p:spPr>
          <a:xfrm>
            <a:off x="5940360" y="2565360"/>
            <a:ext cx="2916360" cy="18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Documents and Settings\Черчение\Рабочий стол\Мои рисунки\презентация 001.jpg"/>
          <p:cNvPicPr/>
          <p:nvPr/>
        </p:nvPicPr>
        <p:blipFill>
          <a:blip r:embed="rId3"/>
          <a:srcRect l="4614" t="2171" r="1538" b="13026"/>
          <a:stretch/>
        </p:blipFill>
        <p:spPr>
          <a:xfrm>
            <a:off x="5940360" y="620640"/>
            <a:ext cx="29163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7A79-18A4-4FBB-BCCE-0A2D5B53B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699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7f4c"/>
                </a:solidFill>
                <a:latin typeface="Tahoma"/>
              </a:rPr>
              <a:t>Ссадин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ет серьезных поврежд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 сильного кровотечения, осторожно промойте травмированное мест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теплой водой с мыл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чищенную ссадину промокните чистыми бумажными или марлевыми салфетками. Если она продолжает кровоточить, сильно придавите это место через ткань на несколько мину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клейте ссадину бактерицидным пластырем так, чтобы клейкие участки приходились на неповрежденную кожу. Если ссадина обширная, приложите стерильную неприлипающую салфетку, закрепив ее пластыре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9938" t="2977" r="2839" b="72038"/>
          <a:stretch/>
        </p:blipFill>
        <p:spPr>
          <a:xfrm>
            <a:off x="6156360" y="34776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Черчение\Рабочий стол\Мои рисунки\презентация.jpg"/>
          <p:cNvPicPr/>
          <p:nvPr/>
        </p:nvPicPr>
        <p:blipFill>
          <a:blip r:embed="rId2"/>
          <a:srcRect l="9938" t="35719" r="2839" b="39892"/>
          <a:stretch/>
        </p:blipFill>
        <p:spPr>
          <a:xfrm>
            <a:off x="6156360" y="2421000"/>
            <a:ext cx="2787480" cy="185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Черчение\Рабочий стол\Мои рисунки\презентация.jpg"/>
          <p:cNvPicPr/>
          <p:nvPr/>
        </p:nvPicPr>
        <p:blipFill>
          <a:blip r:embed="rId3"/>
          <a:srcRect l="12777" t="73824" r="4259" b="1786"/>
          <a:stretch/>
        </p:blipFill>
        <p:spPr>
          <a:xfrm>
            <a:off x="6156360" y="4437000"/>
            <a:ext cx="2824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E09C-0F02-499F-80A0-8A7A26CDA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Правила наложения </a:t>
            </a:r>
            <a:br>
              <a:rPr sz="3600"/>
            </a:b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бинтовых повязок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7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традавший должен находиться в удобном для бинтования, устойчивом положении – лежать или сидет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ующий должен по возможности находиться лицом к пострадавшему, чтобы контролировать его состоя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 следует проводить от периферии к центру, рука или нога бинтуются снизу ввер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, как правило, производится от себя, слева направ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C:\Documents and Settings\Черчение\Рабочий стол\Мои рисунки\презентация 001.jpg"/>
          <p:cNvPicPr/>
          <p:nvPr/>
        </p:nvPicPr>
        <p:blipFill>
          <a:blip r:embed="rId1"/>
          <a:srcRect l="3210" t="13598" r="1605" b="1943"/>
          <a:stretch/>
        </p:blipFill>
        <p:spPr>
          <a:xfrm>
            <a:off x="6227640" y="333360"/>
            <a:ext cx="264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Черчение\Рабочий стол\Мои рисунки\презентация 002.jpg"/>
          <p:cNvPicPr/>
          <p:nvPr/>
        </p:nvPicPr>
        <p:blipFill>
          <a:blip r:embed="rId2"/>
          <a:srcRect l="2129" t="4101" r="54660" b="6151"/>
          <a:stretch/>
        </p:blipFill>
        <p:spPr>
          <a:xfrm>
            <a:off x="6227640" y="2349360"/>
            <a:ext cx="269712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Documents and Settings\Черчение\Рабочий стол\Мои рисунки\презентация 002.jpg"/>
          <p:cNvPicPr/>
          <p:nvPr/>
        </p:nvPicPr>
        <p:blipFill>
          <a:blip r:embed="rId3"/>
          <a:srcRect l="53240" t="6151" r="4968" b="6151"/>
          <a:stretch/>
        </p:blipFill>
        <p:spPr>
          <a:xfrm>
            <a:off x="6227640" y="4437000"/>
            <a:ext cx="26956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64B-BAED-4683-B163-185223886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5. Бинтование следует начинать с наиболее узкого места, переходя к более широкому. Первые обороты бинта накладываются один на друго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6. Каждый последующий оборот бинта накладывается в косом направлении и должен покрывать предыдущий на половину или две трети, закрепляя 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7. Направление витков должно быть единым во всех слоях повязки. Свободный конец бинта должен составлять прямой угол с рукой, в которой находится рулон бинт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C:\Documents and Settings\Черчение\Рабочий стол\Мои рисунки\презентация.jpg"/>
          <p:cNvPicPr/>
          <p:nvPr/>
        </p:nvPicPr>
        <p:blipFill>
          <a:blip r:embed="rId1"/>
          <a:srcRect l="53561" t="1845" r="2171" b="12918"/>
          <a:stretch/>
        </p:blipFill>
        <p:spPr>
          <a:xfrm>
            <a:off x="5292720" y="3716280"/>
            <a:ext cx="3514680" cy="265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Черчение\Рабочий стол\Мои рисунки\презентация.jpg"/>
          <p:cNvPicPr/>
          <p:nvPr/>
        </p:nvPicPr>
        <p:blipFill>
          <a:blip r:embed="rId2"/>
          <a:srcRect l="3618" t="0" r="53561" b="12918"/>
          <a:stretch/>
        </p:blipFill>
        <p:spPr>
          <a:xfrm>
            <a:off x="5292720" y="404640"/>
            <a:ext cx="35686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378C-16A7-4AF2-A37A-BE517AFFD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333360"/>
            <a:ext cx="4643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8. Бинт нужно натягивать равномерно. Повязка не должна быть очень свободной и съезжать по поверхности тела, но и не должна быть очень тугой и сдавливать с излишней силой перевязанное место, нарушая кровообращ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9. Для лучшего облегания бинта через каждые 2-3 оборота следует делать перекрут бинт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0. В конце перевязки необходимо сделать закрепляющие слои и завязать концы бинта, образованные его разрывом по длин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5906" t="5468" r="4429" b="4101"/>
          <a:stretch/>
        </p:blipFill>
        <p:spPr>
          <a:xfrm>
            <a:off x="4932360" y="1125360"/>
            <a:ext cx="3903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E067-BCA6-4565-8D7E-21453302B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просы и задания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йте определение ран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известные вам виды ран.                        Какие из них наиболее опас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способы остановки артериального кровотечения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чем заключается первая помощь при ранения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нельзя самостоятельно вынимать инородное тело из ра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обрабатываются ссади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ы основные правила наложения бинтовых повяз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E36-9945-4232-A88F-961FD9156E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спользованная литература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«Основы безопасности жизнедеятельности» 7 класс/                 под ред. Ю.Л. Воробьева. – М.: Издательство АСТ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циклопедия для  детей. Личная безопасность. Меры предосторожности в повседневной жизни. Поведение в экстремальных ситуациях/ Глав. ред. В.А. Володин, - М.: Аванта+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ий справочник неотложных состояний.                     Скорая помощь/ Элла Тайлер, -  РИДЕРЗ ДАЙДЖЕСТ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ОСНОВЫ МЕДИЦИНСКИХ ЗНАНИЙ </a:t>
            </a:r>
            <a:br>
              <a:rPr sz="3200"/>
            </a:b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И ЗДОРОВОГО ОБРАЗА ЖИЗН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вая помощь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ри ранениях и травма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4320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 – учитель МБОУ сош №3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Электроугли Сичевая В.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5111-C3B6-4F8D-8837-DA4CA5D6C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Определение, виды ран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98864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это нарушения целостности кожных покровов, слизистых оболочек, тканей, вызванные механическими, термическими, химическими и другими воздействиями, приводящие к расстройствам функций органов или всего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0" descr="C:\Documents and Settings\Черчение\Рабочий стол\Мои рисунки\презентация 001.jpg"/>
          <p:cNvPicPr/>
          <p:nvPr/>
        </p:nvPicPr>
        <p:blipFill>
          <a:blip r:embed="rId1"/>
          <a:stretch/>
        </p:blipFill>
        <p:spPr>
          <a:xfrm>
            <a:off x="4716360" y="1341360"/>
            <a:ext cx="4146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D0C-B60C-45A1-B6D7-5E557F7D6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ассификация ран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59" name="Diagram 9"/>
          <p:cNvGrpSpPr/>
          <p:nvPr/>
        </p:nvGrpSpPr>
        <p:grpSpPr>
          <a:xfrm>
            <a:off x="471600" y="973800"/>
            <a:ext cx="8205480" cy="5353920"/>
            <a:chOff x="471600" y="973800"/>
            <a:chExt cx="8205480" cy="535392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932200" y="2878920"/>
              <a:ext cx="83340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107568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Огнестрель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529720" y="3900960"/>
              <a:ext cx="103356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471600" y="3524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куш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 flipH="1">
              <a:off x="3662640" y="4368600"/>
              <a:ext cx="46296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2175840" y="49402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в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023440" y="4368600"/>
              <a:ext cx="45792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4898520" y="4937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шибл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5583960" y="3900960"/>
              <a:ext cx="103464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591600" y="3520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олот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5382720" y="2878920"/>
              <a:ext cx="82728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598176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убле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_s1040"/>
            <p:cNvSpPr/>
            <p:nvPr/>
          </p:nvSpPr>
          <p:spPr>
            <a:xfrm flipV="1">
              <a:off x="4571280" y="23569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_s1041"/>
            <p:cNvSpPr/>
            <p:nvPr/>
          </p:nvSpPr>
          <p:spPr>
            <a:xfrm>
              <a:off x="3531600" y="973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ез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3531600" y="306072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8AD-4153-4220-B898-CCBFFB94A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333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носятся острыми предметами – ножом, стеклом, льдом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923920"/>
            <a:ext cx="40384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более глубокие, чем резаные, так как наносятся топором, лопатой, другими тяжелыми острыми предметами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6" descr="C:\Documents and Settings\Черчение\Рабочий стол\Мои рисунки\презентация 001.jpg"/>
          <p:cNvPicPr/>
          <p:nvPr/>
        </p:nvPicPr>
        <p:blipFill>
          <a:blip r:embed="rId1"/>
          <a:srcRect l="2839" t="2307" r="2839" b="2307"/>
          <a:stretch/>
        </p:blipFill>
        <p:spPr>
          <a:xfrm>
            <a:off x="4427640" y="404640"/>
            <a:ext cx="452592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269E-8E28-4471-A120-701AB2CEF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89000"/>
            <a:ext cx="45370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лот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несенные кинжалом, гвоздем, отверткой, зачастую внешне небольш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зуются глубокими внутренними повреждениями жизненно важны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2360" y="188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ши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при воздействии тупых предметов, падениях или сдавливаниях, их края неровные, кровотечение слаб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6" descr="C:\Documents and Settings\Черчение\Рабочий стол\Мои рисунки\презентация 003.jpg"/>
          <p:cNvPicPr/>
          <p:nvPr/>
        </p:nvPicPr>
        <p:blipFill>
          <a:blip r:embed="rId1"/>
          <a:srcRect l="4815" t="5828" r="3210" b="1943"/>
          <a:stretch/>
        </p:blipFill>
        <p:spPr>
          <a:xfrm>
            <a:off x="611280" y="3727440"/>
            <a:ext cx="3456000" cy="28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C:\Documents and Settings\Черчение\Рабочий стол\Мои рисунки\презентация 001.jpg"/>
          <p:cNvPicPr/>
          <p:nvPr/>
        </p:nvPicPr>
        <p:blipFill>
          <a:blip r:embed="rId2"/>
          <a:srcRect l="0" t="0" r="0" b="4762"/>
          <a:stretch/>
        </p:blipFill>
        <p:spPr>
          <a:xfrm>
            <a:off x="5076720" y="2924280"/>
            <a:ext cx="3357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7394-7D14-4125-84FF-B35331B088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333000"/>
            <a:ext cx="40273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в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от разрыва кожи при натяжении, при открытых переломах к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6360" y="292392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уш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являющиеся последствиями укусов животных, по внешнему виду напоминают рваные раны, но не следует забывать о возможности заражения бешен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6000" y="333000"/>
            <a:ext cx="410076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гнестрельные ран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которых особенно опасны ранения внутренних органов, головы,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6" descr="C:\Documents and Settings\Черчение\Рабочий стол\Мои рисунки\презентация 001.jpg"/>
          <p:cNvPicPr/>
          <p:nvPr/>
        </p:nvPicPr>
        <p:blipFill>
          <a:blip r:embed="rId1"/>
          <a:srcRect l="8202" t="0" r="684" b="0"/>
          <a:stretch/>
        </p:blipFill>
        <p:spPr>
          <a:xfrm>
            <a:off x="395280" y="2984400"/>
            <a:ext cx="4035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5822-4399-42FF-B055-C873E44AA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3816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тановить кровотеч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тить рану             от загрязнения и проникновения                в нее микроб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лабить болевые ощущ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22omz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989000"/>
            <a:ext cx="4546440" cy="3137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Первая помощь при ранениях: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AAA9-B063-4675-93BB-952681ED1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755640" y="404640"/>
            <a:ext cx="7704000" cy="136872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92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альное сгиб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уки или ног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ережа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режденного сосу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месте сги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485928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льцевое прижа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ерии в ран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на протяж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2556000" y="4724280"/>
            <a:ext cx="388908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ож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овоостанавливающег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гу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2124000" y="1773360"/>
            <a:ext cx="237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500720" y="1773360"/>
            <a:ext cx="2447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4500720" y="177336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58:36Z</dcterms:created>
  <dc:creator>------</dc:creator>
  <dc:description/>
  <dc:language>en-US</dc:language>
  <cp:lastModifiedBy>revaz</cp:lastModifiedBy>
  <dcterms:modified xsi:type="dcterms:W3CDTF">2012-04-05T20:10:45Z</dcterms:modified>
  <cp:revision>22</cp:revision>
  <dc:subject/>
  <dc:title>ОСНОВЫ МЕДИЦИНСКИХ ЗНАНИЙ  И ЗДОРОВОГО ОБРАЗА ЖИЗНИ</dc:title>
</cp:coreProperties>
</file>