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471-AE2B-4658-A348-B4C768F8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9D6-1E87-4137-B46C-E23EF602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2DD-6510-4734-A201-3032F881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2A6-6CD4-426C-A05D-D226BA27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361C-4363-4A93-ADB7-1B3AB8CA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A706-DC11-4129-8053-44F3C736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758C-43B2-4FD1-97EC-B3764461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41C0-D075-41F9-9F9A-5C37CFE5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11B4-CEDD-4084-AF2C-8F0807AC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C24B-66BC-4C5E-A70F-CFCABDFD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5636-6156-4DB0-92C2-45CD26B9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A95-6FAC-423A-90DC-D4211769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2613-0305-4693-9E1B-946F75E7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EA36-9237-43E3-A9C3-43FC8D13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C311-4247-4316-909E-D262F50E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1E03-9A20-4321-8264-41984640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B0EE-4CF7-4B3C-83E0-3C85B9D2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1A6-889E-4B89-901D-EF5822C1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913-BC0A-47E5-AFAF-997D020A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3C4-867A-4E95-BA9E-238173E4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142-5677-4DE9-9B51-19B3D391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D47-3C2D-4F65-9459-84D961EE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AC8-5F65-4431-B78D-3ABA6254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785-4740-4F14-97D5-191FC57E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62E6-1A99-48E1-905D-D26493513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795F-4FA0-4104-A749-10D9F800C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зентуем словарное слово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1" lang="ru-RU" sz="4400" spc="-1" strike="noStrike">
                <a:solidFill>
                  <a:srgbClr val="009999"/>
                </a:solidFill>
                <a:latin typeface="Tahoma"/>
              </a:rPr>
              <a:t>Колонн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и: Егорова Валерия и Газанфарли Айгу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ы 7-б класса МБОУ СОШ №15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: Горбачева М.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про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Что такое Колон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Сколько частей у колонны(перечислите их)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Как называется верхняя декоративная часть колон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Абака- это основан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онна - столб, часто цилиндрической ф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5 частей, Стереобат, база, ствол, капитель, аба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Капи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Нет. Абака - это четырехугольная плита в верней части капи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Давайте познакомим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Части колонн(4-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Мои друз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Обо мне написа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Виды колон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Вопро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Отв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авайте познакомимс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лон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толб, часто цилиндрической формы. Обычно деревянный, каменный или металлический. В архитектуре поддерживает антаблемент или ар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онна также может не поддерживать какой-либо строительный элемент, а служить декоративным или триумфальным украшением, например, со статуей на вершине или просто стоять перед фасадом, держа только отрезки антаблемента, но не неся всю его нагруз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асти колон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ереобат - нижняя ча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пьедесталом колон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аза - основание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2808360" cy="172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74328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асти колон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вол (тело) - основной конструктивный элемент колонны между базой и капителью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питель - верхня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корат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сть колон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64360" y="1341360"/>
            <a:ext cx="1728720" cy="4464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780000" y="3357720"/>
            <a:ext cx="331308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асти коло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бака - четырехугольная плита в верней части капител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76720" y="2781360"/>
            <a:ext cx="4746600" cy="32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ои друз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онимы: Столп, автоколонна,  пилястр, пилон, кариатида, батава, мехколонна, стамбха, дефлегматор, форколон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бо мне написа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ектирование и строительство Исаакиевского собора и Александровской колонны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тербург советский: «новый человек» в старом пространстве. 1920–1930-е го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мятники в честь победы в Отечественной войне 1812 го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славу ратных дел. Памятники воинской славы Петербург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ная колонна в Де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ятая колонн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ды колон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ды колонн отличаю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 типу ордеров, к котор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относятся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27640" y="1052640"/>
            <a:ext cx="4716360" cy="53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8:42:00Z</dcterms:created>
  <dc:creator>admin</dc:creator>
  <dc:description/>
  <dc:language>en-US</dc:language>
  <cp:lastModifiedBy>Горбачова</cp:lastModifiedBy>
  <dcterms:modified xsi:type="dcterms:W3CDTF">2012-04-21T10:49:11Z</dcterms:modified>
  <cp:revision>5</cp:revision>
  <dc:subject/>
  <dc:title>Презентуем слово “Колонна”</dc:title>
</cp:coreProperties>
</file>