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462-36BB-42C0-A834-6DC535B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A48-2716-4910-B123-180E381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0A3-D7A7-499C-8666-6844914A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B36-A014-4492-BFEA-CE141017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8F22-8FE5-473B-854A-CD64025A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5E8C-A9C5-4ABE-90EB-D31D9D4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62A4-30C8-4F9B-B4E0-5984362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6D39-B99C-4BF7-9F1D-09E18E73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88E-61DF-481B-8070-5C3C4CD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642-64FD-405A-8D70-67BFB3B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69D7-E761-4323-9EB2-76A01C1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3C6-1BCC-4429-9B4A-BFC482E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6D8D-C874-42C0-82A7-51E01C2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DDF6-B95D-4EAC-A048-EB9B72F8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33AA-6A3D-4FF8-90D6-3250B55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257C-AA9F-4B50-9A23-E1BB3E9B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680-C4ED-4029-A49E-F68A92F6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325-ACD8-4FFE-A232-12AABD57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614-0C43-4C0F-9384-466A993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563-7DCD-40D2-ABA8-582A215F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143-A574-4E8F-9DC8-1CE0C532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F26-2A88-4866-8BE9-1E229BB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24A-0F54-4954-8573-325C954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3D0-1509-4C66-BD3B-2CA088C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863-5899-44D2-BE34-B4CDC1CAA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957-FE2D-43F3-A677-C9D3CC460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зентуем словарное слово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009999"/>
                </a:solidFill>
                <a:latin typeface="Tahoma"/>
              </a:rPr>
              <a:t>Колон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Егорова Валерия и Газанфарли Айгу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7-б класса МБОУ СОШ №1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Горбачева М.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Что такое Колон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Сколько частей у колонны(перечислите их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Как называется верхняя декоративная часть колон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Абака- это основа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- столб, часто цилиндрической 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5 частей, Стереобат, база, ствол, капитель, аб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п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Нет. Абака - это четырехугольная плита в верней части кап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Давайте познакомим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Части колонн(4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Мои друз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Обо мне напис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Виды коло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авайте познакомимс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лон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толб, часто цилиндрической формы. Обычно деревянный, каменный или металлический. В архитектуре поддерживает антаблемент или 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также может не поддерживать какой-либо строительный элемент, а служить декоративным или триумфальным украшением, например, со статуей на вершине или просто стоять перед фасадом, держа только отрезки антаблемента, но не неся всю его нагруз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реобат - нижняя ча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ьедесталом колон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аза - основани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808360" cy="172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7432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вол (тело) - основной конструктивный элемент колонны между базой и капителью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питель - верхня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ь колон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1341360"/>
            <a:ext cx="172872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331308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бака - четырехугольная плита в верней части капител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474660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и друз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онимы: Столп, автоколонна,  пилястр, пилон, кариатида, батава, мехколонна, стамбха, дефлегматор, форколо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 мне написа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ирование и строительство Исаакиевского собора и Александровской колонны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ербург советский: «новый человек» в старом пространстве. 1920–1930-е г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ники в честь победы в Отечественной войне 1812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славу ратных дел. Памятники воинской славы Петербур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ая колонна в Де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ая колонн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ы колонн отлича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типу ордеров, к котор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относятс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7163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8:42:00Z</dcterms:created>
  <dc:creator>admin</dc:creator>
  <dc:description/>
  <dc:language>en-US</dc:language>
  <cp:lastModifiedBy>Горбачова</cp:lastModifiedBy>
  <dcterms:modified xsi:type="dcterms:W3CDTF">2012-04-21T10:49:11Z</dcterms:modified>
  <cp:revision>5</cp:revision>
  <dc:subject/>
  <dc:title>Презентуем слово “Колонна”</dc:title>
</cp:coreProperties>
</file>