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598-B907-4303-B4EC-8DB0B0BA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B43-4D81-401A-8808-2C14E8C0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80D-80DF-4E2E-9634-3975316B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6433-9A74-4817-A811-A76BAA82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6B49-DEDC-4217-884B-BE4F0BC2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5923-6333-45F2-B43E-039EDB3C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0C60-7D3B-40D1-8986-EDD127F0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505F-BC8C-48F3-B7C2-3937BF45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3959-8A31-4659-B481-44A820C8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09D0-F72A-4749-94A8-E66A25C7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D58E-4AA2-45FB-81EA-C258DC85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E789-BEA7-402B-8B1D-3ECDDB7A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D9F1-9060-4DE9-948C-5EBA55B3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98BE-3B16-4119-924E-FEF3A31A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D7B3-8361-4E07-8D76-6A3A13CF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2447-BAA8-4398-BF9E-2AE7E332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5094-7EE4-43A2-8348-E9628645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94E-5574-494D-BE45-7C5DA069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8DA9-ABB2-4C83-9F25-476286FD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0556-F367-43B4-943F-08F17835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F95A-34A0-4583-ADCD-2DF93750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9808-9ADA-468A-A847-6439F2A9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99B-35EA-4CE2-9A46-8E88A074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2DF7-E931-49D0-AD32-A4496B0F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371F-7A5A-4CD9-BA23-FE0B1EE655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BCCC-558F-4994-96B8-17A3D4DEA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езентуем словарное слово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1" lang="ru-RU" sz="4400" spc="-1" strike="noStrike">
                <a:solidFill>
                  <a:srgbClr val="009999"/>
                </a:solidFill>
                <a:latin typeface="Tahoma"/>
              </a:rPr>
              <a:t>Колонн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и: Егорова Валерия и Газанфарли Айгу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ицы 7-б класса МБОУ СОШ №15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: Горбачева М.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опрос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Что такое Колонн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Сколько частей у колонны(перечислите их)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Как называется верхняя декоративная часть колонн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Абака- это основани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лонна - столб, часто цилиндрической фор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5 частей, Стереобат, база, ствол, капитель, аба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Капит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Нет. Абака - это четырехугольная плита в верней части капите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Давайте познакомим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Части колонн(4-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Мои друз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Обо мне написа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Виды колон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Вопро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.Отве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авайте познакомимся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олонн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столб, часто цилиндрической формы. Обычно деревянный, каменный или металлический. В архитектуре поддерживает антаблемент или ар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лонна также может не поддерживать какой-либо строительный элемент, а служить декоративным или триумфальным украшением, например, со статуей на вершине или просто стоять перед фасадом, держа только отрезки антаблемента, но не неся всю его нагруз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асти колон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ереобат - нижняя ча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 пьедесталом колонн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аза - основание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292720" y="1268280"/>
            <a:ext cx="2808360" cy="1729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374328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асти колон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вол (тело) - основной конструктивный элемент колонны между базой и капителью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питель - верхня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коратив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сть колон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164360" y="1341360"/>
            <a:ext cx="1728720" cy="4464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780000" y="3357720"/>
            <a:ext cx="3313080" cy="24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асти колон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бака - четырехугольная плита в верней части капител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76720" y="2781360"/>
            <a:ext cx="4746600" cy="32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ои друзь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нонимы: Столп, автоколонна,  пилястр, пилон, кариатида, батава, мехколонна, стамбха, дефлегматор, форколон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бо мне написан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ектирование и строительство Исаакиевского собора и Александровской колонны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тербург советский: «новый человек» в старом пространстве. 1920–1930-е год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мятники в честь победы в Отечественной войне 1812 год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славу ратных дел. Памятники воинской славы Петербург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езная колонна в Де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ятая колонн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ды колон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ды колонн отличаю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 типу ордеров, к которы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и относятся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27640" y="1052640"/>
            <a:ext cx="4716360" cy="533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08:42:00Z</dcterms:created>
  <dc:creator>admin</dc:creator>
  <dc:description/>
  <dc:language>en-US</dc:language>
  <cp:lastModifiedBy>Горбачова</cp:lastModifiedBy>
  <dcterms:modified xsi:type="dcterms:W3CDTF">2012-04-21T10:49:11Z</dcterms:modified>
  <cp:revision>5</cp:revision>
  <dc:subject/>
  <dc:title>Презентуем слово “Колонна”</dc:title>
</cp:coreProperties>
</file>