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E20-E55D-473F-AFB3-1593F258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0A4-DB29-4BB1-951F-B28302DF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1ED-092D-4732-89CE-E5D872C2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366-7B2A-4F13-AA65-CA666BE9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7855-AE07-4953-921D-BDA66016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D414-19F7-4784-806B-BC836A9F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036D-58B0-42C6-92B5-F22A615F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6B28-2E62-456F-B832-284A3A29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F6BF-719C-4CE6-8E34-C63E0E2D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A154-027C-4E4F-B2CD-65C3A3DE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7DE2-E6C9-4618-A240-5D52FB0F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C8D-7581-47D0-841A-4C551616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7A80-055C-4EBB-B58C-15A9E502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C009-6E3B-477B-AC92-F943347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2FF8-3AC7-4534-9768-524093D9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30D1-7A8F-4909-B648-F990B29C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560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13960" y="197136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39724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5560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13960" y="4435200"/>
            <a:ext cx="224568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ED99-0633-4485-BE31-CB1ABF05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64A-7EC8-416D-A211-3BC37903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19C-E529-4FDD-803D-31597E52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2E0-3F96-47DC-AAF7-271FFEEF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17760" y="1131840"/>
            <a:ext cx="678960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00B-CB04-4184-ACD4-D04CC625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AEF-CA15-4D0A-A592-9BCB4E76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71680" y="443520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B92-5DE0-47C5-B8F4-14780A33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71680" y="1971360"/>
            <a:ext cx="340380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97240" y="4435200"/>
            <a:ext cx="6975360" cy="2249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876"/>
              </a:spcAft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F35-0F78-47CD-A461-325E712F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136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Aft>
                <a:spcPts val="876"/>
              </a:spcAft>
              <a:buClr>
                <a:srgbClr val="000000"/>
              </a:buClr>
              <a:buFont typeface="45 Helvetica Light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Aft>
                <a:spcPts val="876"/>
              </a:spcAft>
              <a:buClr>
                <a:srgbClr val="000000"/>
              </a:buClr>
              <a:buFont typeface="45 Helvetica Light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FEBD80-9912-4FFB-979D-B7FC4A17CC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7020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1f4ca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EC333D-D8D9-4A2A-AD20-E2B696A09A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84" r="0" b="0"/>
          <a:stretch/>
        </p:blipFill>
        <p:spPr>
          <a:xfrm>
            <a:off x="228600" y="228600"/>
            <a:ext cx="18716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evaluation_tools/kriterii_ocenki_presentation.doc" TargetMode="Externa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67680" y="2301840"/>
            <a:ext cx="2790720" cy="4449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36840" y="50148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Базовый межшкольный методический центр 263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76480" y="2590920"/>
            <a:ext cx="5400720" cy="247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Учебный проект</a:t>
            </a: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45 Helvetica Light"/>
              </a:rPr>
              <a:t>Автономное существование человека.</a:t>
            </a:r>
            <a:r>
              <a:rPr b="1" i="1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68480" y="52545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45 Helvetica Light"/>
              </a:rPr>
              <a:t>Автор:</a:t>
            </a:r>
            <a:r>
              <a:rPr b="1" lang="ru-RU" sz="2000" spc="-1" strike="noStrike">
                <a:solidFill>
                  <a:srgbClr val="00cc99"/>
                </a:solidFill>
                <a:latin typeface="45 Helvetica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 Фурсов О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68480" y="68389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45 Helvetica Light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. Соломенское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8840" y="717480"/>
            <a:ext cx="44643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1f4ca1"/>
                </a:solidFill>
                <a:latin typeface="Arial"/>
              </a:rPr>
              <a:t>Аннотация</a:t>
            </a:r>
            <a:br>
              <a:rPr sz="3600"/>
            </a:b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97240" y="790560"/>
            <a:ext cx="6975360" cy="417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0" algn="just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just">
              <a:lnSpc>
                <a:spcPct val="110000"/>
              </a:lnSpc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52840" y="3094200"/>
            <a:ext cx="2880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200" spc="-1" strike="noStrike">
                <a:solidFill>
                  <a:srgbClr val="1f4ca1"/>
                </a:solidFill>
                <a:latin typeface="Arial"/>
              </a:rPr>
              <a:t>Участники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13200" y="5038560"/>
            <a:ext cx="55450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3600" spc="-1" strike="noStrike">
                <a:solidFill>
                  <a:srgbClr val="1f4ca1"/>
                </a:solidFill>
                <a:latin typeface="Arial"/>
              </a:rPr>
              <a:t>Предметная обла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3560" y="107784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45 Helvetica Light"/>
              </a:rPr>
              <a:t>Данная работа направлена на приобретение навыков особенностей защиты человека в экстремальных природных условиях. Формирования у учащихся компетентности в сфере навыков выживания.</a:t>
            </a: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60840" y="604692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ОБ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08800" y="370296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45 Helvetica Light"/>
              </a:rPr>
              <a:t>Учащиеся средней школы.(6 класс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92480" y="64620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Методические задачи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97240" y="1971720"/>
            <a:ext cx="6975360" cy="184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222840" indent="-22284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Научить действовать в условиях вынужденной автоно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Закрепить полученные теоретические 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Освоить представление об обеспечении бытовых потребнос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6840" y="4030560"/>
            <a:ext cx="67896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Дидактические 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5200" y="4965840"/>
            <a:ext cx="697572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5200" y="2014560"/>
            <a:ext cx="69757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25560" y="5181480"/>
            <a:ext cx="697572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0880" indent="-3808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ать особенности защиты человека в экстремальных природных услов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ирование компетентности в сфере навыков выжи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80840" y="430200"/>
            <a:ext cx="576108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1f4ca1"/>
                </a:solidFill>
                <a:latin typeface="Arial"/>
              </a:rPr>
              <a:t>Учебные темы программы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6480" y="3454560"/>
            <a:ext cx="7056360" cy="1512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225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  <a:ea typeface="Arial"/>
              </a:rPr>
              <a:t>Основополагающий вопрос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живание в природных услов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8120" y="4822920"/>
            <a:ext cx="7056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0880" indent="-380880" algn="ctr">
              <a:lnSpc>
                <a:spcPct val="100000"/>
              </a:lnSpc>
              <a:spcAft>
                <a:spcPts val="1225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роблемные вопро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6480" y="1077840"/>
            <a:ext cx="518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1. Причины возникновения автономного существ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2. Меры профилактики и подготовка к безопасному поведению в условиях автономного существ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3. </a:t>
            </a:r>
            <a:r>
              <a:rPr b="1" i="1" lang="en-GB" sz="1400" spc="-1" strike="noStrike">
                <a:solidFill>
                  <a:srgbClr val="000000"/>
                </a:solidFill>
                <a:latin typeface="45 Helvetica Light"/>
              </a:rPr>
              <a:t>Оборудование временного жилища, обеспечение водой и питанием</a:t>
            </a:r>
            <a:r>
              <a:rPr b="1" lang="ru-RU" sz="1400" spc="-1" strike="noStrike">
                <a:solidFill>
                  <a:srgbClr val="000000"/>
                </a:solidFill>
                <a:latin typeface="45 Helvetica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45 Helvetica Light"/>
              </a:rPr>
              <a:t>4.Способы добывания огня, типы костр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2786040" y="370368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6880" y="5562720"/>
            <a:ext cx="72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Почему обеспечение бытовых потребностей существен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Влияет на выживание человека в условиях вынужденн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Автоном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2747880" y="367020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20480" y="57312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Деятельность учащихся 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ый поиск учащимися информ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ая работа учащихся над исследован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е полученной информации в рамках общешкольной конференции (круглого стола, дискуссии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Aft>
                <a:spcPts val="876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7760" y="64620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200" spc="-1" strike="noStrike">
                <a:solidFill>
                  <a:srgbClr val="1f4ca1"/>
                </a:solidFill>
                <a:latin typeface="Arial"/>
              </a:rPr>
              <a:t>Темы самостоятельных исследований учащихся</a:t>
            </a:r>
            <a:endParaRPr b="0" lang="en-US" sz="32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6975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Самостоятельное изучение литературы по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Рассмотрение вопросов о особенностях устройства организма и его возможностях в экстремаль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Питание и употребление в пищу растений, добывание пищи в природ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пособы добывания огня , типы кос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Использование ресурсов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80840" y="430200"/>
            <a:ext cx="67899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План проведения проекта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397240" y="1971720"/>
          <a:ext cx="6975360" cy="5060880"/>
        </p:xfrm>
        <a:graphic>
          <a:graphicData uri="http://schemas.openxmlformats.org/drawingml/2006/table">
            <a:tbl>
              <a:tblPr/>
              <a:tblGrid>
                <a:gridCol w="1768320"/>
                <a:gridCol w="3384720"/>
                <a:gridCol w="1822320"/>
              </a:tblGrid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Arial"/>
                        </a:rPr>
                        <a:t>Необходимое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ение в 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омление с проблемной ситу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гру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класса на 3 группы по 6 человек в кажд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ч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 статистических данных; проведение исследований по проблеме; переработка информац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ные результаты предоставляются в виде : презентации, букл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фе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788"/>
                        </a:spcAft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49560" y="356760"/>
            <a:ext cx="7619760" cy="57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2800" spc="-1" strike="noStrike">
                <a:solidFill>
                  <a:srgbClr val="1f4ca1"/>
                </a:solidFill>
                <a:latin typeface="Arial"/>
                <a:ea typeface="Arial"/>
              </a:rPr>
              <a:t>Материалы учебно-методического пакета </a:t>
            </a:r>
            <a:endParaRPr b="0" lang="en-US" sz="28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92120" y="1006200"/>
            <a:ext cx="7345080" cy="56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 учебного проекта и материалов УМП к нему («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изит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работ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1360" indent="-253800">
              <a:lnSpc>
                <a:spcPct val="80000"/>
              </a:lnSpc>
              <a:buClr>
                <a:srgbClr val="000000"/>
              </a:buClr>
              <a:buFont typeface="45 Helvetica Light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презентация ученика</a:t>
            </a:r>
            <a:endParaRPr b="0" lang="en-US" sz="1800" spc="-1" strike="noStrike">
              <a:solidFill>
                <a:srgbClr val="000000"/>
              </a:solidFill>
              <a:latin typeface="45 Helvetica Light"/>
            </a:endParaRPr>
          </a:p>
          <a:p>
            <a:pPr lvl="2" marL="1341360" indent="-253800">
              <a:lnSpc>
                <a:spcPct val="80000"/>
              </a:lnSpc>
              <a:buClr>
                <a:srgbClr val="000000"/>
              </a:buClr>
              <a:buFont typeface="45 Helvetica Light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публикация ученика</a:t>
            </a:r>
            <a:endParaRPr b="0" lang="en-US" sz="1800" spc="-1" strike="noStrike">
              <a:solidFill>
                <a:srgbClr val="000000"/>
              </a:solidFill>
              <a:latin typeface="45 Helvetica Light"/>
            </a:endParaRPr>
          </a:p>
          <a:p>
            <a:pPr lvl="2" marL="1341360" indent="0">
              <a:lnSpc>
                <a:spcPct val="80000"/>
              </a:lnSpc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45 Helvetica Light"/>
              </a:rPr>
              <a:t>   </a:t>
            </a:r>
            <a:r>
              <a:rPr b="0" lang="ru-RU" sz="1400" spc="-1" strike="noStrike">
                <a:solidFill>
                  <a:srgbClr val="00cc99"/>
                </a:solidFill>
                <a:latin typeface="45 Helvetica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45 Helvetica Light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сайт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оценки работ учащих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блик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материалы для самостоятельной работы учащих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ие материалы учител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ур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рошю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журн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менения учебного проекта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пис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нформационных материалов, необходимых для поддержки самостоятельных исследований учащихся в ход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701200" y="6910560"/>
            <a:ext cx="1042920" cy="574560"/>
          </a:xfrm>
          <a:custGeom>
            <a:avLst/>
            <a:gdLst>
              <a:gd name="textAreaLeft" fmla="*/ 74520 w 1042920"/>
              <a:gd name="textAreaRight" fmla="*/ 968400 w 1042920"/>
              <a:gd name="textAreaTop" fmla="*/ 74520 h 574560"/>
              <a:gd name="textAreaBottom" fmla="*/ 500040 h 574560"/>
            </a:gdLst>
            <a:ahLst/>
            <a:rect l="textAreaLeft" t="textAreaTop" r="textAreaRight" b="textAreaBottom"/>
            <a:pathLst>
              <a:path w="39196" h="21600">
                <a:moveTo>
                  <a:pt x="0" y="0"/>
                </a:moveTo>
                <a:lnTo>
                  <a:pt x="39196" y="0"/>
                </a:lnTo>
                <a:lnTo>
                  <a:pt x="39196" y="21600"/>
                </a:lnTo>
                <a:lnTo>
                  <a:pt x="0" y="21600"/>
                </a:lnTo>
                <a:close/>
              </a:path>
              <a:path fill="lightenLess" w="39196" h="21600">
                <a:moveTo>
                  <a:pt x="0" y="0"/>
                </a:moveTo>
                <a:lnTo>
                  <a:pt x="39196" y="0"/>
                </a:lnTo>
                <a:lnTo>
                  <a:pt x="36392" y="2804"/>
                </a:lnTo>
                <a:lnTo>
                  <a:pt x="2804" y="2804"/>
                </a:lnTo>
                <a:close/>
              </a:path>
              <a:path fill="darken" w="39196" h="21600">
                <a:moveTo>
                  <a:pt x="39196" y="0"/>
                </a:moveTo>
                <a:lnTo>
                  <a:pt x="39196" y="21600"/>
                </a:lnTo>
                <a:lnTo>
                  <a:pt x="36392" y="18796"/>
                </a:lnTo>
                <a:lnTo>
                  <a:pt x="36392" y="2804"/>
                </a:lnTo>
                <a:close/>
              </a:path>
              <a:path fill="darkenLess" w="39196" h="21600">
                <a:moveTo>
                  <a:pt x="39196" y="21600"/>
                </a:moveTo>
                <a:lnTo>
                  <a:pt x="0" y="21600"/>
                </a:lnTo>
                <a:lnTo>
                  <a:pt x="2804" y="18796"/>
                </a:lnTo>
                <a:lnTo>
                  <a:pt x="36392" y="18796"/>
                </a:lnTo>
                <a:close/>
              </a:path>
              <a:path fill="lighten" w="39196" h="21600">
                <a:moveTo>
                  <a:pt x="0" y="21600"/>
                </a:moveTo>
                <a:lnTo>
                  <a:pt x="0" y="0"/>
                </a:lnTo>
                <a:lnTo>
                  <a:pt x="2804" y="2804"/>
                </a:lnTo>
                <a:lnTo>
                  <a:pt x="2804" y="18796"/>
                </a:lnTo>
                <a:close/>
              </a:path>
              <a:path fill="darken" w="39196" h="21600">
                <a:moveTo>
                  <a:pt x="13638" y="7987"/>
                </a:moveTo>
                <a:lnTo>
                  <a:pt x="16622" y="7987"/>
                </a:lnTo>
                <a:lnTo>
                  <a:pt x="16622" y="12525"/>
                </a:lnTo>
                <a:cubicBezTo>
                  <a:pt x="16622" y="13310"/>
                  <a:pt x="17303" y="13932"/>
                  <a:pt x="18184" y="13932"/>
                </a:cubicBezTo>
                <a:lnTo>
                  <a:pt x="19598" y="13932"/>
                </a:lnTo>
                <a:cubicBezTo>
                  <a:pt x="20479" y="13932"/>
                  <a:pt x="21160" y="13310"/>
                  <a:pt x="21160" y="12525"/>
                </a:cubicBezTo>
                <a:lnTo>
                  <a:pt x="21160" y="7987"/>
                </a:lnTo>
                <a:lnTo>
                  <a:pt x="19598" y="7987"/>
                </a:lnTo>
                <a:lnTo>
                  <a:pt x="22582" y="5003"/>
                </a:lnTo>
                <a:lnTo>
                  <a:pt x="25706" y="7987"/>
                </a:lnTo>
                <a:lnTo>
                  <a:pt x="24144" y="7987"/>
                </a:lnTo>
                <a:lnTo>
                  <a:pt x="24144" y="12525"/>
                </a:lnTo>
                <a:cubicBezTo>
                  <a:pt x="24144" y="14879"/>
                  <a:pt x="21953" y="17056"/>
                  <a:pt x="19598" y="17056"/>
                </a:cubicBezTo>
                <a:lnTo>
                  <a:pt x="18184" y="17056"/>
                </a:lnTo>
                <a:cubicBezTo>
                  <a:pt x="15830" y="17056"/>
                  <a:pt x="13638" y="14879"/>
                  <a:pt x="13638" y="12525"/>
                </a:cubicBez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7189920" y="6981840"/>
            <a:ext cx="936360" cy="504720"/>
          </a:xfrm>
          <a:custGeom>
            <a:avLst/>
            <a:gdLst>
              <a:gd name="textAreaLeft" fmla="*/ 32400 w 936360"/>
              <a:gd name="textAreaRight" fmla="*/ 903960 w 93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59" h="21600">
                <a:moveTo>
                  <a:pt x="0" y="0"/>
                </a:moveTo>
                <a:lnTo>
                  <a:pt x="40059" y="0"/>
                </a:lnTo>
                <a:lnTo>
                  <a:pt x="40059" y="21600"/>
                </a:lnTo>
                <a:lnTo>
                  <a:pt x="0" y="21600"/>
                </a:lnTo>
                <a:close/>
              </a:path>
              <a:path fill="lightenLess" w="40059" h="21600">
                <a:moveTo>
                  <a:pt x="0" y="0"/>
                </a:moveTo>
                <a:lnTo>
                  <a:pt x="40059" y="0"/>
                </a:lnTo>
                <a:lnTo>
                  <a:pt x="38659" y="1400"/>
                </a:lnTo>
                <a:lnTo>
                  <a:pt x="1400" y="1400"/>
                </a:lnTo>
                <a:close/>
              </a:path>
              <a:path fill="darken" w="40059" h="21600">
                <a:moveTo>
                  <a:pt x="40059" y="0"/>
                </a:moveTo>
                <a:lnTo>
                  <a:pt x="40059" y="21600"/>
                </a:lnTo>
                <a:lnTo>
                  <a:pt x="38659" y="20200"/>
                </a:lnTo>
                <a:lnTo>
                  <a:pt x="38659" y="1400"/>
                </a:lnTo>
                <a:close/>
              </a:path>
              <a:path fill="darkenLess" w="40059" h="21600">
                <a:moveTo>
                  <a:pt x="40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59" y="20200"/>
                </a:lnTo>
                <a:close/>
              </a:path>
              <a:path fill="lighten" w="40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59" h="21600">
                <a:moveTo>
                  <a:pt x="13023" y="3794"/>
                </a:moveTo>
                <a:lnTo>
                  <a:pt x="27036" y="10800"/>
                </a:lnTo>
                <a:lnTo>
                  <a:pt x="13023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20480" y="2157120"/>
            <a:ext cx="6975720" cy="146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417760" y="1131840"/>
            <a:ext cx="678960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ca1"/>
                </a:solidFill>
                <a:latin typeface="Arial"/>
              </a:rPr>
              <a:t>Контактная информация</a:t>
            </a:r>
            <a:endParaRPr b="0" lang="en-US" sz="3600" spc="-1" strike="noStrike">
              <a:solidFill>
                <a:srgbClr val="1f4ca1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5560" y="223056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23:12:51Z</dcterms:created>
  <dc:creator>.</dc:creator>
  <dc:description/>
  <dc:language>en-US</dc:language>
  <cp:lastModifiedBy>User</cp:lastModifiedBy>
  <cp:lastPrinted>2001-07-20T22:27:51Z</cp:lastPrinted>
  <dcterms:modified xsi:type="dcterms:W3CDTF">2007-12-10T17:03:21Z</dcterms:modified>
  <cp:revision>257</cp:revision>
  <dc:subject/>
  <dc:title>No Slide Title</dc:title>
</cp:coreProperties>
</file>