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7FC-CEF7-4B7D-9EDC-491BB18B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97240" y="443520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AD6-1791-4E32-A145-7C94F0EF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7168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517-D423-462A-A46A-A06CA568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560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1396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9724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5560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1396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C87D-4C57-4614-9678-55A2EBAE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00AD-9ECF-48D8-A577-04135632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DB97-C709-44C4-A9AA-766DFFB7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94C8-B6F6-49A1-A847-47C0E07D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FCD0-3EE0-4027-81C4-04A1476E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D0F2-1618-4240-93F3-D2F20345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17760" y="1131840"/>
            <a:ext cx="6789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364B-9C85-41A8-9F1B-62249A08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1943-E6B0-48EA-AB1B-A7A8FF89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344-A86D-461A-BC52-A3C731F5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7168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0285-8CB5-4654-B061-53554A44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5E59-0568-449D-B1E1-9EA7C925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397240" y="443520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3868-D708-46DD-A21D-6FF09ECE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7168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1FCF-7518-4535-900F-456E23F2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560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1396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39724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75560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11396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539E-B094-4E6A-8348-6F4AAC03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1490-A465-4C8B-B4D0-55912C70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AF8A-4D83-4F35-89DA-D7DA4717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C799-167E-4917-904F-72ABEB61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17760" y="1131840"/>
            <a:ext cx="6789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947-EF54-4B6D-9711-AAEB6EE6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55F-9BE2-491E-9F47-930ED29A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7168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5C8-44D5-4647-ADB7-9AB08E8E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11A-0F20-465D-8BDF-22DA4B32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1f4ca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1360" indent="-253800">
              <a:spcAft>
                <a:spcPts val="876"/>
              </a:spcAft>
              <a:buClr>
                <a:srgbClr val="000000"/>
              </a:buClr>
              <a:buFont typeface="45 Helvetica Ligh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Aft>
                <a:spcPts val="876"/>
              </a:spcAft>
              <a:buClr>
                <a:srgbClr val="000000"/>
              </a:buClr>
              <a:buFont typeface="45 Helvetica Light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Aft>
                <a:spcPts val="876"/>
              </a:spcAft>
              <a:buClr>
                <a:srgbClr val="000000"/>
              </a:buClr>
              <a:buFont typeface="45 Helvetica Ligh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Aft>
                <a:spcPts val="876"/>
              </a:spcAft>
              <a:buClr>
                <a:srgbClr val="000000"/>
              </a:buClr>
              <a:buFont typeface="45 Helvetica Ligh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Aft>
                <a:spcPts val="876"/>
              </a:spcAft>
              <a:buClr>
                <a:srgbClr val="000000"/>
              </a:buClr>
              <a:buFont typeface="45 Helvetica Ligh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3592CC-32F8-4493-8DC7-2402C1FFF7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87020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1f4ca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F35125-78A6-45A9-B196-C5C062E6F3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84" r="0" b="0"/>
          <a:stretch/>
        </p:blipFill>
        <p:spPr>
          <a:xfrm>
            <a:off x="228600" y="228600"/>
            <a:ext cx="18716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evaluation_tools/kriterii_ocenki_presentation.doc" TargetMode="Externa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267680" y="2301840"/>
            <a:ext cx="2790720" cy="4449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36840" y="50148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Базовый межшкольный методический центр 263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76480" y="2590920"/>
            <a:ext cx="5400720" cy="2478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Учебный проект</a:t>
            </a:r>
            <a:r>
              <a:rPr b="1" lang="ru-RU" sz="2400" spc="-1" strike="noStrike">
                <a:solidFill>
                  <a:srgbClr val="000000"/>
                </a:solidFill>
                <a:latin typeface="45 Helvetica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45 Helvetica Light"/>
              </a:rPr>
              <a:t>Автономное существование человека.</a:t>
            </a:r>
            <a:r>
              <a:rPr b="1" i="1" lang="ru-RU" sz="1800" spc="-1" strike="noStrike">
                <a:solidFill>
                  <a:srgbClr val="000000"/>
                </a:solidFill>
                <a:latin typeface="45 Helvetica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68480" y="52545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45 Helvetica Light"/>
              </a:rPr>
              <a:t>Автор:</a:t>
            </a:r>
            <a:r>
              <a:rPr b="1" lang="ru-RU" sz="2000" spc="-1" strike="noStrike">
                <a:solidFill>
                  <a:srgbClr val="00cc99"/>
                </a:solidFill>
                <a:latin typeface="45 Helvetica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 Фурсов О.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68480" y="68389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45 Helvetica Light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45 Helvetica Light"/>
              </a:rPr>
              <a:t>. Соломенское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88840" y="717480"/>
            <a:ext cx="44643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600" spc="-1" strike="noStrike">
                <a:solidFill>
                  <a:srgbClr val="1f4ca1"/>
                </a:solidFill>
                <a:latin typeface="Arial"/>
              </a:rPr>
              <a:t>Аннотация</a:t>
            </a:r>
            <a:br>
              <a:rPr sz="3600"/>
            </a:b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97240" y="790560"/>
            <a:ext cx="6975360" cy="417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0" algn="just"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just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just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just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52840" y="3094200"/>
            <a:ext cx="2880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200" spc="-1" strike="noStrike">
                <a:solidFill>
                  <a:srgbClr val="1f4ca1"/>
                </a:solidFill>
                <a:latin typeface="Arial"/>
              </a:rPr>
              <a:t>Участники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13200" y="5038560"/>
            <a:ext cx="55450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600" spc="-1" strike="noStrike">
                <a:solidFill>
                  <a:srgbClr val="1f4ca1"/>
                </a:solidFill>
                <a:latin typeface="Arial"/>
              </a:rPr>
              <a:t>Предметная обла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3560" y="107784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45 Helvetica Light"/>
              </a:rPr>
              <a:t>Данная работа направлена на приобретение навыков особенностей защиты человека в экстремальных природных условиях. Формирования у учащихся компетентности в сфере навыков выживания.</a:t>
            </a: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60840" y="60469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ОБ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08800" y="370296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45 Helvetica Light"/>
              </a:rPr>
              <a:t>Учащиеся средней школы.(6 класс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92480" y="64620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1f4ca1"/>
                </a:solidFill>
                <a:latin typeface="Arial"/>
              </a:rPr>
              <a:t>Методические задачи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397240" y="1971720"/>
            <a:ext cx="6975360" cy="184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marL="222840" indent="-22284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Научить действовать в условиях вынужденной автоно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Закрепить полученные теоретические 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Освоить представление об обеспечении бытовых потребнос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6840" y="4030560"/>
            <a:ext cx="67896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1f4ca1"/>
                </a:solidFill>
                <a:latin typeface="Arial"/>
              </a:rPr>
              <a:t>Дидактические  зада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5200" y="4965840"/>
            <a:ext cx="697572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5200" y="2014560"/>
            <a:ext cx="69757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25560" y="5181480"/>
            <a:ext cx="69757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0880" indent="-3808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казать особенности защиты человека в экстремальных природных услови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ирование компетентности в сфере навыков выжи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80840" y="430200"/>
            <a:ext cx="576108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200" spc="-1" strike="noStrike">
                <a:solidFill>
                  <a:srgbClr val="1f4ca1"/>
                </a:solidFill>
                <a:latin typeface="Arial"/>
              </a:rPr>
              <a:t>Учебные темы программы</a:t>
            </a:r>
            <a:endParaRPr b="0" lang="en-US" sz="32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6480" y="3454560"/>
            <a:ext cx="7056360" cy="1512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0880" indent="0" algn="ctr">
              <a:lnSpc>
                <a:spcPct val="80000"/>
              </a:lnSpc>
              <a:spcAft>
                <a:spcPts val="1225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  <a:ea typeface="Arial"/>
              </a:rPr>
              <a:t>Основополагающий вопрос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Aft>
                <a:spcPts val="10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живание в природных условия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8120" y="4822920"/>
            <a:ext cx="7056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0880" indent="-380880" algn="ctr">
              <a:lnSpc>
                <a:spcPct val="100000"/>
              </a:lnSpc>
              <a:spcAft>
                <a:spcPts val="1225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Проблемные вопрос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16480" y="1077840"/>
            <a:ext cx="518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45 Helvetica Light"/>
              </a:rPr>
              <a:t>1. Причины возникновения автономного существова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45 Helvetica Light"/>
              </a:rPr>
              <a:t>2. Меры профилактики и подготовка к безопасному поведению в условиях автономного существова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45 Helvetica Light"/>
              </a:rPr>
              <a:t>3. </a:t>
            </a:r>
            <a:r>
              <a:rPr b="1" i="1" lang="en-GB" sz="1400" spc="-1" strike="noStrike">
                <a:solidFill>
                  <a:srgbClr val="000000"/>
                </a:solidFill>
                <a:latin typeface="45 Helvetica Light"/>
              </a:rPr>
              <a:t>Оборудование временного жилища, обеспечение водой и питанием</a:t>
            </a:r>
            <a:r>
              <a:rPr b="1" lang="ru-RU" sz="1400" spc="-1" strike="noStrike">
                <a:solidFill>
                  <a:srgbClr val="000000"/>
                </a:solidFill>
                <a:latin typeface="45 Helvetica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45 Helvetica Light"/>
              </a:rPr>
              <a:t>4.Способы добывания огня, типы костр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2786040" y="3703680"/>
            <a:ext cx="169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56880" y="5562720"/>
            <a:ext cx="72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Почему обеспечение бытовых потребностей существен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Влияет на выживание человека в условиях вынужден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Автоном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2747880" y="367020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20480" y="573120"/>
            <a:ext cx="67899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1f4ca1"/>
                </a:solidFill>
                <a:latin typeface="Arial"/>
              </a:rPr>
              <a:t>Деятельность учащихся 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ый поиск учащимися информ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овая работа учащихся над исследовани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ение полученной информации в рамках общешкольной конференции (круглого стола, дискуссии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7760" y="646200"/>
            <a:ext cx="67899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200" spc="-1" strike="noStrike">
                <a:solidFill>
                  <a:srgbClr val="1f4ca1"/>
                </a:solidFill>
                <a:latin typeface="Arial"/>
              </a:rPr>
              <a:t>Темы самостоятельных исследований учащихся</a:t>
            </a:r>
            <a:endParaRPr b="0" lang="en-US" sz="32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Самостоятельное изучение литературы по 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Рассмотрение вопросов о особенностях устройства организма и его возможностях в экстремальных ситуац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Питание и употребление в пищу растений, добывание пищи в природных усло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Способы добывания огня , типы кос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Использование ресурсов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80840" y="430200"/>
            <a:ext cx="67899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1f4ca1"/>
                </a:solidFill>
                <a:latin typeface="Arial"/>
              </a:rPr>
              <a:t>План проведения проекта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397240" y="1971720"/>
          <a:ext cx="6975360" cy="5060880"/>
        </p:xfrm>
        <a:graphic>
          <a:graphicData uri="http://schemas.openxmlformats.org/drawingml/2006/table">
            <a:tbl>
              <a:tblPr/>
              <a:tblGrid>
                <a:gridCol w="1768320"/>
                <a:gridCol w="3384720"/>
                <a:gridCol w="1822320"/>
              </a:tblGrid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Необходимое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ение в те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накомление с проблемной ситуаци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груп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ение класса на 3 группы по 6 человек в кажд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 статистических данных; проведение исследований по проблеме; переработка информаци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ормл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ные результаты предоставляются в виде : презентации, букле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едение ито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фере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49560" y="356760"/>
            <a:ext cx="7619760" cy="57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800" spc="-1" strike="noStrike">
                <a:solidFill>
                  <a:srgbClr val="1f4ca1"/>
                </a:solidFill>
                <a:latin typeface="Arial"/>
                <a:ea typeface="Arial"/>
              </a:rPr>
              <a:t>Материалы учебно-методического пакета </a:t>
            </a:r>
            <a:endParaRPr b="0" lang="en-US" sz="28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92120" y="1006200"/>
            <a:ext cx="7345080" cy="56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-22536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исание  учебного проекта и материалов УМП к нему («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изит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работ учащих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41360" indent="-253800">
              <a:lnSpc>
                <a:spcPct val="80000"/>
              </a:lnSpc>
              <a:buClr>
                <a:srgbClr val="000000"/>
              </a:buClr>
              <a:buFont typeface="45 Helvetica Light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45 Helvetica Light"/>
              </a:rPr>
              <a:t>презентация ученика</a:t>
            </a:r>
            <a:endParaRPr b="0" lang="en-US" sz="1800" spc="-1" strike="noStrike">
              <a:solidFill>
                <a:srgbClr val="000000"/>
              </a:solidFill>
              <a:latin typeface="45 Helvetica Light"/>
            </a:endParaRPr>
          </a:p>
          <a:p>
            <a:pPr lvl="2" marL="1341360" indent="-253800">
              <a:lnSpc>
                <a:spcPct val="80000"/>
              </a:lnSpc>
              <a:buClr>
                <a:srgbClr val="000000"/>
              </a:buClr>
              <a:buFont typeface="45 Helvetica Light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45 Helvetica Light"/>
              </a:rPr>
              <a:t>публикация ученика</a:t>
            </a:r>
            <a:endParaRPr b="0" lang="en-US" sz="1800" spc="-1" strike="noStrike">
              <a:solidFill>
                <a:srgbClr val="000000"/>
              </a:solidFill>
              <a:latin typeface="45 Helvetica Light"/>
            </a:endParaRPr>
          </a:p>
          <a:p>
            <a:pPr lvl="2" marL="1341360" indent="0">
              <a:lnSpc>
                <a:spcPct val="80000"/>
              </a:lnSpc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45 Helvetica Light"/>
              </a:rPr>
              <a:t>   </a:t>
            </a:r>
            <a:r>
              <a:rPr b="0" lang="ru-RU" sz="1400" spc="-1" strike="noStrike">
                <a:solidFill>
                  <a:srgbClr val="00cc99"/>
                </a:solidFill>
                <a:latin typeface="45 Helvetica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45 Helvetica Light"/>
            </a:endParaRPr>
          </a:p>
          <a:p>
            <a:pPr marL="225360" indent="-22536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сайт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ерии оценки работ учащих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ублик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дактические материалы для самостоятельной работы учащих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е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ческие материалы учител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я ур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рошю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журн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ла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именения учебного проекта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писо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нформационных материалов, необходимых для поддержки самостоятельных исследований учащихся в ходе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8701200" y="6910560"/>
            <a:ext cx="1042920" cy="574560"/>
          </a:xfrm>
          <a:custGeom>
            <a:avLst/>
            <a:gdLst>
              <a:gd name="textAreaLeft" fmla="*/ 74520 w 1042920"/>
              <a:gd name="textAreaRight" fmla="*/ 968400 w 1042920"/>
              <a:gd name="textAreaTop" fmla="*/ 74520 h 574560"/>
              <a:gd name="textAreaBottom" fmla="*/ 500040 h 574560"/>
            </a:gdLst>
            <a:ahLst/>
            <a:rect l="textAreaLeft" t="textAreaTop" r="textAreaRight" b="textAreaBottom"/>
            <a:pathLst>
              <a:path w="39196" h="21600">
                <a:moveTo>
                  <a:pt x="0" y="0"/>
                </a:moveTo>
                <a:lnTo>
                  <a:pt x="39196" y="0"/>
                </a:lnTo>
                <a:lnTo>
                  <a:pt x="39196" y="21600"/>
                </a:lnTo>
                <a:lnTo>
                  <a:pt x="0" y="21600"/>
                </a:lnTo>
                <a:close/>
              </a:path>
              <a:path fill="lightenLess" w="39196" h="21600">
                <a:moveTo>
                  <a:pt x="0" y="0"/>
                </a:moveTo>
                <a:lnTo>
                  <a:pt x="39196" y="0"/>
                </a:lnTo>
                <a:lnTo>
                  <a:pt x="36392" y="2804"/>
                </a:lnTo>
                <a:lnTo>
                  <a:pt x="2804" y="2804"/>
                </a:lnTo>
                <a:close/>
              </a:path>
              <a:path fill="darken" w="39196" h="21600">
                <a:moveTo>
                  <a:pt x="39196" y="0"/>
                </a:moveTo>
                <a:lnTo>
                  <a:pt x="39196" y="21600"/>
                </a:lnTo>
                <a:lnTo>
                  <a:pt x="36392" y="18796"/>
                </a:lnTo>
                <a:lnTo>
                  <a:pt x="36392" y="2804"/>
                </a:lnTo>
                <a:close/>
              </a:path>
              <a:path fill="darkenLess" w="39196" h="21600">
                <a:moveTo>
                  <a:pt x="39196" y="21600"/>
                </a:moveTo>
                <a:lnTo>
                  <a:pt x="0" y="21600"/>
                </a:lnTo>
                <a:lnTo>
                  <a:pt x="2804" y="18796"/>
                </a:lnTo>
                <a:lnTo>
                  <a:pt x="36392" y="18796"/>
                </a:lnTo>
                <a:close/>
              </a:path>
              <a:path fill="lighten" w="39196" h="21600">
                <a:moveTo>
                  <a:pt x="0" y="21600"/>
                </a:moveTo>
                <a:lnTo>
                  <a:pt x="0" y="0"/>
                </a:lnTo>
                <a:lnTo>
                  <a:pt x="2804" y="2804"/>
                </a:lnTo>
                <a:lnTo>
                  <a:pt x="2804" y="18796"/>
                </a:lnTo>
                <a:close/>
              </a:path>
              <a:path fill="darken" w="39196" h="21600">
                <a:moveTo>
                  <a:pt x="13638" y="7987"/>
                </a:moveTo>
                <a:lnTo>
                  <a:pt x="16622" y="7987"/>
                </a:lnTo>
                <a:lnTo>
                  <a:pt x="16622" y="12525"/>
                </a:lnTo>
                <a:cubicBezTo>
                  <a:pt x="16622" y="13310"/>
                  <a:pt x="17303" y="13932"/>
                  <a:pt x="18184" y="13932"/>
                </a:cubicBezTo>
                <a:lnTo>
                  <a:pt x="19598" y="13932"/>
                </a:lnTo>
                <a:cubicBezTo>
                  <a:pt x="20479" y="13932"/>
                  <a:pt x="21160" y="13310"/>
                  <a:pt x="21160" y="12525"/>
                </a:cubicBezTo>
                <a:lnTo>
                  <a:pt x="21160" y="7987"/>
                </a:lnTo>
                <a:lnTo>
                  <a:pt x="19598" y="7987"/>
                </a:lnTo>
                <a:lnTo>
                  <a:pt x="22582" y="5003"/>
                </a:lnTo>
                <a:lnTo>
                  <a:pt x="25706" y="7987"/>
                </a:lnTo>
                <a:lnTo>
                  <a:pt x="24144" y="7987"/>
                </a:lnTo>
                <a:lnTo>
                  <a:pt x="24144" y="12525"/>
                </a:lnTo>
                <a:cubicBezTo>
                  <a:pt x="24144" y="14879"/>
                  <a:pt x="21953" y="17056"/>
                  <a:pt x="19598" y="17056"/>
                </a:cubicBezTo>
                <a:lnTo>
                  <a:pt x="18184" y="17056"/>
                </a:lnTo>
                <a:cubicBezTo>
                  <a:pt x="15830" y="17056"/>
                  <a:pt x="13638" y="14879"/>
                  <a:pt x="13638" y="12525"/>
                </a:cubicBez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lastslide"/>
          </p:cNvPr>
          <p:cNvSpPr/>
          <p:nvPr/>
        </p:nvSpPr>
        <p:spPr>
          <a:xfrm>
            <a:off x="7189920" y="6981840"/>
            <a:ext cx="936360" cy="504720"/>
          </a:xfrm>
          <a:custGeom>
            <a:avLst/>
            <a:gdLst>
              <a:gd name="textAreaLeft" fmla="*/ 32400 w 936360"/>
              <a:gd name="textAreaRight" fmla="*/ 903960 w 93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59" h="21600">
                <a:moveTo>
                  <a:pt x="0" y="0"/>
                </a:moveTo>
                <a:lnTo>
                  <a:pt x="40059" y="0"/>
                </a:lnTo>
                <a:lnTo>
                  <a:pt x="40059" y="21600"/>
                </a:lnTo>
                <a:lnTo>
                  <a:pt x="0" y="21600"/>
                </a:lnTo>
                <a:close/>
              </a:path>
              <a:path fill="lightenLess" w="40059" h="21600">
                <a:moveTo>
                  <a:pt x="0" y="0"/>
                </a:moveTo>
                <a:lnTo>
                  <a:pt x="40059" y="0"/>
                </a:lnTo>
                <a:lnTo>
                  <a:pt x="38659" y="1400"/>
                </a:lnTo>
                <a:lnTo>
                  <a:pt x="1400" y="1400"/>
                </a:lnTo>
                <a:close/>
              </a:path>
              <a:path fill="darken" w="40059" h="21600">
                <a:moveTo>
                  <a:pt x="40059" y="0"/>
                </a:moveTo>
                <a:lnTo>
                  <a:pt x="40059" y="21600"/>
                </a:lnTo>
                <a:lnTo>
                  <a:pt x="38659" y="20200"/>
                </a:lnTo>
                <a:lnTo>
                  <a:pt x="38659" y="1400"/>
                </a:lnTo>
                <a:close/>
              </a:path>
              <a:path fill="darkenLess" w="40059" h="21600">
                <a:moveTo>
                  <a:pt x="40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59" y="20200"/>
                </a:lnTo>
                <a:close/>
              </a:path>
              <a:path fill="lighten" w="40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59" h="21600">
                <a:moveTo>
                  <a:pt x="13023" y="3794"/>
                </a:moveTo>
                <a:lnTo>
                  <a:pt x="27036" y="10800"/>
                </a:lnTo>
                <a:lnTo>
                  <a:pt x="13023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20480" y="2157120"/>
            <a:ext cx="6975720" cy="146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10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0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0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ca1"/>
                </a:solidFill>
                <a:latin typeface="Arial"/>
              </a:rPr>
              <a:t>Контактная информация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25560" y="223056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9T23:12:51Z</dcterms:created>
  <dc:creator>.</dc:creator>
  <dc:description/>
  <dc:language>en-US</dc:language>
  <cp:lastModifiedBy>User</cp:lastModifiedBy>
  <cp:lastPrinted>2001-07-20T22:27:51Z</cp:lastPrinted>
  <dcterms:modified xsi:type="dcterms:W3CDTF">2007-12-10T17:03:21Z</dcterms:modified>
  <cp:revision>257</cp:revision>
  <dc:subject/>
  <dc:title>No Slide Title</dc:title>
</cp:coreProperties>
</file>