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C95-91D8-4C63-BA89-2E124917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18-7EC3-4A3A-8750-A0FB6618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4FB-BF5D-4A90-9CC5-DD57388A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663-B13D-4744-8ABB-24FB324D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C4FC-1F42-4CF8-8944-105DA6E1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4864-1FD8-418E-BFF0-B71FB43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22EE-0A9F-4F30-8FD6-E73E284E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DC3-DC90-4C47-8F3E-079EF390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4A4F-154C-4DDA-A197-257CEC0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AC24-F419-4DDA-86E6-FF3181D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F70-C5BE-4F2A-98B7-98A057C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109-2250-4895-8E32-C0A14650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6AE-D0AA-4D68-8720-21A1A44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7AA9-3759-46AA-B274-A6FCEF6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1030-3996-4EBE-96A2-5495AA5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54F7-2FC9-4F0C-AB20-E950E6C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70E-B616-457B-BA58-99BEB9BB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17F-1F78-4765-B356-2D10420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C2D-0FB1-4FDE-9DCF-2E7045E1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C0A-7776-4C6D-9C59-0AD53EAE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4ED-8BFC-4AAF-B0EF-65B237B8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E98-0367-4CA5-96F4-9E41776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9FB-AF08-44A8-81C2-CBE531B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6A9-6266-4619-AA8D-F6D38F0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856283-7773-4B7D-BF57-DA2FF776F3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702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263EDC-D8CD-48B4-9ECF-9CB30831C3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evaluation_tools/kriterii_ocenki_presentation.doc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67680" y="2301840"/>
            <a:ext cx="2790720" cy="4449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6840" y="5014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Базовый межшкольный методический центр 26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2590920"/>
            <a:ext cx="5400720" cy="247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Учеб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45 Helvetica Light"/>
              </a:rPr>
              <a:t>Автономное существование человека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8480" y="525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45 Helvetica Light"/>
              </a:rPr>
              <a:t>Автор:</a:t>
            </a:r>
            <a:r>
              <a:rPr b="1" lang="ru-RU" sz="2000" spc="-1" strike="noStrike">
                <a:solidFill>
                  <a:srgbClr val="00cc99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Фурсов О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68480" y="68389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. Соломенское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8840" y="717480"/>
            <a:ext cx="44643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Аннотация</a:t>
            </a:r>
            <a:br>
              <a:rPr sz="3600"/>
            </a:b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97240" y="790560"/>
            <a:ext cx="6975360" cy="417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0" algn="just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52840" y="3094200"/>
            <a:ext cx="2880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Arial"/>
              </a:rPr>
              <a:t>Участник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13200" y="5038560"/>
            <a:ext cx="5545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Предметная обла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3560" y="10778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Данная работа направлена на приобретение навыков особенностей защиты человека в экстремальных природных условиях. Формирования у учащихся компетентности в сфере навыков выживания.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0840" y="6046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ОБ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08800" y="370296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Учащиеся средней школы.(6 класс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2480" y="64620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97240" y="1971720"/>
            <a:ext cx="6975360" cy="184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Научить действовать в условиях вынужденной автоно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Закрепить полученные теоретически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Освоить представление об обеспечении бытовых потреб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6840" y="4030560"/>
            <a:ext cx="6789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идактические 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5200" y="4965840"/>
            <a:ext cx="6975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5200" y="201456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5560" y="518148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ать особенности защиты человека в экстремальных природных услов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навыков выж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576108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Учебные темы программы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6480" y="345456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2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Arial"/>
              </a:rPr>
              <a:t>Основополагающий вопрос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живание в природны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8120" y="4822920"/>
            <a:ext cx="7056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6480" y="1077840"/>
            <a:ext cx="518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1. Причины возникновения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2. Меры профилактики и подготовка к безопасному поведению в условиях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3. </a:t>
            </a:r>
            <a:r>
              <a:rPr b="1" i="1" lang="en-GB" sz="1400" spc="-1" strike="noStrike">
                <a:solidFill>
                  <a:srgbClr val="000000"/>
                </a:solidFill>
                <a:latin typeface="45 Helvetica Light"/>
              </a:rPr>
              <a:t>Оборудование временного жилища, обеспечение водой и питанием</a:t>
            </a: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4.Способы добывания огня, типы костр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2786040" y="370368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6880" y="5562720"/>
            <a:ext cx="72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Почему обеспечение бытовых потребностей суще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Влияет на выживание человека в условиях вынужд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Автоно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2747880" y="36702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20480" y="57312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еятельность учащихся 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ый поиск учащимися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ая работа учащихся над исследова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полученной информации в рамках общешкольной конференции (круглого стола, дискусс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7760" y="646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Темы самостоятельных исследований учащихся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амостоятельное изучение литературы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Рассмотрение вопросов о особенностях устройства организма и его возможностях в экстремаль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Питание и употребление в пищу растений, добывание пищи в природ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пособы добывания огня , типы кос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спользование ресурсо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План проведения проекта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97240" y="1971720"/>
          <a:ext cx="6975360" cy="5060880"/>
        </p:xfrm>
        <a:graphic>
          <a:graphicData uri="http://schemas.openxmlformats.org/drawingml/2006/table">
            <a:tbl>
              <a:tblPr/>
              <a:tblGrid>
                <a:gridCol w="1768320"/>
                <a:gridCol w="3384720"/>
                <a:gridCol w="182232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ление с проблемной ситу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класса на 3 группы по 6 человек в каж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статистических данных; проведение исследований по проблеме; переработка информ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ные результаты предоставляются в виде : презентации, букл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9560" y="356760"/>
            <a:ext cx="7619760" cy="57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1f4ca1"/>
                </a:solidFill>
                <a:latin typeface="Arial"/>
                <a:ea typeface="Arial"/>
              </a:rPr>
              <a:t>Материалы учебно-методического пакета </a:t>
            </a:r>
            <a:endParaRPr b="0" lang="en-US" sz="28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92120" y="1006200"/>
            <a:ext cx="7345080" cy="56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 учебного проекта и материалов УМП к нему («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зи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работ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резент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ублик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0">
              <a:lnSpc>
                <a:spcPct val="80000"/>
              </a:lnSpc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  </a:t>
            </a:r>
            <a:r>
              <a:rPr b="0" lang="ru-RU" sz="1400" spc="-1" strike="noStrike">
                <a:solidFill>
                  <a:srgbClr val="00cc99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45 Helvetica Light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ай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работ учащих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материалы для самостоятельной работы учащих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материалы учител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ошю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ения учебного проек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с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формационных материалов, необходимых для поддержки самостоятельных исследований учащихся в ход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701200" y="6910560"/>
            <a:ext cx="1042920" cy="574560"/>
          </a:xfrm>
          <a:custGeom>
            <a:avLst/>
            <a:gdLst>
              <a:gd name="textAreaLeft" fmla="*/ 74520 w 1042920"/>
              <a:gd name="textAreaRight" fmla="*/ 968400 w 1042920"/>
              <a:gd name="textAreaTop" fmla="*/ 74520 h 574560"/>
              <a:gd name="textAreaBottom" fmla="*/ 500040 h 574560"/>
            </a:gdLst>
            <a:ahLst/>
            <a:rect l="textAreaLeft" t="textAreaTop" r="textAreaRight" b="textAreaBottom"/>
            <a:pathLst>
              <a:path w="39196" h="21600">
                <a:moveTo>
                  <a:pt x="0" y="0"/>
                </a:moveTo>
                <a:lnTo>
                  <a:pt x="39196" y="0"/>
                </a:lnTo>
                <a:lnTo>
                  <a:pt x="39196" y="21600"/>
                </a:lnTo>
                <a:lnTo>
                  <a:pt x="0" y="21600"/>
                </a:lnTo>
                <a:close/>
              </a:path>
              <a:path fill="lightenLess" w="39196" h="21600">
                <a:moveTo>
                  <a:pt x="0" y="0"/>
                </a:moveTo>
                <a:lnTo>
                  <a:pt x="39196" y="0"/>
                </a:lnTo>
                <a:lnTo>
                  <a:pt x="36392" y="2804"/>
                </a:lnTo>
                <a:lnTo>
                  <a:pt x="2804" y="2804"/>
                </a:lnTo>
                <a:close/>
              </a:path>
              <a:path fill="darken" w="39196" h="21600">
                <a:moveTo>
                  <a:pt x="39196" y="0"/>
                </a:moveTo>
                <a:lnTo>
                  <a:pt x="39196" y="21600"/>
                </a:lnTo>
                <a:lnTo>
                  <a:pt x="36392" y="18796"/>
                </a:lnTo>
                <a:lnTo>
                  <a:pt x="36392" y="2804"/>
                </a:lnTo>
                <a:close/>
              </a:path>
              <a:path fill="darkenLess" w="39196" h="21600">
                <a:moveTo>
                  <a:pt x="39196" y="21600"/>
                </a:moveTo>
                <a:lnTo>
                  <a:pt x="0" y="21600"/>
                </a:lnTo>
                <a:lnTo>
                  <a:pt x="2804" y="18796"/>
                </a:lnTo>
                <a:lnTo>
                  <a:pt x="36392" y="18796"/>
                </a:lnTo>
                <a:close/>
              </a:path>
              <a:path fill="lighten" w="39196" h="21600">
                <a:moveTo>
                  <a:pt x="0" y="21600"/>
                </a:moveTo>
                <a:lnTo>
                  <a:pt x="0" y="0"/>
                </a:lnTo>
                <a:lnTo>
                  <a:pt x="2804" y="2804"/>
                </a:lnTo>
                <a:lnTo>
                  <a:pt x="2804" y="18796"/>
                </a:lnTo>
                <a:close/>
              </a:path>
              <a:path fill="darken" w="39196" h="21600">
                <a:moveTo>
                  <a:pt x="13638" y="7987"/>
                </a:moveTo>
                <a:lnTo>
                  <a:pt x="16622" y="7987"/>
                </a:lnTo>
                <a:lnTo>
                  <a:pt x="16622" y="12525"/>
                </a:lnTo>
                <a:cubicBezTo>
                  <a:pt x="16622" y="13310"/>
                  <a:pt x="17303" y="13932"/>
                  <a:pt x="18184" y="13932"/>
                </a:cubicBezTo>
                <a:lnTo>
                  <a:pt x="19598" y="13932"/>
                </a:lnTo>
                <a:cubicBezTo>
                  <a:pt x="20479" y="13932"/>
                  <a:pt x="21160" y="13310"/>
                  <a:pt x="21160" y="12525"/>
                </a:cubicBezTo>
                <a:lnTo>
                  <a:pt x="21160" y="7987"/>
                </a:lnTo>
                <a:lnTo>
                  <a:pt x="19598" y="7987"/>
                </a:lnTo>
                <a:lnTo>
                  <a:pt x="22582" y="5003"/>
                </a:lnTo>
                <a:lnTo>
                  <a:pt x="25706" y="7987"/>
                </a:lnTo>
                <a:lnTo>
                  <a:pt x="24144" y="7987"/>
                </a:lnTo>
                <a:lnTo>
                  <a:pt x="24144" y="12525"/>
                </a:lnTo>
                <a:cubicBezTo>
                  <a:pt x="24144" y="14879"/>
                  <a:pt x="21953" y="17056"/>
                  <a:pt x="19598" y="17056"/>
                </a:cubicBezTo>
                <a:lnTo>
                  <a:pt x="18184" y="17056"/>
                </a:lnTo>
                <a:cubicBezTo>
                  <a:pt x="15830" y="17056"/>
                  <a:pt x="13638" y="14879"/>
                  <a:pt x="13638" y="12525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7189920" y="698184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3794"/>
                </a:moveTo>
                <a:lnTo>
                  <a:pt x="27036" y="10800"/>
                </a:lnTo>
                <a:lnTo>
                  <a:pt x="13023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20480" y="2157120"/>
            <a:ext cx="6975720" cy="146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Контактная информация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5560" y="22305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User</cp:lastModifiedBy>
  <cp:lastPrinted>2001-07-20T22:27:51Z</cp:lastPrinted>
  <dcterms:modified xsi:type="dcterms:W3CDTF">2007-12-10T17:03:21Z</dcterms:modified>
  <cp:revision>257</cp:revision>
  <dc:subject/>
  <dc:title>No Slide Title</dc:title>
</cp:coreProperties>
</file>