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9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F55B-9850-461F-92FC-E83453BF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4021-9E13-412C-9F33-43FBD509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FC3-CF04-4E1D-BDF1-B48B2191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9B2-0AFF-4130-BA0A-0303FAD4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3B1-85B1-49D9-8C2D-BBB45ECD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93B-7C8B-4BEF-B223-31C13812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CBA-0660-41FB-80DB-C8AEE092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D13-065E-46D6-B8D9-4C8E5A49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185-838F-4205-A3A7-4C2FCE8B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497-1C19-4F6B-9D70-74C76D4D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1DB-CF86-4F7D-AD9C-12CAAC34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FF7-0F7D-444D-B613-54DEE3DF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BBFC-39CB-4DD2-8F63-1C4A55E4B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у войны печальный день начальны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 этот день вы радостью пьяны.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ул Гамзат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 Дню Побед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Картинка 131 из 9646"/>
          <p:cNvPicPr/>
          <p:nvPr/>
        </p:nvPicPr>
        <p:blipFill>
          <a:blip r:embed="rId2"/>
          <a:stretch/>
        </p:blipFill>
        <p:spPr>
          <a:xfrm>
            <a:off x="0" y="1989000"/>
            <a:ext cx="4843440" cy="4869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140360" y="1484280"/>
            <a:ext cx="5003640" cy="4800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Картинка 268 из 9684"/>
          <p:cNvPicPr/>
          <p:nvPr/>
        </p:nvPicPr>
        <p:blipFill>
          <a:blip r:embed="rId4"/>
          <a:stretch/>
        </p:blipFill>
        <p:spPr>
          <a:xfrm>
            <a:off x="1619280" y="189000"/>
            <a:ext cx="1925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58920" y="-2160"/>
            <a:ext cx="66261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УРАВ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е кажется порою, что солда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кровавых не пришедшие пол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в землю эту полегли когда-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превратились в бел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рав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19280" y="2276640"/>
            <a:ext cx="5905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1723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7620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36 из 127140"/>
          <p:cNvPicPr/>
          <p:nvPr/>
        </p:nvPicPr>
        <p:blipFill>
          <a:blip r:embed="rId2"/>
          <a:stretch/>
        </p:blipFill>
        <p:spPr>
          <a:xfrm>
            <a:off x="468360" y="981000"/>
            <a:ext cx="75438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95600" y="571680"/>
            <a:ext cx="3952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Картинка 40 из 127140"/>
          <p:cNvPicPr/>
          <p:nvPr/>
        </p:nvPicPr>
        <p:blipFill>
          <a:blip r:embed="rId2"/>
          <a:stretch/>
        </p:blipFill>
        <p:spPr>
          <a:xfrm>
            <a:off x="2484360" y="765000"/>
            <a:ext cx="41450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657520" y="571680"/>
            <a:ext cx="3828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49 из 127140"/>
          <p:cNvPicPr/>
          <p:nvPr/>
        </p:nvPicPr>
        <p:blipFill>
          <a:blip r:embed="rId2"/>
          <a:stretch/>
        </p:blipFill>
        <p:spPr>
          <a:xfrm>
            <a:off x="1042920" y="692280"/>
            <a:ext cx="717732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799128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чало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-го июня 1941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шел отсчет четыр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дам нечеловеческих усил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течение которых буд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ждого из нас ви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актически на волоске.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40360" cy="377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46 из 51614"/>
          <p:cNvPicPr/>
          <p:nvPr/>
        </p:nvPicPr>
        <p:blipFill>
          <a:blip r:embed="rId3"/>
          <a:stretch/>
        </p:blipFill>
        <p:spPr>
          <a:xfrm>
            <a:off x="4419720" y="242100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Картинка 113 из 127139"/>
          <p:cNvPicPr/>
          <p:nvPr/>
        </p:nvPicPr>
        <p:blipFill>
          <a:blip r:embed="rId2"/>
          <a:stretch/>
        </p:blipFill>
        <p:spPr>
          <a:xfrm>
            <a:off x="1116000" y="981000"/>
            <a:ext cx="69850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70563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чная память павшим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000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ервого дня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ликой Отечественной войн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ероизм простого советского солдата стал образцом для подражания. То, что в литературе часто называется «стоять на смерть» было сполна продемонстрировано уже в боях за Брестскую крепост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160 из 156087"/>
          <p:cNvPicPr/>
          <p:nvPr/>
        </p:nvPicPr>
        <p:blipFill>
          <a:blip r:embed="rId2"/>
          <a:stretch/>
        </p:blipFill>
        <p:spPr>
          <a:xfrm>
            <a:off x="4859280" y="189000"/>
            <a:ext cx="3924360" cy="295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Картинка 92 из 129079"/>
          <p:cNvPicPr/>
          <p:nvPr/>
        </p:nvPicPr>
        <p:blipFill>
          <a:blip r:embed="rId3"/>
          <a:stretch/>
        </p:blipFill>
        <p:spPr>
          <a:xfrm>
            <a:off x="6715080" y="3048120"/>
            <a:ext cx="242892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Картинка 152 из 129078"/>
          <p:cNvPicPr/>
          <p:nvPr/>
        </p:nvPicPr>
        <p:blipFill>
          <a:blip r:embed="rId4"/>
          <a:stretch/>
        </p:blipFill>
        <p:spPr>
          <a:xfrm>
            <a:off x="4356000" y="3573360"/>
            <a:ext cx="2194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часто незнакомые, часто такие разные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ер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ратья и Сестры», огромная семья, состоящая из всех народов и национальностей страны. Семья требовала спасения, требовала поддерж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4896000" cy="3800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55640" y="115920"/>
            <a:ext cx="42861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2986200"/>
            <a:ext cx="4681440" cy="3062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4522680" cy="3392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495720"/>
            <a:ext cx="885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восточном фронте продолжались бои. Немецкие генералы впервые столкнулись с аномалией, по-иному это и не назовешь.     Молниеносная война больше не работала, подобно механизму часов. Попадая в окружение, советские части с боями прорывались, а не складывали оружие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1525680"/>
            <a:ext cx="4105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ерьезной степени героизм солдат и командиров сорвал планы немецкого наступления.  Уже летом 4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 года были полностью сорваны планы наступления немецкой армии. Потом были Сталинград, Курск, Московская битва, но все они стали возможны благодаря беспримерному мужеству простого советского солдата. 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Картинка 12 из 128959"/>
          <p:cNvPicPr/>
          <p:nvPr/>
        </p:nvPicPr>
        <p:blipFill>
          <a:blip r:embed="rId2"/>
          <a:stretch/>
        </p:blipFill>
        <p:spPr>
          <a:xfrm>
            <a:off x="4932360" y="1052640"/>
            <a:ext cx="31989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5 из 128959"/>
          <p:cNvPicPr/>
          <p:nvPr/>
        </p:nvPicPr>
        <p:blipFill>
          <a:blip r:embed="rId2"/>
          <a:stretch/>
        </p:blipFill>
        <p:spPr>
          <a:xfrm>
            <a:off x="4859280" y="189000"/>
            <a:ext cx="4052880" cy="291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Фотографии ВОВ. Оборона Сталинграда. (30 фото)"/>
          <p:cNvPicPr/>
          <p:nvPr/>
        </p:nvPicPr>
        <p:blipFill>
          <a:blip r:embed="rId3"/>
          <a:stretch/>
        </p:blipFill>
        <p:spPr>
          <a:xfrm>
            <a:off x="4932360" y="3213000"/>
            <a:ext cx="4041720" cy="34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2026800"/>
            <a:ext cx="45878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техническом отношении советские войска серьезно уступали немецким. Шли в кавалерийские атаки на танки, летали и сбивали немецких ассов на старых самолетах, горели в танках и отступали, не отдавая ни клочка без б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ашны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страницы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5219640" cy="3260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78 из 5378"/>
          <p:cNvPicPr/>
          <p:nvPr/>
        </p:nvPicPr>
        <p:blipFill>
          <a:blip r:embed="rId3"/>
          <a:stretch/>
        </p:blipFill>
        <p:spPr>
          <a:xfrm>
            <a:off x="5627520" y="4005360"/>
            <a:ext cx="3516480" cy="2658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Картинка 93 из 5378"/>
          <p:cNvPicPr/>
          <p:nvPr/>
        </p:nvPicPr>
        <p:blipFill>
          <a:blip r:embed="rId4"/>
          <a:stretch/>
        </p:blipFill>
        <p:spPr>
          <a:xfrm>
            <a:off x="4356000" y="115920"/>
            <a:ext cx="47880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тераны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3529080" cy="5062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Картинка 38 из 9626"/>
          <p:cNvPicPr/>
          <p:nvPr/>
        </p:nvPicPr>
        <p:blipFill>
          <a:blip r:embed="rId3"/>
          <a:stretch/>
        </p:blipFill>
        <p:spPr>
          <a:xfrm>
            <a:off x="4427640" y="177336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1:49:13Z</dcterms:created>
  <dc:creator>Alexis</dc:creator>
  <dc:description/>
  <dc:language>en-US</dc:language>
  <cp:lastModifiedBy>Vlad</cp:lastModifiedBy>
  <dcterms:modified xsi:type="dcterms:W3CDTF">2012-12-05T21:32:59Z</dcterms:modified>
  <cp:revision>13</cp:revision>
  <dc:subject/>
  <dc:title>Слайд 1</dc:title>
</cp:coreProperties>
</file>