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247-0879-426F-945E-D1F42E8B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011-34F4-4661-BDC5-B659CAF0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09D-2A85-4E5B-B59F-DED6DF7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A0A-86D3-4D9C-8DE6-1C67C82B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DFE-FA99-48FB-BF57-910D0EF1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169-5DE7-4387-82C5-CB58D583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8EA-CD06-43A4-9A97-8F7D5D73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E7E-4B9B-493F-8088-4822C5E0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610-95DD-43B9-8944-EBED1557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619-A417-436A-B6AF-56A62296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F90-430E-4269-94B1-063417D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533-9192-49EE-969F-2DCE92B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ACD-5E45-4DCD-9EF2-724683EC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у войны печальный день начальн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этот день вы радостью пьяны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ул Гамзат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 Дню Побе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131 из 9646"/>
          <p:cNvPicPr/>
          <p:nvPr/>
        </p:nvPicPr>
        <p:blipFill>
          <a:blip r:embed="rId2"/>
          <a:stretch/>
        </p:blipFill>
        <p:spPr>
          <a:xfrm>
            <a:off x="0" y="1989000"/>
            <a:ext cx="4843440" cy="486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140360" y="1484280"/>
            <a:ext cx="500364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268 из 9684"/>
          <p:cNvPicPr/>
          <p:nvPr/>
        </p:nvPicPr>
        <p:blipFill>
          <a:blip r:embed="rId4"/>
          <a:stretch/>
        </p:blipFill>
        <p:spPr>
          <a:xfrm>
            <a:off x="1619280" y="189000"/>
            <a:ext cx="1925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-2160"/>
            <a:ext cx="6626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кажется порою, что солд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ровавых не пришедшие по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 землю эту полегли когда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ревратились в бел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ав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905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172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2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6 из 127140"/>
          <p:cNvPicPr/>
          <p:nvPr/>
        </p:nvPicPr>
        <p:blipFill>
          <a:blip r:embed="rId2"/>
          <a:stretch/>
        </p:blipFill>
        <p:spPr>
          <a:xfrm>
            <a:off x="468360" y="981000"/>
            <a:ext cx="754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40 из 127140"/>
          <p:cNvPicPr/>
          <p:nvPr/>
        </p:nvPicPr>
        <p:blipFill>
          <a:blip r:embed="rId2"/>
          <a:stretch/>
        </p:blipFill>
        <p:spPr>
          <a:xfrm>
            <a:off x="2484360" y="765000"/>
            <a:ext cx="414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49 из 127140"/>
          <p:cNvPicPr/>
          <p:nvPr/>
        </p:nvPicPr>
        <p:blipFill>
          <a:blip r:embed="rId2"/>
          <a:stretch/>
        </p:blipFill>
        <p:spPr>
          <a:xfrm>
            <a:off x="1042920" y="692280"/>
            <a:ext cx="71773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79912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-го июня 194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шел отсчет четыр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дам нечеловеческих усил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чение которых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го из нас в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ктически на волоске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46 из 51614"/>
          <p:cNvPicPr/>
          <p:nvPr/>
        </p:nvPicPr>
        <p:blipFill>
          <a:blip r:embed="rId3"/>
          <a:stretch/>
        </p:blipFill>
        <p:spPr>
          <a:xfrm>
            <a:off x="4419720" y="2421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13 из 127139"/>
          <p:cNvPicPr/>
          <p:nvPr/>
        </p:nvPicPr>
        <p:blipFill>
          <a:blip r:embed="rId2"/>
          <a:stretch/>
        </p:blipFill>
        <p:spPr>
          <a:xfrm>
            <a:off x="1116000" y="981000"/>
            <a:ext cx="6985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7056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чная память павши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вого дн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оизм простого советского солдата стал образцом для подражания. То, что в литературе часто называется «стоять на смерть» было сполна продемонстрировано уже в боях за Брестскую креп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60 из 156087"/>
          <p:cNvPicPr/>
          <p:nvPr/>
        </p:nvPicPr>
        <p:blipFill>
          <a:blip r:embed="rId2"/>
          <a:stretch/>
        </p:blipFill>
        <p:spPr>
          <a:xfrm>
            <a:off x="4859280" y="189000"/>
            <a:ext cx="392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92 из 129079"/>
          <p:cNvPicPr/>
          <p:nvPr/>
        </p:nvPicPr>
        <p:blipFill>
          <a:blip r:embed="rId3"/>
          <a:stretch/>
        </p:blipFill>
        <p:spPr>
          <a:xfrm>
            <a:off x="6715080" y="3048120"/>
            <a:ext cx="242892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152 из 129078"/>
          <p:cNvPicPr/>
          <p:nvPr/>
        </p:nvPicPr>
        <p:blipFill>
          <a:blip r:embed="rId4"/>
          <a:stretch/>
        </p:blipFill>
        <p:spPr>
          <a:xfrm>
            <a:off x="4356000" y="3573360"/>
            <a:ext cx="219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часто незнакомые, часто такие разные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ратья и Сестры», огромная семья, состоящая из всех народов и национальностей страны. Семья требовала спасения, требовала поддерж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4896000" cy="380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5640" y="115920"/>
            <a:ext cx="4286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986200"/>
            <a:ext cx="4681440" cy="3062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522680" cy="339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49572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восточном фронте продолжались бои. Немецкие генералы впервые столкнулись с аномалией, по-иному это и не назовешь.     Молниеносная война больше не работала, подобно механизму часов. Попадая в окружение, советские части с боями прорывались, а не складывали оружие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525680"/>
            <a:ext cx="410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ьезной степени героизм солдат и командиров сорвал планы немецкого наступления.  Уже летом 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 года были полностью сорваны планы наступления немецкой армии. Потом были Сталинград, Курск, Московская битва, но все они стали возможны благодаря беспримерному мужеству простого советского солдата. 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12 из 128959"/>
          <p:cNvPicPr/>
          <p:nvPr/>
        </p:nvPicPr>
        <p:blipFill>
          <a:blip r:embed="rId2"/>
          <a:stretch/>
        </p:blipFill>
        <p:spPr>
          <a:xfrm>
            <a:off x="4932360" y="1052640"/>
            <a:ext cx="31989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5 из 128959"/>
          <p:cNvPicPr/>
          <p:nvPr/>
        </p:nvPicPr>
        <p:blipFill>
          <a:blip r:embed="rId2"/>
          <a:stretch/>
        </p:blipFill>
        <p:spPr>
          <a:xfrm>
            <a:off x="4859280" y="189000"/>
            <a:ext cx="405288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Фотографии ВОВ. Оборона Сталинграда. (30 фото)"/>
          <p:cNvPicPr/>
          <p:nvPr/>
        </p:nvPicPr>
        <p:blipFill>
          <a:blip r:embed="rId3"/>
          <a:stretch/>
        </p:blipFill>
        <p:spPr>
          <a:xfrm>
            <a:off x="4932360" y="3213000"/>
            <a:ext cx="4041720" cy="34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026800"/>
            <a:ext cx="45878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хническом отношении советские войска серьезно уступали немецким. Шли в кавалерийские атаки на танки, летали и сбивали немецких ассов на старых самолетах, горели в танках и отступали, не отдавая ни клочка без б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ш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траниц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19640" cy="326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78 из 5378"/>
          <p:cNvPicPr/>
          <p:nvPr/>
        </p:nvPicPr>
        <p:blipFill>
          <a:blip r:embed="rId3"/>
          <a:stretch/>
        </p:blipFill>
        <p:spPr>
          <a:xfrm>
            <a:off x="5627520" y="4005360"/>
            <a:ext cx="3516480" cy="2658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93 из 5378"/>
          <p:cNvPicPr/>
          <p:nvPr/>
        </p:nvPicPr>
        <p:blipFill>
          <a:blip r:embed="rId4"/>
          <a:stretch/>
        </p:blipFill>
        <p:spPr>
          <a:xfrm>
            <a:off x="4356000" y="115920"/>
            <a:ext cx="4788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теран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5062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38 из 9626"/>
          <p:cNvPicPr/>
          <p:nvPr/>
        </p:nvPicPr>
        <p:blipFill>
          <a:blip r:embed="rId3"/>
          <a:stretch/>
        </p:blipFill>
        <p:spPr>
          <a:xfrm>
            <a:off x="4427640" y="1773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49:13Z</dcterms:created>
  <dc:creator>Alexis</dc:creator>
  <dc:description/>
  <dc:language>en-US</dc:language>
  <cp:lastModifiedBy>Vlad</cp:lastModifiedBy>
  <dcterms:modified xsi:type="dcterms:W3CDTF">2012-12-05T21:32:59Z</dcterms:modified>
  <cp:revision>13</cp:revision>
  <dc:subject/>
  <dc:title>Слайд 1</dc:title>
</cp:coreProperties>
</file>