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51F-BF00-4319-9C54-F854D517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AAA-781F-4F30-9F68-A6672B9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F49-6A86-41C8-A213-600F9E60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A44-4DC0-467A-8EB6-364B0D45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76D9-98FA-41AE-B320-A4AA1ADB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5CAE-FE02-444C-AB7D-F42F9CEA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E107-16FD-4B1D-9151-6C8E019B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CF0-6D60-419F-A903-336C459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9D3F-FBDA-4CB3-B6AC-D94CFB3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08EC-5F32-4849-B664-0B0104C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D6F7-8A0B-44E3-A334-3332E65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678-9BBC-43A0-B615-03AA5CD8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1FE-418D-47F2-ACE6-8101F03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47D7-03E8-4354-B3DE-1DD9FD6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11AC-3813-4C14-A4DA-3FCBC39E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C8CF-1724-47BC-AC0E-465FDC7D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0590-6078-42E6-A2E4-588FEA55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221-69F0-468F-94DD-4010B418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195-9186-484E-8EFB-6C62DE8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B8E-768E-4782-871D-2F545D79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56B-C1C8-4188-9552-73523CB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B8C-AD4E-4E94-988A-C11B05A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805-4B76-4213-8E4B-DC74F2D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568-0F91-4516-857F-BD0AC19C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4E8-9931-442A-8CA2-72835DBE5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BE4-6347-4AD6-B563-A6CB8311D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Гимнастика, как спортивно-педагогическая дисциплина.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кробатические упражн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личные движения и положения тела, в том числе переворачивания через голо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пражнения на снаряд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арактерны необычностью условий опоры и особенными телодвижениями, обусловленными конструкцией этих снаря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имнастика  - эт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 из действенных и универсальных средств ФВ, это система специальных упражнений и методических приемов, которая имеет свойство доступности, эффективности и эмоциана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едства гимнасти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ев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еразвивающие упражнения (ОРУ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клад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ь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художественной гимнас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обатически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ыж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на снаряд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оев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вигательные действия служебного характера, используемые для организованного проведения занятий, рационального размещения занимаю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развивающие упраж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ординационно простые двигательные действия, выполняемые с целью ОФП: развития групп мышц, совершенствования ФК, приобретения элементарных двигательных навы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клад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ства гимнастики, формирующие двигательные умения и навыки активного взаимодействия с окружающей сред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ль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д гимнастического многоборья в спортивной гимнастике, который направлен на развитие координационных способностей, повышение вынослив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художественной гимнасти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меняются на занятиях с женским контингентом. Они содержат специфические элементы без предметов и с предметами, выполняемые под музыкальное сопровожд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ыж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пражнения, для которых характерна выраженная фаза полета после толчка ногами и ру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23:20Z</dcterms:created>
  <dc:creator>X</dc:creator>
  <dc:description/>
  <dc:language>en-US</dc:language>
  <cp:lastModifiedBy>X</cp:lastModifiedBy>
  <dcterms:modified xsi:type="dcterms:W3CDTF">2009-09-02T20:03:03Z</dcterms:modified>
  <cp:revision>2</cp:revision>
  <dc:subject/>
  <dc:title>Гимнастика, как спортивно-педагогическая дисциплина. </dc:title>
</cp:coreProperties>
</file>