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8C1-89A3-404B-BBBD-AC3CF0E1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FD6-3F30-49CB-A2F9-45D16F5A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BB5-C2D7-4921-85A1-D51EE972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C1B-3041-4A6A-AD93-4109AF21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F6D8-8E4A-4A4C-92B6-50944C83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855E-01F8-4016-BF0D-02DBB022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1B17-0CD5-4357-A6C8-CE834E65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E0F1-B161-48DD-B8C0-4281C701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DCD6-B0ED-45CE-8DE1-B77B4EB6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F11D-702A-495F-A59F-915B6B17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E2F4-7F0F-41BA-8BFF-84A53525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EB20-C506-4503-95CF-29984E9C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0FD7-799A-49BC-9E89-60DC04B4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D423-4996-4C2A-AF1B-2AB2D2A4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2F1B-39B0-457A-A6D2-38AC92B8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BE61-4CB3-4993-9A9F-3D7D4129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E60D-D38E-40D2-ACCD-5C401EEC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2B2-B55C-4DC1-BA49-F166CDBC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B10-FCE1-4A5A-8F10-A6F12F53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9A2-0641-4DC6-A394-2540DCCC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F0D-7153-4E2A-9FD0-5E29B845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D5B-CC48-4BD0-875C-FAC7D2D1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16F-8755-408D-846D-213083A0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DF7-53FD-4293-B51A-93B8207D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247F-55C2-4ED1-92AF-CEA99A708F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5E6B-818C-4B7A-A8D7-23976CEFAC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Гимнастика, как спортивно-педагогическая дисциплина.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Акробатические упражнени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личные движения и положения тела, в том числе переворачивания через голов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пражнения на снаряда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арактерны необычностью условий опоры и особенными телодвижениями, обусловленными конструкцией этих снаряд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имнастика  - эт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но из действенных и универсальных средств ФВ, это система специальных упражнений и методических приемов, которая имеет свойство доступности, эффективности и эмоцианаль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редства гимнастик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оевые упраж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щеразвивающие упражнения (ОРУ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кладные упраж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льные упраж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ажнения художественной гимнаст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робатические упраж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ыж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ажнения на снаряд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троевые упражн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вигательные действия служебного характера, используемые для организованного проведения занятий, рационального размещения занимающих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щеразвивающие упражн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ординационно простые двигательные действия, выполняемые с целью ОФП: развития групп мышц, совершенствования ФК, приобретения элементарных двигательных навы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икладные упражн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редства гимнастики, формирующие двигательные умения и навыки активного взаимодействия с окружающей сред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ольные упражн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ид гимнастического многоборья в спортивной гимнастике, который направлен на развитие координационных способностей, повышение выносливост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пражнения художественной гимнасти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меняются на занятиях с женским контингентом. Они содержат специфические элементы без предметов и с предметами, выполняемые под музыкальное сопровожд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ыжки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пражнения, для которых характерна выраженная фаза полета после толчка ногами и ру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9:23:20Z</dcterms:created>
  <dc:creator>X</dc:creator>
  <dc:description/>
  <dc:language>en-US</dc:language>
  <cp:lastModifiedBy>X</cp:lastModifiedBy>
  <dcterms:modified xsi:type="dcterms:W3CDTF">2009-09-02T20:03:03Z</dcterms:modified>
  <cp:revision>2</cp:revision>
  <dc:subject/>
  <dc:title>Гимнастика, как спортивно-педагогическая дисциплина. </dc:title>
</cp:coreProperties>
</file>