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885-B860-46EB-8E80-088A52D6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F8C-A75E-4F19-8384-B1D7C56A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BFB-59E8-4868-82B9-75966DDA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C89-343E-4634-AA2F-1071A5D1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4381-1A33-4102-9398-9687E622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7952-518F-4895-BF16-4D4BD733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81AE-7095-45B7-9C9E-D81D9E9B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202C-D4DB-417A-91D9-D3EFA4AF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E593-CEB8-4A1A-99D2-659160A2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5263-339E-415B-80EA-9DF1FBF6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89A7-69C5-488A-AF22-744CEDF2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82D-AEC7-44F2-8C7E-4B371300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B1E9-28ED-4DF0-82D9-96AB068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8F4C-DC40-462F-8FB6-B5649D83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330E-B18A-402E-BB55-45E128E2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88EF-DAC7-416A-A456-7B094F9E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138A-6958-4432-9FBA-A2F5463F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0A6-953D-4625-897F-43F96B6A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840-A788-4441-B167-F939AF31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7B4-1464-4F09-B04C-637CB460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795-4CF8-4DF6-AA0E-7EE35BEC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B08-97E1-45C9-97A8-33554F72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DAD-F4DF-45B1-A4D1-0B37D156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D6A-248C-4A2E-B96E-A120FE14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EEB1-B856-43C2-91B7-291FAF769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2361-F2F3-42F0-8BD0-B0BFD13FE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Гимнастика, как спортивно-педагогическая дисциплина.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Акробатические упражнени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личные движения и положения тела, в том числе переворачивания через голов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пражнения на снаряда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арактерны необычностью условий опоры и особенными телодвижениями, обусловленными конструкцией этих снаряд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имнастика  - эт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о из действенных и универсальных средств ФВ, это система специальных упражнений и методических приемов, которая имеет свойство доступности, эффективности и эмоцианаль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редства гимнастики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оевые 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еразвивающие упражнения (ОРУ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кладные 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льные 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жнения художественной гимнаст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робатические упраж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ыж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жнения на снаряд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троевые упражн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вигательные действия служебного характера, используемые для организованного проведения занятий, рационального размещения занимающих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развивающие упражн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ординационно простые двигательные действия, выполняемые с целью ОФП: развития групп мышц, совершенствования ФК, приобретения элементарных двигательных навы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кладные упражн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редства гимнастики, формирующие двигательные умения и навыки активного взаимодействия с окружающей сред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ольные упражн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ид гимнастического многоборья в спортивной гимнастике, который направлен на развитие координационных способностей, повышение вынослив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пражнения художественной гимнасти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меняются на занятиях с женским контингентом. Они содержат специфические элементы без предметов и с предметами, выполняемые под музыкальное сопровожд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ыжки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пражнения, для которых характерна выраженная фаза полета после толчка ногами и ру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9:23:20Z</dcterms:created>
  <dc:creator>X</dc:creator>
  <dc:description/>
  <dc:language>en-US</dc:language>
  <cp:lastModifiedBy>X</cp:lastModifiedBy>
  <dcterms:modified xsi:type="dcterms:W3CDTF">2009-09-02T20:03:03Z</dcterms:modified>
  <cp:revision>2</cp:revision>
  <dc:subject/>
  <dc:title>Гимнастика, как спортивно-педагогическая дисциплина. </dc:title>
</cp:coreProperties>
</file>