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dt" idx="5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ftr" idx="5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 type="sldNum" idx="6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006A-1F2B-4B77-8E5F-3FE23AEB3C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4B33-D9F4-4939-B7E8-4D57EB1B9C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A60A-3903-43F5-A093-5CBCA83258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0A62-5FE9-4D79-A66E-AFCD03F7A8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5CE3-F752-41EF-A7EA-D4EBDD3006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0485-5642-46EF-85FF-E18886AEF2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503A-99CB-407F-BBFB-E45BF2D87E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9CF4-8D24-4F93-8B70-42029D9F3D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0F83-3CCA-4F9C-8FEA-D790B0DFD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64C3-1C9C-4E02-816E-7B2FD96C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A93270-FDC3-46EC-A301-5EF4392A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565287-EF3C-4023-85F5-E5B8119C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B27597-E825-4C42-A184-49897D7B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1B9849-3FD4-4289-B0A6-31AE4809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BDD26D-DED8-4837-845D-15A4A240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5FF298-F558-41D0-9A6A-914FE69E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2D826B-DF03-40D3-BE27-8B8E3D14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772A15-D2DB-4AC7-9328-45A6C05F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0F3996-9975-408E-9A56-3828A2DB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26223C-310B-4D5E-8E30-32AB40F51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8557-5069-4D57-974D-F64AF476F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7EF41A-BBB1-48C5-AC43-C80243F0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04EBC2-A90D-4678-9665-A8B986C4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B13256-2EF9-4E13-AAFC-B1A07C9A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CD44FB-8F11-496F-85BE-D5E2C9DD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240BD5-A026-4793-AC09-878DCEE7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37D0A8-5D53-4A12-AA94-020314A8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2FF1E2-9E1D-4640-8730-67133158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391FD7-3346-476C-98A6-51195771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DDDA65-2BCA-4492-B992-BEAF9BFF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A08FB2-478A-4D36-988D-F7FB8C865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A4DB-E099-4940-8AA9-E26D50E99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3B2973-F6E6-43C0-A6E2-657D467AC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297E2-A702-42C6-AB61-F546FF39F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719EA-04B3-45A9-8704-6E587A2D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9FE0F-E427-463A-894E-83F53781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0FD10-C900-48E2-8F84-A60D9F81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F41CA-284C-4A0C-A98D-7A89EA1D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28171-8608-461F-B752-FCB71612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F156C-50F5-4BB0-86BF-E03D8D43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F2026-2238-423E-A876-2213DC91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2527D-852F-4458-AA1D-7DE7C888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5C82-F4F9-4F0E-80F7-FC9AB0839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4BAC8-81F1-4900-ACFF-8E006B73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16732-E55C-4CC5-9537-B9E6E9B7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E19E8-ED4A-4C2B-8FCA-2FDB1E860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E97452-AB5F-4ACE-9814-0BFEAE0A0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291C48-8913-413B-8767-27C1AB9B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885B29-8996-4BFB-900D-0298F73C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CA9A3-E4F4-434F-B30A-5574FC5B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930FE0-304E-46A8-A6E0-45744F01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C76A0B-9204-4FC4-BB56-9881D1CD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8D3762-A617-4E2F-9E8F-40B1EBC4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7A96-8A68-4C22-B989-495BB8AC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C15ACA-6594-40EB-97E4-3BF4C11B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3B66E4-F880-44CF-9079-7FFDA831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A93395-2162-4203-8CEE-CC942EDD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91B3E4-50CF-4F19-8464-BA4481AD2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0C817F-68A6-4E56-8615-BD448420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02E33F-9ECA-457F-8422-6CA05FECA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BF62F4-ED07-4E02-81F0-44C32568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84591D-6E75-44BB-B75E-B446B841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432A16-1028-49AA-BA59-FE7F637D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2CCFC0-0255-48CB-BC9E-99FBCB06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9C69-1FB7-470F-9DE5-92C9E4DA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0F052E-9E47-40B1-A496-155E5446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E19EEF-4ADF-4C15-A359-F701133B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510EFE-D4FB-41F9-A0B6-13D1C171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26AED7-E8B0-4B51-BA21-AC811CEF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58C3A3-15F9-4C00-8BB0-BFE78F6C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2F3A1D-2B85-415A-8A38-3E6C973B8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E45923-B738-4B1E-B5C5-6876F0774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3EBC86-622E-456A-9D4F-7063A5333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95A76B-3A66-455A-9F46-A54102FF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390C11-0021-4E26-A2CC-4B8A6DD9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6B09-48DF-4514-85A0-0863A40D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CB0BD4-7B70-4F6E-906C-F3F9F904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1B81F4-16B2-4BA3-927C-A6B63EC5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3D2A17-D134-4F71-B9EF-A9B682EB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244D60-699A-4BEE-98AF-22C950C3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858537-2DCD-43EB-B7C4-FE21FB4D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11B514-6222-4E64-B404-A2A3337D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E8EB59-1369-489A-9561-8261B727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2A13C3-42C1-418C-A6C6-B2E606A1E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4C00B2-6B1B-4237-AAD2-6ACD44337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5B76BB-84F1-4CF6-BE76-232DB578B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E439-160C-4BEA-9CFF-D442E62D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9C670C-B03F-4DF0-9281-51338A9B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2EF617-861A-45D6-9EEE-0B8FD0A9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FEACBA-40D5-453E-B858-9A5C1520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6855B4-FD4D-4958-ABFD-1146115E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4EB197-210C-49EB-826E-808EB769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E6770B-C4B0-43E3-8372-E8092509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626EC7-386B-4509-961C-CA62857E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316389-1682-4A5F-95D0-FD656A7E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8699A1-EB10-417A-B333-A1C6E249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A91C81-3CDA-4F08-9181-2754DC529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69FE-A6EE-400D-96A9-BAC40851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8E61D5-ED50-4CCC-87AE-EFFD9853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517EEF-95CF-48EA-AA95-D1324F568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24F17F-A804-45C8-8EF9-66AEA21D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1BA6B4-03A9-4DA3-90E0-50D82EDF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603D95-300B-486A-89C4-8873F812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E6E2ED-A835-488F-ACBB-FAAD3C61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4B8CE7-9CB9-4B6C-B2C4-5EAC3EE8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1A3B44-D6BF-4AF4-A09A-3E3B0631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334AED-A487-4BD8-A877-3E27FE72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CB63D0-3EEF-4F77-BDA0-0D416DA5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4E76-312D-447B-A1FC-CE27DEF9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225D26-F3D2-4A38-ACBC-E7FE5CF6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FB785C-91FF-46AA-87E8-B8A49C374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C49D4C-FC89-4842-864D-A09103C7D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282D3F-1FB8-4AEE-B0ED-A7E772A1F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77833D-F231-42D8-B52D-81FF5368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B711BA-B616-4F71-8FF1-AEBE8FF7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F00905-4E8E-47F4-99E6-3006FDA1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D744B3-9D27-45B6-A336-266F1179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43BC74-F65C-4AE1-B3A2-547568FA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4BEE9D-FE2B-4396-A0C8-E2730941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555F-7572-46AD-83F1-BAAF949C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38D4-F6CF-452F-BA9A-3C5C5E57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FB8B61-389D-4B89-8EBE-46EBF011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6D990E-824F-442B-B40B-E5B1504C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6D139D-9F01-47E8-BD0E-C4DDFCA2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7F49F0-47AD-4746-B906-A1945276C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95E52A-0F61-431C-A116-861F6BC4B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69FBDC-3DE7-44CB-BD17-0BB8BB4DD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A7BED2-1332-4B83-B6AA-EA29DC52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D69FDE-EDAF-4F8F-A6FD-57200023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3FE680-3BA5-4F36-9AEE-6E71202E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6C9200-724A-46C8-A281-8C9B2D9C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D7DA-5AE8-42D9-BA5D-65DABC68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6CA87B-3A08-4455-8A26-79721381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EEF021-F31B-4473-B70F-29FA0D90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3B1CC0-5314-48AE-94F6-20546120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2547D5-252E-414C-A3CC-DB792931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804A41-4D9F-4D2B-94CB-F7C65A2C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B453B0-48CD-402B-A0A2-55B727B46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F514D0-5E94-436D-B1FF-5AA90399F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743B4A-3DAA-42E1-83BA-28E24B964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355AD7-5C81-44B4-A992-B7E55056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03B294-79A8-44A5-A209-C68F9ACD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37DA-B35A-4AF3-8AA2-1B44309B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4D7C19-F548-40BF-9E58-20C10F84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73DDA0-4B6C-49D4-868B-30A741F5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EA3CEF-0769-4F3D-8A3F-4ACD8CB8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C5BC11-419C-493C-85E1-E3A8823D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B43BE9-6123-4D61-9648-C838528D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7AB1B6-BEAD-401C-8C42-F52006AE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C221E2-AA44-40EB-82BD-CF9260C4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9CEA39-8870-494B-B3E2-8B2F29B03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B05062-5794-49ED-80E8-15B5E303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2179-9B68-4B81-BC60-C800662A7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DDAB-FAFD-45DC-902B-34DF22D41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486F8-4FD5-4E97-9AAF-9538F210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B4F11-5F1C-4B89-8AB7-39DDFB82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2310B-4B5C-4F65-BD66-9821966B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3536E-B7FB-4933-AAE4-98CB12C7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35CBE-4B5B-478B-9896-48B57EC9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197D-EC4D-4951-A9AE-54A660C6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F06DA-C059-4970-A67E-0DFE2209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CCB44-F89A-49E1-8B73-C4224926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648D6-FCB4-41BD-888B-768728DC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220C4-36FE-4086-AF91-A56CB958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F73C9-D860-4018-8AB8-4837BD64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344D2-1557-4EC0-A607-55BD7C769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DE0F0-B48A-4818-8DAF-4C61DFE0A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CE98A-EBEF-49BB-BC24-C31B9B04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572C6-3781-4AF2-84E7-62DCAE68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9F7FC-6A11-4485-8837-316E05C6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A385-5567-4C59-B893-D4383B0F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B45C6-CE69-4FA5-86E6-84443793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80679-4A93-4AE6-A99D-4A4B2F49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71D77-A02C-4FCD-BA69-19E55557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C48E7-5A5D-4C5D-AC3F-EA08F7B6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CD8A9-A9F2-4A3F-9579-2ABD6CC7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945B8-1CAA-4F9F-AB82-AFBA71BA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FA090-5857-4236-9AD0-84AE5901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1A089-CD2B-4833-B038-67552AFF0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264FA-771F-4865-AD8F-29F9D9665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C5069-B28C-43F1-B016-9F5E984DE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43F8-B6D1-46C7-B8AE-CDBF12FA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CCAE7-B9BE-4760-8919-63E5A265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B846E-580E-43F2-BD6D-FE4AC40C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34B07-BA0F-4F3F-BB51-5A3FB892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BF304-5CF0-4D3B-BDC6-B107E1AF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9F52F-DC8C-4704-897A-07C60A07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48DDD-64AA-4A0E-B982-641EEA82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D377B-12A2-47C8-B0D6-E5DB954D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41AD9-F1C7-4D87-B762-DC0287EB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CC674-C188-404E-94B4-119700DC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31897-843C-4294-BC20-C1EC90B83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155C-ECD4-47C7-A116-E5A20A05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27928-871A-4D92-9213-193DE9449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9FC482-B666-4BCB-936D-FE8942AD6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C27A50-415C-44CB-8CC0-1F4CD8C3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CCCD55-48B0-4E2A-9C8C-E68AC090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2189D7-50F3-40B5-8B87-9460C3A9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6D5D49-4BE9-411C-B91A-06EE3C99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3B2B85-5A3A-49A8-A7C0-AB6D6962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19DE72-96C9-4857-9AEC-58840E52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52DF25-EAC7-4D33-9B74-6B3157F2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DDFBB4-0C90-49BA-BDD6-083184C0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3314-78CD-4EB7-AFC6-ACE825FF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AEAD5F-4BDC-41EC-800B-06ECED03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E5E1FB-7838-41D3-B5CE-6ACF5A1B9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B7072E-D5CC-4FF3-8BF6-7A69533DB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BF907-7339-495F-B6E6-16ADF9BB5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035CA-1382-4379-B185-D492B510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619F7-D048-451E-BFF9-D8155417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5F1AF-3578-4364-9E61-03EC3EF3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B0C6C-E8F5-413E-9141-67976620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D2EFE-5109-4EA3-B1F9-C60D4B61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01FF4-C412-4423-92DB-CB0202A2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D770-9B61-465B-A2C8-435F51BB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37099-1345-49AB-825D-932744A4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D9DC4-FD1A-4C9A-898E-84D84D5F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97D25-EB20-477D-86E4-0F6DA911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F8674-D149-4CDB-B2D1-3CA8BEE2B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33716-88AF-4B6C-8ADF-433BCBC5C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802C61-510D-496A-801D-709002CAE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54F52B-F702-4202-B0D3-7879B590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8A5E36-E09F-4D7E-B0FC-3FBB8890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9215D7-4563-43C0-BEEA-02E44941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160E0C-0453-4E7C-85DE-4B39C911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8A61-3CC8-47B0-B3DE-FCB861F9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522AA6-F5B9-4C06-8F04-9114683A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7391B0-5059-4590-8241-5D66BF72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367C93-5AFE-47AA-8677-BCCC1A1D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D34BDF-E5DC-4082-8B3A-C824F2CE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558D9C-E764-4B6C-868E-9C65099D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30FD74-382D-46F0-8BF7-185BDB99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3D28C1-8F78-4E85-BFF0-CE4277EA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0D7BA8-621D-4808-A326-9A6DBE2FB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03ACE0-86B0-4CBA-9003-8CE85546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3C76A3-F76B-4113-B5BF-D293BF0C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93.xml"/><Relationship Id="rId10" Type="http://schemas.openxmlformats.org/officeDocument/2006/relationships/slideLayout" Target="../slideLayouts/slideLayout194.xml"/><Relationship Id="rId11" Type="http://schemas.openxmlformats.org/officeDocument/2006/relationships/slideLayout" Target="../slideLayouts/slideLayout195.xml"/><Relationship Id="rId12" Type="http://schemas.openxmlformats.org/officeDocument/2006/relationships/slideLayout" Target="../slideLayouts/slideLayout196.xml"/><Relationship Id="rId13" Type="http://schemas.openxmlformats.org/officeDocument/2006/relationships/slideLayout" Target="../slideLayouts/slideLayout197.xml"/><Relationship Id="rId14" Type="http://schemas.openxmlformats.org/officeDocument/2006/relationships/slideLayout" Target="../slideLayouts/slideLayout198.xml"/><Relationship Id="rId15" Type="http://schemas.openxmlformats.org/officeDocument/2006/relationships/slideLayout" Target="../slideLayouts/slideLayout199.xml"/><Relationship Id="rId16" Type="http://schemas.openxmlformats.org/officeDocument/2006/relationships/slideLayout" Target="../slideLayouts/slideLayout200.xml"/><Relationship Id="rId17" Type="http://schemas.openxmlformats.org/officeDocument/2006/relationships/slideLayout" Target="../slideLayouts/slideLayout201.xml"/><Relationship Id="rId18" Type="http://schemas.openxmlformats.org/officeDocument/2006/relationships/slideLayout" Target="../slideLayouts/slideLayout202.xml"/><Relationship Id="rId19" Type="http://schemas.openxmlformats.org/officeDocument/2006/relationships/slideLayout" Target="../slideLayouts/slideLayout203.xml"/><Relationship Id="rId20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205.xml"/><Relationship Id="rId11" Type="http://schemas.openxmlformats.org/officeDocument/2006/relationships/slideLayout" Target="../slideLayouts/slideLayout206.xml"/><Relationship Id="rId12" Type="http://schemas.openxmlformats.org/officeDocument/2006/relationships/slideLayout" Target="../slideLayouts/slideLayout207.xml"/><Relationship Id="rId13" Type="http://schemas.openxmlformats.org/officeDocument/2006/relationships/slideLayout" Target="../slideLayouts/slideLayout208.xml"/><Relationship Id="rId14" Type="http://schemas.openxmlformats.org/officeDocument/2006/relationships/slideLayout" Target="../slideLayouts/slideLayout209.xml"/><Relationship Id="rId15" Type="http://schemas.openxmlformats.org/officeDocument/2006/relationships/slideLayout" Target="../slideLayouts/slideLayout210.xml"/><Relationship Id="rId16" Type="http://schemas.openxmlformats.org/officeDocument/2006/relationships/slideLayout" Target="../slideLayouts/slideLayout211.xml"/><Relationship Id="rId17" Type="http://schemas.openxmlformats.org/officeDocument/2006/relationships/slideLayout" Target="../slideLayouts/slideLayout212.xml"/><Relationship Id="rId18" Type="http://schemas.openxmlformats.org/officeDocument/2006/relationships/slideLayout" Target="../slideLayouts/slideLayout213.xml"/><Relationship Id="rId19" Type="http://schemas.openxmlformats.org/officeDocument/2006/relationships/slideLayout" Target="../slideLayouts/slideLayout214.xml"/><Relationship Id="rId20" Type="http://schemas.openxmlformats.org/officeDocument/2006/relationships/slideLayout" Target="../slideLayouts/slideLayout215.xml"/><Relationship Id="rId21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217.xml"/><Relationship Id="rId11" Type="http://schemas.openxmlformats.org/officeDocument/2006/relationships/slideLayout" Target="../slideLayouts/slideLayout218.xml"/><Relationship Id="rId12" Type="http://schemas.openxmlformats.org/officeDocument/2006/relationships/slideLayout" Target="../slideLayouts/slideLayout219.xml"/><Relationship Id="rId13" Type="http://schemas.openxmlformats.org/officeDocument/2006/relationships/slideLayout" Target="../slideLayouts/slideLayout220.xml"/><Relationship Id="rId14" Type="http://schemas.openxmlformats.org/officeDocument/2006/relationships/slideLayout" Target="../slideLayouts/slideLayout221.xml"/><Relationship Id="rId15" Type="http://schemas.openxmlformats.org/officeDocument/2006/relationships/slideLayout" Target="../slideLayouts/slideLayout222.xml"/><Relationship Id="rId16" Type="http://schemas.openxmlformats.org/officeDocument/2006/relationships/slideLayout" Target="../slideLayouts/slideLayout223.xml"/><Relationship Id="rId17" Type="http://schemas.openxmlformats.org/officeDocument/2006/relationships/slideLayout" Target="../slideLayouts/slideLayout224.xml"/><Relationship Id="rId18" Type="http://schemas.openxmlformats.org/officeDocument/2006/relationships/slideLayout" Target="../slideLayouts/slideLayout225.xml"/><Relationship Id="rId19" Type="http://schemas.openxmlformats.org/officeDocument/2006/relationships/slideLayout" Target="../slideLayouts/slideLayout226.xml"/><Relationship Id="rId20" Type="http://schemas.openxmlformats.org/officeDocument/2006/relationships/slideLayout" Target="../slideLayouts/slideLayout227.xml"/><Relationship Id="rId21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A098-64C3-4DC8-8EF2-C542405589D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sldNum" idx="2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47AB-5E6E-4D62-8171-305C4E02870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ftr" idx="3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4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5f6e4d"/>
              </a:gs>
              <a:gs pos="100000">
                <a:srgbClr val="c6d9b2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1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2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3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306A-8044-4943-AD98-4370DF49B4B0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7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8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34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35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EDA9-64F1-438A-85E1-D4BC72AD7F0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1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5f6e4d"/>
              </a:gs>
              <a:gs pos="100000">
                <a:srgbClr val="c6d9b2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2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3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37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ftr" idx="38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sldNum" idx="39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DBC2-DAA9-4A87-82C5-767C9560CEB7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40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41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42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CBD3-115B-42F1-9215-D78644B0B0DB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43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ftr" idx="44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sldNum" idx="45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0A52-970A-4C61-9066-18B6ADF2F226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dt" idx="46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 type="ftr" idx="47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 type="sldNum" idx="48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9018-C274-4EF5-AD07-ED12EFDFE082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8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749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750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1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  <p:grpSp>
          <p:nvGrpSpPr>
            <p:cNvPr id="752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753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4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</p:grpSp>
      <p:grpSp>
        <p:nvGrpSpPr>
          <p:cNvPr id="755" name="Freeform 9"/>
          <p:cNvGrpSpPr/>
          <p:nvPr/>
        </p:nvGrpSpPr>
        <p:grpSpPr>
          <a:xfrm>
            <a:off x="884160" y="5614920"/>
            <a:ext cx="7394760" cy="547920"/>
            <a:chOff x="884160" y="5614920"/>
            <a:chExt cx="7394760" cy="547920"/>
          </a:xfrm>
        </p:grpSpPr>
        <p:pic>
          <p:nvPicPr>
            <p:cNvPr id="756" name="Freeform 9" descr=""/>
            <p:cNvPicPr/>
            <p:nvPr/>
          </p:nvPicPr>
          <p:blipFill>
            <a:blip r:embed="rId5"/>
            <a:stretch/>
          </p:blipFill>
          <p:spPr>
            <a:xfrm>
              <a:off x="884160" y="5614920"/>
              <a:ext cx="739476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"/>
            <p:cNvSpPr/>
            <p:nvPr/>
          </p:nvSpPr>
          <p:spPr>
            <a:xfrm rot="10800000">
              <a:off x="891720" y="5617800"/>
              <a:ext cx="73818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758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9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60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 type="dt" idx="49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 type="ftr" idx="50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 type="sldNum" idx="51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60DB-FB9E-4691-A57A-71FBA7FD7A38}" type="slidenum">
              <a:rPr b="0" lang="ru-RU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9"/>
    <p:sldLayoutId id="2147483858" r:id="rId10"/>
    <p:sldLayoutId id="2147483859" r:id="rId11"/>
    <p:sldLayoutId id="2147483860" r:id="rId12"/>
    <p:sldLayoutId id="2147483861" r:id="rId13"/>
    <p:sldLayoutId id="2147483862" r:id="rId14"/>
    <p:sldLayoutId id="2147483863" r:id="rId15"/>
    <p:sldLayoutId id="2147483864" r:id="rId16"/>
    <p:sldLayoutId id="2147483865" r:id="rId17"/>
    <p:sldLayoutId id="2147483866" r:id="rId18"/>
    <p:sldLayoutId id="2147483867" r:id="rId19"/>
    <p:sldLayoutId id="2147483868" r:id="rId20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04" name="Rectangle 8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805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  <p:grpSp>
          <p:nvGrpSpPr>
            <p:cNvPr id="807" name="Rectangle 9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808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9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</p:grpSp>
      <p:grpSp>
        <p:nvGrpSpPr>
          <p:cNvPr id="810" name="Freeform 10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811" name="Freeform 10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813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4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5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6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817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52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53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54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5D4E-566F-4E45-84C0-B46223436975}" type="slidenum">
              <a:rPr b="0" lang="ru-RU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10"/>
    <p:sldLayoutId id="2147483871" r:id="rId11"/>
    <p:sldLayoutId id="2147483872" r:id="rId12"/>
    <p:sldLayoutId id="2147483873" r:id="rId13"/>
    <p:sldLayoutId id="2147483874" r:id="rId14"/>
    <p:sldLayoutId id="2147483875" r:id="rId15"/>
    <p:sldLayoutId id="2147483876" r:id="rId16"/>
    <p:sldLayoutId id="2147483877" r:id="rId17"/>
    <p:sldLayoutId id="2147483878" r:id="rId18"/>
    <p:sldLayoutId id="2147483879" r:id="rId19"/>
    <p:sldLayoutId id="2147483880" r:id="rId20"/>
    <p:sldLayoutId id="2147483881" r:id="rId21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61" name="Rectangle 8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86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  <p:grpSp>
          <p:nvGrpSpPr>
            <p:cNvPr id="864" name="Rectangle 9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86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6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</p:grpSp>
      <p:grpSp>
        <p:nvGrpSpPr>
          <p:cNvPr id="867" name="Freeform 30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868" name="Freeform 30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870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1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2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3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87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55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56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57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696B-5510-415E-9A8F-53916978CFE2}" type="slidenum">
              <a:rPr b="0" lang="ru-RU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10"/>
    <p:sldLayoutId id="2147483884" r:id="rId11"/>
    <p:sldLayoutId id="2147483885" r:id="rId12"/>
    <p:sldLayoutId id="2147483886" r:id="rId13"/>
    <p:sldLayoutId id="2147483887" r:id="rId14"/>
    <p:sldLayoutId id="2147483888" r:id="rId15"/>
    <p:sldLayoutId id="2147483889" r:id="rId16"/>
    <p:sldLayoutId id="2147483890" r:id="rId17"/>
    <p:sldLayoutId id="2147483891" r:id="rId18"/>
    <p:sldLayoutId id="2147483892" r:id="rId19"/>
    <p:sldLayoutId id="2147483893" r:id="rId20"/>
    <p:sldLayoutId id="2147483894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A21B-C8F4-4611-8744-298EEC8B9A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E15C-0CCB-4405-B94F-6A4E109F9948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33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34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  <p:grpSp>
          <p:nvGrpSpPr>
            <p:cNvPr id="136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37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</p:grpSp>
      <p:grpSp>
        <p:nvGrpSpPr>
          <p:cNvPr id="139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140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142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44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5D5F-9882-4A82-A0F2-AFAB0234832C}" type="slidenum">
              <a:rPr b="0" lang="ru-RU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963E-D9B2-4E77-8E37-E05BC867972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ECE6-A1B0-42B1-B347-01904A3629B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9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0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1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C83D-4C34-4128-B73D-F017A97A808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944F-E621-45BD-B980-76FB87C34A5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50FF-F917-4A82-A13F-56A2BC3046D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ftr" idx="2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Родительское собрание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в 9-х классах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b0f0"/>
                </a:solidFill>
                <a:latin typeface="Arial"/>
              </a:rPr>
              <a:t>«Готовим детей к ЕГЭ»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У д/с №181, г. Москва, СВА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дагог-психолог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ролова Светлана Серге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285560" y="0"/>
            <a:ext cx="617220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Calibri"/>
              </a:rPr>
              <a:t>ДЕТИ «ГРУППЫ РИС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7" name=""/>
          <p:cNvGraphicFramePr/>
          <p:nvPr/>
        </p:nvGraphicFramePr>
        <p:xfrm>
          <a:off x="142920" y="428760"/>
          <a:ext cx="8786880" cy="6286320"/>
        </p:xfrm>
        <a:graphic>
          <a:graphicData uri="http://schemas.openxmlformats.org/drawingml/2006/table">
            <a:tbl>
              <a:tblPr/>
              <a:tblGrid>
                <a:gridCol w="2197080"/>
                <a:gridCol w="2197080"/>
                <a:gridCol w="2195640"/>
                <a:gridCol w="2197080"/>
              </a:tblGrid>
              <a:tr h="4109760"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равополушарные де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indent="889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огатое воображе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indent="889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орошо развито образное мышле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indent="889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орошо воспринимают метафоры, образы, сравн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indent="889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ряются при необходимости мыслить логическими категориям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indent="889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ираются в большей степи на общее, а не на частности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indent="889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ло внимания уделяют деталям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Тревожные де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спринимают любую ситуацию, связанную с учёбой, как опасность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евогу у них вызывает проверка знаний в любом виде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умеют опираться на собственное мнение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могут самостоятельно проверить качество своей работы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орошо выполняют задание, где требуется работать по образцу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Дети, испытывающие недостаток произвольности и самоорганизац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внимательные, рассеянные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устойчивая работоспособность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ебания темпа деятельности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асто отвлекаются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marL="68400" algn="ctr">
                        <a:lnSpc>
                          <a:spcPct val="100000"/>
                        </a:lnSpc>
                        <a:tabLst>
                          <a:tab algn="l" pos="0"/>
                          <a:tab algn="l" pos="338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ерфекционисты и «отличники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684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338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ая успеваемость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684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338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ветственность, организованность, исполнительность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684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338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емятся сделать всё лучше всех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684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338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увствительны к похвале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6560">
                <a:tc>
                  <a:txBody>
                    <a:bodyPr lIns="36720" rIns="36720" tIns="0" bIns="0" anchor="t">
                      <a:noAutofit/>
                    </a:bodyPr>
                    <a:p>
                      <a:pPr marL="88920" indent="-88920"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Астеничные де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88920" indent="-889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ая утомляемость, истощаемость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88920" indent="-889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зкое увеличение количества ошибок при усталости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Гипертимные де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нергичные, активные.Импульсивные.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ыстро выполняют задания. Не проверяют себя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небрегают точностью и аккуратностью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marL="165240" algn="ctr">
                        <a:lnSpc>
                          <a:spcPct val="100000"/>
                        </a:lnSpc>
                        <a:tabLst>
                          <a:tab algn="l" pos="0"/>
                          <a:tab algn="l" pos="434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Застревающие де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1652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434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 трудом переключаются с одного задания на другое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1652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434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лительный ориентировочный период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Аудиалы и кинестети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учше усваивают информацию на слух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учше усваивают информацию с помощью двигательных действий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Calibri"/>
              </a:rPr>
              <a:t>СТРАТЕГИИ ПОДДЕРЖ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9" name=""/>
          <p:cNvGraphicFramePr/>
          <p:nvPr/>
        </p:nvGraphicFramePr>
        <p:xfrm>
          <a:off x="142920" y="428760"/>
          <a:ext cx="8858160" cy="6270480"/>
        </p:xfrm>
        <a:graphic>
          <a:graphicData uri="http://schemas.openxmlformats.org/drawingml/2006/table">
            <a:tbl>
              <a:tblPr/>
              <a:tblGrid>
                <a:gridCol w="2214360"/>
                <a:gridCol w="2214720"/>
                <a:gridCol w="2214720"/>
                <a:gridCol w="2214360"/>
              </a:tblGrid>
              <a:tr h="2643120">
                <a:tc>
                  <a:txBody>
                    <a:bodyPr lIns="31680" rIns="31680" tIns="0" bIns="0" anchor="t">
                      <a:noAutofit/>
                    </a:bodyPr>
                    <a:p>
                      <a:pPr marL="88920" indent="-88920"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равополушарные де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88920" indent="-889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действовать воображение при подготовке (схемы, рисунки, сравнения)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88920" indent="-889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экзамене больше внимания уделить заданию С, где требуется развернутый ответ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88920" indent="-889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ь выделять главное в каждом вопросе, составлять планы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Тревожные де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нагнетать обстановку о предстоящем и результатах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здать эмоциональный комфорт на предэкзаменационном этапе (поощрение, поддержка)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улы самовнуше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marL="165240" algn="ctr">
                        <a:lnSpc>
                          <a:spcPct val="100000"/>
                        </a:lnSpc>
                        <a:tabLst>
                          <a:tab algn="l" pos="0"/>
                          <a:tab algn="l" pos="434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Дети, испытывающие недостаток произвольности и самоорганиз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1652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434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пользовать материальные средства для регуляции своей деятельности (часы, отмеряющие время выполнения задания; составление плана, списка дел и вычеркивание их по мере выполнения)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ерфекционисты и «отличники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нять разницу между «достаточным» выполнением заданий и «превосходным» (на «отл» требуется выполнить не все 100%)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засиживаться долго на 1 задании («Переходи к следующему», «пропусти, если не знаешь»)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рить сделанное!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7360">
                <a:tc>
                  <a:txBody>
                    <a:bodyPr lIns="31680" rIns="31680" tIns="0" bIns="0" anchor="t">
                      <a:noAutofit/>
                    </a:bodyPr>
                    <a:p>
                      <a:pPr marL="88920" indent="-88920"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Астеничные де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88920" indent="-889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предъявлять заведомо невыполнимых ожиданий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88920" indent="-889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заниматься с утра до вечера. Несколько коротких перемен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88920" indent="-889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рывы в занятиях (после 2-х часов), гулять, спать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88920" indent="-889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авяные чаи, витамины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Гипертимные де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вивать функцию контроля, самопроверки: «Сделал- проверь»!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здать ощущение важности ситуации экзамена, объяснить значение результатов ЕГЭ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marL="165240" algn="ctr">
                        <a:lnSpc>
                          <a:spcPct val="100000"/>
                        </a:lnSpc>
                        <a:tabLst>
                          <a:tab algn="l" pos="0"/>
                          <a:tab algn="l" pos="434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Застревающие де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1652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434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спределение времени на каждую работу, задание с помощью часов (например: 5*12=60 минут)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1652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434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ли долго сидит на одном задании и не получается: «Переходи к следующему, потом вернешься к этому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Аудиалы и кинестети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етко сформулировать для себя, как лучше усваивать учебный материал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Аудиалу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: При заучивании проговаривать вслух материал самому или слушать другого (сверстник, взрослый, аудиозапись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торять материал, беседуя с др. людьм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экзамене тихо проговаривать задание вслух, чтобы осмыслить суть задания, решение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Кинестетику: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оминать материал через действия: сокращенно записывая, зарисовывая, выполняя лабораторные и практические работы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ать лучше не за столом, а в свободной позе на диване. Текст можно запоминать, пересказывая его на ходу, жестикулируя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ду выучиванием билетов можно вводить элементы движения: зарядку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 время проведения экзамена помогать себе простыми движениями (подвигать ногами под столом, повертеть ручку в руках, почесать голову).  Включить  двигательную активность (выйти, передохнуть, обдумать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 txBox="1"/>
          <p:nvPr/>
        </p:nvSpPr>
        <p:spPr>
          <a:xfrm>
            <a:off x="357120" y="42876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иемы заучивания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☻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механическое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☻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смысловое (логическое)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(эффективность в 20 раз выше!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«Лучше 2 раза прочитать текст и 2 раза воспроизвести, чем читать бесперебойно 8 раз».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Century Schoolbook"/>
              </a:rPr>
              <a:t>- Прочтение текста и разделение на части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Century Schoolbook"/>
              </a:rPr>
              <a:t>- Составление плана к тексту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Century Schoolbook"/>
              </a:rPr>
              <a:t>-Осмысливание и пересказ каждого пункта плана отдельно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Century Schoolbook"/>
              </a:rPr>
              <a:t>-Пересказ в целом всего текста в соответствии с планом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1" name="Rectangle 1"/>
          <p:cNvSpPr/>
          <p:nvPr/>
        </p:nvSpPr>
        <p:spPr>
          <a:xfrm>
            <a:off x="357120" y="179028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Логический пересказ включает: логическое осмысление материала, выделение главных логических компонентов информации, пересказ своими словам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9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9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9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9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183520" cy="8366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8e49"/>
                </a:solidFill>
                <a:latin typeface="Century Schoolbook"/>
              </a:rPr>
              <a:t>ВНИМАНИЕ, СОСРЕДОТОЧЕННОСТЬ НА МАТЕРИАЛЕ В МОМЕНТ ЗАУЧИВАНИЯ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500040" y="1642680"/>
            <a:ext cx="8183520" cy="490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- не перегружать внимание во время занятий большим кол-вом предметов на столе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- работать «блоками»: 30-40 минут занятий и короткий отды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960" indent="-264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- разнообразить виды занятий (говорение, слушание, письмо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- не злоупотреблять телевизором, компьютером, музыкой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r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6868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ff3300"/>
                </a:solidFill>
                <a:uFillTx/>
                <a:latin typeface="Century Schoolbook"/>
              </a:rPr>
              <a:t>САМОРЕГУЛЯЦИЯ ПРИ СТРЕССЕ</a:t>
            </a:r>
            <a:br>
              <a:rPr sz="2700"/>
            </a:br>
            <a:r>
              <a:rPr b="1" i="1" lang="ru-RU" sz="1800" spc="-1" strike="noStrike">
                <a:solidFill>
                  <a:srgbClr val="00cc00"/>
                </a:solidFill>
                <a:latin typeface="Century Schoolbook"/>
              </a:rPr>
              <a:t>СОСТОЯНИЕ НЕРВНО-ПСИХИЧЕСКОЙ НАПРЯЖЕННОСТИ, УТОМЛЕНИЯ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285840" y="1285920"/>
            <a:ext cx="4214880" cy="39290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663300"/>
                </a:solidFill>
                <a:uFillTx/>
                <a:latin typeface="Century Schoolbook"/>
              </a:rPr>
              <a:t>Естественные способы регуляции</a:t>
            </a:r>
            <a:r>
              <a:rPr b="0" lang="ru-RU" sz="1600" spc="-1" strike="noStrike" u="sng">
                <a:solidFill>
                  <a:srgbClr val="663300"/>
                </a:solidFill>
                <a:uFillTx/>
                <a:latin typeface="Century Schoolboo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Century Schoolbook"/>
              </a:rPr>
              <a:t>смех, юмор, дурачество (позитивное настроение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Comic Sans MS"/>
              </a:rPr>
              <a:t>восстановление ресурсов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Comic Sans MS"/>
              </a:rPr>
              <a:t>     </a:t>
            </a:r>
            <a:r>
              <a:rPr b="0" i="1" lang="ru-RU" sz="1600" spc="-1" strike="noStrike">
                <a:solidFill>
                  <a:srgbClr val="663300"/>
                </a:solidFill>
                <a:latin typeface="Comic Sans MS"/>
              </a:rPr>
              <a:t>организма (полноценный сон (+ дневной), полезная еда (мед, орехи, шоколад, травяные чаи)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Century Schoolbook"/>
              </a:rPr>
              <a:t>общение с природой и животными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Comic Sans MS"/>
              </a:rPr>
              <a:t>телесное расслабление (водные процедуры, массаж, качели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Century Schoolbook"/>
              </a:rPr>
              <a:t>танцы, музыка (слушание, пение), рисование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Comic Sans MS"/>
              </a:rPr>
              <a:t>прогулки на свежем воздухе, спортивные игры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Century Schoolbook"/>
              </a:rPr>
              <a:t>другие способы, индивидуально подходящие для человек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4857840" y="1356840"/>
            <a:ext cx="3749760" cy="39099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ff9900"/>
                </a:solidFill>
                <a:uFillTx/>
                <a:latin typeface="Century Schoolbook"/>
              </a:rPr>
              <a:t>Способы саморегуляции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1900" spc="-1" strike="noStrike">
                <a:solidFill>
                  <a:srgbClr val="000000"/>
                </a:solidFill>
                <a:latin typeface="Comic Sans MS"/>
              </a:rPr>
              <a:t>Саморегуляция —это управление своим психоэмоциональным состоянием, достигаемое путем воздействия человека на самого себя с помощью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66"/>
                </a:solidFill>
                <a:latin typeface="Century Schoolbook"/>
              </a:rPr>
              <a:t>управления дыханием;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66"/>
                </a:solidFill>
                <a:latin typeface="Century Schoolbook"/>
              </a:rPr>
              <a:t>управления тонусом мышц, движением;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66"/>
                </a:solidFill>
                <a:latin typeface="Century Schoolbook"/>
              </a:rPr>
              <a:t>воздействия словом;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66"/>
                </a:solidFill>
                <a:latin typeface="Century Schoolbook"/>
              </a:rPr>
              <a:t>использования мысленных образов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937" name=""/>
          <p:cNvGraphicFramePr/>
          <p:nvPr/>
        </p:nvGraphicFramePr>
        <p:xfrm>
          <a:off x="571680" y="5429160"/>
          <a:ext cx="7786440" cy="1071720"/>
        </p:xfrm>
        <a:graphic>
          <a:graphicData uri="http://schemas.openxmlformats.org/drawingml/2006/table">
            <a:tbl>
              <a:tblPr/>
              <a:tblGrid>
                <a:gridCol w="2595240"/>
                <a:gridCol w="2768760"/>
                <a:gridCol w="2422440"/>
              </a:tblGrid>
              <a:tr h="1071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ффект успокоения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устранение эмоциональной напряженности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ффект восстановлен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ослабление проявлений утомлен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ффект активизаци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повышение психофизиологической реактивност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3300"/>
                    </a:solidFill>
                  </a:tcPr>
                </a:tc>
              </a:tr>
            </a:tbl>
          </a:graphicData>
        </a:graphic>
      </p:graphicFrame>
    </p:spTree>
  </p:cSld>
  <p:transition>
    <p:pull dir="r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0" dur="2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500"/>
                            </p:stCondLst>
                            <p:childTnLst>
                              <p:par>
                                <p:cTn id="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9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9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6500"/>
                            </p:stCondLst>
                            <p:childTnLst>
                              <p:par>
                                <p:cTn id="1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9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500"/>
                            </p:stCondLst>
                            <p:childTnLst>
                              <p:par>
                                <p:cTn id="1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8000"/>
                            </p:stCondLst>
                            <p:childTnLst>
                              <p:par>
                                <p:cTn id="1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9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8500"/>
                            </p:stCondLst>
                            <p:childTnLst>
                              <p:par>
                                <p:cTn id="1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9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9000"/>
                            </p:stCondLst>
                            <p:childTnLst>
                              <p:par>
                                <p:cTn id="1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9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9500"/>
                            </p:stCondLst>
                            <p:childTnLst>
                              <p:par>
                                <p:cTn id="1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9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9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e8637"/>
                </a:solidFill>
                <a:latin typeface="Century Schoolbook"/>
              </a:rPr>
              <a:t>ФОРМУЛЫ САМОВНУШЕ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914400" y="928440"/>
            <a:ext cx="7772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Это простые, краткие утверждения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зитивной направленности (без частицы «не»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амоприказы (распоряжения сделанные самому себе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амопрограммирование на уверенность, на успокоение или активизацию себя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ысленное повторение формулы несколько раз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cc00"/>
                </a:solidFill>
                <a:latin typeface="Century Schoolbook"/>
              </a:rPr>
              <a:t>Сегодня у меня все получитс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cc00"/>
                </a:solidFill>
                <a:latin typeface="Century Schoolbook"/>
              </a:rPr>
              <a:t>Сегодня я буду спокойной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cc00"/>
                </a:solidFill>
                <a:latin typeface="Century Schoolbook"/>
              </a:rPr>
              <a:t> </a:t>
            </a:r>
            <a:r>
              <a:rPr b="1" i="1" lang="ru-RU" sz="1800" spc="-1" strike="noStrike">
                <a:solidFill>
                  <a:srgbClr val="00cc00"/>
                </a:solidFill>
                <a:latin typeface="Century Schoolbook"/>
              </a:rPr>
              <a:t>находчивой, уверенной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cc00"/>
                </a:solidFill>
                <a:latin typeface="Century Schoolbook"/>
              </a:rPr>
              <a:t>Я решал задачи и посложнее. Решу и эту!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272880"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272880" algn="ctr">
              <a:lnSpc>
                <a:spcPct val="15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2060"/>
                </a:solidFill>
                <a:latin typeface="Franklin Gothic Book"/>
              </a:rPr>
              <a:t>☻</a:t>
            </a:r>
            <a:r>
              <a:rPr b="1" i="1" lang="ru-RU" sz="2100" spc="-1" strike="noStrike">
                <a:solidFill>
                  <a:srgbClr val="ff9900"/>
                </a:solidFill>
                <a:latin typeface="Century Schoolbook"/>
              </a:rPr>
              <a:t>Самоодобрение (самопоощрение): «Молодец! Умница! Здорово получилось!»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40" name="Picture 6" descr=""/>
          <p:cNvPicPr/>
          <p:nvPr/>
        </p:nvPicPr>
        <p:blipFill>
          <a:blip r:embed="rId1"/>
          <a:stretch/>
        </p:blipFill>
        <p:spPr>
          <a:xfrm>
            <a:off x="214200" y="4786200"/>
            <a:ext cx="1643040" cy="17049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9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8" dur="500"/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2" dur="500"/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6" dur="500"/>
                                        <p:tgtEl>
                                          <p:spTgt spid="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500"/>
                            </p:stCondLst>
                            <p:childTnLst>
                              <p:par>
                                <p:cTn id="15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0" dur="500"/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4" dur="500"/>
                                        <p:tgtEl>
                                          <p:spTgt spid="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500"/>
                            </p:stCondLst>
                            <p:childTnLst>
                              <p:par>
                                <p:cTn id="16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8" dur="500"/>
                                        <p:tgtEl>
                                          <p:spTgt spid="9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2" dur="500"/>
                                        <p:tgtEl>
                                          <p:spTgt spid="9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500"/>
                            </p:stCondLst>
                            <p:childTnLst>
                              <p:par>
                                <p:cTn id="17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6" dur="500"/>
                                        <p:tgtEl>
                                          <p:spTgt spid="9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9" dur="500"/>
                                        <p:tgtEl>
                                          <p:spTgt spid="9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6000"/>
                            </p:stCondLst>
                            <p:childTnLst>
                              <p:par>
                                <p:cTn id="18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3" dur="500"/>
                                        <p:tgtEl>
                                          <p:spTgt spid="9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 txBox="1"/>
          <p:nvPr/>
        </p:nvSpPr>
        <p:spPr>
          <a:xfrm>
            <a:off x="642600" y="0"/>
            <a:ext cx="7467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200" spc="-1" strike="noStrike" u="sng">
                <a:solidFill>
                  <a:srgbClr val="00b050"/>
                </a:solidFill>
                <a:uFillTx/>
                <a:latin typeface="Century Gothic"/>
              </a:rPr>
              <a:t>Успехов!!!</a:t>
            </a:r>
            <a:endParaRPr b="0" lang="en-US" sz="8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300" spc="-1" strike="noStrike" u="sng">
                <a:solidFill>
                  <a:srgbClr val="00b050"/>
                </a:solidFill>
                <a:uFillTx/>
                <a:latin typeface="Century Gothic"/>
              </a:rPr>
              <a:t>Успехов!!!</a:t>
            </a:r>
            <a:endParaRPr b="0" lang="en-US" sz="7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 u="sng">
                <a:solidFill>
                  <a:srgbClr val="00b050"/>
                </a:solidFill>
                <a:uFillTx/>
                <a:latin typeface="Century Gothic"/>
              </a:rPr>
              <a:t>Успехов!!!</a:t>
            </a:r>
            <a:endParaRPr b="0" lang="en-US" sz="6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500" spc="-1" strike="noStrike" u="sng">
                <a:solidFill>
                  <a:srgbClr val="00b050"/>
                </a:solidFill>
                <a:uFillTx/>
                <a:latin typeface="Century Gothic"/>
              </a:rPr>
              <a:t>Успехов!!!</a:t>
            </a:r>
            <a:endParaRPr b="0" lang="en-US" sz="5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 u="sng">
                <a:solidFill>
                  <a:srgbClr val="00b050"/>
                </a:solidFill>
                <a:uFillTx/>
                <a:latin typeface="Century Gothic"/>
              </a:rPr>
              <a:t>Успехов!!!</a:t>
            </a:r>
            <a:endParaRPr b="0" lang="en-US" sz="4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 u="sng">
                <a:solidFill>
                  <a:srgbClr val="00b050"/>
                </a:solidFill>
                <a:uFillTx/>
                <a:latin typeface="Century Gothic"/>
              </a:rPr>
              <a:t>Успехов!!!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b050"/>
                </a:solidFill>
                <a:uFillTx/>
                <a:latin typeface="Century Gothic"/>
              </a:rPr>
              <a:t>Успехов!!!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b050"/>
                </a:solidFill>
                <a:uFillTx/>
                <a:latin typeface="Century Gothic"/>
              </a:rPr>
              <a:t>Успехов!!!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09:56:13Z</dcterms:created>
  <dc:creator>1</dc:creator>
  <dc:description/>
  <dc:language>en-US</dc:language>
  <cp:lastModifiedBy>Олег</cp:lastModifiedBy>
  <dcterms:modified xsi:type="dcterms:W3CDTF">2011-12-24T18:55:16Z</dcterms:modified>
  <cp:revision>14</cp:revision>
  <dc:subject/>
  <dc:title>Слайд 1</dc:title>
</cp:coreProperties>
</file>