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dt" idx="5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ftr" idx="5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 type="sldNum" idx="6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17E1-8645-45C5-AFC2-5A85D611F1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D309-D4C4-4016-A170-D21609D7B2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332E-3A33-4C4E-AD6D-7B06A24E1F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CDF8-2D00-4EA6-9BB4-AF6D6B8E4D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B491-69E0-4F1B-9B94-CC7AA74F69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D546-FCF9-4B85-A18E-DE8B6F267F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7180-032D-4B05-963C-7812BD4691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7EC4-AED6-41FE-BB0F-2D9DDEB58D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A47F-3DD4-42DD-AF54-B45E55D2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B5AA-F861-44DB-8235-C18476D6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ECA71C-A3BE-48C6-BA43-5BCCF0C5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82FD49-E27B-4F96-B987-2341463C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22BDFC-693B-4468-99F1-007613EE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048F07-E84D-452E-BDD7-5996EA23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E26C02-2DED-4F0D-BB0F-8614862E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E3D018-4043-4B99-9AF6-D2CD26EA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08121C-A2A8-49D2-BA66-7A636E32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843DFF-F2C4-48FD-908B-AF2EE8D9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DC0E4D-FF67-4409-A384-F06330C2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27D0A5-BDE5-407E-AC6E-672456A4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867B-082E-4E23-8293-6A655485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BC2FEA-336B-4050-9F89-A81D5E76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34228F-2A9B-4B2E-94EC-926424E3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5CBF1C-6E19-434E-94B5-5779529B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75A5D8-81E7-46CD-9020-8EBD105A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B5E7AC-B3A8-4E31-93B2-8B70FB9C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1E4AF3-43A3-4B3F-9B02-6E0CAB4A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825632-0542-4FEB-9059-3F3D762F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9861F9-48EE-49E6-A73B-E8D0786D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1DD132-02A6-4D29-86D1-C3304481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5ECD2A-7D24-4D15-AD60-7C39CB3D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3C38-6BED-4EB0-84F3-2711B01A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754C24-AD0F-4A44-B9C3-CAE3A787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9CB5B-6476-4385-BAB5-CB56DE08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77B09-830E-4F73-A3AF-B72FD858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4D8A4-8ACA-4E0A-81CB-495C833A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E89F0-1C2C-43AB-B10E-599A6821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4DA16-36AD-4751-907C-2D98AFB8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2DA43-A8B2-4791-936B-B0FFD4DD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46014-8932-4FBC-ABEA-5381F0A5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67663-9C44-4D53-B18C-AB6BF6A3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4AE15-6D64-4AD8-8CE7-DB234DAD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7907-5E9F-4CDC-8F68-C8A69C44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F6A34-BADE-4368-A314-19114D71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C2E6F-EF65-423F-AF0A-E4B8129E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A1F8F-C2B0-42B6-8BD5-69A2B29E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4CB1E-B4CC-44BB-B0B0-E0EA19C2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E8D0C-34BB-4C99-819E-FB4A19A8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289AD-CEE2-4A86-815B-8EA7A84D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F227A-51B3-497D-A7FA-78935673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2648E-E518-4A95-8761-C893D707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112FE-73DE-4EDB-A027-FE4B2268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0F61A-8427-44F6-9724-F58718DC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A565-0FC0-4A9D-8C9E-56915F8C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96551-9152-4049-8C0A-9122FD01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71235-DCF8-4E3E-A9B5-60F4689C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707DE-D160-4061-95F7-8C0F11F8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A6556-0766-41EC-96B6-D4D7E4082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3EB5F-324A-4F13-996C-36018D0B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AEE319-C1E8-4C05-A4A2-113DA9FC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E69FA0-3FCF-49DE-BC38-C9AB8B3A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A03E26-092A-4BA6-A25B-0D101547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7A7B68-B727-4734-A9B4-0DF2EF43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B3C7B3-ADD1-4F6D-866D-8EFD1A25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60EC-C8D4-40D7-AC5F-524D37CE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50956A-4A92-4B7F-9396-6223204F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DA2B1C-B393-4A0B-8E2F-7C857484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08EFA2-0F8F-401C-A944-8AA7944C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86EFE0-855E-449E-89A3-4FDADB1F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982CED-5DD5-4143-BF86-0E9AB029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09195E-002C-466F-A773-3270CB60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15A14F-1C9A-4049-92CA-C078AA5F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440610-EE21-4A69-A608-B2EF3BE6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85019E-8772-48E8-8437-CC292FDD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801679-5C26-4174-B7F2-65FAD8D5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80A0-2DDC-4FA1-AB20-08610C4E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2B6E8A-30B5-4257-B8EB-EF350F5A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5CF992-9110-45F0-B1F8-C54692C2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FABCBA-1C16-4F18-A8DD-F80CC52F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D1F110-09A7-4C6F-BF72-202CCFE9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F93EA9-35F8-4B42-8A7B-A3E44F2B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CADD8B-A21E-43AF-A419-83B24723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6EEA75-865A-48C2-BAFE-A87F1734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34937B-D022-4520-9589-6B0989EB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A99636-EB17-462A-A9FD-3CB7E511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1D801D-6592-4E9F-9C6D-7998CECB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7CEA-C297-410C-99B6-983054FB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EB418E-821A-432A-951B-BEBFA82E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8BCAF0-BDFF-4D5F-95FC-479C7196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DA68B3-90EA-4E24-8034-9EF7FABC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F3453A-F43F-4420-9CCE-8AF4EF03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3B8738-F445-4C71-82CF-C4BA882B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629DC8-0FCF-4EE9-A538-5E7D8BA2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F318D8-2F8F-4371-A3A5-67DBB2A2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547619-25D5-4429-A5CC-B4ABDA6C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A38BF7-2332-44CB-8312-2FBBA0BE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A29970-36F9-4868-9213-2BA49F30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92DF-0BF9-4A4F-8263-2D837E1B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46F551-6DC5-4DA3-BE61-73CDC43B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3BCEC9-F9C8-4CAC-8A88-DCA73489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21ABAA-2DFC-471E-A6DB-E85BC7E8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2916A1-DA13-464A-A1C8-0B69579C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0DD36A-8E8D-443D-A046-F108A28F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B85705-72EE-4736-8A41-DF18D12A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BCC8F8-839E-4B14-9152-F8FEF4C8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5889DB-9927-436B-B917-950D87E5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B42403-A1FB-4C4E-BE19-980A130B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FEFB0B-21EF-4EED-AC08-26F1EE4F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4C61-E724-4980-A8D9-7F82D58C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921780-AC17-4253-93C4-081EE885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7F309D-7B5D-4A0D-8325-FC4B9CCA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243D32-3F31-4674-AC37-FDF687C7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F5ADDF-4B9F-40C6-A987-61BB6ED7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901E88-FDED-4810-A769-9A63BE24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5B324A-4496-4C25-A3EA-D9596E89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CC3717-20D5-48D1-8AAC-5A63F05F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E3DBE8-B722-4D87-9928-E7D5D03F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556911-3810-4AF1-9FD8-7455B838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1FBB86-0998-4A4F-8A80-C88B3C21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4D5D-4D6B-4810-B25C-3992B7C1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3BFE-F27D-46D7-82F4-FADABFEC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74F301-05B6-41A6-825D-97B64EB1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79C981-276B-46EE-B014-E62A57B0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58BA2D-A705-4937-9779-BF70ADFF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601152-D5D7-42F4-8B2E-7BF1956D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98A22B-8FF1-4DDD-B7F3-258E07B6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E21A3A-1AEE-4617-AECB-66D10520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0FE545-445B-4030-A40D-8A958465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8254BA-F6BC-4EB5-AACF-7AF50E08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AB6686-46A5-4F0B-BD62-618D5146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51FFE1-3824-4F40-A317-EDE6BA81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B747-1D19-4DAD-A60D-5B6E4A38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4D1FCF-A3A2-4EBF-B672-A4AC6FB5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FE43D0-BC50-4283-B8FA-24E09818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1A3484-EB4C-4D5F-8507-CDEAA7DE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D01725-B91B-4CA3-A2C2-E11CE9D5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D05268-28BB-4899-8135-608B90BC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321561-55FC-4C1D-8ECF-5B0622B0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F6949D-3CCD-48AF-AED2-840CA440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DF8E40-6B3D-453F-ADA6-02BC0BAA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793C97-B999-47BB-9625-925B6728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FB5A39-895B-4E62-AE86-425CF701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CA94-0811-4F88-AB8B-A0CBD865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3B2AD2-8473-4D28-AC5B-D492552C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C5CB50-888D-4520-B6F3-F3414BAE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511F08-3B33-4868-BDFD-24B8FC84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573412-80C2-472F-A056-8F52C1E6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BDB7B3-8674-4F03-9B62-CFB36254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5F271E-C627-43E3-87D9-658D63AC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8B1F03-7F30-43B9-8ED6-45C12B3B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A702D2-D11D-4EE8-814C-14374EFE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CA97E4-F602-4F1E-8C4B-3C70C7CD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3074-C3D0-44CE-9D1B-CC38EB58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11F5-D977-4AEB-9D48-376AF34F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1C408-EB44-4177-9363-213C57EF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83B6A-C4ED-456F-A58F-3B4EC8ED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644B3-5DBA-4411-A48C-59DC0E4A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5684C-A317-4E01-9255-73B8B7D8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4DA78-35A0-4615-87B5-322B7975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DDE8-83BE-40B6-B4AB-F5D75FEF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32262-F3A8-4E44-B83E-368B81D2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21EA0-2498-4752-BA1A-810603E6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29D28-0749-44B7-9810-1AAAA927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4368F-3B49-45C8-8E54-EAEA55BF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3EA63-6E6D-468E-8B08-93B7BF07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587C4-6047-42FD-A3CC-419DCA73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135E0-AF1A-477E-B45D-E63CC4AC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CA80D-34E5-4AC1-86FB-D8709DED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BD9B5-4864-4C60-A4A9-76ECD261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F4025-8A0D-44CB-9FB4-7F2E8C31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600F-F892-4BE4-B5C8-7841E20B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FF627-74F6-489E-8B2C-F2A04572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8D699-5DE2-46DE-8014-9FE20C40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F31E0-ED6B-4308-A8D7-DFE85F6C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3DB01-68B4-498D-9A92-21783BD1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89DDF-148A-4C0E-AC36-DB130571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5703E-40CC-49B8-AC47-A7252A7E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BF5A7-365C-423C-B628-C9FECB36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06D96-6935-4DA3-8F0F-31D3005D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21D26-83AD-40A4-8E41-2C417E4B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70E57-DEFD-40CD-8698-881E944F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DD1-D0C9-48DC-BE83-B96FCA57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67D03-B5DD-4201-8EC7-EBB4C307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C60C6-E69A-4776-A0C7-6678D9FB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FECAB-F0C8-4EFB-85B7-1C8F02FB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A6A28-6448-4997-9B5D-B51F3E58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16BF7-C61E-45A9-8062-529827CF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97257-D419-4622-AF4B-999B26DF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ABE0E-2700-4DE6-BDB5-D7F4B4F9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54651-62AD-4179-A9B9-01C06E1D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68007-BD7C-453C-AF28-2431891B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F3A97-B87E-4590-A7BD-A9F69FB8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B2E4-539B-4F94-813A-96CEDDC7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570B1-5807-4D70-8A8C-A70C563A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6D9628-6859-47DA-B9B2-5D1288DC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E13EBB-77C9-4AA7-B23A-82ACEBB0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433F1C-E8AB-4C99-93F7-573221FA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F34313-A33E-4F48-A235-AE5D4136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37C2F5-3DA1-4EE0-9DED-2B775D6D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51F86B-BEE1-4D50-8881-7162A0D1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ADEFC1-A72A-4D73-8EFD-83772FA8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116833-9097-4C9B-9F04-8C3B3B55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468C0D-B003-4778-9654-7DC5EDAC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E03C-987D-4CFA-8A5C-565F8F66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9E0D50-B2F9-4083-A8BE-73B8B8AD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C82FA7-6138-4624-B551-33425DE9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3D768C-FD42-4D5C-92D4-1C027C94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4B6F3-D793-47AB-93D7-702F23EB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A1591-EE12-4A4B-B368-97D7B3F8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068C6-7E22-4810-80A4-A0B9E86A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2CEC9-7F64-46AA-80A5-6E4BA784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EB295-3557-4049-93C8-7F4E3E8E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B7B00-C1F2-4A33-B256-78A3A5CE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CC7B4-7731-4754-A6EB-E648E64E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9394-A70B-4DA8-9122-186D2744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42B49-B98F-4559-995F-85A45068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DE930-E4D0-454E-A967-C03715E0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A7B17-0743-411E-A3CD-7FFA0EF8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D00F6-95C4-4388-956B-D89EF295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810BD-5E65-44C7-82FF-94DDE032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33166E-429A-47A7-B360-E5F6A773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48817D-0110-474C-94D6-BC513525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B1DF85-6152-47C2-9B2D-DE651506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DFCC99-DD14-4EF1-93B6-5CA799A8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6E63BE-8FFC-4639-8A63-74D61323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1DA9-A004-49C8-8203-11FD639B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E1DBB4-3321-4555-A898-193F4630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8D04FA-8AD9-4FCE-9224-B3E24D7B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55EBDE-4739-46DE-A938-97FBBE88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D1B438-7E19-4667-83D7-2117F71B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4BA09C-BFCF-4E4C-ADBA-1612D682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8F3AAA-9C21-44F6-8630-11B1F26B9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D233ED-95B0-4F00-98D9-BD80BB95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2B706F-B89F-4CB5-8EEA-6E9F25BA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2F478E-935D-4D04-80CF-5540D8E9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8A901A-4658-4997-A4F7-88023C6D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93.xml"/><Relationship Id="rId10" Type="http://schemas.openxmlformats.org/officeDocument/2006/relationships/slideLayout" Target="../slideLayouts/slideLayout194.xml"/><Relationship Id="rId11" Type="http://schemas.openxmlformats.org/officeDocument/2006/relationships/slideLayout" Target="../slideLayouts/slideLayout195.xml"/><Relationship Id="rId12" Type="http://schemas.openxmlformats.org/officeDocument/2006/relationships/slideLayout" Target="../slideLayouts/slideLayout196.xml"/><Relationship Id="rId13" Type="http://schemas.openxmlformats.org/officeDocument/2006/relationships/slideLayout" Target="../slideLayouts/slideLayout197.xml"/><Relationship Id="rId14" Type="http://schemas.openxmlformats.org/officeDocument/2006/relationships/slideLayout" Target="../slideLayouts/slideLayout198.xml"/><Relationship Id="rId15" Type="http://schemas.openxmlformats.org/officeDocument/2006/relationships/slideLayout" Target="../slideLayouts/slideLayout199.xml"/><Relationship Id="rId16" Type="http://schemas.openxmlformats.org/officeDocument/2006/relationships/slideLayout" Target="../slideLayouts/slideLayout200.xml"/><Relationship Id="rId17" Type="http://schemas.openxmlformats.org/officeDocument/2006/relationships/slideLayout" Target="../slideLayouts/slideLayout201.xml"/><Relationship Id="rId18" Type="http://schemas.openxmlformats.org/officeDocument/2006/relationships/slideLayout" Target="../slideLayouts/slideLayout202.xml"/><Relationship Id="rId19" Type="http://schemas.openxmlformats.org/officeDocument/2006/relationships/slideLayout" Target="../slideLayouts/slideLayout203.xml"/><Relationship Id="rId20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05.xml"/><Relationship Id="rId11" Type="http://schemas.openxmlformats.org/officeDocument/2006/relationships/slideLayout" Target="../slideLayouts/slideLayout206.xml"/><Relationship Id="rId12" Type="http://schemas.openxmlformats.org/officeDocument/2006/relationships/slideLayout" Target="../slideLayouts/slideLayout207.xml"/><Relationship Id="rId13" Type="http://schemas.openxmlformats.org/officeDocument/2006/relationships/slideLayout" Target="../slideLayouts/slideLayout208.xml"/><Relationship Id="rId14" Type="http://schemas.openxmlformats.org/officeDocument/2006/relationships/slideLayout" Target="../slideLayouts/slideLayout209.xml"/><Relationship Id="rId15" Type="http://schemas.openxmlformats.org/officeDocument/2006/relationships/slideLayout" Target="../slideLayouts/slideLayout210.xml"/><Relationship Id="rId16" Type="http://schemas.openxmlformats.org/officeDocument/2006/relationships/slideLayout" Target="../slideLayouts/slideLayout211.xml"/><Relationship Id="rId17" Type="http://schemas.openxmlformats.org/officeDocument/2006/relationships/slideLayout" Target="../slideLayouts/slideLayout212.xml"/><Relationship Id="rId18" Type="http://schemas.openxmlformats.org/officeDocument/2006/relationships/slideLayout" Target="../slideLayouts/slideLayout213.xml"/><Relationship Id="rId19" Type="http://schemas.openxmlformats.org/officeDocument/2006/relationships/slideLayout" Target="../slideLayouts/slideLayout214.xml"/><Relationship Id="rId20" Type="http://schemas.openxmlformats.org/officeDocument/2006/relationships/slideLayout" Target="../slideLayouts/slideLayout215.xml"/><Relationship Id="rId21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17.xml"/><Relationship Id="rId11" Type="http://schemas.openxmlformats.org/officeDocument/2006/relationships/slideLayout" Target="../slideLayouts/slideLayout218.xml"/><Relationship Id="rId12" Type="http://schemas.openxmlformats.org/officeDocument/2006/relationships/slideLayout" Target="../slideLayouts/slideLayout219.xml"/><Relationship Id="rId13" Type="http://schemas.openxmlformats.org/officeDocument/2006/relationships/slideLayout" Target="../slideLayouts/slideLayout220.xml"/><Relationship Id="rId14" Type="http://schemas.openxmlformats.org/officeDocument/2006/relationships/slideLayout" Target="../slideLayouts/slideLayout221.xml"/><Relationship Id="rId15" Type="http://schemas.openxmlformats.org/officeDocument/2006/relationships/slideLayout" Target="../slideLayouts/slideLayout222.xml"/><Relationship Id="rId16" Type="http://schemas.openxmlformats.org/officeDocument/2006/relationships/slideLayout" Target="../slideLayouts/slideLayout223.xml"/><Relationship Id="rId17" Type="http://schemas.openxmlformats.org/officeDocument/2006/relationships/slideLayout" Target="../slideLayouts/slideLayout224.xml"/><Relationship Id="rId18" Type="http://schemas.openxmlformats.org/officeDocument/2006/relationships/slideLayout" Target="../slideLayouts/slideLayout225.xml"/><Relationship Id="rId19" Type="http://schemas.openxmlformats.org/officeDocument/2006/relationships/slideLayout" Target="../slideLayouts/slideLayout226.xml"/><Relationship Id="rId20" Type="http://schemas.openxmlformats.org/officeDocument/2006/relationships/slideLayout" Target="../slideLayouts/slideLayout227.xml"/><Relationship Id="rId21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3EA2-D322-4CB2-90A6-F664B043A8D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3726-771F-4810-A16E-9F1B033B997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4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1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2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3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7F4E-05CD-4BDD-9526-B596A1FD0FC5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7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8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4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5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F851-61B5-4BE8-BEC9-19C4D08A6A4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37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38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39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E04B-43FD-4461-9A70-9DB75B2AF500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40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41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42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9E8E-4CFE-4E32-A8FE-9579B0A1B14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43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44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45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0AEA-48D8-46C8-8D46-C3D7CCCDABA3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46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47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48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ACA9-EF24-416A-9E29-66C71C01031B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8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49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750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1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grpSp>
          <p:nvGrpSpPr>
            <p:cNvPr id="752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75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4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755" name="Freeform 9"/>
          <p:cNvGrpSpPr/>
          <p:nvPr/>
        </p:nvGrpSpPr>
        <p:grpSpPr>
          <a:xfrm>
            <a:off x="884160" y="5614920"/>
            <a:ext cx="7394760" cy="547920"/>
            <a:chOff x="884160" y="5614920"/>
            <a:chExt cx="7394760" cy="547920"/>
          </a:xfrm>
        </p:grpSpPr>
        <p:pic>
          <p:nvPicPr>
            <p:cNvPr id="756" name="Freeform 9" descr=""/>
            <p:cNvPicPr/>
            <p:nvPr/>
          </p:nvPicPr>
          <p:blipFill>
            <a:blip r:embed="rId5"/>
            <a:stretch/>
          </p:blipFill>
          <p:spPr>
            <a:xfrm>
              <a:off x="884160" y="5614920"/>
              <a:ext cx="73947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 rot="10800000">
              <a:off x="891720" y="5617800"/>
              <a:ext cx="7381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758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9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60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dt" idx="49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ftr" idx="50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sldNum" idx="51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783B-7606-46B2-9AEE-D97D6BFE47CA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9"/>
    <p:sldLayoutId id="2147483858" r:id="rId10"/>
    <p:sldLayoutId id="2147483859" r:id="rId11"/>
    <p:sldLayoutId id="2147483860" r:id="rId12"/>
    <p:sldLayoutId id="2147483861" r:id="rId13"/>
    <p:sldLayoutId id="2147483862" r:id="rId14"/>
    <p:sldLayoutId id="2147483863" r:id="rId15"/>
    <p:sldLayoutId id="2147483864" r:id="rId16"/>
    <p:sldLayoutId id="2147483865" r:id="rId17"/>
    <p:sldLayoutId id="2147483866" r:id="rId18"/>
    <p:sldLayoutId id="2147483867" r:id="rId19"/>
    <p:sldLayoutId id="2147483868" r:id="rId20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04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805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grpSp>
          <p:nvGrpSpPr>
            <p:cNvPr id="807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808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9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810" name="Freeform 1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811" name="Freeform 10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813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4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5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6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817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52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3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4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304D-A727-483F-98A2-BA7A395503AE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10"/>
    <p:sldLayoutId id="2147483871" r:id="rId11"/>
    <p:sldLayoutId id="2147483872" r:id="rId12"/>
    <p:sldLayoutId id="2147483873" r:id="rId13"/>
    <p:sldLayoutId id="2147483874" r:id="rId14"/>
    <p:sldLayoutId id="2147483875" r:id="rId15"/>
    <p:sldLayoutId id="2147483876" r:id="rId16"/>
    <p:sldLayoutId id="2147483877" r:id="rId17"/>
    <p:sldLayoutId id="2147483878" r:id="rId18"/>
    <p:sldLayoutId id="2147483879" r:id="rId19"/>
    <p:sldLayoutId id="2147483880" r:id="rId20"/>
    <p:sldLayoutId id="2147483881" r:id="rId21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61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86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grpSp>
          <p:nvGrpSpPr>
            <p:cNvPr id="864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86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867" name="Freeform 3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868" name="Freeform 30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870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1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2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3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87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1832-4666-4881-B764-214826009A37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10"/>
    <p:sldLayoutId id="2147483884" r:id="rId11"/>
    <p:sldLayoutId id="2147483885" r:id="rId12"/>
    <p:sldLayoutId id="2147483886" r:id="rId13"/>
    <p:sldLayoutId id="2147483887" r:id="rId14"/>
    <p:sldLayoutId id="2147483888" r:id="rId15"/>
    <p:sldLayoutId id="2147483889" r:id="rId16"/>
    <p:sldLayoutId id="2147483890" r:id="rId17"/>
    <p:sldLayoutId id="2147483891" r:id="rId18"/>
    <p:sldLayoutId id="2147483892" r:id="rId19"/>
    <p:sldLayoutId id="2147483893" r:id="rId20"/>
    <p:sldLayoutId id="2147483894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B0E4-2A61-493B-BF2F-B24DC1FE15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91B9-6358-4E9C-8FD5-2D6E9791F06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33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34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grpSp>
          <p:nvGrpSpPr>
            <p:cNvPr id="136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37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139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140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42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44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E56A-6863-48FF-A25E-86A62912C538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4854-0237-4806-9D5B-1F617ACC652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4CF2-445F-4E13-A6C8-2BA58136687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05E9-E271-4D1F-BE70-D00D2E28914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B87C-582A-41DE-9D85-DFE83A35AF6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2892-358F-49D9-85EF-8E45E63E365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Родительское собрани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в 9-х классах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b0f0"/>
                </a:solidFill>
                <a:latin typeface="Arial"/>
              </a:rPr>
              <a:t>«Готовим детей к ЕГЭ»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У д/с №181, г. Москва, СВА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дагог-психоло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ролова Светлана Серг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285560" y="0"/>
            <a:ext cx="61722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Calibri"/>
              </a:rPr>
              <a:t>ДЕТИ «ГРУППЫ РИС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142920" y="428760"/>
          <a:ext cx="8786880" cy="6286320"/>
        </p:xfrm>
        <a:graphic>
          <a:graphicData uri="http://schemas.openxmlformats.org/drawingml/2006/table">
            <a:tbl>
              <a:tblPr/>
              <a:tblGrid>
                <a:gridCol w="2197080"/>
                <a:gridCol w="2197080"/>
                <a:gridCol w="2195640"/>
                <a:gridCol w="2197080"/>
              </a:tblGrid>
              <a:tr h="4109760"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авополушарные де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indent="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гатое воображе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indent="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рошо развито образное мышле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indent="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рошо воспринимают метафоры, образы, сравн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indent="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ряются при необходимости мыслить логическими категория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indent="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ираются в большей степи на общее, а не на частност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indent="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о внимания уделяют деталям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Тревожные де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спринимают любую ситуацию, связанную с учёбой, как опасность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вогу у них вызывает проверка знаний в любом вид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умеют опираться на собственное мнени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могут самостоятельно проверить качество своей работы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рошо выполняют задание, где требуется работать по образцу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ети, испытывающие недостаток произвольности и самоорганиза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внимательные, рассеянные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устойчивая работоспособность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ебания темпа деятельност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асто отвлекаются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marL="68400" algn="ctr">
                        <a:lnSpc>
                          <a:spcPct val="100000"/>
                        </a:lnSpc>
                        <a:tabLst>
                          <a:tab algn="l" pos="0"/>
                          <a:tab algn="l" pos="33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ерфекционисты и «отличники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684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33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ая успеваемость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684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33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ветственность, организованность, исполнительность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684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33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емятся сделать всё лучше всех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684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33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увствительны к похвал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6560">
                <a:tc>
                  <a:txBody>
                    <a:bodyPr lIns="36720" rIns="36720" tIns="0" bIns="0" anchor="t">
                      <a:noAutofit/>
                    </a:bodyPr>
                    <a:p>
                      <a:pPr marL="88920" indent="-88920"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Астеничные де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88920" indent="-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ая утомляемость, истощаемость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88920" indent="-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кое увеличение количества ошибок при усталост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Гипертимные де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нергичные, активные.Импульсивные.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ыстро выполняют задания. Не проверяют себя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небрегают точностью и аккуратностью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marL="165240" algn="ctr">
                        <a:lnSpc>
                          <a:spcPct val="100000"/>
                        </a:lnSpc>
                        <a:tabLst>
                          <a:tab algn="l" pos="0"/>
                          <a:tab algn="l" pos="434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Застревающие де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1652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434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 трудом переключаются с одного задания на друго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1652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434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ительный ориентировочный период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Аудиалы и кинестети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учше усваивают информацию на слух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учше усваивают информацию с помощью двигательных действий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СТРАТЕГИИ ПОДДЕРЖ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142920" y="428760"/>
          <a:ext cx="8858160" cy="6270480"/>
        </p:xfrm>
        <a:graphic>
          <a:graphicData uri="http://schemas.openxmlformats.org/drawingml/2006/table">
            <a:tbl>
              <a:tblPr/>
              <a:tblGrid>
                <a:gridCol w="2214360"/>
                <a:gridCol w="2214720"/>
                <a:gridCol w="2214720"/>
                <a:gridCol w="2214360"/>
              </a:tblGrid>
              <a:tr h="2643120">
                <a:tc>
                  <a:txBody>
                    <a:bodyPr lIns="31680" rIns="31680" tIns="0" bIns="0" anchor="t">
                      <a:noAutofit/>
                    </a:bodyPr>
                    <a:p>
                      <a:pPr marL="88920" indent="-88920"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авополушарные де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88920" indent="-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ействовать воображение при подготовке (схемы, рисунки, сравнения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88920" indent="-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экзамене больше внимания уделить заданию С, где требуется развернутый ответ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88920" indent="-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выделять главное в каждом вопросе, составлять план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Тревожные де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нагнетать обстановку о предстоящем и результатах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ть эмоциональный комфорт на предэкзаменационном этапе (поощрение, поддержка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ы самовнуше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marL="165240" algn="ctr">
                        <a:lnSpc>
                          <a:spcPct val="100000"/>
                        </a:lnSpc>
                        <a:tabLst>
                          <a:tab algn="l" pos="0"/>
                          <a:tab algn="l" pos="434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ети, испытывающие недостаток произвольности и самоорганиз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1652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434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пользовать материальные средства для регуляции своей деятельности (часы, отмеряющие время выполнения задания; составление плана, списка дел и вычеркивание их по мере выполнения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ерфекционисты и «отличники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ять разницу между «достаточным» выполнением заданий и «превосходным» (на «отл» требуется выполнить не все 100%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засиживаться долго на 1 задании («Переходи к следующему», «пропусти, если не знаешь»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рить сделанное!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7360">
                <a:tc>
                  <a:txBody>
                    <a:bodyPr lIns="31680" rIns="31680" tIns="0" bIns="0" anchor="t">
                      <a:noAutofit/>
                    </a:bodyPr>
                    <a:p>
                      <a:pPr marL="88920" indent="-88920"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Астеничные де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88920" indent="-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предъявлять заведомо невыполнимых ожидани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88920" indent="-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заниматься с утра до вечера. Несколько коротких перемен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88920" indent="-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рывы в занятиях (после 2-х часов), гулять, спать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88920" indent="-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вяные чаи, витамин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Гипертимные де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вивать функцию контроля, самопроверки: «Сделал- проверь»!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ть ощущение важности ситуации экзамена, объяснить значение результатов ЕГЭ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marL="165240" algn="ctr">
                        <a:lnSpc>
                          <a:spcPct val="100000"/>
                        </a:lnSpc>
                        <a:tabLst>
                          <a:tab algn="l" pos="0"/>
                          <a:tab algn="l" pos="434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Застревающие де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1652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434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спределение времени на каждую работу, задание с помощью часов (например: 5*12=60 минут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1652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434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ли долго сидит на одном задании и не получается: «Переходи к следующему, потом вернешься к этому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Аудиалы и кинестети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тко сформулировать для себя, как лучше усваивать учебный материал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Аудиалу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 При заучивании проговаривать вслух материал самому или слушать другого (сверстник, взрослый, аудиозапись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торять материал, беседуя с др. людьм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экзамене тихо проговаривать задание вслух, чтобы осмыслить суть задания, решение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Кинестетику: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оминать материал через действия: сокращенно записывая, зарисовывая, выполняя лабораторные и практические работы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ть лучше не за столом, а в свободной позе на диване. Текст можно запоминать, пересказывая его на ходу, жестикулируя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 выучиванием билетов можно вводить элементы движения: зарядку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 время проведения экзамена помогать себе простыми движениями (подвигать ногами под столом, повертеть ручку в руках, почесать голову).  Включить  двигательную активность (выйти, передохнуть, обдумать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 txBox="1"/>
          <p:nvPr/>
        </p:nvSpPr>
        <p:spPr>
          <a:xfrm>
            <a:off x="357120" y="4287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иемы заучивания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☻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механическое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☻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смысловое (логическое)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(эффективность в 20 раз выше!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«Лучше 2 раза прочитать текст и 2 раза воспроизвести, чем читать бесперебойно 8 раз»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Century Schoolbook"/>
              </a:rPr>
              <a:t>- Прочтение текста и разделение на част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Century Schoolbook"/>
              </a:rPr>
              <a:t>- Составление плана к тексту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Century Schoolbook"/>
              </a:rPr>
              <a:t>-Осмысливание и пересказ каждого пункта плана отдельно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Century Schoolbook"/>
              </a:rPr>
              <a:t>-Пересказ в целом всего текста в соответствии с планом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1" name="Rectangle 1"/>
          <p:cNvSpPr/>
          <p:nvPr/>
        </p:nvSpPr>
        <p:spPr>
          <a:xfrm>
            <a:off x="357120" y="179028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Логический пересказ включает: логическое осмысление материала, выделение главных логических компонентов информации, пересказ своими словам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9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183520" cy="8366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8e49"/>
                </a:solidFill>
                <a:latin typeface="Century Schoolbook"/>
              </a:rPr>
              <a:t>ВНИМАНИЕ, СОСРЕДОТОЧЕННОСТЬ НА МАТЕРИАЛЕ В МОМЕНТ ЗАУЧИВАНИЯ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500040" y="1642680"/>
            <a:ext cx="8183520" cy="490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- не перегружать внимание во время занятий большим кол-вом предметов на стол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- работать «блоками»: 30-40 минут занятий и короткий отд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960" indent="-264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- разнообразить виды занятий (говорение, слушание, письмо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- не злоупотреблять телевизором, компьютером, музыко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6868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ff3300"/>
                </a:solidFill>
                <a:uFillTx/>
                <a:latin typeface="Century Schoolbook"/>
              </a:rPr>
              <a:t>САМОРЕГУЛЯЦИЯ ПРИ СТРЕССЕ</a:t>
            </a:r>
            <a:br>
              <a:rPr sz="2700"/>
            </a:br>
            <a:r>
              <a:rPr b="1" i="1" lang="ru-RU" sz="1800" spc="-1" strike="noStrike">
                <a:solidFill>
                  <a:srgbClr val="00cc00"/>
                </a:solidFill>
                <a:latin typeface="Century Schoolbook"/>
              </a:rPr>
              <a:t>СОСТОЯНИЕ НЕРВНО-ПСИХИЧЕСКОЙ НАПРЯЖЕННОСТИ, УТОМЛЕНИЯ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285840" y="1285920"/>
            <a:ext cx="4214880" cy="3929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663300"/>
                </a:solidFill>
                <a:uFillTx/>
                <a:latin typeface="Century Schoolbook"/>
              </a:rPr>
              <a:t>Естественные способы регуляции</a:t>
            </a:r>
            <a:r>
              <a:rPr b="0" lang="ru-RU" sz="1600" spc="-1" strike="noStrike" u="sng">
                <a:solidFill>
                  <a:srgbClr val="663300"/>
                </a:solidFill>
                <a:uFillTx/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Century Schoolbook"/>
              </a:rPr>
              <a:t>смех, юмор, дурачество (позитивное настроение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Comic Sans MS"/>
              </a:rPr>
              <a:t>восстановление ресурсов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Comic Sans MS"/>
              </a:rPr>
              <a:t>     </a:t>
            </a:r>
            <a:r>
              <a:rPr b="0" i="1" lang="ru-RU" sz="1600" spc="-1" strike="noStrike">
                <a:solidFill>
                  <a:srgbClr val="663300"/>
                </a:solidFill>
                <a:latin typeface="Comic Sans MS"/>
              </a:rPr>
              <a:t>организма (полноценный сон (+ дневной), полезная еда (мед, орехи, шоколад, травяные чаи)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Century Schoolbook"/>
              </a:rPr>
              <a:t>общение с природой и животными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Comic Sans MS"/>
              </a:rPr>
              <a:t>телесное расслабление (водные процедуры, массаж, качели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Century Schoolbook"/>
              </a:rPr>
              <a:t>танцы, музыка (слушание, пение), рисование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Comic Sans MS"/>
              </a:rPr>
              <a:t>прогулки на свежем воздухе, спортивные игры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Century Schoolbook"/>
              </a:rPr>
              <a:t>другие способы, индивидуально подходящие для человек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4857840" y="1356840"/>
            <a:ext cx="3749760" cy="39099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ff9900"/>
                </a:solidFill>
                <a:uFillTx/>
                <a:latin typeface="Century Schoolbook"/>
              </a:rPr>
              <a:t>Способы саморегуляции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1900" spc="-1" strike="noStrike">
                <a:solidFill>
                  <a:srgbClr val="000000"/>
                </a:solidFill>
                <a:latin typeface="Comic Sans MS"/>
              </a:rPr>
              <a:t>Саморегуляция —это управление своим психоэмоциональным состоянием, достигаемое путем воздействия человека на самого себя с помощью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66"/>
                </a:solidFill>
                <a:latin typeface="Century Schoolbook"/>
              </a:rPr>
              <a:t>управления дыханием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66"/>
                </a:solidFill>
                <a:latin typeface="Century Schoolbook"/>
              </a:rPr>
              <a:t>управления тонусом мышц, движением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66"/>
                </a:solidFill>
                <a:latin typeface="Century Schoolbook"/>
              </a:rPr>
              <a:t>воздействия словом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66"/>
                </a:solidFill>
                <a:latin typeface="Century Schoolbook"/>
              </a:rPr>
              <a:t>использования мысленных образов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937" name=""/>
          <p:cNvGraphicFramePr/>
          <p:nvPr/>
        </p:nvGraphicFramePr>
        <p:xfrm>
          <a:off x="571680" y="5429160"/>
          <a:ext cx="7786440" cy="1071720"/>
        </p:xfrm>
        <a:graphic>
          <a:graphicData uri="http://schemas.openxmlformats.org/drawingml/2006/table">
            <a:tbl>
              <a:tblPr/>
              <a:tblGrid>
                <a:gridCol w="2595240"/>
                <a:gridCol w="2768760"/>
                <a:gridCol w="2422440"/>
              </a:tblGrid>
              <a:tr h="1071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ффект успокоения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устранение эмоциональной напряженности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ффект восстановлен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ослабление проявлений утомле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ффект активизаци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повышение психофизиологической реактивност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</a:tr>
            </a:tbl>
          </a:graphicData>
        </a:graphic>
      </p:graphicFrame>
    </p:spTree>
  </p:cSld>
  <p:transition>
    <p:pull dir="r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" dur="2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9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500"/>
                            </p:stCondLst>
                            <p:childTnLst>
                              <p:par>
                                <p:cTn id="1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9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500"/>
                            </p:stCondLst>
                            <p:childTnLst>
                              <p:par>
                                <p:cTn id="1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9500"/>
                            </p:stCondLst>
                            <p:childTnLst>
                              <p:par>
                                <p:cTn id="1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e8637"/>
                </a:solidFill>
                <a:latin typeface="Century Schoolbook"/>
              </a:rPr>
              <a:t>ФОРМУЛЫ САМОВНУШ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914400" y="928440"/>
            <a:ext cx="7772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Это простые, краткие утверждени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зитивной направленности (без частицы «не»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амоприказы (распоряжения сделанные самому себе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амопрограммирование на уверенность, на успокоение или активизацию себ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ысленное повторение формулы несколько раз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00"/>
                </a:solidFill>
                <a:latin typeface="Century Schoolbook"/>
              </a:rPr>
              <a:t>Сегодня у меня все получитс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00"/>
                </a:solidFill>
                <a:latin typeface="Century Schoolbook"/>
              </a:rPr>
              <a:t>Сегодня я буду спокойной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00"/>
                </a:solidFill>
                <a:latin typeface="Century Schoolbook"/>
              </a:rPr>
              <a:t> </a:t>
            </a:r>
            <a:r>
              <a:rPr b="1" i="1" lang="ru-RU" sz="1800" spc="-1" strike="noStrike">
                <a:solidFill>
                  <a:srgbClr val="00cc00"/>
                </a:solidFill>
                <a:latin typeface="Century Schoolbook"/>
              </a:rPr>
              <a:t>находчивой, уверенной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00"/>
                </a:solidFill>
                <a:latin typeface="Century Schoolbook"/>
              </a:rPr>
              <a:t>Я решал задачи и посложнее. Решу и эту!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272880"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272880" algn="ctr">
              <a:lnSpc>
                <a:spcPct val="15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Franklin Gothic Book"/>
              </a:rPr>
              <a:t>☻</a:t>
            </a:r>
            <a:r>
              <a:rPr b="1" i="1" lang="ru-RU" sz="2100" spc="-1" strike="noStrike">
                <a:solidFill>
                  <a:srgbClr val="ff9900"/>
                </a:solidFill>
                <a:latin typeface="Century Schoolbook"/>
              </a:rPr>
              <a:t>Самоодобрение (самопоощрение): «Молодец! Умница! Здорово получилось!»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40" name="Picture 6" descr=""/>
          <p:cNvPicPr/>
          <p:nvPr/>
        </p:nvPicPr>
        <p:blipFill>
          <a:blip r:embed="rId1"/>
          <a:stretch/>
        </p:blipFill>
        <p:spPr>
          <a:xfrm>
            <a:off x="214200" y="4786200"/>
            <a:ext cx="1643040" cy="1704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9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8" dur="500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2" dur="500"/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6" dur="500"/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0" dur="500"/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4" dur="500"/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8" dur="500"/>
                                        <p:tgtEl>
                                          <p:spTgt spid="9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2" dur="500"/>
                                        <p:tgtEl>
                                          <p:spTgt spid="9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500"/>
                            </p:stCondLst>
                            <p:childTnLst>
                              <p:par>
                                <p:cTn id="17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6" dur="500"/>
                                        <p:tgtEl>
                                          <p:spTgt spid="9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9" dur="500"/>
                                        <p:tgtEl>
                                          <p:spTgt spid="9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3" dur="500"/>
                                        <p:tgtEl>
                                          <p:spTgt spid="9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 txBox="1"/>
          <p:nvPr/>
        </p:nvSpPr>
        <p:spPr>
          <a:xfrm>
            <a:off x="642600" y="0"/>
            <a:ext cx="7467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200" spc="-1" strike="noStrike" u="sng">
                <a:solidFill>
                  <a:srgbClr val="00b050"/>
                </a:solidFill>
                <a:uFillTx/>
                <a:latin typeface="Century Gothic"/>
              </a:rPr>
              <a:t>Успехов!!!</a:t>
            </a:r>
            <a:endParaRPr b="0" lang="en-US" sz="8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300" spc="-1" strike="noStrike" u="sng">
                <a:solidFill>
                  <a:srgbClr val="00b050"/>
                </a:solidFill>
                <a:uFillTx/>
                <a:latin typeface="Century Gothic"/>
              </a:rPr>
              <a:t>Успехов!!!</a:t>
            </a:r>
            <a:endParaRPr b="0" lang="en-US" sz="7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 u="sng">
                <a:solidFill>
                  <a:srgbClr val="00b050"/>
                </a:solidFill>
                <a:uFillTx/>
                <a:latin typeface="Century Gothic"/>
              </a:rPr>
              <a:t>Успехов!!!</a:t>
            </a:r>
            <a:endParaRPr b="0" lang="en-US" sz="6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 u="sng">
                <a:solidFill>
                  <a:srgbClr val="00b050"/>
                </a:solidFill>
                <a:uFillTx/>
                <a:latin typeface="Century Gothic"/>
              </a:rPr>
              <a:t>Успехов!!!</a:t>
            </a:r>
            <a:endParaRPr b="0" lang="en-US" sz="5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 u="sng">
                <a:solidFill>
                  <a:srgbClr val="00b050"/>
                </a:solidFill>
                <a:uFillTx/>
                <a:latin typeface="Century Gothic"/>
              </a:rPr>
              <a:t>Успехов!!!</a:t>
            </a:r>
            <a:endParaRPr b="0" lang="en-US" sz="4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 u="sng">
                <a:solidFill>
                  <a:srgbClr val="00b050"/>
                </a:solidFill>
                <a:uFillTx/>
                <a:latin typeface="Century Gothic"/>
              </a:rPr>
              <a:t>Успехов!!!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b050"/>
                </a:solidFill>
                <a:uFillTx/>
                <a:latin typeface="Century Gothic"/>
              </a:rPr>
              <a:t>Успехов!!!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b050"/>
                </a:solidFill>
                <a:uFillTx/>
                <a:latin typeface="Century Gothic"/>
              </a:rPr>
              <a:t>Успехов!!!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09:56:13Z</dcterms:created>
  <dc:creator>1</dc:creator>
  <dc:description/>
  <dc:language>en-US</dc:language>
  <cp:lastModifiedBy>Олег</cp:lastModifiedBy>
  <dcterms:modified xsi:type="dcterms:W3CDTF">2011-12-24T18:55:16Z</dcterms:modified>
  <cp:revision>14</cp:revision>
  <dc:subject/>
  <dc:title>Слайд 1</dc:title>
</cp:coreProperties>
</file>