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32B-3B39-4B81-8766-D333D32FE4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DF66-2916-4F42-8AF7-58CD2BA96F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DE4-9F01-4C1E-954D-C2B8B591D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922A-A331-45F3-966F-EB59F5FFE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4B59-41D0-44EA-8B11-1359DAA31F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537C-8B4C-4F77-9D08-516691A3D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BB3-51D9-4C67-8A4E-E9B8E3D628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5824-19CC-4146-9FE9-61B3067297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FC1-D650-43AB-8E04-2616AE0E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7A8-B0B1-498F-A822-48F74C0E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C3E3AD-8109-4F59-BB2E-62F9226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2517F-9AFC-4139-A6A4-1330FEDB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CE3F1-2BFD-46FB-9802-56062821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B0EE5E-C8B4-4CD7-9ABA-E529DA0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2ADE7-A328-4D32-A796-883B59EB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485BA-613E-4EAB-8CA1-D71DE5C3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568B99-A4F1-4747-9B46-44628923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A58672-8B34-4751-B31E-1F14A030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FD9D7-8E94-43A5-B4DD-B698BA64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41718B-A0B8-4C3F-9580-BED9F5AE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7CB-58C0-46C8-9D0A-3E2F411B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FBCCE7-3861-4A3D-9C47-1D2DCB28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02D159-DD95-47C7-AE9A-799978B9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32CAF0-17DF-4D0C-BF92-BBE58AA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6939D9-203C-4AF8-B1E3-B5B5B2C0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6099C-BEF1-4F5C-9E3C-A595B544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A738EF-C34C-4A2E-81D9-149E25C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B0CCD2-6C06-41B3-ABAE-293B98D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FC3B1A-8DCF-4D26-953E-C1F6C4D9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5E1B5E-4F1E-4CCD-82E4-D7B79021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3DECCD-7C40-43AF-806B-F17E6712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57E-A573-464D-841F-05F37EFB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41E55A-3016-4BE5-959F-34F30E0D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12852-D05F-4866-AC09-695A57C4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1CFA8-6066-4DDD-A511-1A12D8A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DA328-F5BC-4978-A23A-2AE74E8E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BCD82-0640-4F5A-9B88-B243DCF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EE471-1993-48D5-8962-68FE5B86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A8CDB-7AEE-4A68-85AB-91797487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F17A-38C5-4EC8-BD29-3CD7375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7380D-1980-4FCC-9914-8500DFFD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B8219-0DAD-4C0E-B164-CCA7687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4013-4AF6-45C5-A129-AED9478E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CCB8F-47BA-421A-A067-AD944591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0F6BE-01EE-4988-AC02-968D24B2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53D6E-D8A7-440B-9859-75906543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B8154-3A8B-40E8-9182-76BBA69E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15AE9-C2E0-49E3-AD7E-335586F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329A6-439D-47BD-87AA-F40715E1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6B61F-BB6B-4A5F-BAEE-E92502BB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D11BE-C672-4681-89EE-F898FC0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8DF7E-A581-42CA-ADE9-86912E73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E262A-D2C2-43AD-8AF4-817FA3B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5946-6C31-4911-8A01-8702EF8F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6EC62-E7C4-4190-815B-FF96FF6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5BC01-CE87-4E48-859F-594E315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8FAD9-B1C6-4CE7-8B15-907CA77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A0CD7-C818-4A0E-8EF4-67A6E0D5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2A323-D4C2-4A93-8BC5-68D0877F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60C7B-EED1-455E-80F6-6F9D5144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71420-54F1-45A7-855D-327AB6CA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DB44E-51FB-419A-8ECC-3432EB4E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F3D8D-F0BD-499C-9BF1-F0960604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06029-78F2-472B-9AC7-ED0BA00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5BA0-1624-47AA-816E-3EEC088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91B4E-3B24-4B4A-A8B7-E817D4C9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ED6EC-02DF-41EA-89D4-8272637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8D481-2349-4CBA-92E7-E6D7461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2195F-6120-4957-AC98-9A2AC50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5A0BE-10F5-4DB0-86CD-47FB5B26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58C7C-D9C5-489D-944D-49780F14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34CE2-6E4C-4425-9CFB-EA2111B6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10BA5-B2A9-4326-AAD0-79B42505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D1F51-48D0-4959-932B-B150747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294FE-00E5-49AE-94A1-CBCD6C6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F029-62CD-4596-B414-DCDA014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AE890-7F82-4689-82AF-4A02DBF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84FC3-CABF-42B9-9C46-35406B90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4B528-EB64-4D70-BE34-0DCE5DBD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F5624-1570-403D-8478-9CEAFCB2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FD99F-004A-4093-897F-E861D191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1A168-7AA0-4167-BA38-5C7F8AE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1DD42-A38E-4803-8424-9E060B60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0C2DE-A448-4E33-8B94-628EA1E9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20AFC-E342-4AE1-A5EC-A0AF5D93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19B89-A5F5-43BA-AD6A-25A963D7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C454-A69A-4168-BA89-6BA72EFE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0E47B-AB7E-4FE2-B950-E1EB469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B0A2B-CA0C-4D01-AD64-EEF7D7C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3954F-D6DA-4890-9814-407E7228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5ECA7-7703-423F-A195-A7BF17F5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36D72-0649-48FA-B464-10BCF2D9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740B3-0228-4917-B389-9BDC729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EC8A4-45BD-4CAF-8898-42D9B92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2BA5D-B373-457E-93AA-E84B0BA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0A312-BFE2-4E7A-AB17-E2C2692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9AE68-8063-496D-9A8F-CB3603C7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E44-5FBD-41E2-8787-F96AC54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540E5-14CD-4EB6-B330-122A29C5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662E8-C454-409B-B8DF-7B0DD9CC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F87E9-5FAB-4D6D-AD93-41B53A45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A56AF-EF37-4465-A9C8-1B4472F7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2BB5A-2392-4080-BE05-918B6151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C50BE-F349-4036-92E6-1D3EF16F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9AB0E-C65C-474D-B24A-3B3E80DC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19745-027F-4F50-B958-6F35B414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F8634-E1AA-4EA0-94A9-99BE8A6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51F86-0E21-440E-B9B4-E216061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15EE-7BEA-436E-BD9D-51998DB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ED592-86D0-437E-AC5A-03086D71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E5241-D330-4A17-BA99-0676D5B2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65CCE-98D8-49D9-B7E7-D3080255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44024-6D32-4658-8BE4-EA4E362F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F90C0-7E30-4278-BFE8-78CF55C0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02CDE-A22B-4B08-AFB8-AA9A5B53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1B63D-26E0-4D87-8561-449C370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0E423-380C-4189-9526-407DBB03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329BC-ADBD-417C-83DC-D7728BAC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C5544-CDE5-4D2D-9EF9-74C50346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42C-78F9-414D-B10B-9943F757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E141-5FC0-45B5-870A-25169D4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B26E8-49B8-4D1F-9DBD-3337B98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01962-7B0C-442B-9A04-C10867A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37953-2606-47C3-9472-7051305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DD685-1A8A-49BE-A999-798D460B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49A0E-A371-49AF-BF39-568E8463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00BCE-E8CA-40A3-8FEE-14BD3851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76732-2228-4699-956B-78B9FE6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DB631-EE87-4825-9273-2AB00256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FD0D0-2CE0-4EC6-8268-08A8AE31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D6F9A-46A9-4C8B-A4F5-253CE91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4267-21C7-4ECD-8BC2-1FF7E8B7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E1F35-A410-42A0-AFA8-0D9ED58D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FE009-2BC7-474A-B74E-DC4D06C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FA8D2-63EB-491F-B999-5D67C19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374CD-F6DA-4EA0-9446-69526AA0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3F292-B711-43C8-95C0-68C0B97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BD968-D35C-4C21-A0A0-EFD5B161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E1E6F-E496-418A-BAA8-43F4EF7A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A2EC1-6750-4DDD-B3C5-DB92EFA7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2F1AC-A854-4AD6-BDEC-59057EC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5FDB5-61DC-47EC-BB2A-F685AA2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1E26-3312-40CE-9C83-7E3D5FA5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DC2844-7840-4421-8DAF-7B11D62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0616C-68D5-4B4A-A58C-16AB059E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7BE65-430A-4615-A25B-79CCBBC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B5DFD-8B19-4C2C-97F9-22464F3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EF771-5F18-4377-8356-7C4B48A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809B2-6170-4F6A-B71B-613F46D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C3B04-CEFF-4BF0-99EE-F4FE774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A3EA9-ED42-4EDD-96AB-F6E82004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31594-FDFE-4DE1-9DD0-6FA28FF0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4A6C-A455-4C2E-9BCD-D5028CE8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C3E-A5A2-4F6A-B741-293364CA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B86F-5181-458B-A1DC-E3B2184C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F143-4D6C-4CDC-9CC5-E8058E6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775F-AD02-470C-AC57-CFB198CB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3558-6BDC-423A-B5F3-0118767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5DEF-22A4-4ABF-AF46-1272A79E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5A0-47D3-4042-BB0C-3D003FCF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1043-6AA2-4FC8-9F18-D750164C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8C7C-8339-4A68-87DB-AE7C398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8F66-449C-4CA9-9B7D-CAF2D6A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AD04-E9C8-4CD9-BE00-EE875689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B42D-8EC7-47FA-96F2-4A4EEBA1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0C3F-AA1B-40CA-86B1-573FA7A3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7BDB-9497-4E3F-BD8B-606F8A89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A487-B2CF-49A6-9A0A-76B79144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5192C-29C6-450D-A42B-0D8C9717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96AC-DA42-46FC-9CC4-E64ADD3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7FB-48D3-4CEB-9607-266E2546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FF2D-ED05-4F27-8E38-0474061B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DD97-B742-435E-8AEF-8AB41A9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D33D-DFAF-4951-8C43-B17683EC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BA18-79AB-4996-9657-7CBDE922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ACE0-EDE7-4717-A1F3-8C3AF64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C576A-6E68-45E5-8F7E-C24255E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F4B8-4481-4C30-89A0-8A7641A1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47FD-8B20-4949-B617-5483EC38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9521-E898-4938-89C3-59D4FF6F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A3F49-BF98-48CE-A949-F38C30E9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9AD-AC39-4359-B9A8-02D5EE6B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4DAE3-C80B-475B-BC39-8F2D0301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B8A6-AD15-49D4-937A-2C6F4CEA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070A-4D4A-4192-87D6-B9CA26B0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7875-4BDB-4CCD-A4F9-F9BE5568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07A9-D7E0-49B8-89DA-0223E519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8B65-32FC-4151-B30F-726282C8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5E28-D5EC-474C-A860-B175E22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4F63-7C8F-417C-9A6E-236F89E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84A7-7733-4F06-A011-2645BCE2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42181-889C-4DF3-911F-BC7ABC71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355-53C3-4E4F-8A1F-9CA82695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50F3-A260-41EA-B91D-CF0B663C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AF7D1-C771-48CC-89E4-6A559661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91A70-2F6B-4A4F-9F87-A32B1B4F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4DBF5-DD2E-44D7-984E-3E542BBA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BCA51-ECD2-4F50-9D00-CF9E8730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776D4-DB56-41B2-8404-A09BE6FA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D7080-489A-4749-AFFB-FADA4B03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95973-FC90-4A34-B68F-891E495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6E21B-191F-4F1A-8728-DC216CD8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37481-4BF6-4F91-AABB-F5BECF20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A5E-108C-4F11-BC5A-A13430B8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0E8A1-80AD-485F-9195-45CD3633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F6BD8-6E61-40E6-8F32-5E2E3F57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6624D-DE37-4F43-9194-A9C32CCD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9696-4D0F-491D-A5D2-B3BBBDB3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50EB-0F51-4B34-9586-6F06F8E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9A474-219A-4DA4-8163-0982E07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7B1BA-B5CF-4C5F-B912-676A58C8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5ED3-4131-45F8-AE8D-D51325D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7C546-DB86-41D0-834F-73F883B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CD200-47D6-44A3-927E-05DFD0D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FFB-0391-48E9-B5CA-FE521F1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AF9F-DB06-42E8-898A-C8E2262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1A4F-09B3-46A1-B375-E7630F2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FA7B-8240-4611-B827-444BC1D4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40AE4-3779-4F6A-B638-12FEC2F6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659B-931D-465D-8438-82B86FE0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421F74-2B68-419D-AB78-3172C6D9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F7E23-CB46-4EDF-BDD4-01ABAB61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73BFB-0FB0-4EFC-AFD6-8AA3CB2E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9EA31-D5DF-44EE-A4B4-DF806B7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F6E569-CB06-4299-B819-762B7D6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205-C7E7-425B-8FBF-B62EDFC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6AB0F-28C9-4FAC-AA7B-1EDF452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22FF9E-545F-4B5A-A433-FD3EBFA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B1656-A6FF-45B6-818B-60B3D926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8C008-0470-4E16-B95D-38F13680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1E499-AE77-4089-84B8-E41AB46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BAAA2-B9B2-4E74-AA05-5095A0EB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232A3-15AA-4445-ABB1-C0BE5BB4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415E3F-9607-48A8-92B5-6A262130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39BD8E-DC4F-47FB-8B8E-D4555423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D9CBB3-9823-4D83-BADC-12277F1A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7D62-5248-4099-BD22-2801FDA2D9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F9E3-84E8-461F-85EB-0C6F125FFD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F9AB-D6FD-45D1-8E2C-2FB188E7F86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6066-6C04-4EEB-BE33-ECC0CAABE35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B27-9FEB-4C6E-84C4-61E167D2B6B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7D31-EF5C-42C4-9730-62175A1A544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4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4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4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B584-2382-419A-A2E9-AF7F12DC5E8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5C52-CC91-402E-8023-FB480357A759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49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50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752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5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55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756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58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60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9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0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1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C822-7C03-403F-BB2A-48FFAAD1C4AC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04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805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807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808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10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811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813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1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2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3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4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98C4-5F8A-48CB-A3ED-6EB2F0BA6984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6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86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86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86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67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868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870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1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7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1F5-E82D-4193-87F8-14252F04AC96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74D-C262-48B3-A2F3-6B6858951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BCEF-4850-4EB5-853B-17ED9431C20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3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34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grpSp>
          <p:nvGrpSpPr>
            <p:cNvPr id="136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3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139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40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B653-479F-4BA8-93FF-BE50C7D738FD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A14E-4A3A-4415-B42A-3E3A2A562F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B3B-B7F2-4B9B-BB42-2C61451CB88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FD11-BF31-4005-BFB7-35C1DA8618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B8A0-EAA4-428E-ABCB-CEFC824961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7F14-0FE9-4AB6-AECC-D2F0EEB59E1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одительское собран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в 9-х класса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b0f0"/>
                </a:solidFill>
                <a:latin typeface="Arial"/>
              </a:rPr>
              <a:t>«Готовим детей к ЕГЭ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У д/с №181, г. Москва, СВА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-психоло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лова Светла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1722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alibri"/>
              </a:rPr>
              <a:t>ДЕТИ «ГРУППЫ РИС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142920" y="428760"/>
          <a:ext cx="8786880" cy="628632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5640"/>
                <a:gridCol w="2197080"/>
              </a:tblGrid>
              <a:tr h="4109760"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ополушар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гатое воображ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развито образное мышл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воспринимают метафоры, образы, срав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ряются при необходимости мыслить логическими категория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раются в большей степи на общее, а не на част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indent="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 внимания уделяют деталя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ревож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ринимают любую ситуацию, связанную с учёбой, как опасн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вогу у них вызывает проверка знаний в любом вид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умеют опираться на собственное мнени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могут самостоятельно проверить качество своей работы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выполняют задание, где требуется работать по образц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ети, испытывающие недостаток произвольности и самоорган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внимательные, рассеянные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устойчивая работоспособность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ебания темпа деятель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о отвлекаютс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marL="68400" algn="ctr">
                        <a:lnSpc>
                          <a:spcPct val="100000"/>
                        </a:lnSpc>
                        <a:tabLst>
                          <a:tab algn="l" pos="0"/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ерфекционисты и «отличник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успеваем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ственность, организованность, исполнительн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емятся сделать всё лучше все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684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33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вствительны к похвал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36720" rIns="3672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стенич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утомляемость, истощаемос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кое увеличение количества ошибок при устал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ипертимны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нергичные, активные.Импульсивные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 выполняют задания. Не проверяют себ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небрегают точностью и аккуратность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астревающие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трудом переключаются с одного задания на друго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тельный ориентировочный перио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ы и кинестет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усваивают информацию на слу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усваивают информацию с помощью двигательных действ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СТРАТЕГИИ ПОДДЕРЖ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42920" y="428760"/>
          <a:ext cx="8858160" cy="627048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2643120">
                <a:tc>
                  <a:txBody>
                    <a:bodyPr lIns="31680" rIns="3168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авополушар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ействовать воображение при подготовке (схемы, рисунки, сравнения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экзамене больше внимания уделить заданию С, где требуется развернутый отве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выделять главное в каждом вопросе, составлять план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ревож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нагнетать обстановку о предстоящем и результатах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эмоциональный комфорт на предэкзаменационном этапе (поощрение, поддержка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ы самовнуш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ети, испытывающие недостаток произвольности и само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овать материальные средства для регуляции своей деятельности (часы, отмеряющие время выполнения задания; составление плана, списка дел и вычеркивание их по мере выполнения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ерфекционисты и «отличник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ять разницу между «достаточным» выполнением заданий и «превосходным» (на «отл» требуется выполнить не все 100%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асиживаться долго на 1 задании («Переходи к следующему», «пропусти, если не знаешь»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ить сделанное!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7360">
                <a:tc>
                  <a:txBody>
                    <a:bodyPr lIns="31680" rIns="31680" tIns="0" bIns="0"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стенич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редъявлять заведомо невыполнимых ожид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аниматься с утра до вечера. Несколько коротких перемен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рывы в занятиях (после 2-х часов), гулять, спа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88920" indent="-889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вяные чаи, витамин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ипертимны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вать функцию контроля, самопроверки: «Сделал- проверь»!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ощущение важности ситуации экзамена, объяснить значение результатов ЕГЭ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marL="165240" algn="ctr">
                        <a:lnSpc>
                          <a:spcPct val="100000"/>
                        </a:lnSpc>
                        <a:tabLst>
                          <a:tab algn="l" pos="0"/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астревающие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ение времени на каждую работу, задание с помощью часов (например: 5*12=60 минут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1652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"/>
                        <a:tabLst>
                          <a:tab algn="l" pos="43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долго сидит на одном задании и не получается: «Переходи к следующему, потом вернешься к этому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ы и кинестет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ко сформулировать для себя, как лучше усваивать учебный материа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удиалу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При заучивании проговаривать вслух материал самому или слушать другого (сверстник, взрослый, аудиозапись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ять материал, беседуя с др. людь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экзамене тихо проговаривать задание вслух, чтобы осмыслить суть задания, решени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инестетику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минать материал через действия: сокращенно записывая, зарисовывая, выполняя лабораторные и практические работы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лучше не за столом, а в свободной позе на диване. Текст можно запоминать, пересказывая его на ходу, жестикулиру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 выучиванием билетов можно вводить элементы движения: зарядк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6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время проведения экзамена помогать себе простыми движениями (подвигать ногами под столом, повертеть ручку в руках, почесать голову).  Включить  двигательную активность (выйти, передохнуть, обдумать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5712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емы заучивания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механическое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мысловое (логическое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(эффективность в 20 раз выше!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«Лучше 2 раза прочитать текст и 2 раза воспроизвести, чем читать бесперебойно 8 раз»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 Прочтение текста и разделение на ча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 Составление плана к текст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Осмысливание и пересказ каждого пункта плана отдельн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Century Schoolbook"/>
              </a:rPr>
              <a:t>-Пересказ в целом всего текста в соответствии с план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357120" y="17902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огический пересказ включает: логическое осмысление материала, выделение главных логических компонентов информации, пересказ своими слов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836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e49"/>
                </a:solidFill>
                <a:latin typeface="Century Schoolbook"/>
              </a:rPr>
              <a:t>ВНИМАНИЕ, СОСРЕДОТОЧЕННОСТЬ НА МАТЕРИАЛЕ В МОМЕНТ ЗАУЧИВАНИЯ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500040" y="1642680"/>
            <a:ext cx="8183520" cy="490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не перегружать внимание во время занятий большим кол-вом предметов на стол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работать «блоками»: 30-40 минут занятий и короткий отд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разнообразить виды занятий (говорение, слушание, письмо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не злоупотреблять телевизором, компьютером, музык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686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3300"/>
                </a:solidFill>
                <a:uFillTx/>
                <a:latin typeface="Century Schoolbook"/>
              </a:rPr>
              <a:t>САМОРЕГУЛЯЦИЯ ПРИ СТРЕССЕ</a:t>
            </a:r>
            <a:br>
              <a:rPr sz="2700"/>
            </a:b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ОСТОЯНИЕ НЕРВНО-ПСИХИЧЕСКОЙ НАПРЯЖЕННОСТИ, УТОМЛЕНИЯ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285840" y="1285920"/>
            <a:ext cx="4214880" cy="3929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3300"/>
                </a:solidFill>
                <a:uFillTx/>
                <a:latin typeface="Century Schoolbook"/>
              </a:rPr>
              <a:t>Естественные способы регуляции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смех, юмор, дурачество (позитивное настроение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восстановление ресурс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0" i="1" lang="ru-RU" sz="1600" spc="-1" strike="noStrike">
                <a:solidFill>
                  <a:srgbClr val="663300"/>
                </a:solidFill>
                <a:latin typeface="Comic Sans MS"/>
              </a:rPr>
              <a:t>организма (полноценный сон (+ дневной), полезная еда (мед, орехи, шоколад, травяные чаи)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общение с природой и животным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телесное расслабление (водные процедуры, массаж, качели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танцы, музыка (слушание, пение), рисовани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прогулки на свежем воздухе, спортивные игры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entury Schoolbook"/>
              </a:rPr>
              <a:t>другие способы, индивидуально подходящие для челове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857840" y="1356840"/>
            <a:ext cx="3749760" cy="390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9900"/>
                </a:solidFill>
                <a:uFillTx/>
                <a:latin typeface="Century Schoolbook"/>
              </a:rPr>
              <a:t>Способы саморегуляци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Comic Sans MS"/>
              </a:rPr>
              <a:t>Саморегуляция —это управление своим психоэмоциональным состоянием, достигаемое путем воздействия человека на самого себя с помощью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управления дыхание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управления тонусом мышц, движение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воздействия слово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66"/>
                </a:solidFill>
                <a:latin typeface="Century Schoolbook"/>
              </a:rPr>
              <a:t>использования мысленных образо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571680" y="5429160"/>
          <a:ext cx="7786440" cy="1071720"/>
        </p:xfrm>
        <a:graphic>
          <a:graphicData uri="http://schemas.openxmlformats.org/drawingml/2006/table">
            <a:tbl>
              <a:tblPr/>
              <a:tblGrid>
                <a:gridCol w="2595240"/>
                <a:gridCol w="2768760"/>
                <a:gridCol w="2422440"/>
              </a:tblGrid>
              <a:tr h="107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успокоен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странение эмоциональной напряженнос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восстановл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ослабление проявлений утом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 активиз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вышение психофизиологической реактивно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e8637"/>
                </a:solidFill>
                <a:latin typeface="Century Schoolbook"/>
              </a:rPr>
              <a:t>ФОРМУЛЫ САМОВНУШ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914400" y="9284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простые, краткие утвержд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зитивной направленности (без частицы «не»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приказы (распоряжения сделанные самому себе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программирование на уверенность, на успокоение или активизацию себ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ысленное повторение формулы несколько раз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егодня у меня все получит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Сегодня я буду спокойной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 </a:t>
            </a: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находчивой, уверенно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00"/>
                </a:solidFill>
                <a:latin typeface="Century Schoolbook"/>
              </a:rPr>
              <a:t>Я решал задачи и посложнее. Решу и эту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272880" algn="ctr"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Franklin Gothic Book"/>
              </a:rPr>
              <a:t>☻</a:t>
            </a:r>
            <a:r>
              <a:rPr b="1" i="1" lang="ru-RU" sz="2100" spc="-1" strike="noStrike">
                <a:solidFill>
                  <a:srgbClr val="ff9900"/>
                </a:solidFill>
                <a:latin typeface="Century Schoolbook"/>
              </a:rPr>
              <a:t>Самоодобрение (самопоощрение): «Молодец! Умница! Здорово получилось!»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40" name="Picture 6" descr=""/>
          <p:cNvPicPr/>
          <p:nvPr/>
        </p:nvPicPr>
        <p:blipFill>
          <a:blip r:embed="rId1"/>
          <a:stretch/>
        </p:blipFill>
        <p:spPr>
          <a:xfrm>
            <a:off x="214200" y="4786200"/>
            <a:ext cx="1643040" cy="170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500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9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500"/>
                                        <p:tgtEl>
                                          <p:spTgt spid="9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64260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2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8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3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7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6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5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4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b050"/>
                </a:solidFill>
                <a:uFillTx/>
                <a:latin typeface="Century Gothic"/>
              </a:rPr>
              <a:t>Успехов!!!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9:56:13Z</dcterms:created>
  <dc:creator>1</dc:creator>
  <dc:description/>
  <dc:language>en-US</dc:language>
  <cp:lastModifiedBy>Олег</cp:lastModifiedBy>
  <dcterms:modified xsi:type="dcterms:W3CDTF">2011-12-24T18:55:16Z</dcterms:modified>
  <cp:revision>14</cp:revision>
  <dc:subject/>
  <dc:title>Слайд 1</dc:title>
</cp:coreProperties>
</file>