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F79F-8DA0-4825-B1B5-6678A45D9E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3869-9EF3-459E-B917-130AF01459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B06D-B32D-454F-8403-4212FC0E1E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051C-9DB2-40E5-94B4-371BA6DE3B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3DA4-516B-402A-A5B3-D49DC59EF2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42A0-2EFD-4F5E-A463-2AA85CA008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8BA7-EC10-483E-9546-4E0FA22DCD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7E06-FBD6-49BE-A2BE-C1629990B1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E6C8-42FF-44F8-A2AF-4A5D8FE0F6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3583-3B04-4019-B079-69935C5243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FFF-5B8B-4ED0-9D3A-BB1495EE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725-1AD7-4219-8BC3-7651723A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1C52-F1A7-47E0-9BCF-D1440347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5DC0-3ED4-48DD-9EEA-031E294E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3E0-666D-4647-82DF-0E3C36D7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D13-CE3E-49BF-AC55-9D830E51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A1A-1B5C-41D8-8A34-0AF96354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565-95B1-46AF-ACED-021A3EAB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4B73-ACBF-4448-98B0-C04A0538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592-3D5D-4695-B5B8-84F4CF58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0C93-DBC7-4241-B0B1-C9312919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9C8F-4B2E-4182-ACB4-34F8BE63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935A-8E7F-458A-B82C-E3F5BBCDB9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500040" y="1601640"/>
            <a:ext cx="8229600" cy="18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2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Georgia"/>
              </a:rPr>
              <a:t>Профессия – «Повар»</a:t>
            </a:r>
            <a:endParaRPr b="1" lang="en-US" sz="6000" spc="1" strike="noStrike">
              <a:ln w="12600">
                <a:solidFill>
                  <a:srgbClr val="ffff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0" name="Содержимое 3" descr="82-1204.JPG"/>
          <p:cNvPicPr/>
          <p:nvPr/>
        </p:nvPicPr>
        <p:blipFill>
          <a:blip r:embed="rId1"/>
          <a:stretch/>
        </p:blipFill>
        <p:spPr>
          <a:xfrm>
            <a:off x="336600" y="3722760"/>
            <a:ext cx="2663640" cy="29923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357120" y="3714840"/>
            <a:ext cx="2643120" cy="42840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357120" y="6072120"/>
            <a:ext cx="2643120" cy="64296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одержимое 2"/>
          <p:cNvSpPr/>
          <p:nvPr/>
        </p:nvSpPr>
        <p:spPr>
          <a:xfrm>
            <a:off x="285840" y="142920"/>
            <a:ext cx="86439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ff00"/>
                </a:solidFill>
                <a:uFillTx/>
                <a:latin typeface="Calibri"/>
              </a:rPr>
              <a:t>Авторы:  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Бельды Наталья,  ученица 9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 Галочкин Алексей, ученик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Воронина Светлана, ученица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 Кузминская Виктория, ученица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 Швец Анастасия, ученица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      </a:t>
            </a:r>
            <a:r>
              <a:rPr b="1" lang="ru-RU" sz="1400" spc="-1" strike="noStrike" u="sng">
                <a:solidFill>
                  <a:srgbClr val="00ff00"/>
                </a:solidFill>
                <a:uFillTx/>
                <a:latin typeface="Calibri"/>
              </a:rPr>
              <a:t> </a:t>
            </a:r>
            <a:r>
              <a:rPr b="1" lang="ru-RU" sz="1400" spc="-1" strike="noStrike" u="sng">
                <a:solidFill>
                  <a:srgbClr val="00ff00"/>
                </a:solidFill>
                <a:uFillTx/>
                <a:latin typeface="Calibri"/>
              </a:rPr>
              <a:t>Руководитель: </a:t>
            </a:r>
            <a:r>
              <a:rPr b="1" lang="ru-RU" sz="1400" spc="-1" strike="noStrike">
                <a:solidFill>
                  <a:srgbClr val="ffff00"/>
                </a:solidFill>
                <a:latin typeface="Calibri"/>
              </a:rPr>
              <a:t>педагог-психолог Паскал   Виктория Викторо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вар — мастер щей, борщ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 рагу из овощ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кусный сварит он бульон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орт испечь сумеет 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орт украсит шоколад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ремом и цукат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Мы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расавцу-торту ра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ъедим его с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ребят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ар и в самом деле умеет вкусно готовить, может аппетитно, красиво оформить любое блюдо: и салат, и тор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237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5480" y="285840"/>
            <a:ext cx="86439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 питания во многом зависит здоровье человека. Еда всухомятку, на бегу, не во­время может привести к болезням желудка, так же как и однообразное питание, в котором не хватает витаминов и других полезных ве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ременный повар работает на специально оборудованной кухне. Чего там только нет! И электро- печи, и холодильные установки, и автоматы для приготовления теста, и разнообразные смесители, и автоматические ножи для чистки и резки овощ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 есть у повара и ручные орудия труда — длинные вилки с двумя зубьями для мяса, огромная разливательная ложка для суп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ар должен обладать великолепной памятью! Он знает и помнит, как готовить те или иные блюда, сколько и каких класть продуктов, какие подавать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арниры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 котлетам, курице, рыбе, мяс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120" y="128592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93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Выбирает профессию повара обык- новенно человек, который любит гото- вить, проявляя при этом фантазию, вы- думку. Многие знаменитые повара сами придумывают новые блюда. Надев белоснежный халат и колпак, повар "колдует" над кастрюлями, что-то сме- шивает, доливает, обжарив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9396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7120" y="1285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ар должен обладать хорошими математическими способностями, так как ему часто приходится рассчитывать время приготовления блюда, а также количество необходимых продуктов, необходимых для приготовления порц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шг87.jpeg"/>
          <p:cNvPicPr/>
          <p:nvPr/>
        </p:nvPicPr>
        <p:blipFill>
          <a:blip r:embed="rId1"/>
          <a:stretch/>
        </p:blipFill>
        <p:spPr>
          <a:xfrm>
            <a:off x="428760" y="428760"/>
            <a:ext cx="3143160" cy="43574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пе65.jpeg"/>
          <p:cNvPicPr/>
          <p:nvPr/>
        </p:nvPicPr>
        <p:blipFill>
          <a:blip r:embed="rId2"/>
          <a:stretch/>
        </p:blipFill>
        <p:spPr>
          <a:xfrm>
            <a:off x="4643280" y="357120"/>
            <a:ext cx="4195800" cy="3286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87орн.jpeg"/>
          <p:cNvPicPr/>
          <p:nvPr/>
        </p:nvPicPr>
        <p:blipFill>
          <a:blip r:embed="rId3"/>
          <a:stretch/>
        </p:blipFill>
        <p:spPr>
          <a:xfrm>
            <a:off x="3505320" y="3648240"/>
            <a:ext cx="3066840" cy="2923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5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" dur="25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8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4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Заголовок 4" descr=""/>
          <p:cNvPicPr/>
          <p:nvPr/>
        </p:nvPicPr>
        <p:blipFill>
          <a:blip r:embed="rId1"/>
          <a:stretch/>
        </p:blipFill>
        <p:spPr>
          <a:xfrm>
            <a:off x="73080" y="1500120"/>
            <a:ext cx="9259920" cy="337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3840" y="759960"/>
            <a:ext cx="8929800" cy="59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ля проверки своего глазомера, определите на глаз, что весит больш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 3 яблока или 10 вишен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 3 лимона или арбуз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 1 хлеб или пачка со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28800" y="1143000"/>
            <a:ext cx="8400960" cy="41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Придумай интересный рецеп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К названиям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- cалат “Нежность”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- суп “Умник”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- торт “Справедливость”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- печенье “Улыбка”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3:52:46Z</dcterms:created>
  <dc:creator>addvisor</dc:creator>
  <dc:description/>
  <dc:language>en-US</dc:language>
  <cp:lastModifiedBy>Пользователь</cp:lastModifiedBy>
  <dcterms:modified xsi:type="dcterms:W3CDTF">2013-07-13T08:30:23Z</dcterms:modified>
  <cp:revision>5</cp:revision>
  <dc:subject/>
  <dc:title>Слайд 1</dc:title>
</cp:coreProperties>
</file>