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54DA-5FF4-440F-B0F5-995638A84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370E-CC38-4779-AEDD-B7C7C37F2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89EA-EA2E-40FB-AFC8-F1973C2C4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9556-67EB-4966-BA09-0DAA0CE63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72D6-9EF8-4BC0-AF7B-AD9D660A5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3F3-6C8A-4C3C-8335-67C4A4DFB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E551-62F0-4947-8832-1DA5D3F82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2CF1-C6BA-4A74-808E-7331CCA81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44F6-5AC9-4FE1-BFD0-CF176EFA3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898A-4676-4516-A10B-0768A264D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B28-5954-4A04-855C-57FD657A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DF8-2B65-43B3-8A67-DC75D9AC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63F-E57D-46E5-A6FA-E41B8A61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97D-553D-4B50-B9C5-D86CEFC1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419-0B66-454D-84A2-A4651F1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32C-4300-4B65-B890-1BB4F8E1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F5F-1128-46E0-8F7F-C4F2BA7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FE8-6E62-4B00-9D40-22DD9ECB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E96-70CD-4B52-8453-3BB787F9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FC7-3580-483F-B098-09C27756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E2E-42AA-4BA7-ABC4-DE2B860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CED-5169-4846-A7FA-09E176B6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936-67DF-4368-9A24-ABB4D8401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500040" y="1601640"/>
            <a:ext cx="822960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Профессия – «Повар»</a:t>
            </a:r>
            <a:endParaRPr b="1" lang="en-US" sz="6000" spc="1" strike="noStrike">
              <a:ln w="1260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0" name="Содержимое 3" descr="82-1204.JPG"/>
          <p:cNvPicPr/>
          <p:nvPr/>
        </p:nvPicPr>
        <p:blipFill>
          <a:blip r:embed="rId1"/>
          <a:stretch/>
        </p:blipFill>
        <p:spPr>
          <a:xfrm>
            <a:off x="336600" y="3722760"/>
            <a:ext cx="2663640" cy="2992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57120" y="3714840"/>
            <a:ext cx="264312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357120" y="6072120"/>
            <a:ext cx="2643120" cy="64296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285840" y="142920"/>
            <a:ext cx="8643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Авторы:  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Бельды Наталья,  ученица 9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Галочкин Алексей, ученик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Воронина Светлана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Кузминская Виктория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Швец Анастасия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     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Руководитель: </a:t>
            </a: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педагог-психолог Паскал   Виктория Викто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вар — мастер щей, бор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 рагу из овощ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кусный сварит он бульо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орт испечь сумеет 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орт украсит шоколад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ремом и цукат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Мы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расавцу-торту р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ъедим его с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ребя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ар и в самом деле умеет вкусно готовить, может аппетитно, красиво оформить любое блюдо: и салат, и тор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480" y="285840"/>
            <a:ext cx="8643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питания во многом зависит здоровье человека. Еда всухомятку, на бегу, не во­время может привести к болезням желудка, так же как и однообразное питание, в котором не хватает витаминов и других полез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ременный повар работает на специально оборудованной кухне. Чего там только нет! И электро- печи, и холодильные установки, и автоматы для приготовления теста, и разнообразные смесители, и автоматические ножи для чистки и резки овощ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есть у повара и ручные орудия труда — длинные вилки с двумя зубьями для мяса, огромная разливательная ложка для суп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ар должен обладать великолепной памятью! Он знает и помнит, как готовить те или иные блюда, сколько и каких класть продуктов, какие подавать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арнир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котлетам, курице, рыбе, мя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12859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93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ыбирает профессию повара обык- новенно человек, который любит гото- вить, проявляя при этом фантазию, вы- думку. Многие знаменитые повара сами придумывают новые блюда. Надев белоснежный халат и колпак, повар "колдует" над кастрюлями, что-то сме- шивает, доливает, обжари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9396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28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ар должен обладать хорошими математическими способностями, так как ему часто приходится рассчитывать время приготовления блюда, а также количество необходимых продуктов, необходимых для приготовления порц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шг87.jpeg"/>
          <p:cNvPicPr/>
          <p:nvPr/>
        </p:nvPicPr>
        <p:blipFill>
          <a:blip r:embed="rId1"/>
          <a:stretch/>
        </p:blipFill>
        <p:spPr>
          <a:xfrm>
            <a:off x="428760" y="428760"/>
            <a:ext cx="3143160" cy="4357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пе65.jpeg"/>
          <p:cNvPicPr/>
          <p:nvPr/>
        </p:nvPicPr>
        <p:blipFill>
          <a:blip r:embed="rId2"/>
          <a:stretch/>
        </p:blipFill>
        <p:spPr>
          <a:xfrm>
            <a:off x="4643280" y="357120"/>
            <a:ext cx="4195800" cy="3286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87орн.jpeg"/>
          <p:cNvPicPr/>
          <p:nvPr/>
        </p:nvPicPr>
        <p:blipFill>
          <a:blip r:embed="rId3"/>
          <a:stretch/>
        </p:blipFill>
        <p:spPr>
          <a:xfrm>
            <a:off x="3505320" y="3648240"/>
            <a:ext cx="3066840" cy="292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4" descr=""/>
          <p:cNvPicPr/>
          <p:nvPr/>
        </p:nvPicPr>
        <p:blipFill>
          <a:blip r:embed="rId1"/>
          <a:stretch/>
        </p:blipFill>
        <p:spPr>
          <a:xfrm>
            <a:off x="73080" y="1500120"/>
            <a:ext cx="9259920" cy="337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840" y="759960"/>
            <a:ext cx="89298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ля проверки своего глазомера, определите на глаз, что весит больш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3 яблока или 10 вишен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3 лимона или арбу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1 хлеб или пачка с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28800" y="1143000"/>
            <a:ext cx="8400960" cy="41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Придумай интересный рецеп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К названия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cалат “Нежность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суп “Умник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торт “Справедливость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печенье “Улыбка”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52:46Z</dcterms:created>
  <dc:creator>addvisor</dc:creator>
  <dc:description/>
  <dc:language>en-US</dc:language>
  <cp:lastModifiedBy>Пользователь</cp:lastModifiedBy>
  <dcterms:modified xsi:type="dcterms:W3CDTF">2013-07-13T08:30:23Z</dcterms:modified>
  <cp:revision>5</cp:revision>
  <dc:subject/>
  <dc:title>Слайд 1</dc:title>
</cp:coreProperties>
</file>