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CB96-E1C8-487F-A560-90730765E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D8D-4083-481D-ACBC-FA34C384E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BA2-FA4E-4349-9F0B-E09BBB712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D333-5B19-406B-A7D2-936295164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D57E-2AE9-4764-9C43-44F2B5542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3C4-4C46-4238-8F0C-BF35E47BB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B855-7A75-4EFE-B13C-ECECB3851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180A-840B-4DC8-91E9-3D52E4A5C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633-FC66-4331-8A09-F0D287BCA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3DC3-FC7D-4ABE-99D4-B5C8BCE74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7C6-CE49-4FE6-8A5D-5954371E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6BF-0234-43EE-8A08-B56EF0E2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0E1-9618-4256-B0ED-D18DC9F0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02D-CF3A-4742-B68B-AF632E8B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612-A062-48BC-B941-A6149CA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61C-57EC-4F5D-933B-3D06DF5D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DD0-B86C-40AB-818E-CDC8E580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5B8-CF1B-4A93-AFA2-D5E3EFB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4FB-E411-4433-90D3-00A7AFCC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850-3367-4406-9872-A92FBD6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0D-9D4A-4432-88DD-9566AD2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774-5F7C-4FD9-84B1-7E9DCC2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4BAD-0337-4EC4-B721-F39C174DF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00040" y="1601640"/>
            <a:ext cx="82296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Профессия – «Повар»</a:t>
            </a:r>
            <a:endParaRPr b="1" lang="en-US" sz="60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0" name="Содержимое 3" descr="82-1204.JPG"/>
          <p:cNvPicPr/>
          <p:nvPr/>
        </p:nvPicPr>
        <p:blipFill>
          <a:blip r:embed="rId1"/>
          <a:stretch/>
        </p:blipFill>
        <p:spPr>
          <a:xfrm>
            <a:off x="336600" y="3722760"/>
            <a:ext cx="2663640" cy="2992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57120" y="3714840"/>
            <a:ext cx="264312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57120" y="6072120"/>
            <a:ext cx="2643120" cy="6429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вар — мастер щей, бор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 рагу из овощ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кусный сварит он бульо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испечь сумеет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украсит шоколад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емом и цука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ы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асавцу-торту р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ъедим его с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ебя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и в самом деле умеет вкусно готовить, может аппетитно, красиво оформить любое блюдо: и салат, и тор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28584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питания во многом зависит здоровье человека. Еда всухомятку, на бегу, не во­время может привести к болезням желудка, так же как и однообразное питание, в котором не хватает витаминов и других полез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ременный повар работает на специально оборудованной кухне. Чего там только нет! И электро- печи, и холодильные установки, и автоматы для приготовления теста, и разнообразные смесители, и автоматические ножи для чистки и резки овощ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есть у повара и ручные орудия труда — длинные вилки с двумя зубьями для мяса, огромная разливательная ложка для су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ар должен обладать великолепной памятью! Он знает и помнит, как готовить те или иные блюда, сколько и каких класть продуктов, какие подава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арнир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котлетам, курице, рыбе, мя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9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93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ыбирает профессию повара обык- новенно человек, который любит гото- вить, проявляя при этом фантазию, вы- думку. Многие знаменитые повара сами придумывают новые блюда. Надев белоснежный халат и колпак, повар "колдует" над кастрюлями, что-то сме- шивает, доливает, обжари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9396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должен обладать хорошими математическими способностями, так как ему часто приходится рассчитывать время приготовления блюда, а также количество необходимых продуктов, необходимых для приготовления пор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шг87.jpeg"/>
          <p:cNvPicPr/>
          <p:nvPr/>
        </p:nvPicPr>
        <p:blipFill>
          <a:blip r:embed="rId1"/>
          <a:stretch/>
        </p:blipFill>
        <p:spPr>
          <a:xfrm>
            <a:off x="428760" y="428760"/>
            <a:ext cx="3143160" cy="4357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пе65.jpeg"/>
          <p:cNvPicPr/>
          <p:nvPr/>
        </p:nvPicPr>
        <p:blipFill>
          <a:blip r:embed="rId2"/>
          <a:stretch/>
        </p:blipFill>
        <p:spPr>
          <a:xfrm>
            <a:off x="4643280" y="357120"/>
            <a:ext cx="419580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87орн.jpeg"/>
          <p:cNvPicPr/>
          <p:nvPr/>
        </p:nvPicPr>
        <p:blipFill>
          <a:blip r:embed="rId3"/>
          <a:stretch/>
        </p:blipFill>
        <p:spPr>
          <a:xfrm>
            <a:off x="3505320" y="3648240"/>
            <a:ext cx="3066840" cy="29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4" descr=""/>
          <p:cNvPicPr/>
          <p:nvPr/>
        </p:nvPicPr>
        <p:blipFill>
          <a:blip r:embed="rId1"/>
          <a:stretch/>
        </p:blipFill>
        <p:spPr>
          <a:xfrm>
            <a:off x="73080" y="1500120"/>
            <a:ext cx="9259920" cy="337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759960"/>
            <a:ext cx="89298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ля проверки своего глазомера, определите на глаз, что весит боль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яблока или 10 вишен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лимона или арбу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1 хлеб или пачка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28800" y="1143000"/>
            <a:ext cx="8400960" cy="41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Придумай интересный рецеп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К названия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cалат “Нежн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суп “Умник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торт “Справедлив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печенье “Улыбка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52:46Z</dcterms:created>
  <dc:creator>addvisor</dc:creator>
  <dc:description/>
  <dc:language>en-US</dc:language>
  <cp:lastModifiedBy>Пользователь</cp:lastModifiedBy>
  <dcterms:modified xsi:type="dcterms:W3CDTF">2013-07-13T08:30:23Z</dcterms:modified>
  <cp:revision>5</cp:revision>
  <dc:subject/>
  <dc:title>Слайд 1</dc:title>
</cp:coreProperties>
</file>