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0.gif" ContentType="image/gi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4DF-72B7-4A0C-89A4-B6180A0A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FEB-BFE3-4E08-A69A-8341A7AF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871-F692-4987-A0E3-F0D6E8C7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5CD-992C-4370-9127-6544736E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FEAC-65EA-4FBE-9A48-434B599D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A70-6D04-490D-A600-185FCC9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5788-B780-4F8C-9B1D-C9273E83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968F-A61A-4A6D-A796-AC1EC04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166A-254D-4A4E-8A23-1F9D121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B666-C8C2-47AA-AAB9-9BA0A44A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B71-FBC9-4234-BB8F-23C61FC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CD8-2CBA-48EF-82F0-E13E358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FFF3-8016-4899-9391-C4BB5B1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5852-1F7D-495B-BA69-7990E9F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3FAF-A27B-4C86-9DED-79373B2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1AA2-81D5-424A-8D44-5C03A1F3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4DE-6266-4492-A07F-5E4F995D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17F-677B-4531-88D8-987E9F8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AB1-C24B-48B3-8B7F-71FA7A7F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B44-AE90-4CAB-8B17-A103C63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436-EC3F-48B3-A5E2-2D003FA9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F7B-2F8A-4B79-B173-E566720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938-041C-40D1-92ED-C066B76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7F4-D51E-461C-8AAD-6EAFCF5A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40B2-9D85-42BF-AA6D-5F38A4523B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0D4-1E6E-4D02-8B1B-A18A11968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619280" y="1197000"/>
            <a:ext cx="612144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Политически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режи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404640"/>
            <a:ext cx="5400360" cy="1800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демократическ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0920" y="2487600"/>
            <a:ext cx="8569080" cy="4683960"/>
            <a:chOff x="250920" y="2487600"/>
            <a:chExt cx="8569080" cy="4683960"/>
          </a:xfrm>
        </p:grpSpPr>
        <p:sp>
          <p:nvSpPr>
            <p:cNvPr id="230" name=""/>
            <p:cNvSpPr/>
            <p:nvPr/>
          </p:nvSpPr>
          <p:spPr>
            <a:xfrm>
              <a:off x="468360" y="2487600"/>
              <a:ext cx="8137440" cy="4176720"/>
            </a:xfrm>
            <a:prstGeom prst="rect">
              <a:avLst/>
            </a:prstGeom>
            <a:solidFill>
              <a:srgbClr val="a5e1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2703600"/>
              <a:ext cx="8137440" cy="40323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200" y="2811600"/>
              <a:ext cx="8443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Выборный законодательный орган вла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Конституционные гарантии политических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оциально-экономических прав для всех слоев обще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Прямое участие населения в решени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государственных вопро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Различные формы собств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Многопартий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Идеологический и политический плю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91280" y="168120"/>
            <a:ext cx="248436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201080" cy="621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76360" y="189000"/>
            <a:ext cx="63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e1a8"/>
                </a:solidFill>
                <a:latin typeface="Arial"/>
              </a:rPr>
              <a:t>Демократия в мир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e1a8"/>
              </a:solidFill>
              <a:latin typeface="Arial"/>
              <a:ea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771640" y="4221000"/>
            <a:ext cx="3673440" cy="2325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1773360"/>
            <a:ext cx="3170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11280" y="3168720"/>
            <a:ext cx="8353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00" y="1484280"/>
            <a:ext cx="8388360" cy="504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440" y="260280"/>
            <a:ext cx="7343640" cy="792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ческий режим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4780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ржки из Конституции Р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3120" y="244476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ая Федерация - Россия есть демократическое федеративное правов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его права и свободы являются высшей ценностью. Признание, соблюдение и защита прав и свобод человека и гражданина - обязанность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333360"/>
            <a:ext cx="8209080" cy="1612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95640" y="547560"/>
            <a:ext cx="47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угие вид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2301840"/>
            <a:ext cx="7940520" cy="3933360"/>
          </a:xfrm>
          <a:prstGeom prst="rect">
            <a:avLst/>
          </a:prstGeom>
          <a:solidFill>
            <a:srgbClr val="a5e1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п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лт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тоталита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о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енная 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гар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ш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197000"/>
            <a:ext cx="7272360" cy="1440000"/>
          </a:xfrm>
          <a:prstGeom prst="rect">
            <a:avLst/>
          </a:prstGeom>
          <a:solidFill>
            <a:srgbClr val="a5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79440" y="112536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пособ функционирования государствен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168720"/>
            <a:ext cx="83534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Он определяет те способы, методы, с помощью которых государство осуществляет свою власть, управляет обще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Главным в определении политического режима является то соотношение, которое складывается между обществом и государ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332000" y="1125360"/>
            <a:ext cx="6478560" cy="2158560"/>
            <a:chOff x="1332000" y="1125360"/>
            <a:chExt cx="6478560" cy="2158560"/>
          </a:xfrm>
        </p:grpSpPr>
        <p:grpSp>
          <p:nvGrpSpPr>
            <p:cNvPr id="168" name=""/>
            <p:cNvGrpSpPr/>
            <p:nvPr/>
          </p:nvGrpSpPr>
          <p:grpSpPr>
            <a:xfrm>
              <a:off x="1332000" y="1317960"/>
              <a:ext cx="6478560" cy="1965960"/>
              <a:chOff x="1332000" y="1317960"/>
              <a:chExt cx="6478560" cy="1965960"/>
            </a:xfrm>
          </p:grpSpPr>
          <p:sp>
            <p:nvSpPr>
              <p:cNvPr id="169" name=""/>
              <p:cNvSpPr/>
              <p:nvPr/>
            </p:nvSpPr>
            <p:spPr>
              <a:xfrm>
                <a:off x="1402920" y="1380600"/>
                <a:ext cx="6407640" cy="1903320"/>
              </a:xfrm>
              <a:prstGeom prst="ellipse">
                <a:avLst/>
              </a:prstGeom>
              <a:gradFill rotWithShape="0">
                <a:gsLst>
                  <a:gs pos="0">
                    <a:srgbClr val="2c0058"/>
                  </a:gs>
                  <a:gs pos="100000">
                    <a:srgbClr val="5b00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32000" y="1317960"/>
                <a:ext cx="6407640" cy="1902600"/>
              </a:xfrm>
              <a:prstGeom prst="ellipse">
                <a:avLst/>
              </a:prstGeom>
              <a:solidFill>
                <a:srgbClr val="a5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637640" y="1125360"/>
              <a:ext cx="5800320" cy="1808280"/>
            </a:xfrm>
            <a:prstGeom prst="ellipse">
              <a:avLst/>
            </a:prstGeom>
            <a:gradFill rotWithShape="0">
              <a:gsLst>
                <a:gs pos="0">
                  <a:srgbClr val="34988e"/>
                </a:gs>
                <a:gs pos="100000">
                  <a:srgbClr val="1746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12880" y="1135800"/>
              <a:ext cx="5659560" cy="1762920"/>
            </a:xfrm>
            <a:prstGeom prst="ellipse">
              <a:avLst/>
            </a:prstGeom>
            <a:gradFill rotWithShape="0">
              <a:gsLst>
                <a:gs pos="0">
                  <a:srgbClr val="b7dad6"/>
                </a:gs>
                <a:gs pos="100000">
                  <a:srgbClr val="34988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1200" y="1153440"/>
              <a:ext cx="5384880" cy="164700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48235"/>
                  </a:srgbClr>
                </a:gs>
                <a:gs pos="100000">
                  <a:srgbClr val="2977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5960" y="1189800"/>
              <a:ext cx="4740120" cy="133452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46200" y="134136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7698200">
            <a:off x="1670760" y="3540600"/>
            <a:ext cx="1656000" cy="574560"/>
          </a:xfrm>
          <a:prstGeom prst="leftArrow">
            <a:avLst>
              <a:gd name="adj1" fmla="val 35148"/>
              <a:gd name="adj2" fmla="val 12437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5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344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36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Тотал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581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724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Дем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99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4540400">
            <a:off x="5797080" y="3573000"/>
            <a:ext cx="1584360" cy="574560"/>
          </a:xfrm>
          <a:prstGeom prst="leftArrow">
            <a:avLst>
              <a:gd name="adj1" fmla="val 35148"/>
              <a:gd name="adj2" fmla="val 1189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888000" y="3681360"/>
            <a:ext cx="1296720" cy="503280"/>
          </a:xfrm>
          <a:prstGeom prst="leftArrow">
            <a:avLst>
              <a:gd name="adj1" fmla="val 35148"/>
              <a:gd name="adj2" fmla="val 1111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34040" y="1052640"/>
            <a:ext cx="3168720" cy="3960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тал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127480"/>
            <a:ext cx="8101080" cy="155700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Тоталитаризм - 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политический режим, основу которого составляет жесткая диктатура, характеризующаяся полным контролем государства за жизнью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0920" y="3284640"/>
            <a:ext cx="3529080" cy="1584360"/>
            <a:chOff x="2050920" y="3284640"/>
            <a:chExt cx="3529080" cy="1584360"/>
          </a:xfrm>
        </p:grpSpPr>
        <p:sp>
          <p:nvSpPr>
            <p:cNvPr id="190" name=""/>
            <p:cNvSpPr/>
            <p:nvPr/>
          </p:nvSpPr>
          <p:spPr>
            <a:xfrm>
              <a:off x="2050920" y="3284640"/>
              <a:ext cx="3457800" cy="1584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0920" y="3338640"/>
              <a:ext cx="3529080" cy="13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первые этот термин появился для характеристики политического режим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Б. Муссолини, пришедшего к власти в Италии в 1923 году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6040" y="877680"/>
            <a:ext cx="3088080" cy="2602440"/>
            <a:chOff x="536040" y="877680"/>
            <a:chExt cx="3088080" cy="2602440"/>
          </a:xfrm>
        </p:grpSpPr>
        <p:sp>
          <p:nvSpPr>
            <p:cNvPr id="193" name=""/>
            <p:cNvSpPr/>
            <p:nvPr/>
          </p:nvSpPr>
          <p:spPr>
            <a:xfrm rot="20024400">
              <a:off x="829440" y="1360440"/>
              <a:ext cx="2565000" cy="163656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972800">
              <a:off x="685080" y="1459800"/>
              <a:ext cx="2734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ереводе с итальянского -  «целостный», «еди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тотал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560" y="1341360"/>
            <a:ext cx="8498160" cy="50338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701720"/>
            <a:ext cx="8280360" cy="489600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" y="177336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дной всеобъемлющей иде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кновение государства в жизнь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сткая ценз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роль государственной пропаганды, манипуляция массовым сознанием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ицание традиций, в том числе мор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совые репрессии и терр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чтожение индивидуальных гражданских прав и своб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изованное планирование эконом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3240360" cy="2160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ы тотали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2560" y="1916280"/>
            <a:ext cx="3384720" cy="223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7492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ит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rcRect l="1497" t="5300" r="3236" b="7520"/>
          <a:stretch/>
        </p:blipFill>
        <p:spPr>
          <a:xfrm>
            <a:off x="4643280" y="1916280"/>
            <a:ext cx="4032360" cy="2255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59280" y="5013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уссо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328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та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829040"/>
            <a:ext cx="7416720" cy="119124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осударственное устройство, основу которого составляет сильная личная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55760" y="1432800"/>
            <a:ext cx="3089880" cy="2602800"/>
            <a:chOff x="1355760" y="1432800"/>
            <a:chExt cx="3089880" cy="2602800"/>
          </a:xfrm>
        </p:grpSpPr>
        <p:sp>
          <p:nvSpPr>
            <p:cNvPr id="209" name=""/>
            <p:cNvSpPr/>
            <p:nvPr/>
          </p:nvSpPr>
          <p:spPr>
            <a:xfrm rot="20024400">
              <a:off x="1649880" y="1915920"/>
              <a:ext cx="2566080" cy="163620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972800">
              <a:off x="1476720" y="2022120"/>
              <a:ext cx="27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 латинского «аукторитас» -  «личная власть», «власть-авторитет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99080" y="1557360"/>
            <a:ext cx="257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477720"/>
            <a:ext cx="8388360" cy="57492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автор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1557360"/>
            <a:ext cx="8498160" cy="47512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916280"/>
            <a:ext cx="8351640" cy="446544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01924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Господство одной политической парт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ижения,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дна «официальная» иде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дна форма соб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Резкое расслое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Низкий уровень жизн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мократически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127480"/>
            <a:ext cx="8101080" cy="125208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мократия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система, при которой народ является единственно легитимным источником в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38560" y="1838160"/>
            <a:ext cx="3888720" cy="2814480"/>
            <a:chOff x="2338560" y="1838160"/>
            <a:chExt cx="3888720" cy="2814480"/>
          </a:xfrm>
        </p:grpSpPr>
        <p:sp>
          <p:nvSpPr>
            <p:cNvPr id="219" name=""/>
            <p:cNvSpPr/>
            <p:nvPr/>
          </p:nvSpPr>
          <p:spPr>
            <a:xfrm>
              <a:off x="3636000" y="2669760"/>
              <a:ext cx="993960" cy="198288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8560" y="1984680"/>
              <a:ext cx="2435760" cy="77076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6200" y="1838160"/>
              <a:ext cx="1891080" cy="156888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0000" y="335772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ве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5600" y="13986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одовл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34136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068640"/>
            <a:ext cx="2160720" cy="3859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7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333684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88e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3240" y="3068640"/>
            <a:ext cx="20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об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1:03Z</dcterms:created>
  <dc:creator>Семья</dc:creator>
  <dc:description/>
  <dc:language>en-US</dc:language>
  <cp:lastModifiedBy>*</cp:lastModifiedBy>
  <dcterms:modified xsi:type="dcterms:W3CDTF">2011-06-27T20:51:20Z</dcterms:modified>
  <cp:revision>9</cp:revision>
  <dc:subject/>
  <dc:title>Политический  реж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