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0.gif" ContentType="image/gif"/>
  <Override PartName="/ppt/media/image9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BAC-4F24-42BA-BFEC-3F93A082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429-4303-4E91-B313-7C83CE8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FD0-29A1-4D2F-8AC8-4E2BB847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5F5-8023-4782-8921-352D01FA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038-79D9-44F1-87F6-E94805B9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ED0D-D89D-4054-8348-8991776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9BA-4F20-4D26-9FF8-02093B22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49D8-3D75-478F-A694-6D8D084D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C69-EA13-4694-A28C-5FEFED6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A640-9510-4033-A374-51FF82C6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D3CA-72D4-4B7A-951A-7551BF55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676-3F32-4C4C-8EC7-22826A1E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588-EE1C-49F5-BEE7-5DF34246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FFFC-DEA5-49A9-A821-E94CE12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A6C2-FAB4-4EEA-AA7F-BCE5B9AB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9052-AC04-45D6-9B8E-9ED15CCC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FEB0-1439-4E23-BA94-4E795CCB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00D-A5EE-47BB-90DD-D97C4660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945-7398-4F12-B91B-312925C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375-4E97-48EC-A158-6BD114A2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391-79C5-400D-868D-6636EC34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AAE-CA8D-44AC-B830-F5738F0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451-C20B-4DF3-9A8E-02412A4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E64-3282-4758-8A1C-9A0AA2C3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798-2D23-474B-871F-95E4CC04FA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264A-BDFC-45BD-B421-325FCFE349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619280" y="1197000"/>
            <a:ext cx="612144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Политически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4988e"/>
                  </a:gs>
                  <a:gs pos="100000">
                    <a:srgbClr val="cc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4988e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Times New Roman"/>
              </a:rPr>
              <a:t>режи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4988e"/>
                  </a:gs>
                  <a:gs pos="100000">
                    <a:srgbClr val="cc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404640"/>
            <a:ext cx="5400360" cy="18003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демократическ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0920" y="2487600"/>
            <a:ext cx="8569080" cy="4683960"/>
            <a:chOff x="250920" y="2487600"/>
            <a:chExt cx="8569080" cy="4683960"/>
          </a:xfrm>
        </p:grpSpPr>
        <p:sp>
          <p:nvSpPr>
            <p:cNvPr id="230" name=""/>
            <p:cNvSpPr/>
            <p:nvPr/>
          </p:nvSpPr>
          <p:spPr>
            <a:xfrm>
              <a:off x="468360" y="2487600"/>
              <a:ext cx="8137440" cy="4176720"/>
            </a:xfrm>
            <a:prstGeom prst="rect">
              <a:avLst/>
            </a:prstGeom>
            <a:solidFill>
              <a:srgbClr val="a5e1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2703600"/>
              <a:ext cx="8137440" cy="40323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200" y="2811600"/>
              <a:ext cx="8443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Выборный законодательный орган вла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Конституционные гарантии политических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оциально-экономических прав для всех слоев обще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Прямое участие населения в решени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государственных вопрос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Различные формы собств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Многопартий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Идеологический и политический плюр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191280" y="168120"/>
            <a:ext cx="248436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201080" cy="621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476360" y="189000"/>
            <a:ext cx="63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e1a8"/>
                </a:solidFill>
                <a:latin typeface="Arial"/>
              </a:rPr>
              <a:t>Демократия в мир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e1a8"/>
              </a:solidFill>
              <a:latin typeface="Arial"/>
              <a:ea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771640" y="4221000"/>
            <a:ext cx="3673440" cy="2325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076720" y="1773360"/>
            <a:ext cx="3170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11280" y="3168720"/>
            <a:ext cx="8353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00" y="1484280"/>
            <a:ext cx="8388360" cy="504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1440" y="260280"/>
            <a:ext cx="7343640" cy="7923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тический режим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74780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ржки из Конституции Р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3120" y="244476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ая Федерация - Россия есть демократическое федеративное правов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, его права и свободы являются высшей ценностью. Признание, соблюдение и защита прав и свобод человека и гражданина - обязанность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5faf"/>
                </a:solidFill>
                <a:latin typeface="Arial"/>
              </a:rPr>
              <a:t>Статья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9640" y="333360"/>
            <a:ext cx="8209080" cy="1612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95640" y="547560"/>
            <a:ext cx="475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угие вид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их режим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2301840"/>
            <a:ext cx="7940520" cy="3933360"/>
          </a:xfrm>
          <a:prstGeom prst="rect">
            <a:avLst/>
          </a:prstGeom>
          <a:solidFill>
            <a:srgbClr val="a5e1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п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лт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тоталитар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од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кт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енная дикт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игар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ш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197000"/>
            <a:ext cx="7272360" cy="1440000"/>
          </a:xfrm>
          <a:prstGeom prst="rect">
            <a:avLst/>
          </a:prstGeom>
          <a:solidFill>
            <a:srgbClr val="a5e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79440" y="1125360"/>
            <a:ext cx="786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пособ функционирования государственн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168720"/>
            <a:ext cx="83534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Perpetua"/>
              </a:rPr>
              <a:t>Он определяет те способы, методы, с помощью которых государство осуществляет свою власть, управляет обще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Perpetua"/>
              </a:rPr>
              <a:t>Главным в определении политического режима является то соотношение, которое складывается между обществом и государств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332000" y="1125360"/>
            <a:ext cx="6478560" cy="2158560"/>
            <a:chOff x="1332000" y="1125360"/>
            <a:chExt cx="6478560" cy="2158560"/>
          </a:xfrm>
        </p:grpSpPr>
        <p:grpSp>
          <p:nvGrpSpPr>
            <p:cNvPr id="168" name=""/>
            <p:cNvGrpSpPr/>
            <p:nvPr/>
          </p:nvGrpSpPr>
          <p:grpSpPr>
            <a:xfrm>
              <a:off x="1332000" y="1317960"/>
              <a:ext cx="6478560" cy="1965960"/>
              <a:chOff x="1332000" y="1317960"/>
              <a:chExt cx="6478560" cy="1965960"/>
            </a:xfrm>
          </p:grpSpPr>
          <p:sp>
            <p:nvSpPr>
              <p:cNvPr id="169" name=""/>
              <p:cNvSpPr/>
              <p:nvPr/>
            </p:nvSpPr>
            <p:spPr>
              <a:xfrm>
                <a:off x="1402920" y="1380600"/>
                <a:ext cx="6407640" cy="1903320"/>
              </a:xfrm>
              <a:prstGeom prst="ellipse">
                <a:avLst/>
              </a:prstGeom>
              <a:gradFill rotWithShape="0">
                <a:gsLst>
                  <a:gs pos="0">
                    <a:srgbClr val="2c0058"/>
                  </a:gs>
                  <a:gs pos="100000">
                    <a:srgbClr val="5b00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32000" y="1317960"/>
                <a:ext cx="6407640" cy="1902600"/>
              </a:xfrm>
              <a:prstGeom prst="ellipse">
                <a:avLst/>
              </a:prstGeom>
              <a:solidFill>
                <a:srgbClr val="a5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637640" y="1125360"/>
              <a:ext cx="5800320" cy="1808280"/>
            </a:xfrm>
            <a:prstGeom prst="ellipse">
              <a:avLst/>
            </a:prstGeom>
            <a:gradFill rotWithShape="0">
              <a:gsLst>
                <a:gs pos="0">
                  <a:srgbClr val="34988e"/>
                </a:gs>
                <a:gs pos="100000">
                  <a:srgbClr val="1746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12880" y="1135800"/>
              <a:ext cx="5659560" cy="1762920"/>
            </a:xfrm>
            <a:prstGeom prst="ellipse">
              <a:avLst/>
            </a:prstGeom>
            <a:gradFill rotWithShape="0">
              <a:gsLst>
                <a:gs pos="0">
                  <a:srgbClr val="b7dad6"/>
                </a:gs>
                <a:gs pos="100000">
                  <a:srgbClr val="34988e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1200" y="1153440"/>
              <a:ext cx="5384880" cy="1647000"/>
            </a:xfrm>
            <a:prstGeom prst="ellipse">
              <a:avLst/>
            </a:prstGeom>
            <a:gradFill rotWithShape="0">
              <a:gsLst>
                <a:gs pos="0">
                  <a:srgbClr val="34988e">
                    <a:alpha val="48235"/>
                  </a:srgbClr>
                </a:gs>
                <a:gs pos="100000">
                  <a:srgbClr val="2977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5960" y="1189800"/>
              <a:ext cx="4740120" cy="1334520"/>
            </a:xfrm>
            <a:prstGeom prst="ellipse">
              <a:avLst/>
            </a:prstGeom>
            <a:gradFill rotWithShape="0">
              <a:gsLst>
                <a:gs pos="0">
                  <a:srgbClr val="34988e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46200" y="134136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тических режи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7698200">
            <a:off x="1670760" y="3540600"/>
            <a:ext cx="1656000" cy="574560"/>
          </a:xfrm>
          <a:prstGeom prst="leftArrow">
            <a:avLst>
              <a:gd name="adj1" fmla="val 35148"/>
              <a:gd name="adj2" fmla="val 12437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528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3440" y="457992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36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Тотал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581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457992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724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Демокр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99280" y="472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988e"/>
                </a:solidFill>
                <a:latin typeface="Arial"/>
              </a:rPr>
              <a:t>Автори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4540400">
            <a:off x="5797080" y="3573000"/>
            <a:ext cx="1584360" cy="574560"/>
          </a:xfrm>
          <a:prstGeom prst="leftArrow">
            <a:avLst>
              <a:gd name="adj1" fmla="val 35148"/>
              <a:gd name="adj2" fmla="val 1189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888000" y="3681360"/>
            <a:ext cx="1296720" cy="503280"/>
          </a:xfrm>
          <a:prstGeom prst="leftArrow">
            <a:avLst>
              <a:gd name="adj1" fmla="val 35148"/>
              <a:gd name="adj2" fmla="val 1111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34040" y="1052640"/>
            <a:ext cx="3168720" cy="3960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талитар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127480"/>
            <a:ext cx="8101080" cy="155700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Тоталитаризм - 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политический режим, основу которого составляет жесткая диктатура, характеризующаяся полным контролем государства за жизнью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50920" y="3284640"/>
            <a:ext cx="3529080" cy="1584360"/>
            <a:chOff x="2050920" y="3284640"/>
            <a:chExt cx="3529080" cy="1584360"/>
          </a:xfrm>
        </p:grpSpPr>
        <p:sp>
          <p:nvSpPr>
            <p:cNvPr id="190" name=""/>
            <p:cNvSpPr/>
            <p:nvPr/>
          </p:nvSpPr>
          <p:spPr>
            <a:xfrm>
              <a:off x="2050920" y="3284640"/>
              <a:ext cx="3457800" cy="1584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0920" y="3338640"/>
              <a:ext cx="3529080" cy="13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первые этот термин появился для характеристики политического режим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Б. Муссолини, пришедшего к власти в Италии в 1923 году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36040" y="877680"/>
            <a:ext cx="3088080" cy="2602440"/>
            <a:chOff x="536040" y="877680"/>
            <a:chExt cx="3088080" cy="2602440"/>
          </a:xfrm>
        </p:grpSpPr>
        <p:sp>
          <p:nvSpPr>
            <p:cNvPr id="193" name=""/>
            <p:cNvSpPr/>
            <p:nvPr/>
          </p:nvSpPr>
          <p:spPr>
            <a:xfrm rot="20024400">
              <a:off x="829440" y="1360440"/>
              <a:ext cx="2565000" cy="1636560"/>
            </a:xfrm>
            <a:prstGeom prst="octagon">
              <a:avLst>
                <a:gd name="adj" fmla="val 292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972800">
              <a:off x="685080" y="1459800"/>
              <a:ext cx="2734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переводе с итальянского -  «целостный», «еди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333360"/>
            <a:ext cx="8388360" cy="5745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тоталитар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560" y="1341360"/>
            <a:ext cx="8498160" cy="5033880"/>
          </a:xfrm>
          <a:prstGeom prst="rect">
            <a:avLst/>
          </a:prstGeom>
          <a:solidFill>
            <a:srgbClr val="a5e1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701720"/>
            <a:ext cx="8280360" cy="489600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5440" y="1773360"/>
            <a:ext cx="85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дной всеобъемлющей иде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икновение государства в жизнь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ёсткая ценз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роль государственной пропаганды, манипуляция массовым сознанием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ицание традиций, в том числе мор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совые репрессии и терр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ичтожение индивидуальных гражданских прав и своб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изованное планирование эконом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71640" y="4365720"/>
            <a:ext cx="3240360" cy="2160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333360"/>
            <a:ext cx="8388360" cy="57456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ы тотали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2560" y="1916280"/>
            <a:ext cx="3384720" cy="223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7492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Гит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rcRect l="1497" t="5300" r="3236" b="7520"/>
          <a:stretch/>
        </p:blipFill>
        <p:spPr>
          <a:xfrm>
            <a:off x="4643280" y="1916280"/>
            <a:ext cx="4032360" cy="2255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59280" y="50133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уссо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3280" y="26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та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вторитар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829040"/>
            <a:ext cx="7416720" cy="119124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тарны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осударственное устройство, основу которого составляет сильная личная вл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55760" y="1432800"/>
            <a:ext cx="3089880" cy="2602800"/>
            <a:chOff x="1355760" y="1432800"/>
            <a:chExt cx="3089880" cy="2602800"/>
          </a:xfrm>
        </p:grpSpPr>
        <p:sp>
          <p:nvSpPr>
            <p:cNvPr id="209" name=""/>
            <p:cNvSpPr/>
            <p:nvPr/>
          </p:nvSpPr>
          <p:spPr>
            <a:xfrm rot="20024400">
              <a:off x="1649880" y="1915920"/>
              <a:ext cx="2566080" cy="1636200"/>
            </a:xfrm>
            <a:prstGeom prst="octagon">
              <a:avLst>
                <a:gd name="adj" fmla="val 2928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972800">
              <a:off x="1476720" y="2022120"/>
              <a:ext cx="273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 латинского «аукторитас» -  «личная власть», «власть-авторитет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99080" y="1557360"/>
            <a:ext cx="257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477720"/>
            <a:ext cx="8388360" cy="57492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знаки авторитар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6560" y="1557360"/>
            <a:ext cx="8498160" cy="4751280"/>
          </a:xfrm>
          <a:prstGeom prst="rect">
            <a:avLst/>
          </a:prstGeom>
          <a:solidFill>
            <a:srgbClr val="a5e1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916280"/>
            <a:ext cx="8351640" cy="446544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019240"/>
            <a:ext cx="856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Господство одной политической парт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ижения,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Одна «официальная» иде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дна форма соб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Резкое расслоени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Низкий уровень жизни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38920" cy="487440"/>
          </a:xfrm>
          <a:prstGeom prst="rect">
            <a:avLst/>
          </a:prstGeom>
          <a:gradFill rotWithShape="0">
            <a:gsLst>
              <a:gs pos="0">
                <a:srgbClr val="34988e"/>
              </a:gs>
              <a:gs pos="50000">
                <a:srgbClr val="a5e1a8"/>
              </a:gs>
              <a:gs pos="100000">
                <a:srgbClr val="34988e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мократически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5127480"/>
            <a:ext cx="8101080" cy="1252080"/>
          </a:xfrm>
          <a:prstGeom prst="rect">
            <a:avLst/>
          </a:prstGeom>
          <a:solidFill>
            <a:srgbClr val="a5e1a8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мократия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ая система, при которой народ является единственно легитимным источником вла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338560" y="1838160"/>
            <a:ext cx="3888720" cy="2814480"/>
            <a:chOff x="2338560" y="1838160"/>
            <a:chExt cx="3888720" cy="2814480"/>
          </a:xfrm>
        </p:grpSpPr>
        <p:sp>
          <p:nvSpPr>
            <p:cNvPr id="219" name=""/>
            <p:cNvSpPr/>
            <p:nvPr/>
          </p:nvSpPr>
          <p:spPr>
            <a:xfrm>
              <a:off x="3636000" y="2669760"/>
              <a:ext cx="993960" cy="198288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38560" y="1984680"/>
              <a:ext cx="2435760" cy="77076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6200" y="1838160"/>
              <a:ext cx="1891080" cy="156888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0000" y="3357720"/>
            <a:ext cx="20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ве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5600" y="13986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одовл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341360"/>
            <a:ext cx="2362320" cy="4572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068640"/>
            <a:ext cx="2160720" cy="3859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7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3336840"/>
            <a:ext cx="2362320" cy="4572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88e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3240" y="3068640"/>
            <a:ext cx="20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об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1:03Z</dcterms:created>
  <dc:creator>Семья</dc:creator>
  <dc:description/>
  <dc:language>en-US</dc:language>
  <cp:lastModifiedBy>*</cp:lastModifiedBy>
  <dcterms:modified xsi:type="dcterms:W3CDTF">2011-06-27T20:51:20Z</dcterms:modified>
  <cp:revision>9</cp:revision>
  <dc:subject/>
  <dc:title>Политический  режи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