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0.gif" ContentType="image/gif"/>
  <Override PartName="/ppt/media/image9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922-41F5-40DB-AA9E-E7AB1847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3CB-D5E7-48C6-B945-414C1141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74F-4A93-4E6F-83B7-E7349D87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433-D28F-4FC9-BB85-71D94FD0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F27-C6F0-48BB-A948-365B703B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A238-3FF9-4E66-8B7D-1481A2EC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E6AE-713A-4CD4-85F4-FE7D927A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5D1B-9DED-4410-A00F-EE5148F4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BB9-F25C-4957-BC04-48F40C6D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8B1E-41AD-4AE1-AAB7-3B995B35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226A-471B-4A50-B9E6-00FB7B9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E65-53D5-4222-9CF8-36E142FB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CA7D-8DDF-4F3A-A52A-7FE20F1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823-2B31-4B22-833E-195E0EC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AB72-9B80-4D21-A409-76DE2FB7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B1C6-7D78-41A9-8AFC-1680CD54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82D-00D2-40EB-8D2F-D6609F55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92A-8626-4A15-9842-F8E5D878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8E8-A418-49C8-94E4-525711C1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617-4E57-480C-AC92-F41FE41C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9B6-E83C-4321-A4CC-F2697A8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C45-909F-4461-BAAA-411E658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B6B-B01B-4460-B764-1D1DD3D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BF9-6045-453E-A74D-E0EDDDC6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EE9C-7862-443D-BAD0-4CBEB2AADF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B696-09C2-4C7E-A2A8-6E13BCEF05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619280" y="1197000"/>
            <a:ext cx="6121440" cy="27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Политически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4988e"/>
                  </a:gs>
                  <a:gs pos="100000">
                    <a:srgbClr val="cc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режи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4988e"/>
                  </a:gs>
                  <a:gs pos="100000">
                    <a:srgbClr val="cc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404640"/>
            <a:ext cx="5400360" cy="18003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демократическ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0920" y="2487600"/>
            <a:ext cx="8569080" cy="4683960"/>
            <a:chOff x="250920" y="2487600"/>
            <a:chExt cx="8569080" cy="4683960"/>
          </a:xfrm>
        </p:grpSpPr>
        <p:sp>
          <p:nvSpPr>
            <p:cNvPr id="230" name=""/>
            <p:cNvSpPr/>
            <p:nvPr/>
          </p:nvSpPr>
          <p:spPr>
            <a:xfrm>
              <a:off x="468360" y="2487600"/>
              <a:ext cx="8137440" cy="4176720"/>
            </a:xfrm>
            <a:prstGeom prst="rect">
              <a:avLst/>
            </a:prstGeom>
            <a:solidFill>
              <a:srgbClr val="a5e1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920" y="2703600"/>
              <a:ext cx="8137440" cy="40323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200" y="2811600"/>
              <a:ext cx="8443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Выборный законодательный орган вла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Конституционные гарантии политических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оциально-экономических прав для всех слоев обще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Прямое участие населения в решении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государственных вопрос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Различные формы собств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Многопартий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Идеологический и политический плюр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191280" y="168120"/>
            <a:ext cx="248436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201080" cy="6215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476360" y="189000"/>
            <a:ext cx="63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e1a8"/>
                </a:solidFill>
                <a:latin typeface="Arial"/>
              </a:rPr>
              <a:t>Демократия в мир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5e1a8"/>
              </a:solidFill>
              <a:latin typeface="Arial"/>
              <a:ea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771640" y="4221000"/>
            <a:ext cx="3673440" cy="2325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076720" y="1773360"/>
            <a:ext cx="3170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11280" y="3168720"/>
            <a:ext cx="8353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00" y="1484280"/>
            <a:ext cx="8388360" cy="504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1440" y="260280"/>
            <a:ext cx="7343640" cy="7923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тический режим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74780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ржки из Конституции Р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3120" y="244476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ая Федерация - Россия есть демократическое федеративное правов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, его права и свободы являются высшей ценностью. Признание, соблюдение и защита прав и свобод человека и гражданина - обязанность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9640" y="333360"/>
            <a:ext cx="8209080" cy="1612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95640" y="547560"/>
            <a:ext cx="475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угие вид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итических режим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2301840"/>
            <a:ext cx="7940520" cy="3933360"/>
          </a:xfrm>
          <a:prstGeom prst="rect">
            <a:avLst/>
          </a:prstGeom>
          <a:solidFill>
            <a:srgbClr val="a5e1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п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лт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тоталитар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од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кт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енная дикт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игарх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ш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197000"/>
            <a:ext cx="7272360" cy="1440000"/>
          </a:xfrm>
          <a:prstGeom prst="rect">
            <a:avLst/>
          </a:prstGeom>
          <a:solidFill>
            <a:srgbClr val="a5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79440" y="1125360"/>
            <a:ext cx="786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итический реж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пособ функционирования государственн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168720"/>
            <a:ext cx="83534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Perpetua"/>
              </a:rPr>
              <a:t>Он определяет те способы, методы, с помощью которых государство осуществляет свою власть, управляет обществ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Perpetua"/>
              </a:rPr>
              <a:t>Главным в определении политического режима является то соотношение, которое складывается между обществом и государств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332000" y="1125360"/>
            <a:ext cx="6478560" cy="2158560"/>
            <a:chOff x="1332000" y="1125360"/>
            <a:chExt cx="6478560" cy="2158560"/>
          </a:xfrm>
        </p:grpSpPr>
        <p:grpSp>
          <p:nvGrpSpPr>
            <p:cNvPr id="168" name=""/>
            <p:cNvGrpSpPr/>
            <p:nvPr/>
          </p:nvGrpSpPr>
          <p:grpSpPr>
            <a:xfrm>
              <a:off x="1332000" y="1317960"/>
              <a:ext cx="6478560" cy="1965960"/>
              <a:chOff x="1332000" y="1317960"/>
              <a:chExt cx="6478560" cy="1965960"/>
            </a:xfrm>
          </p:grpSpPr>
          <p:sp>
            <p:nvSpPr>
              <p:cNvPr id="169" name=""/>
              <p:cNvSpPr/>
              <p:nvPr/>
            </p:nvSpPr>
            <p:spPr>
              <a:xfrm>
                <a:off x="1402920" y="1380600"/>
                <a:ext cx="6407640" cy="1903320"/>
              </a:xfrm>
              <a:prstGeom prst="ellipse">
                <a:avLst/>
              </a:prstGeom>
              <a:gradFill rotWithShape="0">
                <a:gsLst>
                  <a:gs pos="0">
                    <a:srgbClr val="2c0058"/>
                  </a:gs>
                  <a:gs pos="100000">
                    <a:srgbClr val="5b00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32000" y="1317960"/>
                <a:ext cx="6407640" cy="1902600"/>
              </a:xfrm>
              <a:prstGeom prst="ellipse">
                <a:avLst/>
              </a:prstGeom>
              <a:solidFill>
                <a:srgbClr val="a5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637640" y="1125360"/>
              <a:ext cx="5800320" cy="1808280"/>
            </a:xfrm>
            <a:prstGeom prst="ellipse">
              <a:avLst/>
            </a:prstGeom>
            <a:gradFill rotWithShape="0">
              <a:gsLst>
                <a:gs pos="0">
                  <a:srgbClr val="34988e"/>
                </a:gs>
                <a:gs pos="100000">
                  <a:srgbClr val="1746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12880" y="1135800"/>
              <a:ext cx="5659560" cy="1762920"/>
            </a:xfrm>
            <a:prstGeom prst="ellipse">
              <a:avLst/>
            </a:prstGeom>
            <a:gradFill rotWithShape="0">
              <a:gsLst>
                <a:gs pos="0">
                  <a:srgbClr val="b7dad6"/>
                </a:gs>
                <a:gs pos="100000">
                  <a:srgbClr val="34988e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1200" y="1153440"/>
              <a:ext cx="5384880" cy="1647000"/>
            </a:xfrm>
            <a:prstGeom prst="ellipse">
              <a:avLst/>
            </a:prstGeom>
            <a:gradFill rotWithShape="0">
              <a:gsLst>
                <a:gs pos="0">
                  <a:srgbClr val="34988e">
                    <a:alpha val="48235"/>
                  </a:srgbClr>
                </a:gs>
                <a:gs pos="100000">
                  <a:srgbClr val="2977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5960" y="1189800"/>
              <a:ext cx="4740120" cy="1334520"/>
            </a:xfrm>
            <a:prstGeom prst="ellipse">
              <a:avLst/>
            </a:prstGeom>
            <a:gradFill rotWithShape="0">
              <a:gsLst>
                <a:gs pos="0">
                  <a:srgbClr val="34988e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46200" y="134136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тических режи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7698200">
            <a:off x="1670760" y="3540600"/>
            <a:ext cx="1656000" cy="574560"/>
          </a:xfrm>
          <a:prstGeom prst="leftArrow">
            <a:avLst>
              <a:gd name="adj1" fmla="val 35148"/>
              <a:gd name="adj2" fmla="val 12437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528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3440" y="457992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36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Тотал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4581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457992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7242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Демокр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9928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4540400">
            <a:off x="5797080" y="3573000"/>
            <a:ext cx="1584360" cy="574560"/>
          </a:xfrm>
          <a:prstGeom prst="leftArrow">
            <a:avLst>
              <a:gd name="adj1" fmla="val 35148"/>
              <a:gd name="adj2" fmla="val 1189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888000" y="3681360"/>
            <a:ext cx="1296720" cy="503280"/>
          </a:xfrm>
          <a:prstGeom prst="leftArrow">
            <a:avLst>
              <a:gd name="adj1" fmla="val 35148"/>
              <a:gd name="adj2" fmla="val 1111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34040" y="1052640"/>
            <a:ext cx="3168720" cy="3960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талитар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127480"/>
            <a:ext cx="8101080" cy="155700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Тоталитаризм - 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политический режим, основу которого составляет жесткая диктатура, характеризующаяся полным контролем государства за жизнью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50920" y="3284640"/>
            <a:ext cx="3529080" cy="1584360"/>
            <a:chOff x="2050920" y="3284640"/>
            <a:chExt cx="3529080" cy="1584360"/>
          </a:xfrm>
        </p:grpSpPr>
        <p:sp>
          <p:nvSpPr>
            <p:cNvPr id="190" name=""/>
            <p:cNvSpPr/>
            <p:nvPr/>
          </p:nvSpPr>
          <p:spPr>
            <a:xfrm>
              <a:off x="2050920" y="3284640"/>
              <a:ext cx="3457800" cy="1584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0920" y="3338640"/>
              <a:ext cx="3529080" cy="13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первые этот термин появился для характеристики политического режим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Б. Муссолини, пришедшего к власти в Италии в 1923 году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36040" y="877680"/>
            <a:ext cx="3088080" cy="2602440"/>
            <a:chOff x="536040" y="877680"/>
            <a:chExt cx="3088080" cy="2602440"/>
          </a:xfrm>
        </p:grpSpPr>
        <p:sp>
          <p:nvSpPr>
            <p:cNvPr id="193" name=""/>
            <p:cNvSpPr/>
            <p:nvPr/>
          </p:nvSpPr>
          <p:spPr>
            <a:xfrm rot="20024400">
              <a:off x="829440" y="1360440"/>
              <a:ext cx="2565000" cy="1636560"/>
            </a:xfrm>
            <a:prstGeom prst="octagon">
              <a:avLst>
                <a:gd name="adj" fmla="val 292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972800">
              <a:off x="685080" y="1459800"/>
              <a:ext cx="2734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переводе с итальянского -  «целостный», «еди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333360"/>
            <a:ext cx="8388360" cy="5745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тоталитарн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560" y="1341360"/>
            <a:ext cx="8498160" cy="5033880"/>
          </a:xfrm>
          <a:prstGeom prst="rect">
            <a:avLst/>
          </a:prstGeom>
          <a:solidFill>
            <a:srgbClr val="a5e1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701720"/>
            <a:ext cx="8280360" cy="489600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" y="1773360"/>
            <a:ext cx="856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дной всеобъемлющей иде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икновение государства в жизнь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ёсткая ценз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ая роль государственной пропаганды, манипуляция массовым сознанием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ицание традиций, в том числе мор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совые репрессии и терр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ичтожение индивидуальных гражданских прав и своб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изованное планирование эконом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71640" y="4365720"/>
            <a:ext cx="3240360" cy="2160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333360"/>
            <a:ext cx="8388360" cy="5745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ы тотали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2560" y="1916280"/>
            <a:ext cx="3384720" cy="223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74920" y="270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Гит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rcRect l="1497" t="5300" r="3236" b="7520"/>
          <a:stretch/>
        </p:blipFill>
        <p:spPr>
          <a:xfrm>
            <a:off x="4643280" y="1916280"/>
            <a:ext cx="4032360" cy="2255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59280" y="501336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уссо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3280" y="263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та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вторитар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829040"/>
            <a:ext cx="7416720" cy="119124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итарны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осударственное устройство, основу которого составляет сильная личная вл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355760" y="1432800"/>
            <a:ext cx="3089880" cy="2602800"/>
            <a:chOff x="1355760" y="1432800"/>
            <a:chExt cx="3089880" cy="2602800"/>
          </a:xfrm>
        </p:grpSpPr>
        <p:sp>
          <p:nvSpPr>
            <p:cNvPr id="209" name=""/>
            <p:cNvSpPr/>
            <p:nvPr/>
          </p:nvSpPr>
          <p:spPr>
            <a:xfrm rot="20024400">
              <a:off x="1649880" y="1915920"/>
              <a:ext cx="2566080" cy="1636200"/>
            </a:xfrm>
            <a:prstGeom prst="octagon">
              <a:avLst>
                <a:gd name="adj" fmla="val 292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972800">
              <a:off x="1476720" y="2022120"/>
              <a:ext cx="273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 латинского «аукторитас» -  «личная власть», «власть-авторитет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99080" y="1557360"/>
            <a:ext cx="257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477720"/>
            <a:ext cx="8388360" cy="57492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авторитарн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6560" y="1557360"/>
            <a:ext cx="8498160" cy="4751280"/>
          </a:xfrm>
          <a:prstGeom prst="rect">
            <a:avLst/>
          </a:prstGeom>
          <a:solidFill>
            <a:srgbClr val="a5e1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916280"/>
            <a:ext cx="8351640" cy="446544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019240"/>
            <a:ext cx="856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Господство одной политической парт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ижения,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Одна «официальная» иде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дна форма соб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Сведение к минимуму прав и свобод граж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Резкое расслоение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Низкий уровень жизни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Акцент на карательные меры и прин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Агрессивность во внешней поли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мократически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5127480"/>
            <a:ext cx="8101080" cy="125208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мократия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ая система, при которой народ является единственно легитимным источником вла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338560" y="1838160"/>
            <a:ext cx="3888720" cy="2814480"/>
            <a:chOff x="2338560" y="1838160"/>
            <a:chExt cx="3888720" cy="2814480"/>
          </a:xfrm>
        </p:grpSpPr>
        <p:sp>
          <p:nvSpPr>
            <p:cNvPr id="219" name=""/>
            <p:cNvSpPr/>
            <p:nvPr/>
          </p:nvSpPr>
          <p:spPr>
            <a:xfrm>
              <a:off x="3636000" y="2669760"/>
              <a:ext cx="993960" cy="1982880"/>
            </a:xfrm>
            <a:custGeom>
              <a:avLst/>
              <a:gdLst/>
              <a:ahLst/>
              <a:rect l="l" t="t" r="r" b="b"/>
              <a:pathLst>
                <a:path w="501" h="1198">
                  <a:moveTo>
                    <a:pt x="501" y="1198"/>
                  </a:moveTo>
                  <a:lnTo>
                    <a:pt x="451" y="1158"/>
                  </a:lnTo>
                  <a:lnTo>
                    <a:pt x="403" y="1115"/>
                  </a:lnTo>
                  <a:lnTo>
                    <a:pt x="359" y="1072"/>
                  </a:lnTo>
                  <a:lnTo>
                    <a:pt x="318" y="1027"/>
                  </a:lnTo>
                  <a:lnTo>
                    <a:pt x="281" y="983"/>
                  </a:lnTo>
                  <a:lnTo>
                    <a:pt x="248" y="938"/>
                  </a:lnTo>
                  <a:lnTo>
                    <a:pt x="217" y="896"/>
                  </a:lnTo>
                  <a:lnTo>
                    <a:pt x="190" y="853"/>
                  </a:lnTo>
                  <a:lnTo>
                    <a:pt x="167" y="814"/>
                  </a:lnTo>
                  <a:lnTo>
                    <a:pt x="147" y="777"/>
                  </a:lnTo>
                  <a:lnTo>
                    <a:pt x="129" y="743"/>
                  </a:lnTo>
                  <a:lnTo>
                    <a:pt x="115" y="714"/>
                  </a:lnTo>
                  <a:lnTo>
                    <a:pt x="105" y="689"/>
                  </a:lnTo>
                  <a:lnTo>
                    <a:pt x="97" y="669"/>
                  </a:lnTo>
                  <a:lnTo>
                    <a:pt x="92" y="654"/>
                  </a:lnTo>
                  <a:lnTo>
                    <a:pt x="71" y="583"/>
                  </a:lnTo>
                  <a:lnTo>
                    <a:pt x="56" y="518"/>
                  </a:lnTo>
                  <a:lnTo>
                    <a:pt x="45" y="454"/>
                  </a:lnTo>
                  <a:lnTo>
                    <a:pt x="39" y="396"/>
                  </a:lnTo>
                  <a:lnTo>
                    <a:pt x="36" y="343"/>
                  </a:lnTo>
                  <a:lnTo>
                    <a:pt x="36" y="294"/>
                  </a:lnTo>
                  <a:lnTo>
                    <a:pt x="37" y="251"/>
                  </a:lnTo>
                  <a:lnTo>
                    <a:pt x="41" y="212"/>
                  </a:lnTo>
                  <a:lnTo>
                    <a:pt x="46" y="180"/>
                  </a:lnTo>
                  <a:lnTo>
                    <a:pt x="52" y="151"/>
                  </a:lnTo>
                  <a:lnTo>
                    <a:pt x="57" y="129"/>
                  </a:lnTo>
                  <a:lnTo>
                    <a:pt x="61" y="114"/>
                  </a:lnTo>
                  <a:lnTo>
                    <a:pt x="65" y="105"/>
                  </a:lnTo>
                  <a:lnTo>
                    <a:pt x="66" y="101"/>
                  </a:lnTo>
                  <a:lnTo>
                    <a:pt x="0" y="63"/>
                  </a:lnTo>
                  <a:lnTo>
                    <a:pt x="241" y="0"/>
                  </a:lnTo>
                  <a:lnTo>
                    <a:pt x="306" y="245"/>
                  </a:lnTo>
                  <a:lnTo>
                    <a:pt x="230" y="200"/>
                  </a:lnTo>
                  <a:lnTo>
                    <a:pt x="229" y="203"/>
                  </a:lnTo>
                  <a:lnTo>
                    <a:pt x="226" y="208"/>
                  </a:lnTo>
                  <a:lnTo>
                    <a:pt x="221" y="217"/>
                  </a:lnTo>
                  <a:lnTo>
                    <a:pt x="216" y="231"/>
                  </a:lnTo>
                  <a:lnTo>
                    <a:pt x="209" y="249"/>
                  </a:lnTo>
                  <a:lnTo>
                    <a:pt x="203" y="272"/>
                  </a:lnTo>
                  <a:lnTo>
                    <a:pt x="196" y="300"/>
                  </a:lnTo>
                  <a:lnTo>
                    <a:pt x="192" y="332"/>
                  </a:lnTo>
                  <a:lnTo>
                    <a:pt x="189" y="369"/>
                  </a:lnTo>
                  <a:lnTo>
                    <a:pt x="187" y="413"/>
                  </a:lnTo>
                  <a:lnTo>
                    <a:pt x="187" y="462"/>
                  </a:lnTo>
                  <a:lnTo>
                    <a:pt x="191" y="516"/>
                  </a:lnTo>
                  <a:lnTo>
                    <a:pt x="199" y="578"/>
                  </a:lnTo>
                  <a:lnTo>
                    <a:pt x="209" y="638"/>
                  </a:lnTo>
                  <a:lnTo>
                    <a:pt x="222" y="696"/>
                  </a:lnTo>
                  <a:lnTo>
                    <a:pt x="239" y="751"/>
                  </a:lnTo>
                  <a:lnTo>
                    <a:pt x="257" y="804"/>
                  </a:lnTo>
                  <a:lnTo>
                    <a:pt x="278" y="854"/>
                  </a:lnTo>
                  <a:lnTo>
                    <a:pt x="300" y="901"/>
                  </a:lnTo>
                  <a:lnTo>
                    <a:pt x="323" y="946"/>
                  </a:lnTo>
                  <a:lnTo>
                    <a:pt x="346" y="987"/>
                  </a:lnTo>
                  <a:lnTo>
                    <a:pt x="369" y="1025"/>
                  </a:lnTo>
                  <a:lnTo>
                    <a:pt x="392" y="1060"/>
                  </a:lnTo>
                  <a:lnTo>
                    <a:pt x="414" y="1091"/>
                  </a:lnTo>
                  <a:lnTo>
                    <a:pt x="434" y="1119"/>
                  </a:lnTo>
                  <a:lnTo>
                    <a:pt x="453" y="1142"/>
                  </a:lnTo>
                  <a:lnTo>
                    <a:pt x="469" y="1161"/>
                  </a:lnTo>
                  <a:lnTo>
                    <a:pt x="483" y="1178"/>
                  </a:lnTo>
                  <a:lnTo>
                    <a:pt x="493" y="1189"/>
                  </a:lnTo>
                  <a:lnTo>
                    <a:pt x="500" y="1196"/>
                  </a:lnTo>
                  <a:lnTo>
                    <a:pt x="501" y="1198"/>
                  </a:lnTo>
                  <a:close/>
                </a:path>
              </a:pathLst>
            </a:custGeom>
            <a:gradFill rotWithShape="0">
              <a:gsLst>
                <a:gs pos="0">
                  <a:srgbClr val="53e1b8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38560" y="1984680"/>
              <a:ext cx="2435760" cy="770760"/>
            </a:xfrm>
            <a:custGeom>
              <a:avLst/>
              <a:gdLst/>
              <a:ahLst/>
              <a:rect l="l" t="t" r="r" b="b"/>
              <a:pathLst>
                <a:path w="1225" h="467">
                  <a:moveTo>
                    <a:pt x="0" y="104"/>
                  </a:moveTo>
                  <a:lnTo>
                    <a:pt x="2" y="102"/>
                  </a:lnTo>
                  <a:lnTo>
                    <a:pt x="11" y="97"/>
                  </a:lnTo>
                  <a:lnTo>
                    <a:pt x="26" y="91"/>
                  </a:lnTo>
                  <a:lnTo>
                    <a:pt x="46" y="82"/>
                  </a:lnTo>
                  <a:lnTo>
                    <a:pt x="71" y="71"/>
                  </a:lnTo>
                  <a:lnTo>
                    <a:pt x="100" y="61"/>
                  </a:lnTo>
                  <a:lnTo>
                    <a:pt x="135" y="49"/>
                  </a:lnTo>
                  <a:lnTo>
                    <a:pt x="174" y="38"/>
                  </a:lnTo>
                  <a:lnTo>
                    <a:pt x="218" y="27"/>
                  </a:lnTo>
                  <a:lnTo>
                    <a:pt x="264" y="17"/>
                  </a:lnTo>
                  <a:lnTo>
                    <a:pt x="316" y="9"/>
                  </a:lnTo>
                  <a:lnTo>
                    <a:pt x="370" y="3"/>
                  </a:lnTo>
                  <a:lnTo>
                    <a:pt x="427" y="0"/>
                  </a:lnTo>
                  <a:lnTo>
                    <a:pt x="489" y="0"/>
                  </a:lnTo>
                  <a:lnTo>
                    <a:pt x="552" y="3"/>
                  </a:lnTo>
                  <a:lnTo>
                    <a:pt x="618" y="11"/>
                  </a:lnTo>
                  <a:lnTo>
                    <a:pt x="687" y="22"/>
                  </a:lnTo>
                  <a:lnTo>
                    <a:pt x="758" y="40"/>
                  </a:lnTo>
                  <a:lnTo>
                    <a:pt x="821" y="60"/>
                  </a:lnTo>
                  <a:lnTo>
                    <a:pt x="879" y="80"/>
                  </a:lnTo>
                  <a:lnTo>
                    <a:pt x="929" y="104"/>
                  </a:lnTo>
                  <a:lnTo>
                    <a:pt x="975" y="127"/>
                  </a:lnTo>
                  <a:lnTo>
                    <a:pt x="1015" y="150"/>
                  </a:lnTo>
                  <a:lnTo>
                    <a:pt x="1049" y="173"/>
                  </a:lnTo>
                  <a:lnTo>
                    <a:pt x="1078" y="195"/>
                  </a:lnTo>
                  <a:lnTo>
                    <a:pt x="1102" y="214"/>
                  </a:lnTo>
                  <a:lnTo>
                    <a:pt x="1122" y="233"/>
                  </a:lnTo>
                  <a:lnTo>
                    <a:pt x="1136" y="247"/>
                  </a:lnTo>
                  <a:lnTo>
                    <a:pt x="1146" y="258"/>
                  </a:lnTo>
                  <a:lnTo>
                    <a:pt x="1153" y="266"/>
                  </a:lnTo>
                  <a:lnTo>
                    <a:pt x="1154" y="269"/>
                  </a:lnTo>
                  <a:lnTo>
                    <a:pt x="1225" y="227"/>
                  </a:lnTo>
                  <a:lnTo>
                    <a:pt x="1162" y="467"/>
                  </a:lnTo>
                  <a:lnTo>
                    <a:pt x="916" y="407"/>
                  </a:lnTo>
                  <a:lnTo>
                    <a:pt x="990" y="356"/>
                  </a:lnTo>
                  <a:lnTo>
                    <a:pt x="987" y="354"/>
                  </a:lnTo>
                  <a:lnTo>
                    <a:pt x="982" y="346"/>
                  </a:lnTo>
                  <a:lnTo>
                    <a:pt x="973" y="334"/>
                  </a:lnTo>
                  <a:lnTo>
                    <a:pt x="960" y="319"/>
                  </a:lnTo>
                  <a:lnTo>
                    <a:pt x="944" y="301"/>
                  </a:lnTo>
                  <a:lnTo>
                    <a:pt x="922" y="280"/>
                  </a:lnTo>
                  <a:lnTo>
                    <a:pt x="896" y="258"/>
                  </a:lnTo>
                  <a:lnTo>
                    <a:pt x="863" y="235"/>
                  </a:lnTo>
                  <a:lnTo>
                    <a:pt x="827" y="211"/>
                  </a:lnTo>
                  <a:lnTo>
                    <a:pt x="785" y="187"/>
                  </a:lnTo>
                  <a:lnTo>
                    <a:pt x="737" y="164"/>
                  </a:lnTo>
                  <a:lnTo>
                    <a:pt x="683" y="142"/>
                  </a:lnTo>
                  <a:lnTo>
                    <a:pt x="622" y="123"/>
                  </a:lnTo>
                  <a:lnTo>
                    <a:pt x="554" y="106"/>
                  </a:lnTo>
                  <a:lnTo>
                    <a:pt x="488" y="92"/>
                  </a:lnTo>
                  <a:lnTo>
                    <a:pt x="425" y="83"/>
                  </a:lnTo>
                  <a:lnTo>
                    <a:pt x="365" y="76"/>
                  </a:lnTo>
                  <a:lnTo>
                    <a:pt x="307" y="74"/>
                  </a:lnTo>
                  <a:lnTo>
                    <a:pt x="254" y="73"/>
                  </a:lnTo>
                  <a:lnTo>
                    <a:pt x="205" y="75"/>
                  </a:lnTo>
                  <a:lnTo>
                    <a:pt x="160" y="78"/>
                  </a:lnTo>
                  <a:lnTo>
                    <a:pt x="120" y="82"/>
                  </a:lnTo>
                  <a:lnTo>
                    <a:pt x="85" y="87"/>
                  </a:lnTo>
                  <a:lnTo>
                    <a:pt x="55" y="92"/>
                  </a:lnTo>
                  <a:lnTo>
                    <a:pt x="31" y="96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10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6200" y="1838160"/>
              <a:ext cx="1891080" cy="1568880"/>
            </a:xfrm>
            <a:custGeom>
              <a:avLst/>
              <a:gdLst/>
              <a:ahLst/>
              <a:rect l="l" t="t" r="r" b="b"/>
              <a:pathLst>
                <a:path w="952" h="947">
                  <a:moveTo>
                    <a:pt x="0" y="756"/>
                  </a:moveTo>
                  <a:lnTo>
                    <a:pt x="191" y="591"/>
                  </a:lnTo>
                  <a:lnTo>
                    <a:pt x="190" y="672"/>
                  </a:lnTo>
                  <a:lnTo>
                    <a:pt x="194" y="672"/>
                  </a:lnTo>
                  <a:lnTo>
                    <a:pt x="205" y="672"/>
                  </a:lnTo>
                  <a:lnTo>
                    <a:pt x="225" y="671"/>
                  </a:lnTo>
                  <a:lnTo>
                    <a:pt x="250" y="667"/>
                  </a:lnTo>
                  <a:lnTo>
                    <a:pt x="281" y="662"/>
                  </a:lnTo>
                  <a:lnTo>
                    <a:pt x="316" y="653"/>
                  </a:lnTo>
                  <a:lnTo>
                    <a:pt x="356" y="641"/>
                  </a:lnTo>
                  <a:lnTo>
                    <a:pt x="399" y="626"/>
                  </a:lnTo>
                  <a:lnTo>
                    <a:pt x="444" y="605"/>
                  </a:lnTo>
                  <a:lnTo>
                    <a:pt x="492" y="578"/>
                  </a:lnTo>
                  <a:lnTo>
                    <a:pt x="540" y="547"/>
                  </a:lnTo>
                  <a:lnTo>
                    <a:pt x="587" y="508"/>
                  </a:lnTo>
                  <a:lnTo>
                    <a:pt x="635" y="463"/>
                  </a:lnTo>
                  <a:lnTo>
                    <a:pt x="689" y="405"/>
                  </a:lnTo>
                  <a:lnTo>
                    <a:pt x="737" y="350"/>
                  </a:lnTo>
                  <a:lnTo>
                    <a:pt x="780" y="298"/>
                  </a:lnTo>
                  <a:lnTo>
                    <a:pt x="816" y="249"/>
                  </a:lnTo>
                  <a:lnTo>
                    <a:pt x="847" y="204"/>
                  </a:lnTo>
                  <a:lnTo>
                    <a:pt x="873" y="164"/>
                  </a:lnTo>
                  <a:lnTo>
                    <a:pt x="895" y="126"/>
                  </a:lnTo>
                  <a:lnTo>
                    <a:pt x="913" y="94"/>
                  </a:lnTo>
                  <a:lnTo>
                    <a:pt x="926" y="66"/>
                  </a:lnTo>
                  <a:lnTo>
                    <a:pt x="936" y="42"/>
                  </a:lnTo>
                  <a:lnTo>
                    <a:pt x="944" y="24"/>
                  </a:lnTo>
                  <a:lnTo>
                    <a:pt x="949" y="12"/>
                  </a:lnTo>
                  <a:lnTo>
                    <a:pt x="952" y="2"/>
                  </a:lnTo>
                  <a:lnTo>
                    <a:pt x="952" y="0"/>
                  </a:lnTo>
                  <a:lnTo>
                    <a:pt x="952" y="4"/>
                  </a:lnTo>
                  <a:lnTo>
                    <a:pt x="950" y="17"/>
                  </a:lnTo>
                  <a:lnTo>
                    <a:pt x="948" y="36"/>
                  </a:lnTo>
                  <a:lnTo>
                    <a:pt x="942" y="62"/>
                  </a:lnTo>
                  <a:lnTo>
                    <a:pt x="936" y="93"/>
                  </a:lnTo>
                  <a:lnTo>
                    <a:pt x="927" y="130"/>
                  </a:lnTo>
                  <a:lnTo>
                    <a:pt x="914" y="172"/>
                  </a:lnTo>
                  <a:lnTo>
                    <a:pt x="899" y="217"/>
                  </a:lnTo>
                  <a:lnTo>
                    <a:pt x="881" y="264"/>
                  </a:lnTo>
                  <a:lnTo>
                    <a:pt x="857" y="315"/>
                  </a:lnTo>
                  <a:lnTo>
                    <a:pt x="830" y="368"/>
                  </a:lnTo>
                  <a:lnTo>
                    <a:pt x="798" y="421"/>
                  </a:lnTo>
                  <a:lnTo>
                    <a:pt x="762" y="475"/>
                  </a:lnTo>
                  <a:lnTo>
                    <a:pt x="719" y="529"/>
                  </a:lnTo>
                  <a:lnTo>
                    <a:pt x="671" y="582"/>
                  </a:lnTo>
                  <a:lnTo>
                    <a:pt x="613" y="637"/>
                  </a:lnTo>
                  <a:lnTo>
                    <a:pt x="555" y="685"/>
                  </a:lnTo>
                  <a:lnTo>
                    <a:pt x="500" y="726"/>
                  </a:lnTo>
                  <a:lnTo>
                    <a:pt x="447" y="761"/>
                  </a:lnTo>
                  <a:lnTo>
                    <a:pt x="396" y="790"/>
                  </a:lnTo>
                  <a:lnTo>
                    <a:pt x="350" y="813"/>
                  </a:lnTo>
                  <a:lnTo>
                    <a:pt x="307" y="831"/>
                  </a:lnTo>
                  <a:lnTo>
                    <a:pt x="270" y="845"/>
                  </a:lnTo>
                  <a:lnTo>
                    <a:pt x="238" y="855"/>
                  </a:lnTo>
                  <a:lnTo>
                    <a:pt x="212" y="862"/>
                  </a:lnTo>
                  <a:lnTo>
                    <a:pt x="192" y="866"/>
                  </a:lnTo>
                  <a:lnTo>
                    <a:pt x="181" y="868"/>
                  </a:lnTo>
                  <a:lnTo>
                    <a:pt x="176" y="868"/>
                  </a:lnTo>
                  <a:lnTo>
                    <a:pt x="167" y="947"/>
                  </a:lnTo>
                  <a:lnTo>
                    <a:pt x="0" y="756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40000" y="3357720"/>
            <a:ext cx="20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ве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5600" y="13986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одовл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341360"/>
            <a:ext cx="2362320" cy="4572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068640"/>
            <a:ext cx="2160720" cy="3859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07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3336840"/>
            <a:ext cx="2362320" cy="4572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88e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3240" y="3068640"/>
            <a:ext cx="20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об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21:03Z</dcterms:created>
  <dc:creator>Семья</dc:creator>
  <dc:description/>
  <dc:language>en-US</dc:language>
  <cp:lastModifiedBy>*</cp:lastModifiedBy>
  <dcterms:modified xsi:type="dcterms:W3CDTF">2011-06-27T20:51:20Z</dcterms:modified>
  <cp:revision>9</cp:revision>
  <dc:subject/>
  <dc:title>Политический  режи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