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31B-05DB-4EBD-9844-24E67C9F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E9D-C3C2-4A9D-933E-A2F3C18E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C96-8994-4909-ABAA-9C491676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E68-F65E-45DF-8A75-7D6C6BBB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98E-3A5D-4E19-8CA1-3906B0FE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1C8-DEDE-4647-BE3F-DE0FD433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D23-E6B0-40D9-8C9E-A447DD5A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19F-D10A-4EBF-8656-04D699B4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2F9-4889-4B79-8139-59F34367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E09-AFD9-40B0-94F9-9384402A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4BD-2A66-481F-B674-3EDD5F5E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5EA-548F-4254-AADA-4C31945D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1C60-DEF5-4B21-8FB6-4B3FF2B70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ма: Внутренняя среда организма. Плазма кров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187280" y="4149720"/>
            <a:ext cx="7056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смотреть виды внутренней среды, изучить состав плазм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124440" cy="4381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492360" y="692280"/>
            <a:ext cx="540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я за цветом жидкости в пробирках, спустя 10— 15 мин можно заметить, что в растворах поваренной соли различной концентрации эритроциты ведут себя по-разному. Они не изменяются в пробирке, где концентрация соли равна 0,9%. Эритроциты осядут на дно пробирки, и жидкость останется прозрачной. Такой раствор называется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изиологическим растворо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примерно такая же концентрация хлорида натрия содержится в плазме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бирке с более низким –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ипотоническ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,2%), чем в плазме, содержанием хлорида натрия эритроциты набухают, их оболочка разрывается. Красящее вещество эритроцитов — гемоглобин выходит наружу и окрашивает жидкость в пробирке в розовы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124440" cy="4381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419640" y="765000"/>
            <a:ext cx="5545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бирке с более высоким –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ипертоническ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анием хлорида натрия (2%) эритроциты сморщиваются и оседают на дно, так как вода из них выходит наружу. Следовательно, постоянство солевого состава плазмы обеспечивает нормальное строение и функцию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ример показывает, что при введении в кровь лекарственных веществ нужно всегда заботиться о том, чтобы солевой состав вводимых растворов по концентрации соответствовал составу плазмы. Поэтому лекарства для введения в кровь готовят на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изиологическом раство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Физиологический раствор вводится также людям, потерявшим большое количество воды, для сохранения их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ртывание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333600" cy="2381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250920" y="342900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нении кровь выходит из со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а первой стад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места повреждения сосуда накапливаются и разрушаются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оци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з них выводится в плазму особый фермент –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опласт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а второй стад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омбопластин воздействует на белок плазм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ромб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оследний превращается в активный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а третьей стад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омбин действует на растворимый в плазме белок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ибриног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превращается в нерастворимый белок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ибр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сети фибрина застревают эритроциты, лейкоциты и тромбоциты, образуя сгусток —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708360" y="915840"/>
            <a:ext cx="52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ртывание крови предохраняет организм от потери крови при ранениях. В свертывании крови участвуют различные вещества, находящиеся в сосудах и в окружающих тканях. Особо важную роль играют кровяные пластинки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оциты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оны кальция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ртывание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333600" cy="2381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24000" y="422280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некоторое время тромб рассасывается и проходимость сосуда восстанавливается. Снижение температуры замедляет, а повышение — ускоряет скорость свертывания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780000" y="1308240"/>
            <a:ext cx="51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закупоривается тромбом, и кровотечение прекращается. Оставшаяся плазма выжимается из тромба.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лазма крови без фибриногена называется сывороткой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994200" y="954000"/>
            <a:ext cx="504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клетка организма выполняет определенную работу и нуждается в постоянном притоке кислорода и питательных веществ, а также в удалении продуктов обмена веществ. И то и другое происходит через кровь, циркулирующую в кровеносной системе. Клетки организма с кровью непосредственно не соприкас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67200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 Box 8"/>
          <p:cNvSpPr/>
          <p:nvPr/>
        </p:nvSpPr>
        <p:spPr>
          <a:xfrm>
            <a:off x="179280" y="4299120"/>
            <a:ext cx="878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ую клетку омывает жидкость, в которой содержатся необходимые для нее вещества. Эта жидкость называется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межклеточным веществом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через мембрану клеток вещества могут проникать только в растворенном виде, межклеточное вещество является для них жизненно важной средой. Из нее клетки получают кислород и питательные вещества, а ей отдают углекислый газ и отработанные продукты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79280" y="3933720"/>
            <a:ext cx="878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клеточное вещество, просочившееся в лимфатические капилляры, называется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лимф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мфа накапливается и по лимфатическим сосудам переносится в кровеносную систему. За день в кровь поступает от 2 до 4 л лимф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ров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жидкая соединительная ткань. Она состоит из жидкой части —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лаз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тдельных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орменных элементов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расных кровяных клеток — эритроцитов –  5 млн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, белых кровяных клеток — лейкоцитов – 4-9 тыс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и кровяных пластинок — тромбоцитов – 300 тыс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140360" y="954000"/>
            <a:ext cx="475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клеточное вещество постоянно пополняется из крови различными химическими соединениями и водой. Одновременно некоторое количество белков, жиров и воды проникает из межклеточного вещества в систему мельчайших лимфатических сосудов — слепо замкнутых лимфатических капилля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.avi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79280" y="4548240"/>
            <a:ext cx="878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итатель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доставляет пищевые вещества к клеткам;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ыделитель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ыносит ненужные продукты обмена веществ;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ерморегулятор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регулирует температуру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защит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ырабатывает вещества, необходимые для борьбы с микроорганизм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умораль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связывает между собой различные органы и системы, перенося вещества, которые в них обра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643280" y="936720"/>
            <a:ext cx="43214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енные элементы крови образуются в кроветворных органах: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красном костном мозге, печени, селезенке, лимфатических уз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рганизме кровь выполняет различные функции: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дыхатель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ереносит кислород от легких к тканям и углекислый газ от тканей к легк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10040" cy="38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4076640"/>
            <a:ext cx="878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аморегуляция внутренней сред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м человека постоянно подвергается разнообразным воздействиям со стороны внешней среды. Но внутренняя среда организма при этом сохраняет постоянство своего состава. В клетках происходит непрерывный обмен: одни вещества выводятся из клеток во внутреннюю среду, другие переходят из нее в клетки. Однако общий состав и свойства внутренней среды меняются столь незначительно, что у здорового человека практически являются постоя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67200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 Box 7"/>
          <p:cNvSpPr/>
          <p:nvPr/>
        </p:nvSpPr>
        <p:spPr>
          <a:xfrm>
            <a:off x="3995640" y="836640"/>
            <a:ext cx="489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ь циркулирует в замкнутой системе сосудов. Объем крови в теле человека в среднем около 5 л.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ровь, межклеточное вещество и лимфа образуют внутреннюю среду организм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яя среда организма имеет постоянный состав. Это обеспечивает нормальный обмен веществ клеток и выполнение свойственных им фун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68360" y="4460760"/>
            <a:ext cx="835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ое постоянство внутренней среды проявляется в том, что в ответ на воздействия из внешней среды в организме автоматически возникают ответные реакции, препятствующие сильным изменениям его внутренней среды. Постоянство внутренней среды (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омеост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— пример процессов саморегуляции в нашем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67200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42920" y="476280"/>
            <a:ext cx="8821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Тема: Внутренняя среда организма. Плазма кров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Д.З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§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1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195640" y="4428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тетрадь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79280" y="1192320"/>
            <a:ext cx="882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нутренняя среда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ровь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ит из жидкой части —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лаз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тдельных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орменных элементов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расных кровяных клеток — эритроцитов –  5 млн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, лейкоцитов – 4-9 тыс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и к тромбоцитов – 300 тыс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Межклеточное вещество.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ую клетку омывает жидкость, в которой содержатся необходимые для не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Лимф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мфа по лимфатическим сосудам переносится в кровеносную систему. За день в кровь поступает от 2 до 4 л лимф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Гомеост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стоянство внутренн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348000" y="2060640"/>
            <a:ext cx="561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остав плазмы кров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зма представляет собой бесцветную прозрачную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зма состоит из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неорганическ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90% — вода и различные минеральные соли) и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органических веще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 органическим веществам плазмы относятся белки, глюкоза, витамины, гормоны и продукты распада бел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936880" cy="5688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остав плаз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остав плаз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124440" cy="4381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3419640" y="892080"/>
            <a:ext cx="5545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знает, что вкус крови слегка солоноватый. Состав крови близок по содержанию солей к морской воде. Важнейшие соли крови — хлорид натрия, хлорид калия и хлорид кальция. В нормальных условиях общая концентрация солей в плазме равна содержанию солей в клетках кро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едеятельность клеток организма зависит от нормального солевого состава крови. Это можно продемонстрировать следующим образом. Заполним три пробирки раствором поваренной соли различной концентрации: 0,9%, 0,2% и 2% и добавим туда небольшое, но одинаковое количество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11:54:14Z</dcterms:created>
  <dc:creator>AV</dc:creator>
  <dc:description/>
  <dc:language>en-US</dc:language>
  <cp:lastModifiedBy>Admin</cp:lastModifiedBy>
  <dcterms:modified xsi:type="dcterms:W3CDTF">2010-12-01T19:39:36Z</dcterms:modified>
  <cp:revision>8</cp:revision>
  <dc:subject/>
  <dc:title>Слайд 1</dc:title>
</cp:coreProperties>
</file>