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45A-6FA0-41D0-9B2C-2A3D24B4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C2A-3E74-4F7D-B81D-93B2979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7B6-8F6C-423A-876A-FADBDC2C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985-ED3D-4974-8433-BCACE432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F65-B465-40F8-AFBE-364471B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C44-47B0-4678-A4D2-81C1404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573-8827-43A1-9991-B73E3EF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E91-3D7A-41C4-A333-5E60A97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E0E-18EC-4BD2-9797-375ED05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DB0-3A4F-4018-BFF2-BDFEFF9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27A-6A13-4AB5-8C76-E2380B3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D9F-8E00-4E2C-B547-C4176AA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D409-B10E-4286-9210-C3DD1FAEA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87280" y="4149720"/>
            <a:ext cx="70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мотреть виды внутренней среды, изучить состав плазм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492360" y="692280"/>
            <a:ext cx="54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за цветом жидкости в пробирках, спустя 10— 15 мин можно заметить, что в растворах поваренной соли различной концентрации эритроциты ведут себя по-разному. Они не изменяются в пробирке, где концентрация соли равна 0,9%. Эритроциты осядут на дно пробирки, и жидкость останется прозрачной. Такой раствор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им растворо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примерно такая же концентрация хлорида натрия содержится в плазме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низ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о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%), чем в плазме, содержанием хлорида натрия эритроциты набухают, их оболочка разрывается. Красящее вещество эритроцитов — гемоглобин выходит наружу и окрашивает жидкость в пробирке в розов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419640" y="765000"/>
            <a:ext cx="554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высо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ер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анием хлорида натрия (2%) эритроциты сморщиваются и оседают на дно, так как вода из них выходит наружу. Следовательно, постоянство солевого состава плазмы обеспечивает нормальное строение и функцию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мер показывает, что при введении в кровь лекарственных веществ нужно всегда заботиться о том, чтобы солевой состав вводимых растворов по концентрации соответствовал составу плазмы. Поэтому лекарства для введения в кровь готовят на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ом раств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Физиологический раствор вводится также людям, потерявшим большое количество воды, для сохранения их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50920" y="342900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нении кровь выходит из с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перв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места повреждения сосуда накапливаются и разрушаю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 них выводится в плазму особый фермент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плас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втор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опластин воздействует на белок плаз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следний превращается в активный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третье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ин действует на растворимый в плазме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ог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ревращается в нерастворимый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сети фибрина застревают эритроциты, лейкоциты и тромбоциты, образуя сгусток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708360" y="915840"/>
            <a:ext cx="52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тывание крови предохраняет организм от потери крови при ранениях. В свертывании крови участвуют различные вещества, находящиеся в сосудах и в окружающих тканях. Особо важную роль играют кровяные пластинк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оны кальци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24000" y="422280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некоторое время тромб рассасывается и проходимость сосуда восстанавливается. Снижение температуры замедляет, а повышение — ускоряет скорость свертывания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780000" y="130824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закупоривается тромбом, и кровотечение прекращается. Оставшаяся плазма выжимается из тромба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а крови без фибриногена называется сывороткой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94200" y="954000"/>
            <a:ext cx="504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летка организма выполняет определенную работу и нуждается в постоянном притоке кислорода и питательных веществ, а также в удалении продуктов обмена веществ. И то и другое происходит через кровь, циркулирующую в кровеносной системе. Клетки организма с кровью непосредственно не соприкас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179280" y="429912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 Эта жидкость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межклеточным веществом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ерез мембрану клеток вещества могут проникать только в растворенном виде, межклеточное вещество является для них жизненно важной средой. Из нее клетки получают кислород и питательные вещества, а ей отдают углекислый газ и отработанные продукты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280" y="393372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, просочившееся в лимфатические капилляры,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лимф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накапливается и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жидкая соединительная ткань. Она 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белых кровяных клеток —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ровяных пластинок —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40360" y="954000"/>
            <a:ext cx="475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 постоянно пополняется из крови различными химическими соединениями и водой. Одновременно некоторое количество белков, жиров и воды проникает из межклеточного вещества в систему мельчайших лимфатических сосудов — слепо замкнутых лимфатических капилля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.avi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454824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ит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оставляет пищевые вещества к клеткам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ыдели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носит ненужные продукты обмена веществ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ерморегулятор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егулирует температуру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защи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рабатывает вещества, необходимые для борьбы с микроорганизм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умора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вязывает между собой различные органы и системы, перенося вещества, которые в них обра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43280" y="936720"/>
            <a:ext cx="43214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нные элементы крови образуются в кроветворных органах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красном костном мозге, печени, селезенке, лимфатических уз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рганизме кровь выполняет различные функции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ых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ереносит кислород от легких к тканям и углекислый газ от тканей к легк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1004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4076640"/>
            <a:ext cx="878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аморегуляция внутренней сред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человека постоянно подвергается разнообразным воздействиям со стороны внешней среды. Но внутренняя среда организма при этом сохраняет постоянство своего состава. В клетках происходит непрерывный обмен: одни вещества выводятся из клеток во внутреннюю среду, другие переходят из нее в клетки. Однако общий состав и свойства внутренней среды меняются столь незначительно, что у здорового человека практически являются постоя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3995640" y="836640"/>
            <a:ext cx="489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ь циркулирует в замкнутой системе сосудов. Объем крови в теле человека в среднем около 5 л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, межклеточное вещество и лимфа образуют внутреннюю среду организм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среда организма имеет постоянный состав. Это обеспечивает нормальный обмен веществ клеток и выполнение свойственных им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68360" y="4460760"/>
            <a:ext cx="835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е постоянство внутренней среды проявляется в том, что в ответ на воздействия из внешней среды в организме автоматически возникают ответные реакции, препятствующие сильным изменениям его внутренней среды. Постоянство внутренней среды (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пример процессов саморегуляции в наше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2920" y="476280"/>
            <a:ext cx="882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.З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1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195640" y="44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тетрад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9280" y="1192320"/>
            <a:ext cx="882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нутренняя среда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Межклеточное вещество.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Лимф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стоянство внутрен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348000" y="2060640"/>
            <a:ext cx="56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остав плазмы кров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представляет собой бесцветную прозрачную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состоит из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неорганическ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90% — вода и различные минеральные соли) 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органических веще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органическим веществам плазмы относятся белки, глюкоза, витамины, гормоны и продукты распада бел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936880" cy="5688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419640" y="892080"/>
            <a:ext cx="554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знает, что вкус крови слегка солоноватый. Состав крови близок по содержанию солей к морской воде. Важнейшие соли крови — хлорид натрия, хлорид калия и хлорид кальция. В нормальных условиях общая концентрация солей в плазме равна содержанию солей в клетках кр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деятельность клеток организма зависит от нормального солевого состава крови. Это можно продемонстрировать следующим образом. Заполним три пробирки раствором поваренной соли различной концентрации: 0,9%, 0,2% и 2% и добавим туда небольшое, но одинаковое количество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1:54:14Z</dcterms:created>
  <dc:creator>AV</dc:creator>
  <dc:description/>
  <dc:language>en-US</dc:language>
  <cp:lastModifiedBy>Admin</cp:lastModifiedBy>
  <dcterms:modified xsi:type="dcterms:W3CDTF">2010-12-01T19:39:36Z</dcterms:modified>
  <cp:revision>8</cp:revision>
  <dc:subject/>
  <dc:title>Слайд 1</dc:title>
</cp:coreProperties>
</file>