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36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BF49-EDB1-4198-956E-BE46C1F22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92BC-4033-4749-8355-AFD5251BB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ADC-52EA-461E-8B5C-C175FAB0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E53-F7E0-4884-A0BF-07FC6CE1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BF0-9C6E-4D48-90D1-FFCB7B08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3DC-1C8E-4DB8-9DD0-7922D1D1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05D-5D1B-4FDC-98EF-963576B1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442-2B39-4ED4-9C8D-DB722D6D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B88-2EC6-4D5A-AA5A-7388B119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F32-0A71-43E4-8B57-6458FAFB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3CB-BFB0-4752-8FDE-26F13A13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4C5-C885-4C0D-8884-241C04F8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B3E-38F9-4C88-96EE-C22CFA17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B15-5C19-44A0-BB32-E8DF9837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EF34-8370-4D79-9B0F-E73C78BBA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1.jpeg"/><Relationship Id="rId10" Type="http://schemas.openxmlformats.org/officeDocument/2006/relationships/image" Target="../media/image41.jpeg"/><Relationship Id="rId11" Type="http://schemas.openxmlformats.org/officeDocument/2006/relationships/image" Target="../media/image41.jpeg"/><Relationship Id="rId12" Type="http://schemas.openxmlformats.org/officeDocument/2006/relationships/image" Target="../media/image41.jpeg"/><Relationship Id="rId13" Type="http://schemas.openxmlformats.org/officeDocument/2006/relationships/image" Target="../media/image4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700360" y="4869000"/>
            <a:ext cx="4033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5f1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Book Antiqua"/>
              </a:rPr>
              <a:t>Реальные бои без прав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00000" y="907920"/>
            <a:ext cx="763272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5f1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Book Antiqua"/>
              </a:rPr>
              <a:t>Предложение по инте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24000" y="40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ояб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380360" y="404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ЦИ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2" descr="Logo"/>
          <p:cNvPicPr/>
          <p:nvPr/>
        </p:nvPicPr>
        <p:blipFill>
          <a:blip r:embed="rId1"/>
          <a:stretch/>
        </p:blipFill>
        <p:spPr>
          <a:xfrm>
            <a:off x="684360" y="-277920"/>
            <a:ext cx="8029440" cy="7667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1403280" y="2060640"/>
            <a:ext cx="655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484360" y="2997360"/>
            <a:ext cx="38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Дальневосточная Федерация соврем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АНКРАТИ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57 47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e-mail: pankration.pk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121844155715198785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340000" y="1050840"/>
            <a:ext cx="65530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Первые сведения о панкратионе относятся к Олимпиаде-648 до н. э. в отличие от бокса он был действительно изобретен, а не просто узаконен. «Панкратион» переводится как «всевозможный» и этим всё сказано. Разрешались любые приемы, кроме укусов и выдавливания глаз. Помимо ударов руками бойцы били локтем, ладонью, а также ногами (обычно прямой удар не выше уровня груди) в стойке, в прыжке и даже в паде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ревняя статистика показала что тот, кто делал ставку исключительно на ближний бой, проигрывал чаще. Панкратион первым из всех единоборств нес в себе принцип нанесения ударов сериями! Кулачным бойцам серии были почти недоступны из-за запрета бить по корпусу. А панкратионик, таким запретом не связыв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В наше время Панкратион возродился в Бразилии как «Бои без правил», где сильнейшие представители своих видов единоборств - бокса, борьбы, кикбоксинга, восточных стилей встречались между собой на ринге восьмигранной формы и по единым общим правилам вступали голыми кулаками в полный контакт, без защитных средств бились до полной побе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Таким образом, эти рыцарские турниры стали неким абсолютом, «верхушкой» в мире единоборств и поэтому созданная в 1995 г. Международная Федерация, курирующая бои без правил во всем мире, получила название "Международный совет по абсолютным поединкам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556000" y="189000"/>
            <a:ext cx="62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Не много истории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i"/>
          <p:cNvPicPr/>
          <p:nvPr/>
        </p:nvPicPr>
        <p:blipFill>
          <a:blip r:embed="rId2"/>
          <a:stretch/>
        </p:blipFill>
        <p:spPr>
          <a:xfrm>
            <a:off x="324000" y="981000"/>
            <a:ext cx="2160360" cy="1592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56" name="Picture 12" descr="i211"/>
          <p:cNvPicPr/>
          <p:nvPr/>
        </p:nvPicPr>
        <p:blipFill>
          <a:blip r:embed="rId3"/>
          <a:stretch/>
        </p:blipFill>
        <p:spPr>
          <a:xfrm>
            <a:off x="324000" y="4254480"/>
            <a:ext cx="2160360" cy="1911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57" name="Picture 13" descr="i11"/>
          <p:cNvPicPr/>
          <p:nvPr/>
        </p:nvPicPr>
        <p:blipFill>
          <a:blip r:embed="rId4"/>
          <a:stretch/>
        </p:blipFill>
        <p:spPr>
          <a:xfrm>
            <a:off x="324000" y="2712960"/>
            <a:ext cx="2160360" cy="14367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Front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Правила проведения бо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900000" y="2278080"/>
            <a:ext cx="5543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Book Antiqua"/>
              </a:rPr>
              <a:t>ЗАПРЕЩ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кусаться и царапать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ыдавливать и наносить удары в глаза; разрывать рот или нос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хватать соперника за воло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ногами в п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в горл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проводить приёмы в суставы пальцев рук или ног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локтями в затыло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ногами, если на них надета обув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держаться за сет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900000" y="1052640"/>
            <a:ext cx="547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Book Antiqua"/>
              </a:rPr>
              <a:t>РАЗРЕШ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кулаками, локт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оловой и коленями во все зоны противн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использовать захваты, удушающие и болевые приё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подсечки, бро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900000" y="4581360"/>
            <a:ext cx="5616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Book Antiqua"/>
              </a:rPr>
              <a:t>ПОБ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окау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виду отказа одного из соперников от продолжения бо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виду отказа секунда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шением суд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виду остановки боя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i3"/>
          <p:cNvPicPr/>
          <p:nvPr/>
        </p:nvPicPr>
        <p:blipFill>
          <a:blip r:embed="rId2"/>
          <a:stretch/>
        </p:blipFill>
        <p:spPr>
          <a:xfrm>
            <a:off x="6659640" y="981000"/>
            <a:ext cx="1946160" cy="1457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4" name="Picture 14" descr="1i"/>
          <p:cNvPicPr/>
          <p:nvPr/>
        </p:nvPicPr>
        <p:blipFill>
          <a:blip r:embed="rId3"/>
          <a:stretch/>
        </p:blipFill>
        <p:spPr>
          <a:xfrm>
            <a:off x="6659640" y="4581360"/>
            <a:ext cx="1944720" cy="14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5" name="Picture 15" descr="2i"/>
          <p:cNvPicPr/>
          <p:nvPr/>
        </p:nvPicPr>
        <p:blipFill>
          <a:blip r:embed="rId4"/>
          <a:stretch/>
        </p:blipFill>
        <p:spPr>
          <a:xfrm>
            <a:off x="6661080" y="2565360"/>
            <a:ext cx="1943280" cy="1943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map"/>
          <p:cNvPicPr/>
          <p:nvPr/>
        </p:nvPicPr>
        <p:blipFill>
          <a:blip r:embed="rId1"/>
          <a:stretch/>
        </p:blipFill>
        <p:spPr>
          <a:xfrm>
            <a:off x="3851280" y="1268280"/>
            <a:ext cx="4611600" cy="4681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826920" y="3357720"/>
            <a:ext cx="316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Book Antiqua"/>
              </a:rPr>
              <a:t>ДВФ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Владиво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аха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аха (Якут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тропавловск –Камчат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Хабар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Благовеще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ахо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Ар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ссурий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География учас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ukraine_flag"/>
          <p:cNvPicPr/>
          <p:nvPr/>
        </p:nvPicPr>
        <p:blipFill>
          <a:blip r:embed="rId2"/>
          <a:stretch/>
        </p:blipFill>
        <p:spPr>
          <a:xfrm>
            <a:off x="1979640" y="1069920"/>
            <a:ext cx="1152360" cy="84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armenia_fl"/>
          <p:cNvPicPr/>
          <p:nvPr/>
        </p:nvPicPr>
        <p:blipFill>
          <a:blip r:embed="rId3"/>
          <a:stretch/>
        </p:blipFill>
        <p:spPr>
          <a:xfrm>
            <a:off x="3203640" y="1058760"/>
            <a:ext cx="122400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russia_flag"/>
          <p:cNvPicPr/>
          <p:nvPr/>
        </p:nvPicPr>
        <p:blipFill>
          <a:blip r:embed="rId4"/>
          <a:stretch/>
        </p:blipFill>
        <p:spPr>
          <a:xfrm>
            <a:off x="682560" y="981000"/>
            <a:ext cx="1152720" cy="90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826920" y="2637000"/>
            <a:ext cx="223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Санкт 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684360" y="1989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Ро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979640" y="1989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Укра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3203640" y="1989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Ар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2" descr="ae3_preview"/>
          <p:cNvPicPr/>
          <p:nvPr/>
        </p:nvPicPr>
        <p:blipFill>
          <a:blip r:embed="rId1"/>
          <a:srcRect l="0" t="34260" r="53022" b="38462"/>
          <a:stretch/>
        </p:blipFill>
        <p:spPr>
          <a:xfrm>
            <a:off x="2411280" y="3573360"/>
            <a:ext cx="4104000" cy="293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Специальный г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nP5Zlt36yv"/>
          <p:cNvPicPr/>
          <p:nvPr/>
        </p:nvPicPr>
        <p:blipFill>
          <a:blip r:embed="rId2"/>
          <a:stretch/>
        </p:blipFill>
        <p:spPr>
          <a:xfrm>
            <a:off x="2340000" y="981000"/>
            <a:ext cx="2543040" cy="254340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pic>
        <p:nvPicPr>
          <p:cNvPr id="79" name="Picture 17" descr="1203442281_aemel"/>
          <p:cNvPicPr/>
          <p:nvPr/>
        </p:nvPicPr>
        <p:blipFill>
          <a:blip r:embed="rId3"/>
          <a:stretch/>
        </p:blipFill>
        <p:spPr>
          <a:xfrm>
            <a:off x="395280" y="981000"/>
            <a:ext cx="1679760" cy="251928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sp>
        <p:nvSpPr>
          <p:cNvPr id="80" name="Text Box 19"/>
          <p:cNvSpPr/>
          <p:nvPr/>
        </p:nvSpPr>
        <p:spPr>
          <a:xfrm>
            <a:off x="250920" y="3645000"/>
            <a:ext cx="8642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Емельяненко Александр Владимирович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родился в городе Старый Оскол, Белгородской области 2 августа 1981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портивная карь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1988 году начал заниматься дзю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1998 году выполнил норматив мастера спорта РФ по дзю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1999 завоевал первый серьезный титул — стал Чемпионом Европы по боевому самбо в г.София (Болгар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2003 году выполнил норматив мастера спорта РФ по сам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2003-2004-2006 стал трехкратным чемпионом Мира по боевому сам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 2003 года начал выступления в японской лиге боев без правил «Pride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апреле 2007 года принял участие в турнире в г. Санкт-Петербурге по Mix Fight «Россия против Америки» и с блеском выиграл свой поединок. Почетными гостями на турнире стали Президент России Владимир Путин, Премьер министр Италии Сильвио Берлускони и голливудский актер и режиссер Жан-Клод Ван Д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настоящее время Александр — один из наиболее перспективных бойцов на турнирах по боям без правил, входящий в первую десятку мирового рей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www.emelyanenk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0" descr="ae3_preview"/>
          <p:cNvPicPr/>
          <p:nvPr/>
        </p:nvPicPr>
        <p:blipFill>
          <a:blip r:embed="rId4"/>
          <a:srcRect l="42174" t="0" r="-171" b="0"/>
          <a:stretch/>
        </p:blipFill>
        <p:spPr>
          <a:xfrm>
            <a:off x="5003640" y="981000"/>
            <a:ext cx="1565280" cy="259236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pic>
        <p:nvPicPr>
          <p:cNvPr id="82" name="Picture 21" descr="27772983_x_65748f64"/>
          <p:cNvPicPr/>
          <p:nvPr/>
        </p:nvPicPr>
        <p:blipFill>
          <a:blip r:embed="rId5"/>
          <a:stretch/>
        </p:blipFill>
        <p:spPr>
          <a:xfrm>
            <a:off x="6804000" y="981000"/>
            <a:ext cx="1728720" cy="255744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PANKRATION_A4_07"/>
          <p:cNvPicPr/>
          <p:nvPr/>
        </p:nvPicPr>
        <p:blipFill>
          <a:blip r:embed="rId1"/>
          <a:stretch/>
        </p:blipFill>
        <p:spPr>
          <a:xfrm>
            <a:off x="250920" y="3213000"/>
            <a:ext cx="8569080" cy="2506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Специальный г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9280" y="2852640"/>
            <a:ext cx="8964720" cy="42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Федор Емельяненко – в городе Рубежное Луганской области (Украина),  родился в 1976 году,  в 1978 году переехал в Россию, г. Старый Оскол Белгородской обла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1997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Выполнил норматив мастера спорта России по самбо, (Санкт-Петербург). Спустя 2 месяца выиграл международный турнир (Курск) и стал мастером спорта по дзю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1998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олучил звание мастера спорта международного класса России по сам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1999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обедил в международных турнирах по самбо (Москва), стал бронзовым призером международных турниров класса "А" (Москва, София). В командном чемпионате Европы российская команда, в составе которой был Федор Емельяненко, заняла первое место (Стамбу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0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Занял третье место на чемпионате России по самбо. В этом же году перешел в бои в бойцовской версии "Рингс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1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Стал чемпионом мира в этой версии в тяжелой весовой категор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2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Стал чемпионом в абсолютной весовой категории и перешел в самую престижную ерсию боев без правил "Прайд,  выиграл чемпионат России по боевому самбо (Москва). Стал первым на чемпионате мира по боевому самбо в тяжелом весе (Салоники, Греция), Выиграл чемпионат мира по боевому самбо в абсолютной весовой категории (Панам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4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ровёл пять боёв в PRIDE выиграв Гран-при, стал обладателем двух титульных поясов - "Чемпион Гран-при" и "Чемпион мира" по побям версии "PRID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5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Участвовал в турнирных боях "PRIDE" завоевав звание трёхкратного чемпиона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6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рисвоено звание четырёхкратный чемпион мира по боям версии "PRID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7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Федор удостоен национальной премии "Золотой пояс" в номинации "Самая яркая победа года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8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олучил премию ТОП-50 Самые знаменитые люди Петербург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ww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efedo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8"/>
          <p:cNvPicPr/>
          <p:nvPr/>
        </p:nvPicPr>
        <p:blipFill>
          <a:blip r:embed="rId2"/>
          <a:stretch/>
        </p:blipFill>
        <p:spPr>
          <a:xfrm>
            <a:off x="4646520" y="765000"/>
            <a:ext cx="1406520" cy="20894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87" name="Picture 15" descr="11i"/>
          <p:cNvPicPr/>
          <p:nvPr/>
        </p:nvPicPr>
        <p:blipFill>
          <a:blip r:embed="rId3"/>
          <a:stretch/>
        </p:blipFill>
        <p:spPr>
          <a:xfrm>
            <a:off x="2673360" y="765000"/>
            <a:ext cx="1393920" cy="20908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88" name="Picture 16" descr="i7"/>
          <p:cNvPicPr/>
          <p:nvPr/>
        </p:nvPicPr>
        <p:blipFill>
          <a:blip r:embed="rId4"/>
          <a:stretch/>
        </p:blipFill>
        <p:spPr>
          <a:xfrm>
            <a:off x="6734160" y="765000"/>
            <a:ext cx="1749600" cy="20894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89" name="Picture 17" descr="27772983_x_65748f64"/>
          <p:cNvPicPr/>
          <p:nvPr/>
        </p:nvPicPr>
        <p:blipFill>
          <a:blip r:embed="rId5"/>
          <a:stretch/>
        </p:blipFill>
        <p:spPr>
          <a:xfrm>
            <a:off x="752400" y="765000"/>
            <a:ext cx="1371600" cy="20876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2411280" y="189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Рекламные 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124000" y="1052640"/>
            <a:ext cx="7020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Освещение статуса Спонсора в ТВ анонсах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: канал спорт, РЕН-ТВ и др. не менее 750 выходов в течение 4 нед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Представление Спонсора на радио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: Европа +  Русское радио и др.  не менее 400 выходов в течение 4 нед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Освещение статуса Спонсора в печатных изданиях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: Советский спорт, Дорогое удовольствие, журнал Обломо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f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G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(Автогид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Размещение логотипа партнера на наружной рекламе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(баннеры, растяж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свещение статуса Спонсора на  2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х страницах журнала, посвященного смешенным единоборствам (глянец)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тираж 4000 ш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азмещение фирменного логотипа Спонсора в полиграфическом сопровождении чемпионата: пригласительные билеты – 2100 экз., плакаты  А1 – 3000 эк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аспространение рекламных материалов Спонсора во время турнира (проспектов, буклетов, дисконтных карт и т.д.) среди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IP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персон, гостей турнира, зр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едставление Спонсора во время проведения турн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азмещение рекламного баннера Спонсора на чемпионате 6х12 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окрутка видеоролика Спонсора во время чемпио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аво последующего использования видеоматериалов в собственных реклам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аво использования логотипа чемпионата в рекламных и маркетингов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едоставление фотосъемки с чемпионата с участием Спонс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аво на 4 билета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IP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категории,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а так же на 10 билетов лучшей катег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Стоимость пакта официального партнера чемпионата ПК составля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_____________________________________________________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______ рублей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Объем размещения и интеграции обсуждается с организаторами в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индивидуальном поряд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55640" y="620640"/>
            <a:ext cx="7416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Партнерский пакет включает в себ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PANKRATION_1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211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9" descr="121844155715198785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708360" y="189000"/>
            <a:ext cx="511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Фото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IMG_6395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6227640" y="2852640"/>
            <a:ext cx="2232000" cy="1440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97" name="Picture 21" descr="IMG_6418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3492360" y="2924280"/>
            <a:ext cx="2152800" cy="1439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98" name="Picture 22" descr="IMG_6482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900000" y="4437000"/>
            <a:ext cx="2152800" cy="1440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99" name="Picture 23" descr="IMG_6528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6300720" y="1052640"/>
            <a:ext cx="2152800" cy="1439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0" name="Picture 24" descr="IMG_6690"/>
          <p:cNvPicPr/>
          <p:nvPr/>
        </p:nvPicPr>
        <p:blipFill>
          <a:blip r:embed="rId6">
            <a:lum contrast="-12000"/>
          </a:blip>
          <a:stretch/>
        </p:blipFill>
        <p:spPr>
          <a:xfrm>
            <a:off x="6300720" y="4653000"/>
            <a:ext cx="2152800" cy="1440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1" name="Picture 25" descr="IMG_6705"/>
          <p:cNvPicPr/>
          <p:nvPr/>
        </p:nvPicPr>
        <p:blipFill>
          <a:blip r:embed="rId7">
            <a:lum contrast="-12000"/>
          </a:blip>
          <a:stretch/>
        </p:blipFill>
        <p:spPr>
          <a:xfrm>
            <a:off x="900000" y="1125360"/>
            <a:ext cx="2152800" cy="14385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2" name="Picture 26" descr="IMG_6898"/>
          <p:cNvPicPr/>
          <p:nvPr/>
        </p:nvPicPr>
        <p:blipFill>
          <a:blip r:embed="rId8">
            <a:lum contrast="-12000"/>
          </a:blip>
          <a:stretch/>
        </p:blipFill>
        <p:spPr>
          <a:xfrm>
            <a:off x="3852720" y="692280"/>
            <a:ext cx="1357560" cy="20286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3" name="Picture 27" descr="IMG_6935"/>
          <p:cNvPicPr/>
          <p:nvPr/>
        </p:nvPicPr>
        <p:blipFill>
          <a:blip r:embed="rId9">
            <a:lum contrast="-12000"/>
          </a:blip>
          <a:stretch/>
        </p:blipFill>
        <p:spPr>
          <a:xfrm>
            <a:off x="900000" y="2781360"/>
            <a:ext cx="2094120" cy="1439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4" name="Picture 28" descr="IMG_6993"/>
          <p:cNvPicPr/>
          <p:nvPr/>
        </p:nvPicPr>
        <p:blipFill>
          <a:blip r:embed="rId10">
            <a:lum contrast="-12000"/>
          </a:blip>
          <a:stretch/>
        </p:blipFill>
        <p:spPr>
          <a:xfrm>
            <a:off x="3995640" y="4508640"/>
            <a:ext cx="1314720" cy="15238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Наши партн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MG"/>
          <p:cNvPicPr/>
          <p:nvPr/>
        </p:nvPicPr>
        <p:blipFill>
          <a:blip r:embed="rId1"/>
          <a:stretch/>
        </p:blipFill>
        <p:spPr>
          <a:xfrm>
            <a:off x="755640" y="4292640"/>
            <a:ext cx="1295280" cy="880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logo_end"/>
          <p:cNvPicPr/>
          <p:nvPr/>
        </p:nvPicPr>
        <p:blipFill>
          <a:blip r:embed="rId2"/>
          <a:stretch/>
        </p:blipFill>
        <p:spPr>
          <a:xfrm>
            <a:off x="3780000" y="4292640"/>
            <a:ext cx="1079280" cy="8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i"/>
          <p:cNvPicPr/>
          <p:nvPr/>
        </p:nvPicPr>
        <p:blipFill>
          <a:blip r:embed="rId3"/>
          <a:stretch/>
        </p:blipFill>
        <p:spPr>
          <a:xfrm>
            <a:off x="755640" y="2565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i55"/>
          <p:cNvPicPr/>
          <p:nvPr/>
        </p:nvPicPr>
        <p:blipFill>
          <a:blip r:embed="rId4"/>
          <a:stretch/>
        </p:blipFill>
        <p:spPr>
          <a:xfrm>
            <a:off x="2340000" y="5445000"/>
            <a:ext cx="1366920" cy="314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i66"/>
          <p:cNvPicPr/>
          <p:nvPr/>
        </p:nvPicPr>
        <p:blipFill>
          <a:blip r:embed="rId5"/>
          <a:stretch/>
        </p:blipFill>
        <p:spPr>
          <a:xfrm>
            <a:off x="3924360" y="5445000"/>
            <a:ext cx="1225440" cy="303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i111"/>
          <p:cNvPicPr/>
          <p:nvPr/>
        </p:nvPicPr>
        <p:blipFill>
          <a:blip r:embed="rId6"/>
          <a:stretch/>
        </p:blipFill>
        <p:spPr>
          <a:xfrm>
            <a:off x="5292720" y="5373720"/>
            <a:ext cx="1295280" cy="431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i222"/>
          <p:cNvPicPr/>
          <p:nvPr/>
        </p:nvPicPr>
        <p:blipFill>
          <a:blip r:embed="rId7"/>
          <a:stretch/>
        </p:blipFill>
        <p:spPr>
          <a:xfrm>
            <a:off x="6156360" y="4292640"/>
            <a:ext cx="1152360" cy="895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PANKRATION_A4_01"/>
          <p:cNvPicPr/>
          <p:nvPr/>
        </p:nvPicPr>
        <p:blipFill>
          <a:blip r:embed="rId8"/>
          <a:srcRect l="0" t="0" r="86597" b="61394"/>
          <a:stretch/>
        </p:blipFill>
        <p:spPr>
          <a:xfrm>
            <a:off x="684360" y="984240"/>
            <a:ext cx="1439640" cy="138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PANKRATION_A4_01"/>
          <p:cNvPicPr/>
          <p:nvPr/>
        </p:nvPicPr>
        <p:blipFill>
          <a:blip r:embed="rId9"/>
          <a:srcRect l="23229" t="7113" r="63184" b="60988"/>
          <a:stretch/>
        </p:blipFill>
        <p:spPr>
          <a:xfrm>
            <a:off x="2338560" y="995400"/>
            <a:ext cx="1728720" cy="135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PANKRATION_A4_01"/>
          <p:cNvPicPr/>
          <p:nvPr/>
        </p:nvPicPr>
        <p:blipFill>
          <a:blip r:embed="rId10">
            <a:lum contrast="12000"/>
          </a:blip>
          <a:srcRect l="84664" t="65221" r="-11" b="4137"/>
          <a:stretch/>
        </p:blipFill>
        <p:spPr>
          <a:xfrm>
            <a:off x="2268360" y="4292640"/>
            <a:ext cx="1295640" cy="861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0" descr="PANKRATION_A4_01"/>
          <p:cNvPicPr/>
          <p:nvPr/>
        </p:nvPicPr>
        <p:blipFill>
          <a:blip r:embed="rId11"/>
          <a:srcRect l="66380" t="59102" r="21339" b="-24"/>
          <a:stretch/>
        </p:blipFill>
        <p:spPr>
          <a:xfrm>
            <a:off x="5148360" y="4292640"/>
            <a:ext cx="777600" cy="86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1" descr="PANKRATION_A4_01"/>
          <p:cNvPicPr/>
          <p:nvPr/>
        </p:nvPicPr>
        <p:blipFill>
          <a:blip r:embed="rId12"/>
          <a:srcRect l="25275" t="63614" r="53964" b="2220"/>
          <a:stretch/>
        </p:blipFill>
        <p:spPr>
          <a:xfrm>
            <a:off x="2340000" y="2583000"/>
            <a:ext cx="1727280" cy="1277640"/>
          </a:xfrm>
          <a:prstGeom prst="rect">
            <a:avLst/>
          </a:prstGeom>
          <a:ln w="0">
            <a:noFill/>
          </a:ln>
        </p:spPr>
      </p:pic>
      <p:sp>
        <p:nvSpPr>
          <p:cNvPr id="118" name="Line 32"/>
          <p:cNvSpPr/>
          <p:nvPr/>
        </p:nvSpPr>
        <p:spPr>
          <a:xfrm>
            <a:off x="611280" y="4221000"/>
            <a:ext cx="8064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3" descr="лого"/>
          <p:cNvPicPr/>
          <p:nvPr/>
        </p:nvPicPr>
        <p:blipFill>
          <a:blip r:embed="rId13"/>
          <a:stretch/>
        </p:blipFill>
        <p:spPr>
          <a:xfrm>
            <a:off x="4284720" y="981000"/>
            <a:ext cx="259236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40:08Z</dcterms:created>
  <dc:creator>alexandr</dc:creator>
  <dc:description/>
  <dc:language>en-US</dc:language>
  <cp:lastModifiedBy>ZooM</cp:lastModifiedBy>
  <dcterms:modified xsi:type="dcterms:W3CDTF">2013-12-03T20:40:50Z</dcterms:modified>
  <cp:revision>11</cp:revision>
  <dc:subject/>
  <dc:title>Бои панкрат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c0000000000010243000207f6000400038000</vt:lpwstr>
  </property>
</Properties>
</file>