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1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2.wmf" ContentType="image/x-wm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6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76B-CFEC-4972-AC0E-1F595C1C2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DACD-F9E2-4567-9D05-55ACD95DC3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938-6F49-45B0-88BB-00C0988F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81F-B547-4DD3-9C6F-D51319A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4B7-A5E9-4AD9-ACE8-AE2844A8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71F-8E45-4D2C-BA98-3A1FBCDB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4F6-2FA9-4EA9-ADCF-31308BBE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B98-5593-455C-BFF1-C08ACB27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7C88-44B9-4284-8F5C-8A0325A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EB9C-1B65-4455-870C-12F8D072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1BB6-C612-41AD-B6E9-17598FE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13D-08F7-44B2-9944-229D61D1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158-FC55-4C6E-9684-8533C32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977-DAF5-4118-8741-F6F9FE4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16A-B4EC-48EF-89F8-7344A1F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40F-0795-4546-AC07-15DF90B8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E38-060A-4240-8CE9-6E0CF8D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5F29-CFB7-482C-8823-2ED3B476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5B59-5E9D-4181-812A-D8425B72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50F-4447-4400-90DF-1122B293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6E2-1115-45D4-A5BB-83FC1CBA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BD3-8C25-4F85-AFCB-4E1A40B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224-348D-4338-9165-1E4FA47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1B5-A3F0-4BA6-814C-BDC87E7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4CD-2051-4147-B45F-04035B0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639-D2B2-4D28-8728-EE18302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450-1BF6-4365-AC55-CD250EE9F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4A2-1D52-4D4C-9618-1458A03B9C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Рисунок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72428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Педагог-психолог МОУ «СОШ №1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г. Емва – Субботина К. 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j0433779"/>
          <p:cNvPicPr/>
          <p:nvPr/>
        </p:nvPicPr>
        <p:blipFill>
          <a:blip r:embed="rId2"/>
          <a:stretch/>
        </p:blipFill>
        <p:spPr>
          <a:xfrm>
            <a:off x="762120" y="3200400"/>
            <a:ext cx="35049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304920" y="914400"/>
            <a:ext cx="8076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обенности лич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даренного ребе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26920" y="189000"/>
            <a:ext cx="7315200" cy="459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Творческая одар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79280" y="2060640"/>
            <a:ext cx="4267440" cy="39888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М. Матюшин счи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572000" y="1752480"/>
            <a:ext cx="4392720" cy="192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80e"/>
                </a:solidFill>
                <a:latin typeface="Arial"/>
              </a:rPr>
              <a:t>«Всякая одаренность –  творческая:  если нет творчества, бессмысленно говорить об одаренности».</a:t>
            </a:r>
            <a:r>
              <a:rPr b="0" lang="ru-RU" sz="2400" spc="-1" strike="noStrike">
                <a:solidFill>
                  <a:srgbClr val="f608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8000" y="4292640"/>
            <a:ext cx="4267080" cy="39888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</a:rPr>
              <a:t>Е.Яковлева полаг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00720" y="3860640"/>
            <a:ext cx="4032000" cy="2533320"/>
          </a:xfrm>
          <a:prstGeom prst="rect">
            <a:avLst/>
          </a:prstGeom>
          <a:solidFill>
            <a:srgbClr val="59d840"/>
          </a:soli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Одаренность порождается  или  способностью  продуцировать,  выдвигать  н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, изобретать, или же способностью блестяще исполнять, использовать  т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уже создан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guestan"/>
          <p:cNvPicPr/>
          <p:nvPr/>
        </p:nvPicPr>
        <p:blipFill>
          <a:blip r:embed="rId1"/>
          <a:stretch/>
        </p:blipFill>
        <p:spPr>
          <a:xfrm>
            <a:off x="3059280" y="3860640"/>
            <a:ext cx="169200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guestan"/>
          <p:cNvPicPr/>
          <p:nvPr/>
        </p:nvPicPr>
        <p:blipFill>
          <a:blip r:embed="rId2"/>
          <a:stretch/>
        </p:blipFill>
        <p:spPr>
          <a:xfrm>
            <a:off x="3059280" y="1557360"/>
            <a:ext cx="1692000" cy="99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995400" y="284040"/>
            <a:ext cx="7013520" cy="2014560"/>
          </a:xfrm>
          <a:prstGeom prst="roundRect">
            <a:avLst>
              <a:gd name="adj" fmla="val 16667"/>
            </a:avLst>
          </a:prstGeom>
          <a:solidFill>
            <a:srgbClr val="59d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истика одарённых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9640" y="2781360"/>
            <a:ext cx="8136000" cy="185400"/>
          </a:xfrm>
          <a:prstGeom prst="rect">
            <a:avLst/>
          </a:prstGeom>
          <a:gradFill rotWithShape="0">
            <a:gsLst>
              <a:gs pos="0">
                <a:srgbClr val="bb5f03"/>
              </a:gs>
              <a:gs pos="50000">
                <a:srgbClr val="ffffff"/>
              </a:gs>
              <a:gs pos="100000">
                <a:srgbClr val="bb5f0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 flipV="1" rot="10800000">
            <a:off x="611280" y="6307920"/>
            <a:ext cx="7974000" cy="398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3068640"/>
          <a:ext cx="7274160" cy="2712960"/>
        </p:xfrm>
        <a:graphic>
          <a:graphicData uri="http://schemas.openxmlformats.org/drawingml/2006/table">
            <a:tbl>
              <a:tblPr/>
              <a:tblGrid>
                <a:gridCol w="7274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ежающее познавательное развит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социальная чувстви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характеристики (высокий энерг.уровень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к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самосто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сивный интерес к познан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ивительная способность к концентрации вн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самооц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зависим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адаптация к школьному обучению и соответственно к коллективу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стники относятся с уваж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дис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авномерность психическо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 физиологическим развит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в эмоциональном развит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печатли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растное отношение к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онность к бурным аффект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инирование направленности лишь на усвоение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ние занимает гораздо меньше ме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лишняя конфликт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ычное поведение, стра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55640" y="54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роблемы  одарённых дет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1773360"/>
            <a:ext cx="741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приязнь к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гружение в философские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тремление к совершен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щущение неудовлетворё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реалистические ц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верхчувстви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терп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AN065"/>
          <p:cNvPicPr/>
          <p:nvPr/>
        </p:nvPicPr>
        <p:blipFill>
          <a:blip r:embed="rId2"/>
          <a:stretch/>
        </p:blipFill>
        <p:spPr>
          <a:xfrm>
            <a:off x="6659640" y="378936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744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33520" y="1828800"/>
            <a:ext cx="6840360" cy="1373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речь и богатый словарный запас часто могут проявляться только в устной реч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9640" y="3505320"/>
            <a:ext cx="7689960" cy="9471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знательны, однако часто не могут заучить легкий, но неинтересный материа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33520" y="4876920"/>
            <a:ext cx="7764480" cy="18003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 к длительной интенсивной деятельност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не способны к выполнению заданий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раниченных по времени, иногда безнадежно неорганизованн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6" descr="i?id=41815837&amp;tov=7"/>
          <p:cNvPicPr/>
          <p:nvPr/>
        </p:nvPicPr>
        <p:blipFill>
          <a:blip r:embed="rId2"/>
          <a:stretch/>
        </p:blipFill>
        <p:spPr>
          <a:xfrm>
            <a:off x="7162920" y="152280"/>
            <a:ext cx="180972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8040" y="34308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133720" y="1447920"/>
            <a:ext cx="6324480" cy="82548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фекционизм – стремление к совершенству и жуткие переживания в случае неуда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81080" y="3048120"/>
            <a:ext cx="6480360" cy="119124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особенно важно совпадение стиля обучения и их познавательных особенност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4724280"/>
            <a:ext cx="7543800" cy="1922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а и чувств у одаренных идет неравномерно, поэтому они стремятся использовать свои преимущества в интеллектуальной сфере для того, чтобы замаскировать эмоциональную незрел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MCj03981550000[1]"/>
          <p:cNvPicPr/>
          <p:nvPr/>
        </p:nvPicPr>
        <p:blipFill>
          <a:blip r:embed="rId2"/>
          <a:stretch/>
        </p:blipFill>
        <p:spPr>
          <a:xfrm>
            <a:off x="0" y="15238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900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Типы характеров</a:t>
            </a:r>
            <a:br>
              <a:rPr sz="4000"/>
            </a:b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 одаренных дет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74464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й тип – подвижный, веселый, коммуникабельный, открытый, с хорошим речевым развитием, лидер, фантаз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-й тип – замкнутый, тихий, размышляющ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стенчивый пуг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MPj04317860000[1]"/>
          <p:cNvPicPr/>
          <p:nvPr/>
        </p:nvPicPr>
        <p:blipFill>
          <a:blip r:embed="rId1"/>
          <a:stretch/>
        </p:blipFill>
        <p:spPr>
          <a:xfrm>
            <a:off x="6095880" y="434340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Pj04309720000[1]"/>
          <p:cNvPicPr/>
          <p:nvPr/>
        </p:nvPicPr>
        <p:blipFill>
          <a:blip r:embed="rId2"/>
          <a:stretch/>
        </p:blipFill>
        <p:spPr>
          <a:xfrm>
            <a:off x="609480" y="38088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рис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0" y="304920"/>
            <a:ext cx="5257800" cy="593244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дар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системное, развивающее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е жизни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ики, которое определя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дости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ком более высо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обычных, незаурядных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ов в одном и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кольких вид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по сравн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ми люд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5378906_8133233_G177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иагностика одаренных д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Тес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Рисуночный те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Стенфорд-Би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интеллекта Вексл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«Потенциал интеллектуального развития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тремится учител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могайте детям научиться управлять процессом усвоения зна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MPj04304930000[1]"/>
          <p:cNvPicPr/>
          <p:nvPr/>
        </p:nvPicPr>
        <p:blipFill>
          <a:blip r:embed="rId2"/>
          <a:stretch/>
        </p:blipFill>
        <p:spPr>
          <a:xfrm>
            <a:off x="5029200" y="45720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219320" y="3049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епени сформированност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арен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990720" y="4191120"/>
            <a:ext cx="22478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кту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5486400" y="3581280"/>
            <a:ext cx="299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тен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838080" y="762120"/>
            <a:ext cx="8305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 форме проявления одар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1676520" y="297180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в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5410080" y="4267080"/>
            <a:ext cx="26672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рыт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0" y="-152280"/>
            <a:ext cx="8991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широте проявления 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личных видах деятель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1371600" y="4876920"/>
            <a:ext cx="226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5562720" y="1981080"/>
            <a:ext cx="28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е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возрастного развит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н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д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i?id=24239281&amp;tov=2"/>
          <p:cNvPicPr/>
          <p:nvPr/>
        </p:nvPicPr>
        <p:blipFill>
          <a:blip r:embed="rId1"/>
          <a:stretch/>
        </p:blipFill>
        <p:spPr>
          <a:xfrm>
            <a:off x="2209680" y="16765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?id=23303404&amp;tov=6"/>
          <p:cNvPicPr/>
          <p:nvPr/>
        </p:nvPicPr>
        <p:blipFill>
          <a:blip r:embed="rId2"/>
          <a:stretch/>
        </p:blipFill>
        <p:spPr>
          <a:xfrm>
            <a:off x="4343400" y="13716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?id=13763109&amp;tov=7"/>
          <p:cNvPicPr/>
          <p:nvPr/>
        </p:nvPicPr>
        <p:blipFill>
          <a:blip r:embed="rId3"/>
          <a:stretch/>
        </p:blipFill>
        <p:spPr>
          <a:xfrm>
            <a:off x="6629400" y="1676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38282292&amp;tov=6"/>
          <p:cNvPicPr/>
          <p:nvPr/>
        </p:nvPicPr>
        <p:blipFill>
          <a:blip r:embed="rId4"/>
          <a:stretch/>
        </p:blipFill>
        <p:spPr>
          <a:xfrm>
            <a:off x="2362320" y="4343400"/>
            <a:ext cx="167616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?id=2460594&amp;tov=4"/>
          <p:cNvPicPr/>
          <p:nvPr/>
        </p:nvPicPr>
        <p:blipFill>
          <a:blip r:embed="rId5"/>
          <a:stretch/>
        </p:blipFill>
        <p:spPr>
          <a:xfrm>
            <a:off x="4572000" y="403848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5490658&amp;tov=7"/>
          <p:cNvPicPr/>
          <p:nvPr/>
        </p:nvPicPr>
        <p:blipFill>
          <a:blip r:embed="rId6"/>
          <a:stretch/>
        </p:blipFill>
        <p:spPr>
          <a:xfrm>
            <a:off x="6705720" y="44197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1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539640" y="765000"/>
            <a:ext cx="8137800" cy="4680000"/>
          </a:xfrm>
          <a:custGeom>
            <a:avLst/>
            <a:gdLst>
              <a:gd name="textAreaLeft" fmla="*/ 3353040 w 8137800"/>
              <a:gd name="textAreaRight" fmla="*/ 4784760 w 8137800"/>
              <a:gd name="textAreaTop" fmla="*/ 1928160 h 4680000"/>
              <a:gd name="textAreaBottom" fmla="*/ 275184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33"/>
                </a:solidFill>
                <a:latin typeface="Arial"/>
              </a:rPr>
              <a:t>Одаренност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24000" y="4437000"/>
            <a:ext cx="3960720" cy="1152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Твор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183280" y="4437000"/>
            <a:ext cx="3960720" cy="1224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Академ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195640" y="3429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6804000" y="342900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3" descr="5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1908000" y="404640"/>
            <a:ext cx="6767640" cy="3961080"/>
          </a:xfrm>
          <a:prstGeom prst="cloudCallout">
            <a:avLst>
              <a:gd name="adj1" fmla="val -59337"/>
              <a:gd name="adj2" fmla="val 3581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71640" y="907920"/>
            <a:ext cx="56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Академическая  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одаренность проявляется в успешном обучении  отдельным  учебным  предметам  и  считается более частной, избиратель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anylizing_computer_10066WHT[1]"/>
          <p:cNvPicPr/>
          <p:nvPr/>
        </p:nvPicPr>
        <p:blipFill>
          <a:blip r:embed="rId2"/>
          <a:stretch/>
        </p:blipFill>
        <p:spPr>
          <a:xfrm>
            <a:off x="395280" y="4005360"/>
            <a:ext cx="172872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>
            <a:off x="1403280" y="333360"/>
            <a:ext cx="7561440" cy="3382920"/>
          </a:xfrm>
          <a:prstGeom prst="cloudCallout">
            <a:avLst>
              <a:gd name="adj1" fmla="val -38620"/>
              <a:gd name="adj2" fmla="val 68393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ворческая одарен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способность к творческой самореализации в различных областях жизне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262"/>
          <p:cNvPicPr/>
          <p:nvPr/>
        </p:nvPicPr>
        <p:blipFill>
          <a:blip r:embed="rId2"/>
          <a:stretch/>
        </p:blipFill>
        <p:spPr>
          <a:xfrm>
            <a:off x="324000" y="4581360"/>
            <a:ext cx="1738080" cy="20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mag</cp:lastModifiedBy>
  <dcterms:modified xsi:type="dcterms:W3CDTF">2011-06-07T17:08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