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7.jpeg" ContentType="image/jpeg"/>
  <Override PartName="/ppt/media/image15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3.gif" ContentType="image/gif"/>
  <Override PartName="/ppt/media/image4.jpeg" ContentType="image/jpeg"/>
  <Override PartName="/ppt/media/image24.jpeg" ContentType="image/jpeg"/>
  <Override PartName="/ppt/media/image19.gif" ContentType="image/gif"/>
  <Override PartName="/ppt/media/image1.jpeg" ContentType="image/jpeg"/>
  <Override PartName="/ppt/media/image22.wmf" ContentType="image/x-wmf"/>
  <Override PartName="/ppt/media/image20.gif" ContentType="image/gif"/>
  <Override PartName="/ppt/media/image18.gif" ContentType="image/gif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3.png" ContentType="image/png"/>
  <Override PartName="/ppt/media/image16.gif" ContentType="image/gi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F5EA-F2B5-48CE-8AD0-6DED9DA2A4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E9EA-8B0F-480B-8115-714ACE38BA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82E-B0C8-4F81-A513-3EB93C7B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9F1D-397A-4A60-8CFF-6D848921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99B-FE38-4865-973E-128DA36F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3B1-8C21-494C-8D3C-F35C0D2B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85DC-C544-4143-AD2D-8AEF1730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5016-16EA-4B9F-9066-9CCFF29C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4FD8-2972-4320-A3A1-253C10E7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484B-615C-4FAA-9833-FE7AD287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AFB8-AEFE-4383-9B9C-77EF739D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432C-5116-4914-8353-BF9F2AC1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12E9-0F57-4A35-9479-E8D1D75D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9DD-B0E8-4507-9E82-45572D72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28E8-0A9C-44CD-8366-AF2E651B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450F-200C-4059-8C6B-4C8C490E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A415-150B-4B3E-9457-45AA5AC5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5786-E793-4CD6-A13F-22A52370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02CA-26E6-40FC-A844-0637BBA9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CE6-B3BD-41CC-9A75-08CCD59B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202-B225-4386-81B9-751C0271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C69-4BAC-498E-AA8E-53D0A054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1FD-4D33-47BD-BB5E-B2779F64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D10-CA35-4E57-920B-0B5659AA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BCF-52A1-4C4E-A197-EFA687F2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716-514B-4CEC-856E-BC672A7C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09AD-12CA-4520-A939-0477C3BE41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C01C-A27A-4130-97A4-391DF9CAD4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Рисунок2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724280" y="434340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Педагог-психолог МОУ «СОШ №1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г. Емва – Субботина К. 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5" descr="j0433779"/>
          <p:cNvPicPr/>
          <p:nvPr/>
        </p:nvPicPr>
        <p:blipFill>
          <a:blip r:embed="rId2"/>
          <a:stretch/>
        </p:blipFill>
        <p:spPr>
          <a:xfrm>
            <a:off x="762120" y="3200400"/>
            <a:ext cx="3504960" cy="36576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304920" y="914400"/>
            <a:ext cx="80769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собенности личност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даренного ребен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826920" y="189000"/>
            <a:ext cx="7315200" cy="4597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93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Творческая одарен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179280" y="2060640"/>
            <a:ext cx="4267440" cy="398880"/>
          </a:xfrm>
          <a:custGeom>
            <a:avLst/>
            <a:gdLst>
              <a:gd name="textAreaLeft" fmla="*/ 0 w 4267440"/>
              <a:gd name="textAreaRight" fmla="*/ 4267800 w 4267440"/>
              <a:gd name="textAreaTop" fmla="*/ 0 h 398880"/>
              <a:gd name="textAreaBottom" fmla="*/ 399240 h 39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93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М. Матюшин считает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572000" y="1752480"/>
            <a:ext cx="4392720" cy="19227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80e"/>
                </a:solidFill>
                <a:latin typeface="Arial"/>
              </a:rPr>
              <a:t>«Всякая одаренность –  творческая:  если нет творчества, бессмысленно говорить об одаренности».</a:t>
            </a:r>
            <a:r>
              <a:rPr b="0" lang="ru-RU" sz="2400" spc="-1" strike="noStrike">
                <a:solidFill>
                  <a:srgbClr val="f608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08000" y="4292640"/>
            <a:ext cx="4267080" cy="398880"/>
          </a:xfrm>
          <a:custGeom>
            <a:avLst/>
            <a:gdLst>
              <a:gd name="textAreaLeft" fmla="*/ 0 w 4267080"/>
              <a:gd name="textAreaRight" fmla="*/ 4267440 w 4267080"/>
              <a:gd name="textAreaTop" fmla="*/ 0 h 398880"/>
              <a:gd name="textAreaBottom" fmla="*/ 399240 h 39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93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Narrow"/>
              </a:rPr>
              <a:t>Е.Яковлева полага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500720" y="3860640"/>
            <a:ext cx="4032000" cy="2533320"/>
          </a:xfrm>
          <a:prstGeom prst="rect">
            <a:avLst/>
          </a:prstGeom>
          <a:solidFill>
            <a:srgbClr val="59d840"/>
          </a:solidFill>
          <a:ln w="93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Одаренность порождается  или  способностью  продуцировать,  выдвигать  нов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деи, изобретать, или же способностью блестяще исполнять, использовать  то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то уже создано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7" descr="guestan"/>
          <p:cNvPicPr/>
          <p:nvPr/>
        </p:nvPicPr>
        <p:blipFill>
          <a:blip r:embed="rId1"/>
          <a:stretch/>
        </p:blipFill>
        <p:spPr>
          <a:xfrm>
            <a:off x="3059280" y="3860640"/>
            <a:ext cx="1692000" cy="99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guestan"/>
          <p:cNvPicPr/>
          <p:nvPr/>
        </p:nvPicPr>
        <p:blipFill>
          <a:blip r:embed="rId2"/>
          <a:stretch/>
        </p:blipFill>
        <p:spPr>
          <a:xfrm>
            <a:off x="3059280" y="1557360"/>
            <a:ext cx="1692000" cy="99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995400" y="284040"/>
            <a:ext cx="7013520" cy="2014560"/>
          </a:xfrm>
          <a:prstGeom prst="roundRect">
            <a:avLst>
              <a:gd name="adj" fmla="val 16667"/>
            </a:avLst>
          </a:prstGeom>
          <a:solidFill>
            <a:srgbClr val="59d8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арактеристика одарённых дет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39640" y="2781360"/>
            <a:ext cx="8136000" cy="185400"/>
          </a:xfrm>
          <a:prstGeom prst="rect">
            <a:avLst/>
          </a:prstGeom>
          <a:gradFill rotWithShape="0">
            <a:gsLst>
              <a:gs pos="0">
                <a:srgbClr val="bb5f03"/>
              </a:gs>
              <a:gs pos="50000">
                <a:srgbClr val="ffffff"/>
              </a:gs>
              <a:gs pos="100000">
                <a:srgbClr val="bb5f0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b76a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 flipV="1" rot="10800000">
            <a:off x="611280" y="6307920"/>
            <a:ext cx="7974000" cy="3988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b76a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00000" y="3068640"/>
          <a:ext cx="7274160" cy="2712960"/>
        </p:xfrm>
        <a:graphic>
          <a:graphicData uri="http://schemas.openxmlformats.org/drawingml/2006/table">
            <a:tbl>
              <a:tblPr/>
              <a:tblGrid>
                <a:gridCol w="72741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ежающее познавательное развит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социальная чувствитель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ие характеристики (высокий энерг.уровень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11789577_i59623637_2811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собенности личности одаренных детей с гармоничным типом развит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ление к творческой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ышенная самостояте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нсивный интерес к познани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дивительная способность к концентрации вним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ая самооце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зависим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11789577_i59623637_28115_2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заимоотношения со сверстниками и педагогам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ая адаптация к школьному обучению и соответственно к коллективу учени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стники относятся с уважени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15378876_8133215_G142byJC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собенности личности одаренных детей с дисгармоничным типом развит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равномерность психического разви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с физиологическим развити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в эмоциональном развит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ышенная впечатлите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страстное отношение к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лонность к бурным аффекта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инирование направленности лишь на усвоение зна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15378876_8133215_G142byJ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заимоотношения со сверстниками и педагогам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ение занимает гораздо меньше ме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лишняя конфликт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ычное поведение, стран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755640" y="549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Проблемы  одарённых дете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755640" y="1773360"/>
            <a:ext cx="741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еприязнь к школ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огружение в философские пробле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Стремление к совершенств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Ощущение неудовлетворё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ереалистические це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Сверхчувствитель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етерпим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7" descr="AN065"/>
          <p:cNvPicPr/>
          <p:nvPr/>
        </p:nvPicPr>
        <p:blipFill>
          <a:blip r:embed="rId2"/>
          <a:stretch/>
        </p:blipFill>
        <p:spPr>
          <a:xfrm>
            <a:off x="6659640" y="378936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15379062_8133470_G218byJC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307440"/>
            <a:ext cx="795816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6a03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b76a03"/>
                </a:solidFill>
                <a:latin typeface="Times New Roman"/>
              </a:rPr>
              <a:t>«Плата за талант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33520" y="1828800"/>
            <a:ext cx="6840360" cy="137376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ая речь и богатый словарный запас часто могут проявляться только в устной речи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39640" y="3505320"/>
            <a:ext cx="7689960" cy="94716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Л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бознательны, однако часто не могут заучить легкий, но неинтересный материа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33520" y="4876920"/>
            <a:ext cx="7764480" cy="180036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ы к длительной интенсивной деятельности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о не способны к выполнению заданий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граниченных по времени, иногда безнадежно неорганизованны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6" descr="i?id=41815837&amp;tov=7"/>
          <p:cNvPicPr/>
          <p:nvPr/>
        </p:nvPicPr>
        <p:blipFill>
          <a:blip r:embed="rId2"/>
          <a:stretch/>
        </p:blipFill>
        <p:spPr>
          <a:xfrm>
            <a:off x="7162920" y="152280"/>
            <a:ext cx="180972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15379062_8133470_G218byJC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8040" y="343080"/>
            <a:ext cx="79581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6a03"/>
                </a:solidFill>
                <a:latin typeface="Times New Roman"/>
              </a:rPr>
              <a:t>«Плата за талант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133720" y="1447920"/>
            <a:ext cx="6324480" cy="82548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фекционизм – стремление к совершенству и жуткие переживания в случае неудач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981080" y="3048120"/>
            <a:ext cx="6480360" cy="119124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даренных особенно важно совпадение стиля обучения и их познавательных особенностей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914400" y="4724280"/>
            <a:ext cx="7543800" cy="192276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теллекта и чувств у одаренных идет неравномерно, поэтому они стремятся использовать свои преимущества в интеллектуальной сфере для того, чтобы замаскировать эмоциональную незрелос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6" descr="MCj03981550000[1]"/>
          <p:cNvPicPr/>
          <p:nvPr/>
        </p:nvPicPr>
        <p:blipFill>
          <a:blip r:embed="rId2"/>
          <a:stretch/>
        </p:blipFill>
        <p:spPr>
          <a:xfrm>
            <a:off x="0" y="1523880"/>
            <a:ext cx="1828800" cy="221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29000" y="1066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b76a03"/>
                </a:solidFill>
                <a:latin typeface="Times New Roman"/>
              </a:rPr>
              <a:t>Типы характеров</a:t>
            </a:r>
            <a:br>
              <a:rPr sz="4000"/>
            </a:br>
            <a:r>
              <a:rPr b="0" i="1" lang="ru-RU" sz="4000" spc="-1" strike="noStrike">
                <a:solidFill>
                  <a:srgbClr val="b76a03"/>
                </a:solidFill>
                <a:latin typeface="Times New Roman"/>
              </a:rPr>
              <a:t> одаренных дете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74464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-й тип – подвижный, веселый, коммуникабельный, открытый, с хорошим речевым развитием, лидер, фантазе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-й тип – замкнутый, тихий, размышляющи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стенчивый пугливы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MPj04317860000[1]"/>
          <p:cNvPicPr/>
          <p:nvPr/>
        </p:nvPicPr>
        <p:blipFill>
          <a:blip r:embed="rId1"/>
          <a:stretch/>
        </p:blipFill>
        <p:spPr>
          <a:xfrm>
            <a:off x="6095880" y="4343400"/>
            <a:ext cx="2362320" cy="2209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MPj04309720000[1]"/>
          <p:cNvPicPr/>
          <p:nvPr/>
        </p:nvPicPr>
        <p:blipFill>
          <a:blip r:embed="rId2"/>
          <a:stretch/>
        </p:blipFill>
        <p:spPr>
          <a:xfrm>
            <a:off x="609480" y="380880"/>
            <a:ext cx="2362320" cy="21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3" descr="рис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4"/>
          <p:cNvSpPr/>
          <p:nvPr/>
        </p:nvSpPr>
        <p:spPr>
          <a:xfrm>
            <a:off x="0" y="304920"/>
            <a:ext cx="5257800" cy="593244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дарён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системное, развивающеес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ечение жизни качеств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сихики, которое определя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достиж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ловеком более высоки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еобычных, незаурядных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ультатов в одном и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кольких вида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и по сравнени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угими людь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15378906_8133233_G177byJC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иагностика одаренных дет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Тес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Рисуночный тес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Шкала Стенфорд-Би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Шкала интеллекта Вексле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«Потенциал интеллектуального развития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1205236577_kras1%20(6)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комендации учителям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Учителю не следует уделять слишком много внима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игровому обучению с ярко выраженным элементом соревновательности. Одаренный ребенок будет чащ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всего оказываться победителем, что может вызват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неприязнь соучеников и не благоприятствует созданию атмосферы всеобщей заинтересованности, к котор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стремится учитель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Учитель не должен возводить одаренного ребенка 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ьедестал или делать из него вундеркинда в глазах других учеников. Успехи его будут должным образом оценены, а неуместное выпячивание его исключительности достижений рождает чаще всего раздражение, ревность и отторжение вместо ожидаемой похвалы. Другая крайность — преднамеренное публичное принижение уникальных способностей и даже сарказм со стороны учителя,— конечно, недопустима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1205236577_kras1%20(6)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комендации учителям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Не занимайтесь наставлениями, помогайте детям действовать независимо, не давайте прямых инструкций относительно того, чем они должны заниматься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Не сдерживайте инициативы и не делайте за них то, что они могут сделать самостоятельно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Научите школьников прослеживать межпредметные связи и использовать знания, полученные при изучении других предметов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риучайте детей к навыкам самостоятельного решения проблем, исследования и анализа ситуации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Используйте трудные ситуации, возникшие в школе или дома, как область приложения полученных навыков при решении задач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омогайте детям научиться управлять процессом усвоения знани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4" descr="MPj04304930000[1]"/>
          <p:cNvPicPr/>
          <p:nvPr/>
        </p:nvPicPr>
        <p:blipFill>
          <a:blip r:embed="rId2"/>
          <a:stretch/>
        </p:blipFill>
        <p:spPr>
          <a:xfrm>
            <a:off x="5029200" y="45720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219320" y="304920"/>
            <a:ext cx="6858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епени сформированности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даренност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990720" y="4191120"/>
            <a:ext cx="22478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ктуа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5486400" y="3581280"/>
            <a:ext cx="29908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тенциа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838080" y="762120"/>
            <a:ext cx="83059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 форме проявления одарен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1676520" y="2971800"/>
            <a:ext cx="2361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Явн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5410080" y="4267080"/>
            <a:ext cx="266724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крыт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0" y="-152280"/>
            <a:ext cx="89917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широте проявления в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личных видах деятельност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5"/>
          <p:cNvSpPr txBox="1"/>
          <p:nvPr/>
        </p:nvSpPr>
        <p:spPr>
          <a:xfrm>
            <a:off x="1371600" y="4876920"/>
            <a:ext cx="2266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щ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5562720" y="1981080"/>
            <a:ext cx="2886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ециа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собенности возрастного развити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ння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здня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i?id=24239281&amp;tov=2"/>
          <p:cNvPicPr/>
          <p:nvPr/>
        </p:nvPicPr>
        <p:blipFill>
          <a:blip r:embed="rId1"/>
          <a:stretch/>
        </p:blipFill>
        <p:spPr>
          <a:xfrm>
            <a:off x="2209680" y="167652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i?id=23303404&amp;tov=6"/>
          <p:cNvPicPr/>
          <p:nvPr/>
        </p:nvPicPr>
        <p:blipFill>
          <a:blip r:embed="rId2"/>
          <a:stretch/>
        </p:blipFill>
        <p:spPr>
          <a:xfrm>
            <a:off x="4343400" y="1371600"/>
            <a:ext cx="2057400" cy="2209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i?id=13763109&amp;tov=7"/>
          <p:cNvPicPr/>
          <p:nvPr/>
        </p:nvPicPr>
        <p:blipFill>
          <a:blip r:embed="rId3"/>
          <a:stretch/>
        </p:blipFill>
        <p:spPr>
          <a:xfrm>
            <a:off x="6629400" y="16765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i?id=38282292&amp;tov=6"/>
          <p:cNvPicPr/>
          <p:nvPr/>
        </p:nvPicPr>
        <p:blipFill>
          <a:blip r:embed="rId4"/>
          <a:stretch/>
        </p:blipFill>
        <p:spPr>
          <a:xfrm>
            <a:off x="2362320" y="4343400"/>
            <a:ext cx="1676160" cy="2362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i?id=2460594&amp;tov=4"/>
          <p:cNvPicPr/>
          <p:nvPr/>
        </p:nvPicPr>
        <p:blipFill>
          <a:blip r:embed="rId5"/>
          <a:stretch/>
        </p:blipFill>
        <p:spPr>
          <a:xfrm>
            <a:off x="4572000" y="4038480"/>
            <a:ext cx="175248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i?id=25490658&amp;tov=7"/>
          <p:cNvPicPr/>
          <p:nvPr/>
        </p:nvPicPr>
        <p:blipFill>
          <a:blip r:embed="rId6"/>
          <a:stretch/>
        </p:blipFill>
        <p:spPr>
          <a:xfrm>
            <a:off x="6705720" y="441972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17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539640" y="765000"/>
            <a:ext cx="8137800" cy="4680000"/>
          </a:xfrm>
          <a:custGeom>
            <a:avLst/>
            <a:gdLst>
              <a:gd name="textAreaLeft" fmla="*/ 3353040 w 8137800"/>
              <a:gd name="textAreaRight" fmla="*/ 4784760 w 8137800"/>
              <a:gd name="textAreaTop" fmla="*/ 1928160 h 4680000"/>
              <a:gd name="textAreaBottom" fmla="*/ 275184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33"/>
                </a:solidFill>
                <a:latin typeface="Arial"/>
              </a:rPr>
              <a:t>Одаренность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6"/>
          <p:cNvSpPr/>
          <p:nvPr/>
        </p:nvSpPr>
        <p:spPr>
          <a:xfrm>
            <a:off x="324000" y="4437000"/>
            <a:ext cx="3960720" cy="1152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6a03"/>
                </a:solidFill>
                <a:latin typeface="Arial"/>
              </a:rPr>
              <a:t>Творческ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183280" y="4437000"/>
            <a:ext cx="3960720" cy="1224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6a03"/>
                </a:solidFill>
                <a:latin typeface="Arial"/>
              </a:rPr>
              <a:t>Академическ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2195640" y="342900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6804000" y="3429000"/>
            <a:ext cx="432000" cy="8636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3" descr="5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4"/>
          <p:cNvSpPr/>
          <p:nvPr/>
        </p:nvSpPr>
        <p:spPr>
          <a:xfrm>
            <a:off x="1908000" y="404640"/>
            <a:ext cx="6767640" cy="3961080"/>
          </a:xfrm>
          <a:prstGeom prst="cloudCallout">
            <a:avLst>
              <a:gd name="adj1" fmla="val -59337"/>
              <a:gd name="adj2" fmla="val 35810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71640" y="907920"/>
            <a:ext cx="5616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Академическая  </a:t>
            </a: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одаренность проявляется в успешном обучении  отдельным  учебным  предметам  и  считается более частной, избирательн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6" descr="anylizing_computer_10066WHT[1]"/>
          <p:cNvPicPr/>
          <p:nvPr/>
        </p:nvPicPr>
        <p:blipFill>
          <a:blip r:embed="rId2"/>
          <a:stretch/>
        </p:blipFill>
        <p:spPr>
          <a:xfrm>
            <a:off x="395280" y="4005360"/>
            <a:ext cx="1728720" cy="244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5"/>
          <p:cNvSpPr/>
          <p:nvPr/>
        </p:nvSpPr>
        <p:spPr>
          <a:xfrm>
            <a:off x="1403280" y="333360"/>
            <a:ext cx="7561440" cy="3382920"/>
          </a:xfrm>
          <a:prstGeom prst="cloudCallout">
            <a:avLst>
              <a:gd name="adj1" fmla="val -38620"/>
              <a:gd name="adj2" fmla="val 68393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ворческая одаренност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- способность к творческой самореализации в различных областях жизне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6" descr="262"/>
          <p:cNvPicPr/>
          <p:nvPr/>
        </p:nvPicPr>
        <p:blipFill>
          <a:blip r:embed="rId2"/>
          <a:stretch/>
        </p:blipFill>
        <p:spPr>
          <a:xfrm>
            <a:off x="324000" y="4581360"/>
            <a:ext cx="1738080" cy="200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lemag</cp:lastModifiedBy>
  <dcterms:modified xsi:type="dcterms:W3CDTF">2011-06-07T17:08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