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6B08-0DF4-4120-8EED-54A8943EA3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E0CD-2E32-4FA5-8735-27224CD918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C151-958A-4148-9BC2-5259826767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58E-1923-4382-866F-F7A346A1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09D-6C25-43A4-BAA5-6938E8BF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1124F-CA7D-433E-883E-DE209ABA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A1B07-9BCA-49D8-9170-60F4649E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BEC16-D1EB-41E2-B2DC-675BFC0F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CD598-3C3D-4254-AAF8-38CE3E7C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6902D-3005-4B31-9745-E5D46400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2817C-0D98-47CB-842C-2DA4E9D9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F261F-5185-423B-99F9-21E63AB2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0F110-5780-44E5-AFBB-4A4A45B8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B63F4-F060-4BC7-BC09-CD2FA060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6F070-6B87-40D6-8695-034271BE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927-ACE5-4C90-BDBF-236DEC69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0A4F6-0570-4851-91CF-F2A327A1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38B0E-C12A-40DB-8F67-A08F32C9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40132-2A18-4E71-AF72-51BE579D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742E2-266F-4EC8-A44F-EB189336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05C67-31B6-4038-BBFD-B1A57F83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E4E20-B1EF-4B87-981A-3D91EC33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F2E49-320F-46B9-89F3-9EDBB3C1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58267-7755-4255-8749-FD338834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D5A92-71A8-4AAA-AFEA-FD22D921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75CB9-C04C-4FCE-A8B0-7BDDD62C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5B2-A636-45F9-8284-37758289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A4812-E223-43BA-8B51-40449BBB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8AE64-94E2-4416-9E1A-1B520E71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BC8C7-8445-4C57-93F8-184BD46B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ACCE7-C543-4889-AB57-701558A7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CFDE4-2AB6-4FAA-95FC-13077620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30D1A-7AF2-4116-9220-5ACCD199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861BE-352D-46D5-A343-4E8A4D41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83E73-A96C-49F4-B6D7-55D3C6DF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37256-7804-46C1-9185-C2AAED78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444D8-9384-4C01-BD3B-5C18FF3F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DA7B-18B9-49CE-B222-F30618B0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7AAD1-05B4-4FCA-AB91-0493D1E7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A52A6-5992-4C09-841D-01625852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7BB4C-5918-4E0B-811E-C7082A44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BFA3AB-C613-4922-A6EB-30E55BFE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F6AF8B-7107-47A4-A901-B123B590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BACCF5-367A-4120-BF2A-9146F280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079F9C-1E36-4C89-B59C-B311256E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6B84C6-696D-4893-9A93-CEE4DD16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1D9DBB-4717-47DA-B5A3-4B27D209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1CB15A-E98A-4CF4-AF96-C383F6DA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F700-BC54-4FD2-B8D8-A8295AF7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40792A-1C99-4539-8F89-9DA3DFC5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1902DF-17DD-4661-AD47-DB05FCC7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E9DE5A-6679-496E-BE97-D2BA62CE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6504A1-F48C-4D5E-A363-45FD0E46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5B5776-191B-4F94-BD7E-35842068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B0130-74D5-43C4-A3A7-7517EBC5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3AFC5-4C96-41EA-B30F-6CA25725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2008D-66B6-47F1-9E28-09439359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C0F38-72BE-451C-AE6C-78DE5A61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49D45-F846-4B63-A41F-7B9C8C95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8048-2B57-45CD-9706-B559CF27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35C8E-1E96-4516-AACF-8434FC3A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80C70-0AC6-4A2A-97DE-52DCC5AD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BAB25-8F0B-4385-8A91-1BFACD37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AFF7C-4E60-4DBC-9945-03BBC7E7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3CA65-2981-4A58-A10C-7DB487F2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1A1BB-C27B-4D32-97BF-EAFA7738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D701F-4665-4988-A9FC-57988EF5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0F1CA-5FBF-4210-B63F-0075E255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D3DAA-80DB-47BE-8FFB-4FA21D3B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243A9-96D5-407C-B803-60643BB1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4FCF-D640-467D-9DBC-D3656881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EA32D-00DE-496B-94EE-48FD634B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611E8-A77C-4E21-B529-961AE578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7CC6F-315E-447C-9807-2295B76C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32D5C-A91D-4F04-AC5B-F967ADD1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4E2ED-FA5C-4744-BD58-E49074DD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80FE4-9EE7-40A9-84FF-93B546BD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0D6D5-A92C-4814-B203-287F74E4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56029-C492-4605-82B7-834E6F0C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FF0D2-BF86-4D00-9F8A-B07BD672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46A83-EDE5-4534-8243-7FEF65C1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37A3-CCB9-4AC5-8A13-F883C5FD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A77C4D-2ED4-4445-BC92-D3A5E80E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B1D29-242B-4FFC-A2A8-7598622C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62A74-7A7C-4822-A488-5C75AD89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F3039-8F51-4F07-8F53-E2CD3FF0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6ACA4-09EA-4473-85BE-5B621CA3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76732-EFC2-4CDE-8D8A-C7081F23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ECCB1-5251-4367-8F7A-F58CD405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9EA999-7CAA-4F00-8C14-0EEE9658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DAFEF-5822-40A6-A4FA-64D6D77D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857F6-F8B5-45A7-BDC0-00B1193F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1B45-9B71-4716-9593-25FACE8B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213C5-58A1-4652-99E0-8CE5A98A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82F74-9930-4189-81C1-CFD92538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89825-3DDC-4DE0-89E9-B47A93A2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19429-B6D6-48D5-8AB6-43B128B4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F132D-61AF-4A17-83C4-22A36D2E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EFDB16-D8AC-40D4-BACF-F60DC268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1E47C9-AEA4-4E78-BD29-64E23582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A2E3EF-97D0-4899-B921-9854D1E9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5C47B-A3F5-405E-A5B5-CD112D9A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B770FD-4138-415F-89A9-B46B4649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6911-73CD-4811-A9CB-A83C705F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A535F-8B8C-4121-929E-042EC9D2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1231D-E02C-40F5-8031-88F86FB2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B887C-3A7A-476D-BEC9-7FA12AC0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B0242-05B4-4947-889B-74C61C44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D47A4-EEF2-4605-BB13-8ED53D72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F4920-C123-457F-A1C7-368ED0BE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EC807-20B3-432A-B909-45BFA6F2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45BBB-7E57-4A63-B772-0015DDB1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A8B058-0676-4734-84D3-C35BF773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4F302-B598-433C-A6BF-02129D30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A51-D92F-4EB3-B798-BE62CF22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2208-4CFB-4098-985D-A36420C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9C6A7D-DA41-4310-AEB2-4B034C9E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63CEA-875C-4699-ABB5-A4A041BF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B266E-8D98-4207-A24B-4E98AB90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C88B48-A363-4616-8D8F-F39793E6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02DB1-08AE-4830-AB1B-ED18AD94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C7BC-D3FA-4B53-80B2-9DC948E7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58DA-CBCC-4F86-A800-86AB7EF2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598E-4AAC-4654-B583-40CBBAEB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E281-67FE-41E0-888B-DC281FD9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23CBC-1C71-4348-B201-E860D2D9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183FB-F999-4051-9533-1DC2B2F8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DD851-9269-49E0-8D53-0A553F0E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95F51-4041-4600-9668-ABAD744C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71114-D8AA-4047-898B-C5D1202B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128-0D5F-425F-9985-70F1BA28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F44A2-C270-4D4D-85E4-8898D57B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5DEA5-93CE-494D-B7B3-A3A438C3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3F892-D9B9-4676-861D-1C16E4EA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4E93C-F75E-446D-919D-774EF83C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65538-C6AC-4D71-8EAC-F9FD1660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C777A-6837-43F5-8AD2-A118D49D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E8CD7-66CC-454D-9C5E-13E59577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72F88-CDAD-4A37-9326-7C87AC17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E7C85-A0D0-41D1-B958-2AFFA70A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E9D9-26CF-43E4-AC42-FC0ABC00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3D1-8DC4-4233-8E33-84CB67B0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7CB6F-59C4-4E96-8B92-9AF4D20C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9A70C-0670-4BFE-946C-CC56BDAA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91202-4EBA-4774-B352-7D8F927E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C52EE-2422-426F-810F-257D303C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1869-9617-4AAE-950A-AB81825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2402E-272B-42EA-B5EC-E12CEB2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3BB16-8A03-4FA8-84B6-B42E2D41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47E91-ED6A-414E-9A24-F2BB95EA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8381-7FCF-4206-AF9F-482BB02B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F943A-06D0-40AA-8136-A268EADD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2DB-E6A6-4130-80BA-74E3DB64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55927-1C26-4625-BD19-B557CC5E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15DD0-5AB1-47E5-AE20-00452292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D6AC2-B1DC-4E18-802B-96338F3B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C73E8-E583-4A98-84CD-7B0FA713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82E42-1CA0-4C27-8418-2072C290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58248-3576-430F-988D-F73B3490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EEDC2-F797-4D5C-9718-89DFAF91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FC041-20F6-41C0-9661-0F903C01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A19A1-B6CF-4AC2-8980-A49A1107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7AFB2-6C3E-4A0B-9BE8-B60041B8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8EF-B166-4DBF-966C-5F78379E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13DAC-D03E-4A65-BD7B-60F34616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AFB45-3A26-4180-A0C1-FD0B97E9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7FBA8-0AE1-4BEF-B2FE-7EC19A7E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9C36A-3916-4A3A-B7C2-34EC1FB1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30575-3480-4627-92EA-9E4DEFF7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77490-9AA7-497A-A1FD-0E495DE7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8ABE4-4403-4540-9AC8-185DBE86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AF2FD-9890-4EAF-BB3F-DBA3CC42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CF664-CE36-4BDC-AEC3-C5782787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0FD54-5117-4D55-8EF4-9DFE187E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D9D-8F61-4ABC-9AFB-D29773E9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552F4-BB43-406F-9FFE-5596101E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5B8A4-3A49-4863-B42F-816069C5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74F8F-B77E-46D9-81D2-B216EEC4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12631-A22B-47AB-B0C2-EC99AA64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5B817-D30A-40BA-8FB6-52AB9FD2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1041A-4A43-4EE4-AA49-76C1BACB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3E990-1832-4A68-99A4-E68BF1A1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F6C96-429A-476C-A4B4-DDC73DD3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3368A-56A7-49BA-80E6-A6410C8E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30852-E225-4D36-A1BA-8DB4AFB4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F6C-5BEB-4D54-AFF8-B2BF808A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59161-2E38-40E5-B255-91EE3686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9A36B-1C65-4CFC-8D41-5105005E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D4D9E-9FA3-4649-A748-7DD6B9F3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9E4D3-8187-439A-98A0-B441B93A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032FF-93D5-490E-B285-82D46DCE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F98BB-DDCB-473B-8F7E-5435DF59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9CB6A-A308-4F11-B1B5-9B130424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1650D-A181-43CE-B781-030C365B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7A2CA-5C48-4B9E-8709-1CEE2511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0ABCD-3ED6-46DA-9061-D2F15278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804-A2CB-4F31-8661-A6B4B75A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90A10-6911-4BE0-AC87-B1E14708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59E7E-9089-409B-81AA-A4A693A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BB4C0-419D-407F-ADBA-145A5A44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66CB0-B0B3-49FA-9B59-CB55344F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DD361-CBAD-4809-986E-342C451B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4F60F-B63C-478E-92E6-7BF89217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35E48-8FA8-4462-AAB5-BBAE4C27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CF457-5675-43F3-9084-1DE8E9B3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78614-EB9A-4888-AE84-8DC5DAEC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F4862-B40D-41B5-8C44-B7277C9C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D33A-7C2C-46A0-907B-4F09D2787FD1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A48E-C790-45B9-8691-61B9DCC7D74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9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9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0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0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BE35-2D4D-4276-8E75-29E48E692A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A908-8361-4B60-84B7-6FF26BCFC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730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73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5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73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74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74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5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55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8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773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774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788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792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796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800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804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7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8F37-F84E-4B09-8E8F-0A2CF4F29C4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B891-1F8B-4629-B99D-3F01BF2096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6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6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7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9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1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4674-65C0-496F-84AB-766FDF97E3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6AE7-E506-4C38-9410-F537F673A7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dt" idx="49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ftr" idx="50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sldNum" idx="5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116B-C8C3-4FF2-A5F9-F3D9DF7E62C1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10F2-4A2C-4959-B07D-613E9C5867E8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795C-BB09-4AAA-8D0F-382D5090FE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C2E0-2674-4343-83EB-F8CB332DDE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BFCE-533E-4DE7-AFF8-D10F871B49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0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666A-8E25-4D5E-BFBF-5124F4A075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2CA5-A89A-4CDC-AC8D-C8113A50C0FF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5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8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8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8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8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9959-C8C6-4542-905E-429A1A9562EB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4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5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5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CB31-3C1D-472C-A20A-042E7F58E38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8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627280" y="2781000"/>
            <a:ext cx="5905440" cy="865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"/>
              </a:rPr>
              <a:t>М и р а ж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1834920" y="3645000"/>
            <a:ext cx="676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Исследовательская работ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Выполнила Широбокова Анна –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ученица 8 «А» класс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8" name="Picture 6" descr="цветы"/>
          <p:cNvPicPr/>
          <p:nvPr/>
        </p:nvPicPr>
        <p:blipFill>
          <a:blip r:embed="rId1"/>
          <a:stretch/>
        </p:blipFill>
        <p:spPr>
          <a:xfrm rot="10800000">
            <a:off x="250560" y="188640"/>
            <a:ext cx="8496360" cy="10080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6" descr="цветы"/>
          <p:cNvPicPr/>
          <p:nvPr/>
        </p:nvPicPr>
        <p:blipFill>
          <a:blip r:embed="rId2"/>
          <a:stretch/>
        </p:blipFill>
        <p:spPr>
          <a:xfrm rot="10800000">
            <a:off x="394920" y="5733720"/>
            <a:ext cx="8496360" cy="10080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0" descr=""/>
          <p:cNvPicPr/>
          <p:nvPr/>
        </p:nvPicPr>
        <p:blipFill>
          <a:blip r:embed="rId3"/>
          <a:stretch/>
        </p:blipFill>
        <p:spPr>
          <a:xfrm>
            <a:off x="7596360" y="907920"/>
            <a:ext cx="690480" cy="84636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0" descr=""/>
          <p:cNvPicPr/>
          <p:nvPr/>
        </p:nvPicPr>
        <p:blipFill>
          <a:blip r:embed="rId4"/>
          <a:stretch/>
        </p:blipFill>
        <p:spPr>
          <a:xfrm>
            <a:off x="7596360" y="0"/>
            <a:ext cx="690480" cy="8460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0" descr=""/>
          <p:cNvPicPr/>
          <p:nvPr/>
        </p:nvPicPr>
        <p:blipFill>
          <a:blip r:embed="rId5"/>
          <a:stretch/>
        </p:blipFill>
        <p:spPr>
          <a:xfrm>
            <a:off x="8244000" y="260280"/>
            <a:ext cx="690480" cy="84636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 txBox="1"/>
          <p:nvPr/>
        </p:nvSpPr>
        <p:spPr>
          <a:xfrm>
            <a:off x="3276720" y="1268280"/>
            <a:ext cx="403200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тическ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в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4" name=""/>
          <p:cNvSpPr/>
          <p:nvPr/>
        </p:nvSpPr>
        <p:spPr>
          <a:xfrm>
            <a:off x="395280" y="486864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МОУ «СОШ р.п. Красный Текстильщик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Саратовского р-на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Саратовской области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Руководитель: Свириденко О.В. - учитель физ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360000" cy="6958080"/>
          </a:xfrm>
          <a:prstGeom prst="rect">
            <a:avLst/>
          </a:prstGeom>
          <a:ln w="0">
            <a:noFill/>
          </a:ln>
        </p:spPr>
      </p:pic>
      <p:sp>
        <p:nvSpPr>
          <p:cNvPr id="1212" name=""/>
          <p:cNvSpPr txBox="1"/>
          <p:nvPr/>
        </p:nvSpPr>
        <p:spPr>
          <a:xfrm rot="5400000">
            <a:off x="-1981080" y="2998800"/>
            <a:ext cx="6013440" cy="68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Фата - Морган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5219640" y="4869000"/>
            <a:ext cx="313380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Для этого самого </a:t>
            </a:r>
            <a:endParaRPr b="0" lang="en-US" sz="16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загадочного вида</a:t>
            </a:r>
            <a:endParaRPr b="0" lang="en-US" sz="16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миражей убедительных</a:t>
            </a:r>
            <a:endParaRPr b="0" lang="en-US" sz="16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объяснений пока </a:t>
            </a:r>
            <a:endParaRPr b="0" lang="en-US" sz="16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6156360" y="6165720"/>
            <a:ext cx="136836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не найдено.</a:t>
            </a:r>
            <a:endParaRPr b="0" lang="en-US" sz="10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1692360" y="404640"/>
            <a:ext cx="31636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Сложное оптическое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явление в атмосфере,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состоящее из нескольких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форм миражей,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4643280" y="1700280"/>
            <a:ext cx="39610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при котором отдалённые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предметы видн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многократно и с разнообразными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искажениями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</p:txBody>
      </p:sp>
    </p:spTree>
  </p:cSld>
  <p:transition spd="slow">
    <p:pull dir="rd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pat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520" dur="2000" fill="hold"/>
                                        <p:tgtEl>
                                          <p:spTgt spid="1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7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250" autoRev="1" fill="hold"/>
                                        <p:tgtEl>
                                          <p:spTgt spid="1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7000"/>
                            </p:stCondLst>
                            <p:childTnLst>
                              <p:par>
                                <p:cTn id="5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Соня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105520" cy="2741760"/>
          </a:xfrm>
          <a:prstGeom prst="rect">
            <a:avLst/>
          </a:prstGeom>
          <a:ln w="0">
            <a:noFill/>
          </a:ln>
        </p:spPr>
      </p:pic>
      <p:pic>
        <p:nvPicPr>
          <p:cNvPr id="1218" name="Соня" descr=""/>
          <p:cNvPicPr/>
          <p:nvPr/>
        </p:nvPicPr>
        <p:blipFill>
          <a:blip r:embed="rId2"/>
          <a:stretch/>
        </p:blipFill>
        <p:spPr>
          <a:xfrm>
            <a:off x="5029200" y="4495680"/>
            <a:ext cx="2971800" cy="213228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 txBox="1"/>
          <p:nvPr/>
        </p:nvSpPr>
        <p:spPr>
          <a:xfrm>
            <a:off x="539640" y="333360"/>
            <a:ext cx="8305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В основе теории миражей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лежит явление полного внутреннего отражения света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на границе двух сред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5867280" y="2286000"/>
                <a:ext cx="297180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озд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оды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over dir="d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0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 txBox="1"/>
          <p:nvPr/>
        </p:nvSpPr>
        <p:spPr>
          <a:xfrm>
            <a:off x="179280" y="333360"/>
            <a:ext cx="86616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още всего наблюдать мираж в вод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223" name="01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2490840" cy="3973680"/>
          </a:xfrm>
          <a:prstGeom prst="rect">
            <a:avLst/>
          </a:prstGeom>
          <a:ln w="0">
            <a:noFill/>
          </a:ln>
        </p:spPr>
      </p:pic>
      <p:pic>
        <p:nvPicPr>
          <p:cNvPr id="1224" name="04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4946760" cy="3833640"/>
          </a:xfrm>
          <a:prstGeom prst="rect">
            <a:avLst/>
          </a:prstGeom>
          <a:ln w="0">
            <a:noFill/>
          </a:ln>
        </p:spPr>
      </p:pic>
      <p:sp>
        <p:nvSpPr>
          <p:cNvPr id="1225" name=""/>
          <p:cNvSpPr txBox="1"/>
          <p:nvPr/>
        </p:nvSpPr>
        <p:spPr>
          <a:xfrm>
            <a:off x="5508720" y="3213000"/>
            <a:ext cx="2209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ячая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а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3132000" y="4365720"/>
            <a:ext cx="3311640" cy="761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енка    выглядит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лой___________________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4427640" y="5445000"/>
            <a:ext cx="3124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олодная вода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250" autoRev="1" fill="hold"/>
                                        <p:tgtEl>
                                          <p:spTgt spid="1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1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500"/>
                            </p:stCondLst>
                            <p:childTnLst>
                              <p:par>
                                <p:cTn id="6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Text Box 7"/>
          <p:cNvSpPr/>
          <p:nvPr/>
        </p:nvSpPr>
        <p:spPr>
          <a:xfrm>
            <a:off x="1116000" y="335772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124000" y="1052640"/>
            <a:ext cx="482436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211640" y="2276640"/>
            <a:ext cx="792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ccb2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1" name="Picture 6" descr="цветы"/>
          <p:cNvPicPr/>
          <p:nvPr/>
        </p:nvPicPr>
        <p:blipFill>
          <a:blip r:embed="rId1"/>
          <a:stretch/>
        </p:blipFill>
        <p:spPr>
          <a:xfrm rot="10800000">
            <a:off x="324000" y="115560"/>
            <a:ext cx="8496000" cy="79200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6" descr="цветы"/>
          <p:cNvPicPr/>
          <p:nvPr/>
        </p:nvPicPr>
        <p:blipFill>
          <a:blip r:embed="rId2"/>
          <a:stretch/>
        </p:blipFill>
        <p:spPr>
          <a:xfrm rot="10800000">
            <a:off x="324000" y="6021360"/>
            <a:ext cx="8496000" cy="72072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10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690480" cy="84600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10" descr=""/>
          <p:cNvPicPr/>
          <p:nvPr/>
        </p:nvPicPr>
        <p:blipFill>
          <a:blip r:embed="rId4"/>
          <a:stretch/>
        </p:blipFill>
        <p:spPr>
          <a:xfrm>
            <a:off x="826920" y="1052640"/>
            <a:ext cx="690840" cy="8460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10" descr=""/>
          <p:cNvPicPr/>
          <p:nvPr/>
        </p:nvPicPr>
        <p:blipFill>
          <a:blip r:embed="rId5"/>
          <a:stretch/>
        </p:blipFill>
        <p:spPr>
          <a:xfrm>
            <a:off x="7451640" y="1341360"/>
            <a:ext cx="690480" cy="84636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10" descr=""/>
          <p:cNvPicPr/>
          <p:nvPr/>
        </p:nvPicPr>
        <p:blipFill>
          <a:blip r:embed="rId6"/>
          <a:stretch/>
        </p:blipFill>
        <p:spPr>
          <a:xfrm>
            <a:off x="7956720" y="981000"/>
            <a:ext cx="690480" cy="846360"/>
          </a:xfrm>
          <a:prstGeom prst="rect">
            <a:avLst/>
          </a:prstGeom>
          <a:ln w="0">
            <a:noFill/>
          </a:ln>
        </p:spPr>
      </p:pic>
      <p:sp>
        <p:nvSpPr>
          <p:cNvPr id="1237" name=""/>
          <p:cNvSpPr txBox="1"/>
          <p:nvPr/>
        </p:nvSpPr>
        <p:spPr>
          <a:xfrm>
            <a:off x="684360" y="3213000"/>
            <a:ext cx="51098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1. Миражи бывают трех видов.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332000" y="4941720"/>
            <a:ext cx="39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3. Мы создали мираж 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в лабораторных 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условиях.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1239" name="" descr=""/>
          <p:cNvPicPr/>
          <p:nvPr/>
        </p:nvPicPr>
        <p:blipFill>
          <a:blip r:embed="rId7"/>
          <a:stretch/>
        </p:blipFill>
        <p:spPr>
          <a:xfrm>
            <a:off x="5724360" y="2781360"/>
            <a:ext cx="2880000" cy="3240000"/>
          </a:xfrm>
          <a:prstGeom prst="rect">
            <a:avLst/>
          </a:prstGeom>
          <a:ln w="0">
            <a:noFill/>
          </a:ln>
        </p:spPr>
      </p:pic>
      <p:sp>
        <p:nvSpPr>
          <p:cNvPr id="1240" name=""/>
          <p:cNvSpPr txBox="1"/>
          <p:nvPr/>
        </p:nvSpPr>
        <p:spPr>
          <a:xfrm>
            <a:off x="539640" y="3645000"/>
            <a:ext cx="51418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2. В основе теории миражей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лежит явление полного 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внутреннего отражения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света на границе двух сред.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latin typeface="Comic Sans MS"/>
              <a:ea typeface="Comic Sans MS"/>
            </a:endParaRPr>
          </a:p>
        </p:txBody>
      </p:sp>
    </p:spTree>
  </p:cSld>
  <p:transition spd="med">
    <p:wheel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4000"/>
                            </p:stCondLst>
                            <p:childTnLst>
                              <p:par>
                                <p:cTn id="65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4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4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4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4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000"/>
                            </p:stCondLst>
                            <p:childTnLst>
                              <p:par>
                                <p:cTn id="6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4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000"/>
                            </p:stCondLst>
                            <p:childTnLst>
                              <p:par>
                                <p:cTn id="6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4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4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80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9500"/>
                            </p:stCondLst>
                            <p:childTnLst>
                              <p:par>
                                <p:cTn id="692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693" dur="2000" fill="hold"/>
                                        <p:tgtEl>
                                          <p:spTgt spid="1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0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1. Элементарный учебник физики: Ландсберг Г.С. – Учебное пособие в 3-х т. Т.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II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. Колебания и волны. Оптика. Атомная и ядерная физика. – 10-е изд., перераб.- М.: Наука. Главная редакция физико-математической литературы, 1986.– 656 с., и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2. Перельман Я.И. – Занимательная физика – Изд. 12е, «Наука», главная редакция физико-математической литературы – Москва 197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3. www.log-in.ru/articles/486/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4. awesta.kosmopoisk.org/ksion.htm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. dic.academic.ru/dic.nsf/enc3p/305682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6. www.avialine.com/country/6/articles/127/476/1160/0/2036.htm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826920" y="333360"/>
            <a:ext cx="6912000" cy="1209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Библиография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000"/>
                            </p:stCondLst>
                            <p:childTnLst>
                              <p:par>
                                <p:cTn id="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5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1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Соня" descr=""/>
          <p:cNvPicPr/>
          <p:nvPr/>
        </p:nvPicPr>
        <p:blipFill>
          <a:blip r:embed="rId1"/>
          <a:srcRect l="0" t="9042" r="0" b="0"/>
          <a:stretch/>
        </p:blipFill>
        <p:spPr>
          <a:xfrm>
            <a:off x="1187280" y="2492280"/>
            <a:ext cx="6769440" cy="3745080"/>
          </a:xfrm>
          <a:prstGeom prst="rect">
            <a:avLst/>
          </a:prstGeom>
          <a:ln w="0">
            <a:noFill/>
          </a:ln>
        </p:spPr>
      </p:pic>
      <p:sp>
        <p:nvSpPr>
          <p:cNvPr id="1166" name=""/>
          <p:cNvSpPr txBox="1"/>
          <p:nvPr/>
        </p:nvSpPr>
        <p:spPr>
          <a:xfrm>
            <a:off x="1619280" y="443700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Как иногда в томительной пустыне </a:t>
            </a: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Мы видим образы далеких чуждых стран,</a:t>
            </a: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Но то лишь призраки, и снова небо сине,</a:t>
            </a: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И вдаль идет усталый караван...</a:t>
            </a: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1547640" y="476280"/>
            <a:ext cx="5975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Цель работы: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исследовать 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загадочное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оптическое явление мираж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>
    <p:checke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1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324000" y="189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11280" y="3500280"/>
            <a:ext cx="500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684360" y="4292640"/>
            <a:ext cx="82296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- аргументированно объяснить это оптическое явление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2664000" cy="161640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 txBox="1"/>
          <p:nvPr/>
        </p:nvSpPr>
        <p:spPr>
          <a:xfrm>
            <a:off x="684360" y="5229360"/>
            <a:ext cx="82296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- экспериментально смоделировать 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в нашей школьной 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лаборатории возможность наблюдения миражей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539640" y="692280"/>
            <a:ext cx="352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дачи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84360" y="3429000"/>
            <a:ext cx="8229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- изучить теоретические основы явления мираж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>
    <p:cover dir="l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50" autoRev="1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a2f"/>
                                      </p:to>
                                    </p:animClr>
                                    <p:animClr clrSpc="rgb">
                                      <p:cBhvr>
                                        <p:cTn id="139" dur="250" autoRev="1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a2f"/>
                                      </p:to>
                                    </p:animClr>
                                    <p:set>
                                      <p:cBhvr>
                                        <p:cTn id="140" dur="250" autoRev="1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a2f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a2f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/>
          </p:nvPr>
        </p:nvSpPr>
        <p:spPr>
          <a:xfrm>
            <a:off x="914400" y="522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-181080" y="7680240"/>
            <a:ext cx="850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7" name="" descr="Мира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 txBox="1"/>
          <p:nvPr/>
        </p:nvSpPr>
        <p:spPr>
          <a:xfrm>
            <a:off x="900000" y="692280"/>
            <a:ext cx="338472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Мираж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3024000" cy="226692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638640" y="4653000"/>
            <a:ext cx="5685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Предметы, связанные с моим проектом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0" lang="en-US" sz="1800" spc="-1" strike="noStrike">
                <a:solidFill>
                  <a:srgbClr val="669999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66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изика, информатика, история, геометрия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41240" y="5373720"/>
            <a:ext cx="4856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Методы исслед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бор, анализ и обобщение информ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ведение экспери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250" autoRev="1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67" dur="250" autoRev="1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95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Verdana"/>
              </a:rPr>
              <a:t>Мираж</a:t>
            </a:r>
            <a:br>
              <a:rPr sz="4400"/>
            </a:br>
            <a:r>
              <a:rPr b="1" i="1" lang="en-US" sz="4400" spc="-1" strike="noStrike">
                <a:solidFill>
                  <a:srgbClr val="cc0066"/>
                </a:solidFill>
                <a:latin typeface="Verdana"/>
              </a:rPr>
              <a:t> (фр. mirage)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4" name=""/>
          <p:cNvSpPr/>
          <p:nvPr/>
        </p:nvSpPr>
        <p:spPr>
          <a:xfrm>
            <a:off x="32400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1) оптическое явление, наблюдаемое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обычно в пустынях, состоящее в том,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что кроме предметов в 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истинном положении видны их мним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изображения;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при мираже предметы, скрытые за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горизонтом, становятся видимыми;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могут являться результатом искривления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световых лучей в неравномерно нагретых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слоях воздуха;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21040" y="4581360"/>
            <a:ext cx="388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2) обманчивое видение; неч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кажущееся, призрачное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02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3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700"/>
                            </p:stCondLst>
                            <p:childTnLst>
                              <p:par>
                                <p:cTn id="2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7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200"/>
                            </p:stCondLst>
                            <p:childTnLst>
                              <p:par>
                                <p:cTn id="2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179280" y="2118600"/>
            <a:ext cx="69534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Миражи бывают, усло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говоря, трех ви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Атмосферные миражи деля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на три класс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озерные, или нижние; верх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(они возникают прямо в небе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или миражи дальнего ви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боковые миражи.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Более сложный вид мираж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называется "Фата-Моргана".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Миражи – оборотни, мираж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ризраки,"Летучих Голландцев".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2376720" cy="154008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Верхний мираж"/>
          <p:cNvPicPr/>
          <p:nvPr/>
        </p:nvPicPr>
        <p:blipFill>
          <a:blip r:embed="rId2"/>
          <a:stretch/>
        </p:blipFill>
        <p:spPr>
          <a:xfrm>
            <a:off x="5796000" y="4005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 txBox="1"/>
          <p:nvPr/>
        </p:nvSpPr>
        <p:spPr>
          <a:xfrm>
            <a:off x="684360" y="189000"/>
            <a:ext cx="766440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ри вида миражей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amond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1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1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500"/>
                            </p:stCondLst>
                            <p:childTnLst>
                              <p:par>
                                <p:cTn id="2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9700"/>
                            </p:stCondLst>
                            <p:childTnLst>
                              <p:par>
                                <p:cTn id="3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200"/>
                            </p:stCondLst>
                            <p:childTnLst>
                              <p:par>
                                <p:cTn id="3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 Box 7"/>
          <p:cNvSpPr/>
          <p:nvPr/>
        </p:nvSpPr>
        <p:spPr>
          <a:xfrm>
            <a:off x="3635280" y="4221000"/>
            <a:ext cx="23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116000" y="333360"/>
            <a:ext cx="730584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тмосферные миражи </a:t>
            </a:r>
            <a:endParaRPr b="1" lang="en-US" sz="1800" spc="1" strike="noStrike">
              <a:ln w="19080">
                <a:solidFill>
                  <a:srgbClr val="33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2" name=""/>
          <p:cNvSpPr/>
          <p:nvPr/>
        </p:nvSpPr>
        <p:spPr>
          <a:xfrm>
            <a:off x="318240" y="1197000"/>
            <a:ext cx="431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ижние миражи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возникают,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когда слои воздуха у поверхности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Земли разогреты настолько,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что лучи света, исходящие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от предметов, сильно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искривляются. Описав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дугу у поверхности, они ид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снизу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5580000" y="2048040"/>
            <a:ext cx="2016360" cy="1228680"/>
          </a:xfrm>
          <a:prstGeom prst="rect">
            <a:avLst/>
          </a:prstGeom>
          <a:ln w="0">
            <a:noFill/>
          </a:ln>
        </p:spPr>
      </p:pic>
      <p:sp>
        <p:nvSpPr>
          <p:cNvPr id="1194" name=""/>
          <p:cNvSpPr/>
          <p:nvPr/>
        </p:nvSpPr>
        <p:spPr>
          <a:xfrm>
            <a:off x="4462560" y="3860640"/>
            <a:ext cx="468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ерхние миражи.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С высотой температура возд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падает. Однако если над сло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прохладного воздуха оказыв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более тёплый и сильно разреженный 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воздушный слой, а переход 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между ними довольно резок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то рефракция значительно 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усиливается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2"/>
          <a:stretch/>
        </p:blipFill>
        <p:spPr>
          <a:xfrm>
            <a:off x="1042920" y="4724280"/>
            <a:ext cx="2305080" cy="1295640"/>
          </a:xfrm>
          <a:prstGeom prst="rect">
            <a:avLst/>
          </a:prstGeom>
          <a:ln w="0">
            <a:noFill/>
          </a:ln>
        </p:spPr>
      </p:pic>
      <p:sp>
        <p:nvSpPr>
          <p:cNvPr id="1196" name=""/>
          <p:cNvSpPr/>
          <p:nvPr/>
        </p:nvSpPr>
        <p:spPr>
          <a:xfrm>
            <a:off x="482760" y="350028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Образование верхнего мираж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(ход лучей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864320" y="907920"/>
            <a:ext cx="3108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Образование нижнего мираж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(ход лучей)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250" autoRev="1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250" autoRev="1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80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800"/>
                            </p:stCondLst>
                            <p:childTnLst>
                              <p:par>
                                <p:cTn id="3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3" dur="2000" fill="hold"/>
                                        <p:tgtEl>
                                          <p:spTgt spid="1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9800"/>
                            </p:stCondLst>
                            <p:childTnLst>
                              <p:par>
                                <p:cTn id="3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800"/>
                            </p:stCondLst>
                            <p:childTnLst>
                              <p:par>
                                <p:cTn id="3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18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300"/>
                            </p:stCondLst>
                            <p:childTnLst>
                              <p:par>
                                <p:cTn id="4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2000" fill="hold"/>
                                        <p:tgtEl>
                                          <p:spTgt spid="1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1764000" cy="2160360"/>
          </a:xfrm>
          <a:prstGeom prst="rect">
            <a:avLst/>
          </a:prstGeom>
          <a:ln w="0">
            <a:noFill/>
          </a:ln>
        </p:spPr>
      </p:pic>
      <p:sp>
        <p:nvSpPr>
          <p:cNvPr id="1199" name=""/>
          <p:cNvSpPr txBox="1"/>
          <p:nvPr/>
        </p:nvSpPr>
        <p:spPr>
          <a:xfrm rot="5400000">
            <a:off x="-2089440" y="2528640"/>
            <a:ext cx="54007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оковые мираж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4140360" y="476280"/>
            <a:ext cx="374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Этот вид миражей может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возникнуть в тех случаях,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3708360" y="1197000"/>
            <a:ext cx="42498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когда слои воздуха одинаковой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плотности, располагаются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4140360" y="2349360"/>
            <a:ext cx="40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в атмосфере 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горизонтально, как обычно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а наклонно или даж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4284720" y="3141720"/>
            <a:ext cx="38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вертикально. Так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условия создаются летом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утром вскоре посл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3924360" y="479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восхода Солнца у скалисты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берегов моря или озера,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когда берег уже освещен солнцем,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067280" y="5877000"/>
            <a:ext cx="3952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а поверхность воды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и воздух над ней еще холодные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 spd="med">
    <p:comb dir="horz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3" dur="2000" fill="hold"/>
                                        <p:tgtEl>
                                          <p:spTgt spid="1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 txBox="1"/>
          <p:nvPr/>
        </p:nvSpPr>
        <p:spPr>
          <a:xfrm>
            <a:off x="2268360" y="692280"/>
            <a:ext cx="5185080" cy="187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"Летучий голландец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24000" y="1845720"/>
            <a:ext cx="302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С давних времен ходит легенда о корабле-призраке - Летучем Голландце. Его капитан был осужден за богохульство вечно носиться по морям и океанам, нигде не бросая якорь. Встреча с этим страшным парусником, по убеждению моряков, предвещала кораблекруш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651640" y="1844640"/>
            <a:ext cx="33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Эту старую легенду наверное породили верхние миражи. Моряки видели отражения далеких кораблей, которые в обычных условиях не видны, принимая их каждый раз за мистический парус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250" autoRev="1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500"/>
                            </p:stCondLst>
                            <p:childTnLst>
                              <p:par>
                                <p:cTn id="5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250" autoRev="1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6:41:45Z</dcterms:created>
  <dc:creator>Samsung</dc:creator>
  <dc:description/>
  <dc:language>en-US</dc:language>
  <cp:lastModifiedBy>Алексей</cp:lastModifiedBy>
  <dcterms:modified xsi:type="dcterms:W3CDTF">2009-03-25T03:16:46Z</dcterms:modified>
  <cp:revision>64</cp:revision>
  <dc:subject/>
  <dc:title>Оптическое явление. Мираж</dc:title>
</cp:coreProperties>
</file>