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140E-A6B8-491A-B513-7DE786DC4B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60A2-474A-4F61-81EB-8DF2DA0F05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E131-B8DB-4EF2-8EA6-56BBE39494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1AB-87B0-499F-898C-8E79CC95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FA4-8471-44EB-AC3D-68D2311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DD4BF-18EE-46BE-955F-5AB42150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3C6A9-490F-44DF-B149-D06FF4EB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245D1-6F8F-4B77-A824-9F8DFCCC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9693A-1F3C-454F-8EEF-4062F3A3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4A920-40BD-40B1-AD4D-A4D99C1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09293-5ACE-4A2F-BFB6-FFD5383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6045A-6036-4137-94DF-B7413789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8A615-71F0-4761-8F84-5BEA8171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5A451-837C-4157-AD68-06A0BC37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DFB19-2426-4C18-BFC6-22D12FE9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C07-9AC9-4632-AE4F-A3238C25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E006A-4524-492A-A09F-65122C8B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C7E5F-E622-4EDA-95E9-EE6D527F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338B7-8C1E-4448-ADE3-5410AE5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6E75F-817B-4CC3-BF44-F5B12E03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D216B-F778-41E6-AC00-032803A4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94882-B1B1-4660-9A0D-55FD2419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B093F-665A-4CFB-8B60-00C5F05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2236F-92D9-40D1-98F4-16C95472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FF661-609E-4BAF-BB5B-A67AB790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7DD5F-71CA-4F31-8458-29C343E3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502-B39E-4911-83F5-A2962AE2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F4A34-42DE-453A-8CF0-365645C4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5BB0D-CA02-4986-A0F0-27F1A626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F577F-1B53-4034-9008-6DF416B1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CFDB0-82F6-4AD6-BD63-2CF90A74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448D3-3862-489A-AB45-74A0F033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5D21A-81ED-404A-B5A3-22231F72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AEBC6-60AF-404A-8414-F07FD3EB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D56BB-7158-445E-B820-D5A5854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81CDA-304E-4FCC-86E6-388DF99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CCBBE-F39D-48E7-B53B-78895E95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DDC6-619E-4DD9-828E-54D7B975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6E775-579F-48A0-9493-7F7D2F2D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2E752-8B93-4481-8BD6-7FBE3986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6B5E1-1DC7-4271-8493-DEFD11F9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DF5B01-D249-46AD-8DEF-2233DA89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65361D-2A33-45F6-94AD-C1327EA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1CF806-13D8-4E10-9DAD-6CBC8F08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4282CE-FA2F-4BBB-82D0-FAE18B39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E18E89-FC1E-4238-896E-7F563231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676714-5AC2-4FDC-8D7B-9D603F34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9E909F-AF6A-418C-9CC6-1F1EF9BE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87DB-AD92-48D7-A300-4D72DE48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F4BB1E-3CFE-4F6A-B7CD-96C0B100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129168-23DC-4BE5-B78E-263E7457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77B784-3A47-41CD-8E71-9E7BBF25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ED131C-2031-4D91-BA05-3ECA3418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82F1C1-7111-43B3-9E3D-8E223F7C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247E4-1FE8-4D45-AF79-5C12CAF3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E2835-E2D2-41FB-83E6-CCC0CF34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2914E-4181-4094-989F-975D3D61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2DCB4-3C8E-4B5D-BF5D-B5FC66F3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592AB-9FCE-4AF2-9941-3AF6691F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F15B-2EC0-4554-8DFF-539D8114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3BCE0-7C08-459F-94F0-F3B4E6E1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A7D06-E3DB-480A-9AFF-6ED99515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3A366-4B78-4A33-A13E-9BD8638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87775-F736-4078-985E-4B733C66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8F8B2-17EF-4C2B-93A8-50A3D89E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B16DF-F848-4B4F-9199-E10E5BCC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518A3-0E91-4A70-BAF8-2821DB88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B7FBE-BE33-4E6A-885C-A6070453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EC195-98B4-4DEF-B4B1-E7F49A43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0F743-7755-4ED0-BC17-FFB3AB34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E34B-CE8C-45E1-914B-A6963F49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632A1-AE2A-4437-8780-B30A873D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1BC69-AE26-4288-B130-B6FEF51A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9C739-85EA-4F5C-AD1C-C42F8BE8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2776A-647C-4C0C-8FB4-B7BE8CB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DA1E8-CAA8-415E-AFFE-0AEEAD9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58D5E-7E1C-456C-8AE7-4D25B13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2EB65-01FA-43C3-BC9E-6CF23B5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9E520-037C-4B86-9168-53F50582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4673B-FB9D-4ACB-8B3B-AF167FD5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26DA7-F0EA-4CF5-9B61-33DB36D3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42DB-9979-42AF-A938-6F54ED6F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E975B2-CCE4-4CBC-BD81-5F2CCFC0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EBD03-E1CD-4798-A123-B4B9424F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5BB65-719C-4C87-9EEE-2D633EAB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A7E61-47B7-45F8-B99A-889B9995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FE0E1-4001-41C9-A4F6-6D256D91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DCAD5-483B-489F-AABA-D4F6A6FF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864B8-3FA0-4BF8-826C-987A84A0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EA9D3-47B5-407D-9ED9-2B17AFEF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CDA669-E26F-4B53-A44A-8C162A62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C3B83-79F7-4ED4-959F-A8E368A0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E8D9-5685-4BD0-BBA5-CBAEB0FD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C4914-A770-4366-B92C-473D6B40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68A72-1F0D-4009-864C-D529F8D8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948C8-4232-4D36-ADAC-C3DA53C1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DAF87-C357-439E-BB44-3C258666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229AC-D626-40DB-B564-B52D3672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D9C08-FCF2-4BB0-B30D-EC593C0C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B7278-5699-4A3C-BE7F-E5321F59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5B527-D05D-42ED-AE55-678EC7C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C39E5-D806-4B66-9823-52F5587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85084-5FC3-4D42-A9DA-B854561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210B-7A70-438D-B2A3-3936ECDD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5878F-4405-4563-8E24-0A699796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3D8B5-CB49-4B4D-8D35-288F4E94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4485E-5242-4B85-BD28-6E972B81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AAE0E-17F9-40E0-B3D9-359AAC52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CCD26-76B1-4EF1-ACEA-156A7FED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6AB72-B659-45BC-8A5F-8608F621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1717B-7E9C-4A44-8184-990DA6B6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B6AB7-772D-432F-8EDE-AA14965A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42A9B-7001-4945-B1D9-A78FDF9E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EDD67A-0F80-487C-86F2-E199FE9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2EE-C0C8-4DAA-99A9-41AEA47A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9C36-30E7-4573-A00C-82B39063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B3FEA-FC84-48E3-8018-9CD99DE3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DF956-37B6-4F4B-858B-3E5D522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E5773-0529-4D8E-B040-2F898A88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83B24-7A6B-4B92-A3B5-596A2F12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DE8EF-F9E2-4B25-92ED-C2319A4E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2D34-24DE-422A-B2C8-7731B45B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9948-8E26-42DB-80FB-0D2F8F95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582C-54BD-46BF-9CD5-6EF175DF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8251-09EE-47FF-B31B-6D83646F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E3129-AB92-4996-B95F-F655347D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11D60-FED5-4DDB-AE88-DF500074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2BFBB-DE0C-425A-8014-093DB87B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7771A-4204-49B3-97B6-515AAE5D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1324F-206C-4CD8-A0E5-A4FC450B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9B9-E63A-4312-BF6D-F6F10A14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A601D-49B4-4AB8-AA50-867036C1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CC808-EEB4-40ED-BB5A-71E2D06E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A7890-0EA8-4830-93FE-8B7E4AF0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556D7-2BD0-4B9B-8B78-4ED45A4A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C8040-873E-4CF7-9453-A7687707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1DA7E-1A91-4995-B156-8E625CCD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DAC15-B63D-4BC5-995C-8C03DDF4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59382-0DFB-4EB1-8FCE-9D28EADD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C3CA-05E2-485F-A42F-62151F15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2AEE6-B9E2-498B-BB80-C7F21C9E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601-568E-4860-8A09-24A75B82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25D8-545B-4AA9-B525-BFBAA84D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E2B8-62DF-40BC-8871-2BE1FC7D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5683-F812-4F3F-951F-0B3C7023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2383-1775-4D2D-B80B-90ED05AE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BAEF-4D09-40AD-995F-91ED35D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3DEB4-D1E8-42D6-94A9-423DD47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612E-D6D6-4F2F-870B-57D7634F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8915-8ED0-4AEF-A2BE-A629C04D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18A93-531B-4F6D-B8B5-792C297E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0EBCC-44D5-472B-BA25-5F9C187D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6A5-8583-48DA-B9D4-5583FA5C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4D834-EE0E-4C09-8CF9-20984D56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8C7F5-AD44-4D89-A922-6DF47418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C64C-7A3D-40A4-8A95-415CB284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DA68F-FFD3-4B27-B533-976CE6B2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03DD4-2E78-4DBD-9BFD-03F2CC3D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D126A-AF16-4464-B505-D3928A6A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452F1-ADE1-49D5-AEF9-51BB6B55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9125-6DAE-4ED5-A2A4-674B41C0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4E093-F395-4C90-BD00-223989E9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A7182-A922-4F5D-86E9-BA8D6FB7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DD3-C963-4506-A5A1-B7BD6DF1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A34A-ECAC-4D20-9F1F-514713E5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7844F-F4CD-4CC8-9E83-FFF99973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D54F8-FCCF-41C2-AADB-B54B28F0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80DB6-08BD-4AA9-89BA-7B354AAB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34176-B9F3-4F1F-9BB9-705A1D6D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95D06-E065-454A-A224-42C9D9C3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90DB-B793-4F60-9E91-F44B33E3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1B570-D6B6-4B04-80EB-5B3DCBD7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46AD2-CE95-48CA-9DDC-7619ED1B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254DA-E4E0-49C7-9BE4-8972D285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475-1202-4351-9FCE-7041908F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C5942-46D3-4CD0-ADCC-71C63982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5E021-3DE6-4543-9195-C445A4AC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71806-29AB-4C29-A466-ADA6F44F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73DFD-FA59-4987-AD53-CCC7E7E9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3D02D-944F-4AA3-AFEF-B23DAE8F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E2572-5A51-4977-92DF-BFC83D79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102BB-2D4B-4BDF-B539-F1D65AA3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09E4B-B746-4046-8539-7DC93175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F7EBC-2D07-4EB4-97F1-B8389EC4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8CA9B-8AC0-44EF-83CB-77652300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6ED-DD32-4744-B20D-89C441F9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6B8F6-10AC-49DE-957C-1C73EB4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04222-191B-401B-A77A-EFAF5E89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4D56B-F146-4B5C-805B-7A856C59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26327-FF7F-4ADB-932B-6EF4A1F1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D3826-D61F-4AB9-BF91-C31981B6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A88D8-C630-4908-AE43-7EDC3751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32F04-B1AB-4BAD-8C81-180F6236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D6CAF-1E26-4606-AA42-966F6F4E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C22E7-717B-45B7-9B82-FC8AFC57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5EAC8-AFD7-49EC-8935-1D5A0284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D4D-AC75-467A-B0CB-773FDF6D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05DE8-5B9D-478D-85C7-914C9530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F18B1-8AA6-49F9-AEE4-FCED113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EDBB6-A3CE-4AEE-88E3-C6D0D535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F8DBF-4934-4A4D-B273-C0572D2F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D1533-8135-46FF-99DC-530578FC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999F7-0F82-4B3D-BA23-EB6FCBB6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6E0FC-A9DD-430D-9358-D3F3395C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76949-E1CC-4C32-BC0E-D9A3F8FC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D6E22-BA8F-451E-9D2D-4C3ED559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31E1B-3D7A-465B-B148-D03914AE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A63B-4F1E-4E01-A5AF-E4820EDEB5D7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4A7F-2808-4771-B677-0AC0C9CDF5F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9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9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0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0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A752-96E7-4E88-A918-897AB04936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CE4C-C4D7-4955-A15F-1D0425806B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730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3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5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73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74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74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5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55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8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773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774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788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792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796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800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804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7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2DFD-F6CA-4EF3-AFA0-AAF05475068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B14-7760-4943-B76C-3B22D5AB56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6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6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7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9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1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ACAE-2489-42C5-BE92-2667C3C195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24C3-E7C3-4881-9609-0923713669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dt" idx="49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ftr" idx="50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8173-3C53-4E83-90A4-68FEDD37EEB9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8F4D-EE2F-4C64-8FC6-11205ED08B3D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46D2-035A-4F14-8C45-FF1EA0673F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BC2B-3091-4A2A-BE6C-4418A0C9E5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0750-9CEC-4115-8F5C-65BC3482C3F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0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FC5A-F960-4F28-8454-DF370D8751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8E58-8489-4B37-8171-DFB5625C74A4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5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8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8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8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8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F158-7172-4D9A-B23D-19EBDB8055A1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5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5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65B0-23A8-4EFB-BD12-68FB3847C4A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8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627280" y="2781000"/>
            <a:ext cx="5905440" cy="86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"/>
              </a:rPr>
              <a:t>М и р а ж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1834920" y="3645000"/>
            <a:ext cx="67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Исследовательская рабо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ыполнила Широбокова Анна –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ученица 8 «А» класс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8" name="Picture 6" descr="цветы"/>
          <p:cNvPicPr/>
          <p:nvPr/>
        </p:nvPicPr>
        <p:blipFill>
          <a:blip r:embed="rId1"/>
          <a:stretch/>
        </p:blipFill>
        <p:spPr>
          <a:xfrm rot="10800000">
            <a:off x="250560" y="188640"/>
            <a:ext cx="8496360" cy="10080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6" descr="цветы"/>
          <p:cNvPicPr/>
          <p:nvPr/>
        </p:nvPicPr>
        <p:blipFill>
          <a:blip r:embed="rId2"/>
          <a:stretch/>
        </p:blipFill>
        <p:spPr>
          <a:xfrm rot="10800000">
            <a:off x="394920" y="5733720"/>
            <a:ext cx="8496360" cy="10080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0" descr=""/>
          <p:cNvPicPr/>
          <p:nvPr/>
        </p:nvPicPr>
        <p:blipFill>
          <a:blip r:embed="rId3"/>
          <a:stretch/>
        </p:blipFill>
        <p:spPr>
          <a:xfrm>
            <a:off x="7596360" y="907920"/>
            <a:ext cx="690480" cy="84636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0" descr=""/>
          <p:cNvPicPr/>
          <p:nvPr/>
        </p:nvPicPr>
        <p:blipFill>
          <a:blip r:embed="rId4"/>
          <a:stretch/>
        </p:blipFill>
        <p:spPr>
          <a:xfrm>
            <a:off x="7596360" y="0"/>
            <a:ext cx="690480" cy="8460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0" descr=""/>
          <p:cNvPicPr/>
          <p:nvPr/>
        </p:nvPicPr>
        <p:blipFill>
          <a:blip r:embed="rId5"/>
          <a:stretch/>
        </p:blipFill>
        <p:spPr>
          <a:xfrm>
            <a:off x="8244000" y="260280"/>
            <a:ext cx="690480" cy="84636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 txBox="1"/>
          <p:nvPr/>
        </p:nvSpPr>
        <p:spPr>
          <a:xfrm>
            <a:off x="3276720" y="1268280"/>
            <a:ext cx="403200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тическ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в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4" name=""/>
          <p:cNvSpPr/>
          <p:nvPr/>
        </p:nvSpPr>
        <p:spPr>
          <a:xfrm>
            <a:off x="395280" y="486864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МОУ «СОШ р.п. Красный Текстильщик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Саратовского р-на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Саратовской области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Руководитель: Свириденко О.В. - учитель физ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360000" cy="6958080"/>
          </a:xfrm>
          <a:prstGeom prst="rect">
            <a:avLst/>
          </a:prstGeom>
          <a:ln w="0">
            <a:noFill/>
          </a:ln>
        </p:spPr>
      </p:pic>
      <p:sp>
        <p:nvSpPr>
          <p:cNvPr id="1212" name=""/>
          <p:cNvSpPr txBox="1"/>
          <p:nvPr/>
        </p:nvSpPr>
        <p:spPr>
          <a:xfrm rot="5400000">
            <a:off x="-1981080" y="2998800"/>
            <a:ext cx="6013440" cy="68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Фата - Морган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5219640" y="4869000"/>
            <a:ext cx="313380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Для этого самого 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загадочного вида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миражей убедительных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объяснений пока 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156360" y="6165720"/>
            <a:ext cx="136836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не найдено.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1692360" y="404640"/>
            <a:ext cx="31636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Сложное оптическое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явление в атмосфере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состоящее из нескольких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форм миражей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4643280" y="1700280"/>
            <a:ext cx="3961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при котором отдалённы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предметы видн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многократно и с разнообразными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искажениями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</p:txBody>
      </p:sp>
    </p:spTree>
  </p:cSld>
  <p:transition spd="slow">
    <p:pull dir="rd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pat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520" dur="20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7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250" autoRev="1" fill="hold"/>
                                        <p:tgtEl>
                                          <p:spTgt spid="1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7000"/>
                            </p:stCondLst>
                            <p:childTnLst>
                              <p:par>
                                <p:cTn id="5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Соня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105520" cy="2741760"/>
          </a:xfrm>
          <a:prstGeom prst="rect">
            <a:avLst/>
          </a:prstGeom>
          <a:ln w="0">
            <a:noFill/>
          </a:ln>
        </p:spPr>
      </p:pic>
      <p:pic>
        <p:nvPicPr>
          <p:cNvPr id="1218" name="Соня" descr=""/>
          <p:cNvPicPr/>
          <p:nvPr/>
        </p:nvPicPr>
        <p:blipFill>
          <a:blip r:embed="rId2"/>
          <a:stretch/>
        </p:blipFill>
        <p:spPr>
          <a:xfrm>
            <a:off x="5029200" y="4495680"/>
            <a:ext cx="2971800" cy="213228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 txBox="1"/>
          <p:nvPr/>
        </p:nvSpPr>
        <p:spPr>
          <a:xfrm>
            <a:off x="539640" y="333360"/>
            <a:ext cx="8305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В основе теории миражей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лежит явление полного внутреннего отражения света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на границе двух сред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5867280" y="2286000"/>
                <a:ext cx="297180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озд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оды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over dir="d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 txBox="1"/>
          <p:nvPr/>
        </p:nvSpPr>
        <p:spPr>
          <a:xfrm>
            <a:off x="179280" y="333360"/>
            <a:ext cx="8661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още всего наблюдать мираж в вод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223" name="01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2490840" cy="3973680"/>
          </a:xfrm>
          <a:prstGeom prst="rect">
            <a:avLst/>
          </a:prstGeom>
          <a:ln w="0">
            <a:noFill/>
          </a:ln>
        </p:spPr>
      </p:pic>
      <p:pic>
        <p:nvPicPr>
          <p:cNvPr id="1224" name="04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4946760" cy="383364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 txBox="1"/>
          <p:nvPr/>
        </p:nvSpPr>
        <p:spPr>
          <a:xfrm>
            <a:off x="5508720" y="3213000"/>
            <a:ext cx="2209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ячая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а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3132000" y="4365720"/>
            <a:ext cx="3311640" cy="761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енка    выглядит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ой___________________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4427640" y="5445000"/>
            <a:ext cx="3124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лодная вода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1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1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500"/>
                            </p:stCondLst>
                            <p:childTnLst>
                              <p:par>
                                <p:cTn id="6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7"/>
          <p:cNvSpPr/>
          <p:nvPr/>
        </p:nvSpPr>
        <p:spPr>
          <a:xfrm>
            <a:off x="1116000" y="335772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124000" y="1052640"/>
            <a:ext cx="482436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211640" y="2276640"/>
            <a:ext cx="792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ccb2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1" name="Picture 6" descr="цветы"/>
          <p:cNvPicPr/>
          <p:nvPr/>
        </p:nvPicPr>
        <p:blipFill>
          <a:blip r:embed="rId1"/>
          <a:stretch/>
        </p:blipFill>
        <p:spPr>
          <a:xfrm rot="10800000">
            <a:off x="324000" y="115560"/>
            <a:ext cx="8496000" cy="79200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6" descr="цветы"/>
          <p:cNvPicPr/>
          <p:nvPr/>
        </p:nvPicPr>
        <p:blipFill>
          <a:blip r:embed="rId2"/>
          <a:stretch/>
        </p:blipFill>
        <p:spPr>
          <a:xfrm rot="10800000">
            <a:off x="324000" y="6021360"/>
            <a:ext cx="8496000" cy="72072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10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690480" cy="84600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10" descr=""/>
          <p:cNvPicPr/>
          <p:nvPr/>
        </p:nvPicPr>
        <p:blipFill>
          <a:blip r:embed="rId4"/>
          <a:stretch/>
        </p:blipFill>
        <p:spPr>
          <a:xfrm>
            <a:off x="826920" y="1052640"/>
            <a:ext cx="690840" cy="8460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10" descr=""/>
          <p:cNvPicPr/>
          <p:nvPr/>
        </p:nvPicPr>
        <p:blipFill>
          <a:blip r:embed="rId5"/>
          <a:stretch/>
        </p:blipFill>
        <p:spPr>
          <a:xfrm>
            <a:off x="7451640" y="1341360"/>
            <a:ext cx="690480" cy="8463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10" descr=""/>
          <p:cNvPicPr/>
          <p:nvPr/>
        </p:nvPicPr>
        <p:blipFill>
          <a:blip r:embed="rId6"/>
          <a:stretch/>
        </p:blipFill>
        <p:spPr>
          <a:xfrm>
            <a:off x="7956720" y="981000"/>
            <a:ext cx="690480" cy="84636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 txBox="1"/>
          <p:nvPr/>
        </p:nvSpPr>
        <p:spPr>
          <a:xfrm>
            <a:off x="684360" y="3213000"/>
            <a:ext cx="51098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1. Миражи бывают трех видов.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332000" y="4941720"/>
            <a:ext cx="39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3. Мы создали мираж 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в лабораторных 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условиях.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239" name="" descr=""/>
          <p:cNvPicPr/>
          <p:nvPr/>
        </p:nvPicPr>
        <p:blipFill>
          <a:blip r:embed="rId7"/>
          <a:stretch/>
        </p:blipFill>
        <p:spPr>
          <a:xfrm>
            <a:off x="5724360" y="2781360"/>
            <a:ext cx="2880000" cy="324000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 txBox="1"/>
          <p:nvPr/>
        </p:nvSpPr>
        <p:spPr>
          <a:xfrm>
            <a:off x="539640" y="3645000"/>
            <a:ext cx="51418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2. В основе теории миражей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лежит явление полного 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внутреннего отражения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света на границе двух сред.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</p:txBody>
      </p:sp>
    </p:spTree>
  </p:cSld>
  <p:transition spd="med">
    <p:wheel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4000"/>
                            </p:stCondLst>
                            <p:childTnLst>
                              <p:par>
                                <p:cTn id="6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4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4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4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000"/>
                            </p:stCondLst>
                            <p:childTnLst>
                              <p:par>
                                <p:cTn id="6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4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80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9500"/>
                            </p:stCondLst>
                            <p:childTnLst>
                              <p:par>
                                <p:cTn id="692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693" dur="2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0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1. Элементарный учебник физики: Ландсберг Г.С. – Учебное пособие в 3-х т. Т.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. Колебания и волны. Оптика. Атомная и ядерная физика. – 10-е изд., перераб.- М.: Наука. Главная редакция физико-математической литературы, 1986.– 656 с., и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2. Перельман Я.И. – Занимательная физика – Изд. 12е, «Наука», главная редакция физико-математической литературы – Москва 197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3. www.log-in.ru/articles/486/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4. awesta.kosmopoisk.org/ksion.htm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. dic.academic.ru/dic.nsf/enc3p/305682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6. www.avialine.com/country/6/articles/127/476/1160/0/2036.htm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826920" y="333360"/>
            <a:ext cx="6912000" cy="1209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Библиография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0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Соня" descr=""/>
          <p:cNvPicPr/>
          <p:nvPr/>
        </p:nvPicPr>
        <p:blipFill>
          <a:blip r:embed="rId1"/>
          <a:srcRect l="0" t="9042" r="0" b="0"/>
          <a:stretch/>
        </p:blipFill>
        <p:spPr>
          <a:xfrm>
            <a:off x="1187280" y="2492280"/>
            <a:ext cx="6769440" cy="374508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 txBox="1"/>
          <p:nvPr/>
        </p:nvSpPr>
        <p:spPr>
          <a:xfrm>
            <a:off x="1619280" y="44370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Как иногда в томительной пустыне 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Мы видим образы далеких чуждых стран,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Но то лишь призраки, и снова небо сине,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И вдаль идет усталый караван...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1547640" y="476280"/>
            <a:ext cx="5975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Цель работы: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исследовать 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загадочное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оптическое явление мираж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checke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1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324000" y="189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11280" y="3500280"/>
            <a:ext cx="500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684360" y="4292640"/>
            <a:ext cx="82296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- аргументированно объяснить это оптическое явление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2664000" cy="161640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 txBox="1"/>
          <p:nvPr/>
        </p:nvSpPr>
        <p:spPr>
          <a:xfrm>
            <a:off x="684360" y="5229360"/>
            <a:ext cx="82296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- экспериментально смоделировать 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в нашей школьной 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лаборатории возможность наблюдения миражей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539640" y="692280"/>
            <a:ext cx="352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дачи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84360" y="3429000"/>
            <a:ext cx="8229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- изучить теоретические основы явления мираж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cover dir="l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50" autoRev="1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animClr clrSpc="rgb">
                                      <p:cBhvr>
                                        <p:cTn id="139" dur="250" autoRev="1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set>
                                      <p:cBhvr>
                                        <p:cTn id="140" dur="250" autoRev="1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914400" y="522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-181080" y="7680240"/>
            <a:ext cx="850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7" name="" descr="Мира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 txBox="1"/>
          <p:nvPr/>
        </p:nvSpPr>
        <p:spPr>
          <a:xfrm>
            <a:off x="900000" y="692280"/>
            <a:ext cx="338472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ираж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024000" cy="226692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638640" y="4653000"/>
            <a:ext cx="5685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Предметы, связанные с моим проектом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669999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66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изика, информатика, история, геометрия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41240" y="5373720"/>
            <a:ext cx="4856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Методы исслед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бор, анализ и обобщение информ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ведение экспери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50" autoRev="1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67" dur="250" autoRev="1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95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Verdana"/>
              </a:rPr>
              <a:t>Мираж</a:t>
            </a:r>
            <a:br>
              <a:rPr sz="4400"/>
            </a:br>
            <a:r>
              <a:rPr b="1" i="1" lang="en-US" sz="4400" spc="-1" strike="noStrike">
                <a:solidFill>
                  <a:srgbClr val="cc0066"/>
                </a:solidFill>
                <a:latin typeface="Verdana"/>
              </a:rPr>
              <a:t> (фр. mirage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4" name=""/>
          <p:cNvSpPr/>
          <p:nvPr/>
        </p:nvSpPr>
        <p:spPr>
          <a:xfrm>
            <a:off x="32400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1) оптическое явление, наблюдаемое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обычно в пустынях, состоящее в том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что кроме предметов в 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истинном положении видны их мним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изображения;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при мираже предметы, скрытые за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горизонтом, становятся видимыми;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могут являться результатом искривления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световых лучей в неравномерно нагретых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слоях воздуха;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21040" y="4581360"/>
            <a:ext cx="38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2) обманчивое видение; не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кажущееся, призрачно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02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3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700"/>
                            </p:stCondLst>
                            <p:childTnLst>
                              <p:par>
                                <p:cTn id="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7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200"/>
                            </p:stCondLst>
                            <p:childTnLst>
                              <p:par>
                                <p:cTn id="2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179280" y="2118600"/>
            <a:ext cx="69534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Миражи бывают, усло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говоря, трех ви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Атмосферные миражи дел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на три класс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озерные, или нижние; верх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(они возникают прямо в небе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или миражи дальнего ви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боковые миражи.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Более сложный вид мираж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называется "Фата-Моргана".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Миражи – оборотни, мираж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ризраки,"Летучих Голландцев".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2376720" cy="154008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Верхний мираж"/>
          <p:cNvPicPr/>
          <p:nvPr/>
        </p:nvPicPr>
        <p:blipFill>
          <a:blip r:embed="rId2"/>
          <a:stretch/>
        </p:blipFill>
        <p:spPr>
          <a:xfrm>
            <a:off x="5796000" y="4005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 txBox="1"/>
          <p:nvPr/>
        </p:nvSpPr>
        <p:spPr>
          <a:xfrm>
            <a:off x="684360" y="189000"/>
            <a:ext cx="766440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ри вида миражей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amond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1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500"/>
                            </p:stCondLst>
                            <p:childTnLst>
                              <p:par>
                                <p:cTn id="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9700"/>
                            </p:stCondLst>
                            <p:childTnLst>
                              <p:par>
                                <p:cTn id="3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200"/>
                            </p:stCondLst>
                            <p:childTnLst>
                              <p:par>
                                <p:cTn id="3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7"/>
          <p:cNvSpPr/>
          <p:nvPr/>
        </p:nvSpPr>
        <p:spPr>
          <a:xfrm>
            <a:off x="3635280" y="4221000"/>
            <a:ext cx="23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116000" y="333360"/>
            <a:ext cx="73058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мосферные миражи </a:t>
            </a:r>
            <a:endParaRPr b="1" lang="en-US" sz="1800" spc="1" strike="noStrike">
              <a:ln w="19080">
                <a:solidFill>
                  <a:srgbClr val="33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2" name=""/>
          <p:cNvSpPr/>
          <p:nvPr/>
        </p:nvSpPr>
        <p:spPr>
          <a:xfrm>
            <a:off x="318240" y="1197000"/>
            <a:ext cx="431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ижние миражи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возникают,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когда слои воздуха у поверхности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Земли разогреты настолько,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что лучи света, исходящие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от предметов, сильно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искривляются. Описав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дугу у поверхности, они ид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низу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5580000" y="2048040"/>
            <a:ext cx="2016360" cy="122868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/>
          <p:nvPr/>
        </p:nvSpPr>
        <p:spPr>
          <a:xfrm>
            <a:off x="4462560" y="3860640"/>
            <a:ext cx="468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ерхние миражи.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С высотой температура возд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падает. Однако если над сло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прохладного воздуха оказыв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более тёплый и сильно разреженный 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воздушный слой, а переход 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между ними довольно резок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то рефракция значительно 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усиливаетс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2305080" cy="1295640"/>
          </a:xfrm>
          <a:prstGeom prst="rect">
            <a:avLst/>
          </a:prstGeom>
          <a:ln w="0">
            <a:noFill/>
          </a:ln>
        </p:spPr>
      </p:pic>
      <p:sp>
        <p:nvSpPr>
          <p:cNvPr id="1196" name=""/>
          <p:cNvSpPr/>
          <p:nvPr/>
        </p:nvSpPr>
        <p:spPr>
          <a:xfrm>
            <a:off x="482760" y="350028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Образование верхнего мираж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(ход лучей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864320" y="907920"/>
            <a:ext cx="3108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Образование нижнего мираж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(ход лучей)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250" autoRev="1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8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800"/>
                            </p:stCondLst>
                            <p:childTnLst>
                              <p:par>
                                <p:cTn id="3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2000" fill="hold"/>
                                        <p:tgtEl>
                                          <p:spTgt spid="1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9800"/>
                            </p:stCondLst>
                            <p:childTnLst>
                              <p:par>
                                <p:cTn id="3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800"/>
                            </p:stCondLst>
                            <p:childTnLst>
                              <p:par>
                                <p:cTn id="3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18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300"/>
                            </p:stCondLst>
                            <p:childTnLst>
                              <p:par>
                                <p:cTn id="4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2000" fill="hold"/>
                                        <p:tgtEl>
                                          <p:spTgt spid="1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1764000" cy="216036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 txBox="1"/>
          <p:nvPr/>
        </p:nvSpPr>
        <p:spPr>
          <a:xfrm rot="5400000">
            <a:off x="-2089440" y="2528640"/>
            <a:ext cx="54007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оковые мираж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4140360" y="476280"/>
            <a:ext cx="374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Этот вид миражей может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возникнуть в тех случаях,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3708360" y="1197000"/>
            <a:ext cx="42498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когда слои воздуха одинаковой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плотности, располагаются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140360" y="2349360"/>
            <a:ext cx="40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в атмосфере 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горизонтально, как обычно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а наклонно или даж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4284720" y="3141720"/>
            <a:ext cx="38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вертикально. Та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условия создаются летом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утром вскоре пос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3924360" y="479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восхода Солнца у скалисты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берегов моря или озера,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когда берег уже освещен солнцем,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067280" y="5877000"/>
            <a:ext cx="3952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а поверхность воды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и воздух над ней еще холодные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 spd="med">
    <p:comb dir="horz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0" fill="hold"/>
                                        <p:tgtEl>
                                          <p:spTgt spid="1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 txBox="1"/>
          <p:nvPr/>
        </p:nvSpPr>
        <p:spPr>
          <a:xfrm>
            <a:off x="2268360" y="692280"/>
            <a:ext cx="518508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"Летучий голландец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24000" y="1845720"/>
            <a:ext cx="302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С давних времен ходит легенда о корабле-призраке - Летучем Голландце. Его капитан был осужден за богохульство вечно носиться по морям и океанам, нигде не бросая якорь. Встреча с этим страшным парусником, по убеждению моряков, предвещала кораблекру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651640" y="1844640"/>
            <a:ext cx="33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Эту старую легенду наверное породили верхние миражи. Моряки видели отражения далеких кораблей, которые в обычных условиях не видны, принимая их каждый раз за мистический парус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250" autoRev="1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500"/>
                            </p:stCondLst>
                            <p:childTnLst>
                              <p:par>
                                <p:cTn id="5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250" autoRev="1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41:45Z</dcterms:created>
  <dc:creator>Samsung</dc:creator>
  <dc:description/>
  <dc:language>en-US</dc:language>
  <cp:lastModifiedBy>Алексей</cp:lastModifiedBy>
  <dcterms:modified xsi:type="dcterms:W3CDTF">2009-03-25T03:16:46Z</dcterms:modified>
  <cp:revision>64</cp:revision>
  <dc:subject/>
  <dc:title>Оптическое явление. Мираж</dc:title>
</cp:coreProperties>
</file>