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02C-52B5-469E-BE41-72458463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7CE-5FCD-4574-BC03-2AFB9A4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B03-5680-4E88-8043-00AD97DA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451-2B00-49C8-AC46-0E0CA327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E363-793E-482C-A548-582A0F33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5BFA-F151-4E98-8439-EA2BEE4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157C-648A-4408-AC60-122C5B9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67FC-286E-4B61-9870-A3AE7EDD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1A39-1B1C-49A9-8710-84F42FE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DBE2-2F60-405F-8621-30D9A94C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ABD-E2ED-4F26-A557-F4402ED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96C-7405-4517-A576-588B917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D536-2484-4077-8DFE-02395D2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0F8A-5F85-476C-A1B1-8CAC0BF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EC92-4B69-4D58-8C1B-CEB12C7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00B-DAE3-41BD-91D6-B063BE01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8B93-5F55-4A09-A98D-D23D8E71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CE1-269C-46C5-A497-4FDA09C3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36A-501E-4C5A-A4A5-EA53DE8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FB0-C9B7-40A7-8925-EDA30A31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B54-4256-4236-8A54-3C1D81F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D33-C803-4B1C-8507-EB6F229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CE6-8884-4163-A254-A4D6555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449-B8C1-4B4E-9A2E-AF4FE2C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54FA-941C-4BE0-9775-17E32899826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5F9F-D8CD-4B9C-9C6A-2B1A0F354B9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lymps.ru/chamonix-1924" TargetMode="External"/><Relationship Id="rId3" Type="http://schemas.openxmlformats.org/officeDocument/2006/relationships/hyperlink" Target="http://www.olymps.ru/st-moritz-1928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olymps.ru/lake-placid-1932" TargetMode="External"/><Relationship Id="rId6" Type="http://schemas.openxmlformats.org/officeDocument/2006/relationships/hyperlink" Target="http://www.olymps.ru/garmisch-partenkirchen-1936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www.olymps.ru/st-moritz-1948" TargetMode="External"/><Relationship Id="rId10" Type="http://schemas.openxmlformats.org/officeDocument/2006/relationships/hyperlink" Target="http://www.olymps.ru/oslo-1952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www.olymps.ru/cortina-dampezzo-1956" TargetMode="External"/><Relationship Id="rId13" Type="http://schemas.openxmlformats.org/officeDocument/2006/relationships/hyperlink" Target="http://www.olymps.ru/squaw-valley-1960" TargetMode="External"/><Relationship Id="rId14" Type="http://schemas.openxmlformats.org/officeDocument/2006/relationships/image" Target="../media/image3.png"/><Relationship Id="rId15" Type="http://schemas.openxmlformats.org/officeDocument/2006/relationships/hyperlink" Target="http://www.olymps.ru/innsbruck-1964" TargetMode="External"/><Relationship Id="rId16" Type="http://schemas.openxmlformats.org/officeDocument/2006/relationships/hyperlink" Target="http://www.olymps.ru/grenoble-1968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www.olymps.ru/sapporo-1972" TargetMode="External"/><Relationship Id="rId19" Type="http://schemas.openxmlformats.org/officeDocument/2006/relationships/hyperlink" Target="http://www.olymps.ru/innsbruck-1976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www.olymps.ru/lake-placid-1980" TargetMode="External"/><Relationship Id="rId22" Type="http://schemas.openxmlformats.org/officeDocument/2006/relationships/hyperlink" Target="http://www.olymps.ru/saraevo-1984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www.olymps.ru/calgary-1988" TargetMode="External"/><Relationship Id="rId25" Type="http://schemas.openxmlformats.org/officeDocument/2006/relationships/hyperlink" Target="http://www.olymps.ru/albertville-1992" TargetMode="External"/><Relationship Id="rId26" Type="http://schemas.openxmlformats.org/officeDocument/2006/relationships/image" Target="../media/image3.png"/><Relationship Id="rId27" Type="http://schemas.openxmlformats.org/officeDocument/2006/relationships/hyperlink" Target="http://www.olymps.ru/lillehammer-1994" TargetMode="External"/><Relationship Id="rId28" Type="http://schemas.openxmlformats.org/officeDocument/2006/relationships/hyperlink" Target="http://www.olymps.ru/nagano-1998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www.olymps.ru/salt-lake-city-2002" TargetMode="External"/><Relationship Id="rId31" Type="http://schemas.openxmlformats.org/officeDocument/2006/relationships/hyperlink" Target="http://www.olymps.ru/torino-2006" TargetMode="External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sschool8.narod.ru/Masters/Shtuk/7580a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g145.imageshack.us/img145/449/butovskiy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ak.ru/vimg/article/69c18607d0389ded56790e6e6a5cfe5c.gif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sashka.inf.ua/his/olimpgames8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gryolimpa.ru/ckfinder/userfiles/images/172596_20080304095453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vspu.ru/lib/exe/detail.php?id=workroom%3Aiteach2008%3Aastahovagn_korolevaea_petkovaio%3Aalbum&amp;cache=cache&amp;media=workroom:iteach2008:astahovagn_korolevaea_petkovaio:av8e1ca9yng4tcafi73mdcauzgghlcalnc5jkcaek9zt5ca0bvhupcalx0pirca1j8gcpcahm9830cagp05n0caudmp07ca30u98ocar5fifhcax615excawkyv7ccaj4h73yca5ns8yjcasyk8oxca8m4vym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ое движ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33130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Учебное пособие для подготовки к олимпиаде по физической культур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одготовила учитель ФК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.Н. Зубк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09548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03200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Зимние Олимпийские игры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4    I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Шамо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             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Санкт-Мориц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2   III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Лейк-Плэси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V            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Гармиш-Партенкирх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0   V(отменены)Гармиш-Партенкирх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4    VI(отменены)   Кортинад'Ампецц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8   V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Санкт-Мор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Осл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6   VI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Кортинад'Ампецц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Скво-Велл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4   IX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Инс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Греноб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2    X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Саппо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Инс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II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1"/>
              </a:rPr>
              <a:t>ЛейкПлэси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Сараев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8   XV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Калга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5"/>
              </a:rPr>
              <a:t>Альбервил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4   XVI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7"/>
              </a:rPr>
              <a:t>Лиллехамм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8"/>
              </a:rPr>
              <a:t>Наган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2    XIX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Солт-Лейк-Си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1"/>
              </a:rPr>
              <a:t>Тур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0    XXI  Ванкув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чи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ев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авным-давно в Греции, жили-были люди и боги. И иногда боги уделяли внимание людям, в результате чего получались полукровки — люди, наделенные сверхчеловеческими способностями. Одним из таких полубогов являлся всем нам известны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Герак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ый стал прародителем Олимпийских игр, победив в беге своих 5 братьев, и получив в награду венок из дикого дерева оливы. С тех пор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Игры Олимпиады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тали проводиться каждые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4 год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на Пелопонессе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в Олимпи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Это, как говорится, присказка — часть красивого миф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е игры проводились в 776 году до.н.э.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это был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ег на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стадию — 192 метр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ревновались на играх только свободны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е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Картинка 81 из 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25880" y="2290680"/>
            <a:ext cx="362412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068720" cy="2687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ев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иболее прославленными героями древних олимпийских состязаний были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еонидас – 12 раз побеждавший в беге, Гермоген - 8 побед, Астилос - 7 побе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 ходом состязаний наблюдали судьи и одновременно тренеры —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элланодик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ых сначала было двое, затем 9, 10, 12 и 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рядок на играх поддерживал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рабдох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палочни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Олимпии выступали прославленные деятели культуры: историк Геродот, философ Сократ, оратор Демосфен, математик Пифагор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имляне, ставшие к 390 г. н.э. христианами, посчитали эти спортивные состязания языческим фестивалем.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394 г. н.э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мператор Римской импери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Феодосий I запрети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роведение Олимпийских игр. Как вы знаете, спустя 15 веков,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896 году Игры снова возродились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ким французом, бароном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ьером де Кубертено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зрождение О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14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 вот в 1897 году на конгрессе в Сорбонне, барон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ьер де Кубертен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бнародовал идею возрождения Олимпийских игр. Было принято решение провест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е Олимпийские игры современности в 1896 году в Греческом городе Афины 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— в стране, где они, и зародились, следуя истори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ыл организован Международный олимпийский комитет (сокращенно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МОК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),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м президент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которого стал грек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Деметриус Викелас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числе первых 13 членов МОК был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й организатор физическог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оспитания педагог генера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.Д.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Бутовск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162864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300720" y="1197000"/>
            <a:ext cx="1486080" cy="2087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1 из 19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508640"/>
            <a:ext cx="16412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ие принципы, традиции, прави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ая харт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основной закон всемирного движения, своего рода конституц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ого движения, свод основных законов, где изложены принципы олимпизма, правила организации и  проведения О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гласно олимпийской хартии термин «олимпиада» означает четырёхлетний период между О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временны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симво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ять переплетенных многоцветных колец, означающ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о  пяти континентов.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флаг поднял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не на олимпийских играх, а 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негипетских играх в 1914 году. И только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920 году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на О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и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девиз «Быстрее, выше, сильнее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был придуман священником Дидоно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огон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Церемония зажжения огня была проведена на играх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X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лимпиады    1928 года в Амстердаме, а на зимних – в 1952г. в Осло. Эстафета олимпийских факелов состоялась в 1936 год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лятв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портсменов прозвучала в 1920 году, клятва судей в 1968 году  в Мехик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ам же появился первый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талисман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ягуар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016360" cy="1930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64000" y="4581360"/>
            <a:ext cx="324036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226800"/>
            <a:ext cx="71564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гда, где, кто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907560"/>
            <a:ext cx="823104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Хартией установлено, что Игры Олимпиады (летние) проводятся в течение первого года олимпиады. Зимние ОИ, начиная с 1994 года, проводятся в течение второго календарного год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родолжительность ОИ не должна превышать 16 дн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Выбор города, где проводятся ОИ – исключительное право МОК, но кандидатура города должна быть одобрена Национальным Олимпийским комитето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Хартия устанавливает, что на ОИ проводятся соревнования по так называемым олимпийским видам спорта (не менее 15 летних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Олимпийские игры проводятся под руководством МОК. Международные федерации по видам спорта назначают арбитров, судей и проводят соревнова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Картинка 13 из 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97360"/>
            <a:ext cx="207972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Картинка 47 из 1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005360"/>
            <a:ext cx="25174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ий комит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61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ждународный олимпийский комитет (МОК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вляется международной неправительственн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рганизацией. Высшим органом МОК является сессия, проводимая не менее 1 раза в го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идентом МОК является Жак Рогг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й  олимпийский комитет был образован 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1 г. Его председателем был В. Срезневский (1911-1917г.г.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циональный олимпийский комитет СССР бы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изнан в 1951 год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иденты: Андрианов (1951-1977), Павлов (1977-1983), Грамов (1983-1990), Смирнов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(1990-1992),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ягачев (2001-2010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е члены МОК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пов. Смирнов, Тарпище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ероссийский олимпийский комитет был основан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 декабря 1989 г. – председатель В. Вас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 сегодняшний день НОК России называетс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ИЙ КОМИТЕТ РОССИИ (ОКР) и возглавляет его А. Жук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Картинка 88 из 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560" y="1773360"/>
            <a:ext cx="326880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Российские спортсмены на О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первые Российские спортсмены приняли участие в 1908 году в Лондоне ( 6 чел.) – первым ОЧ (олимпийским чемпионом) стал Н. Панин-Коломенкин (фигурное катание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ортсмены СССР приняли участие в 1952 г. в Хельсинки – ОЧ стала Нина Ромашкова (Пономарева)(метание диска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нашей стране ОИ проводились в 1980 г. в Москв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1992 году в Барселоне участвовали спортсмены  СН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1996 году в летних играх  в Атланте участвовали спортсмены Росси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Татьяна Лебедев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ая чемпионк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 прыжкам в длину (Афины-2004)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00720" y="1052280"/>
            <a:ext cx="4186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    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Елена Исинбаева.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Двукратная Олимпийская чемпионк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по прыжкам в высоту с шестом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(Афины-2004 и Пекин-2008)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Многократная рекордсменка мир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Максим Опалев.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Олимпийский чемпион игр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2008 года в Пекине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Лариса Ильченк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Олимпийская чемпионка игр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2008 года в Пекин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907920"/>
            <a:ext cx="1306440" cy="1438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exb4scagv4rmmca0uiv43ca4fqsx1caq7s6kvcaj0o1xgcavyw794ca74kjj9caav22sncaq3t38qcab6ttdscan4i5ntcagql1fkcaj3yej2carxlwizcaa2wfd7ca50uj3ucaf4vygfcapls6oacabc38vq.jpg"/>
          <p:cNvPicPr/>
          <p:nvPr/>
        </p:nvPicPr>
        <p:blipFill>
          <a:blip r:embed="rId3"/>
          <a:stretch/>
        </p:blipFill>
        <p:spPr>
          <a:xfrm>
            <a:off x="4786200" y="2781360"/>
            <a:ext cx="142092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258920" y="537372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В фойе бассейна &quot;Олимпийский&quot; (Москва, 2010г)"/>
          <p:cNvPicPr/>
          <p:nvPr/>
        </p:nvPicPr>
        <p:blipFill>
          <a:blip r:embed="rId5"/>
          <a:stretch/>
        </p:blipFill>
        <p:spPr>
          <a:xfrm>
            <a:off x="6948360" y="4797360"/>
            <a:ext cx="12002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ет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896      I                Афины            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0      II               Париж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4      III              Сент-Луи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6     внеоч.         Афин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8       IV             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2       V               Стокголь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6      VI(отменены)Берл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0      VII              Антверп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4    VIII             Париж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8      IX               Амстерд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32      X              Лос-Анджеле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36     XI                Берл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0    XII(отменены)Хельсин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4     XIII(отменены)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8     XIV              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62360" y="1598760"/>
            <a:ext cx="433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5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Хельсин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5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льбур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и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оки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хик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7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юнх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7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онреал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XXIII           ЛосАнджеле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еу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9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арсело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9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тлант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идне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фин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ек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1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5:32:58Z</dcterms:created>
  <dc:creator>KET</dc:creator>
  <dc:description/>
  <dc:language>en-US</dc:language>
  <cp:lastModifiedBy>Tiger</cp:lastModifiedBy>
  <dcterms:modified xsi:type="dcterms:W3CDTF">2013-08-22T15:09:30Z</dcterms:modified>
  <cp:revision>4</cp:revision>
  <dc:subject/>
  <dc:title>Олимпийское движение</dc:title>
</cp:coreProperties>
</file>