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369-6173-4716-93E5-E0CDCA4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A07-93EB-46F3-BEC6-BC2BB43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CAE-3C44-4E02-84F8-0942962E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140-CA99-43D4-A4A4-E59342E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9CCF-496E-441C-A380-5B56898D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9ED-DA1C-49F4-8842-E9407D6D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762-1DB3-46D5-BB52-79EA186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0E1-69FC-46D6-9D66-5721E8D8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BDAD-817B-4F24-A2CC-C92D8D4F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341E-2E65-48DA-A7A8-165ED79E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C60-9D5D-4991-BCD4-CA4E2CD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163-710B-4393-A0DC-B1C1E6D3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3BE4-CFF8-490E-90AD-65BD1AB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4373-B2F9-4414-94B6-E335723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60D9-6AAE-4BEE-A698-0FEECAB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C92-34E8-4A38-9501-3193431A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B6CA-8566-4B37-9F5A-CB6D1686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513-33EE-43F9-9612-1E39002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9AE-156A-49E3-8D96-9C28F3A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044-A143-402A-87E1-DC5733B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333-F938-4D2F-A093-42E47BA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948-E3A4-47B1-9DDE-E0A3B3D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B80-B6FE-484D-925F-8DD6DCE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989-14A7-4CC1-8C1F-B34DC4C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0F6-7C57-42F4-BC87-F3D41CCA5CC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CF5-4C19-40EC-9DE0-45DE9F19DD6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lymps.ru/chamonix-1924" TargetMode="External"/><Relationship Id="rId3" Type="http://schemas.openxmlformats.org/officeDocument/2006/relationships/hyperlink" Target="http://www.olymps.ru/st-moritz-1928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olymps.ru/lake-placid-1932" TargetMode="External"/><Relationship Id="rId6" Type="http://schemas.openxmlformats.org/officeDocument/2006/relationships/hyperlink" Target="http://www.olymps.ru/garmisch-partenkirchen-1936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olymps.ru/st-moritz-1948" TargetMode="External"/><Relationship Id="rId10" Type="http://schemas.openxmlformats.org/officeDocument/2006/relationships/hyperlink" Target="http://www.olymps.ru/oslo-1952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www.olymps.ru/cortina-dampezzo-1956" TargetMode="External"/><Relationship Id="rId13" Type="http://schemas.openxmlformats.org/officeDocument/2006/relationships/hyperlink" Target="http://www.olymps.ru/squaw-valley-1960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www.olymps.ru/innsbruck-1964" TargetMode="External"/><Relationship Id="rId16" Type="http://schemas.openxmlformats.org/officeDocument/2006/relationships/hyperlink" Target="http://www.olymps.ru/grenoble-1968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www.olymps.ru/sapporo-1972" TargetMode="External"/><Relationship Id="rId19" Type="http://schemas.openxmlformats.org/officeDocument/2006/relationships/hyperlink" Target="http://www.olymps.ru/innsbruck-1976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www.olymps.ru/lake-placid-1980" TargetMode="External"/><Relationship Id="rId22" Type="http://schemas.openxmlformats.org/officeDocument/2006/relationships/hyperlink" Target="http://www.olymps.ru/saraevo-1984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www.olymps.ru/calgary-1988" TargetMode="External"/><Relationship Id="rId25" Type="http://schemas.openxmlformats.org/officeDocument/2006/relationships/hyperlink" Target="http://www.olymps.ru/albertville-1992" TargetMode="External"/><Relationship Id="rId26" Type="http://schemas.openxmlformats.org/officeDocument/2006/relationships/image" Target="../media/image3.png"/><Relationship Id="rId27" Type="http://schemas.openxmlformats.org/officeDocument/2006/relationships/hyperlink" Target="http://www.olymps.ru/lillehammer-1994" TargetMode="External"/><Relationship Id="rId28" Type="http://schemas.openxmlformats.org/officeDocument/2006/relationships/hyperlink" Target="http://www.olymps.ru/nagano-1998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www.olymps.ru/salt-lake-city-2002" TargetMode="External"/><Relationship Id="rId31" Type="http://schemas.openxmlformats.org/officeDocument/2006/relationships/hyperlink" Target="http://www.olymps.ru/torino-2006" TargetMode="External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sschool8.narod.ru/Masters/Shtuk/7580a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g145.imageshack.us/img145/449/butovskiy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ak.ru/vimg/article/69c18607d0389ded56790e6e6a5cfe5c.gif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sashka.inf.ua/his/olimpgames8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gryolimpa.ru/ckfinder/userfiles/images/172596_2008030409545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vspu.ru/lib/exe/detail.php?id=workroom%3Aiteach2008%3Aastahovagn_korolevaea_petkovaio%3Aalbum&amp;cache=cache&amp;media=workroom:iteach2008:astahovagn_korolevaea_petkovaio:av8e1ca9yng4tcafi73mdcauzgghlcalnc5jkcaek9zt5ca0bvhupcalx0pirca1j8gcpcahm9830cagp05n0caudmp07ca30u98ocar5fifhcax615excawkyv7ccaj4h73yca5ns8yjcasyk8oxca8m4vym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ое движ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33130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Учебное пособие для подготовки к олимпиаде по физической культур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одготовила учитель ФК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.Н. Зубк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09548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0320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Зимние Олимпийские игр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I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Шамо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 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Санкт-Мориц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2   III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Лейк-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V            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Гармиш-Партенкир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0   V(отменены)Гармиш-Партенкирх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4    VI(отменены)   Кортинад'Ампецц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8   V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Санкт-Мор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Осл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6   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Кортинад'Ампецц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Скво-Велл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4   IX 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Греноб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2    X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Саппо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Инс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II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1"/>
              </a:rPr>
              <a:t>ЛейкПлэси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Сараев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88   XV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Калга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5"/>
              </a:rPr>
              <a:t>Альберви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4   XVII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7"/>
              </a:rPr>
              <a:t>Лиллехамм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Наган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2    XIX 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Солт-Лейк-С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1"/>
              </a:rPr>
              <a:t>Тур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0    XXI  Ванкув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чи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авным-давно в Греции, жили-были люди и боги. И иногда боги уделяли внимание людям, в результате чего получались полукровки — люди, наделенные сверхчеловеческими способностями. Одним из таких полубогов являлся всем нам извест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Герак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й стал прародителем Олимпийских игр, победив в беге своих 5 братьев, и получив в награду венок из дикого дерева оливы. С тех пор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Игры Олимпиады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тали проводиться кажды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4 год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на Пелопонессе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в Олимпи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Это, как говорится, присказка — часть красивого миф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игры проводились в 776 году до.н.э.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это был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ег на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стадию — 192 мет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ревновались на играх только свободны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е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Картинка 81 из 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25880" y="2290680"/>
            <a:ext cx="362412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4068720" cy="2687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ев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иболее прославленными героями древних олимпийских состязаний были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еонидас – 12 раз побеждавший в беге, Гермоген - 8 побед, Астилос - 7 побе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 ходом состязаний наблюдали судьи и одновременно тренеры —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элланодик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ых сначала было двое, затем 9, 10, 12 и 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рядок на играх поддерживал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рабдох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палочни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Олимпии выступали прославленные деятели культуры: историк Геродот, философ Сократ, оратор Демосфен, математик Пифаго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ляне, ставшие к 390 г. н.э. христианами, посчитали эти спортивные состязания языческим фестивалем.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394 г. н.э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император Римской импери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Феодосий I запрети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роведение Олимпийских игр. Как вы знаете, спустя 15 веков,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896 году Игры снова возродились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ким французом, бароном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ом де Куберте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зрождение О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14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 вот в 1897 году на конгрессе в Сорбонне, барон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ьер де Куберте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бнародовал идею возрождения Олимпийских игр. Было принято решение провести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е Олимпийские игры современности в 1896 году в Греческом городе Афины 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— в стране, где они, и зародились, следуя истори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ыл организован Международный олимпийский комитет (сокращенно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МОК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),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первым президент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которого стал грек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метриус Викелас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числе первых 13 членов МОК был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организатор физическог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оспитания педагог генера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.Д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Бутовск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162864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300720" y="1197000"/>
            <a:ext cx="1486080" cy="2087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1 из 19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508640"/>
            <a:ext cx="16412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е принципы, традиции, прави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ая харт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основной закон всемирного движения, своего рода конституц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ого движения, свод основных законов, где изложены принципы олимпизма, правила организации и  проведения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гласно олимпийской хартии термин «олимпиада» означает четырёхлетний период между О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овременны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симво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ять переплетенных многоцветных колец, означающ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о  пяти континентов.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флаг поднял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е на олимпийских играх, а 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негипетских играх в 1914 году. И только в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920 году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на О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девиз «Быстрее, выше, сильнее»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был придуман священником Дидоно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Олимпийский огон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Церемония зажжения огня была проведена на играх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Олимпиады    1928 года в Амстердаме, а на зимних – в 1952г. в Осло. Эстафета олимпийских факелов состоялась в 1936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лят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портсменов прозвучала в 1920 году, клятва судей в 1968 году  в Мехик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ам же появился первый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лисман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– ягуар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016360" cy="193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324036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26800"/>
            <a:ext cx="71564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гда, где, кто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23104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ей установлено, что Игры Олимпиады (летние) проводятся в течение первого года олимпиады. Зимние ОИ, начиная с 1994 года, проводятся в течение второго календарного год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Продолжительность ОИ не должна превышать 16 дн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Выбор города, где проводятся ОИ – исключительное право МОК, но кандидатура города должна быть одобрена Национальным Олимпийским комитето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Хартия устанавливает, что на ОИ проводятся соревнования по так называемым олимпийским видам спорта (не менее 15 летних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Олимпийские игры проводятся под руководством МОК. Международные федерации по видам спорта назначают арбитров, судей и проводят соревнова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Картинка 13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97360"/>
            <a:ext cx="207972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Картинка 47 из 1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005360"/>
            <a:ext cx="2517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йский комит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61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ждународный олимпийский комитет (МОК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вляется международной неправительственн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рганизацией. Высшим органом МОК является сессия, проводимая не менее 1 раза в г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ом МОК является Жак Рогг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й  олимпийский комитет был образован 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1 г. Его председателем был В. Срезневский (1911-1917г.г.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циональный олимпийский комитет СССР бы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изнан в 1951 год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езиденты: Андрианов (1951-1977), Павлов (1977-1983), Грамов (1983-1990), Смирнов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(1990-1992),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ягачев (2001-2010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ссийские члены МОК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пов. Смирнов, Тарпище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ероссийский олимпийский комитет был основан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 декабря 1989 г. – председатель В. Вас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а сегодняшний день НОК России называетс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ИЙ КОМИТЕТ РОССИИ (ОКР) и возглавляет его А. Жук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Картинка 88 из 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560" y="1773360"/>
            <a:ext cx="326880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оссийские спортсмены на О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первые Российские спортсмены приняли участие в 1908 году в Лондоне ( 6 чел.) – первым ОЧ (олимпийским чемпионом) стал Н. Панин-Коломенкин (фигурное катание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ортсмены СССР приняли участие в 1952 г. в Хельсинки – ОЧ стала Нина Ромашкова (Пономарева)(метание диска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нашей стране ОИ проводились в 1980 г. в Москв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2 году в Барселоне участвовали спортсмены  СН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1996 году в летних играх  в Атланте участвовали спортсмены Росси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Татьяна Лебедев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 прыжкам в длину (Афины-2004)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0720" y="1052280"/>
            <a:ext cx="4186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    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Елена Исинбаева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Двукратная Олимпийская чемпионк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по прыжкам в высоту с шестом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(Афины-2004 и Пекин-2008)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Многократная рекордсменка мир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Максим Опалев.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ий чемпион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Garamond"/>
              </a:rPr>
              <a:t>Лариса Ильченко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Олимпийская чемпионка игр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Garamond"/>
              </a:rPr>
              <a:t>2008 года в Пекин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438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exb4scagv4rmmca0uiv43ca4fqsx1caq7s6kvcaj0o1xgcavyw794ca74kjj9caav22sncaq3t38qcab6ttdscan4i5ntcagql1fkcaj3yej2carxlwizcaa2wfd7ca50uj3ucaf4vygfcapls6oacabc38vq.jpg"/>
          <p:cNvPicPr/>
          <p:nvPr/>
        </p:nvPicPr>
        <p:blipFill>
          <a:blip r:embed="rId3"/>
          <a:stretch/>
        </p:blipFill>
        <p:spPr>
          <a:xfrm>
            <a:off x="4786200" y="2781360"/>
            <a:ext cx="142092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258920" y="537372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В фойе бассейна &quot;Олимпийский&quot; (Москва, 2010г)"/>
          <p:cNvPicPr/>
          <p:nvPr/>
        </p:nvPicPr>
        <p:blipFill>
          <a:blip r:embed="rId5"/>
          <a:stretch/>
        </p:blipFill>
        <p:spPr>
          <a:xfrm>
            <a:off x="6948360" y="4797360"/>
            <a:ext cx="12002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Летние Олимпийские иг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896      I                Афины                 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0      II  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4      III              Сент-Луи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6     внеоч.         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08       IV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2       V               Стокголь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16      VI(отменены)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0      VII              Антверп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4    VIII             Париж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28      IX               Амстерд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2      X              Лос-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36     XI                Берл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0    XII(отменены)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4     XIII(отменены)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48     XIV              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62360" y="1598760"/>
            <a:ext cx="433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Хельсинк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5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льбур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и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оки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6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хик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юнхе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7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нреал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           XXIII           ЛосАнджелес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8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еу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арселон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1996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тлант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0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идне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4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VIII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фин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I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еки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012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XXX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ндон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5:32:58Z</dcterms:created>
  <dc:creator>KET</dc:creator>
  <dc:description/>
  <dc:language>en-US</dc:language>
  <cp:lastModifiedBy>Tiger</cp:lastModifiedBy>
  <dcterms:modified xsi:type="dcterms:W3CDTF">2013-08-22T15:09:30Z</dcterms:modified>
  <cp:revision>4</cp:revision>
  <dc:subject/>
  <dc:title>Олимпийское движение</dc:title>
</cp:coreProperties>
</file>