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FAFD2-5CED-43FD-9F64-E99618E72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2F1D-F3E8-4EDA-876A-C589C098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0F922-42A3-478A-99F8-9D7C8185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54176-9C1B-4365-B027-1F8AD4349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C5069-B367-4E4D-A591-887487FE3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BE746-9CB2-4277-BC68-69D580C89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5547E-34CA-48DE-BAB4-A95666AB4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F3D4E-7D11-4B35-B88C-E80B43909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785CB-6F2B-4BAB-A8FC-4130C60A8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75A1D-C3AE-4B10-A68F-EABAB8804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A09D1-2A43-4ACF-9326-194DB73F0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F05B-6B45-44A8-B414-10BCCE60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B748C-D818-4F40-8902-00D08C63C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B6BF-9C29-4208-B26A-5A9D81A2E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4CEC4-BC8A-4419-9AC3-E8B77E8BE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0CC3E-498F-42E0-924F-5F6BCB57F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E16A9-E102-4C03-82A3-0F0932D82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F2AD3-ACAE-4D0C-AAC5-0B6F0E9A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0294-0E16-4FA0-94BD-157732BEA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33A04-96C6-47D2-ABDE-DB3C240CC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0EE05-4751-4910-B8DE-3F502E6E8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E85E-22ED-4277-958F-EEE79231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15F5-360F-4A65-B281-F35E1458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F885-34AF-4622-AD78-7A0915C62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EC07-6DA4-4D86-94C6-5425505AFED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CBEA-0E13-45AD-87D2-472FF4EDB5C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853920"/>
            <a:ext cx="7772400" cy="4407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ff00"/>
                </a:solidFill>
                <a:latin typeface="Arial Black"/>
              </a:rPr>
              <a:t>Правила разговора по телефону</a:t>
            </a:r>
            <a:endParaRPr b="1" lang="en-US" sz="6600" spc="-1" strike="noStrike">
              <a:solidFill>
                <a:srgbClr val="ffffb7"/>
              </a:solidFill>
              <a:latin typeface="Arial Black"/>
            </a:endParaRPr>
          </a:p>
        </p:txBody>
      </p:sp>
      <p:pic>
        <p:nvPicPr>
          <p:cNvPr id="99" name="Picture 18" descr="щш"/>
          <p:cNvPicPr/>
          <p:nvPr/>
        </p:nvPicPr>
        <p:blipFill>
          <a:blip r:embed="rId1"/>
          <a:stretch/>
        </p:blipFill>
        <p:spPr>
          <a:xfrm>
            <a:off x="2268360" y="3924360"/>
            <a:ext cx="4507200" cy="25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общения по телефону</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Телефонная коммуникация, как и все другие виды общения, имеет свои приемы, правила общения по телефону, знание которых может вам помочь. Если телефон по роду вашей деятельности становится для вас «правой рукой», то было бы неплохо превратить его в союзника, зная правила разговора по телефону. А для этого простые правила общения по телефону должны стать для вас естественной манерой поведения. Руководствуясь этим и приведенными в знании правилами общения по телефону, вы сможете верно, выстроить разговор и расположить к себе собесед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15920"/>
            <a:ext cx="5102280" cy="633744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лефон сегодня наш верный спутник, друг и партнер. Представьте себе, что у Вас нет телефона. Ну, например, хотя бы два дня. И Вы никому не можете позвонить. Сколько лишнего времени Вам придется потратить, чтобы справиться с Вашими текущими дела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перь допустим, телефона нет во всем нашем городе. Ни у кого. Думаю, что количество прохожих на улице и замерших людей на остановках резко возрастет. Транспорт совсем перестанет справляться с такой нагрузкой. Да, вот так незаметно, телефон ежедневно помогает нам решать проблемы, экономит наше время и силы. </a:t>
            </a:r>
            <a:endParaRPr b="0" lang="en-US" sz="2400" spc="-1" strike="noStrike">
              <a:solidFill>
                <a:srgbClr val="ffffff"/>
              </a:solidFill>
              <a:latin typeface="Arial"/>
            </a:endParaRPr>
          </a:p>
        </p:txBody>
      </p:sp>
      <p:pic>
        <p:nvPicPr>
          <p:cNvPr id="121" name="Picture 4" descr="97b6e3f41a0b1b8d90ccdc45c684488f"/>
          <p:cNvPicPr/>
          <p:nvPr/>
        </p:nvPicPr>
        <p:blipFill>
          <a:blip r:embed="rId1"/>
          <a:stretch/>
        </p:blipFill>
        <p:spPr>
          <a:xfrm>
            <a:off x="5435640" y="836640"/>
            <a:ext cx="3556080" cy="48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Black"/>
              </a:rPr>
              <a:t>А знаете, сколько в России фирм, занимающихся телемаркетингом?</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сотрудников отдела сбыта сидят в небольшой комнате и просто разговаривают по телефону с утра до вечера. А по всей стране в это время носятся составы и фургоны, доставляя проданные ими товары из одного завода в друго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телефон оказывает нам неоценимые услуги. Но всегда ли мы умеем использовать его в полной мере? Общение по телефону имеет свои особенности. Ведь работает только один канал — голосовой. Вы не видите лица собеседника, не знаете, что его окружает во время вашего разговора. Например, сотрудник отдела сбыта может годами работать с клиентом, не зная его в лицо, зато сразу узнавать, определяя по первому слову в разговоре. А как интересно бывает все же увидеть потом воотчию этого человека и удивиться: так вот он какой! А я думал у него светлые волосы и маленький рост. Ну надо же! Да, разговаривая по телефону, мы непроизвольно формируем свой образ человека. Так уж устроена наша психика — мозг сам достраивает недостающие элементы до полной картин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В чём отличия телефонной продажи от любой другой?</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25" name="PlaceHolder 2"/>
          <p:cNvSpPr>
            <a:spLocks noGrp="1"/>
          </p:cNvSpPr>
          <p:nvPr>
            <p:ph/>
          </p:nvPr>
        </p:nvSpPr>
        <p:spPr>
          <a:xfrm>
            <a:off x="837720" y="1905120"/>
            <a:ext cx="8055000" cy="260352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ш разговор по телефону короче, чем при личной встреч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гораздо меньше влияете на вашего собеседника из-за удаленности в пространстве.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не можете ничего ни показать, ни потрога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что при личной встрече можно понять из контекста самого разговора, Вам придется четко проговорить. </a:t>
            </a:r>
            <a:endParaRPr b="0" lang="en-US" sz="2000" spc="-1" strike="noStrike">
              <a:solidFill>
                <a:srgbClr val="ffffff"/>
              </a:solidFill>
              <a:latin typeface="Arial"/>
            </a:endParaRPr>
          </a:p>
        </p:txBody>
      </p:sp>
      <p:pic>
        <p:nvPicPr>
          <p:cNvPr id="126" name="Picture 4" descr="9щ"/>
          <p:cNvPicPr/>
          <p:nvPr/>
        </p:nvPicPr>
        <p:blipFill>
          <a:blip r:embed="rId1"/>
          <a:stretch/>
        </p:blipFill>
        <p:spPr>
          <a:xfrm>
            <a:off x="2484360" y="3789360"/>
            <a:ext cx="47624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115560"/>
            <a:ext cx="4969080" cy="6481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ераторов в такси учат повторно проговаривать адрес, телефон и время заказа машины, что не возникло недоразумений. Хотя бы 2 такие ошибки оператора в день принесут значительный ущерб водителю — он потеряет бензин, время и нервы. Компания недополучит прибыль и потеряет клиента, который еще и постарается рассказать друзьям, по какому номеру такси быстро не приезжает, и где все сотрудники бестолковые и все время все путают. (Да, к сожалению, многим людям свойственно все обобщать). Ну и конечно, нервы, нервы всех действующих лиц. </a:t>
            </a:r>
            <a:endParaRPr b="0" lang="en-US" sz="2400" spc="-1" strike="noStrike">
              <a:solidFill>
                <a:srgbClr val="ffffff"/>
              </a:solidFill>
              <a:latin typeface="Arial"/>
            </a:endParaRPr>
          </a:p>
        </p:txBody>
      </p:sp>
      <p:pic>
        <p:nvPicPr>
          <p:cNvPr id="128" name="Picture 4" descr="post-3968-1239561134"/>
          <p:cNvPicPr/>
          <p:nvPr/>
        </p:nvPicPr>
        <p:blipFill>
          <a:blip r:embed="rId1"/>
          <a:stretch/>
        </p:blipFill>
        <p:spPr>
          <a:xfrm>
            <a:off x="5114880" y="692280"/>
            <a:ext cx="4029120" cy="53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правильного телефонного разговора:</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ло</a:t>
            </a:r>
            <a:r>
              <a:rPr b="0" lang="en-US" sz="2000" spc="-1" strike="noStrike">
                <a:solidFill>
                  <a:srgbClr val="ffffff"/>
                </a:solidFill>
                <a:latin typeface="Arial"/>
              </a:rPr>
              <a:t>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ранее продумайте Ваш разговор, буквально до фраз. Запишите вопросы, на которые надо получить ответ и основной текст Вашего сообщени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Даже у опытных</a:t>
            </a:r>
            <a:r>
              <a:rPr b="0" lang="en-US" sz="2000" spc="-1" strike="noStrike">
                <a:solidFill>
                  <a:srgbClr val="ffffff"/>
                </a:solidFill>
                <a:latin typeface="Arial"/>
              </a:rPr>
              <a:t> </a:t>
            </a:r>
            <a:r>
              <a:rPr b="0" lang="ru-RU" sz="2000" spc="-1" strike="noStrike">
                <a:solidFill>
                  <a:srgbClr val="ffffff"/>
                </a:solidFill>
                <a:latin typeface="Arial"/>
              </a:rPr>
              <a:t>коммутаторов</a:t>
            </a:r>
            <a:r>
              <a:rPr b="0" lang="en-US" sz="2000" spc="-1" strike="noStrike">
                <a:solidFill>
                  <a:srgbClr val="ffffff"/>
                </a:solidFill>
                <a:latin typeface="Arial"/>
              </a:rPr>
              <a:t> </a:t>
            </a:r>
            <a:r>
              <a:rPr b="0" lang="ru-RU" sz="2000" spc="-1" strike="noStrike">
                <a:solidFill>
                  <a:srgbClr val="ffffff"/>
                </a:solidFill>
                <a:latin typeface="Arial"/>
              </a:rPr>
              <a:t>в серьёзных организациях</a:t>
            </a:r>
            <a:r>
              <a:rPr b="0" lang="en-US" sz="2000" spc="-1" strike="noStrike">
                <a:solidFill>
                  <a:srgbClr val="ffffff"/>
                </a:solidFill>
                <a:latin typeface="Arial"/>
              </a:rPr>
              <a:t> </a:t>
            </a:r>
            <a:r>
              <a:rPr b="0" lang="ru-RU" sz="2000" spc="-1" strike="noStrike">
                <a:solidFill>
                  <a:srgbClr val="ffffff"/>
                </a:solidFill>
                <a:latin typeface="Arial"/>
              </a:rPr>
              <a:t>всегда перед глазами</a:t>
            </a:r>
            <a:r>
              <a:rPr b="0" lang="en-US" sz="2000" spc="-1" strike="noStrike">
                <a:solidFill>
                  <a:srgbClr val="ffffff"/>
                </a:solidFill>
                <a:latin typeface="Arial"/>
              </a:rPr>
              <a:t> </a:t>
            </a:r>
            <a:r>
              <a:rPr b="0" lang="ru-RU" sz="2000" spc="-1" strike="noStrike">
                <a:solidFill>
                  <a:srgbClr val="ffffff"/>
                </a:solidFill>
                <a:latin typeface="Arial"/>
              </a:rPr>
              <a:t>лежит краткий скрипт</a:t>
            </a:r>
            <a:r>
              <a:rPr b="0" lang="en-US" sz="2000" spc="-1" strike="noStrike">
                <a:solidFill>
                  <a:srgbClr val="ffffff"/>
                </a:solidFill>
                <a:latin typeface="Arial"/>
              </a:rPr>
              <a:t> </a:t>
            </a:r>
            <a:r>
              <a:rPr b="0" lang="ru-RU" sz="2000" spc="-1" strike="noStrike">
                <a:solidFill>
                  <a:srgbClr val="ffffff"/>
                </a:solidFill>
                <a:latin typeface="Arial"/>
              </a:rPr>
              <a:t>разговора</a:t>
            </a:r>
            <a:r>
              <a:rPr b="0" lang="en-US" sz="2000" spc="-1" strike="noStrike">
                <a:solidFill>
                  <a:srgbClr val="ffffff"/>
                </a:solidFill>
                <a:latin typeface="Arial"/>
              </a:rPr>
              <a:t>: </a:t>
            </a:r>
            <a:r>
              <a:rPr b="0" lang="ru-RU" sz="2000" spc="-1" strike="noStrike">
                <a:solidFill>
                  <a:srgbClr val="ffffff"/>
                </a:solidFill>
                <a:latin typeface="Arial"/>
              </a:rPr>
              <a:t>общий</a:t>
            </a:r>
            <a:r>
              <a:rPr b="0" lang="en-US" sz="2000" spc="-1" strike="noStrike">
                <a:solidFill>
                  <a:srgbClr val="ffffff"/>
                </a:solidFill>
                <a:latin typeface="Arial"/>
              </a:rPr>
              <a:t> </a:t>
            </a:r>
            <a:r>
              <a:rPr b="0" lang="ru-RU" sz="2000" spc="-1" strike="noStrike">
                <a:solidFill>
                  <a:srgbClr val="ffffff"/>
                </a:solidFill>
                <a:latin typeface="Arial"/>
              </a:rPr>
              <a:t>план и речевые модули</a:t>
            </a:r>
            <a:r>
              <a:rPr b="0" lang="en-US" sz="2000" spc="-1" strike="noStrike">
                <a:solidFill>
                  <a:srgbClr val="ffffff"/>
                </a:solidFill>
                <a:latin typeface="Arial"/>
              </a:rPr>
              <a:t>, </a:t>
            </a:r>
            <a:r>
              <a:rPr b="0" lang="ru-RU" sz="2000" spc="-1" strike="noStrike">
                <a:solidFill>
                  <a:srgbClr val="ffffff"/>
                </a:solidFill>
                <a:latin typeface="Arial"/>
              </a:rPr>
              <a:t>удачные фразы</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юди всегда остаются людьми — можно отвлечься, растеряться, забыть, наконец. А любая ошибка, любое неточное слово в телефонном разговоре очень дорого. Вот мы посмотрели, во что выливается ошибка при вызове такси. А если Вы железнодорожный состав не туда отправите?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о</a:t>
            </a:r>
            <a:r>
              <a:rPr b="0" lang="en-US" sz="2800" spc="-1" strike="noStrike">
                <a:solidFill>
                  <a:srgbClr val="ffffff"/>
                </a:solidFill>
                <a:latin typeface="Arial"/>
              </a:rPr>
              <a:t> №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ержите все необходимые документы под рукой: прайсы, карточку клиента с полной базой данных по всему периоду работы, с разделом «Информация личного значения». Откуда такая карточка? Заведите ее на каждого клиента обязательно. Заполнение такой карточки займет у Вас несколько минут после разговора, зато значительно повысит эффективность следующих контактов.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авило</a:t>
            </a:r>
            <a:r>
              <a:rPr b="0" lang="en-US" sz="3200" spc="-1" strike="noStrike">
                <a:solidFill>
                  <a:srgbClr val="ffffff"/>
                </a:solidFill>
                <a:latin typeface="Arial"/>
              </a:rPr>
              <a:t> №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сегда подводите краткий итог вашего разговора. Медленно и четко повторяйте место, время, дату, цены и т.д. «Итак, мы с вами договорились о поставке 13 тонн сахара по цене 9 рублей за килограмм. Груз будет у вас в четверг, 20 февраля, примерно с 12 до 14 часов».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620280"/>
            <a:ext cx="8007480" cy="5475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 какой темп речи будет оптимальным при разговоре: энергичный или мягкий, доброжелательный? Все зависит от вашего собеседника и от фазы разговора. Допустим, это входящий звонок. Вы отвечаете: «Мебельный салон Домино, добрый день». Конечно, Ваш голос звучит, мягко, приветливо, как бы приглашая в гости: заходите, располагайтесь, чувствуйте себя как дома. Тщательно отработав голос, можно уже первой фразой создать уютное ощущение. Как известно, самый первый сигнал-раздражитель (в нашем случае это первая фраза приветствия) оказывает наиболее сильное воздействие — формирует первое впечатление. Первая фраза задает стиль всего последующего разговора. Проведите такой эксперимент (сразу предупреждаю — это рискованно!). В 5 случаях буркните первую фразу так, как будто Вам некогда и дела нет до Клиента, а в следующих 5 фразах продемонстрируйте образец гостеприимства и доброжелательности. Постарайтесь сам разговор вести как обычно. Уверяю Вас, Вы решите, что в последних разговорах клиенты попадались интересные, а первые пять — какие-то нахалы и грубияны, «не наши люди». Вот какова сила воздействия первой фразы</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13840" y="189000"/>
            <a:ext cx="5149800" cy="64087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так, начало разговора всегда предельно доброжелательно и мягко, а середина может быть энергична. Например, если Вы стимулируете потенциального Клиента прийти в ваш салон, объясняйте, как легко Вас найти весело и энергично.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ершайте разговор тоже на хорошем «плюсе» — помним правило края: первый и последний сигнал определяет целостность впечатления. Сознательно и целенаправленно работайте на те ощущения, которые Вы хотите вызвать в Вашем собеседнике.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епло и мягко поблагодарите за звонок и подчеркните, что Вы будете ждать клиента, если Вы продаете мягкую мебель. Ваш голос будет низким и немного зовущим, ведь Вы приглашаете в гост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ершите разговор четко и деловито, создав ощущение стабильности и надежности, если Вы ведете разговор о поставках. Ваш голос будет твердым и основательным, ведь Вы создаете уверенность в вашей надежности как в партнере. </a:t>
            </a:r>
            <a:endParaRPr b="0" lang="en-US" sz="1600" spc="-1" strike="noStrike">
              <a:solidFill>
                <a:srgbClr val="ffffff"/>
              </a:solidFill>
              <a:latin typeface="Arial"/>
            </a:endParaRPr>
          </a:p>
        </p:txBody>
      </p:sp>
      <p:pic>
        <p:nvPicPr>
          <p:cNvPr id="135" name="Picture 4" descr="04178"/>
          <p:cNvPicPr/>
          <p:nvPr/>
        </p:nvPicPr>
        <p:blipFill>
          <a:blip r:embed="rId1"/>
          <a:stretch/>
        </p:blipFill>
        <p:spPr>
          <a:xfrm>
            <a:off x="5334120" y="549360"/>
            <a:ext cx="3809880" cy="54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ЦЕЛИ И ЗАДАЧИ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ать образцы речевых фраз, употребляемых обычно при телефонных разговорах. Рассмотреть различные ситуации при ведении телефонных переговоров и донести правила телефонного общения до людей. </a:t>
            </a:r>
            <a:endParaRPr b="0" lang="en-US" sz="3200" spc="-1" strike="noStrike">
              <a:solidFill>
                <a:srgbClr val="ffffff"/>
              </a:solidFill>
              <a:latin typeface="Arial"/>
            </a:endParaRPr>
          </a:p>
        </p:txBody>
      </p:sp>
      <p:pic>
        <p:nvPicPr>
          <p:cNvPr id="102" name="Picture 4" descr="urlpreview"/>
          <p:cNvPicPr/>
          <p:nvPr/>
        </p:nvPicPr>
        <p:blipFill>
          <a:blip r:embed="rId1"/>
          <a:stretch/>
        </p:blipFill>
        <p:spPr>
          <a:xfrm>
            <a:off x="7308720" y="4869000"/>
            <a:ext cx="183528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Arial Black"/>
              </a:rPr>
              <a:t>Есть еще секреты темпа разговора. Конечно, он зависит от Вашего собеседника.</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37" name="PlaceHolder 2"/>
          <p:cNvSpPr>
            <a:spLocks noGrp="1"/>
          </p:cNvSpPr>
          <p:nvPr>
            <p:ph/>
          </p:nvPr>
        </p:nvSpPr>
        <p:spPr>
          <a:xfrm>
            <a:off x="250560" y="1904760"/>
            <a:ext cx="6337080" cy="476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ru-RU" sz="1800" spc="-1" strike="noStrike">
                <a:solidFill>
                  <a:srgbClr val="ffffff"/>
                </a:solidFill>
                <a:latin typeface="Arial"/>
              </a:rPr>
              <a:t>И снова мы говорим о незаметных, но действенных техниках подстройки под партнера. Немного ускорьте Вашу течь, если Ваш собеседник говорит быстро. Плавно тягуче растягивайте слова, если собеседник не спешит. Подстраиваясь под собеседника, Вы создаете более комфортные условия разговора для клиента, и он непременно это оценит. А значит, и пойдет Вам навстречу. Ловите мельчайшие нюансы, оттенки, характерные словечки и интонации. Используйте их в разговоре с Вашим собеседником, тонко и аккуратно. Вряд ли он решит, что Вы его передразниваете. И все же, чтобы не создалось ощущение копирования, делайте это не слишком явно. Представьте, что Вы настроены на одну волну с Вашим собеседником. Что Вы идете вместе по канатной дороге навстречу друг другу. Вы будете слушать его как бы изнутри, и отвечать в тон, не так ли? Представьте, что Вы вместе поете песню, и Ваши голоса как бы сливаются в одно целое. Вот так и опытный мастер телефонного общения создает в каждом разговоре свою общую песню на двоих. </a:t>
            </a:r>
            <a:endParaRPr b="0" lang="en-US" sz="1800" spc="-1" strike="noStrike">
              <a:solidFill>
                <a:srgbClr val="ffffff"/>
              </a:solidFill>
              <a:latin typeface="Arial"/>
            </a:endParaRPr>
          </a:p>
        </p:txBody>
      </p:sp>
      <p:pic>
        <p:nvPicPr>
          <p:cNvPr id="138" name="Picture 4" descr="1494_0"/>
          <p:cNvPicPr/>
          <p:nvPr/>
        </p:nvPicPr>
        <p:blipFill>
          <a:blip r:embed="rId1"/>
          <a:stretch/>
        </p:blipFill>
        <p:spPr>
          <a:xfrm>
            <a:off x="6516720" y="2637000"/>
            <a:ext cx="2627280" cy="40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Black"/>
              </a:rPr>
              <a:t>Как избежать длительных и ненужных объяснений по телефону?</a:t>
            </a:r>
            <a:endParaRPr b="1" lang="en-US" sz="3600" spc="-1" strike="noStrike">
              <a:solidFill>
                <a:srgbClr val="ffffb7"/>
              </a:solidFill>
              <a:latin typeface="Arial Black"/>
            </a:endParaRPr>
          </a:p>
        </p:txBody>
      </p:sp>
      <p:sp>
        <p:nvSpPr>
          <p:cNvPr id="140" name="PlaceHolder 2"/>
          <p:cNvSpPr>
            <a:spLocks noGrp="1"/>
          </p:cNvSpPr>
          <p:nvPr>
            <p:ph/>
          </p:nvPr>
        </p:nvSpPr>
        <p:spPr>
          <a:xfrm>
            <a:off x="837720" y="1905120"/>
            <a:ext cx="8055000" cy="31795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к давно подтверждено психологами, объем оперативной памяти человека составляет от 5 до 9 единиц. Это значит, что никто одновременно не может запомнить 9 слов, если конечно не свяжет их в логическую цепочку. Так и информация по телефон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Вы начинаете старательно выкладывать все, что знаете, по телефону, то рискуете запутать клиента и перегрузить его лишней информацией. Он почувствует усталость, а разве Вы этого хотите? Правильно, Вам надо вызвать любопытство покупателя и пригласить его в салон.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этому Вы кратко отвечаете на вопрос клиента, а затем говорите: «Мы с удовольствием подробно расскажем, а главное, покажем Вам все это у нас в салоне». </a:t>
            </a:r>
            <a:endParaRPr b="0" lang="en-US" sz="1600" spc="-1" strike="noStrike">
              <a:solidFill>
                <a:srgbClr val="ffffff"/>
              </a:solidFill>
              <a:latin typeface="Arial"/>
            </a:endParaRPr>
          </a:p>
        </p:txBody>
      </p:sp>
      <p:pic>
        <p:nvPicPr>
          <p:cNvPr id="141" name="Picture 4" descr="16917"/>
          <p:cNvPicPr/>
          <p:nvPr/>
        </p:nvPicPr>
        <p:blipFill>
          <a:blip r:embed="rId1"/>
          <a:stretch/>
        </p:blipFill>
        <p:spPr>
          <a:xfrm>
            <a:off x="2340000" y="4653000"/>
            <a:ext cx="4762440" cy="220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ОЦЕНКА КАЧЕСТВА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ы считаем, что наш проект средней сложности. Положительными сторонами проекта является подробное раскрытие правил телефонного разговора, примеры общения, показывающие, как следует общаться с абонентом посредством телефонной связи в различных ситуациях и как не следует. Отрицательные стороны проекта заключаются в невозможности донести данные сведения до широкого круга люде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ыполнили:</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родулина Юлия Иванов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ремба Алёна Иванов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тамонова Ангелина Олеговна</a:t>
            </a:r>
            <a:endParaRPr b="0" lang="en-US" sz="3200" spc="-1" strike="noStrike">
              <a:solidFill>
                <a:srgbClr val="ffffff"/>
              </a:solidFill>
              <a:latin typeface="Arial"/>
            </a:endParaRPr>
          </a:p>
        </p:txBody>
      </p:sp>
      <p:pic>
        <p:nvPicPr>
          <p:cNvPr id="146" name="Picture 4" descr="x_fe047ecc"/>
          <p:cNvPicPr/>
          <p:nvPr/>
        </p:nvPicPr>
        <p:blipFill>
          <a:blip r:embed="rId1"/>
          <a:stretch/>
        </p:blipFill>
        <p:spPr>
          <a:xfrm>
            <a:off x="611280" y="3716280"/>
            <a:ext cx="8064360" cy="294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ВЫБОР И ОБОСНОВАНИЕ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5120"/>
            <a:ext cx="8007480" cy="4044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кет телефонного разговора - часть общего речевого этикета, специфика которого отражается в отборе речевых формул. Телефонный разговор - это контактное во времени, но дистантное в пространстве и опосредованное специальной аппаратурой общение собеседников. Дистантность собеседников в пространстве исключает мимику, жесты, предполагает наличие фраз, передающих эмоциональное состояние партнеров, а также специальных фраз типа: "Целую", "Я удивлена", "Жму руку" К тому же телефонные разговоры нередко ограничены во времени, следовательно, вырабатываются особые этикетные нормы взаимодействия с собеседником. Благодаря телефону можно оперативно решить огромное количество вопросов. Но не все мы умеем грамотно с ним обращатьс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ХРОНИКА </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Чуть больше ста лет прошло с тех пор, как в трубке, приставленной к уху, зазвучал живой человеческий голос. Трубку эту, "прапрабабку" разнообразных современных телефонных аппаратов, сконструировал американский изобретатель А.Г. Белл в 1876 году. В России телефонная связь была введена в 1882-83 годах. В 1927 году в СССР была принята система АТС (автоматических телефонных станций). И теперь невозможно представить себе жизнь без телефона. Он связал людей, разделенных десятками тысяч километров. Тем интереснее познакомиться с коллекцией старинных телефонов, которая в моей работе представлена ниже. </a:t>
            </a:r>
            <a:endParaRPr b="0" lang="en-US" sz="2400" spc="-1" strike="noStrike">
              <a:solidFill>
                <a:srgbClr val="ffffff"/>
              </a:solidFill>
              <a:latin typeface="Arial"/>
            </a:endParaRPr>
          </a:p>
        </p:txBody>
      </p:sp>
      <p:pic>
        <p:nvPicPr>
          <p:cNvPr id="107" name="Picture 4" descr="dfp_500telephone"/>
          <p:cNvPicPr/>
          <p:nvPr/>
        </p:nvPicPr>
        <p:blipFill>
          <a:blip r:embed="rId1"/>
          <a:stretch/>
        </p:blipFill>
        <p:spPr>
          <a:xfrm>
            <a:off x="6012000" y="0"/>
            <a:ext cx="313200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разговора по телефону</a:t>
            </a:r>
            <a:endParaRPr b="1" lang="en-US" sz="4400" spc="-1" strike="noStrike">
              <a:solidFill>
                <a:srgbClr val="ffffb7"/>
              </a:solidFill>
              <a:latin typeface="Arial Black"/>
            </a:endParaRPr>
          </a:p>
        </p:txBody>
      </p:sp>
      <p:sp>
        <p:nvSpPr>
          <p:cNvPr id="109" name="PlaceHolder 2"/>
          <p:cNvSpPr>
            <a:spLocks noGrp="1"/>
          </p:cNvSpPr>
          <p:nvPr>
            <p:ph/>
          </p:nvPr>
        </p:nvSpPr>
        <p:spPr>
          <a:xfrm>
            <a:off x="179280" y="1773000"/>
            <a:ext cx="684072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лефонные переговоры можно условно разделить на два вида: Вы отвечаете на звонок и Вам надо позвонить.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воей работе я хочу остановиться на ситуации, когда звонят Вам. Трубку звонящего телефона следует снимать после 1-2 гудков и лучше улыбнуться, тогда и голос у вас зазвучит приветливо.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яв трубку, необходимо назвать свою организацию, например: "Фирма "Заря", добрый день!" Услышав такую фразу, абонент убеждается, что он не ошибся номером. Если же произошла ошибка в наборе, недоразумение сразу же выяснится и не повлечет за собой потерю времени для обоих собеседников. </a:t>
            </a:r>
            <a:endParaRPr b="0" lang="en-US" sz="1800" spc="-1" strike="noStrike">
              <a:solidFill>
                <a:srgbClr val="ffffff"/>
              </a:solidFill>
              <a:latin typeface="Arial"/>
            </a:endParaRPr>
          </a:p>
        </p:txBody>
      </p:sp>
      <p:pic>
        <p:nvPicPr>
          <p:cNvPr id="110" name="Picture 4" descr="091c3db75fb21994cb526d22f16cffcc"/>
          <p:cNvPicPr/>
          <p:nvPr/>
        </p:nvPicPr>
        <p:blipFill>
          <a:blip r:embed="rId1"/>
          <a:stretch/>
        </p:blipFill>
        <p:spPr>
          <a:xfrm>
            <a:off x="6773760" y="3716280"/>
            <a:ext cx="237024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837720" y="620280"/>
            <a:ext cx="8007480" cy="54752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некоторых фирмах секретарь должен назвать себя, например: "Фирма "Восток", Кузнецова Инна, добрый день!". Если абонент не назвал себя, то уместна будет следующая фраза: "Представьтесь, пожалуйста". Телефонный разговор - это диалог. К сожалению, не все умеют быстро реагировать на вопросы и часто заполняют паузу словами-паразитами: "Ну вот...", "Это самое..." и т.д., что производит неблагоприятное впечатление. Если вы затрудняетесь мгновенно ответить на вопрос, можно использовать следующие фразы: "Я полагаю...", "Если я не ошибаюсь..." и т.п.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звонит постоянный деловой партнер, которого секретарь узнает по голосу, следует назвать его по имени, прежде, чем он представится. Скажите ему: "Рада Вас слышать, Олег Васильеви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9280" y="189000"/>
            <a:ext cx="6181920" cy="54036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разговоре по телефону секретарю следует говорить дружелюбным тоном, сочетая спокойствие и деловитость. Неправильный тон беседы по телефону может привести к потере взаимопонимания и эффективности переговоров. Не следует говорить как высокомерным, так и подобострастным тоно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 время телефонного разговора не нужно употреблять трудно выговариваемые слова, следует говорить отчетливо, не торопясь, внимательно слушать собеседника. Если в разговоре встречаются названия, имена, фамилии, которые плохо воспринимаются на слух, нужно произносить их по слогам. </a:t>
            </a:r>
            <a:endParaRPr b="0" lang="en-US" sz="2000" spc="-1" strike="noStrike">
              <a:solidFill>
                <a:srgbClr val="ffffff"/>
              </a:solidFill>
              <a:latin typeface="Arial"/>
            </a:endParaRPr>
          </a:p>
        </p:txBody>
      </p:sp>
      <p:pic>
        <p:nvPicPr>
          <p:cNvPr id="113" name="Picture 4" descr="1234600993tel-05-30-2008"/>
          <p:cNvPicPr/>
          <p:nvPr/>
        </p:nvPicPr>
        <p:blipFill>
          <a:blip r:embed="rId1"/>
          <a:stretch/>
        </p:blipFill>
        <p:spPr>
          <a:xfrm>
            <a:off x="5651640" y="3789360"/>
            <a:ext cx="349236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8920" y="549000"/>
            <a:ext cx="6193080" cy="61196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ует сохранять самообладание и быть терпеливыми даже в том случае, когда вас не понимают или просто ошиблись номером. Не отвечайте грубостью на грубость, не спешите положить трубку, если абонент не договорил. Если вам звонит рассерженный человек, вы можете прервать собеседника в подходящем месте и спросить: "Простите, если я могу вам чем-нибудь помочь, скажите, что я должна для вас сделать?" Если возникает необходимость навести справку для того, чтобы дать ответ абоненту, то нужно предупредить о продолжительности времени поиска. </a:t>
            </a:r>
            <a:endParaRPr b="0" lang="en-US" sz="2400" spc="-1" strike="noStrike">
              <a:solidFill>
                <a:srgbClr val="ffffff"/>
              </a:solidFill>
              <a:latin typeface="Arial"/>
            </a:endParaRPr>
          </a:p>
        </p:txBody>
      </p:sp>
      <p:pic>
        <p:nvPicPr>
          <p:cNvPr id="115" name="Picture 4" descr="f_4845bbe9e194c"/>
          <p:cNvPicPr/>
          <p:nvPr/>
        </p:nvPicPr>
        <p:blipFill>
          <a:blip r:embed="rId1"/>
          <a:stretch/>
        </p:blipFill>
        <p:spPr>
          <a:xfrm>
            <a:off x="6400800" y="836640"/>
            <a:ext cx="2743200" cy="51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26560" y="188640"/>
            <a:ext cx="8007480" cy="38163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конце разговора следует подвести итог, выделить самое главное из сказанного. Заканчивает разговор тот, кто позвонил (он же перезванивает, если разговор был прерван по каким-либо причинам).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заключении разговора со стороны секретаря уместны будут фразы: "Спасибо, что позвонили", "Рада была Вас слышать", "Успехов Вам" и т.д. </a:t>
            </a:r>
            <a:endParaRPr b="0" lang="en-US" sz="2800" spc="-1" strike="noStrike">
              <a:solidFill>
                <a:srgbClr val="ffffff"/>
              </a:solidFill>
              <a:latin typeface="Arial"/>
            </a:endParaRPr>
          </a:p>
        </p:txBody>
      </p:sp>
      <p:pic>
        <p:nvPicPr>
          <p:cNvPr id="117" name="Picture 4" descr="big_5325"/>
          <p:cNvPicPr/>
          <p:nvPr/>
        </p:nvPicPr>
        <p:blipFill>
          <a:blip r:embed="rId1"/>
          <a:stretch/>
        </p:blipFill>
        <p:spPr>
          <a:xfrm>
            <a:off x="4286160" y="3860640"/>
            <a:ext cx="485784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7:18:56Z</dcterms:created>
  <dc:creator>Юзер</dc:creator>
  <dc:description/>
  <dc:language>en-US</dc:language>
  <cp:lastModifiedBy>ZooM</cp:lastModifiedBy>
  <dcterms:modified xsi:type="dcterms:W3CDTF">2013-11-07T18:13:37Z</dcterms:modified>
  <cp:revision>4</cp:revision>
  <dc:subject/>
  <dc:title>Правила разговора по телефону</dc:title>
</cp:coreProperties>
</file>