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DA1-DFD8-433A-9131-C4A8D554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4EC-A055-4879-BDC6-463B5FD6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EF3-C385-49BA-A0DD-57F6F9E0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0525-4F21-4BCD-9078-E5ED4E48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A85A-B3A1-48FD-A004-B3BA0025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35F3-3F5F-4CC9-BEAC-E9D6A804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817A-68A5-46E0-A686-D582CBD4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29C6-593B-4A77-8C5C-6EB7FA44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8E34-7BFD-46CD-8F68-0DE039EE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CA02-62E0-436A-8B3C-1D604722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C4A9-00C3-4FCC-BDB1-BD648053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184-3309-4846-9C35-C4B49151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0779-51AF-4AF5-B4D8-EEFBDFD3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5333-8100-4BD7-B7FF-81286CA8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C76C-0B1A-4BB9-A4E7-DA939CE9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9E56-F9F0-4708-BA09-A399B668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D55E-8CDE-45A2-866A-E3B9DFC5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003-12B1-444E-B06A-FE7E8305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58DF-F5C7-4685-83C1-979BE877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C9B-9D10-41B9-AA41-3395C4B4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DFE-3A3A-431C-917E-FAD1598B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D639-0D8C-4094-A8FC-B994436E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06D2-D136-44BE-A57C-09C61926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432C-B753-4F67-B661-3BEA3CD1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DDE5-9A1A-4384-9AF9-2D56D7E11B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A2A2-6DEC-41D8-AD65-5261C1BE66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2268360" y="1989000"/>
            <a:ext cx="5040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а общ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5" descr="MCj04283210000[1]"/>
          <p:cNvPicPr/>
          <p:nvPr/>
        </p:nvPicPr>
        <p:blipFill>
          <a:blip r:embed="rId1"/>
          <a:stretch/>
        </p:blipFill>
        <p:spPr>
          <a:xfrm>
            <a:off x="3059280" y="4221000"/>
            <a:ext cx="28080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5"/>
          <p:cNvSpPr txBox="1"/>
          <p:nvPr/>
        </p:nvSpPr>
        <p:spPr>
          <a:xfrm>
            <a:off x="4500720" y="2276640"/>
            <a:ext cx="3456000" cy="26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. Шевчу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Подарок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Picture 12" descr="MCj04280630000[1]"/>
          <p:cNvPicPr/>
          <p:nvPr/>
        </p:nvPicPr>
        <p:blipFill>
          <a:blip r:embed="rId1"/>
          <a:stretch/>
        </p:blipFill>
        <p:spPr>
          <a:xfrm>
            <a:off x="1042920" y="2637000"/>
            <a:ext cx="2664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орогой дедушка!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здравляю тебя с днем рождения. Желаю тебе крепкого здоровья и успехов в работе.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            Коля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орогой дедушка!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здравляю тебя с днем рождения. Я хочу, чтоб ты не болел, чтобы чаще приезжал к нам в гости. Долгих лет тебе жизни и благополучия. Я постараюсь тебя не огорчаюсь.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Твой внук Коля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бращение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здравление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желани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На урок культуры речи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Так хотелось мне попасть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Но пришлось мне задержаться-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Нужно землю утеплять.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Но зато пришлю вам гостью,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Будете довольны вы.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А узнать ее нетрудно,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Это Фея Доброты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8880" y="2276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Monotype Corsiva"/>
              </a:rPr>
              <a:t>Желаем вам добрыми 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Monotype Corsiva"/>
              </a:rPr>
              <a:t>детьми расти,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Monotype Corsiva"/>
              </a:rPr>
              <a:t>хорошо себя вести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ы приветств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дравствуй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рое у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рый д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рый веч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ы прощан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 свид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 скорой вст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ы благодарност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асиб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ьшое спасиб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лагодарю ва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ы пожеланий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го хороше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го добр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удьте здоро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койной но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ятного аппети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ы извинений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стите, пожалуй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вините, пожалуй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ы просьб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жалуй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удьте доб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удьте любез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шу ва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5"/>
          <p:cNvSpPr txBox="1"/>
          <p:nvPr/>
        </p:nvSpPr>
        <p:spPr>
          <a:xfrm>
            <a:off x="1187280" y="2060640"/>
            <a:ext cx="37530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здравляе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 днем рождения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8" descr="j0281904"/>
          <p:cNvPicPr/>
          <p:nvPr/>
        </p:nvPicPr>
        <p:blipFill>
          <a:blip r:embed="rId1"/>
          <a:stretch/>
        </p:blipFill>
        <p:spPr>
          <a:xfrm>
            <a:off x="5292720" y="2133720"/>
            <a:ext cx="3049560" cy="28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5"/>
          <p:cNvSpPr txBox="1"/>
          <p:nvPr/>
        </p:nvSpPr>
        <p:spPr>
          <a:xfrm>
            <a:off x="539640" y="1773360"/>
            <a:ext cx="7704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медвежонок Иваш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верей к себ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гости звал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06:41:08Z</dcterms:created>
  <dc:creator>sc5</dc:creator>
  <dc:description/>
  <dc:language>en-US</dc:language>
  <cp:lastModifiedBy>Коля</cp:lastModifiedBy>
  <dcterms:modified xsi:type="dcterms:W3CDTF">2013-03-24T18:42:53Z</dcterms:modified>
  <cp:revision>4</cp:revision>
  <dc:subject/>
  <dc:title>Формы обращ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2000000000001024140</vt:lpwstr>
  </property>
</Properties>
</file>