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4E0-A4ED-4723-BBA1-653F1B11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E29-8555-4019-ADB5-01372352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6B7-3D5A-44CC-9F1C-1182F159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394-2726-4151-9BBB-6CCA50C4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2354-7AFF-4467-A56D-9A0DEE22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182E-6D77-42F0-B314-0702BBFD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5A26-875D-4D2C-8D70-5AB7252A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4E1F-71EA-44B6-9061-A8E4D6D6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4B2F-53C8-4AE3-AAB3-015F111E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09EC-D016-4D19-94E9-F2D1BC68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9377-587D-430B-A97A-BD23B9EB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451-AA69-4EB6-9DA3-45FDBC8A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5DD0-DB49-4194-9A44-315D0EFD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386B-1E62-48A5-912A-F9E29948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A0FF-601B-4224-A4EC-7981682C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7017-4B6A-471B-B41C-CC765A2A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BD85-01D5-4A1A-B6BC-0D4F546F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8BA-B12A-4BAA-BBAD-FF9783FE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E3C-4F4D-4ACF-B759-590F3BC0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DFB-F4E1-474A-AB34-628EDDA2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0CF-2BE3-44D2-8361-29578A7F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FAC-C675-49C0-BC6C-0963FCE6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CDF-AEB9-4763-B13B-D57BD18F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628-38A0-4D6B-943C-D117A66E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12DC-D611-44B6-8CA2-980AD2B67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3C68-0FC2-4411-A4EB-7D8F637851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2268360" y="1989000"/>
            <a:ext cx="504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а общ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5" descr="MCj04283210000[1]"/>
          <p:cNvPicPr/>
          <p:nvPr/>
        </p:nvPicPr>
        <p:blipFill>
          <a:blip r:embed="rId1"/>
          <a:stretch/>
        </p:blipFill>
        <p:spPr>
          <a:xfrm>
            <a:off x="3059280" y="4221000"/>
            <a:ext cx="28080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5"/>
          <p:cNvSpPr txBox="1"/>
          <p:nvPr/>
        </p:nvSpPr>
        <p:spPr>
          <a:xfrm>
            <a:off x="4500720" y="2276640"/>
            <a:ext cx="3456000" cy="26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. Шевчу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одарок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12" descr="MCj04280630000[1]"/>
          <p:cNvPicPr/>
          <p:nvPr/>
        </p:nvPicPr>
        <p:blipFill>
          <a:blip r:embed="rId1"/>
          <a:stretch/>
        </p:blipFill>
        <p:spPr>
          <a:xfrm>
            <a:off x="1042920" y="2637000"/>
            <a:ext cx="2664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орогой дедушка!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здравляю тебя с днем рождения. Желаю тебе крепкого здоровья и успехов в работе.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    Кол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орогой дедушка!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здравляю тебя с днем рождения. Я хочу, чтоб ты не болел, чтобы чаще приезжал к нам в гости. Долгих лет тебе жизни и благополучия. Я постараюсь тебя не огорчаюсь.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вой внук Кол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бращени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здравлени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желани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На урок культуры речи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Так хотелось мне попасть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Но пришлось мне задержаться-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Нужно землю утеплять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Но зато пришлю вам гостью,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Будете довольны вы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А узнать ее нетрудно,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Это Фея Доброт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8880" y="2276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Monotype Corsiva"/>
              </a:rPr>
              <a:t>Желаем вам добрыми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Monotype Corsiva"/>
              </a:rPr>
              <a:t>детьми расти,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Monotype Corsiva"/>
              </a:rPr>
              <a:t>хорошо себя вести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приветств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дравству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ое у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ый 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ый веч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проща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 сви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 скорой вст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благодарност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ое спасиб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одарю в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пожелани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го хорош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го добр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ьте здоро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койной но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ятного аппет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извинени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ите, пожалуй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вините, пожалуй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просьб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жалуй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ьте доб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ьте любез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шу в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5"/>
          <p:cNvSpPr txBox="1"/>
          <p:nvPr/>
        </p:nvSpPr>
        <p:spPr>
          <a:xfrm>
            <a:off x="1187280" y="2060640"/>
            <a:ext cx="37530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дравляе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ем рождени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8" descr="j0281904"/>
          <p:cNvPicPr/>
          <p:nvPr/>
        </p:nvPicPr>
        <p:blipFill>
          <a:blip r:embed="rId1"/>
          <a:stretch/>
        </p:blipFill>
        <p:spPr>
          <a:xfrm>
            <a:off x="5292720" y="2133720"/>
            <a:ext cx="30495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5"/>
          <p:cNvSpPr txBox="1"/>
          <p:nvPr/>
        </p:nvSpPr>
        <p:spPr>
          <a:xfrm>
            <a:off x="539640" y="1773360"/>
            <a:ext cx="7704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медвежонок Иваш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ерей к себ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гости звал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06:41:08Z</dcterms:created>
  <dc:creator>sc5</dc:creator>
  <dc:description/>
  <dc:language>en-US</dc:language>
  <cp:lastModifiedBy>Коля</cp:lastModifiedBy>
  <dcterms:modified xsi:type="dcterms:W3CDTF">2013-03-24T18:42:53Z</dcterms:modified>
  <cp:revision>4</cp:revision>
  <dc:subject/>
  <dc:title>Формы обращ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2000000000001024140</vt:lpwstr>
  </property>
</Properties>
</file>