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035-15EF-46A9-94A5-8DF0ED12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4A2-9836-4317-B41A-14521A23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7C7-F245-42A4-9D59-4657DFF9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06F-B173-49D7-AE23-D3D55714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3A5E-5633-47F4-814F-0125AE83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6627-5DFE-4B44-9871-22E92ADD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8954-066F-4A67-815F-995D9866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7194-8820-4AD0-A6B8-21C2B7D6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08BF-F2BB-4B3E-BFC3-121426CE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37B5-4FF6-4434-92EE-5FC4C405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8A41-1EDF-4E7A-A3B9-8340217E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0646-FE3C-41B9-A699-F18621E4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83FA-678C-46FE-8DFD-E9300C70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B158-DC4D-4622-9E59-38275C7E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8F17-6589-42D3-B067-953E75CE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EA78-65F0-4B60-A550-3D05BA6D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DF52-E5FF-4A03-A8A7-FF8FC901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487-121F-4CAF-9630-BF73F4AE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44E-4D63-453C-A8B1-B38EE58D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39B6-BC6D-4F7C-A514-662083B8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088-1EB2-4087-8396-3527FC97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570-1425-42D1-A492-4E273235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038-532E-4C63-98EE-0301912C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5BDD-2994-405F-AF22-75E2306C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1683-51F3-4291-BA4B-1F1708CB7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3CC6-76D8-487D-9353-1EA50E4C17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2268360" y="1989000"/>
            <a:ext cx="504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а общ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5" descr="MCj04283210000[1]"/>
          <p:cNvPicPr/>
          <p:nvPr/>
        </p:nvPicPr>
        <p:blipFill>
          <a:blip r:embed="rId1"/>
          <a:stretch/>
        </p:blipFill>
        <p:spPr>
          <a:xfrm>
            <a:off x="3059280" y="4221000"/>
            <a:ext cx="28080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5"/>
          <p:cNvSpPr txBox="1"/>
          <p:nvPr/>
        </p:nvSpPr>
        <p:spPr>
          <a:xfrm>
            <a:off x="4500720" y="2276640"/>
            <a:ext cx="3456000" cy="26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. Шевчу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одарок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Picture 12" descr="MCj04280630000[1]"/>
          <p:cNvPicPr/>
          <p:nvPr/>
        </p:nvPicPr>
        <p:blipFill>
          <a:blip r:embed="rId1"/>
          <a:stretch/>
        </p:blipFill>
        <p:spPr>
          <a:xfrm>
            <a:off x="1042920" y="2637000"/>
            <a:ext cx="2664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орогой дедушка!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здравляю тебя с днем рождения. Желаю тебе крепкого здоровья и успехов в работе.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      Коля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орогой дедушка!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здравляю тебя с днем рождения. Я хочу, чтоб ты не болел, чтобы чаще приезжал к нам в гости. Долгих лет тебе жизни и благополучия. Я постараюсь тебя не огорчаюсь.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Твой внук Коля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бращени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здравлени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желани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На урок культуры речи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Так хотелось мне попасть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Но пришлось мне задержаться-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Нужно землю утеплять.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Но зато пришлю вам гостью,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Будете довольны вы.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А узнать ее нетрудно,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Это Фея Доброты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8880" y="2276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Monotype Corsiva"/>
              </a:rPr>
              <a:t>Желаем вам добрыми 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Monotype Corsiva"/>
              </a:rPr>
              <a:t>детьми расти,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Monotype Corsiva"/>
              </a:rPr>
              <a:t>хорошо себя вести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приветств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дравству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рое у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рый д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рый веч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проща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 сви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 скорой вст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благодарност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асиб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ьшое спасиб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лагодарю в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пожеланий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го хорош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го добр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дьте здоро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койной но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ятного аппет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извинений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ите, пожалуй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вините, пожалуй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просьб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жалуй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дьте доб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дьте любез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шу в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5"/>
          <p:cNvSpPr txBox="1"/>
          <p:nvPr/>
        </p:nvSpPr>
        <p:spPr>
          <a:xfrm>
            <a:off x="1187280" y="2060640"/>
            <a:ext cx="37530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здравляе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днем рождения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8" descr="j0281904"/>
          <p:cNvPicPr/>
          <p:nvPr/>
        </p:nvPicPr>
        <p:blipFill>
          <a:blip r:embed="rId1"/>
          <a:stretch/>
        </p:blipFill>
        <p:spPr>
          <a:xfrm>
            <a:off x="5292720" y="2133720"/>
            <a:ext cx="304956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5"/>
          <p:cNvSpPr txBox="1"/>
          <p:nvPr/>
        </p:nvSpPr>
        <p:spPr>
          <a:xfrm>
            <a:off x="539640" y="1773360"/>
            <a:ext cx="7704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медвежонок Иваш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ерей к себ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гости звал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06:41:08Z</dcterms:created>
  <dc:creator>sc5</dc:creator>
  <dc:description/>
  <dc:language>en-US</dc:language>
  <cp:lastModifiedBy>Коля</cp:lastModifiedBy>
  <dcterms:modified xsi:type="dcterms:W3CDTF">2013-03-24T18:42:53Z</dcterms:modified>
  <cp:revision>4</cp:revision>
  <dc:subject/>
  <dc:title>Формы обращ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2000000000001024140</vt:lpwstr>
  </property>
</Properties>
</file>