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8E2-245F-4B8B-8871-9846B44CD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02D-61AF-4A91-A401-AACEAD808A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F46-945E-4184-A63E-F777C73CB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42CB-306F-4858-A9C1-538F620B4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DECE-0518-4247-B2A6-C73552A38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766-F09B-440A-9AD5-35F10F790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CD5-2CE4-4A23-9F41-A04ABA2B2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D4B1-813B-46D0-BEE1-7FA3EE345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906D-E7BA-4BD7-AEF2-28020D5C6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C26-7D8E-4E86-9B0D-47151B84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2EE-FF2B-45F0-B0DE-CF8DC612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D71-0E90-4FFF-969B-B99263B0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D85-20C2-46D2-BEF6-AD9116EC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657-7883-4D61-947E-9E30747C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92D-1009-4A27-BB4D-1A630C3B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8C3-C87E-467E-8E14-840C3738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1D7-6810-49F1-A9AF-87BF1D36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B50-9C59-4E6D-8243-C7DE27E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680-3C1B-4D97-9892-F34BAF9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6E2-ED55-4B6C-95F6-B744E68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6D7-54A1-4801-9FDC-82B293B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2148-0E09-46BB-AFB7-DE1D9E4AB2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6961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ЩЕ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«ГИМНАЗИЯ №2 г. ВЛАДИВОСТОКА»</a:t>
            </a:r>
            <a:br>
              <a:rPr sz="18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50920" y="2000160"/>
            <a:ext cx="67359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0dbc"/>
                </a:solidFill>
                <a:latin typeface="Bookman Old Style"/>
              </a:rPr>
              <a:t>Нормативно- правовое обеспечение </a:t>
            </a:r>
            <a:r>
              <a:rPr b="1" lang="ru-RU" sz="2800" spc="-1" strike="noStrike">
                <a:solidFill>
                  <a:srgbClr val="cc0000"/>
                </a:solidFill>
                <a:latin typeface="Bookman Old Style"/>
              </a:rPr>
              <a:t>государственной (итоговой) аттестации</a:t>
            </a: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40dbc"/>
                </a:solidFill>
                <a:latin typeface="Bookman Old Style"/>
              </a:rPr>
              <a:t>обучающихся, освоивших программы основного общего образования, в 2013 го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Заместитель директора по УВР   Ли Л.М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14200" y="1571760"/>
          <a:ext cx="1764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71760"/>
                    <a:ext cx="1764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47280" y="1557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ано определение уважительных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причин неучас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Уважительными причинами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считаются болезнь выпускника или иные обстоятельства, подтвержденные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докумен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Решение о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опуске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выпускника до сдачи ГИА в</a:t>
            </a:r>
            <a:r>
              <a:rPr b="1" lang="ru-RU" sz="2400" spc="-1" strike="noStrike">
                <a:solidFill>
                  <a:srgbClr val="125e26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ополнительные сроки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в рамках утвержденного расписания в каждом конкретном случае принимает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ТЭ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man Old Style"/>
              </a:rPr>
              <a:t>Положение о Г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9840" y="1915920"/>
            <a:ext cx="8713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Bookman Old Style"/>
              </a:rPr>
              <a:t>Апелляция о несогласии с результатами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ГИА подается в </a:t>
            </a:r>
            <a:r>
              <a:rPr b="1" lang="ru-RU" sz="2200" spc="-1" strike="noStrike" u="sng">
                <a:solidFill>
                  <a:srgbClr val="333399"/>
                </a:solidFill>
                <a:uFillTx/>
                <a:latin typeface="Bookman Old Style"/>
              </a:rPr>
              <a:t>течение</a:t>
            </a:r>
            <a:r>
              <a:rPr b="1" lang="ru-RU" sz="2200" spc="-1" strike="noStrike" u="sng">
                <a:solidFill>
                  <a:srgbClr val="125e26"/>
                </a:solidFill>
                <a:uFillTx/>
                <a:latin typeface="Bookman Old Style"/>
              </a:rPr>
              <a:t> </a:t>
            </a:r>
            <a:r>
              <a:rPr b="1" lang="ru-RU" sz="2200" spc="-1" strike="noStrike" u="sng">
                <a:solidFill>
                  <a:srgbClr val="cc0000"/>
                </a:solidFill>
                <a:uFillTx/>
                <a:latin typeface="Bookman Old Style"/>
              </a:rPr>
              <a:t>трёх  дней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lang="ru-RU" sz="2200" spc="-1" strike="noStrike" u="sng">
                <a:solidFill>
                  <a:srgbClr val="333399"/>
                </a:solidFill>
                <a:uFillTx/>
                <a:latin typeface="Bookman Old Style"/>
              </a:rPr>
              <a:t>со дня объявления </a:t>
            </a: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результатов ГИА по соответствующему предм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Порядок, сроки и место приема апелляций доводятся до сведения участников ГИА, их родителей (законных представителей), руководителей образовательных учреждений </a:t>
            </a:r>
            <a:r>
              <a:rPr b="1" lang="ru-RU" sz="2200" spc="-1" strike="noStrike">
                <a:solidFill>
                  <a:srgbClr val="cc0000"/>
                </a:solidFill>
                <a:latin typeface="Bookman Old Style"/>
              </a:rPr>
              <a:t>не позднее, чем за 2 недели до начала проведения Г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День объявления результатов ГИА устанавливается органом исполнительной власти субъекта Российской Федерации, осуществляющим управление в сфере образования</a:t>
            </a:r>
            <a:r>
              <a:rPr b="0" lang="ru-RU" sz="22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Сроки подачи апелляции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 по результатам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715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Выставление итоговых от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11280" y="1268280"/>
            <a:ext cx="781848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а­щи­еся 9 клас­сов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е до­пущен­ные или не про­шед­шие ГИА,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 ус­мотре­нию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о­дите­лей или за­кон­ных предс­та­вите­лей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с­тавля­ют­ся на пов­торное обу­чение или по­луча­ют справ­ку об обу­чении ус­та­нов­ленно­го об­раз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­цам, по­лучив­шим справ­ку, че­рез год пре­дос­тавля­ет­ся пра­во прой­ти го­сударс­твен­ную (ито­говую) ат­теста­цию в фор­ме экс­тер­на­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этом ра­нее про­ходив­шие ГИА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да­ют эк­за­мены по тем пред­ме­там, по ко­торым в справ­ке выс­тавле­ны не­удов­летво­ритель­ные от­м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с­ли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­пуск­ник 9 клас­са не про­шел ГИА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н ос­тавля­ет­ся на пов­торное обу­чение, и смо­жет прой­ти ГИА на сле­ду­ющий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20640"/>
            <a:ext cx="678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4000" spc="-1" strike="noStrike">
                <a:solidFill>
                  <a:srgbClr val="7030a0"/>
                </a:solidFill>
                <a:latin typeface="Bookman Old Style"/>
              </a:rPr>
              <a:t> 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483920"/>
            <a:ext cx="84247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Bookman Old Style"/>
              </a:rPr>
              <a:t>2 –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сего учащихся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011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кончили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четверть на «4» и «5» – 4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2 – 4 классы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25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5 – 9  классы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личество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9»А», 9 «Б»,  9 «В», 9»Г»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ончили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четверть  на «4» и «5»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29 или 28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6786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3600" spc="-1" strike="noStrike">
                <a:solidFill>
                  <a:srgbClr val="7030a0"/>
                </a:solidFill>
                <a:latin typeface="Bookman Old Style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773000"/>
            <a:ext cx="7920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ончили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четверть  на «4» и «5»     –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9 учащихся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а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4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9б класс – </a:t>
            </a: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6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в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6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г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Выставление итоговых от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50920" y="15354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пуск­ни­кам 9 клас­сов, про­шед­шим го­сударс­твен­ную (ито­говую) ат­теста­цию (ГИА), вы­да­ет­ся до­кумент го­сударс­твен­но­го об­разца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– ат­тестат об ос­новном об­щем об­ра­зова­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пуск­ни­кам 9 клас­са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ме­ющим го­довые, эк­за­мена­ци­он­ные и ито­говые от­метки "5"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да­ет­ся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ат­теста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 ос­новном об­щем об­ра­зова­нии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 осо­бого об­раз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ат­тестат выс­тавля­ют­ся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то­говые от­метки по пред­ме­там, ко­торые изу­чались вы­пуск­ни­ком в клас­сах вто­рой сту­пени об­ще­го об­ра­зова­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Ито­говая от­метка оп­ре­деля­ет­ся на ос­но­вании го­довой и эк­за­мена­ци­он­ной от­метки с уче­том чет­верт­ных или по­луго­довых от­ме­ток, а так­же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фак­ти­чес­кой под­го­тов­ки вы­пуск­ни­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10728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участия в ГИА-9 необходимо быть зарегистрированным в Региональной базе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несение сведений об участнике в базу данных  проводится на основании личного заявления с указанием перечня и сроков сдачи общеобразовательных предметов в новой форме.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тветственность за точность и полноту информации в заявлении несет участник экзаме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ИА-9 проводится в образовательном учреждении, в котором обучался выпускник, завершивший освоение основных образовательных программ основ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ППЭ-ОУ необходимо явиться точно в день проведения экза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9 часам 30 минутам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по местному времени). В случае опоздания на экзамен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(после 10.0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 время выполнения экзаменационной рабо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не увеличиваетс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50920" y="95220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экзамен необходимо взять след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елевую или капиллярную ручку с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ерны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ярким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чернилами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авляющу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заметный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след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учше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с собой запасную ручку. Карандаш или ручки иного цвета к использованию на экзамене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е допускаютс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Bookman Old Style"/>
              </a:rPr>
              <a:t>Если ручка не соответствует требованиям, то бланки данного участника экзамена не могут быть обработаны корректно, а апелляция по данной работе будет отклонена из-за невыполнения инструктивных докуме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) на экзамене по математике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можн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спользовать  справочную информацию, размещенную в бланке 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экзамене по русскому языку разрешается использование орфографического словаря (доступ к словарю появляется через 90 минут после начала экзаме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На экзамене </a:t>
            </a: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запрещено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иметь при себе телефон, карманный компьютер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50920" y="33912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250920" y="981000"/>
            <a:ext cx="86421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Участник ГИА-9 может быть удален экзамена по следующим причин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без разрешения разговаривает с организаторами или другими участниками экзамен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встает с места без разрешения организато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самостоятельно пересаживае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обменивается любыми материалами и предметами с другими участниками ЕГЭ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пользуется мобильным телефоном или иными средствами связ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пользуется справочными материалами кроме разрешенны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вышел из аудитории без разрешения организат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В случае удаления участника ГИА-9 с экзамена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го работа поступает на проверку в незавершенном виде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. Участник, удаленный с экзамена за нарушение поведения, должен быть предупрежден о составлении акта о нарушениях процедуры экзамена и невозможности пересдачи ГИА-9 в новой форме в текущем го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ро­дол­жи­тель­ность эк­за­ме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ли­тера­тура - 4 ча­са (235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об­щест­воз­на­ние и фи­зика – 3 ча­са (180 ми­ну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о би­оло­гия и ис­то­рия  –  2,5 ча­са (150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о ге­ог­ра­фия, хи­мия,  ин­форма­тика и ИКТ – 2 ча­са  (120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ност­ран­ный язы­к (анг­лий­ский, фран­цузс­кий, не­мец­кий, ис­панс­кий)  –  106 ми­ну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ись­мен­ная часть – 1,5 ча­са (90 ми­ну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уст­ная часть – 16 ми­нут (вре­мя уст­но­го от­ве­та сос­тавля­ет 6 ми­нут на од­но­го от­ве­ча­юще­го, вре­мя под­го­тов­ки к уст­но­му от­ве­ту 8–10 ми­нут, не счи­тая фак­ти­чес­ко­го вре­мени ожи­дания участ­ни­ками ГИА для от­ве­та на уст­ную часть эк­за­ме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04920" y="1344600"/>
            <a:ext cx="765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Bookman Old Style"/>
              </a:rPr>
              <a:t>С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00</a:t>
            </a: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9</a:t>
            </a:r>
            <a:r>
              <a:rPr b="1" i="1" lang="ru-RU" sz="3200" spc="-1" strike="noStrike">
                <a:solidFill>
                  <a:srgbClr val="000066"/>
                </a:solidFill>
                <a:latin typeface="Bookman Old Style"/>
              </a:rPr>
              <a:t> года город Владивосток участвует в апробации новой формы государственной (итоговой) аттестации обучающихся, освоивших программы основного обще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872480" y="476280"/>
            <a:ext cx="1241280" cy="129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560" y="62028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Русский язык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орфографический словар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Математика 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 – линейка, </a:t>
            </a:r>
            <a:r>
              <a:rPr b="0" lang="ru-RU" sz="2100" spc="-1" strike="noStrike">
                <a:solidFill>
                  <a:srgbClr val="7030a0"/>
                </a:solidFill>
                <a:latin typeface="Bookman Old Style"/>
              </a:rPr>
              <a:t>справочные материалы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: таблица квадратов двузначных чисел, формулы корней квадратного уравнения, разложения на множители квадратного трехчлена, формулы</a:t>
            </a:r>
            <a:r>
              <a:rPr b="0" i="1" lang="ru-RU" sz="2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-го члена и суммы </a:t>
            </a:r>
            <a:r>
              <a:rPr b="0" i="1" lang="en-US" sz="21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 первых членов арифметической и геометрической прогресс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Физика</a:t>
            </a:r>
            <a:r>
              <a:rPr b="0" lang="ru-RU" sz="21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непрограммируемый калькулятор и экспериментальное оборудование, перечень которого составлен на основе типовых наборов для фронтальных работ («Механика», «Электричество», «Оптика»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Иностранный язык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звукопроизводящая и звукозаписывающая аппаратура, аудиокассеты или компакт-диски с материалами для выполнения заданий, проштампованные листы чистой бумаги, настенные час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Химия</a:t>
            </a:r>
            <a:r>
              <a:rPr b="0" lang="ru-RU" sz="21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периодическая система химических элементов Д.И. Менделеева; таблица растворимости солей, кислот, и оснований в воде; электрохимический ряд напряжения металлов; непрограммируемый калькуля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ланируемые изменения КИМ ГИА -9 в 201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8120" y="1197000"/>
          <a:ext cx="8815680" cy="5245200"/>
        </p:xfrm>
        <a:graphic>
          <a:graphicData uri="http://schemas.openxmlformats.org/drawingml/2006/table">
            <a:tbl>
              <a:tblPr/>
              <a:tblGrid>
                <a:gridCol w="1954440"/>
                <a:gridCol w="6861240"/>
              </a:tblGrid>
              <a:tr h="132228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eb3c8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ремя проведения экзаменов, на которые отводилось               4 часа, в соответствии с требованиями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анПиН сокращено на 5 минут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с 240 до 235 мин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>
                        <a:alpha val="6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нципиальных изменений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 Изменено задание С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 Исключен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льтернативное задание (С2.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1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инципиальные изменения в структуре КИ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Bookman Old Styl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здельное оценивание алгебраической и геометрической подготово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учащихся с целью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тавления отметок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курсу алгебры и курсу геомет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Осуществляется соответствие требованиям стандарта в час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пользования приобретенных знаний и умений в практической деятельности и повседневной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Основное отличие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 и в полной мере представлены все разделы курса математики, в частности, задания по курсу геометрии основной школы и практической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036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атематика –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принципиальные изменения в структуре К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387440"/>
          <a:ext cx="8793360" cy="4176720"/>
        </p:xfrm>
        <a:graphic>
          <a:graphicData uri="http://schemas.openxmlformats.org/drawingml/2006/table">
            <a:tbl>
              <a:tblPr/>
              <a:tblGrid>
                <a:gridCol w="1106280"/>
                <a:gridCol w="218880"/>
                <a:gridCol w="2473200"/>
                <a:gridCol w="1900800"/>
                <a:gridCol w="3094200"/>
              </a:tblGrid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Алге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0 мину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  (не возвращает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 е р е р ы в  –  15  м и н у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d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Геометр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 мину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 возвращает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 е р е р ы в  –  15  м и н у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d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0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Реальная мате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  <a:tr h="51660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щее время экзамена - 4 часа (240 мин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d6ed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4"/>
          <p:cNvSpPr/>
          <p:nvPr/>
        </p:nvSpPr>
        <p:spPr>
          <a:xfrm>
            <a:off x="0" y="553716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На экзамене в аудиторию не допускаются специалисты по математик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9838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Структура КИМ по математике в 201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6920" y="1052640"/>
          <a:ext cx="8712000" cy="3671640"/>
        </p:xfrm>
        <a:graphic>
          <a:graphicData uri="http://schemas.openxmlformats.org/drawingml/2006/table">
            <a:tbl>
              <a:tblPr/>
              <a:tblGrid>
                <a:gridCol w="1993680"/>
                <a:gridCol w="1328760"/>
                <a:gridCol w="1698840"/>
                <a:gridCol w="1919160"/>
                <a:gridCol w="1771560"/>
              </a:tblGrid>
              <a:tr h="3967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выбором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кратким отв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полным реш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Алге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3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8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Геометр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13-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Реальная мате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21-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ксимальное количество баллов -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Прямая соединительная линия 11"/>
          <p:cNvSpPr/>
          <p:nvPr/>
        </p:nvSpPr>
        <p:spPr>
          <a:xfrm>
            <a:off x="4103640" y="3213000"/>
            <a:ext cx="792360" cy="0"/>
          </a:xfrm>
          <a:prstGeom prst="line">
            <a:avLst/>
          </a:prstGeom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13"/>
          <p:cNvSpPr/>
          <p:nvPr/>
        </p:nvSpPr>
        <p:spPr>
          <a:xfrm>
            <a:off x="7704000" y="3813120"/>
            <a:ext cx="793800" cy="0"/>
          </a:xfrm>
          <a:prstGeom prst="line">
            <a:avLst/>
          </a:prstGeom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179280" y="47052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Минимальный порог выполнения экзаменационной работы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–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8 баллов,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набранные в сумме за выполнение заданий всех трёх модулей,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при условии, что по каждому из модулей набрано не менее 2 баллов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Учащимся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разрешается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использовать справочные материалы, выдаваемые вместе с работой. Разрешается использовать линейку.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алькуляторы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на экзамене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не используются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285840" y="3525840"/>
            <a:ext cx="7714440" cy="2639520"/>
            <a:chOff x="285840" y="3525840"/>
            <a:chExt cx="7714440" cy="2639520"/>
          </a:xfrm>
        </p:grpSpPr>
        <p:sp>
          <p:nvSpPr>
            <p:cNvPr id="117" name="AutoShape 6"/>
            <p:cNvSpPr/>
            <p:nvPr/>
          </p:nvSpPr>
          <p:spPr>
            <a:xfrm>
              <a:off x="285840" y="3722040"/>
              <a:ext cx="4802400" cy="24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285840" y="3826440"/>
              <a:ext cx="42181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>
              <a:off x="38646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4140360" y="3525840"/>
              <a:ext cx="1557360" cy="11386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  <a:effectLst>
              <a:outerShdw dist="50647" dir="788834" blurRad="0" rotWithShape="0">
                <a:srgbClr val="bfbfb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12"/>
            <p:cNvSpPr/>
            <p:nvPr/>
          </p:nvSpPr>
          <p:spPr>
            <a:xfrm flipH="1">
              <a:off x="64350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Скругленный прямоугольник 23"/>
          <p:cNvSpPr/>
          <p:nvPr/>
        </p:nvSpPr>
        <p:spPr>
          <a:xfrm>
            <a:off x="399960" y="1484280"/>
            <a:ext cx="7772400" cy="194472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99960" y="1514520"/>
            <a:ext cx="77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еодоление минимального порога баллов (8) даёт выпускнику право на получение, в соответствии с учебным планом образовательного учреждения, итоговой отм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85840" y="4276800"/>
            <a:ext cx="45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По математи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(на основе годовой и экзаменационной отметок по пятибалльной шкал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3"/>
          <p:cNvGrpSpPr/>
          <p:nvPr/>
        </p:nvGrpSpPr>
        <p:grpSpPr>
          <a:xfrm>
            <a:off x="285840" y="3525840"/>
            <a:ext cx="7714440" cy="2639520"/>
            <a:chOff x="285840" y="3525840"/>
            <a:chExt cx="7714440" cy="2639520"/>
          </a:xfrm>
        </p:grpSpPr>
        <p:sp>
          <p:nvSpPr>
            <p:cNvPr id="129" name="AutoShape 6"/>
            <p:cNvSpPr/>
            <p:nvPr/>
          </p:nvSpPr>
          <p:spPr>
            <a:xfrm>
              <a:off x="285840" y="3722040"/>
              <a:ext cx="4802400" cy="24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285840" y="3826440"/>
              <a:ext cx="42181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38646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4140360" y="3525840"/>
              <a:ext cx="1557360" cy="11386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  <a:effectLst>
              <a:outerShdw dist="50647" dir="788834" blurRad="0" rotWithShape="0">
                <a:srgbClr val="bfbfb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flipH="1">
              <a:off x="64350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Скругленный прямоугольник 23"/>
          <p:cNvSpPr/>
          <p:nvPr/>
        </p:nvSpPr>
        <p:spPr>
          <a:xfrm>
            <a:off x="285840" y="1255680"/>
            <a:ext cx="8381880" cy="505296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Экзамен начинается с модуля «Алгебра», выпускникам выдается полный текст соответствующего модуля экзаменацион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 окончании 90 минут эта часть работы сдается. Выпускники получают возможность сделать перерыв на 15 минут, выйти из класса, отдохн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сле окончания перерыва выпускники возвращаются в аудиторию для проведения экзамена и получают полный текст модуля «Геометр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 окончании 70 минут от начала модуля эта часть работы сдается, выпускники получают возможность сделать перерыв на 15 минут, по окончании которого снова возвращаются в аудиторию для проведения экзамена и получают текст модуля «Реальная математи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3"/>
          <p:cNvSpPr/>
          <p:nvPr/>
        </p:nvSpPr>
        <p:spPr>
          <a:xfrm>
            <a:off x="285840" y="1628640"/>
            <a:ext cx="8381880" cy="283860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Выпускник может сдать работу по каждому из модулей до истечения назначенного времени, покинуть аудиторию для проведения экзамена и ожидать начала следующего моду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Сданная часть работы не возвращ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3"/>
          <p:cNvSpPr/>
          <p:nvPr/>
        </p:nvSpPr>
        <p:spPr>
          <a:xfrm>
            <a:off x="395280" y="620640"/>
            <a:ext cx="8381880" cy="525636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Математика» 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8 баллов,  набранные в сумме за выполнение заданий всех трёх модулей, при услов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по каждому из модулей набрано не менее 2 бал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еодоление этого минимального результата даёт выпускнику право на получение, в соответстви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ым планом образовательного учреждения, итоговой отметки по математике   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(на основе годовой и экзаменационной отметок по пятибалльной шкал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кзаменационная отметка может учитыватьс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тоговой только в случае, если она выше годов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354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291960" y="1413000"/>
            <a:ext cx="84250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е­зуль­та­ты ГИ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о­вой фор­ме ис­поль­зуются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для вы­яв­ле­ния уча­щих­ся, на­ибо­лее под­го­тов­ленных к обу­чению в про­филь­ных клас­сах стар­ше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Результаты экзамена могут быть использованы при приеме учащихся в профильные классы средней школы. Ориентиром при отборе в профильные классы может быть показатель, нижняя граница которого соответству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Русский язык – не менее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33 балл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80% от максимального количества баллов) 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41 балл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Математика – не менее 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20 баллов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59% от максимального количества баллов)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34 балла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Английский язык – не менее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40 бал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80% от максимального количества баллов)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50 баллов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949320" cy="99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9280" y="549000"/>
            <a:ext cx="864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Формы государственной (итоговой) аттестации выпускников </a:t>
            </a:r>
            <a:r>
              <a:rPr b="1" i="1" lang="en-US" sz="2800" spc="-1" strike="noStrike">
                <a:solidFill>
                  <a:srgbClr val="c00000"/>
                </a:solidFill>
                <a:latin typeface="Bookman Old Style"/>
              </a:rPr>
              <a:t>IX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457200" y="2743200"/>
            <a:ext cx="4043520" cy="25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учающиеся на дому, дети, нуждающиеся в длительном лечении, находившиеся в лечебно-профилактических учреждениях более 4 месяцев, дети-инвали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39640" y="2133720"/>
            <a:ext cx="3297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традиционная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5219640" y="2022480"/>
            <a:ext cx="3086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в новой форме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029200" y="2743200"/>
            <a:ext cx="3790800" cy="25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учающиеся IX классов, освоившие образовательные программы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305920" y="1346040"/>
            <a:ext cx="826920" cy="8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042920" y="878040"/>
            <a:ext cx="7704360" cy="4809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одготовка к ГИ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42920" y="1558800"/>
            <a:ext cx="787392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Дополнительная  тетрадь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подготовке к ГИ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Самостоятельно  решать задания из сборников Г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омимо школьных домашни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учиться 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быстро и качественно решать задани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ровня А (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работать  навыки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быстрого решения всех заданий уровн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(В) в  выполняемом тесте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примерно за 1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инимальный порог на  ГИА  прой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42920" y="596880"/>
            <a:ext cx="7705800" cy="8143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Bookman Old Style"/>
              </a:rPr>
              <a:t>Подготовка к ГИ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397160"/>
          <a:ext cx="7896240" cy="469404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943280"/>
                <a:gridCol w="1224000"/>
                <a:gridCol w="13446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аби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Б» класс «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Б» класс «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 класс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71600" y="765000"/>
          <a:ext cx="8183520" cy="5758200"/>
        </p:xfrm>
        <a:graphic>
          <a:graphicData uri="http://schemas.openxmlformats.org/drawingml/2006/table">
            <a:tbl>
              <a:tblPr/>
              <a:tblGrid>
                <a:gridCol w="1641240"/>
                <a:gridCol w="1865520"/>
                <a:gridCol w="2014560"/>
                <a:gridCol w="1269720"/>
                <a:gridCol w="139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аби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нглий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2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4, №111, №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на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и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недель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304920" y="669960"/>
            <a:ext cx="84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авовые основы проведения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c00000"/>
                </a:solidFill>
                <a:latin typeface="Bookman Old Style"/>
              </a:rPr>
              <a:t>IX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бщеобразовательных учрежд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 использованием механизмов независимой оценки 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На федеральном уровне :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Закон Российской Федерации «Об образовании» от 10.07.1992 № 3266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Положение о государственной (итоговой) аттестации выпускников IX, XI (XII) классов общеобразовательных учреждений Российской Федерации, утвержденное приказом Министерства образования РФ от 03.12.1999 №10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179280" y="1341360"/>
            <a:ext cx="88567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ГИА в новой форме проводится Региональной экзаменационной комиссией </a:t>
            </a:r>
            <a:r>
              <a:rPr b="1" lang="ru-RU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 виде письменного экзамена с использованием заданий стандартизированной формы – контрольных измерительных материалов</a:t>
            </a:r>
            <a:r>
              <a:rPr b="1" lang="ru-RU" sz="26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(далее – КИМ), разработанных Федеральным институтом педагогических измер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Bookman Old Style"/>
              </a:rPr>
              <a:t>ГИА в новой форме с участием РЭК будет организована в </a:t>
            </a:r>
            <a:r>
              <a:rPr b="1" lang="ru-RU" sz="2600" spc="-1" strike="noStrike">
                <a:solidFill>
                  <a:srgbClr val="ff0000"/>
                </a:solidFill>
                <a:latin typeface="Bookman Old Style"/>
              </a:rPr>
              <a:t>ОУ-ПП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773840" y="476280"/>
            <a:ext cx="1238400" cy="12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71320"/>
            <a:ext cx="829152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50920" y="1500120"/>
            <a:ext cx="87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.3. К государственной (итоговой) аттестации допускаются обучающиеся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классов,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своившие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образовательны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основного общего образования и имеющи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оложительные годовые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тметки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о всем предметам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еобразовательного учреждения, а также обучающиеся, имеющи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неудовлетворительную годовую отметку по одному предмету учебного плана с обязательной сдачей экзамена по этому предм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354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91960" y="1774800"/>
            <a:ext cx="8425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е­зуль­та­ты ГИА в но­вой фор­ме ис­поль­зуются  для ат­теста­ции вы­пуск­ни­ков за курс ос­новно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е­зуль­та­ты ГИ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о­вой фор­ме ис­поль­зуются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для вы­яв­ле­ния уча­щих­ся, на­ибо­лее под­го­тов­ленных к обу­чению в про­филь­ных клас­сах стар­ше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2.1. </a:t>
            </a:r>
            <a:r>
              <a:rPr b="1" i="1" lang="ru-RU" sz="2200" spc="-1" strike="noStrike">
                <a:solidFill>
                  <a:srgbClr val="c00000"/>
                </a:solidFill>
                <a:latin typeface="Bookman Old Style"/>
              </a:rPr>
              <a:t>Выпускники IX класса общеобразовательного учреждения, желающие продолжить обучение в профильных классах  III ступени общего образования,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Bookman Old Style"/>
              </a:rPr>
              <a:t>сдают два экзамена по предметам</a:t>
            </a:r>
            <a:r>
              <a:rPr b="1" i="1" lang="ru-RU" sz="2200" spc="-1" strike="noStrike">
                <a:solidFill>
                  <a:srgbClr val="c00000"/>
                </a:solidFill>
                <a:latin typeface="Bookman Old Style"/>
              </a:rPr>
              <a:t>, соответствующим данному профилю обу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7812000" y="476280"/>
            <a:ext cx="1238400" cy="12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95280" y="1500120"/>
            <a:ext cx="8248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Bookman Old Style"/>
              </a:rPr>
              <a:t>Математика,  русский язык,  английский язык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экзамены  по Г(И)А для  9 класса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Для этого ими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не позднее 1 апреля текущего года подается заявление о сдаче экзамена по выбору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, в котором указываются соответствующий общеобразовательный предмет: </a:t>
            </a: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литература, история, обществознание, география, биология, химия, физика, информатика и ИК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0dbc"/>
                </a:solidFill>
                <a:latin typeface="Bookman Old Style"/>
              </a:rPr>
              <a:t>Сроки проведения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88800" y="1484280"/>
            <a:ext cx="80726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обучающихся, не явившихся               на экзамен по русскому языку и  по математике для выпускников,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 уважительной причине,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станавливается резервны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выпускников, получивших на государственной (итоговой) аттестации не более двух неудовлетворительных отметок,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устанавливаются дополнительные дни перес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8:42:09Z</dcterms:created>
  <dc:creator>ученик</dc:creator>
  <dc:description/>
  <dc:language>en-US</dc:language>
  <cp:lastModifiedBy>Li</cp:lastModifiedBy>
  <cp:lastPrinted>2012-11-28T08:13:36Z</cp:lastPrinted>
  <dcterms:modified xsi:type="dcterms:W3CDTF">2012-12-12T05:01:38Z</dcterms:modified>
  <cp:revision>461</cp:revision>
  <dc:subject/>
  <dc:title>Тема урока</dc:title>
</cp:coreProperties>
</file>