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23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43.jpeg" ContentType="image/jpeg"/>
  <Override PartName="/ppt/media/image46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45.jpeg" ContentType="image/jpeg"/>
  <Override PartName="/ppt/media/image50.jpeg" ContentType="image/jpeg"/>
  <Override PartName="/ppt/media/image3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ADBC-6972-4319-9BE5-CDD8AB269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F247-AEEC-48CA-A81E-DEAA9BA0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7DF0-A021-4B19-A3AC-9D70CA01B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B330-2CF0-4BFA-8933-25BE311AE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1AD9-7623-45C8-8F5B-6150FA86D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16AD-C08B-4707-A352-22CE9E64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2565-FEF1-4CB2-8CF3-43003C12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E14B-0967-4906-8AB5-BBA208A3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D033-4F18-4138-937D-BCC5B662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2308-7994-4763-9B13-29771DA3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6FE1-D447-4AEC-AA93-35E60517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D7E6-DFD7-4A39-AB8B-7D304E1C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904B-6B7C-417F-8C1C-656BDF6D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C968-80AA-452B-BD89-8C9829B2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5CA5-7B64-4F85-905F-7F7B7056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EDE5-E73C-4B1E-8F5C-2C502D617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4164-B45C-4B80-86FB-3B41989D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E55D-F7A6-4282-A874-061B16CB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AC4A-8780-4400-A0B3-3840DBE5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FE9B-1805-4101-9FB3-9D36F493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4397-EC30-48F6-A52F-7C786C16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1B51-09E0-4C6E-A0B0-E12EC2D2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AA7B-5FA0-4477-BC6F-79F9820E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A674-346B-4114-B46F-2E892F6C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1D13-23E2-44AB-AD76-E4F66093B79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FEF3-FD6C-4F2D-A24F-2CF6E53CD80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gov.karelia.ru/gov/Photos/photo.html?id=10390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rmolova.theatre.ru/history/performance/tsar_max/photo25.html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Zykina.jpg" TargetMode="External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russiandvd.com/store/product.asp?sku=33717&amp;re=producta" TargetMode="External"/><Relationship Id="rId3" Type="http://schemas.openxmlformats.org/officeDocument/2006/relationships/image" Target="../media/image40.jpeg"/><Relationship Id="rId4" Type="http://schemas.openxmlformats.org/officeDocument/2006/relationships/hyperlink" Target="http://www.russiandvd.com/store/product.asp?sku=45197&amp;re=producta" TargetMode="External"/><Relationship Id="rId5" Type="http://schemas.openxmlformats.org/officeDocument/2006/relationships/image" Target="../media/image41.jpeg"/><Relationship Id="rId6" Type="http://schemas.openxmlformats.org/officeDocument/2006/relationships/hyperlink" Target="http://www.russiandvd.com/store/product.asp?sku=35659&amp;re=producta" TargetMode="External"/><Relationship Id="rId7" Type="http://schemas.openxmlformats.org/officeDocument/2006/relationships/image" Target="../media/image42.jpeg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hyperlink" Target="http://upload.wikimedia.org/wikipedia/ru/f/f2/&#1051;&#1080;&#1076;&#1080;&#1103;_&#1056;&#1091;&#1089;&#1083;&#1072;&#1085;&#1086;&#1074;&#1072;.jpg" TargetMode="External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6/BelorusianSkomorokhs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upload.wikimedia.org/wikipedia/commons/6/6f/Skomorokhs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&#1050;&#1088;&#1077;&#1089;&#1090;&#1100;&#1103;&#1085;&#1089;&#1082;&#1072;&#1103;_&#1089;&#1074;&#1072;&#1076;&#1100;&#1073;&#1072;_&#1074;_&#1058;&#1072;&#1084;&#1073;&#1086;&#1074;&#1089;&#1082;&#1086;&#1081;_&#1075;&#1091;&#1073;&#1077;&#1088;&#1085;&#1080;&#1080;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7/78/Ryabushkin_dance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Tatishchev.png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ru.wikipedia.org/wiki/&#1060;&#1072;&#1081;&#1083;:Kiprensky_Pushkin.jpg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ru.wikipedia.org/wiki/&#1060;&#1072;&#1081;&#1083;:Nikolaj_Jazykov1803-1846.jpg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ru.wikipedia.org/wiki/&#1060;&#1072;&#1081;&#1083;:&#1055;&#1086;&#1088;&#1090;&#1088;&#1077;&#1090;_&#1087;&#1080;&#1089;&#1072;&#1090;&#1077;&#1083;&#1103;_&#1042;&#1083;&#1072;&#1076;&#1080;&#1084;&#1080;&#1088;&#1072;_&#1048;&#1074;&#1072;&#1085;&#1086;&#1074;&#1080;&#1095;&#1072;_&#1044;&#1072;&#1083;&#1103;.jpg" TargetMode="External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Народная музыка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Учащиеся 6 класса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сследование фолькло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есенные жанры записывались не со слов, а с голоса, в пен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042920" y="3357720"/>
            <a:ext cx="2952720" cy="2000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67280" y="4797360"/>
            <a:ext cx="2519280" cy="1882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5940360" y="2997360"/>
            <a:ext cx="273528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Фольклор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Любите фольклор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116000" y="3284640"/>
            <a:ext cx="2376360" cy="2198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708360" y="4292640"/>
            <a:ext cx="2592360" cy="2073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443640" y="2565360"/>
            <a:ext cx="2232000" cy="2879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6516720" y="333360"/>
            <a:ext cx="2122560" cy="1411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3924360" y="333360"/>
            <a:ext cx="190512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Жанры русского фолькло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Задолго до возникновения письменных музыкальных традиций сформировались и развились самостоятельные жанры музыкального искусства - песенные, инструментальные, танцевальны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Жанры русского фолькло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Лирические песни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Я по жердочке шла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Я по тоненько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Тонка жердочка гнётся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а не ломитс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брядовые песни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з-под камушка, камушка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з-под камушка сизого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Течёт реченька быстра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Жанры русского фолькло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заические жанры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каз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еда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егенд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ылич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ывальщины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раматические жанры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ародные пьес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укольные представл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гр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Хоровод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вадебный обряд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Жанры русского фолькло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3068640"/>
            <a:ext cx="3810240" cy="25527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477080" y="587628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Царь Максимилиан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1" name="" descr="И.А. Зайцев. Петрушка. Перчаточная кукла. Конец XIX — начало XX в."/>
          <p:cNvPicPr/>
          <p:nvPr/>
        </p:nvPicPr>
        <p:blipFill>
          <a:blip r:embed="rId3"/>
          <a:stretch/>
        </p:blipFill>
        <p:spPr>
          <a:xfrm>
            <a:off x="5651640" y="2492280"/>
            <a:ext cx="2496960" cy="37450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374880" y="630792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Петрушка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Жанры русского фолькло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се жанры русского фольклора заслуживают равного внимания собирателей и исследователе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ародные исполнител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084720" y="2421000"/>
            <a:ext cx="2492640" cy="41702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116000" y="3141720"/>
            <a:ext cx="4753080" cy="30114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Зыкина Людмила Георгиев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ародные исполнител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724000" y="2361960"/>
            <a:ext cx="2806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Хор им. Пятницког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Хор русской песни Всесоюзного ради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116000" y="2708280"/>
            <a:ext cx="43196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ародные исполнител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724000" y="2361960"/>
            <a:ext cx="2806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Лауреат Всероссийского конкурса артистов эстрад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042920" y="2708280"/>
            <a:ext cx="432108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рожд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войства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узыкальные образы связаны с жизнью люде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ноговековая шлифовка времене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ародные исполнител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940000" y="2636640"/>
            <a:ext cx="2590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Л. Зыкина стремиться принять участие в самом замысле песн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116000" y="2708280"/>
            <a:ext cx="453564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ародные исполнител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9" name="" descr="Портрет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2492280"/>
            <a:ext cx="1619280" cy="2266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3132000" y="2852640"/>
            <a:ext cx="2381400" cy="15717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5867280" y="2492280"/>
            <a:ext cx="2857680" cy="24764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Людмила Зыкина. Кадр телеканала НТВ"/>
          <p:cNvPicPr/>
          <p:nvPr/>
        </p:nvPicPr>
        <p:blipFill>
          <a:blip r:embed="rId5"/>
          <a:stretch/>
        </p:blipFill>
        <p:spPr>
          <a:xfrm>
            <a:off x="1403280" y="494172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Людмила Зыкина"/>
          <p:cNvPicPr/>
          <p:nvPr/>
        </p:nvPicPr>
        <p:blipFill>
          <a:blip r:embed="rId6"/>
          <a:stretch/>
        </p:blipFill>
        <p:spPr>
          <a:xfrm>
            <a:off x="4140360" y="5084640"/>
            <a:ext cx="2808000" cy="1584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708360" y="259920"/>
            <a:ext cx="48132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истине всенарод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Ансамбль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«Русская песня»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042920" y="2492280"/>
            <a:ext cx="2347920" cy="3529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3635280" y="2492280"/>
            <a:ext cx="2722680" cy="4032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588000" y="2565360"/>
            <a:ext cx="2347920" cy="3529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6443640" y="189000"/>
            <a:ext cx="251460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Ансамбль «Золотое кольцо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71640" y="2492280"/>
            <a:ext cx="2736720" cy="2737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71640" y="3933720"/>
            <a:ext cx="2664000" cy="2664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3280" y="2565360"/>
            <a:ext cx="2737080" cy="2736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443640" y="400536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Ансамбль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Чё те надо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3529080" cy="15048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187280" y="2492280"/>
            <a:ext cx="5400720" cy="405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804000" y="2924280"/>
            <a:ext cx="2106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убанский казачий хор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187280" y="2492280"/>
            <a:ext cx="6337440" cy="41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2095560" cy="29145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усланова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Лидия Андреевна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3" name="" descr="Файл:Лидия Русланова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64000" y="189000"/>
            <a:ext cx="1633680" cy="16556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6948360" y="2421000"/>
            <a:ext cx="1895760" cy="35290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2700360" y="3716280"/>
            <a:ext cx="431964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ывод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ародность в музыке выражает многогранно: в правдивости воплощённых в ней чувств и образов, в высокой идейности, в создании музыкальных образов народа и народных героев, в связи музыки с народно-поэтическим творчеством, в широком использовании композиторами в своих сочинениях народных мелодий, интонаций и ритмов, национальном своеобразии и доступности музыкальных произведе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рожде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Файл:BelorusianSkomorokh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2637000"/>
            <a:ext cx="4464000" cy="2617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Файл:Skomorokh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16000" y="2421000"/>
            <a:ext cx="310824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рожде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Дождик, дождик пуще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олнышко, солнышко, выгляни в окошко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рожде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 было ветру, вдруг навянуло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 ждала гостей, вдруг наехал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лон дом вороных коне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лны горницы молодых госте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лны светлицы красных девушек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189000"/>
            <a:ext cx="38098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рожде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651640" y="2707920"/>
            <a:ext cx="3022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з поколения в поколение передавались нравственные традиц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Файл:Ryabushkin danc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2492280"/>
            <a:ext cx="432144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Фольклор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Фолькло́р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(англ. 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folklore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) — народное творчество, чаще всего именно устное; художественная коллективная творческая деятельность народа, отражающая его жизнь, воззрения, идеалы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724360" y="4292640"/>
            <a:ext cx="327204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обирайте фольклор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. Горький говорил: “… Начало искусства слова – в фольклоре”.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220840" cy="1614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042920" y="3429000"/>
            <a:ext cx="2220840" cy="3095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419640" y="4149720"/>
            <a:ext cx="1942920" cy="1152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5508720" y="3284640"/>
            <a:ext cx="338904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сследователи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2492280"/>
            <a:ext cx="2752560" cy="3097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042200" y="5804640"/>
            <a:ext cx="21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асилий Татищев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2924280"/>
            <a:ext cx="1573200" cy="1825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852720" y="508392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лександр Пушкин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72360" y="2492280"/>
            <a:ext cx="2409840" cy="3097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519600" y="573336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икола́й Язы́ков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500960" y="189000"/>
            <a:ext cx="1415880" cy="1655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285440" y="25956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ладимир Иванович Даль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06:09:19Z</dcterms:created>
  <dc:creator>ООШ</dc:creator>
  <dc:description/>
  <dc:language>en-US</dc:language>
  <cp:lastModifiedBy>ООШ</cp:lastModifiedBy>
  <dcterms:modified xsi:type="dcterms:W3CDTF">2009-05-26T04:51:50Z</dcterms:modified>
  <cp:revision>6</cp:revision>
  <dc:subject/>
  <dc:title>Народная музыка</dc:title>
</cp:coreProperties>
</file>