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43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89D-B2A5-4DF9-89D9-34918D0D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D90-6BBD-4354-B7E9-53A8FF0F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9F4-61A4-4207-89FF-7DC91EF3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C3B-BB76-485E-936C-D148F43B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085-191A-437B-8CF9-C099F4FB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5C25-1468-419F-8A03-ADD58A17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5F8-4314-4264-AB4B-47EE82EF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8BB9-DF3C-47CA-9AB8-339040D0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12C1-D76A-4F51-BEE7-E147235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F9CD-3110-4852-818C-F90172F1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E1F5-A61E-46F8-8D30-B1D75777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FE2-84FD-4C60-88F3-8CE3DDF7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7BD9-E5F4-4CBB-80D5-AD2382D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63D7-1DCF-4646-8E6C-B04CE34B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CD04-79F4-4740-99CC-24F824FB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FFFE-7F74-409F-94E4-0A67DE74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64A-EFD1-48FF-BB5E-0AFEC312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EAA-1EFE-4D21-9CB7-9E11E94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FE5-893C-4F6D-BD05-FB8C9B1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CEB-D677-4F58-96DD-9D99445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90F-09FA-485D-8D1F-1558E1C4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DFC-C5DA-46A5-9E82-6201321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278-6557-40C2-95B0-6F225CE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71C-8308-41A3-B64E-29B15CDA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DE8-CF0A-4208-8C9E-A1E70053F9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59C7-8748-4933-A7B7-917376471E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ov.karelia.ru/gov/Photos/photo.html?id=10390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rmolova.theatre.ru/history/performance/tsar_max/photo25.html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ykina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russiandvd.com/store/product.asp?sku=33717&amp;re=producta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.russiandvd.com/store/product.asp?sku=45197&amp;re=producta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www.russiandvd.com/store/product.asp?sku=35659&amp;re=producta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http://upload.wikimedia.org/wikipedia/ru/f/f2/&#1051;&#1080;&#1076;&#1080;&#1103;_&#1056;&#1091;&#1089;&#1083;&#1072;&#1085;&#1086;&#1074;&#1072;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6/BelorusianSkomorokh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6/6f/Skomorokh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0;&#1088;&#1077;&#1089;&#1090;&#1100;&#1103;&#1085;&#1089;&#1082;&#1072;&#1103;_&#1089;&#1074;&#1072;&#1076;&#1100;&#1073;&#1072;_&#1074;_&#1058;&#1072;&#1084;&#1073;&#1086;&#1074;&#1089;&#1082;&#1086;&#1081;_&#1075;&#1091;&#1073;&#1077;&#1088;&#1085;&#1080;&#108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Ryabushkin_danc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atishchev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60;&#1072;&#1081;&#1083;:Kiprensky_Pushkin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60;&#1072;&#1081;&#1083;:Nikolaj_Jazykov1803-1846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ru.wikipedia.org/wiki/&#1060;&#1072;&#1081;&#1083;:&#1055;&#1086;&#1088;&#1090;&#1088;&#1077;&#1090;_&#1087;&#1080;&#1089;&#1072;&#1090;&#1077;&#1083;&#1103;_&#1042;&#1083;&#1072;&#1076;&#1080;&#1084;&#1080;&#1088;&#1072;_&#1048;&#1074;&#1072;&#1085;&#1086;&#1074;&#1080;&#1095;&#1072;_&#1044;&#1072;&#1083;&#1103;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ародная музы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чащиеся 6 клас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следование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сенные жанры записывались не со слов, а с голоса, в пен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952720" cy="20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4797360"/>
            <a:ext cx="2519280" cy="1882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940360" y="2997360"/>
            <a:ext cx="2735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юбите фолькл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376360" cy="2198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443640" y="2565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122560" cy="14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24360" y="333360"/>
            <a:ext cx="19051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олго до возникновения письменных музыкальных традиций сформировались и развились самостоятельные жанры музыкального искусства - песенные, инструментальные, танцеваль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рические песн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Я по жердочке шл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Я по тоненьк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нка жердочка гнётс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а не ломи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рядовые песн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-под камушка, камуш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-под камушка сизого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чёт реченька быстр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заические жан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ген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лич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вальщин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раматические жан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родные пьес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укольные предста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оро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адебный обря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068640"/>
            <a:ext cx="3810240" cy="2552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7080" y="587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арь Максимилиа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И.А. Зайцев. Петрушка. Перчаточная кукла. Конец XIX — начало XX в."/>
          <p:cNvPicPr/>
          <p:nvPr/>
        </p:nvPicPr>
        <p:blipFill>
          <a:blip r:embed="rId3"/>
          <a:stretch/>
        </p:blipFill>
        <p:spPr>
          <a:xfrm>
            <a:off x="5651640" y="2492280"/>
            <a:ext cx="2496960" cy="374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74880" y="63079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етрушк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 жанры русского фольклора заслуживают равного внимания собирателей и исследова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492640" cy="4170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4753080" cy="3011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ыкина Людмила Георгие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24000" y="2361960"/>
            <a:ext cx="280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 им. Пятницк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 русской песни Всесоюзного ради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319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724000" y="2361960"/>
            <a:ext cx="280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уреат Всероссийского конкурса артистов эстра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43210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узыкальные образы связаны с жизнью люд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ноговековая шлифовка времен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940000" y="2636640"/>
            <a:ext cx="2590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. Зыкина стремиться принять участие в самом замысле пес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5356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492280"/>
            <a:ext cx="1619280" cy="226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132000" y="285264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2492280"/>
            <a:ext cx="2857680" cy="2476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Людмила Зыкина. Кадр телеканала НТВ"/>
          <p:cNvPicPr/>
          <p:nvPr/>
        </p:nvPicPr>
        <p:blipFill>
          <a:blip r:embed="rId5"/>
          <a:stretch/>
        </p:blipFill>
        <p:spPr>
          <a:xfrm>
            <a:off x="1403280" y="49417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Людмила Зыкина"/>
          <p:cNvPicPr/>
          <p:nvPr/>
        </p:nvPicPr>
        <p:blipFill>
          <a:blip r:embed="rId6"/>
          <a:stretch/>
        </p:blipFill>
        <p:spPr>
          <a:xfrm>
            <a:off x="4140360" y="5084640"/>
            <a:ext cx="2808000" cy="1584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708360" y="259920"/>
            <a:ext cx="4813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истине всенарод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нсамбль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«Русская песня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234792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635280" y="2492280"/>
            <a:ext cx="272268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588000" y="2565360"/>
            <a:ext cx="234792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2514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самбль «Золотое кольцо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565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4005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самбль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ё те над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52908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5400720" cy="405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убанский казачий х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3374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095560" cy="291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усланов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дия Андреевн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" descr="Файл:Лидия Русланов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189000"/>
            <a:ext cx="1633680" cy="1655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948360" y="2421000"/>
            <a:ext cx="1895760" cy="3529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700360" y="3716280"/>
            <a:ext cx="4319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родность в музыке выражает многогранно: в правдивости воплощённых в ней чувств и образов, в высокой идейности, в создании музыкальных образов народа и народных героев, в связи музыки с народно-поэтическим творчеством, в широком использовании композиторами в своих сочинениях народных мелодий, интонаций и ритмов, национальном своеобразии и доступности музыкальных произвед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Файл:BelorusianSkomorok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4464000" cy="261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Файл:Skomorokh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2421000"/>
            <a:ext cx="31082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ждик, дождик пуще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лнышко, солнышко, выгляни в окошко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было ветру, вдруг навянуло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ждала гостей, вдруг наеха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он дом вороных кон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ы горницы молодых г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ы светлицы красных девуш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89000"/>
            <a:ext cx="3809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51640" y="2707920"/>
            <a:ext cx="302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 поколения в поколение передавались нравственные трад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Файл:Ryabushkin danc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92280"/>
            <a:ext cx="4321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лькло́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folklor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— народное творчество, чаще всего именно устное; художественная коллективная творческая деятельность народа, отражающая его жизнь, воззрения, идеа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2720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бирайте 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 Горький говорил: “… Начало искусства слова – в фольклоре”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20840" cy="161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222084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19640" y="4149720"/>
            <a:ext cx="194292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33890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следовател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492280"/>
            <a:ext cx="2752560" cy="3097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42200" y="58046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силий Татище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924280"/>
            <a:ext cx="1573200" cy="1825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2720" y="50839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лександр Пушки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2492280"/>
            <a:ext cx="2409840" cy="3097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19600" y="57333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икола́й Язы́ков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00960" y="189000"/>
            <a:ext cx="1415880" cy="165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85440" y="2595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ладимир Иванович Дал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6:09:19Z</dcterms:created>
  <dc:creator>ООШ</dc:creator>
  <dc:description/>
  <dc:language>en-US</dc:language>
  <cp:lastModifiedBy>ООШ</cp:lastModifiedBy>
  <dcterms:modified xsi:type="dcterms:W3CDTF">2009-05-26T04:51:50Z</dcterms:modified>
  <cp:revision>6</cp:revision>
  <dc:subject/>
  <dc:title>Народная музыка</dc:title>
</cp:coreProperties>
</file>