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449A-810F-4450-B45A-CC70CF03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BC2-0D9B-49E0-8EF2-D63F8C5B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8AE-1509-48E3-88D3-7EC53D3F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6A2B-06BC-4C15-904A-546C7A98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2281-6DE6-41DA-990A-FAA8EEA9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906A-0F73-4DDA-AB7D-C36A52CB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0D33-A7C9-4663-B72D-DBDC0CFD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8A87-25AF-4086-AFC8-A1FF20FC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A7AF-FA56-47CA-B9BA-4A0C6731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EE5A-301A-4530-A891-79F9922A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10C0-3F44-471A-8852-52E8DC37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052-E896-4E8D-8499-4313445C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0FDE-94D2-4097-AF49-79545B31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C330-35F8-4622-95F3-C66F2435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C00C-C680-4AD0-9CE7-304F5DCB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5547-7D4A-4DE0-B89B-4E56A93D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91AF-BD59-4B34-B3E8-0A5316A8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1BB-4A93-49B4-BB6D-D92CE310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0F99-051A-488A-AF6E-B79E5FAC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585-244F-4B76-94EF-F3FBAB58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4BB9-4D8A-4DBB-8D74-E7B92A8E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6402-EF64-4A9C-BEE2-E7150757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B44-7375-4144-A93D-1A01C8B5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FAD-7DF1-4755-BD48-A666972F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956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CE30-926F-4E04-A8EC-E63F6264AE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956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A094-1876-495C-B843-C2825AD042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onsyst.ru/ilia/esta/esta.htm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news2.webdigest.ru/content/315510.html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bel.ru/news/region/2005/03/09/13797.html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Времена года в музыке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прозвучало произвед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думаете, может ли музыка передать настро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ли настроение соответствовать времени год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Песня «Осень»</a:t>
            </a:r>
            <a:br>
              <a:rPr sz="4400"/>
            </a:b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(музыка  и слова И. М. Курдаковой)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0" name="Picture 4" descr="TCARVFAPVCAL0H0OKCAS4SVGLCAXVDLJPCAR38O6ACABRGWSHCAZQLY3KCAE"/>
          <p:cNvPicPr/>
          <p:nvPr/>
        </p:nvPicPr>
        <p:blipFill>
          <a:blip r:embed="rId1"/>
          <a:stretch/>
        </p:blipFill>
        <p:spPr>
          <a:xfrm>
            <a:off x="2340000" y="2852640"/>
            <a:ext cx="43927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Февраль – «Масленица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леница – это веселый, яркий, шумный праздник. Всюду слышны песни, пляски, смех… Народ провожает зиму. Во время масленицы пекли румяные масленые блины. Ступай, масленица, за солнцем, за лет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11" descr="is?ApFyCisKJ0qvV1j9UGKECCm70nL3-ifb5HkGpTpZNF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1413000"/>
            <a:ext cx="2952720" cy="244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is?qvLiTeFhdl32UStRMSjQx31NVipEKT947tW0KfJZHf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4292640"/>
            <a:ext cx="2735280" cy="1873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WCAIKBA37CAQUITJECAMD9SOLCAD5GGLZCA7DT6V5CAYC3Q7XCAP0SBVSCAF"/>
          <p:cNvPicPr/>
          <p:nvPr/>
        </p:nvPicPr>
        <p:blipFill>
          <a:blip r:embed="rId5"/>
          <a:stretch/>
        </p:blipFill>
        <p:spPr>
          <a:xfrm>
            <a:off x="5076720" y="4292640"/>
            <a:ext cx="3240360" cy="208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оро масленица бой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ипит широкий пи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. Вяземский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7" descr="1CA9J2FZGCABO0ID7CA9PBN9HCA9I4KDFCAISR9XRCASKXMSACAJDFQYQCAO"/>
          <p:cNvPicPr/>
          <p:nvPr/>
        </p:nvPicPr>
        <p:blipFill>
          <a:blip r:embed="rId1"/>
          <a:stretch/>
        </p:blipFill>
        <p:spPr>
          <a:xfrm>
            <a:off x="5292720" y="2421000"/>
            <a:ext cx="2664000" cy="266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звучит прослушанное произвед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думаете, может ли музыка передать настро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ли настроение соответствовать времени год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Масленица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0" name="Picture 7" descr="OCAF7Y63GCAQ12HOYCAVRKOAYCABZKLM0CA0ZDUN2CAUZNR8RCA9M27W6CAN"/>
          <p:cNvPicPr/>
          <p:nvPr/>
        </p:nvPicPr>
        <p:blipFill>
          <a:blip r:embed="rId1"/>
          <a:stretch/>
        </p:blipFill>
        <p:spPr>
          <a:xfrm>
            <a:off x="395280" y="1989000"/>
            <a:ext cx="3600360" cy="2952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is?sNHa9zGAB0y19nnM0jyP8LwaYO1okfxWl-nuJ1cJR-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3141720"/>
            <a:ext cx="3816360" cy="3025800"/>
          </a:xfrm>
          <a:prstGeom prst="rect">
            <a:avLst/>
          </a:prstGeom>
          <a:ln w="0">
            <a:noFill/>
          </a:ln>
        </p:spPr>
      </p:pic>
      <p:pic>
        <p:nvPicPr>
          <p:cNvPr id="152" name="Track No02.mp3" descr=""/>
          <p:cNvPicPr/>
          <p:nvPr/>
        </p:nvPicPr>
        <p:blipFill>
          <a:blip r:embed="rId4"/>
          <a:stretch/>
        </p:blipFill>
        <p:spPr>
          <a:xfrm>
            <a:off x="845964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8" presetSubtype="1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evt="end">
                                        <p:tn val="218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1" nodeType="withEffect" fill="hold" presetClass="entr" presetID="8" presetSubtype="16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прозвучало прослушанное произвед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думаете, может ли музыка передать настро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ли настроение соответствовать времени год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ркестр шумовых инструментов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5" name="Picture 4" descr="maslenica"/>
          <p:cNvPicPr/>
          <p:nvPr/>
        </p:nvPicPr>
        <p:blipFill>
          <a:blip r:embed="rId1"/>
          <a:stretch/>
        </p:blipFill>
        <p:spPr>
          <a:xfrm>
            <a:off x="971640" y="1989000"/>
            <a:ext cx="741672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есня «Эх, зима!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7" name="Picture 4" descr="TCAN14DVYCA5CZRDDCAZXVVVECALATCESCA2P654DCABCR154CA2UTWO3CA1"/>
          <p:cNvPicPr/>
          <p:nvPr/>
        </p:nvPicPr>
        <p:blipFill>
          <a:blip r:embed="rId1"/>
          <a:stretch/>
        </p:blipFill>
        <p:spPr>
          <a:xfrm>
            <a:off x="2340000" y="2205000"/>
            <a:ext cx="453708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Апрель – «Подснежник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шумели февральские вьюги, отзвенели первые весенние капели. Все ярче и теплее греет солнце. В лесу появились первые цветы. Первый цветок весны, маленький голубой подснежник. О нем и рассказывает нам музыка «Апреля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7" descr="BCA23QH1CCASI1DTFCAK68RIACA3F4VF9CA3K1SJKCAWKZDW3CAKGQRVQCA9"/>
          <p:cNvPicPr/>
          <p:nvPr/>
        </p:nvPicPr>
        <p:blipFill>
          <a:blip r:embed="rId1"/>
          <a:stretch/>
        </p:blipFill>
        <p:spPr>
          <a:xfrm>
            <a:off x="5435640" y="3213000"/>
            <a:ext cx="2736720" cy="22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хо, тихо сядем рядом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ходит музыка в наш д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удивительном наряд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ноцветном, расписн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раздвинутся вдруг стены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я земля видна вокруг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ещут волны речки пенно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утко дремлют лес и лу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даль бегут степные тропк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ют в дымке голубой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-  музыка тороп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ведет нас за собой. (К. Ибряев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Track No03.mp3" descr=""/>
          <p:cNvPicPr/>
          <p:nvPr/>
        </p:nvPicPr>
        <p:blipFill>
          <a:blip r:embed="rId1"/>
          <a:stretch/>
        </p:blipFill>
        <p:spPr>
          <a:xfrm>
            <a:off x="853272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evt="end">
                                        <p:tn val="10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" nodeType="withEffect" fill="hold" presetClass="entr" presetID="29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403848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лубенький, чист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снежник – цвет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подле сквозист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дний снеж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дние слез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 горе был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первые грез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 счастье ином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А. Майко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7" descr="RCAIB5PUMCAA5R2EHCAOHIZ40CA945541CAI8QTN3CASCCK7ZCAM9A39ICAV"/>
          <p:cNvPicPr/>
          <p:nvPr/>
        </p:nvPicPr>
        <p:blipFill>
          <a:blip r:embed="rId1"/>
          <a:stretch/>
        </p:blipFill>
        <p:spPr>
          <a:xfrm>
            <a:off x="5292720" y="2133720"/>
            <a:ext cx="2374920" cy="28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звучит прослушанное произвед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думаете, может ли музыка передать настро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ли настроение соответствовать времени год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«Подснежник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5" name="Picture 4" descr="RCAW7BBC7CANMBVJCCADQUEX3CA80FBSBCAC6H9TKCA0W6N3SCA7NWBGUCA1"/>
          <p:cNvPicPr/>
          <p:nvPr/>
        </p:nvPicPr>
        <p:blipFill>
          <a:blip r:embed="rId1"/>
          <a:stretch/>
        </p:blipFill>
        <p:spPr>
          <a:xfrm>
            <a:off x="539640" y="2533680"/>
            <a:ext cx="3816360" cy="2560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UCA4QEAROCAMNXV6XCAB3B4XJCATNM9ZGCAV8VSMBCA248B28CA6GWP95CA8"/>
          <p:cNvPicPr/>
          <p:nvPr/>
        </p:nvPicPr>
        <p:blipFill>
          <a:blip r:embed="rId2"/>
          <a:stretch/>
        </p:blipFill>
        <p:spPr>
          <a:xfrm>
            <a:off x="5219640" y="2492280"/>
            <a:ext cx="3600360" cy="2665440"/>
          </a:xfrm>
          <a:prstGeom prst="rect">
            <a:avLst/>
          </a:prstGeom>
          <a:ln w="0">
            <a:noFill/>
          </a:ln>
        </p:spPr>
      </p:pic>
      <p:pic>
        <p:nvPicPr>
          <p:cNvPr id="167" name="Track No04.mp3" descr=""/>
          <p:cNvPicPr/>
          <p:nvPr/>
        </p:nvPicPr>
        <p:blipFill>
          <a:blip r:embed="rId3"/>
          <a:stretch/>
        </p:blipFill>
        <p:spPr>
          <a:xfrm>
            <a:off x="831708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8" presetSubtype="16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65" dur="1" fill="hold">
                                    <p:stCondLst>
                                      <p:cond evt="end">
                                        <p:tn val="263"/>
                                      </p:cond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66" nodeType="withEffect" fill="hold" presetClass="entr" presetID="8" presetSubtype="16">
                                  <p:stCondLst>
                                    <p:cond delay="138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звучит прослушанное произвед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думаете, может ли музыка передать настро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ли настроение соответствовать времени год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есня «Весна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0" name="Picture 4" descr="LCAW06WD8CAP7GKACCAXIVEAACAI7JKU7CA1Q43N5CA5CEXXKCAS2UJLBCAI"/>
          <p:cNvPicPr/>
          <p:nvPr/>
        </p:nvPicPr>
        <p:blipFill>
          <a:blip r:embed="rId1"/>
          <a:stretch/>
        </p:blipFill>
        <p:spPr>
          <a:xfrm>
            <a:off x="2843280" y="2276640"/>
            <a:ext cx="3313080" cy="25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Итог урока.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каким композитором вы сегодня познакомилис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Какими произведениями этого композитора мы знакомилис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Пётр Ильич Чайковский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4" name="Picture 7" descr="ch-84"/>
          <p:cNvPicPr/>
          <p:nvPr/>
        </p:nvPicPr>
        <p:blipFill>
          <a:blip r:embed="rId1"/>
          <a:stretch/>
        </p:blipFill>
        <p:spPr>
          <a:xfrm>
            <a:off x="3059280" y="2236680"/>
            <a:ext cx="2881080" cy="364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нварь – «У камель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евраль – «Маслениц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рт – «Песня жаворон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рель – «Подснежник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й – «Белые ноч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юнь – «Баркаролл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юль – «Песня косар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вгуст – «Жатв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Музыкальный альбом «Времена года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нтябрь – «Охот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тябрь – «Осенняя песн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ябрь – «На тройке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кабрь – «Святк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9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9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9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9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9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9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Октябрь – «Осенняя песнь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тябрь. Осень в России всегда была порой, которую воспевали многие писатели, поэты, художники и музыкант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ECAURSSGSCA9T681ECAD4WWUACAJ1U6Y2CAVMZZZ5CAFGHP4ACAF76OTTCAN"/>
          <p:cNvPicPr/>
          <p:nvPr/>
        </p:nvPicPr>
        <p:blipFill>
          <a:blip r:embed="rId1"/>
          <a:stretch/>
        </p:blipFill>
        <p:spPr>
          <a:xfrm>
            <a:off x="5292720" y="2133720"/>
            <a:ext cx="2592360" cy="266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ень, осыпается весь наш бедный сад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стья пожелтелые по ветру летят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А. Толстой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15" descr="i"/>
          <p:cNvPicPr/>
          <p:nvPr/>
        </p:nvPicPr>
        <p:blipFill>
          <a:blip r:embed="rId1"/>
          <a:stretch/>
        </p:blipFill>
        <p:spPr>
          <a:xfrm>
            <a:off x="5364000" y="1844640"/>
            <a:ext cx="2808360" cy="338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звучит прослушанное произвед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думаете, может ли музыка передать настро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ли настроение соответствовать времени год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«Осенняя песнь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5" name="Picture 8" descr="0CAHM11K2CA3R2AYUCAZWG6A9CADVCW04CAJEFRUYCAI35R5BCA8V2XS3CAX"/>
          <p:cNvPicPr/>
          <p:nvPr/>
        </p:nvPicPr>
        <p:blipFill>
          <a:blip r:embed="rId1"/>
          <a:stretch/>
        </p:blipFill>
        <p:spPr>
          <a:xfrm>
            <a:off x="826920" y="1916280"/>
            <a:ext cx="2737080" cy="2449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UCAUF5UCECAR1DL2FCA2HJQPACAREY0Z5CARQFQ2TCABYO5SSCA638909CAB"/>
          <p:cNvPicPr/>
          <p:nvPr/>
        </p:nvPicPr>
        <p:blipFill>
          <a:blip r:embed="rId2"/>
          <a:stretch/>
        </p:blipFill>
        <p:spPr>
          <a:xfrm>
            <a:off x="5003640" y="2924280"/>
            <a:ext cx="3168720" cy="2592360"/>
          </a:xfrm>
          <a:prstGeom prst="rect">
            <a:avLst/>
          </a:prstGeom>
          <a:ln w="0">
            <a:noFill/>
          </a:ln>
        </p:spPr>
      </p:pic>
      <p:pic>
        <p:nvPicPr>
          <p:cNvPr id="137" name="Track No10.mp3" descr=""/>
          <p:cNvPicPr/>
          <p:nvPr/>
        </p:nvPicPr>
        <p:blipFill>
          <a:blip r:embed="rId3"/>
          <a:stretch/>
        </p:blipFill>
        <p:spPr>
          <a:xfrm>
            <a:off x="845964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evt="end">
                                        <p:tn val="176"/>
                                      </p:cond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9" nodeType="withEffect" fill="hold" presetClass="entr" presetID="8" presetSubtype="16">
                                  <p:stCondLst>
                                    <p:cond delay="178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0T19:26:06Z</dcterms:modified>
  <cp:revision>9</cp:revision>
  <dc:subject/>
  <dc:title>PowerPoint Presentation</dc:title>
</cp:coreProperties>
</file>