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88F-2CD7-4595-8A98-F96236ED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0D3-ED3E-4DB1-9C13-F91D6236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489-D9CC-41EC-85B4-052DCAEC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D4C-DBD6-41D6-B4F6-CC5A0AC5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BA21-9A74-406C-805E-132CFBF6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5DD8-3D05-4395-BDED-D4E00D92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E494-BF4C-438B-A2D7-EA247D2E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1836-7BCF-4651-BD3A-1112E0B4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0626-A178-47BD-A41F-80AF15F0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980C-2EAE-4B44-8486-076A3F88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54F6-0BED-4D57-9E2C-3D34223B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AA6C-5E48-40E1-A50B-45B5EA76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2D6B-A973-4B47-84CB-4603E7A6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9E0C-0671-417E-99B5-2C25218A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7C57-3D2D-4954-A846-2EA1D7C4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D558-A596-43B7-97E5-BBEA41D3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8191-56DE-452C-9D7F-734ABBD6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D10-84F3-4887-BDB9-43A4F5F4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B06-1B0D-472B-8E20-01CE77DF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C82-D0D8-4905-82E6-6868B6D1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2E1-11A3-466D-8F3E-58EB3680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5BB-C0A4-4ED7-B484-0B7BA58F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97D-27F4-4C3B-806A-9FFBF0F2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041-A483-445F-9ACD-9DAC3BF5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4C82-81FE-46BA-8744-2B40055A85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956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CAE1-676B-4F7B-9DBE-421B1FF772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onsyst.ru/ilia/esta/esta.htm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news2.webdigest.ru/content/315510.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bel.ru/news/region/2005/03/09/13797.html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Времена года в музыке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прозвучало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Песня «Осень»</a:t>
            </a:r>
            <a:br>
              <a:rPr sz="4400"/>
            </a:b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(музыка  и слова И. М. Курдаковой)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0" name="Picture 4" descr="TCARVFAPVCAL0H0OKCAS4SVGLCAXVDLJPCAR38O6ACABRGWSHCAZQLY3KCAE"/>
          <p:cNvPicPr/>
          <p:nvPr/>
        </p:nvPicPr>
        <p:blipFill>
          <a:blip r:embed="rId1"/>
          <a:stretch/>
        </p:blipFill>
        <p:spPr>
          <a:xfrm>
            <a:off x="2340000" y="2852640"/>
            <a:ext cx="43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евраль – «Маслениц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леница – это веселый, яркий, шумный праздник. Всюду слышны песни, пляски, смех… Народ провожает зиму. Во время масленицы пекли румяные масленые блины. Ступай, масленица, за солнцем, за лет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1" descr="is?ApFyCisKJ0qvV1j9UGKECCm70nL3-ifb5HkGpTpZNF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413000"/>
            <a:ext cx="2952720" cy="244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is?qvLiTeFhdl32UStRMSjQx31NVipEKT947tW0KfJZHf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292640"/>
            <a:ext cx="2735280" cy="187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WCAIKBA37CAQUITJECAMD9SOLCAD5GGLZCA7DT6V5CAYC3Q7XCAP0SBVSCAF"/>
          <p:cNvPicPr/>
          <p:nvPr/>
        </p:nvPicPr>
        <p:blipFill>
          <a:blip r:embed="rId5"/>
          <a:stretch/>
        </p:blipFill>
        <p:spPr>
          <a:xfrm>
            <a:off x="5076720" y="4292640"/>
            <a:ext cx="3240360" cy="208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ро масленица бой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ипит широкий пи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. Вяземски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7" descr="1CA9J2FZGCABO0ID7CA9PBN9HCA9I4KDFCAISR9XRCASKXMSACAJDFQYQCAO"/>
          <p:cNvPicPr/>
          <p:nvPr/>
        </p:nvPicPr>
        <p:blipFill>
          <a:blip r:embed="rId1"/>
          <a:stretch/>
        </p:blipFill>
        <p:spPr>
          <a:xfrm>
            <a:off x="5292720" y="242100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Маслениц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0" name="Picture 7" descr="OCAF7Y63GCAQ12HOYCAVRKOAYCABZKLM0CA0ZDUN2CAUZNR8RCA9M27W6CAN"/>
          <p:cNvPicPr/>
          <p:nvPr/>
        </p:nvPicPr>
        <p:blipFill>
          <a:blip r:embed="rId1"/>
          <a:stretch/>
        </p:blipFill>
        <p:spPr>
          <a:xfrm>
            <a:off x="395280" y="1989000"/>
            <a:ext cx="3600360" cy="29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is?sNHa9zGAB0y19nnM0jyP8LwaYO1okfxWl-nuJ1cJR-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3141720"/>
            <a:ext cx="3816360" cy="3025800"/>
          </a:xfrm>
          <a:prstGeom prst="rect">
            <a:avLst/>
          </a:prstGeom>
          <a:ln w="0">
            <a:noFill/>
          </a:ln>
        </p:spPr>
      </p:pic>
      <p:pic>
        <p:nvPicPr>
          <p:cNvPr id="152" name="Track No02.mp3" descr=""/>
          <p:cNvPicPr/>
          <p:nvPr/>
        </p:nvPicPr>
        <p:blipFill>
          <a:blip r:embed="rId4"/>
          <a:stretch/>
        </p:blipFill>
        <p:spPr>
          <a:xfrm>
            <a:off x="845964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1" nodeType="withEffect" fill="hold" presetClass="entr" presetID="8" presetSubtype="16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прозвучало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ркестр шумовых инструментов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5" name="Picture 4" descr="maslenica"/>
          <p:cNvPicPr/>
          <p:nvPr/>
        </p:nvPicPr>
        <p:blipFill>
          <a:blip r:embed="rId1"/>
          <a:stretch/>
        </p:blipFill>
        <p:spPr>
          <a:xfrm>
            <a:off x="971640" y="1989000"/>
            <a:ext cx="741672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есня «Эх, зима!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Picture 4" descr="TCAN14DVYCA5CZRDDCAZXVVVECALATCESCA2P654DCABCR154CA2UTWO3CA1"/>
          <p:cNvPicPr/>
          <p:nvPr/>
        </p:nvPicPr>
        <p:blipFill>
          <a:blip r:embed="rId1"/>
          <a:stretch/>
        </p:blipFill>
        <p:spPr>
          <a:xfrm>
            <a:off x="2340000" y="2205000"/>
            <a:ext cx="453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прель – «Подснежник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шумели февральские вьюги, отзвенели первые весенние капели. Все ярче и теплее греет солнце. В лесу появились первые цветы. Первый цветок весны, маленький голубой подснежник. О нем и рассказывает нам музыка «Апреля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7" descr="BCA23QH1CCASI1DTFCAK68RIACA3F4VF9CA3K1SJKCAWKZDW3CAKGQRVQCA9"/>
          <p:cNvPicPr/>
          <p:nvPr/>
        </p:nvPicPr>
        <p:blipFill>
          <a:blip r:embed="rId1"/>
          <a:stretch/>
        </p:blipFill>
        <p:spPr>
          <a:xfrm>
            <a:off x="5435640" y="3213000"/>
            <a:ext cx="273672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хо, тихо сядем рядом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ходит музыка в наш д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удивительном наряд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ноцветном, расписн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раздвинутся вдруг стены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я земля видна вокруг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ещут волны речки пенно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утко дремлют лес и лу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даль бегут степные тропк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ют в дымке голубой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-  музыка тороп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ведет нас за собой. (К. Ибряев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Track No03.mp3" descr=""/>
          <p:cNvPicPr/>
          <p:nvPr/>
        </p:nvPicPr>
        <p:blipFill>
          <a:blip r:embed="rId1"/>
          <a:stretch/>
        </p:blipFill>
        <p:spPr>
          <a:xfrm>
            <a:off x="853272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evt="end">
                                        <p:tn val="10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3" nodeType="withEffect" fill="hold" presetClass="entr" presetID="2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40384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убенький, чист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нежник – цвет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подле сквозист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дний снеж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дние слез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горе был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первые грез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счастье ином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А. Майк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7" descr="RCAIB5PUMCAA5R2EHCAOHIZ40CA945541CAI8QTN3CASCCK7ZCAM9A39ICAV"/>
          <p:cNvPicPr/>
          <p:nvPr/>
        </p:nvPicPr>
        <p:blipFill>
          <a:blip r:embed="rId1"/>
          <a:stretch/>
        </p:blipFill>
        <p:spPr>
          <a:xfrm>
            <a:off x="5292720" y="2133720"/>
            <a:ext cx="2374920" cy="28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«Подснежник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5" name="Picture 4" descr="RCAW7BBC7CANMBVJCCADQUEX3CA80FBSBCAC6H9TKCA0W6N3SCA7NWBGUCA1"/>
          <p:cNvPicPr/>
          <p:nvPr/>
        </p:nvPicPr>
        <p:blipFill>
          <a:blip r:embed="rId1"/>
          <a:stretch/>
        </p:blipFill>
        <p:spPr>
          <a:xfrm>
            <a:off x="539640" y="2533680"/>
            <a:ext cx="3816360" cy="2560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UCA4QEAROCAMNXV6XCAB3B4XJCATNM9ZGCAV8VSMBCA248B28CA6GWP95CA8"/>
          <p:cNvPicPr/>
          <p:nvPr/>
        </p:nvPicPr>
        <p:blipFill>
          <a:blip r:embed="rId2"/>
          <a:stretch/>
        </p:blipFill>
        <p:spPr>
          <a:xfrm>
            <a:off x="5219640" y="2492280"/>
            <a:ext cx="3600360" cy="2665440"/>
          </a:xfrm>
          <a:prstGeom prst="rect">
            <a:avLst/>
          </a:prstGeom>
          <a:ln w="0">
            <a:noFill/>
          </a:ln>
        </p:spPr>
      </p:pic>
      <p:pic>
        <p:nvPicPr>
          <p:cNvPr id="167" name="Track No04.mp3" descr=""/>
          <p:cNvPicPr/>
          <p:nvPr/>
        </p:nvPicPr>
        <p:blipFill>
          <a:blip r:embed="rId3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evt="end">
                                        <p:tn val="263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66" nodeType="withEffect" fill="hold" presetClass="entr" presetID="8" presetSubtype="16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есня «Весн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0" name="Picture 4" descr="LCAW06WD8CAP7GKACCAXIVEAACAI7JKU7CA1Q43N5CA5CEXXKCAS2UJLBCAI"/>
          <p:cNvPicPr/>
          <p:nvPr/>
        </p:nvPicPr>
        <p:blipFill>
          <a:blip r:embed="rId1"/>
          <a:stretch/>
        </p:blipFill>
        <p:spPr>
          <a:xfrm>
            <a:off x="2843280" y="22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каким композитором вы сегодня познакомили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Какими произведениями этого композитора мы знакомили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Пётр Ильич Чайковский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Picture 7" descr="ch-84"/>
          <p:cNvPicPr/>
          <p:nvPr/>
        </p:nvPicPr>
        <p:blipFill>
          <a:blip r:embed="rId1"/>
          <a:stretch/>
        </p:blipFill>
        <p:spPr>
          <a:xfrm>
            <a:off x="3059280" y="2236680"/>
            <a:ext cx="2881080" cy="36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нварь – «У камель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враль – «Маслениц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рт – «Песня жаворон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рель – «Подснежник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й – «Белые ноч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юнь – «Баркаролл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юль – «Песня косар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вгуст – «Жатв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Музыкальный альбом «Времена года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нтябрь – «Охот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тябрь – «Осенняя песн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ябрь – «На тройке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кабрь – «Свят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9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9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Октябрь – «Осенняя песнь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тябрь. Осень в России всегда была порой, которую воспевали многие писатели, поэты, художники и музыкант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CAURSSGSCA9T681ECAD4WWUACAJ1U6Y2CAVMZZZ5CAFGHP4ACAF76OTTCAN"/>
          <p:cNvPicPr/>
          <p:nvPr/>
        </p:nvPicPr>
        <p:blipFill>
          <a:blip r:embed="rId1"/>
          <a:stretch/>
        </p:blipFill>
        <p:spPr>
          <a:xfrm>
            <a:off x="5292720" y="2133720"/>
            <a:ext cx="2592360" cy="26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ень, осыпается весь наш бедный са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стья пожелтелые по ветру летят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А. Толсто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15" descr="i"/>
          <p:cNvPicPr/>
          <p:nvPr/>
        </p:nvPicPr>
        <p:blipFill>
          <a:blip r:embed="rId1"/>
          <a:stretch/>
        </p:blipFill>
        <p:spPr>
          <a:xfrm>
            <a:off x="5364000" y="1844640"/>
            <a:ext cx="2808360" cy="338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учит прослушанное произвед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может ли музыка передать настро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ли настроение соответствовать времени год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«Осенняя песнь»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Picture 8" descr="0CAHM11K2CA3R2AYUCAZWG6A9CADVCW04CAJEFRUYCAI35R5BCA8V2XS3CAX"/>
          <p:cNvPicPr/>
          <p:nvPr/>
        </p:nvPicPr>
        <p:blipFill>
          <a:blip r:embed="rId1"/>
          <a:stretch/>
        </p:blipFill>
        <p:spPr>
          <a:xfrm>
            <a:off x="826920" y="1916280"/>
            <a:ext cx="2737080" cy="2449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UCAUF5UCECAR1DL2FCA2HJQPACAREY0Z5CARQFQ2TCABYO5SSCA638909CAB"/>
          <p:cNvPicPr/>
          <p:nvPr/>
        </p:nvPicPr>
        <p:blipFill>
          <a:blip r:embed="rId2"/>
          <a:stretch/>
        </p:blipFill>
        <p:spPr>
          <a:xfrm>
            <a:off x="5003640" y="292428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137" name="Track No10.mp3" descr=""/>
          <p:cNvPicPr/>
          <p:nvPr/>
        </p:nvPicPr>
        <p:blipFill>
          <a:blip r:embed="rId3"/>
          <a:stretch/>
        </p:blipFill>
        <p:spPr>
          <a:xfrm>
            <a:off x="8459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6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9" nodeType="withEffect" fill="hold" presetClass="entr" presetID="8" presetSubtype="16">
                                  <p:stCondLst>
                                    <p:cond delay="178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26:06Z</dcterms:modified>
  <cp:revision>9</cp:revision>
  <dc:subject/>
  <dc:title>PowerPoint Presentation</dc:title>
</cp:coreProperties>
</file>