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CF91-363D-4C76-981D-650CAC91B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0570-5113-495D-B546-6B1A7BFB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739F-969E-441A-8504-192C7A6B3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0E65-DA4B-4C9B-9E65-E42CD836C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6472-5933-4366-9849-40D70909A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B52B-44C3-490C-9939-DDD370D7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BC112-1D8A-4326-8479-F997C3E8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A024-F9CF-4A0F-81EE-07F39BBA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02D3-DCB3-4B3D-9715-A0660A69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B925-602F-4FAB-9225-27AC6FE4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F913-8B33-41F1-A4EE-70E72725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68B8-BF06-43CC-916F-67CC14D5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2041-B84C-44E9-BCB6-653D4F3B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E409-B3AD-4AAB-9C42-236905EF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A70A-5B52-4460-9E02-E485E43E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66CA-0757-4A3C-93EE-6521FBCC1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741CE-8A60-40B3-B67A-0B8487DE5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1CA4-F8D6-49D3-8B29-BF61AADF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E361-B858-4828-8D91-509A2253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1089-9679-44BE-B756-6D7BD5A6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F68B-3C2D-495E-8BCF-310E63A0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BB16-E5CA-4D75-8DBD-43C6D42F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3499-5931-4ADA-911F-CFEC93E4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28AF-D9EF-41D5-912A-E8E46EE2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50000">
                  <a:srgbClr val="006666"/>
                </a:gs>
                <a:gs pos="100000">
                  <a:srgbClr val="00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2f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2f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3956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50000">
                  <a:srgbClr val="006666"/>
                </a:gs>
                <a:gs pos="100000">
                  <a:srgbClr val="00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D5E3-A474-4B91-B769-F1D280D34E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50000">
                  <a:srgbClr val="006666"/>
                </a:gs>
                <a:gs pos="100000">
                  <a:srgbClr val="00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2f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2f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3956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50000">
                  <a:srgbClr val="006666"/>
                </a:gs>
                <a:gs pos="100000">
                  <a:srgbClr val="00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CECD9-1F70-4CE4-9819-90B9019B166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onsyst.ru/ilia/esta/esta.htm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news2.webdigest.ru/content/315510.html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bel.ru/news/region/2005/03/09/13797.html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412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Времена года в музыке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 прозвучало произведени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 вы думаете, может ли музыка передать настроени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жет ли настроение соответствовать времени года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dd1"/>
                </a:solidFill>
                <a:latin typeface="Times New Roman"/>
              </a:rPr>
              <a:t>Песня «Осень»</a:t>
            </a:r>
            <a:br>
              <a:rPr sz="4400"/>
            </a:br>
            <a:r>
              <a:rPr b="1" lang="ru-RU" sz="4400" spc="-1" strike="noStrike">
                <a:solidFill>
                  <a:srgbClr val="fffdd1"/>
                </a:solidFill>
                <a:latin typeface="Times New Roman"/>
              </a:rPr>
              <a:t>(музыка  и слова И. М. Курдаковой)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40" name="Picture 4" descr="TCARVFAPVCAL0H0OKCAS4SVGLCAXVDLJPCAR38O6ACABRGWSHCAZQLY3KCAE"/>
          <p:cNvPicPr/>
          <p:nvPr/>
        </p:nvPicPr>
        <p:blipFill>
          <a:blip r:embed="rId1"/>
          <a:stretch/>
        </p:blipFill>
        <p:spPr>
          <a:xfrm>
            <a:off x="2340000" y="2852640"/>
            <a:ext cx="439272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Февраль – «Масленица»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сленица – это веселый, яркий, шумный праздник. Всюду слышны песни, пляски, смех… Народ провожает зиму. Во время масленицы пекли румяные масленые блины. Ступай, масленица, за солнцем, за лет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11" descr="is?ApFyCisKJ0qvV1j9UGKECCm70nL3-ifb5HkGpTpZNF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1413000"/>
            <a:ext cx="2952720" cy="2447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7" descr="is?qvLiTeFhdl32UStRMSjQx31NVipEKT947tW0KfJZHf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92720" y="4292640"/>
            <a:ext cx="2735280" cy="1873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" descr="WCAIKBA37CAQUITJECAMD9SOLCAD5GGLZCA7DT6V5CAYC3Q7XCAP0SBVSCAF"/>
          <p:cNvPicPr/>
          <p:nvPr/>
        </p:nvPicPr>
        <p:blipFill>
          <a:blip r:embed="rId5"/>
          <a:stretch/>
        </p:blipFill>
        <p:spPr>
          <a:xfrm>
            <a:off x="5076720" y="4292640"/>
            <a:ext cx="3240360" cy="208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коро масленица бойк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кипит широкий пи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П. Вяземский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7" descr="1CA9J2FZGCABO0ID7CA9PBN9HCA9I4KDFCAISR9XRCASKXMSACAJDFQYQCAO"/>
          <p:cNvPicPr/>
          <p:nvPr/>
        </p:nvPicPr>
        <p:blipFill>
          <a:blip r:embed="rId1"/>
          <a:stretch/>
        </p:blipFill>
        <p:spPr>
          <a:xfrm>
            <a:off x="5292720" y="2421000"/>
            <a:ext cx="2664000" cy="266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 звучит прослушанное произведени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 вы думаете, может ли музыка передать настроени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жет ли настроение соответствовать времени года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«Масленица»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50" name="Picture 7" descr="OCAF7Y63GCAQ12HOYCAVRKOAYCABZKLM0CA0ZDUN2CAUZNR8RCA9M27W6CAN"/>
          <p:cNvPicPr/>
          <p:nvPr/>
        </p:nvPicPr>
        <p:blipFill>
          <a:blip r:embed="rId1"/>
          <a:stretch/>
        </p:blipFill>
        <p:spPr>
          <a:xfrm>
            <a:off x="395280" y="1989000"/>
            <a:ext cx="3600360" cy="2952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5" descr="is?sNHa9zGAB0y19nnM0jyP8LwaYO1okfxWl-nuJ1cJR-c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16360" y="3141720"/>
            <a:ext cx="3816360" cy="3025800"/>
          </a:xfrm>
          <a:prstGeom prst="rect">
            <a:avLst/>
          </a:prstGeom>
          <a:ln w="0">
            <a:noFill/>
          </a:ln>
        </p:spPr>
      </p:pic>
      <p:pic>
        <p:nvPicPr>
          <p:cNvPr id="152" name="Track No02.mp3" descr=""/>
          <p:cNvPicPr/>
          <p:nvPr/>
        </p:nvPicPr>
        <p:blipFill>
          <a:blip r:embed="rId4"/>
          <a:stretch/>
        </p:blipFill>
        <p:spPr>
          <a:xfrm>
            <a:off x="8459640" y="54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8" presetSubtype="16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9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220" dur="1" fill="hold">
                                    <p:stCondLst>
                                      <p:cond evt="end">
                                        <p:tn val="218"/>
                                      </p:cond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21" nodeType="withEffect" fill="hold" presetClass="entr" presetID="8" presetSubtype="16">
                                  <p:stCondLst>
                                    <p:cond delay="126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 прозвучало прослушанное произведени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 вы думаете, может ли музыка передать настроени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жет ли настроение соответствовать времени года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Оркестр шумовых инструментов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55" name="Picture 4" descr="maslenica"/>
          <p:cNvPicPr/>
          <p:nvPr/>
        </p:nvPicPr>
        <p:blipFill>
          <a:blip r:embed="rId1"/>
          <a:stretch/>
        </p:blipFill>
        <p:spPr>
          <a:xfrm>
            <a:off x="971640" y="1989000"/>
            <a:ext cx="7416720" cy="41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Песня «Эх, зима!»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57" name="Picture 4" descr="TCAN14DVYCA5CZRDDCAZXVVVECALATCESCA2P654DCABCR154CA2UTWO3CA1"/>
          <p:cNvPicPr/>
          <p:nvPr/>
        </p:nvPicPr>
        <p:blipFill>
          <a:blip r:embed="rId1"/>
          <a:stretch/>
        </p:blipFill>
        <p:spPr>
          <a:xfrm>
            <a:off x="2340000" y="2205000"/>
            <a:ext cx="4537080" cy="388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Апрель – «Подснежник»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шумели февральские вьюги, отзвенели первые весенние капели. Все ярче и теплее греет солнце. В лесу появились первые цветы. Первый цветок весны, маленький голубой подснежник. О нем и рассказывает нам музыка «Апреля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7" descr="BCA23QH1CCASI1DTFCAK68RIACA3F4VF9CA3K1SJKCAWKZDW3CAKGQRVQCA9"/>
          <p:cNvPicPr/>
          <p:nvPr/>
        </p:nvPicPr>
        <p:blipFill>
          <a:blip r:embed="rId1"/>
          <a:stretch/>
        </p:blipFill>
        <p:spPr>
          <a:xfrm>
            <a:off x="5435640" y="3213000"/>
            <a:ext cx="2736720" cy="223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ихо, тихо сядем рядом –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ходит музыка в наш до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удивительном наряде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ноцветном, расписно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раздвинутся вдруг стены –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ся земля видна вокруг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лещут волны речки пенной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утко дремлют лес и лу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даль бегут степные тропки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ают в дымке голубой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то -  музыка торопи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ведет нас за собой. (К. Ибряева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Track No03.mp3" descr=""/>
          <p:cNvPicPr/>
          <p:nvPr/>
        </p:nvPicPr>
        <p:blipFill>
          <a:blip r:embed="rId1"/>
          <a:stretch/>
        </p:blipFill>
        <p:spPr>
          <a:xfrm>
            <a:off x="8532720" y="26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12" dur="1" fill="hold">
                                    <p:stCondLst>
                                      <p:cond evt="end">
                                        <p:tn val="10"/>
                                      </p:cond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3" nodeType="withEffect" fill="hold" presetClass="entr" presetID="29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9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9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9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9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9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9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9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9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9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403848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олубенький, чист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снежник – цвето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 подле сквозист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ледний снежо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ледние слез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 горе было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первые грез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 счастье ином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А. Майков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7" descr="RCAIB5PUMCAA5R2EHCAOHIZ40CA945541CAI8QTN3CASCCK7ZCAM9A39ICAV"/>
          <p:cNvPicPr/>
          <p:nvPr/>
        </p:nvPicPr>
        <p:blipFill>
          <a:blip r:embed="rId1"/>
          <a:stretch/>
        </p:blipFill>
        <p:spPr>
          <a:xfrm>
            <a:off x="5292720" y="2133720"/>
            <a:ext cx="2374920" cy="287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 звучит прослушанное произведени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 вы думаете, может ли музыка передать настроени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жет ли настроение соответствовать времени года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«Подснежник»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65" name="Picture 4" descr="RCAW7BBC7CANMBVJCCADQUEX3CA80FBSBCAC6H9TKCA0W6N3SCA7NWBGUCA1"/>
          <p:cNvPicPr/>
          <p:nvPr/>
        </p:nvPicPr>
        <p:blipFill>
          <a:blip r:embed="rId1"/>
          <a:stretch/>
        </p:blipFill>
        <p:spPr>
          <a:xfrm>
            <a:off x="539640" y="2533680"/>
            <a:ext cx="3816360" cy="2560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UCA4QEAROCAMNXV6XCAB3B4XJCATNM9ZGCAV8VSMBCA248B28CA6GWP95CA8"/>
          <p:cNvPicPr/>
          <p:nvPr/>
        </p:nvPicPr>
        <p:blipFill>
          <a:blip r:embed="rId2"/>
          <a:stretch/>
        </p:blipFill>
        <p:spPr>
          <a:xfrm>
            <a:off x="5219640" y="2492280"/>
            <a:ext cx="3600360" cy="2665440"/>
          </a:xfrm>
          <a:prstGeom prst="rect">
            <a:avLst/>
          </a:prstGeom>
          <a:ln w="0">
            <a:noFill/>
          </a:ln>
        </p:spPr>
      </p:pic>
      <p:pic>
        <p:nvPicPr>
          <p:cNvPr id="167" name="Track No04.mp3" descr=""/>
          <p:cNvPicPr/>
          <p:nvPr/>
        </p:nvPicPr>
        <p:blipFill>
          <a:blip r:embed="rId3"/>
          <a:stretch/>
        </p:blipFill>
        <p:spPr>
          <a:xfrm>
            <a:off x="831708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8" presetSubtype="16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265" dur="1" fill="hold">
                                    <p:stCondLst>
                                      <p:cond evt="end">
                                        <p:tn val="263"/>
                                      </p:cond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66" nodeType="withEffect" fill="hold" presetClass="entr" presetID="8" presetSubtype="16">
                                  <p:stCondLst>
                                    <p:cond delay="138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 звучит прослушанное произведени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 вы думаете, может ли музыка передать настроени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жет ли настроение соответствовать времени года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Песня «Весна»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70" name="Picture 4" descr="LCAW06WD8CAP7GKACCAXIVEAACAI7JKU7CA1Q43N5CA5CEXXKCAS2UJLBCAI"/>
          <p:cNvPicPr/>
          <p:nvPr/>
        </p:nvPicPr>
        <p:blipFill>
          <a:blip r:embed="rId1"/>
          <a:stretch/>
        </p:blipFill>
        <p:spPr>
          <a:xfrm>
            <a:off x="2843280" y="2276640"/>
            <a:ext cx="3313080" cy="259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Итог урока.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 каким композитором вы сегодня познакомились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 Какими произведениями этого композитора мы знакомились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Пётр Ильич Чайковский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4" name="Picture 7" descr="ch-84"/>
          <p:cNvPicPr/>
          <p:nvPr/>
        </p:nvPicPr>
        <p:blipFill>
          <a:blip r:embed="rId1"/>
          <a:stretch/>
        </p:blipFill>
        <p:spPr>
          <a:xfrm>
            <a:off x="3059280" y="2236680"/>
            <a:ext cx="2881080" cy="364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Январь – «У камельк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евраль – «Маслениц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арт – «Песня жаворонк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прель – «Подснежник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ай – «Белые ночи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юнь – «Баркаролл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юль – «Песня косаря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вгуст – «Жатв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Музыкальный альбом «Времена года»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85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1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97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103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3700"/>
                            </p:stCondLst>
                            <p:childTnLst>
                              <p:par>
                                <p:cTn id="10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115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1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ентябрь – «Охот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ктябрь – «Осенняя песнь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оябрь – «На тройке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кабрь – «Святки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9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9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9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2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9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9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9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dd1"/>
                </a:solidFill>
                <a:latin typeface="Times New Roman"/>
              </a:rPr>
              <a:t>Октябрь – «Осенняя песнь»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ктябрь. Осень в России всегда была порой, которую воспевали многие писатели, поэты, художники и музыканты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6" descr="ECAURSSGSCA9T681ECAD4WWUACAJ1U6Y2CAVMZZZ5CAFGHP4ACAF76OTTCAN"/>
          <p:cNvPicPr/>
          <p:nvPr/>
        </p:nvPicPr>
        <p:blipFill>
          <a:blip r:embed="rId1"/>
          <a:stretch/>
        </p:blipFill>
        <p:spPr>
          <a:xfrm>
            <a:off x="5292720" y="2133720"/>
            <a:ext cx="2592360" cy="266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ень, осыпается весь наш бедный сад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истья пожелтелые по ветру летят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А. Толстой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15" descr="i"/>
          <p:cNvPicPr/>
          <p:nvPr/>
        </p:nvPicPr>
        <p:blipFill>
          <a:blip r:embed="rId1"/>
          <a:stretch/>
        </p:blipFill>
        <p:spPr>
          <a:xfrm>
            <a:off x="5364000" y="1844640"/>
            <a:ext cx="2808360" cy="338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 звучит прослушанное произведени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 вы думаете, может ли музыка передать настроени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жет ли настроение соответствовать времени года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dd1"/>
                </a:solidFill>
                <a:latin typeface="Times New Roman"/>
              </a:rPr>
              <a:t>«Осенняя песнь»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5" name="Picture 8" descr="0CAHM11K2CA3R2AYUCAZWG6A9CADVCW04CAJEFRUYCAI35R5BCA8V2XS3CAX"/>
          <p:cNvPicPr/>
          <p:nvPr/>
        </p:nvPicPr>
        <p:blipFill>
          <a:blip r:embed="rId1"/>
          <a:stretch/>
        </p:blipFill>
        <p:spPr>
          <a:xfrm>
            <a:off x="826920" y="1916280"/>
            <a:ext cx="2737080" cy="2449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UCAUF5UCECAR1DL2FCA2HJQPACAREY0Z5CARQFQ2TCABYO5SSCA638909CAB"/>
          <p:cNvPicPr/>
          <p:nvPr/>
        </p:nvPicPr>
        <p:blipFill>
          <a:blip r:embed="rId2"/>
          <a:stretch/>
        </p:blipFill>
        <p:spPr>
          <a:xfrm>
            <a:off x="5003640" y="2924280"/>
            <a:ext cx="3168720" cy="2592360"/>
          </a:xfrm>
          <a:prstGeom prst="rect">
            <a:avLst/>
          </a:prstGeom>
          <a:ln w="0">
            <a:noFill/>
          </a:ln>
        </p:spPr>
      </p:pic>
      <p:pic>
        <p:nvPicPr>
          <p:cNvPr id="137" name="Track No10.mp3" descr=""/>
          <p:cNvPicPr/>
          <p:nvPr/>
        </p:nvPicPr>
        <p:blipFill>
          <a:blip r:embed="rId3"/>
          <a:stretch/>
        </p:blipFill>
        <p:spPr>
          <a:xfrm>
            <a:off x="8459640" y="47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8" presetSubtype="16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178" dur="1" fill="hold">
                                    <p:stCondLst>
                                      <p:cond evt="end">
                                        <p:tn val="176"/>
                                      </p:cond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79" nodeType="withEffect" fill="hold" presetClass="entr" presetID="8" presetSubtype="16">
                                  <p:stCondLst>
                                    <p:cond delay="178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3-20T19:26:06Z</dcterms:modified>
  <cp:revision>9</cp:revision>
  <dc:subject/>
  <dc:title>PowerPoint Presentation</dc:title>
</cp:coreProperties>
</file>