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C03-4828-435E-AC91-EFE84C65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6D6-B0F6-4CA6-AC56-05855CE4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F41-DCA3-48F7-B525-595C2CC2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586-C8FB-4350-8A03-3C2BE60F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365D-AECD-4078-B43A-52EBF908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71D7-7E5D-42D5-B046-7EA0F548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CC33-D74C-4627-BB7D-4C5A91CF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F61A-CFE1-4720-8564-50EB4E8B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6B36-3CE6-4B2F-857D-7BA319AB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65EB-4E63-41B3-8CA4-5AC12568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80BE-2EFB-4A68-9DCA-05E92E5C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F88-F246-4975-82DC-5D983794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F3D5-EE38-4C34-A9A4-7BFEDF00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56CA-6116-495D-9298-2838598F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ECE9-3110-424D-B447-8BB0C926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8A3A-436C-4257-B1BA-B4ADBA88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6146-6D3D-4DE8-90A2-118E52F5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B2B7-9F31-439C-B352-9D56436C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44F57-0AA3-47C2-B049-534E45C5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BDBC0-1EFD-4093-BE71-BA47DC59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9E77-C296-4C8C-A18A-EEAE834C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A3A6A-FF79-4919-9D04-CDA8207C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5F3-F642-4DC6-86E2-4F85224B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63AF6-43A3-4A25-A4DE-8E4F97EA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041EE-B347-43B5-BBF0-18B6CCF8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4F81D-BDEB-46D6-B5EC-461A714F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A2F0F-DAF0-4DC1-81A7-CD323153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EF65C-FAC0-4D08-A6E4-27E05295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73A55-4A24-44A2-AC54-DBDEC9E7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2C2F4-688F-4B3F-B1E3-0EC5A38B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EFBCD-D182-44FB-9280-64047081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DFA18-CE57-4149-AB49-60E39C30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9505F-65CC-4FC4-B816-B2245BF0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E70-4B84-445A-9B29-6F01FFED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5305C-5570-4C88-9C05-2B8E8714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25436-2221-47A9-BF4F-FE8122BA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74BEC-B5B2-484C-BE40-84BC648E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C9937-EBE4-484E-BDC5-CCAC2740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4099E-B5AD-4F98-90F6-684A5F5B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D976E-F936-4712-9460-7BB807E6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F80EA-F8D1-4921-80E5-BC32C924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29EE2-43FD-46DF-A0F9-B496A45C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49851-4DCA-4EAA-BACE-4A290455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153-0ACE-4DE7-85A6-7FB372C7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915-9BBF-46AA-AF78-E00E7AEA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86B-325C-4EE9-A5A2-1AE9925E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C2C-E702-4634-88A3-44B12EDC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702-6345-4B21-92EE-B4E67633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1760" cy="1980720"/>
            <a:chOff x="0" y="0"/>
            <a:chExt cx="7241760" cy="198072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600" cy="1055160"/>
            </a:xfrm>
            <a:custGeom>
              <a:avLst/>
              <a:gdLst>
                <a:gd name="textAreaLeft" fmla="*/ 0 w 7122600"/>
                <a:gd name="textAreaRight" fmla="*/ 7122960 w 712260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f0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1760" cy="1902960"/>
            </a:xfrm>
            <a:custGeom>
              <a:avLst/>
              <a:gdLst>
                <a:gd name="textAreaLeft" fmla="*/ 0 w 7241760"/>
                <a:gd name="textAreaRight" fmla="*/ 7242120 w 72417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33cc"/>
              </a:buClr>
              <a:buSzPct val="8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33cc"/>
              </a:buClr>
              <a:buSzPct val="8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6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C5A169-2363-4C0C-B017-C2FE8FA5ADC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7241760" cy="1980720"/>
            <a:chOff x="0" y="0"/>
            <a:chExt cx="7241760" cy="1980720"/>
          </a:xfrm>
        </p:grpSpPr>
        <p:sp>
          <p:nvSpPr>
            <p:cNvPr id="46" name="Freeform 3"/>
            <p:cNvSpPr/>
            <p:nvPr/>
          </p:nvSpPr>
          <p:spPr>
            <a:xfrm>
              <a:off x="0" y="925560"/>
              <a:ext cx="7122600" cy="1055160"/>
            </a:xfrm>
            <a:custGeom>
              <a:avLst/>
              <a:gdLst>
                <a:gd name="textAreaLeft" fmla="*/ 0 w 7122600"/>
                <a:gd name="textAreaRight" fmla="*/ 7122960 w 712260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f0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0" y="0"/>
              <a:ext cx="7241760" cy="1902960"/>
            </a:xfrm>
            <a:custGeom>
              <a:avLst/>
              <a:gdLst>
                <a:gd name="textAreaLeft" fmla="*/ 0 w 7241760"/>
                <a:gd name="textAreaRight" fmla="*/ 7242120 w 72417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8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733823-D6AE-43A0-9F5D-3402C6F967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7241760" cy="1980720"/>
            <a:chOff x="0" y="0"/>
            <a:chExt cx="7241760" cy="1980720"/>
          </a:xfrm>
        </p:grpSpPr>
        <p:sp>
          <p:nvSpPr>
            <p:cNvPr id="90" name="Freeform 3"/>
            <p:cNvSpPr/>
            <p:nvPr/>
          </p:nvSpPr>
          <p:spPr>
            <a:xfrm>
              <a:off x="0" y="925560"/>
              <a:ext cx="7122600" cy="1055160"/>
            </a:xfrm>
            <a:custGeom>
              <a:avLst/>
              <a:gdLst>
                <a:gd name="textAreaLeft" fmla="*/ 0 w 7122600"/>
                <a:gd name="textAreaRight" fmla="*/ 7122960 w 712260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f0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4"/>
            <p:cNvSpPr/>
            <p:nvPr/>
          </p:nvSpPr>
          <p:spPr>
            <a:xfrm>
              <a:off x="0" y="0"/>
              <a:ext cx="7241760" cy="1902960"/>
            </a:xfrm>
            <a:custGeom>
              <a:avLst/>
              <a:gdLst>
                <a:gd name="textAreaLeft" fmla="*/ 0 w 7241760"/>
                <a:gd name="textAreaRight" fmla="*/ 7242120 w 72417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8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8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50AF52-28FC-4CF7-A88C-AAFD97A773E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7241760" cy="1980720"/>
            <a:chOff x="0" y="0"/>
            <a:chExt cx="7241760" cy="1980720"/>
          </a:xfrm>
        </p:grpSpPr>
        <p:sp>
          <p:nvSpPr>
            <p:cNvPr id="135" name="Freeform 3"/>
            <p:cNvSpPr/>
            <p:nvPr/>
          </p:nvSpPr>
          <p:spPr>
            <a:xfrm>
              <a:off x="0" y="925560"/>
              <a:ext cx="7122600" cy="1055160"/>
            </a:xfrm>
            <a:custGeom>
              <a:avLst/>
              <a:gdLst>
                <a:gd name="textAreaLeft" fmla="*/ 0 w 7122600"/>
                <a:gd name="textAreaRight" fmla="*/ 7122960 w 712260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f0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0" y="0"/>
              <a:ext cx="7241760" cy="1902960"/>
            </a:xfrm>
            <a:custGeom>
              <a:avLst/>
              <a:gdLst>
                <a:gd name="textAreaLeft" fmla="*/ 0 w 7241760"/>
                <a:gd name="textAreaRight" fmla="*/ 7242120 w 72417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25BC2D-0BEE-4418-901A-2506AA48FB0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Исследовательская работа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«Мы все войны родные внуки»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99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ипоте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можно, у меня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ть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ственники,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вовавшие в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чественной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йне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41- 1945гг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91120" y="1600200"/>
            <a:ext cx="480024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втор рабо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шкелович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алья участник профильного лагеря «ПОИСК» МБОУ ДОД Лоухский РЦДТ; 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ю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оставила моя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бушка, Колобова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оя Константиновна;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тографии взяты из сети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тернет.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оводитель: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рипниченко Н.С.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Мой прадед, Данильцев Константин Неофидович,</a:t>
            </a: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женец Вологодской области,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рилловского р-на, д. Тереховская 1907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да рождения имел большую семью,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оящую из восьми его детей, четверо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которых сейчас живы.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Военная служб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518112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антин Неофидович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вовал в двух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йнах: Финской и Второй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ровой.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Великой Отечественной воевал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ехоте, зачастую передвигаясь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лыжах. В бою Константин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фидович был ранен в руку. С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ронта писал письма –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угольнички,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ые, к сожалению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сохранились.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живать в ту нелегкую пору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о очень сложно.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7" descr="58838586_1"/>
          <p:cNvPicPr/>
          <p:nvPr/>
        </p:nvPicPr>
        <p:blipFill>
          <a:blip r:embed="rId1"/>
          <a:stretch/>
        </p:blipFill>
        <p:spPr>
          <a:xfrm>
            <a:off x="5257800" y="1676520"/>
            <a:ext cx="3352320" cy="179820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8" descr="977325"/>
          <p:cNvPicPr/>
          <p:nvPr/>
        </p:nvPicPr>
        <p:blipFill>
          <a:blip r:embed="rId2"/>
          <a:stretch/>
        </p:blipFill>
        <p:spPr>
          <a:xfrm>
            <a:off x="5257800" y="3753000"/>
            <a:ext cx="3580920" cy="2962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лучай на фронте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ажды, при переходе на новое место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роны, мой прадед тяжело заболел и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мог идти дальше. Командир принял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шение застрелить бойца, но друзья-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полчане вынесли  своего товарища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руках с поля боя.  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Жизнь в тылу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я прабабушка, Анна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андровна, работала в колхозе.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 приходилось голодать и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давать последние крошки хлеба детям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ди спасения их жизней. Не было ни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уви, ни одежды. Бабушка пошла в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у в 9 лет, потому что мать не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скала ее в школу до прихода отца с войны.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Исход войны 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ц семейства вернулся с войны в 1945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ду к осени. Дошел до Восточной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уссии. Был удостоен знака Красной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мии и медали за победу над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ашистской Германией. После войны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л в леспромхозе вальщиком леса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р в 1977 году.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Вывод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результатам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ния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чилось, что у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ня есть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ственники,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щищавшие нашу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ину  и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ближавшие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беду.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9" descr="212fa46c6e7bde062964bc8d4b136e58"/>
          <p:cNvPicPr/>
          <p:nvPr/>
        </p:nvPicPr>
        <p:blipFill>
          <a:blip r:embed="rId1"/>
          <a:stretch/>
        </p:blipFill>
        <p:spPr>
          <a:xfrm>
            <a:off x="5410080" y="2479320"/>
            <a:ext cx="3276360" cy="3159360"/>
          </a:xfrm>
          <a:prstGeom prst="rect">
            <a:avLst/>
          </a:prstGeom>
          <a:ln w="9525">
            <a:noFill/>
          </a:ln>
        </p:spPr>
      </p:pic>
    </p:spTree>
  </p:cSld>
  <p:transition>
    <p:split dir="out" orient="horz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пасибо за внимание!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ld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Разрез">
  <a:themeElements>
    <a:clrScheme name="Разрез 12">
      <a:dk1>
        <a:srgbClr val="e6e6e6"/>
      </a:dk1>
      <a:lt1>
        <a:srgbClr val="ffffff"/>
      </a:lt1>
      <a:dk2>
        <a:srgbClr val="0000ff"/>
      </a:dk2>
      <a:lt2>
        <a:srgbClr val="ff0000"/>
      </a:lt2>
      <a:accent1>
        <a:srgbClr val="66ccff"/>
      </a:accent1>
      <a:accent2>
        <a:srgbClr val="9999ff"/>
      </a:accent2>
      <a:accent3>
        <a:srgbClr val="aaaaff"/>
      </a:accent3>
      <a:accent4>
        <a:srgbClr val="dadada"/>
      </a:accent4>
      <a:accent5>
        <a:srgbClr val="b8e2ff"/>
      </a:accent5>
      <a:accent6>
        <a:srgbClr val="8a8ae7"/>
      </a:accent6>
      <a:hlink>
        <a:srgbClr val="3333cc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Разрез">
  <a:themeElements>
    <a:clrScheme name="Разрез 12">
      <a:dk1>
        <a:srgbClr val="e6e6e6"/>
      </a:dk1>
      <a:lt1>
        <a:srgbClr val="ffffff"/>
      </a:lt1>
      <a:dk2>
        <a:srgbClr val="0000ff"/>
      </a:dk2>
      <a:lt2>
        <a:srgbClr val="ff0000"/>
      </a:lt2>
      <a:accent1>
        <a:srgbClr val="66ccff"/>
      </a:accent1>
      <a:accent2>
        <a:srgbClr val="9999ff"/>
      </a:accent2>
      <a:accent3>
        <a:srgbClr val="aaaaff"/>
      </a:accent3>
      <a:accent4>
        <a:srgbClr val="dadada"/>
      </a:accent4>
      <a:accent5>
        <a:srgbClr val="b8e2ff"/>
      </a:accent5>
      <a:accent6>
        <a:srgbClr val="8a8ae7"/>
      </a:accent6>
      <a:hlink>
        <a:srgbClr val="3333cc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Разрез">
  <a:themeElements>
    <a:clrScheme name="Разрез 12">
      <a:dk1>
        <a:srgbClr val="e6e6e6"/>
      </a:dk1>
      <a:lt1>
        <a:srgbClr val="ffffff"/>
      </a:lt1>
      <a:dk2>
        <a:srgbClr val="0000ff"/>
      </a:dk2>
      <a:lt2>
        <a:srgbClr val="ff0000"/>
      </a:lt2>
      <a:accent1>
        <a:srgbClr val="66ccff"/>
      </a:accent1>
      <a:accent2>
        <a:srgbClr val="9999ff"/>
      </a:accent2>
      <a:accent3>
        <a:srgbClr val="aaaaff"/>
      </a:accent3>
      <a:accent4>
        <a:srgbClr val="dadada"/>
      </a:accent4>
      <a:accent5>
        <a:srgbClr val="b8e2ff"/>
      </a:accent5>
      <a:accent6>
        <a:srgbClr val="8a8ae7"/>
      </a:accent6>
      <a:hlink>
        <a:srgbClr val="3333cc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Разрез">
  <a:themeElements>
    <a:clrScheme name="Разрез 12">
      <a:dk1>
        <a:srgbClr val="e6e6e6"/>
      </a:dk1>
      <a:lt1>
        <a:srgbClr val="ffffff"/>
      </a:lt1>
      <a:dk2>
        <a:srgbClr val="0000ff"/>
      </a:dk2>
      <a:lt2>
        <a:srgbClr val="ff0000"/>
      </a:lt2>
      <a:accent1>
        <a:srgbClr val="66ccff"/>
      </a:accent1>
      <a:accent2>
        <a:srgbClr val="9999ff"/>
      </a:accent2>
      <a:accent3>
        <a:srgbClr val="aaaaff"/>
      </a:accent3>
      <a:accent4>
        <a:srgbClr val="dadada"/>
      </a:accent4>
      <a:accent5>
        <a:srgbClr val="b8e2ff"/>
      </a:accent5>
      <a:accent6>
        <a:srgbClr val="8a8ae7"/>
      </a:accent6>
      <a:hlink>
        <a:srgbClr val="3333cc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t</Template>
  <TotalTime>159</TotalTime>
  <Application>LibreOffice/7.4.7.2$Linux_X86_64 LibreOffice_project/40$Build-2</Application>
  <AppVersion>15.0000</AppVersion>
  <Words>313</Words>
  <Paragraphs>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/>
  <dc:description/>
  <dc:language>en-US</dc:language>
  <cp:lastModifiedBy>FuckYouBill</cp:lastModifiedBy>
  <cp:lastPrinted>1601-01-01T00:00:00Z</cp:lastPrinted>
  <dcterms:modified xsi:type="dcterms:W3CDTF">2012-06-09T06:36:3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  <property fmtid="{D5CDD505-2E9C-101B-9397-08002B2CF9AE}" pid="4" name="Version">
    <vt:r8>1</vt:r8>
  </property>
</Properties>
</file>