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84FC-D41E-4422-B935-0021A7E45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A057-9C97-4BB9-A891-B2E7A1E0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57BA-B0E1-4513-B35D-F684E5BEA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76E3-2A7B-411C-BC1D-42B6E26C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026F-657E-4FB4-8FD3-F6A16C3F3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9628-D07E-4EDA-992C-036A4EA4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AE96-48E6-4FCA-A9DF-51814865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F5DB-1428-402A-8744-178D2ED6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784F-9C1A-4E8E-B926-F4325F89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CB05-D985-4DFA-88DC-DCE87614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3AD1-DDAD-4638-84BF-63440FDB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67A2-4A7A-4683-8E6B-9208478E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2ED3-6846-4F11-8547-861E961C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D7D5-C857-4629-A38E-17BF8846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FC5A-DA7F-4E6B-A3C0-E678E9B4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65D7-D118-4084-A90D-2666061B7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17A1-8D28-46EA-8230-69327D7BA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CA2CE-A907-4113-AA52-209B052E6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8C3CF-94EE-42BC-91DA-0D937FF9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92B52-7823-4905-91DC-B0D1CA05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3D3EB-931E-4CB1-BA99-8CDE5CCB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6A363-8295-4239-B738-527CDDC6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61B1-BBD2-4422-B8EB-77CD1FB4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B58B5-6C41-4870-B875-1E25F41E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25B6B-EF87-466B-B19D-5DC3D3AA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F060B-E66C-4C75-8544-AD8F33C7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04206-FA21-4765-A583-8AAEA031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48937-D7A8-4A70-A559-DD21D566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47A45-9056-432D-8BC1-6B79CF312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0CC28-9049-4D50-AF24-8205E7B37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947FE-55B2-4763-ABAF-C3B2B2C2C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7193C-2F24-4FF6-88FC-E1D8DE73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1142C-CE04-4E64-88F0-D41FDA04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F583-35CA-4B11-B053-A8752FA2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384D5-1B50-4689-A590-93A879D5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29C25-9404-4CE6-BA01-2F4CDAFE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19419-3B40-4506-96FC-7414FC75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3A5DD-9031-47ED-88EA-1E4915F2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B68AF-2A08-42BE-890B-78713F11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33A7E-5C6C-491D-B428-ECE1F436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8EB5E-C5CC-481D-8CCF-F160345A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C187D-6D32-4014-9786-0584D026B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9419F-5941-4A4E-A783-98C0E5214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2D7D-52A5-480C-8652-DE1807AC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C213-9E5E-4DF6-B923-F7A83D2C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3AD3-366B-4329-97D4-A78DCF74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5322-12DF-45EF-8488-EB83270C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07B7-4E85-404F-B270-7A07AE97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1760" cy="1980720"/>
            <a:chOff x="0" y="0"/>
            <a:chExt cx="7241760" cy="198072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600" cy="1055160"/>
            </a:xfrm>
            <a:custGeom>
              <a:avLst/>
              <a:gdLst>
                <a:gd name="textAreaLeft" fmla="*/ 0 w 7122600"/>
                <a:gd name="textAreaRight" fmla="*/ 7122960 w 7122600"/>
                <a:gd name="textAreaTop" fmla="*/ 0 h 1055160"/>
                <a:gd name="textAreaBottom" fmla="*/ 1055520 h 105516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f0"/>
                </a:gs>
                <a:gs pos="100000">
                  <a:srgbClr val="0000f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1760" cy="1902960"/>
            </a:xfrm>
            <a:custGeom>
              <a:avLst/>
              <a:gdLst>
                <a:gd name="textAreaLeft" fmla="*/ 0 w 7241760"/>
                <a:gd name="textAreaRight" fmla="*/ 7242120 w 7241760"/>
                <a:gd name="textAreaTop" fmla="*/ 0 h 1902960"/>
                <a:gd name="textAreaBottom" fmla="*/ 1903320 h 190296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0000f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495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33cc"/>
              </a:buClr>
              <a:buSzPct val="8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3333cc"/>
              </a:buClr>
              <a:buFont typeface="Wingdings" charset="2"/>
              <a:buChar char=""/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495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33cc"/>
              </a:buClr>
              <a:buSzPct val="8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3333cc"/>
              </a:buClr>
              <a:buFont typeface="Wingdings" charset="2"/>
              <a:buChar char=""/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6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F7CD17-F0D7-42F4-9727-DC8092DA9DA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7241760" cy="1980720"/>
            <a:chOff x="0" y="0"/>
            <a:chExt cx="7241760" cy="1980720"/>
          </a:xfrm>
        </p:grpSpPr>
        <p:sp>
          <p:nvSpPr>
            <p:cNvPr id="46" name="Freeform 3"/>
            <p:cNvSpPr/>
            <p:nvPr/>
          </p:nvSpPr>
          <p:spPr>
            <a:xfrm>
              <a:off x="0" y="925560"/>
              <a:ext cx="7122600" cy="1055160"/>
            </a:xfrm>
            <a:custGeom>
              <a:avLst/>
              <a:gdLst>
                <a:gd name="textAreaLeft" fmla="*/ 0 w 7122600"/>
                <a:gd name="textAreaRight" fmla="*/ 7122960 w 7122600"/>
                <a:gd name="textAreaTop" fmla="*/ 0 h 1055160"/>
                <a:gd name="textAreaBottom" fmla="*/ 1055520 h 105516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f0"/>
                </a:gs>
                <a:gs pos="100000">
                  <a:srgbClr val="0000f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" name="Freeform 4"/>
            <p:cNvSpPr/>
            <p:nvPr/>
          </p:nvSpPr>
          <p:spPr>
            <a:xfrm>
              <a:off x="0" y="0"/>
              <a:ext cx="7241760" cy="1902960"/>
            </a:xfrm>
            <a:custGeom>
              <a:avLst/>
              <a:gdLst>
                <a:gd name="textAreaLeft" fmla="*/ 0 w 7241760"/>
                <a:gd name="textAreaRight" fmla="*/ 7242120 w 7241760"/>
                <a:gd name="textAreaTop" fmla="*/ 0 h 1902960"/>
                <a:gd name="textAreaBottom" fmla="*/ 1903320 h 190296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0000f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495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333cc"/>
              </a:buClr>
              <a:buSzPct val="80000"/>
              <a:buFont typeface="Wingdings" charset="2"/>
              <a:buChar char=""/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0151C8-D209-46A5-ACDB-F68C397ABCF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7241760" cy="1980720"/>
            <a:chOff x="0" y="0"/>
            <a:chExt cx="7241760" cy="1980720"/>
          </a:xfrm>
        </p:grpSpPr>
        <p:sp>
          <p:nvSpPr>
            <p:cNvPr id="90" name="Freeform 3"/>
            <p:cNvSpPr/>
            <p:nvPr/>
          </p:nvSpPr>
          <p:spPr>
            <a:xfrm>
              <a:off x="0" y="925560"/>
              <a:ext cx="7122600" cy="1055160"/>
            </a:xfrm>
            <a:custGeom>
              <a:avLst/>
              <a:gdLst>
                <a:gd name="textAreaLeft" fmla="*/ 0 w 7122600"/>
                <a:gd name="textAreaRight" fmla="*/ 7122960 w 7122600"/>
                <a:gd name="textAreaTop" fmla="*/ 0 h 1055160"/>
                <a:gd name="textAreaBottom" fmla="*/ 1055520 h 105516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f0"/>
                </a:gs>
                <a:gs pos="100000">
                  <a:srgbClr val="0000f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4"/>
            <p:cNvSpPr/>
            <p:nvPr/>
          </p:nvSpPr>
          <p:spPr>
            <a:xfrm>
              <a:off x="0" y="0"/>
              <a:ext cx="7241760" cy="1902960"/>
            </a:xfrm>
            <a:custGeom>
              <a:avLst/>
              <a:gdLst>
                <a:gd name="textAreaLeft" fmla="*/ 0 w 7241760"/>
                <a:gd name="textAreaRight" fmla="*/ 7242120 w 7241760"/>
                <a:gd name="textAreaTop" fmla="*/ 0 h 1902960"/>
                <a:gd name="textAreaBottom" fmla="*/ 1903320 h 190296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0000f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495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333cc"/>
              </a:buClr>
              <a:buSzPct val="80000"/>
              <a:buFont typeface="Wingdings" charset="2"/>
              <a:buChar char=""/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495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333cc"/>
              </a:buClr>
              <a:buSzPct val="80000"/>
              <a:buFont typeface="Wingdings" charset="2"/>
              <a:buChar char=""/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7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BC0094-3BDF-4A48-A2E1-41AEFB226B9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0" y="0"/>
            <a:ext cx="7241760" cy="1980720"/>
            <a:chOff x="0" y="0"/>
            <a:chExt cx="7241760" cy="1980720"/>
          </a:xfrm>
        </p:grpSpPr>
        <p:sp>
          <p:nvSpPr>
            <p:cNvPr id="135" name="Freeform 3"/>
            <p:cNvSpPr/>
            <p:nvPr/>
          </p:nvSpPr>
          <p:spPr>
            <a:xfrm>
              <a:off x="0" y="925560"/>
              <a:ext cx="7122600" cy="1055160"/>
            </a:xfrm>
            <a:custGeom>
              <a:avLst/>
              <a:gdLst>
                <a:gd name="textAreaLeft" fmla="*/ 0 w 7122600"/>
                <a:gd name="textAreaRight" fmla="*/ 7122960 w 7122600"/>
                <a:gd name="textAreaTop" fmla="*/ 0 h 1055160"/>
                <a:gd name="textAreaBottom" fmla="*/ 1055520 h 105516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f0"/>
                </a:gs>
                <a:gs pos="100000">
                  <a:srgbClr val="0000f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Freeform 4"/>
            <p:cNvSpPr/>
            <p:nvPr/>
          </p:nvSpPr>
          <p:spPr>
            <a:xfrm>
              <a:off x="0" y="0"/>
              <a:ext cx="7241760" cy="1902960"/>
            </a:xfrm>
            <a:custGeom>
              <a:avLst/>
              <a:gdLst>
                <a:gd name="textAreaLeft" fmla="*/ 0 w 7241760"/>
                <a:gd name="textAreaRight" fmla="*/ 7242120 w 7241760"/>
                <a:gd name="textAreaTop" fmla="*/ 0 h 1902960"/>
                <a:gd name="textAreaBottom" fmla="*/ 1903320 h 190296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0000f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B6088A-957B-4844-A974-7A249F84EA3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Исследовательская работа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«Мы все войны родные внуки»</a:t>
            </a: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9920" cy="4495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Гипотез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зможно, у меня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ть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дственники,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аствовавшие в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ечественной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йне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941- 1945гг.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191120" y="1600200"/>
            <a:ext cx="4800240" cy="525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Автор работ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шкелович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талья участник профильного лагеря «ПОИСК» МБОУ ДОД Лоухский РЦДТ; 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формацию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оставила моя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абушка, Колобова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оя Константиновна;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отографии взяты из сети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тернет.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уководитель: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крипниченко Н.С.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Мой прадед, Данильцев Константин Неофидович,</a:t>
            </a:r>
            <a:endParaRPr b="0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240" cy="4495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роженец Вологодской области,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ирилловского р-на, д. Тереховская 1907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да рождения имел большую семью,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оящую из восьми его детей, четверо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 которых сейчас живы.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Военная служба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518112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стантин Неофидович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аствовал в двух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йнах: Финской и Второй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ровой.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Великой Отечественной воевал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пехоте, зачастую передвигаясь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лыжах. В бою Константин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офидович был ранен в руку. С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ронта писал письма –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еугольнички,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торые, к сожалению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сохранились.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живать в ту нелегкую пору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ыло очень сложно.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7" descr="58838586_1"/>
          <p:cNvPicPr/>
          <p:nvPr/>
        </p:nvPicPr>
        <p:blipFill>
          <a:blip r:embed="rId1"/>
          <a:stretch/>
        </p:blipFill>
        <p:spPr>
          <a:xfrm>
            <a:off x="5257800" y="1676520"/>
            <a:ext cx="3352320" cy="1798200"/>
          </a:xfrm>
          <a:prstGeom prst="rect">
            <a:avLst/>
          </a:prstGeom>
          <a:ln w="9525">
            <a:noFill/>
          </a:ln>
        </p:spPr>
      </p:pic>
      <p:pic>
        <p:nvPicPr>
          <p:cNvPr id="186" name="Picture 8" descr="977325"/>
          <p:cNvPicPr/>
          <p:nvPr/>
        </p:nvPicPr>
        <p:blipFill>
          <a:blip r:embed="rId2"/>
          <a:stretch/>
        </p:blipFill>
        <p:spPr>
          <a:xfrm>
            <a:off x="5257800" y="3753000"/>
            <a:ext cx="3580920" cy="2962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Случай на фронте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495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нажды, при переходе на новое место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ороны, мой прадед тяжело заболел и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смог идти дальше. Командир принял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шение застрелить бойца, но друзья-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нополчане вынесли  своего товарища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руках с поля боя.  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amond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Жизнь в тылу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495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я прабабушка, Анна 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ександровна, работала в колхозе. 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асто приходилось голодать и 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давать последние крошки хлеба детям 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ди спасения их жизней. Не было ни 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уви, ни одежды. Бабушка пошла в 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колу в 9 лет, потому что мать не 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ускала ее в школу до прихода отца с войны.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Исход войны 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240" cy="4495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ец семейства вернулся с войны в 1945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ду к осени. Дошел до Восточной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уссии. Был удостоен знака Красной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рмии и медали за победу над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ашистской Германией. После войны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ботал в леспромхозе вальщиком леса.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мер в 1977 году.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Вывод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495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результатам 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следования 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училось, что у 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ня есть 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одственники, 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щищавшие нашу 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одину  и 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ближавшие 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беду.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9" descr="212fa46c6e7bde062964bc8d4b136e58"/>
          <p:cNvPicPr/>
          <p:nvPr/>
        </p:nvPicPr>
        <p:blipFill>
          <a:blip r:embed="rId1"/>
          <a:stretch/>
        </p:blipFill>
        <p:spPr>
          <a:xfrm>
            <a:off x="5410080" y="2479320"/>
            <a:ext cx="3276360" cy="3159360"/>
          </a:xfrm>
          <a:prstGeom prst="rect">
            <a:avLst/>
          </a:prstGeom>
          <a:ln w="9525">
            <a:noFill/>
          </a:ln>
        </p:spPr>
      </p:pic>
    </p:spTree>
  </p:cSld>
  <p:transition>
    <p:split dir="out" orient="horz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Спасибо за внимание!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ld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Разрез">
  <a:themeElements>
    <a:clrScheme name="Разрез 12">
      <a:dk1>
        <a:srgbClr val="e6e6e6"/>
      </a:dk1>
      <a:lt1>
        <a:srgbClr val="ffffff"/>
      </a:lt1>
      <a:dk2>
        <a:srgbClr val="0000ff"/>
      </a:dk2>
      <a:lt2>
        <a:srgbClr val="ff0000"/>
      </a:lt2>
      <a:accent1>
        <a:srgbClr val="66ccff"/>
      </a:accent1>
      <a:accent2>
        <a:srgbClr val="9999ff"/>
      </a:accent2>
      <a:accent3>
        <a:srgbClr val="aaaaff"/>
      </a:accent3>
      <a:accent4>
        <a:srgbClr val="dadada"/>
      </a:accent4>
      <a:accent5>
        <a:srgbClr val="b8e2ff"/>
      </a:accent5>
      <a:accent6>
        <a:srgbClr val="8a8ae7"/>
      </a:accent6>
      <a:hlink>
        <a:srgbClr val="3333cc"/>
      </a:hlink>
      <a:folHlink>
        <a:srgbClr val="008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Разрез">
  <a:themeElements>
    <a:clrScheme name="Разрез 12">
      <a:dk1>
        <a:srgbClr val="e6e6e6"/>
      </a:dk1>
      <a:lt1>
        <a:srgbClr val="ffffff"/>
      </a:lt1>
      <a:dk2>
        <a:srgbClr val="0000ff"/>
      </a:dk2>
      <a:lt2>
        <a:srgbClr val="ff0000"/>
      </a:lt2>
      <a:accent1>
        <a:srgbClr val="66ccff"/>
      </a:accent1>
      <a:accent2>
        <a:srgbClr val="9999ff"/>
      </a:accent2>
      <a:accent3>
        <a:srgbClr val="aaaaff"/>
      </a:accent3>
      <a:accent4>
        <a:srgbClr val="dadada"/>
      </a:accent4>
      <a:accent5>
        <a:srgbClr val="b8e2ff"/>
      </a:accent5>
      <a:accent6>
        <a:srgbClr val="8a8ae7"/>
      </a:accent6>
      <a:hlink>
        <a:srgbClr val="3333cc"/>
      </a:hlink>
      <a:folHlink>
        <a:srgbClr val="008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Разрез">
  <a:themeElements>
    <a:clrScheme name="Разрез 12">
      <a:dk1>
        <a:srgbClr val="e6e6e6"/>
      </a:dk1>
      <a:lt1>
        <a:srgbClr val="ffffff"/>
      </a:lt1>
      <a:dk2>
        <a:srgbClr val="0000ff"/>
      </a:dk2>
      <a:lt2>
        <a:srgbClr val="ff0000"/>
      </a:lt2>
      <a:accent1>
        <a:srgbClr val="66ccff"/>
      </a:accent1>
      <a:accent2>
        <a:srgbClr val="9999ff"/>
      </a:accent2>
      <a:accent3>
        <a:srgbClr val="aaaaff"/>
      </a:accent3>
      <a:accent4>
        <a:srgbClr val="dadada"/>
      </a:accent4>
      <a:accent5>
        <a:srgbClr val="b8e2ff"/>
      </a:accent5>
      <a:accent6>
        <a:srgbClr val="8a8ae7"/>
      </a:accent6>
      <a:hlink>
        <a:srgbClr val="3333cc"/>
      </a:hlink>
      <a:folHlink>
        <a:srgbClr val="008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Разрез">
  <a:themeElements>
    <a:clrScheme name="Разрез 12">
      <a:dk1>
        <a:srgbClr val="e6e6e6"/>
      </a:dk1>
      <a:lt1>
        <a:srgbClr val="ffffff"/>
      </a:lt1>
      <a:dk2>
        <a:srgbClr val="0000ff"/>
      </a:dk2>
      <a:lt2>
        <a:srgbClr val="ff0000"/>
      </a:lt2>
      <a:accent1>
        <a:srgbClr val="66ccff"/>
      </a:accent1>
      <a:accent2>
        <a:srgbClr val="9999ff"/>
      </a:accent2>
      <a:accent3>
        <a:srgbClr val="aaaaff"/>
      </a:accent3>
      <a:accent4>
        <a:srgbClr val="dadada"/>
      </a:accent4>
      <a:accent5>
        <a:srgbClr val="b8e2ff"/>
      </a:accent5>
      <a:accent6>
        <a:srgbClr val="8a8ae7"/>
      </a:accent6>
      <a:hlink>
        <a:srgbClr val="3333cc"/>
      </a:hlink>
      <a:folHlink>
        <a:srgbClr val="008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lit</Template>
  <TotalTime>159</TotalTime>
  <Application>LibreOffice/7.4.7.2$Linux_X86_64 LibreOffice_project/40$Build-2</Application>
  <AppVersion>15.0000</AppVersion>
  <Words>313</Words>
  <Paragraphs>7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601-01-01T00:00:00Z</dcterms:created>
  <dc:creator/>
  <dc:description/>
  <dc:language>en-US</dc:language>
  <cp:lastModifiedBy>FuckYouBill</cp:lastModifiedBy>
  <cp:lastPrinted>1601-01-01T00:00:00Z</cp:lastPrinted>
  <dcterms:modified xsi:type="dcterms:W3CDTF">2012-06-09T06:36:3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8</vt:r8>
  </property>
  <property fmtid="{D5CDD505-2E9C-101B-9397-08002B2CF9AE}" pid="4" name="Version">
    <vt:r8>1</vt:r8>
  </property>
</Properties>
</file>