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BE6-BEFB-4B7F-BA7C-FEC63D55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3E0-C6D2-4623-97B3-D968A39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4B-5DF8-44EE-8E42-4C301FD1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86D-3040-4793-840E-B2A1F6A7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3BE2-710E-465C-83A5-DFBC2F30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4192-D463-4D9C-A60B-DF6DD656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4A4E-DC60-4BBE-8075-7F7C59FE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A90-5B3D-4CA6-8953-24E9258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FA3-013C-4468-9AC8-DC8D574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5065-473F-4A6E-BD4D-3E1267B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36A-A94A-4837-9D33-DAD044E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CC9-D72F-4EDD-91F2-AD538E3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F526-C126-413A-8A2C-3AA8EDB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298-F8B8-4604-B8A7-07166B0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02C-1676-4D17-AA11-54FEFEA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D7BD-4646-4649-896C-2F525CF2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9F2-AE65-4BA9-A1BC-7A5A3716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5C71-5C4D-453C-B1EB-3EAA5906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30F9-5DFE-4AAF-A065-310DCBA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BF87-6805-48BE-B499-AC4C47D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0F02-6F89-41B1-8C42-B6B2E5BB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66A0-B3D3-49F5-80FF-8D21C48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721-01B3-48C4-AD9B-1E93715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7E71-9204-4FA4-8731-96A1413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63E7-DBC9-4233-84BB-F21F274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882C-FFA1-4AC8-A78B-336C36C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9200-B27B-444E-BAD5-E458327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FFA3-5FE0-4750-82CA-747BA61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E825-DE5E-4213-BAB6-77F3CA8E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6B20-5EA5-4ED8-857F-24947B45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F3D1-679C-442F-BFFB-593AA7B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2A27-A73E-4E43-9EE8-6D7CFC0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67B7-3DFD-469F-BCDB-17D7964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CE9-CF38-45E6-A5D0-30AC992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268E-D02E-4AF8-954A-3718203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1D83-A144-4A26-BB0F-F178E89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19E2-C523-4C25-BF4B-F7A27077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2C37-254D-4613-BE71-17E7C63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AF94-67C2-406A-9EB6-D64C7F0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ACE5-237B-425C-A1CC-7D568B5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CAB8-73F7-476A-9585-365EA0F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A0E9-414D-4882-B6F0-5EDF9BD8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3856-3BDB-42AD-AD6D-374AF12E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969-BA83-4819-88ED-3DE0F72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252-8266-4831-9367-0E43440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929-F275-42AF-9335-89D58B5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D9C-4D5F-45EA-B4BB-B568A4C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C07-6E7F-4516-BC5D-3EA5927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5676E0-3FC4-4C42-A5D7-C7EB374CFA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46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6BBAFC-33EE-4603-A819-EDFE33C257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90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8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62D23-335B-4856-9AA3-803A730E96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35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f0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00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1DA30-BBE1-4DB2-9726-E3BD0EA535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ы все войны родные внуки»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99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ипоте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у меня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ь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ственники,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вовавшие в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йне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41- 1945гг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91120" y="1600200"/>
            <a:ext cx="4800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втор раб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шкел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алья участник профильного лагеря «ПОИСК» МБОУ ДОД Лоухский РЦДТ; 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ила моя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бушка, Колобова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я Константиновна;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графии взяты из сети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ипниченко Н.С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й прадед, Данильцев Константин Неофидович,</a:t>
            </a: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женец Вологодской области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овского р-на, д. Тереховская 1907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а рождения имел большую семью,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ящую из восьми его детей, четвер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которых сейчас живы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оенная служб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811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антин Неофидович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овал в двух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х: Финской и Второй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еликой Отечественной воевал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ехоте, зачастую передвигаясь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ыжах. В бою Константин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фидович был ранен в руку. С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ронта писал письма –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угольнички,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, к сожалению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охранились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живать в ту нелегкую пору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чень сложно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58838586_1"/>
          <p:cNvPicPr/>
          <p:nvPr/>
        </p:nvPicPr>
        <p:blipFill>
          <a:blip r:embed="rId1"/>
          <a:stretch/>
        </p:blipFill>
        <p:spPr>
          <a:xfrm>
            <a:off x="5257800" y="1676520"/>
            <a:ext cx="3352320" cy="179820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8" descr="977325"/>
          <p:cNvPicPr/>
          <p:nvPr/>
        </p:nvPicPr>
        <p:blipFill>
          <a:blip r:embed="rId2"/>
          <a:stretch/>
        </p:blipFill>
        <p:spPr>
          <a:xfrm>
            <a:off x="5257800" y="3753000"/>
            <a:ext cx="35809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лучай на фронте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жды, при переходе на новое место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оны, мой прадед тяжело заболел и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г идти дальше. Командир принял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ение застрелить бойца, но друзья-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полчане вынесли  своего товарища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ках с поля боя.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Жизнь в тылу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я прабабушка, Анна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овна, работала в колхозе.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приходилось голодать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авать последние крошки хлеба детя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и спасения их жизней. Не было н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уви, ни одежды. Бабушка пошла в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у в 9 лет, потому что мать н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кала ее в школу до прихода отца с войны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Исход войны 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 семейства вернулся с войны в 1945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у к осени. Дошел до Восточ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уссии. Был удостоен знака Красной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мии и медали за победу над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шистской Германией. После войны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л в леспромхозе вальщиком леса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р в 1977 году.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ывод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результатам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илось, что 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 есть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ственники,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авшие нашу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ну  и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ближавшие 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еду.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9" descr="212fa46c6e7bde062964bc8d4b136e58"/>
          <p:cNvPicPr/>
          <p:nvPr/>
        </p:nvPicPr>
        <p:blipFill>
          <a:blip r:embed="rId1"/>
          <a:stretch/>
        </p:blipFill>
        <p:spPr>
          <a:xfrm>
            <a:off x="5410080" y="2479320"/>
            <a:ext cx="3276360" cy="3159360"/>
          </a:xfrm>
          <a:prstGeom prst="rect">
            <a:avLst/>
          </a:prstGeom>
          <a:ln w="9525">
            <a:noFill/>
          </a:ln>
        </p:spPr>
      </p:pic>
    </p:spTree>
  </p:cSld>
  <p:transition>
    <p:split dir="out" orient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Разрез">
  <a:themeElements>
    <a:clrScheme name="Разрез 12">
      <a:dk1>
        <a:srgbClr val="e6e6e6"/>
      </a:dk1>
      <a:lt1>
        <a:srgbClr val="ffffff"/>
      </a:lt1>
      <a:dk2>
        <a:srgbClr val="0000ff"/>
      </a:dk2>
      <a:lt2>
        <a:srgbClr val="ff0000"/>
      </a:lt2>
      <a:accent1>
        <a:srgbClr val="66ccff"/>
      </a:accent1>
      <a:accent2>
        <a:srgbClr val="9999ff"/>
      </a:accent2>
      <a:accent3>
        <a:srgbClr val="aaaaff"/>
      </a:accent3>
      <a:accent4>
        <a:srgbClr val="dadada"/>
      </a:accent4>
      <a:accent5>
        <a:srgbClr val="b8e2ff"/>
      </a:accent5>
      <a:accent6>
        <a:srgbClr val="8a8ae7"/>
      </a:accent6>
      <a:hlink>
        <a:srgbClr val="3333cc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t</Template>
  <TotalTime>159</TotalTime>
  <Application>LibreOffice/7.4.7.2$Linux_X86_64 LibreOffice_project/40$Build-2</Application>
  <AppVersion>15.0000</AppVersion>
  <Words>313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FuckYouBill</cp:lastModifiedBy>
  <cp:lastPrinted>1601-01-01T00:00:00Z</cp:lastPrinted>
  <dcterms:modified xsi:type="dcterms:W3CDTF">2012-06-09T06:36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  <property fmtid="{D5CDD505-2E9C-101B-9397-08002B2CF9AE}" pid="4" name="Version">
    <vt:r8>1</vt:r8>
  </property>
</Properties>
</file>