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0E4-AFB5-494D-B4B8-44B45F2D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BA1-288B-4ACF-82BA-DE68D56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7C5-1108-4C69-BC7D-A252BC3C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CA0-B74B-4316-BF51-E47CD08C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B48-9AB1-4BFA-BC83-034AB2F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065-BE04-4C67-9576-C0A94613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C6C-5E85-4A13-BF94-D5E0D39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E02-9F5F-46E2-B7C7-59FEBAD7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B6A-DA77-4826-AACD-C003FC1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0DD-BCD1-4B22-A3D2-EE260BF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032-C20F-4F63-A62F-CDC6C57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38C-8036-4D51-9CB6-32C57EF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0E6-A920-4C76-BDE9-002DF65B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6:28:42Z</dcterms:created>
  <dc:creator>Andrey Nazarov</dc:creator>
  <dc:description/>
  <dc:language>en-US</dc:language>
  <cp:lastModifiedBy>Andrey Nazarov</cp:lastModifiedBy>
  <dcterms:modified xsi:type="dcterms:W3CDTF">2014-02-18T12:51:01Z</dcterms:modified>
  <cp:revision>6</cp:revision>
  <dc:subject/>
  <dc:title>Слайд 1</dc:title>
</cp:coreProperties>
</file>