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2A8-6A18-471E-A3D9-DE49D66A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8626-7D5A-404C-84BE-3DEEC47E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725-1783-4574-9712-F38C9CA2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2F7-BF86-483C-AC18-B9A67799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8E6-BC62-4516-9B60-B1B4D3A9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67B5-B0C9-455A-A183-A41CD3F6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59F-C119-4D10-AA51-102C0885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6E9-104E-4B00-AA7A-0B87B7FC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D0D-43BC-4100-8F3C-6BEA9C93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BE7-B9A1-4959-BCB0-D96C8461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36F-2E99-41A2-A9BB-6DAB313E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EF7-3B1E-472E-B684-146BF8A1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7579-0ACF-4899-B492-90D7EB9E6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06:28:42Z</dcterms:created>
  <dc:creator>Andrey Nazarov</dc:creator>
  <dc:description/>
  <dc:language>en-US</dc:language>
  <cp:lastModifiedBy>Andrey Nazarov</cp:lastModifiedBy>
  <dcterms:modified xsi:type="dcterms:W3CDTF">2014-02-18T12:51:01Z</dcterms:modified>
  <cp:revision>6</cp:revision>
  <dc:subject/>
  <dc:title>Слайд 1</dc:title>
</cp:coreProperties>
</file>