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9750-3843-4845-9C0C-94392F6A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6117-35EF-45F1-BC0A-2083D69C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D5E-18F1-4227-B1C8-8D82153A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AB26-379E-4CFD-8D40-B5DA5E9D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D08-2499-4CBC-B90F-CAAB6042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5A4-D091-4A49-AEE9-9FBD93DD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4818-EC29-4734-8A95-96CB572E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351-D753-4C56-8659-2F19F79A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28E-EAA1-40DC-B561-C91050D9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4CB1-8BB9-4FD3-8805-C967CACF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278-DE86-4C8B-83EB-54E0B0D8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B3CB-F406-429D-A0CF-027FDCF2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BA3D-A904-4807-8084-E7DB42C99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06:28:42Z</dcterms:created>
  <dc:creator>Andrey Nazarov</dc:creator>
  <dc:description/>
  <dc:language>en-US</dc:language>
  <cp:lastModifiedBy>Andrey Nazarov</cp:lastModifiedBy>
  <dcterms:modified xsi:type="dcterms:W3CDTF">2014-02-18T12:51:01Z</dcterms:modified>
  <cp:revision>6</cp:revision>
  <dc:subject/>
  <dc:title>Слайд 1</dc:title>
</cp:coreProperties>
</file>