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528E-25C3-4ECE-9087-564976913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FE94-7AAA-4D56-8EA0-3BB465481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0F3-1ABA-45AD-9362-30E691228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118D-71E2-4F0D-8C4E-D9A5F3AA7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71F-C006-41C9-8EC3-2E82D6BD4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7A7-7CE3-4FD9-BEE9-59E8123C7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A62C-311A-42DE-9CC2-154D1143F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3B91-B6AB-4FCB-8166-2F3839A24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DC9-1116-45DD-B175-9B95DD80B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8DE-62DC-4500-A52B-F1AE0AF0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B91-6716-4374-8847-9BB8A02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794-05F3-4295-A619-6D377AD3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FAD-2F99-4E10-8F08-58AE1018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DF53-43C5-43D5-8607-E7AF4C06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EF7C-9D0A-430F-9A6C-5CC1648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D94-4F3F-49B2-8933-59623A8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827-1117-41A2-BAEF-A4165F3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BC88-5729-4916-AA67-EE4D168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ADA-BFE3-4C4B-B4F8-A8FA1FE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A3CF-8A5D-46AF-BB84-F1CF289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CD6-A7B6-4B7E-BF66-E82EE3B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E7F-DC24-4992-9505-396624D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D139-849C-4935-86B1-20D97EFD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5A9E-53BE-4AF2-BAA6-D830F6E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9ECF-01D4-4EAA-AC4D-F66A3B7A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0D7-9377-4957-BA1A-C4A477CB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64CE-9126-42F3-A8ED-F98AE945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4ED9-C976-42B4-8C76-42A52CF3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A9EE-146D-44E4-B722-B43F6DC9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B033-9085-48D1-A29C-6FFAB22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EACB-7899-4E9B-8960-9828C4C1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FA4-7DD8-48DC-B16E-B8A9EC1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4316-B633-4A96-8B5E-E9F7484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BBA9-60AD-4958-9481-1B3C99E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6EA3-FBB8-43A7-9E7A-36F88D3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D9D9-8217-498E-A49C-E6BAAEC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41F1-7D84-40F2-82CF-9F3DDC4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135E-E541-45F8-A2BE-A4DCB5AB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9C06-5D4F-4F0D-AFDF-2A773F10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53DF-D8E2-4B87-ABBA-DDBB99B7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6D04-336B-475C-81C0-4D53937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7A5C-D58C-4C88-8C7F-A3BEFBFC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030-5C56-476B-A4DD-43B2B9DA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267D-2978-41FF-A1FB-06D8950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F087-7CDB-4207-8CF5-E49FC53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8083-1BCB-4668-BDD1-CDF61E5F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A847-B579-42FC-9D9C-8B3C6DC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2AA0-A576-4AED-AA9C-43058EC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0779-4B32-4B5B-B713-480E9A8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996D4-54C5-47C7-99AD-DBC75B7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9FB5-C0F1-48DF-91E7-37932B5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D26B-DB16-448B-AB50-A5EB2262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C6ED-6912-46A5-BBFF-656B0A30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947-0F26-404A-A76B-369ABAF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2881-710D-4F5E-8401-1FC1C28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C456-7223-4B9C-A9B2-B2EEC9F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F227-6529-4833-A421-1FA9DA36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B54D-1A3F-41CA-82C1-A454000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7FEA-B970-4FE9-9696-4D7EE68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D9A7-35B7-4B66-9334-7673B49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2BAA-6F27-4ECF-8156-D2582EE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30CA-074C-4F29-B104-D282DD25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4A3EF-A087-41F9-A9CD-3A381296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944E-B538-476E-A953-4FA06491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A1C-0368-4A68-970F-DE89FF8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AA8FD-1379-4EF1-B559-5BEB940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B117-C3E3-41F6-9E27-2AC9D902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4BEC-D8D7-4C48-960C-8C4CF2F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4679-A054-4CC0-AD0B-39E2EC73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E777-416A-4CCB-95D7-5FA3EAB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AB1D-FF80-4447-8BA4-D9D53EED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5979-EF27-465A-84E0-3FB246C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62F3-5012-440B-B1CE-1E825DA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927A-9245-40EC-84D0-B58D4B1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5E07-101F-4E17-8FCB-EF7723D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EFC-7CC0-4C03-BE43-2541A6B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F524-6301-490E-9C36-E3AE9CC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E1FA-7D22-4163-B528-40419134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3D74E-CCA5-4932-9684-E82D890C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0ED5-81C8-4BA9-BEF8-0764ABF2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10FA-AEA0-40C2-84C3-B2F4230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4978-7197-4CD3-B2AE-79659925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E418-7239-45E9-9F83-C30DA932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B1F6-1509-42E8-8030-13121528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A276-5956-41B9-BC02-CBEBB743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175A-B1FB-4AA7-A3E5-3B4AA7F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EA2-DA5A-48D6-916E-A75D8D5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9AEA-86B8-4B3E-84E7-967C138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4E84-8A27-47B8-992F-A5549A2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4937-789E-42D5-ACB5-6807492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89572-81FF-4AFE-B024-F9887855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F41A-B24F-4A86-B8EC-BE607657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5874-26C8-452E-AB53-9D7CCD67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AC2C-1AC2-46BC-B6A0-7701033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02CFC-34EC-4657-8BD7-23F4F25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4254-842B-4550-8FDB-29AB320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6271F-F628-47DA-BBD6-4651CDD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EE5-47DF-4E61-844D-124F064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2681-36FD-4F35-B86F-7E2257B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C1C3-FAFD-4590-AC5F-3712A04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4A74-AA4F-4A9B-999E-B495E1D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EBB3-5D74-48B6-AAD8-59FD543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21FF-3E88-4C8C-BE4D-89690CDB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520F-11C2-47AD-AFF5-E5293A5B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4003-33F2-4494-857E-0C7BA0A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EE1-6323-4B2E-B470-46B7E2C226B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53D8-798F-4FE0-B3E2-857E0E080F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CD6-6F6C-4140-A83E-C02FCA3BBAB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1D23-44F8-4D5F-B2CE-2B43E9B0E7E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613-DF29-477E-9407-C23E9B9A8F3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4F0-D07C-42D1-9A5C-C88B3EC63F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58B8-ED77-45E3-BCFA-227402D4DE9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FDE3-F686-4038-9E66-DF9E26F94C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634-5CF8-4F70-B43B-7CF3E073F29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BAD-780B-4773-9D40-2464B91C9E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0BB4-DDCC-4053-92B8-40E08394290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6E8-4547-47D2-8495-C498533341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DEA-7F16-4207-9A7A-38ED34874C5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0E1-8F02-4B31-95CF-F5A4A7EE2B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341-0CDF-43C5-B92F-B3AD79DC1F3C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F74A-87D4-437F-92E9-638F1B1CB22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0" descr=""/>
          <p:cNvPicPr/>
          <p:nvPr/>
        </p:nvPicPr>
        <p:blipFill>
          <a:blip r:embed="rId1"/>
          <a:stretch/>
        </p:blipFill>
        <p:spPr>
          <a:xfrm>
            <a:off x="420840" y="1841400"/>
            <a:ext cx="8723160" cy="2041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р.jpeg"/>
          <p:cNvPicPr/>
          <p:nvPr/>
        </p:nvPicPr>
        <p:blipFill>
          <a:blip r:embed="rId2"/>
          <a:stretch/>
        </p:blipFill>
        <p:spPr>
          <a:xfrm>
            <a:off x="3498840" y="3713040"/>
            <a:ext cx="2359080" cy="250524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D1E-6752-4618-BFA0-9C3EB8AE3F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Авторы: 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    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Руководитель: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ф.jpeg"/>
          <p:cNvPicPr/>
          <p:nvPr/>
        </p:nvPicPr>
        <p:blipFill>
          <a:blip r:embed="rId1"/>
          <a:stretch/>
        </p:blipFill>
        <p:spPr>
          <a:xfrm>
            <a:off x="3949560" y="3279600"/>
            <a:ext cx="1244880" cy="93204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678-52E9-4BA6-93E0-FEFE93ECB3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3.jpeg"/>
          <p:cNvPicPr/>
          <p:nvPr/>
        </p:nvPicPr>
        <p:blipFill>
          <a:blip r:embed="rId2"/>
          <a:stretch/>
        </p:blipFill>
        <p:spPr>
          <a:xfrm>
            <a:off x="1139760" y="3859200"/>
            <a:ext cx="1932120" cy="19018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рр.jpeg"/>
          <p:cNvPicPr/>
          <p:nvPr/>
        </p:nvPicPr>
        <p:blipFill>
          <a:blip r:embed="rId3"/>
          <a:stretch/>
        </p:blipFill>
        <p:spPr>
          <a:xfrm>
            <a:off x="3859200" y="57312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ывы.jpeg"/>
          <p:cNvPicPr/>
          <p:nvPr/>
        </p:nvPicPr>
        <p:blipFill>
          <a:blip r:embed="rId4"/>
          <a:stretch/>
        </p:blipFill>
        <p:spPr>
          <a:xfrm>
            <a:off x="785880" y="785880"/>
            <a:ext cx="2139840" cy="24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пециалист по обработке ногтей на рука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полняет косметическую обработку ногтей, придает им форму,  выполняет гигиеническую чистку, шлифовку, лечение ногтей, делает массаж пальцев рук, расслабляющие процедуры, обертывания и т. д. Покрывает ногти лаком, выполняет различные рисунки. Делает наращивание ногтей при помощи различных материалов. Занимается дизайном при помощи лаков различных цветов, используя дополнительные украшения, необычные материал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A76-DDDE-4562-AA7C-7ECDFDFBA5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График работы посменный, у представителя данной профессии есть специально оборудованное рабочее место. Работа сидячая.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айти работу можно в разнообразных центрах красоты, фитнес-клубах, банях. Маникюрша обязана посещать мастер-классы именитых специалистов, курсы повышения квалификации, специализированные выставки, показы, конкурсы, следить за последними тенденциями моды, она должна знать правила выполнения маникюрных работ 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их безопасности, ориентироваться в многообразии средств по уходу з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огтями, знать инструменты и приемы пользования и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EC2-F182-4EAA-9177-65E753E774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ужно разбираться в структуре ногтей, уметь определять возможные заболевания, способы укрепления и лечения хрупких и ломких ногтей. Человеку этой профессии понадобится умение располагать к себе собеседник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7B1-9EF0-4C0F-B69C-9FE9F8B643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4" descr="ыыы.gif"/>
          <p:cNvPicPr/>
          <p:nvPr/>
        </p:nvPicPr>
        <p:blipFill>
          <a:blip r:embed="rId1"/>
          <a:stretch/>
        </p:blipFill>
        <p:spPr>
          <a:xfrm rot="2991000">
            <a:off x="6072480" y="4501440"/>
            <a:ext cx="1928880" cy="10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Осваивать данную профессию рекомендуется людям внимательным, творческим, имеющим развитое образное мышление, точную координацию движений, хорошую моторику пальцев рук, коммуникабельность и терпение. Профессия традиционно считается женской , хотя мужчины, в принципе, при желании  могут освоить ее. Медицинскими противопоказаниями являются аллергии на химические препараты, инфекционные и кожные заболеваний и суставов, ограничивающие движение пальцев и кистей рук, серьезные нарушения зрения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484-5697-4C9C-9ADF-E9EA3C2591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6" descr="960.gif"/>
          <p:cNvPicPr/>
          <p:nvPr/>
        </p:nvPicPr>
        <p:blipFill>
          <a:blip r:embed="rId1"/>
          <a:stretch/>
        </p:blipFill>
        <p:spPr>
          <a:xfrm>
            <a:off x="2714760" y="2428920"/>
            <a:ext cx="350028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362-5244-4F74-A991-51B5C2E4F6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497800" cy="145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360360" y="2425680"/>
            <a:ext cx="8497800" cy="145116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3D82-B03F-45B6-80B7-7217507C87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9:45:59Z</dcterms:created>
  <dc:creator>addvisor</dc:creator>
  <dc:description/>
  <dc:language>en-US</dc:language>
  <cp:lastModifiedBy>Пользователь</cp:lastModifiedBy>
  <dcterms:modified xsi:type="dcterms:W3CDTF">2013-07-13T07:57:48Z</dcterms:modified>
  <cp:revision>16</cp:revision>
  <dc:subject/>
  <dc:title>маникюрша</dc:title>
</cp:coreProperties>
</file>