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0B33-80BE-4700-942D-2C647803B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6E4-4275-437E-852D-22E2D9B31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7FC3-1A2B-4A6E-951C-7C8017978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ED7-84FD-483C-91F0-9F887A25C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705D-4FE7-4F2D-A9F2-6202B00F4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A06-F24D-410C-A944-D61624004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23DC-2987-4A06-A8AE-594EBF24E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605-62A2-4D5D-A3DB-08B9EC548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9D01-BE07-4444-B322-1DFB15366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A24-EB94-4BE3-ABE7-E94FD3B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91F-6A7C-4807-A920-9A85363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EB1-35A7-4F79-AC27-3ABFF8E6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062-E25D-4ADF-8F18-0CBD92DE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9CA-BFA8-4F15-BDB4-48F980B1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0F0-933B-4063-9E55-9732C35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4DD7-5F57-48BB-8193-B37988B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B857-4282-4F4D-BA83-E57DD76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9B9-37BB-4C82-8EE9-0F4CB0CA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6E4-F747-4319-84F9-B46A53F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9CEE-2EF8-4EC7-B636-72400AE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0BD-0B8C-4E6E-9F25-4EED336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419C-5A22-4883-8582-6629026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3A23-E805-48AD-879E-9FC9500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33A-3F46-490D-9E0A-B1BE2D1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643-AAF6-4470-A05A-B594DD51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C516-C2BB-4878-B356-609AE17A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7C75-B478-4F45-9865-C88D4A74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E15D-E368-4BEC-B637-071E95E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CAD7-5AC7-4638-BB17-78D7FE2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233C-6EDB-4F55-A3E6-1E811B3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214C-9404-4A17-B4BD-571B19A8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43-D315-403A-B21E-B70332E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73F2-7D3A-472B-B78B-FC3ED283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B10D-769B-49C1-8546-613DA41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DF9B-9D7A-4A5B-9DB6-75E8750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A8D3-E927-4477-B0AF-23784E9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7980-FC2F-484B-90BD-5D3B9124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4541-10D7-4669-BAF5-46A07D3A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D20F-6A64-4073-9C57-BD0D4367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2BCB-8AFC-4342-8863-AE09D5F0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9D9B-4841-449A-9041-206619DE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8CB0-C14D-4394-91E4-1080A80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D45-163E-40AA-B651-E95B3E8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6394-F37B-4301-A353-5B42133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5A73-0F28-4D1F-8451-9CD8352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E629-C611-4465-82AF-D215C9FE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8B19-FD60-4B0A-9059-AF3DCE6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D824-E260-42E9-AE26-CE6090B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7C9F-C91A-493E-B8E6-4DD65585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BBA7-4562-495D-8E5E-3CAC34F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3FC9-DD2E-4820-A093-EA0B3827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0BBC-28D6-4BF4-917A-38A35017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4DBF-836D-42D7-A5F6-421EA44F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FF1-405E-4013-929A-5F91BB55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462D-049B-4195-A0D0-C157512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091E-63FF-44B7-ADD3-6205181F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E869-FF2C-47FF-B830-FE237E7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FB07-57F2-419D-A193-89D7035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6410-A1A8-4DFA-9C13-3B14DEA1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977F-6655-4588-AD30-AA2923E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53D5-D398-4263-A114-988A8E5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4CAF-B523-4491-800A-A61CACE8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B036-6ECA-4E5D-A80A-0F96B92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F554-CA77-45F1-BC44-6E7B41E2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DBC-783E-43B9-B9D4-C9452DAC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27F0-D06E-45D7-A7EA-ED20A00E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7FB8-06C2-45E4-B8A1-E92D512E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6E39-E0AE-4D83-A466-25DE1C3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C919-356D-49D6-9B51-811B92B0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7C3C-C2D2-4DD0-9001-ABBB91C8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89F3-8BA7-492D-9129-1AFEC64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8071-3FE2-4021-8428-A2B7DFF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9BA3-5336-42C5-9406-109BC2CA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D59FC-1E97-49C6-AE38-9B66AA29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A5EA-DF37-43DE-827C-8621CC1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BE5-C031-422A-8963-05D69C5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56A5-86ED-45EB-912C-2EC29F91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7A90-1CCC-48AF-B13C-D30C9378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CB10-49EC-46E5-A8D6-F693518F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7F67-0415-4C2F-8FA6-BF0B80EB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B82F-6B20-4D5C-BC06-E4BAF54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40791-36A7-4803-877C-BACB0EE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A4D0-DC6D-4761-8C5B-76AAEFE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7E7E-877F-4CD3-A577-2A05158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D71DC-D3F2-4D0B-865D-D02D270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1CE0-EEDE-40BA-90B8-C02431D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A1C-B704-4F42-86EA-5DCEB3C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CE51-A824-48D1-AB3F-7E3647E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44B0-B299-4092-9FFF-F4707C0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0F95-73CA-45DB-9E6A-5D4B5ED8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2C55-4515-473D-B9D8-433037E1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FC57-FF3C-4D31-84F2-B28D54F0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FC08-13A7-4A21-9348-88BB0F12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EC85-9B3D-4CF0-BF1F-8C0C5F7F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EA48-7D4C-40BD-86F5-80811FFB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90282-7363-4F3D-A0F6-DAB7DFA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7096-EDC8-4566-B5B7-00693F1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461-708C-487E-B58D-033DAFD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B689-0CDF-48CE-BC86-080CB0C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D10E-BC18-47BF-8FE0-976194F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B195-7429-4F21-995E-613EFD0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7F7D-7FAA-4B1D-BAFD-593EDC1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A5817-FDF3-4BE8-80C6-198275E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8A39E-BEB0-4FB2-A276-8A36C63B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36B4-1CAF-47E5-A0CC-29437D8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30EC-E9C4-4DB0-8E6B-FEE7CCB136B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457-1C7A-426B-8E6C-AE373141F9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F35-BF3E-4DD2-A905-1B936000B837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973-DECE-4B37-AE7C-6705A48132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B0E-5093-4D86-AB75-7FA687F8126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A4D5-E989-45E6-842A-860E7A357D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DA25-D5BA-469C-BA31-B4171516834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5D31-55DD-4A2B-9018-15C454994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0A29-63C0-40A4-AED0-76EDDD5B676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287-74B9-4957-A737-55192A49CD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C99-89E5-46D8-BAC1-3A892F76B32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7C6-E37B-49D7-8BB7-6A9A68FF51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5C29-B1E8-418E-9675-4E12CB8B57C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765-DDB3-454F-B1FC-0244062A64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D7E-E26D-49A6-8152-55157A06D01B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F2FB-F291-4F57-A14B-FE439093EC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0" descr=""/>
          <p:cNvPicPr/>
          <p:nvPr/>
        </p:nvPicPr>
        <p:blipFill>
          <a:blip r:embed="rId1"/>
          <a:stretch/>
        </p:blipFill>
        <p:spPr>
          <a:xfrm>
            <a:off x="420840" y="1841400"/>
            <a:ext cx="8723160" cy="2041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р.jpeg"/>
          <p:cNvPicPr/>
          <p:nvPr/>
        </p:nvPicPr>
        <p:blipFill>
          <a:blip r:embed="rId2"/>
          <a:stretch/>
        </p:blipFill>
        <p:spPr>
          <a:xfrm>
            <a:off x="3498840" y="3713040"/>
            <a:ext cx="2359080" cy="250524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5B3-F33E-42F8-87D0-0C23F7D960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Авторы: 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    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Руководитель: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ф.jpeg"/>
          <p:cNvPicPr/>
          <p:nvPr/>
        </p:nvPicPr>
        <p:blipFill>
          <a:blip r:embed="rId1"/>
          <a:stretch/>
        </p:blipFill>
        <p:spPr>
          <a:xfrm>
            <a:off x="3949560" y="3279600"/>
            <a:ext cx="1244880" cy="93204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9B08-8979-4947-8176-B4BBFA25C8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3.jpeg"/>
          <p:cNvPicPr/>
          <p:nvPr/>
        </p:nvPicPr>
        <p:blipFill>
          <a:blip r:embed="rId2"/>
          <a:stretch/>
        </p:blipFill>
        <p:spPr>
          <a:xfrm>
            <a:off x="1139760" y="3859200"/>
            <a:ext cx="1932120" cy="19018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рр.jpeg"/>
          <p:cNvPicPr/>
          <p:nvPr/>
        </p:nvPicPr>
        <p:blipFill>
          <a:blip r:embed="rId3"/>
          <a:stretch/>
        </p:blipFill>
        <p:spPr>
          <a:xfrm>
            <a:off x="3859200" y="57312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ывы.jpeg"/>
          <p:cNvPicPr/>
          <p:nvPr/>
        </p:nvPicPr>
        <p:blipFill>
          <a:blip r:embed="rId4"/>
          <a:stretch/>
        </p:blipFill>
        <p:spPr>
          <a:xfrm>
            <a:off x="785880" y="785880"/>
            <a:ext cx="2139840" cy="24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пециалист по обработке ногтей на рука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полняет косметическую обработку ногтей, придает им форму,  выполняет гигиеническую чистку, шлифовку, лечение ногтей, делает массаж пальцев рук, расслабляющие процедуры, обертывания и т. д. Покрывает ногти лаком, выполняет различные рисунки. Делает наращивание ногтей при помощи различных материалов. Занимается дизайном при помощи лаков различных цветов, используя дополнительные украшения, необычные материал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917-E845-4941-931C-EE2C5FCCC0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График работы посменный, у представителя данной профессии есть специально оборудованное рабочее место. Работа сидячая.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айти работу можно в разнообразных центрах красоты, фитнес-клубах, банях. Маникюрша обязана посещать мастер-классы именитых специалистов, курсы повышения квалификации, специализированные выставки, показы, конкурсы, следить за последними тенденциями моды, она должна знать правила выполнения маникюрных работ 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их безопасности, ориентироваться в многообразии средств по уходу з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огтями, знать инструменты и приемы пользования и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860C-15D8-4F8A-B166-A421136E76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ужно разбираться в структуре ногтей, уметь определять возможные заболевания, способы укрепления и лечения хрупких и ломких ногтей. Человеку этой профессии понадобится умение располагать к себе собеседник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A9BC-7F7E-4A2C-B650-6D4BE4BCC1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4" descr="ыыы.gif"/>
          <p:cNvPicPr/>
          <p:nvPr/>
        </p:nvPicPr>
        <p:blipFill>
          <a:blip r:embed="rId1"/>
          <a:stretch/>
        </p:blipFill>
        <p:spPr>
          <a:xfrm rot="2991000">
            <a:off x="6072480" y="4501440"/>
            <a:ext cx="1928880" cy="10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Осваивать данную профессию рекомендуется людям внимательным, творческим, имеющим развитое образное мышление, точную координацию движений, хорошую моторику пальцев рук, коммуникабельность и терпение. Профессия традиционно считается женской , хотя мужчины, в принципе, при желании  могут освоить ее. Медицинскими противопоказаниями являются аллергии на химические препараты, инфекционные и кожные заболеваний и суставов, ограничивающие движение пальцев и кистей рук, серьезные нарушения зрения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79E-0006-4056-BD12-6C9A7729EA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6" descr="960.gif"/>
          <p:cNvPicPr/>
          <p:nvPr/>
        </p:nvPicPr>
        <p:blipFill>
          <a:blip r:embed="rId1"/>
          <a:stretch/>
        </p:blipFill>
        <p:spPr>
          <a:xfrm>
            <a:off x="2714760" y="2428920"/>
            <a:ext cx="350028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0B64-0843-4A61-B043-E7BE797AD7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497800" cy="145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360360" y="2425680"/>
            <a:ext cx="8497800" cy="145116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FF39-CEF7-423E-AED2-D5FC8BDA02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9:45:59Z</dcterms:created>
  <dc:creator>addvisor</dc:creator>
  <dc:description/>
  <dc:language>en-US</dc:language>
  <cp:lastModifiedBy>Пользователь</cp:lastModifiedBy>
  <dcterms:modified xsi:type="dcterms:W3CDTF">2013-07-13T07:57:48Z</dcterms:modified>
  <cp:revision>16</cp:revision>
  <dc:subject/>
  <dc:title>маникюрша</dc:title>
</cp:coreProperties>
</file>