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8AF5-5906-41D4-A577-6BEBD12760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627D-D907-4101-B40F-70C6C1D680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7478-ED19-4ABC-BE12-580C62E704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7233-F053-4F28-9D88-655FE92183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22E7-C785-4C2C-9875-F87576F7B5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7AD4-2059-4325-91B0-0C7C629D59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FF9B-42B5-49A8-8F38-F88150AD55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68A2-82AE-43B7-B527-3D306C0AEF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3BB6-8602-4B06-9CFD-014957573E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3B16-A25F-43A5-BF96-F79640B8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ADAA-DF2C-4104-9F46-A58B9CAE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737E-186C-4422-B64A-C473BDF0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4FED-B902-4D62-ABC4-D499A3FD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A55A-D51B-47EF-B760-A1A930A7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1234-CEE9-45D1-9DF8-B94E0686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B154-BAF7-41B2-A4B4-8EDEBF72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0283-55D5-4A9F-BAFA-B7071B8B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93FC-C679-416B-9425-B46DE63D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5081-D87B-42B0-9AD5-994D7F0B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B7C5-5E8B-4DC7-BCB3-DC26252D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256C-BB0D-4C57-97A5-722447DC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F752-4202-4E6D-89BA-3169B62D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A3FF-850F-4E8B-9E6C-82E5B546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D779-3563-4ADE-A97F-5B119AF3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5E7A-9164-424E-84DC-7AE5105B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1EC6-B300-4878-85AD-0C3D02A5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85676-C2FB-4A88-B8F3-7666AA54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EA855-AA77-4BE6-A21A-93A7A899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DBE43-D1DA-4FDD-9893-63DF5080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83C29-112E-40EF-9E6A-6DA1D80D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F803B-FCE4-4F48-9FE4-6C8C5BCF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C4EA-9D05-4931-BB09-A5D4DCB8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A9FAD-E4B5-4D19-97F3-22227B4F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A8F77-564F-49EB-893C-9969187E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093B4-9A04-4629-83F5-705FC019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96C83-37BF-4F83-96B8-6C66766D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C5AE6-3377-4FD8-9D77-E3F5F3BC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88529-48C4-4E55-954A-D5DD64C5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F3E19-66C0-4CE9-AD11-D448D623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A6460-6C74-4159-B5B3-33591D75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3E8F0-6DDD-4D95-8981-21C9432B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5697E-1E36-4AB7-B778-871177D1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952-397E-467C-B944-9A30E842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C8940-5BB2-465D-BB91-FA9B8AAB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EDD3E-837F-45CA-80CF-9FBFFE0C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8D209-E9B9-4794-8DBD-5B26EC4F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92A73-0F85-43AE-85FF-F867AF84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72E66-7E47-4C0C-A919-A57DF59C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4568D-BA15-4BDA-A5E7-50458B60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773A1-6964-4EAE-A995-1B0A148E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73F57-389C-4431-B0B1-8AC5F27A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9B65A-29FC-4594-9A1E-F6AD34FE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CD001-F5F3-4550-A7A7-83A4F064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1D52-022C-4E38-B32C-53A2AAB7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452C0-2198-421D-A5E9-57064BDF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2279D-072B-4E42-A790-2A47C99A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DC9FD-09D2-47C1-BEF6-0DF544AF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565EA-4B07-40D2-A2BB-306E64F5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4215E-E92A-4AF9-8A81-70BC6983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0CCF8-2974-4A89-88E1-59A936E3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5E2FC-FE79-4CF7-B171-F09A0D6D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012DA-C826-498F-B3D2-F73228F6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2485A-3C8D-4EF0-B3DC-DC40A7C5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85605-F64B-4F00-8BA2-D8CF5140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629D-C06A-424E-BC85-3EE49E81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35554-462D-4C64-9DBB-79F5B46B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F62B6-CB49-40BF-809D-FECEAF96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44D8F-329A-465C-995F-CC00EDDE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D2DF0-5538-41B8-AAE6-4DEAB314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C649B-C0C0-426C-9A32-E5B13857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D0BEF-30B8-4C1C-B636-F7F11C53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3821A-A42C-4994-B1EA-C760F1CF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CB195-8126-45F0-B647-DE6FF57F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CB2E9-79A9-43EF-954A-B8E66443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F7458-2B43-4BAF-973D-47F57597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BE4C-6992-4445-9687-F7E4FDBF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33608-4F83-44A0-9AF7-565B2295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42493-4A2D-43D0-81E8-1C36ED63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D7AE6-4DCC-4622-80B3-9A14E19E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BC19C-4265-48AE-8EEF-D080D496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70F37-5AA7-4026-A2C4-32AD081A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64CDB-989C-41F4-8D4A-7801D5A9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411AA-E28A-4B50-BC41-25E970D3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F5F4F-EF1B-40EA-A73E-4077FBDF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1C1D4-1DEF-4A20-A27E-B6712411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CB7F5-9BCA-4B08-A984-AFD9FFCB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F9C5-9368-42D2-AD87-C1AEFA01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197BF-7561-402B-A69D-A6CF99B5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E2581-E6BB-422E-A260-66AD379B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65591-CBA5-4239-8683-7C2E7F7E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ACB42-4A5A-4BB5-83AA-5FF04B62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C8930-3C4B-4453-BDF5-32E553F4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29316-A639-4FF1-B339-E7A030FE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6F304-C00F-4397-BEB5-BD46F1DE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A33BE-37C4-4E07-A5F1-12A3D52A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33BC5-6192-4ED7-921D-16D830BC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123A5-F1D0-457D-AF7D-819413C0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8EC4-B021-46E1-BA60-EC9D991C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2346B-CE01-4D0C-B266-B9799F66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FB460-0648-4232-A158-429AB6EB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83CCB-A2B6-4E40-9B3A-9A02D643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98039-2FFF-4414-A95A-2C22D986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C26C1-7295-48CD-B0E0-4E5DFE48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81890-6F25-43B9-847D-4CF22439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9E8A7-CDD2-4822-A4BA-492F4594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0AE9-0FEC-4E28-AC52-63F28E5DA0F7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314B-460C-4287-8B9F-A61EAFACB3E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7AAB-004D-4ACF-8268-B1B41545DD9D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0E97-0C0A-4DF4-8886-7AA1B09CE55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6EEB-19C1-4215-9BF1-123D9F2B8DD3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92CE-0D19-4FDD-AE6C-897ECE5300C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ED65-A2AB-4936-98DF-8028BBB0F246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9671-E19F-4DBE-BAD8-C33972EF0B4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0D1D-F377-4349-BF5E-EECDD507ECA2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A767-6DFD-48DD-A206-FBFB6C7A904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888F-6D4F-4B2D-9BC2-2CD740F776C3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09C2-CDBD-4244-AD8C-41634AD7C21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24AD-0A61-48D1-90D0-CEAAB79134B1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6973-ACBF-4846-8346-B0525EC2D3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123F-9A69-4843-87C2-E97A6E1B9A95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3F16-C4A0-4408-8E7F-B0F178549F1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Прямоугольник 10" descr=""/>
          <p:cNvPicPr/>
          <p:nvPr/>
        </p:nvPicPr>
        <p:blipFill>
          <a:blip r:embed="rId1"/>
          <a:stretch/>
        </p:blipFill>
        <p:spPr>
          <a:xfrm>
            <a:off x="420840" y="1841400"/>
            <a:ext cx="8723160" cy="204156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5" descr="р.jpeg"/>
          <p:cNvPicPr/>
          <p:nvPr/>
        </p:nvPicPr>
        <p:blipFill>
          <a:blip r:embed="rId2"/>
          <a:stretch/>
        </p:blipFill>
        <p:spPr>
          <a:xfrm>
            <a:off x="3498840" y="3713040"/>
            <a:ext cx="2359080" cy="2505240"/>
          </a:xfrm>
          <a:prstGeom prst="rect">
            <a:avLst/>
          </a:prstGeom>
          <a:ln w="0">
            <a:noFill/>
          </a:ln>
        </p:spPr>
      </p:pic>
      <p:sp>
        <p:nvSpPr>
          <p:cNvPr id="379" name="Номер слайда 1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D81D-2D24-4B82-862B-910D4EC2EE0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Содержимое 2"/>
          <p:cNvSpPr/>
          <p:nvPr/>
        </p:nvSpPr>
        <p:spPr>
          <a:xfrm>
            <a:off x="285840" y="142920"/>
            <a:ext cx="86439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2060"/>
                </a:solidFill>
                <a:uFillTx/>
                <a:latin typeface="Lucida Sans Unicode"/>
              </a:rPr>
              <a:t>Авторы:  </a:t>
            </a:r>
            <a:r>
              <a:rPr b="1" lang="ru-RU" sz="1400" spc="-1" strike="noStrike">
                <a:solidFill>
                  <a:srgbClr val="002060"/>
                </a:solidFill>
                <a:latin typeface="Lucida Sans Unicode"/>
              </a:rPr>
              <a:t>Бельды Наталья,  ученица 9 кл. (</a:t>
            </a:r>
            <a:r>
              <a:rPr b="1" lang="en-US" sz="1400" spc="-1" strike="noStrike">
                <a:solidFill>
                  <a:srgbClr val="002060"/>
                </a:solidFill>
                <a:latin typeface="Lucida Sans Unicode"/>
              </a:rPr>
              <a:t>VIII</a:t>
            </a:r>
            <a:r>
              <a:rPr b="1" lang="ru-RU" sz="1400" spc="-1" strike="noStrike">
                <a:solidFill>
                  <a:srgbClr val="002060"/>
                </a:solidFill>
                <a:latin typeface="Lucida Sans Unicode"/>
              </a:rPr>
              <a:t> вида); Галочкин Алексей, ученик 6 кл. (</a:t>
            </a:r>
            <a:r>
              <a:rPr b="1" lang="en-US" sz="1400" spc="-1" strike="noStrike">
                <a:solidFill>
                  <a:srgbClr val="002060"/>
                </a:solidFill>
                <a:latin typeface="Lucida Sans Unicode"/>
              </a:rPr>
              <a:t>VIII</a:t>
            </a:r>
            <a:r>
              <a:rPr b="1" lang="ru-RU" sz="1400" spc="-1" strike="noStrike">
                <a:solidFill>
                  <a:srgbClr val="002060"/>
                </a:solidFill>
                <a:latin typeface="Lucida Sans Unicode"/>
              </a:rPr>
              <a:t> вид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Lucida Sans Unicode"/>
              </a:rPr>
              <a:t>Воронина Светлана, ученица 6 кл. (</a:t>
            </a:r>
            <a:r>
              <a:rPr b="1" lang="en-US" sz="1400" spc="-1" strike="noStrike">
                <a:solidFill>
                  <a:srgbClr val="002060"/>
                </a:solidFill>
                <a:latin typeface="Lucida Sans Unicode"/>
              </a:rPr>
              <a:t>VIII</a:t>
            </a:r>
            <a:r>
              <a:rPr b="1" lang="ru-RU" sz="1400" spc="-1" strike="noStrike">
                <a:solidFill>
                  <a:srgbClr val="002060"/>
                </a:solidFill>
                <a:latin typeface="Lucida Sans Unicode"/>
              </a:rPr>
              <a:t> вида); Кузминская Виктория, ученица 6 кл. (</a:t>
            </a:r>
            <a:r>
              <a:rPr b="1" lang="en-US" sz="1400" spc="-1" strike="noStrike">
                <a:solidFill>
                  <a:srgbClr val="002060"/>
                </a:solidFill>
                <a:latin typeface="Lucida Sans Unicode"/>
              </a:rPr>
              <a:t>VIII</a:t>
            </a:r>
            <a:r>
              <a:rPr b="1" lang="ru-RU" sz="1400" spc="-1" strike="noStrike">
                <a:solidFill>
                  <a:srgbClr val="002060"/>
                </a:solidFill>
                <a:latin typeface="Lucida Sans Unicode"/>
              </a:rPr>
              <a:t> вида); Швец Анастасия, ученица 6 кл. (</a:t>
            </a:r>
            <a:r>
              <a:rPr b="1" lang="en-US" sz="1400" spc="-1" strike="noStrike">
                <a:solidFill>
                  <a:srgbClr val="002060"/>
                </a:solidFill>
                <a:latin typeface="Lucida Sans Unicode"/>
              </a:rPr>
              <a:t>VIII</a:t>
            </a:r>
            <a:r>
              <a:rPr b="1" lang="ru-RU" sz="1400" spc="-1" strike="noStrike">
                <a:solidFill>
                  <a:srgbClr val="002060"/>
                </a:solidFill>
                <a:latin typeface="Lucida Sans Unicode"/>
              </a:rPr>
              <a:t> вид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Lucida Sans Unicode"/>
              </a:rPr>
              <a:t>      </a:t>
            </a:r>
            <a:r>
              <a:rPr b="1" lang="ru-RU" sz="1400" spc="-1" strike="noStrike" u="sng">
                <a:solidFill>
                  <a:srgbClr val="002060"/>
                </a:solidFill>
                <a:uFillTx/>
                <a:latin typeface="Lucida Sans Unicode"/>
              </a:rPr>
              <a:t> </a:t>
            </a:r>
            <a:r>
              <a:rPr b="1" lang="ru-RU" sz="1400" spc="-1" strike="noStrike" u="sng">
                <a:solidFill>
                  <a:srgbClr val="002060"/>
                </a:solidFill>
                <a:uFillTx/>
                <a:latin typeface="Lucida Sans Unicode"/>
              </a:rPr>
              <a:t>Руководитель: </a:t>
            </a:r>
            <a:r>
              <a:rPr b="1" lang="ru-RU" sz="1400" spc="-1" strike="noStrike">
                <a:solidFill>
                  <a:srgbClr val="002060"/>
                </a:solidFill>
                <a:latin typeface="Lucida Sans Unicode"/>
              </a:rPr>
              <a:t>педагог-психолог Паскал   Виктория Викторов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Содержимое 3" descr="ф.jpeg"/>
          <p:cNvPicPr/>
          <p:nvPr/>
        </p:nvPicPr>
        <p:blipFill>
          <a:blip r:embed="rId1"/>
          <a:stretch/>
        </p:blipFill>
        <p:spPr>
          <a:xfrm>
            <a:off x="3949560" y="3279600"/>
            <a:ext cx="1244880" cy="932040"/>
          </a:xfrm>
          <a:prstGeom prst="rect">
            <a:avLst/>
          </a:prstGeom>
          <a:ln w="0">
            <a:noFill/>
          </a:ln>
        </p:spPr>
      </p:pic>
      <p:sp>
        <p:nvSpPr>
          <p:cNvPr id="382" name="Номер слайда 8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9DDA-EFE0-4E42-947C-75A994F3C15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Рисунок 4" descr="3.jpeg"/>
          <p:cNvPicPr/>
          <p:nvPr/>
        </p:nvPicPr>
        <p:blipFill>
          <a:blip r:embed="rId2"/>
          <a:stretch/>
        </p:blipFill>
        <p:spPr>
          <a:xfrm>
            <a:off x="1139760" y="3859200"/>
            <a:ext cx="1932120" cy="190188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6" descr="рр.jpeg"/>
          <p:cNvPicPr/>
          <p:nvPr/>
        </p:nvPicPr>
        <p:blipFill>
          <a:blip r:embed="rId3"/>
          <a:stretch/>
        </p:blipFill>
        <p:spPr>
          <a:xfrm>
            <a:off x="3859200" y="573120"/>
            <a:ext cx="3857760" cy="357192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7" descr="ывы.jpeg"/>
          <p:cNvPicPr/>
          <p:nvPr/>
        </p:nvPicPr>
        <p:blipFill>
          <a:blip r:embed="rId4"/>
          <a:stretch/>
        </p:blipFill>
        <p:spPr>
          <a:xfrm>
            <a:off x="785880" y="785880"/>
            <a:ext cx="2139840" cy="242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Специалист по обработке ногтей на руках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Выполняет косметическую обработку ногтей, придает им форму,  выполняет гигиеническую чистку, шлифовку, лечение ногтей, делает массаж пальцев рук, расслабляющие процедуры, обертывания и т. д. Покрывает ногти лаком, выполняет различные рисунки. Делает наращивание ногтей при помощи различных материалов. Занимается дизайном при помощи лаков различных цветов, используя дополнительные украшения, необычные материалы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887A-AE47-4CE8-AA40-4B6680E87D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85716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График работы посменный, у представителя данной профессии есть специально оборудованное рабочее место. Работа сидячая.</a:t>
            </a: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Найти работу можно в разнообразных центрах красоты, фитнес-клубах, банях. Маникюрша обязана посещать мастер-классы именитых специалистов, курсы повышения квалификации, специализированные выставки, показы, конкурсы, следить за последними тенденциями моды, она должна знать правила выполнения маникюрных работ 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их безопасности, ориентироваться в многообразии средств по уходу за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ногтями, знать инструменты и приемы пользования ими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FECE-EAE6-4D7A-8F99-EFE5F9AE5D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28584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ужно разбираться в структуре ногтей, уметь определять возможные заболевания, способы укрепления и лечения хрупких и ломких ногтей. Человеку этой профессии понадобится умение располагать к себе собеседник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05EC-9003-4A56-8821-A897AED10A9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Рисунок 4" descr="ыыы.gif"/>
          <p:cNvPicPr/>
          <p:nvPr/>
        </p:nvPicPr>
        <p:blipFill>
          <a:blip r:embed="rId1"/>
          <a:stretch/>
        </p:blipFill>
        <p:spPr>
          <a:xfrm rot="2991000">
            <a:off x="6072480" y="4501440"/>
            <a:ext cx="1928880" cy="109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Осваивать данную профессию рекомендуется людям внимательным, творческим, имеющим развитое образное мышление, точную координацию движений, хорошую моторику пальцев рук, коммуникабельность и терпение. Профессия традиционно считается женской , хотя мужчины, в принципе, при желании  могут освоить ее. Медицинскими противопоказаниями являются аллергии на химические препараты, инфекционные и кожные заболеваний и суставов, ограничивающие движение пальцев и кистей рук, серьезные нарушения зрения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52FD-0EE0-4F99-9204-3ED3276856B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Содержимое 6" descr="960.gif"/>
          <p:cNvPicPr/>
          <p:nvPr/>
        </p:nvPicPr>
        <p:blipFill>
          <a:blip r:embed="rId1"/>
          <a:stretch/>
        </p:blipFill>
        <p:spPr>
          <a:xfrm>
            <a:off x="2714760" y="2428920"/>
            <a:ext cx="3500280" cy="3571920"/>
          </a:xfrm>
          <a:prstGeom prst="rect">
            <a:avLst/>
          </a:prstGeom>
          <a:ln w="0">
            <a:noFill/>
          </a:ln>
        </p:spPr>
      </p:pic>
      <p:sp>
        <p:nvSpPr>
          <p:cNvPr id="396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6159-F979-4CC0-A767-B95FD7FF564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Прямоугольник 3" descr=""/>
          <p:cNvPicPr/>
          <p:nvPr/>
        </p:nvPicPr>
        <p:blipFill>
          <a:blip r:embed="rId2"/>
          <a:stretch/>
        </p:blipFill>
        <p:spPr>
          <a:xfrm>
            <a:off x="285840" y="426960"/>
            <a:ext cx="8497800" cy="1451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Прямоугольник 3" descr=""/>
          <p:cNvPicPr/>
          <p:nvPr/>
        </p:nvPicPr>
        <p:blipFill>
          <a:blip r:embed="rId1"/>
          <a:stretch/>
        </p:blipFill>
        <p:spPr>
          <a:xfrm>
            <a:off x="360360" y="2425680"/>
            <a:ext cx="8497800" cy="1451160"/>
          </a:xfrm>
          <a:prstGeom prst="rect">
            <a:avLst/>
          </a:prstGeom>
          <a:ln w="0">
            <a:noFill/>
          </a:ln>
        </p:spPr>
      </p:pic>
      <p:sp>
        <p:nvSpPr>
          <p:cNvPr id="399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92D8-400E-4479-865B-F825642DCA4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09:45:59Z</dcterms:created>
  <dc:creator>addvisor</dc:creator>
  <dc:description/>
  <dc:language>en-US</dc:language>
  <cp:lastModifiedBy>Пользователь</cp:lastModifiedBy>
  <dcterms:modified xsi:type="dcterms:W3CDTF">2013-07-13T07:57:48Z</dcterms:modified>
  <cp:revision>16</cp:revision>
  <dc:subject/>
  <dc:title>маникюрша</dc:title>
</cp:coreProperties>
</file>