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E95-A941-45B5-9B16-615F3411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19B-EF83-496D-9822-32B4C8A3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AB1D-174E-45CB-B61F-91874AAA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918-37EA-43E4-926B-BE438AF3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5560-25AE-4320-BAD1-287937DC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11EA-5EF7-4577-99EF-20811984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E9D9-12D2-4C56-9CF5-B95623D0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DAC0-81E3-41B0-AA9C-9FBC9C69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B4A8-7885-4A54-A806-94178974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4BB5-DC59-43C9-AAE9-83E5FE11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8EBF-DBFB-4F52-B560-A6F96ABB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B69-76BB-4110-B348-A3EDE05B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DA63-19DB-41DB-AB8C-AEF307D6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3F61-8F17-471E-8E92-ED9BB377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8C7F-22AA-4492-9338-4FD44521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DC90-BC83-4522-B860-66948348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6B35-0EC7-421B-9F74-E6D700E2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562EC-4DA2-4B7C-A64A-200AAAE5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59DC-20D2-40A0-A2B0-27275945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F9672-8EA6-4554-99B8-A2B7AB25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1D1E0-6C74-4C31-BD72-117105FB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F4CEA-466F-4D66-A41C-4D061A22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847-E8FB-49A4-B147-652775A2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C5EA-1EF8-44BF-B308-9976AEC2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F4AD3-BED7-4C14-AA71-9614A2DB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2C701-BC77-4000-9E0B-56774848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5F669-C6CB-497B-8155-82A53463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FE8F3-980E-49EC-83C5-EBA07406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4FE74-5258-4EA5-BB1E-3FCDACBC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C9DC5-F297-433E-94AB-70D9F7BE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AB8-B81E-4B6E-AA2B-099D6DB5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449-4E89-4E94-825F-B7374A2C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E70-E85E-46F0-B2B4-8E51C520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E52-ACDD-4C95-B7B0-D47CF10D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A61-8E28-4E11-8AB2-96D878E9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493-5E01-49A0-AC94-D663FF9B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B8EC-81B1-4A57-87E6-2FB32A7C6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7732-E96A-497D-999E-D88A34EB3A4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637C-B7B8-470A-AB8E-6917AA96DC0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balandin.net/Miditeka/Miditeka.line.gif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ob.1september.ru/2002/24/4.gif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ewyork.ru/ic/img.lenta.ru/culture/2005/01/08/mozart/picture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Impact"/>
              </a:rPr>
              <a:t>Магия музы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99640" y="3357720"/>
            <a:ext cx="7704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181440" y="260280"/>
            <a:ext cx="9325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I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ЛИЯНИЕ МУЗЫКИ НА ФОРМИРОВАНИЕ                    ИНТЕ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КТУАЛЬНОЙ И НРАВСТВЕННОЙ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УЛЬТУРЫ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68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68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68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68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507520" cy="34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cc"/>
                </a:solidFill>
                <a:latin typeface="Arial"/>
              </a:rPr>
              <a:t>"Музыка усиливает любую радость,</a:t>
            </a:r>
            <a:br>
              <a:rPr sz="2800"/>
            </a:br>
            <a:r>
              <a:rPr b="1" lang="ru-RU" sz="2800" spc="-1" strike="noStrike">
                <a:solidFill>
                  <a:srgbClr val="ff99cc"/>
                </a:solidFill>
                <a:latin typeface="Arial"/>
              </a:rPr>
              <a:t> успокаивает любую печаль, </a:t>
            </a:r>
            <a:br>
              <a:rPr sz="2800"/>
            </a:br>
            <a:r>
              <a:rPr b="1" lang="ru-RU" sz="2800" spc="-1" strike="noStrike">
                <a:solidFill>
                  <a:srgbClr val="ff99cc"/>
                </a:solidFill>
                <a:latin typeface="Arial"/>
              </a:rPr>
              <a:t>изгоняет болезни,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мягчает</a:t>
            </a:r>
            <a:r>
              <a:rPr b="1" lang="ru-RU" sz="2800" spc="-1" strike="noStrike">
                <a:solidFill>
                  <a:srgbClr val="ff99cc"/>
                </a:solidFill>
                <a:latin typeface="Arial"/>
              </a:rPr>
              <a:t> любую боль.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 поэтому Мудрецы Древности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оклонялись Единой силе Души,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елодии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и Песне"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1.Мудрость музы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68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68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68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2.2.Современные научны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о интенсивно изучается влияние музыки в последние десятилетия. Эксперименты ведутся в нескольких направления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ияние отдельных музыкальных инструментов на живые организ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ияние музыки великих гениев человечества; индивидуальное воздействие отдельных произведений композитор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ействие на организм человека традиционных народных направлений в музыке, а также современных направл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4" descr="i?id=717&amp;tov=5"/>
          <p:cNvPicPr/>
          <p:nvPr/>
        </p:nvPicPr>
        <p:blipFill>
          <a:blip r:embed="rId1"/>
          <a:stretch/>
        </p:blipFill>
        <p:spPr>
          <a:xfrm>
            <a:off x="324000" y="472428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"/>
          <p:cNvSpPr/>
          <p:nvPr/>
        </p:nvSpPr>
        <p:spPr>
          <a:xfrm>
            <a:off x="4672080" y="333468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9" descr="Картинка 114 из 13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5734080"/>
            <a:ext cx="5472000" cy="1123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i?id=717&amp;tov=5"/>
          <p:cNvPicPr/>
          <p:nvPr/>
        </p:nvPicPr>
        <p:blipFill>
          <a:blip r:embed="rId4"/>
          <a:stretch/>
        </p:blipFill>
        <p:spPr>
          <a:xfrm>
            <a:off x="324000" y="285264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0" descr="i?id=717&amp;tov=5"/>
          <p:cNvPicPr/>
          <p:nvPr/>
        </p:nvPicPr>
        <p:blipFill>
          <a:blip r:embed="rId5"/>
          <a:stretch/>
        </p:blipFill>
        <p:spPr>
          <a:xfrm>
            <a:off x="324000" y="3716280"/>
            <a:ext cx="47628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9a9a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спериментальное исслед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1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ление музыкальных предпочтений учащихся и учителей МОУ СОШ №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2.Влияние музыки на эмоциональное      состояние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3.Музыка и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Картинка 17 из 1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941720"/>
            <a:ext cx="3438360" cy="19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68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68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6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6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1.Выявление музыкальных предпочтени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1628640"/>
          <a:ext cx="9109080" cy="4753080"/>
        </p:xfrm>
        <a:graphic>
          <a:graphicData uri="http://schemas.openxmlformats.org/drawingml/2006/table">
            <a:tbl>
              <a:tblPr/>
              <a:tblGrid>
                <a:gridCol w="649440"/>
                <a:gridCol w="4498920"/>
                <a:gridCol w="2125440"/>
                <a:gridCol w="1835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ую музыку предпочитает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ческую и духовну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ременную эстрадную, популярну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одну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к-музык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люблю музык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узыка, предпочитаемая в % соотношении от числа опрош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Диаграмма 3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4157640"/>
          </a:xfrm>
          <a:prstGeom prst="rect">
            <a:avLst/>
          </a:prstGeom>
          <a:ln w="0">
            <a:noFill/>
          </a:ln>
        </p:spPr>
      </p:pic>
      <p:pic>
        <p:nvPicPr>
          <p:cNvPr id="256" name="Диаграмма 4" descr=""/>
          <p:cNvPicPr/>
          <p:nvPr/>
        </p:nvPicPr>
        <p:blipFill>
          <a:blip r:embed="rId2"/>
          <a:stretch/>
        </p:blipFill>
        <p:spPr>
          <a:xfrm>
            <a:off x="0" y="0"/>
            <a:ext cx="8515440" cy="6467400"/>
          </a:xfrm>
          <a:prstGeom prst="rect">
            <a:avLst/>
          </a:prstGeom>
          <a:ln w="0">
            <a:noFill/>
          </a:ln>
        </p:spPr>
      </p:pic>
      <p:pic>
        <p:nvPicPr>
          <p:cNvPr id="257" name="Диаграмма 4" descr=""/>
          <p:cNvPicPr/>
          <p:nvPr/>
        </p:nvPicPr>
        <p:blipFill>
          <a:blip r:embed="rId3"/>
          <a:stretch/>
        </p:blipFill>
        <p:spPr>
          <a:xfrm>
            <a:off x="0" y="0"/>
            <a:ext cx="8515440" cy="64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 Влияние музыки на эмоциональное состояние Таблица 2</a:t>
            </a:r>
            <a:br>
              <a:rPr sz="2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Основные ц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84360" y="189000"/>
            <a:ext cx="24480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Зеле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ер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йчив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ям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299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-360" y="259920"/>
            <a:ext cx="2484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и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койств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овлетвор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4859280" y="981000"/>
            <a:ext cx="223200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Кр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евое усил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гресс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б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1835280" y="3500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7164360" y="404640"/>
            <a:ext cx="1979640" cy="59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Желт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ел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еж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ч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ьные ц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фиолет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коричне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се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мволизируют негативные тенден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евожность, стрес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живание страх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гор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e3b9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яем свои исследования, которые были проведены в 6 «А» класс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Изображение 00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Исследователь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или учащиеся МОУ СОШ № 1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углубленным изучением отд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м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угов Александр 9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ролова Ольга 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Щедрина Елена 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чный руковод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музыки и МХ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емякина Ольг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88748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2268360" y="6165720"/>
            <a:ext cx="685800" cy="343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3600360" y="8502480"/>
            <a:ext cx="0" cy="1028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3816360" y="8718480"/>
            <a:ext cx="0" cy="1028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4032360" y="8934480"/>
            <a:ext cx="0" cy="1028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>
            <a:off x="2916360" y="609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 flipV="1">
            <a:off x="2916360" y="5516280"/>
            <a:ext cx="0" cy="86364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9"/>
          <p:cNvSpPr/>
          <p:nvPr/>
        </p:nvSpPr>
        <p:spPr>
          <a:xfrm>
            <a:off x="2268360" y="6165720"/>
            <a:ext cx="685800" cy="343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2"/>
          <p:cNvSpPr/>
          <p:nvPr/>
        </p:nvSpPr>
        <p:spPr>
          <a:xfrm>
            <a:off x="8388360" y="2276640"/>
            <a:ext cx="576360" cy="360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4"/>
          <p:cNvSpPr/>
          <p:nvPr/>
        </p:nvSpPr>
        <p:spPr>
          <a:xfrm>
            <a:off x="3132000" y="7029360"/>
            <a:ext cx="685800" cy="343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5"/>
          <p:cNvSpPr/>
          <p:nvPr/>
        </p:nvSpPr>
        <p:spPr>
          <a:xfrm>
            <a:off x="7596360" y="2421000"/>
            <a:ext cx="685800" cy="342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6"/>
          <p:cNvSpPr/>
          <p:nvPr/>
        </p:nvSpPr>
        <p:spPr>
          <a:xfrm flipV="1">
            <a:off x="8893080" y="1557000"/>
            <a:ext cx="0" cy="86364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9"/>
          <p:cNvSpPr/>
          <p:nvPr/>
        </p:nvSpPr>
        <p:spPr>
          <a:xfrm flipV="1">
            <a:off x="8244000" y="1773000"/>
            <a:ext cx="0" cy="86364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4"/>
          <p:cNvSpPr/>
          <p:nvPr/>
        </p:nvSpPr>
        <p:spPr>
          <a:xfrm>
            <a:off x="831708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7"/>
          <p:cNvSpPr/>
          <p:nvPr/>
        </p:nvSpPr>
        <p:spPr>
          <a:xfrm flipV="1">
            <a:off x="8244000" y="1557360"/>
            <a:ext cx="649080" cy="21600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8"/>
          <p:cNvSpPr/>
          <p:nvPr/>
        </p:nvSpPr>
        <p:spPr>
          <a:xfrm flipV="1">
            <a:off x="2916360" y="5516280"/>
            <a:ext cx="0" cy="86364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5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еся прослушал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ыкальных фраг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1" descr="Картинка 218 из 23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1844640"/>
            <a:ext cx="4537080" cy="4464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5"/>
          <p:cNvSpPr/>
          <p:nvPr/>
        </p:nvSpPr>
        <p:spPr>
          <a:xfrm>
            <a:off x="179280" y="2852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МОЦ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7"/>
          <p:cNvSpPr/>
          <p:nvPr/>
        </p:nvSpPr>
        <p:spPr>
          <a:xfrm>
            <a:off x="3635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8"/>
          <p:cNvSpPr/>
          <p:nvPr/>
        </p:nvSpPr>
        <p:spPr>
          <a:xfrm>
            <a:off x="6443640" y="278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08 Моцарт Концерт №23 Adagio.mp3" descr=""/>
          <p:cNvPicPr/>
          <p:nvPr/>
        </p:nvPicPr>
        <p:blipFill>
          <a:blip r:embed="rId4"/>
          <a:stretch/>
        </p:blipFill>
        <p:spPr>
          <a:xfrm>
            <a:off x="8072280" y="5786280"/>
            <a:ext cx="590760" cy="5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" dur="387966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.БЕТХОВЕН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i?id=101312914&amp;tov=3"/>
          <p:cNvPicPr/>
          <p:nvPr/>
        </p:nvPicPr>
        <p:blipFill>
          <a:blip r:embed="rId2"/>
          <a:stretch/>
        </p:blipFill>
        <p:spPr>
          <a:xfrm>
            <a:off x="2268360" y="1557360"/>
            <a:ext cx="3456000" cy="4321080"/>
          </a:xfrm>
          <a:prstGeom prst="rect">
            <a:avLst/>
          </a:prstGeom>
          <a:ln w="0">
            <a:noFill/>
          </a:ln>
        </p:spPr>
      </p:pic>
      <p:pic>
        <p:nvPicPr>
          <p:cNvPr id="278" name="04-Allegro.mp3" descr=""/>
          <p:cNvPicPr/>
          <p:nvPr/>
        </p:nvPicPr>
        <p:blipFill>
          <a:blip r:embed="rId3"/>
          <a:stretch/>
        </p:blipFill>
        <p:spPr>
          <a:xfrm>
            <a:off x="7786800" y="5572080"/>
            <a:ext cx="66204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482108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MMSTEI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Rammstein01"/>
          <p:cNvPicPr/>
          <p:nvPr/>
        </p:nvPicPr>
        <p:blipFill>
          <a:blip r:embed="rId2"/>
          <a:stretch/>
        </p:blipFill>
        <p:spPr>
          <a:xfrm>
            <a:off x="2411280" y="1844640"/>
            <a:ext cx="3889440" cy="4392720"/>
          </a:xfrm>
          <a:prstGeom prst="rect">
            <a:avLst/>
          </a:prstGeom>
          <a:ln w="0">
            <a:noFill/>
          </a:ln>
        </p:spPr>
      </p:pic>
      <p:pic>
        <p:nvPicPr>
          <p:cNvPr id="281" name="02-Links 2 3 4.mp3" descr=""/>
          <p:cNvPicPr/>
          <p:nvPr/>
        </p:nvPicPr>
        <p:blipFill>
          <a:blip r:embed="rId3"/>
          <a:stretch/>
        </p:blipFill>
        <p:spPr>
          <a:xfrm>
            <a:off x="7858080" y="5715000"/>
            <a:ext cx="66204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216770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ле прослушива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узыки: 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Концерт для ф-но с оркестром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В.Моцарта;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Симфония № 5 Л.Бетховена;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Композиция рок-групп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MMSTEIN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» -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еники сделали зарисов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4"/>
          <p:cNvSpPr txBox="1"/>
          <p:nvPr/>
        </p:nvSpPr>
        <p:spPr>
          <a:xfrm rot="575400">
            <a:off x="250920" y="0"/>
            <a:ext cx="3781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рдашева Са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5"/>
          <p:cNvSpPr txBox="1"/>
          <p:nvPr/>
        </p:nvSpPr>
        <p:spPr>
          <a:xfrm rot="575400">
            <a:off x="250920" y="0"/>
            <a:ext cx="3781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злов Антон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4"/>
          <p:cNvSpPr txBox="1"/>
          <p:nvPr/>
        </p:nvSpPr>
        <p:spPr>
          <a:xfrm rot="756600">
            <a:off x="324000" y="188640"/>
            <a:ext cx="2790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рлова Ли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a7d1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и выявлены определенные закономер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 В.А.Моцарта окрашена в цвет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окойств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веренности,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успешности, </a:t>
            </a: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актив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 Л.Бетховена способствует увеличению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мпульсив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эмоциональной напряжен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, после прослушивания рок - композиции отмечено преобладание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фиолетово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черного, и 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сер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ов. Кроме того, характерным для рисунков является – увеличения нажима, интенсивность штриховки, рваные, хаотичные линии, зигзаги. Все это можно интерпретировать как состояние беспокойства, настороженности, чувство неудовлетворенности собой, у кого-то чувство беспомощности, стрессовое состоя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i?id=17177644&amp;tov=4"/>
          <p:cNvPicPr/>
          <p:nvPr/>
        </p:nvPicPr>
        <p:blipFill>
          <a:blip r:embed="rId1"/>
          <a:stretch/>
        </p:blipFill>
        <p:spPr>
          <a:xfrm>
            <a:off x="108000" y="3500280"/>
            <a:ext cx="828720" cy="324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i?id=17177644&amp;tov=4"/>
          <p:cNvPicPr/>
          <p:nvPr/>
        </p:nvPicPr>
        <p:blipFill>
          <a:blip r:embed="rId2"/>
          <a:stretch/>
        </p:blipFill>
        <p:spPr>
          <a:xfrm>
            <a:off x="108000" y="2565360"/>
            <a:ext cx="828720" cy="324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i?id=17177644&amp;tov=4"/>
          <p:cNvPicPr/>
          <p:nvPr/>
        </p:nvPicPr>
        <p:blipFill>
          <a:blip r:embed="rId3"/>
          <a:stretch/>
        </p:blipFill>
        <p:spPr>
          <a:xfrm>
            <a:off x="108000" y="1557360"/>
            <a:ext cx="828720" cy="3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3. Музыка и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04-2005 учебном году был создан 2 «А» класс-свирель - блок-флейта (руководитель Учитель музыки и МХК – Шемякина Ольга Юрьевна).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Игра на духовых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музыкальных инструмента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не только музыкальное образование,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это хорошая дыхательная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гимнастика и профилактика заболеваний органов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дыхательной систем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читывая тот факт, что учащиеся «Б» класса этой же параллели на духовых инструментах не играют, мы сравнили анализ динамики заболеваемости между класс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ные проведенного исследования представлены в виде таблиц 3,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1844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3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(4 «А» класс – свире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79280" y="1557360"/>
          <a:ext cx="8568000" cy="4498920"/>
        </p:xfrm>
        <a:graphic>
          <a:graphicData uri="http://schemas.openxmlformats.org/drawingml/2006/table">
            <a:tbl>
              <a:tblPr/>
              <a:tblGrid>
                <a:gridCol w="1308240"/>
                <a:gridCol w="965160"/>
                <a:gridCol w="1031760"/>
                <a:gridCol w="1376640"/>
                <a:gridCol w="1376280"/>
                <a:gridCol w="1309680"/>
                <a:gridCol w="120024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нзел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нзел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хе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хе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 «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«Б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 «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«Б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 «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«А»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-2004г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-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-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лас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Мы поставили перед собой 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роль музыки в воспитании и образовании лич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особенности психологического воздействия музыки на уча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влияние музыки на здоровье учащихся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5219640" y="61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810108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8" descr="i?id=17161576&amp;tov=6"/>
          <p:cNvPicPr/>
          <p:nvPr/>
        </p:nvPicPr>
        <p:blipFill>
          <a:blip r:embed="rId2"/>
          <a:stretch/>
        </p:blipFill>
        <p:spPr>
          <a:xfrm>
            <a:off x="324000" y="2276640"/>
            <a:ext cx="576000" cy="6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2" descr="i?id=17161576&amp;tov=6"/>
          <p:cNvPicPr/>
          <p:nvPr/>
        </p:nvPicPr>
        <p:blipFill>
          <a:blip r:embed="rId3"/>
          <a:stretch/>
        </p:blipFill>
        <p:spPr>
          <a:xfrm>
            <a:off x="324000" y="3213000"/>
            <a:ext cx="576000" cy="647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3" descr="i?id=17161576&amp;tov=6"/>
          <p:cNvPicPr/>
          <p:nvPr/>
        </p:nvPicPr>
        <p:blipFill>
          <a:blip r:embed="rId4"/>
          <a:stretch/>
        </p:blipFill>
        <p:spPr>
          <a:xfrm>
            <a:off x="324000" y="4365720"/>
            <a:ext cx="57600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8229600" cy="488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 «А» класс - свирель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«Б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п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бронх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унарная анг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евм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ральный от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н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инг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6 % (от всех дет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% (от всех дет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ный анализ динамики роста заболеваемости среди учащихся показал, что по мере реализации программы «Здоровье»,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наблюдается постепенный спад заболеваний органов дыхатель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т процесс наиболее заметен среди учащихся, занимающихся игрой на духовых музыкальных инструментах. И наглядно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подтверждает позитивную роль дыхательной гимнастики в ходе занятий музы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е выводы говорят о том, что программа «Здоровье» оказывает положительное воздействие на укрепление здоровья учащихся, а также указывают на необходимость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должать работу по данному направ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0c0c0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я над проектом «Магия музыки», 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или представление о роли музыки в жизни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комились с историей изучения влияния музыки на человека, начиная с древнейших времен и современными научными исследован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ли экспериментальное исследование, в ходе которого выявили музыкальные предпочтения учащихся и учителей, а также выделил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акет музыкальных произведений, которые снижают тревогу, настраивают на спокойную плодотворную работу и активизируют мыслительную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ли анализ роста динамики простудных заболеваний сред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ша первая гипотеза  - 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«Музыка оказывает положительное влияние на человека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полностью подтвердилас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ая гипотеза – «В молодежной среде отдается предпочтение современной популярной музыке» - подтвердилась частич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думаем продолжить работу над проектом «Магия музыки». Планируем увеличить количество испытуемых разного возраста. Подобрать для каждого учащегося, с учетом его настроения, возраста, пола ту музыку, которая будет целенаправленно и положительно воздействовать на психику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286000" y="11858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DS Note"/>
              </a:rPr>
              <a:t>«Я с музыкой встречаюсь 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DS Note"/>
              </a:rPr>
              <a:t>с детства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Изображение 217"/>
          <p:cNvPicPr/>
          <p:nvPr/>
        </p:nvPicPr>
        <p:blipFill>
          <a:blip r:embed="rId1"/>
          <a:stretch/>
        </p:blipFill>
        <p:spPr>
          <a:xfrm>
            <a:off x="539640" y="1413000"/>
            <a:ext cx="3633840" cy="5040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Изображение 020"/>
          <p:cNvPicPr/>
          <p:nvPr/>
        </p:nvPicPr>
        <p:blipFill>
          <a:blip r:embed="rId2"/>
          <a:stretch/>
        </p:blipFill>
        <p:spPr>
          <a:xfrm>
            <a:off x="4643280" y="1413000"/>
            <a:ext cx="4104000" cy="2520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Изображение 005"/>
          <p:cNvPicPr/>
          <p:nvPr/>
        </p:nvPicPr>
        <p:blipFill>
          <a:blip r:embed="rId3"/>
          <a:stretch/>
        </p:blipFill>
        <p:spPr>
          <a:xfrm>
            <a:off x="4643280" y="3938760"/>
            <a:ext cx="4105440" cy="25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9966"/>
            </a:gs>
            <a:gs pos="100000">
              <a:srgbClr val="ffcc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0920" y="1052280"/>
            <a:ext cx="79930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Исходя из целей, были поставлены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ить материалы научно-популярной  и периодической литературы по теме: «Магия музык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вить музыкальные предпочтения учащихся и учителей шк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ь влияние музыки на эмоциональное состояние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сти мониторинг заболеваний учащихся школы («Класс- свирель  и  блок-флейта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468360" y="476280"/>
            <a:ext cx="3585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468360" y="692280"/>
            <a:ext cx="360360" cy="142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826920" y="189000"/>
            <a:ext cx="0" cy="57600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0"/>
          <p:cNvSpPr/>
          <p:nvPr/>
        </p:nvSpPr>
        <p:spPr>
          <a:xfrm>
            <a:off x="803160" y="208080"/>
            <a:ext cx="160560" cy="442800"/>
          </a:xfrm>
          <a:prstGeom prst="pie">
            <a:avLst/>
          </a:pr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732720" y="5805360"/>
            <a:ext cx="22320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308720" y="5876640"/>
            <a:ext cx="792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AutoShape 15"/>
          <p:cNvCxnSpPr/>
          <p:nvPr/>
        </p:nvCxnSpPr>
        <p:spPr>
          <a:xfrm>
            <a:off x="7308360" y="6021360"/>
            <a:ext cx="7930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7" name="Text Box 16"/>
          <p:cNvSpPr/>
          <p:nvPr/>
        </p:nvSpPr>
        <p:spPr>
          <a:xfrm>
            <a:off x="8237520" y="580536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d1a75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боте над проектом бы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ы следующ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ение и анализ научно-популярной литера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лушивание и подбор музыкальных произведений для проведения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ование, мониторин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j0299125"/>
          <p:cNvPicPr/>
          <p:nvPr/>
        </p:nvPicPr>
        <p:blipFill>
          <a:blip r:embed="rId1"/>
          <a:stretch/>
        </p:blipFill>
        <p:spPr>
          <a:xfrm>
            <a:off x="571680" y="714240"/>
            <a:ext cx="109980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поте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ступая к работе над проектом, мы выдвинули несколько гипоте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а оказывает положительное влияние на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олодёжной среде отдаётся предпочтение современной популярной музы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а оказывает положительное влияние на физическое здоровье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music44"/>
          <p:cNvPicPr/>
          <p:nvPr/>
        </p:nvPicPr>
        <p:blipFill>
          <a:blip r:embed="rId1"/>
          <a:stretch/>
        </p:blipFill>
        <p:spPr>
          <a:xfrm>
            <a:off x="179280" y="357336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music44"/>
          <p:cNvPicPr/>
          <p:nvPr/>
        </p:nvPicPr>
        <p:blipFill>
          <a:blip r:embed="rId2"/>
          <a:stretch/>
        </p:blipFill>
        <p:spPr>
          <a:xfrm>
            <a:off x="179280" y="270828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music44"/>
          <p:cNvPicPr/>
          <p:nvPr/>
        </p:nvPicPr>
        <p:blipFill>
          <a:blip r:embed="rId3"/>
          <a:stretch/>
        </p:blipFill>
        <p:spPr>
          <a:xfrm>
            <a:off x="108000" y="4724280"/>
            <a:ext cx="571320" cy="39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«МУЗЫКА – ОДНО ИЗ ВЕЛИЧАЙШИ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КРЫТИ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ЧЕСТВ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1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зык звуков и интонац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2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ься слушать му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447516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 древних времен,                         ещё незнающий                                  речи человек                                            общался звуками.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557360"/>
            <a:ext cx="3708360" cy="53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56880" y="260280"/>
            <a:ext cx="336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узыка в жизн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чальна и чи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к жизнь людьми люби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к жизнь ты не про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к жизнь непостижи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узыка!.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9:28:20Z</dcterms:created>
  <dc:creator>User</dc:creator>
  <dc:description/>
  <dc:language>en-US</dc:language>
  <cp:lastModifiedBy>User</cp:lastModifiedBy>
  <dcterms:modified xsi:type="dcterms:W3CDTF">2010-01-19T02:20:16Z</dcterms:modified>
  <cp:revision>33</cp:revision>
  <dc:subject/>
  <dc:title>Магия музыки.</dc:title>
</cp:coreProperties>
</file>