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5.gif" ContentType="image/gif"/>
  <Override PartName="/ppt/media/image7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7F3D-7297-4C1A-9770-45D06D6F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AED-37D9-4353-B1A1-92917BB0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2DF-6B44-4166-96F2-3FCA730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750-3B22-4BB3-96BE-CB364C2F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564A-90D4-44A4-9EFE-66F56FCA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8DB-0812-4E78-8D55-0ECB8400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92B7-95AD-49C7-9FC1-44FF78EF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A00-973B-49D0-A578-6EB5A1E6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088A-C329-47D8-A8BC-E6993ABF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45B4-DD96-4416-8117-0D1A075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61A2-3F22-451B-B8CC-9C562C34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4AD-1674-4BDD-9EB4-5D9B3A07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277-02EA-4A56-9C91-AEC80E31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63D3-4C04-47B5-A703-551E6A4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E7DF-F7DB-4AC5-A389-9B24DA7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954-3E53-4711-827F-5D899021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021A-E0AF-44D8-BEB5-34B5E5B2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199E-56A5-479C-854A-A006EC9E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D8B3-6953-4A49-9751-A016A429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EF59-DB5F-462E-8DBB-68BFD39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36DD-F19F-48C4-917F-15356FFD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71AB-FA8B-4CEF-871C-3BECB40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22D-97C2-4E17-9515-754C7A8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4DFD-1B5D-4023-A59A-C0C232C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DC08-CA8F-4708-8514-B1419E6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8668-65F9-45E0-B5E6-F7C32A4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6437-2A78-4F36-9BAD-7C8BB56F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36BB-ADA7-4633-9A28-15D5D62C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4BC9-E1B0-4196-8706-D406A57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87DB-D65A-4EA4-B176-4A6EAC7D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082-684F-4582-9BC3-24173B3E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E1C-9109-4AA9-97A7-6963111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D88-CF5C-458B-BAA8-DD9DDA5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2EC-3EF4-4826-9B4A-E8437FD0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904-B445-49AF-AE57-F80AF34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8AA-E95A-482F-81F3-61E7BD1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07D3-0428-4C90-8441-356B5DAA3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FD9-1877-40F9-800F-1AC704BBD7C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326-5742-4CE9-9A4E-8D7D09F1E46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balandin.net/Miditeka/Miditeka.line.gif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ob.1september.ru/2002/24/4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ewyork.ru/ic/img.lenta.ru/culture/2005/01/08/mozart/picture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Impact"/>
              </a:rPr>
              <a:t>Магия музы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99640" y="3357720"/>
            <a:ext cx="770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9325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МУЗЫКИ НА ФОРМИРОВАНИЕ                    ИНТЕ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КТУАЛЬНОЙ И НРАВСТВЕННО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УЛЬТУРЫ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68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68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507520" cy="34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"Музыка усиливает любую радость,</a:t>
            </a:r>
            <a:br>
              <a:rPr sz="2800"/>
            </a:b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 успокаивает любую печаль, </a:t>
            </a:r>
            <a:br>
              <a:rPr sz="2800"/>
            </a:b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изгоняет болезни,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мягчает</a:t>
            </a:r>
            <a:r>
              <a:rPr b="1" lang="ru-RU" sz="2800" spc="-1" strike="noStrike">
                <a:solidFill>
                  <a:srgbClr val="ff99cc"/>
                </a:solidFill>
                <a:latin typeface="Arial"/>
              </a:rPr>
              <a:t> любую боль.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 поэтому Мудрецы Древности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оклонялись Единой силе Души,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лодии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и Песне"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1.Мудрость музы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2.Современные научны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 интенсивно изучается влияние музыки в последние десятилетия. Эксперименты ведутся в нескольких направл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отдельных музыкальных инструментов на живые организ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музыки великих гениев человечества; индивидуальное воздействие отдельных произведений компози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е на организм человека традиционных народных направлений в музыке, а также современных направ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i?id=717&amp;tov=5"/>
          <p:cNvPicPr/>
          <p:nvPr/>
        </p:nvPicPr>
        <p:blipFill>
          <a:blip r:embed="rId1"/>
          <a:stretch/>
        </p:blipFill>
        <p:spPr>
          <a:xfrm>
            <a:off x="324000" y="472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4672080" y="333468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9" descr="Картинка 114 из 1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5734080"/>
            <a:ext cx="5472000" cy="1123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i?id=717&amp;tov=5"/>
          <p:cNvPicPr/>
          <p:nvPr/>
        </p:nvPicPr>
        <p:blipFill>
          <a:blip r:embed="rId4"/>
          <a:stretch/>
        </p:blipFill>
        <p:spPr>
          <a:xfrm>
            <a:off x="324000" y="2852640"/>
            <a:ext cx="476280" cy="438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i?id=717&amp;tov=5"/>
          <p:cNvPicPr/>
          <p:nvPr/>
        </p:nvPicPr>
        <p:blipFill>
          <a:blip r:embed="rId5"/>
          <a:stretch/>
        </p:blipFill>
        <p:spPr>
          <a:xfrm>
            <a:off x="324000" y="3716280"/>
            <a:ext cx="47628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9a9a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ериментальное иссле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музыкальных предпочтений учащихся и учителей МОУ СОШ №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2.Влияние музыки на эмоциональное      состояние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3.Музыка и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Картинка 17 из 1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941720"/>
            <a:ext cx="343836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.Выявление музыкальных предпочтени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1628640"/>
          <a:ext cx="9109080" cy="4753080"/>
        </p:xfrm>
        <a:graphic>
          <a:graphicData uri="http://schemas.openxmlformats.org/drawingml/2006/table">
            <a:tbl>
              <a:tblPr/>
              <a:tblGrid>
                <a:gridCol w="649440"/>
                <a:gridCol w="4498920"/>
                <a:gridCol w="2125440"/>
                <a:gridCol w="18352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ую музыку предпочитает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ческую и духов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ую эстрадную, популяр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одну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к-музы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люблю музы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узыка, предпочитаемая в % соотношении от числа опрош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157640"/>
          </a:xfrm>
          <a:prstGeom prst="rect">
            <a:avLst/>
          </a:prstGeom>
          <a:ln w="0">
            <a:noFill/>
          </a:ln>
        </p:spPr>
      </p:pic>
      <p:pic>
        <p:nvPicPr>
          <p:cNvPr id="256" name="Диаграмма 4" descr=""/>
          <p:cNvPicPr/>
          <p:nvPr/>
        </p:nvPicPr>
        <p:blipFill>
          <a:blip r:embed="rId2"/>
          <a:stretch/>
        </p:blipFill>
        <p:spPr>
          <a:xfrm>
            <a:off x="0" y="0"/>
            <a:ext cx="8515440" cy="6467400"/>
          </a:xfrm>
          <a:prstGeom prst="rect">
            <a:avLst/>
          </a:prstGeom>
          <a:ln w="0">
            <a:noFill/>
          </a:ln>
        </p:spPr>
      </p:pic>
      <p:pic>
        <p:nvPicPr>
          <p:cNvPr id="257" name="Диаграмма 4" descr=""/>
          <p:cNvPicPr/>
          <p:nvPr/>
        </p:nvPicPr>
        <p:blipFill>
          <a:blip r:embed="rId3"/>
          <a:stretch/>
        </p:blipFill>
        <p:spPr>
          <a:xfrm>
            <a:off x="0" y="0"/>
            <a:ext cx="8515440" cy="64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 Влияние музыки на эмоциональное состояние Таблица 2</a:t>
            </a: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Основны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84360" y="189000"/>
            <a:ext cx="24480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Зеле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йчив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ям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99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-360" y="259920"/>
            <a:ext cx="2484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и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койств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овлетво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859280" y="981000"/>
            <a:ext cx="22320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евое у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есс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б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835280" y="3500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7164360" y="404640"/>
            <a:ext cx="197964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Желт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еж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ые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се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изируют негативные тенден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вожность, стре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живание страх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гор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3b9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ляем свои исследования, которые были проведены в 6 «А» класс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Изображение 00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Исследователь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или учащиеся МОУ СОШ № 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гов Александр 9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ролова Ольг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Щедрина Елен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музыки и МХ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емякина Ольг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887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2268360" y="6165720"/>
            <a:ext cx="685800" cy="343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600360" y="8502480"/>
            <a:ext cx="0" cy="1028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816360" y="8718480"/>
            <a:ext cx="0" cy="1028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4032360" y="8934480"/>
            <a:ext cx="0" cy="1028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>
            <a:off x="291636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2916360" y="5516280"/>
            <a:ext cx="0" cy="863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9"/>
          <p:cNvSpPr/>
          <p:nvPr/>
        </p:nvSpPr>
        <p:spPr>
          <a:xfrm>
            <a:off x="2268360" y="6165720"/>
            <a:ext cx="685800" cy="343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2"/>
          <p:cNvSpPr/>
          <p:nvPr/>
        </p:nvSpPr>
        <p:spPr>
          <a:xfrm>
            <a:off x="8388360" y="2276640"/>
            <a:ext cx="576360" cy="360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3132000" y="7029360"/>
            <a:ext cx="685800" cy="343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5"/>
          <p:cNvSpPr/>
          <p:nvPr/>
        </p:nvSpPr>
        <p:spPr>
          <a:xfrm>
            <a:off x="7596360" y="2421000"/>
            <a:ext cx="685800" cy="342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 flipV="1">
            <a:off x="8893080" y="155700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 flipV="1">
            <a:off x="8244000" y="177300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>
            <a:off x="831708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7"/>
          <p:cNvSpPr/>
          <p:nvPr/>
        </p:nvSpPr>
        <p:spPr>
          <a:xfrm flipV="1">
            <a:off x="8244000" y="1557360"/>
            <a:ext cx="649080" cy="216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8"/>
          <p:cNvSpPr/>
          <p:nvPr/>
        </p:nvSpPr>
        <p:spPr>
          <a:xfrm flipV="1">
            <a:off x="2916360" y="5516280"/>
            <a:ext cx="0" cy="86364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еся прослуша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ыкальных фраг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1" descr="Картинка 218 из 23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844640"/>
            <a:ext cx="4537080" cy="4464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5"/>
          <p:cNvSpPr/>
          <p:nvPr/>
        </p:nvSpPr>
        <p:spPr>
          <a:xfrm>
            <a:off x="179280" y="2852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МОЦ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7"/>
          <p:cNvSpPr/>
          <p:nvPr/>
        </p:nvSpPr>
        <p:spPr>
          <a:xfrm>
            <a:off x="3635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8"/>
          <p:cNvSpPr/>
          <p:nvPr/>
        </p:nvSpPr>
        <p:spPr>
          <a:xfrm>
            <a:off x="6443640" y="27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08 Моцарт Концерт №23 Adagio.mp3" descr=""/>
          <p:cNvPicPr/>
          <p:nvPr/>
        </p:nvPicPr>
        <p:blipFill>
          <a:blip r:embed="rId4"/>
          <a:stretch/>
        </p:blipFill>
        <p:spPr>
          <a:xfrm>
            <a:off x="8072280" y="5786280"/>
            <a:ext cx="590760" cy="5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" dur="387966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.БЕТХОВЕ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i?id=101312914&amp;tov=3"/>
          <p:cNvPicPr/>
          <p:nvPr/>
        </p:nvPicPr>
        <p:blipFill>
          <a:blip r:embed="rId2"/>
          <a:stretch/>
        </p:blipFill>
        <p:spPr>
          <a:xfrm>
            <a:off x="2268360" y="1557360"/>
            <a:ext cx="345600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04-Allegro.mp3" descr=""/>
          <p:cNvPicPr/>
          <p:nvPr/>
        </p:nvPicPr>
        <p:blipFill>
          <a:blip r:embed="rId3"/>
          <a:stretch/>
        </p:blipFill>
        <p:spPr>
          <a:xfrm>
            <a:off x="7786800" y="557208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482108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MMSTEIN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Rammstein01"/>
          <p:cNvPicPr/>
          <p:nvPr/>
        </p:nvPicPr>
        <p:blipFill>
          <a:blip r:embed="rId2"/>
          <a:stretch/>
        </p:blipFill>
        <p:spPr>
          <a:xfrm>
            <a:off x="2411280" y="1844640"/>
            <a:ext cx="3889440" cy="4392720"/>
          </a:xfrm>
          <a:prstGeom prst="rect">
            <a:avLst/>
          </a:prstGeom>
          <a:ln w="0">
            <a:noFill/>
          </a:ln>
        </p:spPr>
      </p:pic>
      <p:pic>
        <p:nvPicPr>
          <p:cNvPr id="281" name="02-Links 2 3 4.mp3" descr=""/>
          <p:cNvPicPr/>
          <p:nvPr/>
        </p:nvPicPr>
        <p:blipFill>
          <a:blip r:embed="rId3"/>
          <a:stretch/>
        </p:blipFill>
        <p:spPr>
          <a:xfrm>
            <a:off x="7858080" y="5715000"/>
            <a:ext cx="66204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21677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прослушива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ыки: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Концерт для ф-но с оркестром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В.Моцарта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Симфония № 5 Л.Бетховена;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Композиция рок-групп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MMSTEI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 -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ченики сделали зарисов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 rot="575400">
            <a:off x="250920" y="0"/>
            <a:ext cx="378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рдашева Са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5"/>
          <p:cNvSpPr txBox="1"/>
          <p:nvPr/>
        </p:nvSpPr>
        <p:spPr>
          <a:xfrm rot="575400">
            <a:off x="250920" y="0"/>
            <a:ext cx="3781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злов Анто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 rot="756600">
            <a:off x="324000" y="188640"/>
            <a:ext cx="279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лова Ли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a7d1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выявлены определенные закономер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 В.А.Моцарта окрашена в цвет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покойств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веренности,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спешности,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актив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 Л.Бетховена способствует увеличению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мпульсив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эмоциональной напряжен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после прослушивания рок - композиции отмечено преобладание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иолетов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ерного, и 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сер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ов. Кроме того, характерным для рисунков является – увеличения нажима, интенсивность штриховки, рваные, хаотичные линии, зигзаги. Все это можно интерпретировать как состояние беспокойства, настороженности, чувство неудовлетворенности собой, у кого-то чувство беспомощности, стрессов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i?id=17177644&amp;tov=4"/>
          <p:cNvPicPr/>
          <p:nvPr/>
        </p:nvPicPr>
        <p:blipFill>
          <a:blip r:embed="rId1"/>
          <a:stretch/>
        </p:blipFill>
        <p:spPr>
          <a:xfrm>
            <a:off x="108000" y="3500280"/>
            <a:ext cx="828720" cy="324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?id=17177644&amp;tov=4"/>
          <p:cNvPicPr/>
          <p:nvPr/>
        </p:nvPicPr>
        <p:blipFill>
          <a:blip r:embed="rId2"/>
          <a:stretch/>
        </p:blipFill>
        <p:spPr>
          <a:xfrm>
            <a:off x="108000" y="2565360"/>
            <a:ext cx="828720" cy="324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i?id=17177644&amp;tov=4"/>
          <p:cNvPicPr/>
          <p:nvPr/>
        </p:nvPicPr>
        <p:blipFill>
          <a:blip r:embed="rId3"/>
          <a:stretch/>
        </p:blipFill>
        <p:spPr>
          <a:xfrm>
            <a:off x="108000" y="1557360"/>
            <a:ext cx="828720" cy="3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3. Музыка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4-2005 учебном году был создан 2 «А» класс-свирель - блок-флейта (руководитель Учитель музыки и МХК – Шемякина Ольга Юрьевна).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гра на духовых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музыкальных инструмента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не только музыкальное образование,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это хорошая дыхательная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гимнастика и профилактика заболеваний органов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дыхательной системы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читывая тот факт, что учащиеся «Б» класса этой же параллели на духовых инструментах не играют, мы сравнили анализ динамики заболеваемости между класс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роведенного исследования представлены в виде таблиц 3,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184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3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4 «А» класс – свир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9280" y="1557360"/>
          <a:ext cx="8568000" cy="4498920"/>
        </p:xfrm>
        <a:graphic>
          <a:graphicData uri="http://schemas.openxmlformats.org/drawingml/2006/table">
            <a:tbl>
              <a:tblPr/>
              <a:tblGrid>
                <a:gridCol w="1308240"/>
                <a:gridCol w="965160"/>
                <a:gridCol w="1031760"/>
                <a:gridCol w="1376640"/>
                <a:gridCol w="1376280"/>
                <a:gridCol w="1309680"/>
                <a:gridCol w="120024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зел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зел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хе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хе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«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 «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«А»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-2004г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-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лас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-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Мы поставили перед соб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роль музыки в воспитании и образовании лич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особенности психологического воздействия музыки на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влияние музыки на здоровье учащихся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219640" y="61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81010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8" descr="i?id=17161576&amp;tov=6"/>
          <p:cNvPicPr/>
          <p:nvPr/>
        </p:nvPicPr>
        <p:blipFill>
          <a:blip r:embed="rId2"/>
          <a:stretch/>
        </p:blipFill>
        <p:spPr>
          <a:xfrm>
            <a:off x="324000" y="2276640"/>
            <a:ext cx="576000" cy="6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2" descr="i?id=17161576&amp;tov=6"/>
          <p:cNvPicPr/>
          <p:nvPr/>
        </p:nvPicPr>
        <p:blipFill>
          <a:blip r:embed="rId3"/>
          <a:stretch/>
        </p:blipFill>
        <p:spPr>
          <a:xfrm>
            <a:off x="324000" y="3213000"/>
            <a:ext cx="576000" cy="64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3" descr="i?id=17161576&amp;tov=6"/>
          <p:cNvPicPr/>
          <p:nvPr/>
        </p:nvPicPr>
        <p:blipFill>
          <a:blip r:embed="rId4"/>
          <a:stretch/>
        </p:blipFill>
        <p:spPr>
          <a:xfrm>
            <a:off x="324000" y="4365720"/>
            <a:ext cx="5760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888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6 «А» класс - свирель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«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п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бронх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унарная анг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ральный от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н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инг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6 % (от всех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 (от всех дет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ный анализ динамики роста заболеваемости среди учащихся показал, что по мере реализации программы «Здоровье»,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блюдается постепенный спад заболеваний органов дыхатель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процесс наиболее заметен среди учащихся, занимающихся игрой на духовых музыкальных инструментах. И наглядно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подтверждает позитивную роль дыхательной гимнастики в ходе занятий музы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 выводы говорят о том, что программа «Здоровье» оказывает положительное воздействие на укрепление здоровья учащихся, а также указывают на необходимость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должать работу по данному направ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0c0c0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я над проектом «Магия музыки», 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или представление о роли музыки в жизни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лись с историей изучения влияния музыки на человека, начиная с древнейших времен и современными научными исследова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ли экспериментальное исследование, в ходе которого выявили музыкальные предпочтения учащихся и учителей, а также выделил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кет музыкальных произведений, которые снижают тревогу, настраивают на спокойную плодотворную работу и активизируют мыслительную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ли анализ роста динамики простудных заболеваний сред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а первая гипотеза  -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Музыка оказывает положительное влияние на человека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полностью подтвердила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гипотеза – «В молодежной среде отдается предпочтение современной популярной музыке» - подтвердилась частич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думаем продолжить работу над проектом «Магия музыки». Планируем увеличить количество испытуемых разного возраста. Подобрать для каждого учащегося, с учетом его настроения, возраста, пола ту музыку, которая будет целенаправленно и положительно воздействовать на психику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286000" y="11858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DS Note"/>
              </a:rPr>
              <a:t>«Я с музыкой встречаюсь 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DS Note"/>
              </a:rPr>
              <a:t>с детства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Изображение 217"/>
          <p:cNvPicPr/>
          <p:nvPr/>
        </p:nvPicPr>
        <p:blipFill>
          <a:blip r:embed="rId1"/>
          <a:stretch/>
        </p:blipFill>
        <p:spPr>
          <a:xfrm>
            <a:off x="539640" y="1413000"/>
            <a:ext cx="3633840" cy="5040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Изображение 020"/>
          <p:cNvPicPr/>
          <p:nvPr/>
        </p:nvPicPr>
        <p:blipFill>
          <a:blip r:embed="rId2"/>
          <a:stretch/>
        </p:blipFill>
        <p:spPr>
          <a:xfrm>
            <a:off x="4643280" y="1413000"/>
            <a:ext cx="4104000" cy="2520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Изображение 005"/>
          <p:cNvPicPr/>
          <p:nvPr/>
        </p:nvPicPr>
        <p:blipFill>
          <a:blip r:embed="rId3"/>
          <a:stretch/>
        </p:blipFill>
        <p:spPr>
          <a:xfrm>
            <a:off x="4643280" y="3938760"/>
            <a:ext cx="4105440" cy="25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9966"/>
            </a:gs>
            <a:gs pos="100000">
              <a:srgbClr val="ff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993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Исходя из целей, были поставлены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материалы научно-популярной  и периодической литературы по теме: «Магия музык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музыкальные предпочтения учащихся и учителей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влияние музыки на эмоциональное состояние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сти мониторинг заболеваний учащихся школы («Класс- свирель  и  блок-флейта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468360" y="476280"/>
            <a:ext cx="3585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468360" y="692280"/>
            <a:ext cx="360360" cy="142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826920" y="189000"/>
            <a:ext cx="0" cy="57600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>
            <a:off x="803160" y="208080"/>
            <a:ext cx="160560" cy="442800"/>
          </a:xfrm>
          <a:prstGeom prst="pie">
            <a:avLst/>
          </a:pr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732720" y="5805360"/>
            <a:ext cx="2232000" cy="4597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308720" y="5876640"/>
            <a:ext cx="792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5"/>
          <p:cNvCxnSpPr/>
          <p:nvPr/>
        </p:nvCxnSpPr>
        <p:spPr>
          <a:xfrm>
            <a:off x="7308360" y="6021360"/>
            <a:ext cx="7930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7" name="Text Box 16"/>
          <p:cNvSpPr/>
          <p:nvPr/>
        </p:nvSpPr>
        <p:spPr>
          <a:xfrm>
            <a:off x="8237520" y="580536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f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d1a75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боте над проектом бы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ы следующ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и анализ научно-популярной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лушивание и подбор музыкальных произведений для проведения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ование, монитор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j0299125"/>
          <p:cNvPicPr/>
          <p:nvPr/>
        </p:nvPicPr>
        <p:blipFill>
          <a:blip r:embed="rId1"/>
          <a:stretch/>
        </p:blipFill>
        <p:spPr>
          <a:xfrm>
            <a:off x="571680" y="71424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пот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тупая к работе над проектом, мы выдвинули несколько гипоте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 оказывает положительное влияние на челове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олодёжной среде отдаётся предпочтение современной популярной музы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 оказывает положительное влияние на физическое здоровь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music44"/>
          <p:cNvPicPr/>
          <p:nvPr/>
        </p:nvPicPr>
        <p:blipFill>
          <a:blip r:embed="rId1"/>
          <a:stretch/>
        </p:blipFill>
        <p:spPr>
          <a:xfrm>
            <a:off x="179280" y="357336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music44"/>
          <p:cNvPicPr/>
          <p:nvPr/>
        </p:nvPicPr>
        <p:blipFill>
          <a:blip r:embed="rId2"/>
          <a:stretch/>
        </p:blipFill>
        <p:spPr>
          <a:xfrm>
            <a:off x="179280" y="270828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music44"/>
          <p:cNvPicPr/>
          <p:nvPr/>
        </p:nvPicPr>
        <p:blipFill>
          <a:blip r:embed="rId3"/>
          <a:stretch/>
        </p:blipFill>
        <p:spPr>
          <a:xfrm>
            <a:off x="108000" y="4724280"/>
            <a:ext cx="571320" cy="39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«МУЗЫКА – ОДНО ИЗ ВЕЛИЧАЙШИ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КРЫТИ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ЧЕСТВ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 звуков и интонаци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ься слушать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9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447516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 древних времен,                         ещё незнающий                                  речи человек                                            общался звуками.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370836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56880" y="260280"/>
            <a:ext cx="33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зыка в жизн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чальна и чи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людьми люби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ты не 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жизнь непостижим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зыка!.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9:28:20Z</dcterms:created>
  <dc:creator>User</dc:creator>
  <dc:description/>
  <dc:language>en-US</dc:language>
  <cp:lastModifiedBy>User</cp:lastModifiedBy>
  <dcterms:modified xsi:type="dcterms:W3CDTF">2010-01-19T02:20:16Z</dcterms:modified>
  <cp:revision>33</cp:revision>
  <dc:subject/>
  <dc:title>Магия музыки.</dc:title>
</cp:coreProperties>
</file>