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D3D-0B13-4146-8F32-940D2B62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6A3-6851-46CE-BC3B-CE893AB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E3D-6625-4AEF-9705-57806321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CFD-D757-4720-8660-7D1FC008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11BB-391A-482E-B2D5-82DBED55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9E6C-2D7D-4E88-AB25-58244FE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131C-00F5-415F-8A57-13C34D2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C231-A6BE-48CB-BB52-2A5DEBB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BE2-354E-430D-924D-EF7B429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C24C-27EE-4CBC-A64E-340C4E1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1FDD-E0AE-46A4-8DC7-989BF32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4C6-4660-4D9B-BBAE-5C749327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B12-32E6-4A00-B405-0870ECA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4888-BDD1-4B1C-A361-F46BCDB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87A6-A0B6-48EF-AF0A-6F0DFFA5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D450-EB37-4972-9739-FE80E1EE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A3CA-17C6-47B9-8DB3-653B12FC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DBC9-5FA6-4C24-B72C-083F3FE5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040D-DEE7-4F8A-82E7-3D8AD083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81F8-7D7C-44FF-B8A1-8CEDE7DB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95FD-63B2-4115-8EC1-48090AE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E9A0-5CC9-477D-805C-2BDCC1D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9A3-7413-4853-9BDE-F097B11E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3A41-C58C-4E9F-9D2B-7620BA57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A664-F11F-4CEE-B65E-E7016CF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65D8-4BA6-4342-93B4-5CB61EF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EEC7-7CA8-4F63-8561-57B3249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4CEE-59B8-4F2A-8A3B-111858EF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A87F-5A80-4630-AE8C-3FD0F27F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0EE6A-1BC2-4B78-839D-5B7D355F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35F-B9C5-4313-8E3F-8980841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A44-A61B-4AD1-AAA8-4675E83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866-E668-4087-842A-B1A3D3C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F61-8102-485A-8CD5-FA99A86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230-340F-4358-B473-523389D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63A-EB06-440B-8FE1-E9F0D9B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7576-2BB0-48BB-843A-2E22F30FB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C602-8750-4FA4-9A52-5F67870ED3D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93D-4F84-4CEE-88F8-F72ABFECD76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alandin.net/Miditeka/Miditeka.line.gif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ob.1september.ru/2002/24/4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ewyork.ru/ic/img.lenta.ru/culture/2005/01/08/mozart/picture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Impact"/>
              </a:rPr>
              <a:t>Магия музы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70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32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МУЗЫКИ НА ФОРМИРОВАНИЕ                    ИНТЕ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КТУАЛЬНОЙ И НРАВСТВЕННО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ЛЬТУР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07520" cy="34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"Музыка усиливает любую радость,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успокаивает любую печаль, 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изгоняет болезн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мягчает</a:t>
            </a: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любую боль.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 поэтому Мудрецы Древности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клонялись Единой силе Душ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лодии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и Песне"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1.Мудрость музы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2.Современные научн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 интенсивно изучается влияние музыки в последние десятилетия. Эксперименты ведутся в нескольк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отдельных музыкальных инструментов на живые организ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музыки великих гениев человечества; индивидуальное воздействие отдельных произведений компози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на организм человека традиционных народных направлений в музыке, а также современных направ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i?id=717&amp;tov=5"/>
          <p:cNvPicPr/>
          <p:nvPr/>
        </p:nvPicPr>
        <p:blipFill>
          <a:blip r:embed="rId1"/>
          <a:stretch/>
        </p:blipFill>
        <p:spPr>
          <a:xfrm>
            <a:off x="324000" y="472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4672080" y="33346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Картинка 114 из 1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5734080"/>
            <a:ext cx="5472000" cy="1123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i?id=717&amp;tov=5"/>
          <p:cNvPicPr/>
          <p:nvPr/>
        </p:nvPicPr>
        <p:blipFill>
          <a:blip r:embed="rId4"/>
          <a:stretch/>
        </p:blipFill>
        <p:spPr>
          <a:xfrm>
            <a:off x="324000" y="285264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i?id=717&amp;tov=5"/>
          <p:cNvPicPr/>
          <p:nvPr/>
        </p:nvPicPr>
        <p:blipFill>
          <a:blip r:embed="rId5"/>
          <a:stretch/>
        </p:blipFill>
        <p:spPr>
          <a:xfrm>
            <a:off x="324000" y="3716280"/>
            <a:ext cx="47628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9a9a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альное 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музыкальных предпочтений учащихся и учителей МОУ СОШ №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2.Влияние музыки на эмоциональное      состоя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3.Музыка и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Картинка 17 из 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941720"/>
            <a:ext cx="343836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.Выявление музыкальных предпочтени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628640"/>
          <a:ext cx="9109080" cy="4753080"/>
        </p:xfrm>
        <a:graphic>
          <a:graphicData uri="http://schemas.openxmlformats.org/drawingml/2006/table">
            <a:tbl>
              <a:tblPr/>
              <a:tblGrid>
                <a:gridCol w="649440"/>
                <a:gridCol w="4498920"/>
                <a:gridCol w="2125440"/>
                <a:gridCol w="18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ую музыку предпочитае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ческую и духов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ую эстрадную, популяр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к-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юблю 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узыка, предпочитаемая в % соотношении от числа опрош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157640"/>
          </a:xfrm>
          <a:prstGeom prst="rect">
            <a:avLst/>
          </a:prstGeom>
          <a:ln w="0">
            <a:noFill/>
          </a:ln>
        </p:spPr>
      </p:pic>
      <p:pic>
        <p:nvPicPr>
          <p:cNvPr id="256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  <p:pic>
        <p:nvPicPr>
          <p:cNvPr id="257" name="Диаграмма 4" descr=""/>
          <p:cNvPicPr/>
          <p:nvPr/>
        </p:nvPicPr>
        <p:blipFill>
          <a:blip r:embed="rId3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 Влияние музыки на эмоциональное состояние Таблица 2</a:t>
            </a: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Основны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84360" y="189000"/>
            <a:ext cx="2448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ел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йчив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ям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99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-360" y="259920"/>
            <a:ext cx="2484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ко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859280" y="981000"/>
            <a:ext cx="22320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евое у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б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835280" y="3500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164360" y="404640"/>
            <a:ext cx="197964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Желт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ж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ые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изируют негативные тенд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вожность, стре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живание стр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ор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3b9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яем свои исследования, которые были проведены в 6 «А» класс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Изображение 00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сследователь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учащиеся МОУ СОШ № 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гов Александр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ролова Ольг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едрина Елен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музыки и МХ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емякина Ольг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87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600360" y="8502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816360" y="8718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032360" y="8934480"/>
            <a:ext cx="0" cy="102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291636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9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8388360" y="2276640"/>
            <a:ext cx="576360" cy="36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3132000" y="702936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5"/>
          <p:cNvSpPr/>
          <p:nvPr/>
        </p:nvSpPr>
        <p:spPr>
          <a:xfrm>
            <a:off x="7596360" y="2421000"/>
            <a:ext cx="685800" cy="342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 flipV="1">
            <a:off x="8893080" y="1557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8244000" y="1773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83170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7"/>
          <p:cNvSpPr/>
          <p:nvPr/>
        </p:nvSpPr>
        <p:spPr>
          <a:xfrm flipV="1">
            <a:off x="8244000" y="1557360"/>
            <a:ext cx="649080" cy="216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8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еся прослуша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льных фраг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1" descr="Картинка 218 из 2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844640"/>
            <a:ext cx="4537080" cy="4464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5"/>
          <p:cNvSpPr/>
          <p:nvPr/>
        </p:nvSpPr>
        <p:spPr>
          <a:xfrm>
            <a:off x="179280" y="285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МОЦ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7"/>
          <p:cNvSpPr/>
          <p:nvPr/>
        </p:nvSpPr>
        <p:spPr>
          <a:xfrm>
            <a:off x="3635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6443640" y="27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08 Моцарт Концерт №23 Adagio.mp3" descr=""/>
          <p:cNvPicPr/>
          <p:nvPr/>
        </p:nvPicPr>
        <p:blipFill>
          <a:blip r:embed="rId4"/>
          <a:stretch/>
        </p:blipFill>
        <p:spPr>
          <a:xfrm>
            <a:off x="8072280" y="5786280"/>
            <a:ext cx="59076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38796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.БЕТХОВ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i?id=101312914&amp;tov=3"/>
          <p:cNvPicPr/>
          <p:nvPr/>
        </p:nvPicPr>
        <p:blipFill>
          <a:blip r:embed="rId2"/>
          <a:stretch/>
        </p:blipFill>
        <p:spPr>
          <a:xfrm>
            <a:off x="2268360" y="1557360"/>
            <a:ext cx="345600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04-Allegro.mp3" descr=""/>
          <p:cNvPicPr/>
          <p:nvPr/>
        </p:nvPicPr>
        <p:blipFill>
          <a:blip r:embed="rId3"/>
          <a:stretch/>
        </p:blipFill>
        <p:spPr>
          <a:xfrm>
            <a:off x="7786800" y="557208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482108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MMSTE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Rammstein01"/>
          <p:cNvPicPr/>
          <p:nvPr/>
        </p:nvPicPr>
        <p:blipFill>
          <a:blip r:embed="rId2"/>
          <a:stretch/>
        </p:blipFill>
        <p:spPr>
          <a:xfrm>
            <a:off x="2411280" y="1844640"/>
            <a:ext cx="3889440" cy="4392720"/>
          </a:xfrm>
          <a:prstGeom prst="rect">
            <a:avLst/>
          </a:prstGeom>
          <a:ln w="0">
            <a:noFill/>
          </a:ln>
        </p:spPr>
      </p:pic>
      <p:pic>
        <p:nvPicPr>
          <p:cNvPr id="281" name="02-Links 2 3 4.mp3" descr=""/>
          <p:cNvPicPr/>
          <p:nvPr/>
        </p:nvPicPr>
        <p:blipFill>
          <a:blip r:embed="rId3"/>
          <a:stretch/>
        </p:blipFill>
        <p:spPr>
          <a:xfrm>
            <a:off x="7858080" y="571500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1677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прослушив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ыки: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Концерт для ф-но с оркестром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В.Моцарт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Симфония № 5 Л.Бетховен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Композиция рок-групп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MMSTEI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 -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еники сделали зарисов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рдашева С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5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злов Анто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 rot="756600">
            <a:off x="324000" y="188640"/>
            <a:ext cx="279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лова Л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d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выявлены определенные закономе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В.А.Моцарта окрашена в цвет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койст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веренности,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пешности,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а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Л.Бетховена способствует увеличению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мпульс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эмоциональной напряжен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после прослушивания рок - композиции отмечено преобладание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иолетов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ого, и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ер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. Кроме того, характерным для рисунков является – увеличения нажима, интенсивность штриховки, рваные, хаотичные линии, зигзаги. Все это можно интерпретировать как состояние беспокойства, настороженности, чувство неудовлетворенности собой, у кого-то чувство беспомощности, стрессов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i?id=17177644&amp;tov=4"/>
          <p:cNvPicPr/>
          <p:nvPr/>
        </p:nvPicPr>
        <p:blipFill>
          <a:blip r:embed="rId1"/>
          <a:stretch/>
        </p:blipFill>
        <p:spPr>
          <a:xfrm>
            <a:off x="108000" y="350028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?id=17177644&amp;tov=4"/>
          <p:cNvPicPr/>
          <p:nvPr/>
        </p:nvPicPr>
        <p:blipFill>
          <a:blip r:embed="rId2"/>
          <a:stretch/>
        </p:blipFill>
        <p:spPr>
          <a:xfrm>
            <a:off x="108000" y="256536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i?id=17177644&amp;tov=4"/>
          <p:cNvPicPr/>
          <p:nvPr/>
        </p:nvPicPr>
        <p:blipFill>
          <a:blip r:embed="rId3"/>
          <a:stretch/>
        </p:blipFill>
        <p:spPr>
          <a:xfrm>
            <a:off x="108000" y="1557360"/>
            <a:ext cx="82872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3. Музыка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4-2005 учебном году был создан 2 «А» класс-свирель - блок-флейта (руководитель Учитель музыки и МХК – Шемякина Ольга Юрьевна).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гра на духовых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узыкальных инструмента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не только музыкальное образование,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это хорошая дыхательная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гимнастика и профилактика заболеваний органов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ыхательной систем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читывая тот факт, что учащиеся «Б» класса этой же параллели на духовых инструментах не играют, мы сравнили анализ динамики заболеваемости между класс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роведенного исследования представлены в виде таблиц 3,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184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3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4 «А» класс – свир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9280" y="1557360"/>
          <a:ext cx="8568000" cy="4498920"/>
        </p:xfrm>
        <a:graphic>
          <a:graphicData uri="http://schemas.openxmlformats.org/drawingml/2006/table">
            <a:tbl>
              <a:tblPr/>
              <a:tblGrid>
                <a:gridCol w="1308240"/>
                <a:gridCol w="965160"/>
                <a:gridCol w="1031760"/>
                <a:gridCol w="1376640"/>
                <a:gridCol w="1376280"/>
                <a:gridCol w="1309680"/>
                <a:gridCol w="120024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А»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-2004г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Мы поставили перед соб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оль музыки в воспитании и образовании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особенности психологического воздействия музыки на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влияние музыки на здоровье уча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21964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81010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8" descr="i?id=17161576&amp;tov=6"/>
          <p:cNvPicPr/>
          <p:nvPr/>
        </p:nvPicPr>
        <p:blipFill>
          <a:blip r:embed="rId2"/>
          <a:stretch/>
        </p:blipFill>
        <p:spPr>
          <a:xfrm>
            <a:off x="324000" y="227664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i?id=17161576&amp;tov=6"/>
          <p:cNvPicPr/>
          <p:nvPr/>
        </p:nvPicPr>
        <p:blipFill>
          <a:blip r:embed="rId3"/>
          <a:stretch/>
        </p:blipFill>
        <p:spPr>
          <a:xfrm>
            <a:off x="324000" y="321300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3" descr="i?id=17161576&amp;tov=6"/>
          <p:cNvPicPr/>
          <p:nvPr/>
        </p:nvPicPr>
        <p:blipFill>
          <a:blip r:embed="rId4"/>
          <a:stretch/>
        </p:blipFill>
        <p:spPr>
          <a:xfrm>
            <a:off x="324000" y="4365720"/>
            <a:ext cx="576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88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 «А» класс - свирель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«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п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бронх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унарная анг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альный от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инг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6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ный анализ динамики роста заболеваемости среди учащихся показал, что по мере реализации программы «Здоровье»,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блюдается постепенный спад заболеваний органов дыхатель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процесс наиболее заметен среди учащихся, занимающихся игрой на духовых музыкальных инструментах. И наглядно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дтверждает позитивную роль дыхательной гимнастики в ходе занятий музы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 выводы говорят о том, что программа «Здоровье» оказывает положительное воздействие на укрепление здоровья учащихся, а также указывают на необходимость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должать работу по данному напра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0c0c0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я над проектом «Магия музыки», 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или представление о роли музыки в жизн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лись с историей изучения влияния музыки на человека, начиная с древнейших времен и современными научными исследова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экспериментальное исследование, в ходе которого выявили музыкальные предпочтения учащихся и учителей, а также выделил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кет музыкальных произведений, которые снижают тревогу, настраивают на спокойную плодотворную работу и активизируют мыслительную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анализ роста динамики простудных заболеваний сред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первая гипотеза  -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Музыка оказывает положительное влияние на человек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лностью подтвердила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гипотеза – «В молодежной среде отдается предпочтение современной популярной музыке» - подтвердилась части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думаем продолжить работу над проектом «Магия музыки». Планируем увеличить количество испытуемых разного возраста. Подобрать для каждого учащегося, с учетом его настроения, возраста, пола ту музыку, которая будет целенаправленно и положительно воздействовать на психик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286000" y="11858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«Я с музыкой встречаюсь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с детств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Изображение 217"/>
          <p:cNvPicPr/>
          <p:nvPr/>
        </p:nvPicPr>
        <p:blipFill>
          <a:blip r:embed="rId1"/>
          <a:stretch/>
        </p:blipFill>
        <p:spPr>
          <a:xfrm>
            <a:off x="539640" y="1413000"/>
            <a:ext cx="3633840" cy="5040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Изображение 020"/>
          <p:cNvPicPr/>
          <p:nvPr/>
        </p:nvPicPr>
        <p:blipFill>
          <a:blip r:embed="rId2"/>
          <a:stretch/>
        </p:blipFill>
        <p:spPr>
          <a:xfrm>
            <a:off x="4643280" y="1413000"/>
            <a:ext cx="4104000" cy="252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Изображение 005"/>
          <p:cNvPicPr/>
          <p:nvPr/>
        </p:nvPicPr>
        <p:blipFill>
          <a:blip r:embed="rId3"/>
          <a:stretch/>
        </p:blipFill>
        <p:spPr>
          <a:xfrm>
            <a:off x="4643280" y="3938760"/>
            <a:ext cx="4105440" cy="25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9966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93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Исходя из целей, были поставлены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материалы научно-популярной  и периодической литературы по теме: «Магия музык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музыкальные предпочтения учащихся и учителе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влияние музыки на эмоциональное состоя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мониторинг заболеваний учащихся школы («Класс- свирель  и  блок-флейт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468360" y="476280"/>
            <a:ext cx="3585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468360" y="692280"/>
            <a:ext cx="36036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826920" y="189000"/>
            <a:ext cx="0" cy="57600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803160" y="208080"/>
            <a:ext cx="160560" cy="44280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732720" y="5805360"/>
            <a:ext cx="22320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308720" y="5876640"/>
            <a:ext cx="792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5"/>
          <p:cNvCxnSpPr/>
          <p:nvPr/>
        </p:nvCxnSpPr>
        <p:spPr>
          <a:xfrm>
            <a:off x="7308360" y="6021360"/>
            <a:ext cx="793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7" name="Text Box 16"/>
          <p:cNvSpPr/>
          <p:nvPr/>
        </p:nvSpPr>
        <p:spPr>
          <a:xfrm>
            <a:off x="8237520" y="580536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d1a75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над проектом бы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ы следующ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и анализ научно-популяр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лушивание и подбор музыкальных произведений для проведени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е, монитор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j0299125"/>
          <p:cNvPicPr/>
          <p:nvPr/>
        </p:nvPicPr>
        <p:blipFill>
          <a:blip r:embed="rId1"/>
          <a:stretch/>
        </p:blipFill>
        <p:spPr>
          <a:xfrm>
            <a:off x="571680" y="71424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тупая к работе над проектом, мы выдвинули несколько гипоте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лодёжной среде отдаётся предпочтение современной популярной музы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физическое здоровь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music44"/>
          <p:cNvPicPr/>
          <p:nvPr/>
        </p:nvPicPr>
        <p:blipFill>
          <a:blip r:embed="rId1"/>
          <a:stretch/>
        </p:blipFill>
        <p:spPr>
          <a:xfrm>
            <a:off x="179280" y="357336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music44"/>
          <p:cNvPicPr/>
          <p:nvPr/>
        </p:nvPicPr>
        <p:blipFill>
          <a:blip r:embed="rId2"/>
          <a:stretch/>
        </p:blipFill>
        <p:spPr>
          <a:xfrm>
            <a:off x="179280" y="270828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music44"/>
          <p:cNvPicPr/>
          <p:nvPr/>
        </p:nvPicPr>
        <p:blipFill>
          <a:blip r:embed="rId3"/>
          <a:stretch/>
        </p:blipFill>
        <p:spPr>
          <a:xfrm>
            <a:off x="108000" y="4724280"/>
            <a:ext cx="57132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«МУЗЫКА – ОДНО ИЗ ВЕЛИЧАЙШ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ЧЕСТ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 звуков и интонац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ься слушать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447516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древних времен,                         ещё незнающий                                  речи человек                                            общался звуками.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880" y="260280"/>
            <a:ext cx="33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чальна и ч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людьми люб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ты не 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непостиж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!.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9:28:20Z</dcterms:created>
  <dc:creator>User</dc:creator>
  <dc:description/>
  <dc:language>en-US</dc:language>
  <cp:lastModifiedBy>User</cp:lastModifiedBy>
  <dcterms:modified xsi:type="dcterms:W3CDTF">2010-01-19T02:20:16Z</dcterms:modified>
  <cp:revision>33</cp:revision>
  <dc:subject/>
  <dc:title>Магия музыки.</dc:title>
</cp:coreProperties>
</file>