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D150-38EA-4666-8CD5-9C2298F3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1936-F7D9-4E82-A4A6-FC962B17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4794-D1D6-4F95-A7BA-C9CDAA025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42DF-7034-4DA1-8042-AE988022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97B6-D2FA-49C7-84E9-63EC154B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C827-56D8-47A5-8A88-AE4D35C5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5A64-FECB-489F-9FB7-0F3FBCF7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7AC1-49B8-4331-B79A-3DFBFB1B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D4A3-D729-4B36-8B42-DBEEBF4C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679C-8411-472C-89C3-2D98E406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B2E1-E31E-4AFF-ADD8-CD2F2DD1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23B3-9A34-4B26-99BD-1CD82B8B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65D1-F836-4A03-BA1C-B32DF2B8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46ED-A7A9-412D-870B-47592EE8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942E-609A-4D3D-BC3D-3FF70195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CB50-81DC-4491-A496-8D189248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C7EA-FAE3-47E6-A1E1-ACFF24E6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AC97-AF0B-47E8-9D33-6E707A2D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9AF0-BB3C-46BE-AFCD-1C8F2FE6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687E-C2AE-4C29-A5CC-06A033D1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9D5C-5E0B-4686-8A04-B913D4EB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A3EA-B9F9-4E90-AE6F-C97C6775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D98A-EE6E-4404-905A-0E8985FE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7D27-975B-40B4-8CF5-E4E42BB6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4A66-06A7-49E2-BD4B-0338654CB47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02D6-74C9-4318-8D44-A38E21B6ED0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0256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«Удивительный квадрат»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635280" y="2852640"/>
            <a:ext cx="5004000" cy="36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Исполнитель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Новоселов Андрей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Ученик 10 класса «Г»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МОУ СОШ № 10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Руководитель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Овсянникова И. В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г. Первоуральск - 2007 год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480" y="834120"/>
            <a:ext cx="7986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Задача на разрезание квадрата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#1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(Результат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405920" cy="26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о теперь надо еще показать, что шесть разрезов можно в действительности осуществить так, чтобы каждый раз число частей удваивалось и в результате получилось 26 = 64 отдельных квадратика. Это уже не трудно сделать: надо только следить,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чтобы после каждого разреза все части оказывались равными, и чтобы каждый очередной разрез разбивал каждую из частей попола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79800" y="4641840"/>
            <a:ext cx="609840" cy="12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18240" y="4648320"/>
            <a:ext cx="6094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03760" y="433692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79800" y="640080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После первого разрез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132440" y="46483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32440" y="48006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32440" y="49528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79800" y="4648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79800" y="4800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79800" y="49528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84720" y="4648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84720" y="4800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84720" y="49528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37000" y="46483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37000" y="48006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37000" y="49528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32440" y="5105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32440" y="52578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32440" y="54100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79800" y="51055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79800" y="52578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79800" y="54100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84720" y="51055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84720" y="5257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84720" y="54100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437000" y="5105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37000" y="52578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37000" y="54100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32440" y="55627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32440" y="57150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79800" y="55627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79800" y="57150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284720" y="55627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84720" y="57150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37000" y="55627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37000" y="57150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70520" y="46483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970520" y="48006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970520" y="49528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18240" y="4648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18240" y="4800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18240" y="49528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22800" y="4648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22800" y="4800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22800" y="49528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75440" y="46483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75440" y="48006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75440" y="49528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70520" y="5105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970520" y="52578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970520" y="54100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18240" y="51055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18240" y="5257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18240" y="54100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22800" y="51055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22800" y="52578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122800" y="54100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75440" y="5105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275440" y="52578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75440" y="54100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970520" y="55627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970520" y="57150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18240" y="55627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818240" y="57150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22800" y="55627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22800" y="57150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275440" y="55627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275440" y="57150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86600" y="46483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86600" y="48006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86600" y="49528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33960" y="4648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33960" y="4800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33960" y="49528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38880" y="4648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338880" y="4800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338880" y="49528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491160" y="46483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91160" y="48006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91160" y="49528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86600" y="5105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33960" y="51055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38880" y="51055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91160" y="5105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186600" y="54864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86600" y="5638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86600" y="57913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33960" y="5486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033960" y="56386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33960" y="5791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338880" y="54864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38880" y="56386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338880" y="5791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491160" y="54864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491160" y="56386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491160" y="57913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86600" y="59436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033960" y="5943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338880" y="5943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91160" y="59436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101000" y="54864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01000" y="5638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101000" y="57913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48360" y="5486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48360" y="56386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48360" y="5791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253280" y="54864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253280" y="56386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253280" y="5791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405560" y="54864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05560" y="56386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405560" y="57913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101000" y="59436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948360" y="5943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253280" y="5943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405560" y="59436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101000" y="46483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101000" y="48006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101000" y="49528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48360" y="4648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948360" y="4800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948360" y="49528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53280" y="4648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253280" y="4800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253280" y="49528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405560" y="46483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405560" y="48006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405560" y="49528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101000" y="5105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51055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253280" y="51055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405560" y="5105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6796080" y="4343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945040" y="53625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110280" y="640080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После второго разрез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153280" y="37339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153280" y="38862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153280" y="40384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01000" y="3733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001000" y="38862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001000" y="40384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153280" y="41911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72400" y="640080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После третьего разрез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153280" y="44197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153280" y="45720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153280" y="47242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001000" y="44197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001000" y="47242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153280" y="48769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001000" y="48769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153280" y="51055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153280" y="52578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153280" y="54100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001000" y="5105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001000" y="52578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001000" y="54100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55627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001000" y="55627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153280" y="57913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153280" y="59436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153280" y="60958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001000" y="5791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001000" y="5943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001000" y="60958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153280" y="6248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001000" y="62485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686800" y="37339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686800" y="38862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686800" y="40384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534520" y="3733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534520" y="38862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534520" y="40384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86800" y="41911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534520" y="41911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686800" y="44197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686800" y="45720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686800" y="47242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534520" y="44197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534520" y="45720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534520" y="47242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686800" y="4876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534520" y="48769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86800" y="51055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86800" y="5257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686800" y="54100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34520" y="5105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534520" y="52578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534520" y="54100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686800" y="55627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534520" y="55627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686800" y="57913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686800" y="59436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686800" y="60958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534520" y="5791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534520" y="5943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534520" y="60958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686800" y="6248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534520" y="62485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8426520" y="3657240"/>
            <a:ext cx="0" cy="2762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гра с квадратом «Край в край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колько фигур разной формы (не считая отражений) можно получить соединяя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Три одинаковых квадрата край в край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Четыре одинаковых квадрата край в кра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ять одинаковых квадратов край в кра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Вывод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Чем больше квадратов, тем большее количество фигур можно сложить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924360" y="3429000"/>
            <a:ext cx="1223640" cy="375840"/>
            <a:chOff x="3924360" y="3429000"/>
            <a:chExt cx="1223640" cy="375840"/>
          </a:xfrm>
        </p:grpSpPr>
        <p:sp>
          <p:nvSpPr>
            <p:cNvPr id="440" name=""/>
            <p:cNvSpPr/>
            <p:nvPr/>
          </p:nvSpPr>
          <p:spPr>
            <a:xfrm>
              <a:off x="3924360" y="3617280"/>
              <a:ext cx="188280" cy="18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112640" y="3617280"/>
              <a:ext cx="187920" cy="18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300920" y="3617280"/>
              <a:ext cx="187920" cy="18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771440" y="3617280"/>
              <a:ext cx="188280" cy="18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60080" y="3617280"/>
              <a:ext cx="187920" cy="18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960080" y="3429000"/>
              <a:ext cx="187920" cy="18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2700360" y="4076640"/>
            <a:ext cx="3960360" cy="385920"/>
            <a:chOff x="2700360" y="4076640"/>
            <a:chExt cx="3960360" cy="385920"/>
          </a:xfrm>
        </p:grpSpPr>
        <p:sp>
          <p:nvSpPr>
            <p:cNvPr id="447" name=""/>
            <p:cNvSpPr/>
            <p:nvPr/>
          </p:nvSpPr>
          <p:spPr>
            <a:xfrm>
              <a:off x="2700360" y="407664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893320" y="4076640"/>
              <a:ext cx="19332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086640" y="407664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00360" y="426960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69760" y="407664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762720" y="407664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956040" y="4076640"/>
              <a:ext cx="19332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49360" y="407664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35640" y="4076640"/>
              <a:ext cx="19332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28960" y="407664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35640" y="4269600"/>
              <a:ext cx="19332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28960" y="426960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211720" y="4076640"/>
              <a:ext cx="19332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405400" y="407664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98360" y="407664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05400" y="426960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274440" y="4076640"/>
              <a:ext cx="19332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67760" y="407664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81480" y="426960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74440" y="4269600"/>
              <a:ext cx="19332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1763640" y="4797360"/>
            <a:ext cx="5500440" cy="1031760"/>
            <a:chOff x="1763640" y="4797360"/>
            <a:chExt cx="5500440" cy="1031760"/>
          </a:xfrm>
        </p:grpSpPr>
        <p:sp>
          <p:nvSpPr>
            <p:cNvPr id="468" name=""/>
            <p:cNvSpPr/>
            <p:nvPr/>
          </p:nvSpPr>
          <p:spPr>
            <a:xfrm>
              <a:off x="176364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35360" y="4797360"/>
              <a:ext cx="17208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10744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7916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50880" y="4797360"/>
              <a:ext cx="17208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88108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05280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24520" y="4797360"/>
              <a:ext cx="17208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39660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81080" y="496908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2608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997800" y="4797360"/>
              <a:ext cx="17208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826080" y="496908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97800" y="4969080"/>
              <a:ext cx="17208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826080" y="514152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2800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59972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771440" y="4797360"/>
              <a:ext cx="17208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28000" y="496908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771440" y="4969080"/>
              <a:ext cx="17208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01640" y="496908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73360" y="496908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45080" y="4969080"/>
              <a:ext cx="17208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01640" y="514152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545080" y="4797360"/>
              <a:ext cx="17208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7492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14664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18360" y="4797360"/>
              <a:ext cx="17208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146640" y="514152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46640" y="496908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4856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2028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92000" y="4797360"/>
              <a:ext cx="17208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092000" y="5141520"/>
              <a:ext cx="17208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092000" y="4969080"/>
              <a:ext cx="17208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3640" y="548496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35360" y="5484960"/>
              <a:ext cx="17208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107440" y="548496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79160" y="548496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107440" y="565740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81080" y="548496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052800" y="548496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224520" y="5484960"/>
              <a:ext cx="17208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052800" y="565740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052800" y="531324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40040" y="5484960"/>
              <a:ext cx="17208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912120" y="548496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84200" y="548496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12120" y="565740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84200" y="531324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99720" y="548496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599720" y="531324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71440" y="5657400"/>
              <a:ext cx="17208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71440" y="5484960"/>
              <a:ext cx="17208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943520" y="565740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73360" y="548496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545080" y="5484960"/>
              <a:ext cx="17208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717160" y="548496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717160" y="531324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88880" y="531324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Упакованные квадраты (Задача)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20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скольку гармонический ряд расходится, множество квадратов со сторонами 1, 1/2, 1/3, … , 1/ n, … , приставленных друг к другу на прямой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Рис. 5)будет простираться бесконечно далеко по этой прямой. Доказать, что, можно все квадраты, начиная со второго, уложить в первый квадрат без наложен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2185920" y="4292640"/>
            <a:ext cx="5554440" cy="2496600"/>
            <a:chOff x="2185920" y="4292640"/>
            <a:chExt cx="5554440" cy="2496600"/>
          </a:xfrm>
        </p:grpSpPr>
        <p:sp>
          <p:nvSpPr>
            <p:cNvPr id="531" name=""/>
            <p:cNvSpPr/>
            <p:nvPr/>
          </p:nvSpPr>
          <p:spPr>
            <a:xfrm>
              <a:off x="2434680" y="4292640"/>
              <a:ext cx="1851480" cy="185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86520" y="5218200"/>
              <a:ext cx="925560" cy="92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12080" y="5470560"/>
              <a:ext cx="673560" cy="67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885640" y="563940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185920" y="6144480"/>
              <a:ext cx="555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22200" y="5807520"/>
              <a:ext cx="588600" cy="29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254200" y="5812560"/>
              <a:ext cx="58896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1/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454640" y="5807520"/>
              <a:ext cx="58896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1/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32720" y="5814720"/>
              <a:ext cx="58896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1/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390720" y="5807520"/>
              <a:ext cx="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85640" y="5807520"/>
              <a:ext cx="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148160" y="5695560"/>
              <a:ext cx="588600" cy="32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558840" y="5972040"/>
              <a:ext cx="672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86520" y="6453000"/>
              <a:ext cx="92556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Рис.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Упакованные квадраты (Результат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780000" y="5734080"/>
            <a:ext cx="112536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Рис. 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189400" y="3656160"/>
            <a:ext cx="460440" cy="27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7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979720" y="2941560"/>
            <a:ext cx="53352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8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132000" y="2637000"/>
            <a:ext cx="259092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32000" y="3932280"/>
            <a:ext cx="1295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427640" y="4237200"/>
            <a:ext cx="99036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513240" y="4923000"/>
            <a:ext cx="5331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656240" y="4923000"/>
            <a:ext cx="5331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3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122720" y="5303880"/>
            <a:ext cx="533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799240" y="3780000"/>
            <a:ext cx="5331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98840" y="4389480"/>
            <a:ext cx="533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522520" y="3475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132000" y="39322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132000" y="3170160"/>
            <a:ext cx="762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894120" y="339876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132000" y="29415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132000" y="317016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132000" y="294156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503600" y="3780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436920" y="30178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284640" y="27892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32000" y="29415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360600" y="2941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522520" y="2941560"/>
            <a:ext cx="533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8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255840" y="3622680"/>
            <a:ext cx="533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930480" y="3632040"/>
            <a:ext cx="45720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987640" y="2924280"/>
            <a:ext cx="5335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8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132000" y="28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130200" y="317016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126960" y="294156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390840" y="2944800"/>
            <a:ext cx="0" cy="23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200560" y="3632040"/>
            <a:ext cx="451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7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29272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58000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5292720" y="36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Танграм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605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Эта головоломка изобретена в Древнем Китае (у нас она сейчас распространена под названием «Пифагор».). Из семи частей квадрата удается сложить самые разнообразные фигур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азрезав квадрат так, как показано на рисунке и соблюдая два правила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)  при  складывании фигурок использовать все семь частей-танов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) таны нельзя накладывать друг на друга (они могут только касаться друг друга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6227640" y="2492280"/>
            <a:ext cx="2471040" cy="2471400"/>
            <a:chOff x="6227640" y="2492280"/>
            <a:chExt cx="2471040" cy="2471400"/>
          </a:xfrm>
        </p:grpSpPr>
        <p:sp>
          <p:nvSpPr>
            <p:cNvPr id="584" name=""/>
            <p:cNvSpPr/>
            <p:nvPr/>
          </p:nvSpPr>
          <p:spPr>
            <a:xfrm>
              <a:off x="6227640" y="2492280"/>
              <a:ext cx="2462040" cy="246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39520" y="2504160"/>
              <a:ext cx="2459160" cy="24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6732720" y="2516400"/>
              <a:ext cx="1951920" cy="19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61120" y="4026240"/>
              <a:ext cx="938160" cy="93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730560" y="44946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6261120" y="3264120"/>
              <a:ext cx="7621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2708640" y="558000"/>
            <a:ext cx="61023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Танграмы (Изображения 1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755640" y="1751040"/>
            <a:ext cx="5796000" cy="510696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2746440" cy="39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анграмы (Изображения 2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1835280" y="2840040"/>
            <a:ext cx="5943600" cy="40179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1835280" y="2349360"/>
            <a:ext cx="2286000" cy="49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Домашние живот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003640" y="2349360"/>
            <a:ext cx="2241720" cy="49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Животные Афр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остроение при помощи перегибания квадратного листа бумаги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042920" y="2349360"/>
            <a:ext cx="16002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881360" y="2349360"/>
            <a:ext cx="761760" cy="7621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805040" y="3111480"/>
            <a:ext cx="838080" cy="83808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042560" y="2349360"/>
            <a:ext cx="83844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195560" y="5016600"/>
            <a:ext cx="16002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1195200" y="5016600"/>
            <a:ext cx="160020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948040" y="5702400"/>
            <a:ext cx="228600" cy="228600"/>
          </a:xfrm>
          <a:custGeom>
            <a:avLst/>
            <a:gdLst>
              <a:gd name="textAreaLeft" fmla="*/ 356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328920" y="5016600"/>
            <a:ext cx="1600200" cy="16002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167360" y="585468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3328560" y="5854680"/>
            <a:ext cx="83844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424160" y="2959200"/>
            <a:ext cx="9903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-й способ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500120" y="562608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2-ой способ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060560" y="3184560"/>
            <a:ext cx="761760" cy="762120"/>
          </a:xfrm>
          <a:prstGeom prst="line">
            <a:avLst/>
          </a:prstGeom>
          <a:ln w="93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005440" y="5702400"/>
            <a:ext cx="228600" cy="228600"/>
          </a:xfrm>
          <a:custGeom>
            <a:avLst/>
            <a:gdLst>
              <a:gd name="textAreaLeft" fmla="*/ 356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691240" y="54738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871720" y="2959200"/>
            <a:ext cx="228600" cy="228600"/>
          </a:xfrm>
          <a:custGeom>
            <a:avLst/>
            <a:gdLst>
              <a:gd name="textAreaLeft" fmla="*/ 356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405240" y="2654280"/>
            <a:ext cx="10666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05240" y="265428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3404880" y="265428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691240" y="54738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53240" y="255276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732720" y="2637000"/>
            <a:ext cx="1600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ервый сгиб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54680" y="327168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732720" y="3357720"/>
            <a:ext cx="1600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Второй сгиб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99400" y="4711680"/>
            <a:ext cx="1600200" cy="0"/>
          </a:xfrm>
          <a:prstGeom prst="line">
            <a:avLst/>
          </a:prstGeom>
          <a:ln w="93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877080" y="4797360"/>
            <a:ext cx="1600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Четвертый сгиб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27760" y="3990960"/>
            <a:ext cx="160020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04000" y="4076640"/>
            <a:ext cx="1600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Третий сгиб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остроение при помощи перегибания квадратного листа бумаг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127240" y="5062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106720" y="5146560"/>
            <a:ext cx="1600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ервый сгиб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978360" y="505296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956040" y="5138640"/>
            <a:ext cx="1600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Второй сгиб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808600" y="5052960"/>
            <a:ext cx="160020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784840" y="5138640"/>
            <a:ext cx="1600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Третий сгиб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78360" y="5815080"/>
            <a:ext cx="1600200" cy="0"/>
          </a:xfrm>
          <a:prstGeom prst="line">
            <a:avLst/>
          </a:prstGeom>
          <a:ln w="93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956040" y="5900760"/>
            <a:ext cx="1600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Четвертый сгиб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050920" y="2852640"/>
            <a:ext cx="16002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851200" y="2874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050920" y="361476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355840" y="346248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-й способ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56040" y="3538440"/>
            <a:ext cx="228600" cy="228600"/>
          </a:xfrm>
          <a:custGeom>
            <a:avLst/>
            <a:gdLst>
              <a:gd name="textAreaLeft" fmla="*/ 356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794120" y="3233880"/>
            <a:ext cx="838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целью  работы </a:t>
            </a: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763280" y="1916280"/>
            <a:ext cx="69231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оказать практические возможности применения квадрата как    геометрической фигуры.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Задачи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глубить имеющие знания и приобрести новые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знакомить с особенностями периметра и площади квадрата в сравнении с прямоугольнико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асширить знания по решению задач с практическим содержанием.</a:t>
            </a:r>
            <a:br>
              <a:rPr sz="2800"/>
            </a:b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Что такое квадрат?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2361960"/>
            <a:ext cx="8062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Квадратом</a:t>
            </a:r>
            <a:r>
              <a:rPr b="0" i="1" lang="en-US" sz="4400" spc="-1" strike="noStrike">
                <a:solidFill>
                  <a:srgbClr val="003366"/>
                </a:solidFill>
                <a:latin typeface="Arial"/>
              </a:rPr>
              <a:t> называется прямоугольник, у которого все стороны равны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Замечательные свойства квадрата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467064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се углы квадрата прямы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се стороны квадрата равны и попарно параллельн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иагонали квадрата равны, взаимно перпендикулярны, точкой пересечения делятся пополам и делят углы квадрата попола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 квадрата четыре оси симметри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911560" y="2247840"/>
            <a:ext cx="2449080" cy="2418120"/>
            <a:chOff x="5911560" y="2247840"/>
            <a:chExt cx="2449080" cy="2418120"/>
          </a:xfrm>
        </p:grpSpPr>
        <p:sp>
          <p:nvSpPr>
            <p:cNvPr id="106" name=""/>
            <p:cNvSpPr/>
            <p:nvPr/>
          </p:nvSpPr>
          <p:spPr>
            <a:xfrm>
              <a:off x="6105600" y="2421000"/>
              <a:ext cx="2082240" cy="208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6105600" y="2421000"/>
              <a:ext cx="2082240" cy="208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6105600" y="2421000"/>
              <a:ext cx="2082240" cy="208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700000">
              <a:off x="6941520" y="3378960"/>
              <a:ext cx="173520" cy="17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6626160" y="2941920"/>
              <a:ext cx="173520" cy="17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7494120" y="3810600"/>
              <a:ext cx="173520" cy="17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7494120" y="2941920"/>
              <a:ext cx="173520" cy="17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6626160" y="3810600"/>
              <a:ext cx="173520" cy="17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85080" y="4319280"/>
              <a:ext cx="346320" cy="34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11560" y="4145400"/>
              <a:ext cx="346320" cy="34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819920" y="4319280"/>
              <a:ext cx="345600" cy="34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993440" y="4145400"/>
              <a:ext cx="346320" cy="34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rot="10800000">
              <a:off x="6106680" y="2247840"/>
              <a:ext cx="346320" cy="34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rot="10800000">
              <a:off x="5932800" y="2421360"/>
              <a:ext cx="346320" cy="34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rot="16200000">
              <a:off x="7839720" y="2248200"/>
              <a:ext cx="346320" cy="34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rot="16200000">
              <a:off x="8013600" y="2421360"/>
              <a:ext cx="346320" cy="34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300000" y="4724280"/>
            <a:ext cx="1747800" cy="1747800"/>
            <a:chOff x="6300000" y="4724280"/>
            <a:chExt cx="1747800" cy="1747800"/>
          </a:xfrm>
        </p:grpSpPr>
        <p:sp>
          <p:nvSpPr>
            <p:cNvPr id="123" name=""/>
            <p:cNvSpPr/>
            <p:nvPr/>
          </p:nvSpPr>
          <p:spPr>
            <a:xfrm>
              <a:off x="6689880" y="5158800"/>
              <a:ext cx="970920" cy="97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75520" y="4724280"/>
              <a:ext cx="0" cy="1747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00000" y="5639040"/>
              <a:ext cx="17478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95840" y="4964760"/>
              <a:ext cx="1359360" cy="1359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6495840" y="4964760"/>
              <a:ext cx="1359360" cy="1359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Чем квадрат "лучше" других  четырёхугольников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25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Площадь квадрата больше площади любого прямоугольника с тем же периметро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059280" y="4235400"/>
            <a:ext cx="3025440" cy="2622600"/>
            <a:chOff x="3059280" y="4235400"/>
            <a:chExt cx="3025440" cy="2622600"/>
          </a:xfrm>
        </p:grpSpPr>
        <p:sp>
          <p:nvSpPr>
            <p:cNvPr id="131" name=""/>
            <p:cNvSpPr/>
            <p:nvPr/>
          </p:nvSpPr>
          <p:spPr>
            <a:xfrm>
              <a:off x="3059280" y="4235400"/>
              <a:ext cx="3025440" cy="22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64080" y="5244120"/>
              <a:ext cx="2017080" cy="90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68440" y="4638600"/>
              <a:ext cx="1512720" cy="151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67640" y="584928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61680" y="494136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66040" y="494136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66040" y="433620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81520" y="433620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81520" y="615204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80360" y="504216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67640" y="584928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63280" y="5849280"/>
              <a:ext cx="0" cy="30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61680" y="554688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563280" y="5244120"/>
              <a:ext cx="0" cy="30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68440" y="5244120"/>
              <a:ext cx="0" cy="90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61680" y="615204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83120" y="5546880"/>
              <a:ext cx="0" cy="60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883120" y="4638240"/>
              <a:ext cx="0" cy="60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81520" y="524412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23920" y="432936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168440" y="4437000"/>
              <a:ext cx="60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76360" y="4437000"/>
              <a:ext cx="60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663720" y="6252840"/>
              <a:ext cx="80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74480" y="6252840"/>
              <a:ext cx="80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14400" y="615240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68440" y="6555600"/>
              <a:ext cx="90756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Рис. 2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172040" y="5248440"/>
            <a:ext cx="1511280" cy="0"/>
          </a:xfrm>
          <a:prstGeom prst="line">
            <a:avLst/>
          </a:prstGeom>
          <a:ln w="936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Магический квадрат третьего порядк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десь изображен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динственный магический квадрат третьего порядк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 Если ты найдешь семь других возможных расположений чисел, ты увидишь, что все они получаются из этого или отражениями, или поворотам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07480" y="350352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07480" y="289404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07480" y="426564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19840" y="4893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19760" y="493164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81880" y="493164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038080" y="4890960"/>
            <a:ext cx="18288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12040" y="2768760"/>
            <a:ext cx="45720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15280" y="3357720"/>
            <a:ext cx="45900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15280" y="4119480"/>
            <a:ext cx="459000" cy="35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44000" y="5084640"/>
            <a:ext cx="45864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29600" y="5160960"/>
            <a:ext cx="45864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67480" y="5160960"/>
            <a:ext cx="45864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9400" y="5160960"/>
            <a:ext cx="45864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142600" y="4967280"/>
            <a:ext cx="18288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90960" y="5140440"/>
            <a:ext cx="45900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580000" y="2492280"/>
          <a:ext cx="2259000" cy="2281320"/>
        </p:xfrm>
        <a:graphic>
          <a:graphicData uri="http://schemas.openxmlformats.org/drawingml/2006/table">
            <a:tbl>
              <a:tblPr/>
              <a:tblGrid>
                <a:gridCol w="752400"/>
                <a:gridCol w="754200"/>
                <a:gridCol w="7524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r>
                        <a:rPr b="1" i="1" lang="ru-RU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агический квадрат Дюре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09428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Четыре средних числа тоже дают в сумме 34, как и короткие диагонали, отмеченные штриховыми линиям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003640" y="2492280"/>
          <a:ext cx="2548080" cy="2516400"/>
        </p:xfrm>
        <a:graphic>
          <a:graphicData uri="http://schemas.openxmlformats.org/drawingml/2006/table">
            <a:tbl>
              <a:tblPr/>
              <a:tblGrid>
                <a:gridCol w="636840"/>
                <a:gridCol w="637920"/>
                <a:gridCol w="636840"/>
                <a:gridCol w="636480"/>
              </a:tblGrid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3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7651800" y="276228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956720" y="2637000"/>
            <a:ext cx="45720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51800" y="34099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956720" y="3284640"/>
            <a:ext cx="45720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51800" y="405756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56720" y="3932280"/>
            <a:ext cx="45720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51800" y="47070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956720" y="4581360"/>
            <a:ext cx="457200" cy="35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750200" y="5127480"/>
            <a:ext cx="18252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98920" y="5300640"/>
            <a:ext cx="45900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8800" y="51778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8360" y="5445000"/>
            <a:ext cx="45864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86440" y="51778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96000" y="5445000"/>
            <a:ext cx="45864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34080" y="517788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3640" y="5445000"/>
            <a:ext cx="45864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10440" y="51778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5445000"/>
            <a:ext cx="45864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77720" y="5106960"/>
            <a:ext cx="18288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883640" y="5300640"/>
            <a:ext cx="45864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003640" y="2489040"/>
            <a:ext cx="1270080" cy="1257480"/>
          </a:xfrm>
          <a:prstGeom prst="line">
            <a:avLst/>
          </a:prstGeom>
          <a:ln w="255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272280" y="3757680"/>
            <a:ext cx="1270080" cy="1257120"/>
          </a:xfrm>
          <a:prstGeom prst="line">
            <a:avLst/>
          </a:prstGeom>
          <a:ln w="255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19840" y="3759120"/>
            <a:ext cx="1269720" cy="12574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89560" y="2495520"/>
            <a:ext cx="1270080" cy="12574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Как Абул Вефа составил квадрат из трёх равных квадратов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838080" y="2060640"/>
            <a:ext cx="76932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н разрезал квадраты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о диагоналям и каждую из половинок приложил к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вадрату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как показано на рис. 3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ятем он соединил отрезками прямых вершины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G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к И.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лученный четырёхугольник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EFGH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казался искомым квадрат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627280" y="4581000"/>
            <a:ext cx="4065480" cy="2030760"/>
            <a:chOff x="2627280" y="4581000"/>
            <a:chExt cx="4065480" cy="2030760"/>
          </a:xfrm>
        </p:grpSpPr>
        <p:grpSp>
          <p:nvGrpSpPr>
            <p:cNvPr id="207" name=""/>
            <p:cNvGrpSpPr/>
            <p:nvPr/>
          </p:nvGrpSpPr>
          <p:grpSpPr>
            <a:xfrm>
              <a:off x="2627280" y="4581000"/>
              <a:ext cx="1674720" cy="691200"/>
              <a:chOff x="2627280" y="4581000"/>
              <a:chExt cx="1674720" cy="691200"/>
            </a:xfrm>
          </p:grpSpPr>
          <p:sp>
            <p:nvSpPr>
              <p:cNvPr id="208" name=""/>
              <p:cNvSpPr/>
              <p:nvPr/>
            </p:nvSpPr>
            <p:spPr>
              <a:xfrm>
                <a:off x="2627280" y="4581360"/>
                <a:ext cx="689400" cy="69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612240" y="4581360"/>
                <a:ext cx="689760" cy="69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3612240" y="4581000"/>
                <a:ext cx="68976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2627280" y="4581000"/>
                <a:ext cx="68940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725560" y="4679640"/>
                <a:ext cx="29520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3366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710880" y="4679640"/>
                <a:ext cx="29520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3366"/>
                    </a:solidFill>
                    <a:latin typeface="Arial"/>
                  </a:rPr>
                  <a:t>II</a:t>
                </a:r>
                <a:endParaRPr b="0" lang="en-US" sz="11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5167440" y="5094360"/>
              <a:ext cx="728640" cy="72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2700000">
              <a:off x="4806360" y="5248800"/>
              <a:ext cx="730080" cy="72864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8100000">
              <a:off x="5025600" y="4734000"/>
              <a:ext cx="730440" cy="72864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8900000">
              <a:off x="5327640" y="5457960"/>
              <a:ext cx="728640" cy="72864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3500000">
              <a:off x="5531400" y="4932720"/>
              <a:ext cx="728640" cy="73044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689080" y="5305320"/>
              <a:ext cx="716040" cy="103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657680" y="4592520"/>
              <a:ext cx="727200" cy="1024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5389560" y="4584240"/>
              <a:ext cx="1015920" cy="714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4662000" y="5614560"/>
              <a:ext cx="1027080" cy="717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81640" y="5305320"/>
              <a:ext cx="3110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19560" y="5567400"/>
              <a:ext cx="3128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95800" y="5110200"/>
              <a:ext cx="3128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26080" y="5110200"/>
              <a:ext cx="3110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40480" y="5567400"/>
              <a:ext cx="3124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90920" y="5462640"/>
              <a:ext cx="3128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80280" y="5149800"/>
              <a:ext cx="3124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37160" y="6345360"/>
              <a:ext cx="31284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03640" y="4869000"/>
              <a:ext cx="31284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56240" y="4933800"/>
              <a:ext cx="3110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38480" y="6345360"/>
              <a:ext cx="70488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Рис.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5:27:39Z</dcterms:created>
  <dc:creator>Юрий</dc:creator>
  <dc:description/>
  <dc:language>en-US</dc:language>
  <cp:lastModifiedBy>Инна</cp:lastModifiedBy>
  <dcterms:modified xsi:type="dcterms:W3CDTF">2008-01-22T21:35:44Z</dcterms:modified>
  <cp:revision>20</cp:revision>
  <dc:subject/>
  <dc:title>Исследовательская работа по теме:  «Удивительный квадрат» </dc:title>
</cp:coreProperties>
</file>