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809-9696-48EB-9039-66422589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BCF-D68C-4719-8B93-F5413DEB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E7D-55C5-442B-8152-2667F076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CAF-8C6B-43A3-9D33-72CB227B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8C63-D6DD-4F30-9BE4-95AC69DB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78F-E165-4F5D-9CC1-7951EC4E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E95-4DB0-49CB-A0A7-A12FD05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8F8-55B2-4372-9261-A332857C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EF0F-D566-410D-A7CA-A4D9D8FE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138A-6CBF-4793-B495-8FFC1E30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159F-D9CC-4EE0-B5E3-7934C4B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8B7-B7BE-4E7C-B54F-BCAEB9CE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301-321A-409E-AE1A-DCC1876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287-6B63-4CC7-9410-C0B4958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795-DC28-4AAC-A617-1EA47635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649-52B6-4272-A3C4-85F721F0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10D-BA28-4BD2-97A0-1B6ADBB5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F8E-3FC1-46FD-B0D6-5E1FFA33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3AF-BB30-4465-93DA-C9725D62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5D3-7F07-4D74-A647-F917047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4B7-EA91-4B63-931C-036BE80C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9E6-C0FE-4359-B5AA-35AA530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B38-2D20-4F79-83BB-DC819F2C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465-969D-4CFF-9716-2EEECC8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058A-73EC-41D2-BB46-497672DE43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4AE-9BFC-4A9E-843E-616F1BAB24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02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«Удивительный квадрат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2852640"/>
            <a:ext cx="50040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сполнитель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Новоселов Андр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ченик 10 класса «Г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МОУ СОШ № 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уководитель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всянникова И. В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г. Первоуральск - 2007 год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дача на разрезание квадрата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#1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Результат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0592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теперь надо еще показать, что шесть разрезов можно в действительности осуществить так, чтобы каждый раз число частей удваивалось и в результате получилось 26 = 64 отдельных квадратика. Это уже не трудно сделать: надо только следить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тобы после каждого разреза все части оказывались равными, и чтобы каждый очередной разрез разбивал каждую из частей попол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79800" y="4641840"/>
            <a:ext cx="6098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18240" y="4648320"/>
            <a:ext cx="6094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03760" y="43369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980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перво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3244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3244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3244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7980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7980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7980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700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3700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3700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3244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3244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7980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7980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980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472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472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3700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37000" y="52578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37000" y="54100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3244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7980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79800" y="57150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8472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4720" y="57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37000" y="5562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37000" y="5715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7052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7052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7052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1824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824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824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2280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2280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7544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7544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7544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7052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705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7052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1824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1824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1824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2280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2280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2280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7544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7544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7544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7052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7052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1824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18240" y="57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2280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22800" y="57150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7544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7544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8660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8660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866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3396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3396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3396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3888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3888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3888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9116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9116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9116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866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3396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3888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116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8660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866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866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33960" y="5486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33960" y="56386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33960" y="5791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3888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38880" y="5638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3888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91160" y="5486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91160" y="5638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9116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866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3396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3888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9116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100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010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010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5486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56386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48360" y="5791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5328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53280" y="5638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5328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05560" y="5486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05560" y="5638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0556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010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5328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0556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0100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0100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01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4836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5328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5328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328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0556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0556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0556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010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5328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0556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7960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45040" y="5362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1028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второ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53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38862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153280" y="40384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01000" y="3733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3886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01000" y="4038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53280" y="41911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7240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третье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4419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53280" y="4572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153280" y="47242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4419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01000" y="47242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53280" y="48769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4876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328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15328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6095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0100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01000" y="6095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53280" y="6248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01000" y="6248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86800" y="3733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86800" y="3886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86800" y="40384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534520" y="3733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34520" y="3886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534520" y="4038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41911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534520" y="4191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86800" y="4419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86800" y="4572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86800" y="4724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534520" y="4419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34520" y="4572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34520" y="47242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686800" y="4876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534520" y="4876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8680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8680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68680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3452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345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8680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53452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868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868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86800" y="6095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53452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53452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534520" y="6095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686800" y="6248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534520" y="6248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426520" y="3657240"/>
            <a:ext cx="0" cy="2762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гра с квадратом «Край в край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колько фигур разной формы (не считая отражений) можно получить соединя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и одинаковых квадрата край в кра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тыре одинаковых квадрата край в кр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ять одинаковых квадратов край в кр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вод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м больше квадратов, тем большее количество фигур можно сложи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924360" y="3429000"/>
            <a:ext cx="1223640" cy="375840"/>
            <a:chOff x="3924360" y="3429000"/>
            <a:chExt cx="1223640" cy="375840"/>
          </a:xfrm>
        </p:grpSpPr>
        <p:sp>
          <p:nvSpPr>
            <p:cNvPr id="440" name=""/>
            <p:cNvSpPr/>
            <p:nvPr/>
          </p:nvSpPr>
          <p:spPr>
            <a:xfrm>
              <a:off x="3924360" y="3617280"/>
              <a:ext cx="18828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1264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092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71440" y="3617280"/>
              <a:ext cx="18828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008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60080" y="3429000"/>
              <a:ext cx="187920" cy="1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700360" y="4076640"/>
            <a:ext cx="3960360" cy="385920"/>
            <a:chOff x="2700360" y="4076640"/>
            <a:chExt cx="3960360" cy="385920"/>
          </a:xfrm>
        </p:grpSpPr>
        <p:sp>
          <p:nvSpPr>
            <p:cNvPr id="447" name=""/>
            <p:cNvSpPr/>
            <p:nvPr/>
          </p:nvSpPr>
          <p:spPr>
            <a:xfrm>
              <a:off x="2700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9332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8664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0036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97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272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560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49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356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89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5640" y="426960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2896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172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0540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98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0540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744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677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8148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4440" y="426960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763640" y="4797360"/>
            <a:ext cx="5500440" cy="1031760"/>
            <a:chOff x="1763640" y="4797360"/>
            <a:chExt cx="5500440" cy="1031760"/>
          </a:xfrm>
        </p:grpSpPr>
        <p:sp>
          <p:nvSpPr>
            <p:cNvPr id="468" name=""/>
            <p:cNvSpPr/>
            <p:nvPr/>
          </p:nvSpPr>
          <p:spPr>
            <a:xfrm>
              <a:off x="17636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36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074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7916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5088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810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528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452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966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8108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60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780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2608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9780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2608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280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972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7144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2800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144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0164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336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508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0164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4508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7492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466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36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4664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4664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4856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202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9200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92000" y="514152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9200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364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3536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0744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791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0744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8108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5280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2452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5280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5280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4004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1212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8420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1212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8420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9972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9972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1440" y="565740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7144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352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33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4508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71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716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8888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пакованные квадраты (Задача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скольку гармонический ряд расходится, множество квадратов со сторонами 1, 1/2, 1/3, … , 1/ n, … , приставленных друг к другу на прямой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Рис. 5)будет простираться бесконечно далеко по этой прямой. Доказать, что, можно все квадраты, начиная со второго, уложить в первый квадрат без наложе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185920" y="4292640"/>
            <a:ext cx="5554440" cy="2496600"/>
            <a:chOff x="2185920" y="4292640"/>
            <a:chExt cx="5554440" cy="2496600"/>
          </a:xfrm>
        </p:grpSpPr>
        <p:sp>
          <p:nvSpPr>
            <p:cNvPr id="531" name=""/>
            <p:cNvSpPr/>
            <p:nvPr/>
          </p:nvSpPr>
          <p:spPr>
            <a:xfrm>
              <a:off x="2434680" y="4292640"/>
              <a:ext cx="1851480" cy="185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86520" y="5218200"/>
              <a:ext cx="925560" cy="92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12080" y="5470560"/>
              <a:ext cx="673560" cy="67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5640" y="56394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85920" y="6144480"/>
              <a:ext cx="55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22200" y="5807520"/>
              <a:ext cx="588600" cy="29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54200" y="5812560"/>
              <a:ext cx="5889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54640" y="5807520"/>
              <a:ext cx="58896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32720" y="5814720"/>
              <a:ext cx="58896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90720" y="58075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85640" y="58075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8160" y="5695560"/>
              <a:ext cx="5886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8840" y="597204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6520" y="6453000"/>
              <a:ext cx="92556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Рис.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пакованные квадраты (Результат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80000" y="5734080"/>
            <a:ext cx="11253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ис. 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89400" y="3656160"/>
            <a:ext cx="46044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9720" y="2941560"/>
            <a:ext cx="53352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32000" y="2637000"/>
            <a:ext cx="2590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32000" y="3932280"/>
            <a:ext cx="12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27640" y="4237200"/>
            <a:ext cx="9903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513240" y="4923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56240" y="4923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22720" y="5303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9240" y="3780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98840" y="43894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22520" y="3475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32000" y="3932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32000" y="317016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94120" y="339876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32000" y="2941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32000" y="31701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2000" y="29415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03600" y="3780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36920" y="3017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2789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32000" y="29415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294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22520" y="294156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55840" y="36226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30480" y="3632040"/>
            <a:ext cx="4572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87640" y="292428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3200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130200" y="31701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126960" y="29415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90840" y="2944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200560" y="3632040"/>
            <a:ext cx="45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29272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ангра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6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а головоломка изобретена в Древнем Китае (у нас она сейчас распространена под названием «Пифагор».). Из семи частей квадрата удается сложить самые разнообразные фигу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езав квадрат так, как показано на рисунке и соблюдая два правил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)  при  складывании фигурок использовать все семь частей-тан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) таны нельзя накладывать друг на друга (они могут только касаться друг друга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227640" y="2492280"/>
            <a:ext cx="2471040" cy="2471400"/>
            <a:chOff x="6227640" y="2492280"/>
            <a:chExt cx="2471040" cy="2471400"/>
          </a:xfrm>
        </p:grpSpPr>
        <p:sp>
          <p:nvSpPr>
            <p:cNvPr id="584" name=""/>
            <p:cNvSpPr/>
            <p:nvPr/>
          </p:nvSpPr>
          <p:spPr>
            <a:xfrm>
              <a:off x="6227640" y="2492280"/>
              <a:ext cx="2462040" cy="246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39520" y="2504160"/>
              <a:ext cx="2459160" cy="24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32720" y="2516400"/>
              <a:ext cx="1951920" cy="19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61120" y="4026240"/>
              <a:ext cx="938160" cy="9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30560" y="44946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261120" y="3264120"/>
              <a:ext cx="7621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708640" y="558000"/>
            <a:ext cx="6102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анграмы (Изображения 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55640" y="1751040"/>
            <a:ext cx="5796000" cy="5106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746440" cy="39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нграмы (Изображения 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835280" y="2840040"/>
            <a:ext cx="5943600" cy="4017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35280" y="2349360"/>
            <a:ext cx="228600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2349360"/>
            <a:ext cx="22417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Животные Афр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строение при помощи перегибания квадратного листа бумаг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42920" y="234936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881360" y="2349360"/>
            <a:ext cx="76176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805040" y="3111480"/>
            <a:ext cx="838080" cy="8380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2560" y="234936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95560" y="501660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195200" y="501660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48040" y="57024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28920" y="5016600"/>
            <a:ext cx="1600200" cy="1600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67360" y="585468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328560" y="58546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24160" y="29592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-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00120" y="562608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-о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60560" y="3184560"/>
            <a:ext cx="761760" cy="76212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05440" y="57024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91240" y="5473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71720" y="29592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05240" y="265428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26542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404880" y="26542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691240" y="54738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53240" y="2552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263700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54680" y="32716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32720" y="33577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торо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9400" y="4711680"/>
            <a:ext cx="16002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77080" y="479736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Четверт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27760" y="39909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04000" y="4076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ти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строение при помощи перегибания квадратного листа бумаг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27240" y="506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6720" y="514656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78360" y="50529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56040" y="5138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торо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08600" y="50529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84840" y="5138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ти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78360" y="5815080"/>
            <a:ext cx="16002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6040" y="590076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Четверт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285264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51200" y="287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0920" y="36147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55840" y="346248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-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56040" y="353844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94120" y="323388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целью  работы 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1916280"/>
            <a:ext cx="6923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ь практические возможности применения квадрата как    геометрической фигуры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глубить имеющие знания и приобрести новы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комить с особенностями периметра и площади квадрата в сравнении с прямоугольнико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ширить знания по решению задач с практическим содержанием.</a:t>
            </a:r>
            <a:br>
              <a:rPr sz="2800"/>
            </a:b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такое квадрат?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062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Квадратом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 называется прямоугольник, у которого все стороны равны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мечательные свойства квадрат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4670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углы квадрата прям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стороны квадрата равны и попарно параллель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агонали квадрата равны, взаимно перпендикулярны, точкой пересечения делятся пополам и делят углы квадрата попол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квадрата четыре оси симметр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11560" y="2247840"/>
            <a:ext cx="2449080" cy="2418120"/>
            <a:chOff x="5911560" y="2247840"/>
            <a:chExt cx="2449080" cy="2418120"/>
          </a:xfrm>
        </p:grpSpPr>
        <p:sp>
          <p:nvSpPr>
            <p:cNvPr id="106" name=""/>
            <p:cNvSpPr/>
            <p:nvPr/>
          </p:nvSpPr>
          <p:spPr>
            <a:xfrm>
              <a:off x="6105600" y="2421000"/>
              <a:ext cx="208224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105600" y="2421000"/>
              <a:ext cx="2082240" cy="20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105600" y="2421000"/>
              <a:ext cx="2082240" cy="20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6941520" y="3378960"/>
              <a:ext cx="17352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626160" y="294192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494120" y="381060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7494120" y="294192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626160" y="381060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5080" y="431928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11560" y="414540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19920" y="4319280"/>
              <a:ext cx="34560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993440" y="414540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0800000">
              <a:off x="6106680" y="224784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0800000">
              <a:off x="5932800" y="242136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6200000">
              <a:off x="7839720" y="2248200"/>
              <a:ext cx="346320" cy="3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6200000">
              <a:off x="8013600" y="242136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00000" y="4724280"/>
            <a:ext cx="1747800" cy="1747800"/>
            <a:chOff x="6300000" y="4724280"/>
            <a:chExt cx="1747800" cy="1747800"/>
          </a:xfrm>
        </p:grpSpPr>
        <p:sp>
          <p:nvSpPr>
            <p:cNvPr id="123" name=""/>
            <p:cNvSpPr/>
            <p:nvPr/>
          </p:nvSpPr>
          <p:spPr>
            <a:xfrm>
              <a:off x="6689880" y="5158800"/>
              <a:ext cx="970920" cy="9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75520" y="4724280"/>
              <a:ext cx="0" cy="174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00000" y="5639040"/>
              <a:ext cx="1747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95840" y="4964760"/>
              <a:ext cx="1359360" cy="135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495840" y="4964760"/>
              <a:ext cx="1359360" cy="135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ем квадрат "лучше" других  четырёхугольников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лощадь квадрата больше площади любого прямоугольника с тем же периметр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59280" y="4235400"/>
            <a:ext cx="3025440" cy="2622600"/>
            <a:chOff x="3059280" y="4235400"/>
            <a:chExt cx="3025440" cy="2622600"/>
          </a:xfrm>
        </p:grpSpPr>
        <p:sp>
          <p:nvSpPr>
            <p:cNvPr id="131" name=""/>
            <p:cNvSpPr/>
            <p:nvPr/>
          </p:nvSpPr>
          <p:spPr>
            <a:xfrm>
              <a:off x="3059280" y="4235400"/>
              <a:ext cx="3025440" cy="22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4080" y="5244120"/>
              <a:ext cx="2017080" cy="90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8440" y="4638600"/>
              <a:ext cx="1512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640" y="58492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1680" y="4941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66040" y="4941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66040" y="43362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81520" y="43362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81520" y="615204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0360" y="50421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640" y="58492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3280" y="5849280"/>
              <a:ext cx="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61680" y="55468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563280" y="5244120"/>
              <a:ext cx="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68440" y="524412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61680" y="615204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120" y="554688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883120" y="4638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1520" y="524412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3920" y="4329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168440" y="44370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76360" y="44370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663720" y="6252840"/>
              <a:ext cx="8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74480" y="6252840"/>
              <a:ext cx="8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14400" y="61524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8440" y="6555600"/>
              <a:ext cx="907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Рис. 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172040" y="5248440"/>
            <a:ext cx="1511280" cy="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агический квадрат третьего поряд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есь изображен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динственный магический квадрат третьего поряд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Если ты найдешь семь других возможных расположений чисел, ты увидишь, что все они получаются из этого или отражениями, или поворот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35035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7480" y="28940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07480" y="42656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9840" y="4893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19760" y="493164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1880" y="493164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38080" y="489096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2040" y="276876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5280" y="335772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5280" y="4119480"/>
            <a:ext cx="4590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44000" y="508464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2960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6748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940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42600" y="496728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0960" y="514044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580000" y="2492280"/>
          <a:ext cx="2259000" cy="2281320"/>
        </p:xfrm>
        <a:graphic>
          <a:graphicData uri="http://schemas.openxmlformats.org/drawingml/2006/table">
            <a:tbl>
              <a:tblPr/>
              <a:tblGrid>
                <a:gridCol w="752400"/>
                <a:gridCol w="754200"/>
                <a:gridCol w="7524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i="1" lang="ru-RU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гический квадрат Дюр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етыре средних числа тоже дают в сумме 34, как и короткие диагонали, отмеченные штриховыми линия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03640" y="2492280"/>
          <a:ext cx="2548080" cy="2516400"/>
        </p:xfrm>
        <a:graphic>
          <a:graphicData uri="http://schemas.openxmlformats.org/drawingml/2006/table">
            <a:tbl>
              <a:tblPr/>
              <a:tblGrid>
                <a:gridCol w="636840"/>
                <a:gridCol w="637920"/>
                <a:gridCol w="636840"/>
                <a:gridCol w="63648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51800" y="276228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263700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51800" y="3409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328464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51800" y="40575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6720" y="393228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51800" y="4707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581360"/>
            <a:ext cx="4572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750200" y="5127480"/>
            <a:ext cx="18252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8920" y="530064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880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644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34080" y="51778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1044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7720" y="510696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3640" y="530064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03640" y="2489040"/>
            <a:ext cx="1270080" cy="12574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72280" y="3757680"/>
            <a:ext cx="1270080" cy="125712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19840" y="3759120"/>
            <a:ext cx="1269720" cy="1257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2495520"/>
            <a:ext cx="1270080" cy="1257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 Абул Вефа составил квадрат из трёх равных квадрат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060640"/>
            <a:ext cx="7693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 разрезал квадрат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диагоналям и каждую из половинок приложил к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адрату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ак показано на рис.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ятем он соединил отрезками прямых вершины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к И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ный четырёхугольник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FGH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азался искомым квадрат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627280" y="4581000"/>
            <a:ext cx="4065480" cy="2030760"/>
            <a:chOff x="2627280" y="4581000"/>
            <a:chExt cx="4065480" cy="2030760"/>
          </a:xfrm>
        </p:grpSpPr>
        <p:grpSp>
          <p:nvGrpSpPr>
            <p:cNvPr id="207" name=""/>
            <p:cNvGrpSpPr/>
            <p:nvPr/>
          </p:nvGrpSpPr>
          <p:grpSpPr>
            <a:xfrm>
              <a:off x="2627280" y="4581000"/>
              <a:ext cx="1674720" cy="691200"/>
              <a:chOff x="2627280" y="4581000"/>
              <a:chExt cx="1674720" cy="691200"/>
            </a:xfrm>
          </p:grpSpPr>
          <p:sp>
            <p:nvSpPr>
              <p:cNvPr id="208" name=""/>
              <p:cNvSpPr/>
              <p:nvPr/>
            </p:nvSpPr>
            <p:spPr>
              <a:xfrm>
                <a:off x="2627280" y="4581360"/>
                <a:ext cx="68940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12240" y="4581360"/>
                <a:ext cx="68976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612240" y="4581000"/>
                <a:ext cx="68976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627280" y="4581000"/>
                <a:ext cx="68940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25560" y="4679640"/>
                <a:ext cx="2952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3366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10880" y="4679640"/>
                <a:ext cx="2952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3366"/>
                    </a:solidFill>
                    <a:latin typeface="Arial"/>
                  </a:rPr>
                  <a:t>II</a:t>
                </a:r>
                <a:endParaRPr b="0" lang="en-US" sz="11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167440" y="5094360"/>
              <a:ext cx="728640" cy="7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700000">
              <a:off x="4806360" y="5248800"/>
              <a:ext cx="73008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8100000">
              <a:off x="5025600" y="4734000"/>
              <a:ext cx="73044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327640" y="5457960"/>
              <a:ext cx="72864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500000">
              <a:off x="5531400" y="4932720"/>
              <a:ext cx="728640" cy="730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689080" y="5305320"/>
              <a:ext cx="716040" cy="103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7680" y="4592520"/>
              <a:ext cx="727200" cy="102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389560" y="4584240"/>
              <a:ext cx="1015920" cy="714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4662000" y="5614560"/>
              <a:ext cx="1027080" cy="717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1640" y="5305320"/>
              <a:ext cx="311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9560" y="556740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5800" y="511020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6080" y="511020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40480" y="5567400"/>
              <a:ext cx="3124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90920" y="546264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80280" y="5149800"/>
              <a:ext cx="3124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7160" y="6345360"/>
              <a:ext cx="312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3640" y="4869000"/>
              <a:ext cx="312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56240" y="493380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8480" y="6345360"/>
              <a:ext cx="7048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Рис.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5:27:39Z</dcterms:created>
  <dc:creator>Юрий</dc:creator>
  <dc:description/>
  <dc:language>en-US</dc:language>
  <cp:lastModifiedBy>Инна</cp:lastModifiedBy>
  <dcterms:modified xsi:type="dcterms:W3CDTF">2008-01-22T21:35:44Z</dcterms:modified>
  <cp:revision>20</cp:revision>
  <dc:subject/>
  <dc:title>Исследовательская работа по теме:  «Удивительный квадрат» </dc:title>
</cp:coreProperties>
</file>