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225-68E3-402B-8CDE-9077E9DC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C39-AB51-4C67-ABC9-95BC9415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161-CB41-4E48-B89B-5A8BF136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B06-F40A-44C8-9E52-6F771EF7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5275-4DD1-447F-87B2-1F15C2C2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84C1-0170-4F7A-B9AC-B10FFF3F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D8B6-570B-4003-92EE-76ACF27A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A833-8AA0-4EF6-A982-48F8860C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9047-7F7B-4744-AA3D-24D1525E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5C1B-A10D-44F5-995C-FE9FA436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CAB8-BBDA-41D5-A128-C80EBE0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DD0-41C6-4C80-85C6-4705D4E8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D2D8-0EBD-472E-B6F6-1A9BF58A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A701-6072-4A6D-A8B5-020634C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18F-2B98-4452-A6D6-50C0C30C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1BB7-D3DC-4EE5-9A62-99DF1B00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7DDC-3437-43F6-9575-A3C00074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76E-C6E0-4869-8DEB-2CB34E8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69E-BB13-4CE2-8416-E8225243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56B-012B-4229-AC58-2E1E0BD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EF7-5DA9-4278-B2FB-36154E18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483-EA47-45D2-9B30-26097C8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1AA-45ED-4EF8-9E1D-6216464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C5F-171A-4F86-9827-8C1FB647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D582-F292-4092-90D4-CCFA4BDFA5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D43-4429-461B-A8B8-EF4936745D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0256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«Удивительный квадрат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2852640"/>
            <a:ext cx="500400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сполнитель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Новоселов Андре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ченик 10 класса «Г»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МОУ СОШ № 10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Руководитель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всянникова И. В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г. Первоуральск - 2007 год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адача на разрезание квадрата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#1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(Результат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40592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о теперь надо еще показать, что шесть разрезов можно в действительности осуществить так, чтобы каждый раз число частей удваивалось и в результате получилось 26 = 64 отдельных квадратика. Это уже не трудно сделать: надо только следить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тобы после каждого разреза все части оказывались равными, и чтобы каждый очередной разрез разбивал каждую из частей попол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79800" y="4641840"/>
            <a:ext cx="6098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18240" y="4648320"/>
            <a:ext cx="6094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03760" y="43369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7980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перво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3244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3244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3244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7980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7980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7980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700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3700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3700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3244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3244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7980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7980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7980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472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8472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3700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37000" y="52578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37000" y="54100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3244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3244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7980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79800" y="57150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8472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4720" y="57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37000" y="5562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37000" y="5715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7052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7052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7052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1824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1824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824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2280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2280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7544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7544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7544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7052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705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7052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1824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1824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1824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2280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2280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2280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7544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7544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7544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7052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7052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1824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18240" y="57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2280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22800" y="57150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7544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75440" y="5715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8660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8660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866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3396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3396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3396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3888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3888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3888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9116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9116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9116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866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3396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3888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116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8660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866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866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33960" y="5486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33960" y="56386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33960" y="5791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3888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38880" y="5638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3888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91160" y="5486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91160" y="5638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9116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866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3396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3888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9116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0100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01000" y="5638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1010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8360" y="5486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8360" y="56386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48360" y="5791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53280" y="5486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53280" y="56386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5328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05560" y="5486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05560" y="5638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40556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010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836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25328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0556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01000" y="4648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101000" y="4800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01000" y="4952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48360" y="4648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48360" y="4800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4952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53280" y="4648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53280" y="4800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3280" y="4952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05560" y="4648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0556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405560" y="4952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010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5328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05560" y="5105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796080" y="4343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945040" y="5362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1028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второ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53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38862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153280" y="40384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01000" y="3733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3886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01000" y="4038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153280" y="41911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72400" y="64008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После третьего разрез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153280" y="44197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53280" y="45720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153280" y="47242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4419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01000" y="47242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53280" y="48769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4876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5105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3280" y="52578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54100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55627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57913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153280" y="5943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60958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0100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01000" y="6095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53280" y="6248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01000" y="6248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86800" y="3733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86800" y="38862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86800" y="40384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534520" y="3733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34520" y="38862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534520" y="40384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41911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534520" y="41911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686800" y="4419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686800" y="45720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86800" y="47242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534520" y="4419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534520" y="4572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534520" y="47242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686800" y="4876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534520" y="48769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86800" y="5105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86800" y="5257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686800" y="5410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34520" y="5105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34520" y="52578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534520" y="54100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686800" y="55627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534520" y="55627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86800" y="57913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86800" y="5943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686800" y="60958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534520" y="5791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534520" y="59436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534520" y="60958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686800" y="6248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534520" y="624852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8426520" y="3657240"/>
            <a:ext cx="0" cy="2762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гра с квадратом «Край в край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колько фигур разной формы (не считая отражений) можно получить соединя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и одинаковых квадрата край в кра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тыре одинаковых квадрата край в кр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ять одинаковых квадратов край в край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вод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м больше квадратов, тем большее количество фигур можно сложить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924360" y="3429000"/>
            <a:ext cx="1223640" cy="375840"/>
            <a:chOff x="3924360" y="3429000"/>
            <a:chExt cx="1223640" cy="375840"/>
          </a:xfrm>
        </p:grpSpPr>
        <p:sp>
          <p:nvSpPr>
            <p:cNvPr id="440" name=""/>
            <p:cNvSpPr/>
            <p:nvPr/>
          </p:nvSpPr>
          <p:spPr>
            <a:xfrm>
              <a:off x="3924360" y="3617280"/>
              <a:ext cx="18828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11264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092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71440" y="3617280"/>
              <a:ext cx="18828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60080" y="3617280"/>
              <a:ext cx="187920" cy="18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60080" y="3429000"/>
              <a:ext cx="187920" cy="1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700360" y="4076640"/>
            <a:ext cx="3960360" cy="385920"/>
            <a:chOff x="2700360" y="4076640"/>
            <a:chExt cx="3960360" cy="385920"/>
          </a:xfrm>
        </p:grpSpPr>
        <p:sp>
          <p:nvSpPr>
            <p:cNvPr id="447" name=""/>
            <p:cNvSpPr/>
            <p:nvPr/>
          </p:nvSpPr>
          <p:spPr>
            <a:xfrm>
              <a:off x="2700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9332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8664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0036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697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6272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560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49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356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89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5640" y="426960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2896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172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0540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983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0540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74440" y="407664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67760" y="407664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81480" y="4269600"/>
              <a:ext cx="19296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4440" y="4269600"/>
              <a:ext cx="193320" cy="19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763640" y="4797360"/>
            <a:ext cx="5500440" cy="1031760"/>
            <a:chOff x="1763640" y="4797360"/>
            <a:chExt cx="5500440" cy="1031760"/>
          </a:xfrm>
        </p:grpSpPr>
        <p:sp>
          <p:nvSpPr>
            <p:cNvPr id="468" name=""/>
            <p:cNvSpPr/>
            <p:nvPr/>
          </p:nvSpPr>
          <p:spPr>
            <a:xfrm>
              <a:off x="17636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536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074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7916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5088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810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528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452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966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8108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60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780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82608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9780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2608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2800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9972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7144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2800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144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0164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7336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508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0164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4508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7492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4664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836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46640" y="514152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46640" y="496908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4856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20280" y="479736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92000" y="479736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92000" y="514152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92000" y="496908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364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3536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0744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791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0744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8108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5280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2452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5280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5280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4004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1212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8420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1212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8420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9972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9972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1440" y="5657400"/>
              <a:ext cx="17208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7144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3520" y="565740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733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45080" y="5484960"/>
              <a:ext cx="17208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7160" y="5484960"/>
              <a:ext cx="171720" cy="17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716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88880" y="5313240"/>
              <a:ext cx="17172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пакованные квадраты (Задача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скольку гармонический ряд расходится, множество квадратов со сторонами 1, 1/2, 1/3, … , 1/ n, … , приставленных друг к другу на прямой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Рис. 5)будет простираться бесконечно далеко по этой прямой. Доказать, что, можно все квадраты, начиная со второго, уложить в первый квадрат без наложе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185920" y="4292640"/>
            <a:ext cx="5554440" cy="2496600"/>
            <a:chOff x="2185920" y="4292640"/>
            <a:chExt cx="5554440" cy="2496600"/>
          </a:xfrm>
        </p:grpSpPr>
        <p:sp>
          <p:nvSpPr>
            <p:cNvPr id="531" name=""/>
            <p:cNvSpPr/>
            <p:nvPr/>
          </p:nvSpPr>
          <p:spPr>
            <a:xfrm>
              <a:off x="2434680" y="4292640"/>
              <a:ext cx="1851480" cy="185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86520" y="5218200"/>
              <a:ext cx="925560" cy="92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12080" y="5470560"/>
              <a:ext cx="673560" cy="67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5640" y="5639400"/>
              <a:ext cx="50472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85920" y="6144480"/>
              <a:ext cx="55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22200" y="5807520"/>
              <a:ext cx="588600" cy="29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54200" y="5812560"/>
              <a:ext cx="5889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54640" y="5807520"/>
              <a:ext cx="58896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32720" y="5814720"/>
              <a:ext cx="58896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1/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90720" y="58075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85640" y="58075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8160" y="5695560"/>
              <a:ext cx="5886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58840" y="5972040"/>
              <a:ext cx="67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86520" y="6453000"/>
              <a:ext cx="92556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Рис.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Упакованные квадраты (Результат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780000" y="5734080"/>
            <a:ext cx="11253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ис. 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89400" y="3656160"/>
            <a:ext cx="46044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79720" y="2941560"/>
            <a:ext cx="53352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32000" y="2637000"/>
            <a:ext cx="259092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32000" y="3932280"/>
            <a:ext cx="12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27640" y="4237200"/>
            <a:ext cx="9903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513240" y="4923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56240" y="4923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22720" y="53038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9240" y="378000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98840" y="4389480"/>
            <a:ext cx="533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22520" y="3475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132000" y="3932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132000" y="3170160"/>
            <a:ext cx="762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894120" y="339876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32000" y="29415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32000" y="31701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2000" y="294156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03600" y="3780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36920" y="3017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2789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32000" y="29415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60600" y="294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22520" y="294156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55840" y="36226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4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30480" y="3632040"/>
            <a:ext cx="4572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987640" y="292428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3200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130200" y="31701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126960" y="294156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90840" y="2944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200560" y="3632040"/>
            <a:ext cx="45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/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529272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анграм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605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а головоломка изобретена в Древнем Китае (у нас она сейчас распространена под названием «Пифагор».). Из семи частей квадрата удается сложить самые разнообразные фигу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езав квадрат так, как показано на рисунке и соблюдая два правил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)  при  складывании фигурок использовать все семь частей-тан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) таны нельзя накладывать друг на друга (они могут только касаться друг друга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6227640" y="2492280"/>
            <a:ext cx="2471040" cy="2471400"/>
            <a:chOff x="6227640" y="2492280"/>
            <a:chExt cx="2471040" cy="2471400"/>
          </a:xfrm>
        </p:grpSpPr>
        <p:sp>
          <p:nvSpPr>
            <p:cNvPr id="584" name=""/>
            <p:cNvSpPr/>
            <p:nvPr/>
          </p:nvSpPr>
          <p:spPr>
            <a:xfrm>
              <a:off x="6227640" y="2492280"/>
              <a:ext cx="2462040" cy="246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39520" y="2504160"/>
              <a:ext cx="2459160" cy="24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32720" y="2516400"/>
              <a:ext cx="1951920" cy="19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61120" y="4026240"/>
              <a:ext cx="938160" cy="93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30560" y="44946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6261120" y="3264120"/>
              <a:ext cx="76212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708640" y="558000"/>
            <a:ext cx="61023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Танграмы (Изображения 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55640" y="1751040"/>
            <a:ext cx="5796000" cy="51069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746440" cy="39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нграмы (Изображения 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835280" y="2840040"/>
            <a:ext cx="5943600" cy="4017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35280" y="2349360"/>
            <a:ext cx="228600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омашние живот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2349360"/>
            <a:ext cx="224172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Животные Афр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строение при помощи перегибания квадратного листа бумаг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42920" y="234936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881360" y="2349360"/>
            <a:ext cx="76176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805040" y="3111480"/>
            <a:ext cx="838080" cy="83808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2560" y="234936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95560" y="501660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195200" y="501660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48040" y="57024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328920" y="5016600"/>
            <a:ext cx="1600200" cy="1600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67360" y="585468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328560" y="58546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24160" y="29592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-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00120" y="562608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-о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60560" y="3184560"/>
            <a:ext cx="761760" cy="76212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05440" y="57024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91240" y="54738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871720" y="295920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405240" y="2654280"/>
            <a:ext cx="10666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05240" y="26542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3404880" y="26542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691240" y="54738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53240" y="2552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732720" y="263700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54680" y="32716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32720" y="33577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торо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9400" y="4711680"/>
            <a:ext cx="16002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77080" y="479736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Четверт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27760" y="39909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04000" y="4076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ти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строение при помощи перегибания квадратного листа бумаг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127240" y="506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06720" y="514656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Перв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78360" y="50529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56040" y="5138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торо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08600" y="50529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84840" y="5138640"/>
            <a:ext cx="1600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Трети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78360" y="5815080"/>
            <a:ext cx="1600200" cy="0"/>
          </a:xfrm>
          <a:prstGeom prst="line">
            <a:avLst/>
          </a:prstGeom>
          <a:ln w="93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6040" y="590076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Четвертый сгиб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2852640"/>
            <a:ext cx="1600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51200" y="287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50920" y="36147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355840" y="346248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-й способ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56040" y="353844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94120" y="323388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целью  работы 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63280" y="1916280"/>
            <a:ext cx="6923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оказать практические возможности применения квадрата как    геометрической фигуры.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Задачи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глубить имеющие знания и приобрести новы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комить с особенностями периметра и площади квадрата в сравнении с прямоугольнико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асширить знания по решению задач с практическим содержанием.</a:t>
            </a:r>
            <a:br>
              <a:rPr sz="2800"/>
            </a:b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то такое квадрат?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361960"/>
            <a:ext cx="8062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Квадратом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 называется прямоугольник, у которого все стороны равны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Замечательные свойства квадрат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4670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углы квадрата прямы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е стороны квадрата равны и попарно параллель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агонали квадрата равны, взаимно перпендикулярны, точкой пересечения делятся пополам и делят углы квадрата попол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 квадрата четыре оси симметр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911560" y="2247840"/>
            <a:ext cx="2449080" cy="2418120"/>
            <a:chOff x="5911560" y="2247840"/>
            <a:chExt cx="2449080" cy="2418120"/>
          </a:xfrm>
        </p:grpSpPr>
        <p:sp>
          <p:nvSpPr>
            <p:cNvPr id="106" name=""/>
            <p:cNvSpPr/>
            <p:nvPr/>
          </p:nvSpPr>
          <p:spPr>
            <a:xfrm>
              <a:off x="6105600" y="2421000"/>
              <a:ext cx="208224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105600" y="2421000"/>
              <a:ext cx="2082240" cy="20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105600" y="2421000"/>
              <a:ext cx="2082240" cy="208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700000">
              <a:off x="6941520" y="3378960"/>
              <a:ext cx="17352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626160" y="294192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494120" y="381060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7494120" y="294192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626160" y="3810600"/>
              <a:ext cx="17352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5080" y="431928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11560" y="414540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819920" y="4319280"/>
              <a:ext cx="34560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993440" y="414540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0800000">
              <a:off x="6106680" y="224784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0800000">
              <a:off x="5932800" y="242136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6200000">
              <a:off x="7839720" y="2248200"/>
              <a:ext cx="346320" cy="3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6200000">
              <a:off x="8013600" y="2421360"/>
              <a:ext cx="346320" cy="34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00000" y="4724280"/>
            <a:ext cx="1747800" cy="1747800"/>
            <a:chOff x="6300000" y="4724280"/>
            <a:chExt cx="1747800" cy="1747800"/>
          </a:xfrm>
        </p:grpSpPr>
        <p:sp>
          <p:nvSpPr>
            <p:cNvPr id="123" name=""/>
            <p:cNvSpPr/>
            <p:nvPr/>
          </p:nvSpPr>
          <p:spPr>
            <a:xfrm>
              <a:off x="6689880" y="5158800"/>
              <a:ext cx="970920" cy="9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75520" y="4724280"/>
              <a:ext cx="0" cy="174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00000" y="5639040"/>
              <a:ext cx="1747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95840" y="4964760"/>
              <a:ext cx="1359360" cy="135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495840" y="4964760"/>
              <a:ext cx="1359360" cy="135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Чем квадрат "лучше" других  четырёхугольников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5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Площадь квадрата больше площади любого прямоугольника с тем же периметр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59280" y="4235400"/>
            <a:ext cx="3025440" cy="2622600"/>
            <a:chOff x="3059280" y="4235400"/>
            <a:chExt cx="3025440" cy="2622600"/>
          </a:xfrm>
        </p:grpSpPr>
        <p:sp>
          <p:nvSpPr>
            <p:cNvPr id="131" name=""/>
            <p:cNvSpPr/>
            <p:nvPr/>
          </p:nvSpPr>
          <p:spPr>
            <a:xfrm>
              <a:off x="3059280" y="4235400"/>
              <a:ext cx="3025440" cy="22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4080" y="5244120"/>
              <a:ext cx="2017080" cy="90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8440" y="4638600"/>
              <a:ext cx="151272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640" y="58492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1680" y="4941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66040" y="4941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66040" y="43362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81520" y="43362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81520" y="615204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0360" y="50421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640" y="58492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3280" y="5849280"/>
              <a:ext cx="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61680" y="554688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563280" y="5244120"/>
              <a:ext cx="0" cy="30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68440" y="524412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61680" y="615204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83120" y="554688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883120" y="4638240"/>
              <a:ext cx="0" cy="6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1520" y="524412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3920" y="432936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168440" y="44370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76360" y="443700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663720" y="6252840"/>
              <a:ext cx="8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74480" y="6252840"/>
              <a:ext cx="80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14400" y="6152400"/>
              <a:ext cx="4032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8440" y="6555600"/>
              <a:ext cx="90756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Рис. 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172040" y="5248440"/>
            <a:ext cx="1511280" cy="0"/>
          </a:xfrm>
          <a:prstGeom prst="line">
            <a:avLst/>
          </a:prstGeom>
          <a:ln w="936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Магический квадрат третьего поряд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есь изображен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динственный магический квадрат третьего поряд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Если ты найдешь семь других возможных расположений чисел, ты увидишь, что все они получаются из этого или отражениями, или поворота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35035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7480" y="28940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07480" y="42656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19840" y="4893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19760" y="493164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1880" y="493164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38080" y="489096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2040" y="276876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5280" y="335772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5280" y="4119480"/>
            <a:ext cx="4590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44000" y="508464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2960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6748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9400" y="516096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42600" y="496728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0960" y="514044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580000" y="2492280"/>
          <a:ext cx="2259000" cy="2281320"/>
        </p:xfrm>
        <a:graphic>
          <a:graphicData uri="http://schemas.openxmlformats.org/drawingml/2006/table">
            <a:tbl>
              <a:tblPr/>
              <a:tblGrid>
                <a:gridCol w="752400"/>
                <a:gridCol w="754200"/>
                <a:gridCol w="7524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r>
                        <a:rPr b="1" i="1" lang="ru-RU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гический квадрат Дюре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Четыре средних числа тоже дают в сумме 34, как и короткие диагонали, отмеченные штриховыми линиям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003640" y="2492280"/>
          <a:ext cx="2548080" cy="2516400"/>
        </p:xfrm>
        <a:graphic>
          <a:graphicData uri="http://schemas.openxmlformats.org/drawingml/2006/table">
            <a:tbl>
              <a:tblPr/>
              <a:tblGrid>
                <a:gridCol w="636840"/>
                <a:gridCol w="637920"/>
                <a:gridCol w="636840"/>
                <a:gridCol w="63648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51800" y="276228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263700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51800" y="34099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328464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51800" y="405756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6720" y="3932280"/>
            <a:ext cx="4572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51800" y="4707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4581360"/>
            <a:ext cx="457200" cy="35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750200" y="5127480"/>
            <a:ext cx="18252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8920" y="5300640"/>
            <a:ext cx="45900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880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644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34080" y="51778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10440" y="51778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544500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7720" y="5106960"/>
            <a:ext cx="18288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83640" y="5300640"/>
            <a:ext cx="45864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003640" y="2489040"/>
            <a:ext cx="1270080" cy="12574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272280" y="3757680"/>
            <a:ext cx="1270080" cy="125712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19840" y="3759120"/>
            <a:ext cx="1269720" cy="1257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2495520"/>
            <a:ext cx="1270080" cy="12574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Как Абул Вефа составил квадрат из трёх равных квадратов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060640"/>
            <a:ext cx="76932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 разрезал квадрат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о диагоналям и каждую из половинок приложил к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адрату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ак показано на рис.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ятем он соединил отрезками прямых вершины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к И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ный четырёхугольник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FGH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азался искомым квадрат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627280" y="4581000"/>
            <a:ext cx="4065480" cy="2030760"/>
            <a:chOff x="2627280" y="4581000"/>
            <a:chExt cx="4065480" cy="2030760"/>
          </a:xfrm>
        </p:grpSpPr>
        <p:grpSp>
          <p:nvGrpSpPr>
            <p:cNvPr id="207" name=""/>
            <p:cNvGrpSpPr/>
            <p:nvPr/>
          </p:nvGrpSpPr>
          <p:grpSpPr>
            <a:xfrm>
              <a:off x="2627280" y="4581000"/>
              <a:ext cx="1674720" cy="691200"/>
              <a:chOff x="2627280" y="4581000"/>
              <a:chExt cx="1674720" cy="691200"/>
            </a:xfrm>
          </p:grpSpPr>
          <p:sp>
            <p:nvSpPr>
              <p:cNvPr id="208" name=""/>
              <p:cNvSpPr/>
              <p:nvPr/>
            </p:nvSpPr>
            <p:spPr>
              <a:xfrm>
                <a:off x="2627280" y="4581360"/>
                <a:ext cx="68940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12240" y="4581360"/>
                <a:ext cx="689760" cy="69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612240" y="4581000"/>
                <a:ext cx="68976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627280" y="4581000"/>
                <a:ext cx="68940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25560" y="4679640"/>
                <a:ext cx="2952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3366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10880" y="4679640"/>
                <a:ext cx="29520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3366"/>
                    </a:solidFill>
                    <a:latin typeface="Arial"/>
                  </a:rPr>
                  <a:t>II</a:t>
                </a:r>
                <a:endParaRPr b="0" lang="en-US" sz="11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167440" y="5094360"/>
              <a:ext cx="728640" cy="7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700000">
              <a:off x="4806360" y="5248800"/>
              <a:ext cx="73008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8100000">
              <a:off x="5025600" y="4734000"/>
              <a:ext cx="73044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327640" y="5457960"/>
              <a:ext cx="728640" cy="7286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3500000">
              <a:off x="5531400" y="4932720"/>
              <a:ext cx="728640" cy="730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689080" y="5305320"/>
              <a:ext cx="716040" cy="103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7680" y="4592520"/>
              <a:ext cx="727200" cy="102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389560" y="4584240"/>
              <a:ext cx="1015920" cy="714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4662000" y="5614560"/>
              <a:ext cx="1027080" cy="717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1640" y="5305320"/>
              <a:ext cx="311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3366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19560" y="556740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5800" y="511020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6080" y="511020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40480" y="5567400"/>
              <a:ext cx="3124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90920" y="5462640"/>
              <a:ext cx="31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80280" y="5149800"/>
              <a:ext cx="3124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7160" y="6345360"/>
              <a:ext cx="312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3640" y="4869000"/>
              <a:ext cx="3128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56240" y="493380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8480" y="6345360"/>
              <a:ext cx="70488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Рис.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5:27:39Z</dcterms:created>
  <dc:creator>Юрий</dc:creator>
  <dc:description/>
  <dc:language>en-US</dc:language>
  <cp:lastModifiedBy>Инна</cp:lastModifiedBy>
  <dcterms:modified xsi:type="dcterms:W3CDTF">2008-01-22T21:35:44Z</dcterms:modified>
  <cp:revision>20</cp:revision>
  <dc:subject/>
  <dc:title>Исследовательская работа по теме:  «Удивительный квадрат» </dc:title>
</cp:coreProperties>
</file>