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AB9C-9070-4DF2-870E-D5DCAAD18F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21DE-5A56-404B-91E9-123A994FF6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AAC-100C-461B-8C77-66C9A44F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BF2-89B7-4B85-B52B-8A5C73C2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9F0-CEB0-4FBE-AC7B-FF4A8BEE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241-7E0F-44B4-93DA-01BCF99C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E5D-2791-4BA6-83A6-AF7A6048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787-9323-4653-A52C-6F733114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6F9-6173-4856-82EC-AFF9ED5B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210-D851-408C-AEE3-0CCD64AE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1DB-ED05-44C2-9BBE-2D3567BA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505-8A04-458B-BF53-1BD9160E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63F-61D5-4037-BA7A-CAB05609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3BE-C500-4C7A-BD39-B8F21292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EE67-1CD6-4519-9E63-55A5A423D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л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43120" y="0"/>
            <a:ext cx="621504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4200" y="-143280"/>
            <a:ext cx="8715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                                           </a:t>
            </a: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тема встреч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Calibri"/>
              </a:rPr>
              <a:t>                           </a:t>
            </a:r>
            <a:r>
              <a:rPr b="1" i="1" lang="ru-RU" sz="8800" spc="-1" strike="noStrike">
                <a:solidFill>
                  <a:srgbClr val="0000cc"/>
                </a:solidFill>
                <a:latin typeface="Calibri"/>
              </a:rPr>
              <a:t>«Кризис    трех лет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8840"/>
            <a:ext cx="864396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СВОЕВОЛИЕ – стремление к эмансипации от взрослого, ребенок принимает только то что придумал сам. </a:t>
            </a:r>
            <a:br>
              <a:rPr sz="3200"/>
            </a:br>
            <a:br>
              <a:rPr sz="3600"/>
            </a:b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Проявлению своеволия, как правило, сопутствует фраза «я сам!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1214280"/>
            <a:ext cx="8715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СТРОПТИВОСТЬ – общий протест против уже казалось бы принятых и устоявшихся для ребенка правил, норм поведения или реж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480" y="1428480"/>
            <a:ext cx="870588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ОБЕСЦЕНИВАНИЕ – резкое непринятие всего любимого и принятого раньше, отказ от привязанностей к дорогим прежде предметам и людя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840" y="1643040"/>
            <a:ext cx="864396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ПРОТЕСТ-БУНТ – этот симптом известный отечественный психолог Л.С. Выготский в своих работах описывал как «состояние войны с окружающими», постоянного конфликта с ними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(Такой бунтарь постоянно провоцирует ссоры с родителями, обзывает их, говорит «плохие слова»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3214440"/>
            <a:ext cx="82152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 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ДЕСПОТИЗМ – ребенок превращается в маленького тирана, он постоянно со всем не согласен, диктует свои нормы и правила поведения, навязывает свои желания, требует подчинения себе. Пытается распоряжаться другими членами своей семьи и т.п.</a:t>
            </a: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Знаете ли, какой самый верный способ сделать вашего ребенка несчастным – это приучить его не встречать ни в чем отказа. Ж-Ж Руссо</a:t>
            </a:r>
            <a:br>
              <a:rPr sz="28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Главное</a:t>
            </a: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, что должен понимать взрослый, это то, что подобное поведение не является непослушанием, малыш не становится плохим и поэтому ведет себя плохо, он просто не может по-другому выполнить свою главную на этом возрастном этапе задачу – защитить  и отстоять личные границы, неприкосновенность собственного 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85840"/>
            <a:ext cx="8686800" cy="63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  <a:ea typeface="Times New Roman"/>
              </a:rPr>
              <a:t>Приведем некоторые рекомендации, следование которым облегчит ваше общение с детьми, проявляющими весь поведенческий «букет» кризиса трехлетнего возраста.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В первую очередь, необходимо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запастись терпением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 и пониманием тех внутренних механизмов, что стоят за нелицеприятным поведением детей.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Во-вторых, необходима абсолютная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последовательность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: если вы что-то не принимаете, значит, не сдаваться и не потакать ни при каких обстоятельствах, а если что-то разрешили, значит, в другой раз то же самое уже не сможете запретить, потому что у вас не то настроение или нет желания (то, что нельзя – всегда нельзя, то, что можно – можно всегда).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В-третьих,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жесткие рамки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 там, где это необходимо (дети будут пытаться проверить их на прочность, но эти стены должны оказаться непробиваемыми). </a:t>
            </a: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Только в таких условиях можно осуществить самый важный принцип – свободы и выбо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431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ВРЕДНЫЕ СОВЕТЫ: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    Специально разработаны для родителей, которые получают удовольствие от кризиса, хотят увеличить его протяженность и считают недостаточной силу негативных проявлений.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- Чаще требуйте от ребенка невозможного. Настаивайте на том, чтобы он мгновенно вставал утром, быстрее мамы одевался, не крошил хлеб и не болтал ерунды.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- Будьте всегда строги и даже суровы: ругайте каждую минуту, посильнее шлепайте, наказывайте даже с целью профилактики, при любом удобном случае подчеркивайте свое превосходство, критикуйте за неудачи и противодействуйте во всем с целью мести.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  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152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Долго и занудно объясняйте, что вы от него хотите. Чем меньше ребенок поймет – тем лучше. -- Постоянно меняйте требования. Строго следуя запретам, вы проявите излишнее упрямство. Не забывайте: если сегодня залезать на дерево нельзя, то завтра это обязательно нужно будет разрешить.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- Чтобы ребенок не закатил истерику, предложите ему конфету или катание на карусели. Вы ведь не деспот – не можете пережить ни одной слезинки на любимом личике своего крохи. 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- Всегда все делайте сами, не разрешайте ребенку самому одеваться, есть и чистить зубы. Ведь он так расстроится, если что-то не получится!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  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500280"/>
            <a:ext cx="91440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Calibri"/>
              </a:rPr>
              <a:t>КРИЗИС  ТРЕХ  ЛЕТ, «Я САМ»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Я негативен и упрям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троптив и своеволен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редою социальной я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ужасно недоволен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Вы не даете мне шагнуть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всегда помочь готовы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О, боже! Как же тяжелы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ердечные оковы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истема «Я» кипит во мне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Хочу кричать повсюду: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Я – самость, братцы, я живу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Хочу! Могу! И буду!</a:t>
            </a: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                  </a:t>
            </a:r>
            <a:br>
              <a:rPr sz="26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356920"/>
            <a:ext cx="90010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     </a:t>
            </a:r>
            <a:r>
              <a:rPr b="1" i="1" lang="ru-RU" sz="4800" spc="-1" strike="noStrike">
                <a:solidFill>
                  <a:srgbClr val="990000"/>
                </a:solidFill>
                <a:latin typeface="Calibri"/>
              </a:rPr>
              <a:t>КРИЗИС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(греч. </a:t>
            </a:r>
            <a:r>
              <a:rPr b="1" i="1" lang="en-US" sz="3600" spc="-1" strike="noStrike">
                <a:solidFill>
                  <a:srgbClr val="990000"/>
                </a:solidFill>
                <a:latin typeface="Calibri"/>
              </a:rPr>
              <a:t>krisis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– решение,   поворотный пункт) – суд,  переворот, пора переходного состояния, перелом, при котором неадекватность средств достижения целей, рождает непредсказуемые проблемы.</a:t>
            </a:r>
            <a:br>
              <a:rPr sz="3600"/>
            </a:br>
            <a:br>
              <a:rPr sz="36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Кризис в китайском языке записывается двумя иероглифами:</a:t>
            </a:r>
            <a:br>
              <a:rPr sz="28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«ВЭЙ»: «опасность», «страх»</a:t>
            </a:r>
            <a:br>
              <a:rPr sz="28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«ЦЗИ»: «возможность»</a:t>
            </a:r>
            <a:br>
              <a:rPr sz="28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285560"/>
            <a:ext cx="81057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И помните: всему есть конец! Самые тяжелые периоды когда-то заканчиваются. И уж тогда вы будете с улыбкой вспоминать выходки своего маленького проказн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2"/>
          <a:stretch/>
        </p:blipFill>
        <p:spPr>
          <a:xfrm>
            <a:off x="5143680" y="3714840"/>
            <a:ext cx="3733560" cy="29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143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356920"/>
            <a:ext cx="90010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ПСИХОЛОГИЧЕСКИЙ КРИЗИС – состояние, при котором невозможно дальнейшее функционирование личности в рамках прежней модели поведения, даже если она целиком устраивала данного человека. </a:t>
            </a:r>
            <a:br>
              <a:rPr sz="3600"/>
            </a:br>
            <a:br>
              <a:rPr sz="36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Кризис сопровождается массой позитивных и негативных изменений в детском организме.</a:t>
            </a:r>
            <a:br>
              <a:rPr sz="28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(Следует помнить, что все трудности носят временный и преходящий характер).</a:t>
            </a:r>
            <a:br>
              <a:rPr sz="28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714760"/>
            <a:ext cx="90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В этот период происходит физиологическая и биологическая перестройка организма, в результате чего у детей наблюдается:</a:t>
            </a:r>
            <a:br>
              <a:rPr sz="2500"/>
            </a:br>
            <a:r>
              <a:rPr b="1" i="1" lang="ru-RU" sz="2500" spc="-1" strike="noStrike">
                <a:solidFill>
                  <a:srgbClr val="990000"/>
                </a:solidFill>
                <a:latin typeface="Calibri"/>
              </a:rPr>
              <a:t>- </a:t>
            </a:r>
            <a:r>
              <a:rPr b="1" i="1" lang="ru-RU" sz="2900" spc="-1" strike="noStrike">
                <a:solidFill>
                  <a:srgbClr val="1f497d"/>
                </a:solidFill>
                <a:latin typeface="Calibri"/>
              </a:rPr>
              <a:t>Повышенная чувствительность мозга к воздействию окружающей среды.</a:t>
            </a:r>
            <a:br>
              <a:rPr sz="2900"/>
            </a:br>
            <a:r>
              <a:rPr b="1" i="1" lang="ru-RU" sz="2900" spc="-1" strike="noStrike">
                <a:solidFill>
                  <a:srgbClr val="1f497d"/>
                </a:solidFill>
                <a:latin typeface="Calibri"/>
              </a:rPr>
              <a:t>- Ранимость центральной нервной системы в связи с отклонениями в перестройке эндокринной системы.</a:t>
            </a:r>
            <a:br>
              <a:rPr sz="2900"/>
            </a:br>
            <a:r>
              <a:rPr b="1" i="1" lang="ru-RU" sz="2900" spc="-1" strike="noStrike">
                <a:solidFill>
                  <a:srgbClr val="1f497d"/>
                </a:solidFill>
                <a:latin typeface="Calibri"/>
              </a:rPr>
              <a:t>- Снижение адаптационно-компенсаторных возможностей детского организма (подверженность заболеваниям, особенно нервно-психическим).</a:t>
            </a:r>
            <a:br>
              <a:rPr sz="2600"/>
            </a:b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                     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            </a:t>
            </a: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КРИЗИС –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важный этап в психологическом развитии ребенка, который обозначает переход на новую возрастную ступень.</a:t>
            </a:r>
            <a:br>
              <a:rPr sz="4000"/>
            </a:br>
            <a:br>
              <a:rPr sz="900"/>
            </a:br>
            <a:r>
              <a:rPr b="0" lang="ru-RU" sz="2900" spc="-1" strike="noStrike">
                <a:solidFill>
                  <a:srgbClr val="254061"/>
                </a:solidFill>
                <a:latin typeface="Calibri"/>
              </a:rPr>
              <a:t>      </a:t>
            </a:r>
            <a:r>
              <a:rPr b="1" lang="ru-RU" sz="2500" spc="-1" strike="noStrike">
                <a:solidFill>
                  <a:srgbClr val="254061"/>
                </a:solidFill>
                <a:latin typeface="Calibri"/>
              </a:rPr>
              <a:t>С одной стороны, кризисы являются движущей силой развития, этапом смены ведущей деятельности ребенка; с другой – это сложный период для малыша, его родных и персонала дошкольного учреждения.</a:t>
            </a:r>
            <a:br>
              <a:rPr sz="3200"/>
            </a:b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4200" y="2000160"/>
            <a:ext cx="8715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</a:t>
            </a:r>
            <a:br>
              <a:rPr sz="3600"/>
            </a:b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</a:t>
            </a:r>
            <a:r>
              <a:rPr b="1" i="1" lang="ru-RU" sz="4400" spc="-1" strike="noStrike">
                <a:solidFill>
                  <a:srgbClr val="990000"/>
                </a:solidFill>
                <a:latin typeface="Calibri"/>
              </a:rPr>
              <a:t>Формирование нового, захватывающего чувства «Я» - главное достижение кризиса трех лет. И именно с ним связаны все «прелести» этого периода. Почувствовав силу, ребенок требует признания своей независимости и самостоятельности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356920"/>
            <a:ext cx="91440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                 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Детские психологи Л.В.Выгодский и 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Э. Келер выявили 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Calibri"/>
              </a:rPr>
              <a:t>семь характеристик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поведения ребенка, переживающего кризис трехлетнего возраста: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1. НЕГАТИВИЗМ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2. УПРЯМСТВО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3. СВОЕВОЛИЕ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4. СТРОПТИВОСТЬ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5. ОБЕСЦЕНИВАНИЕ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6. ПРОТЕСТ-БУНТ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7. ДЕСПОТИЗМ.</a:t>
            </a:r>
            <a:br>
              <a:rPr sz="26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840" y="2000160"/>
            <a:ext cx="89298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</a:t>
            </a:r>
            <a:br>
              <a:rPr sz="3600"/>
            </a:b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НЕГАТИВИЗМ – это немотивированное поведение, которое проявляется в действиях и словах, которые намеренно противоположны требованиям и ожиданиям взрослых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Стремление противоречить даже не потому, что реально хочется обратного, а просто для того, чтобы противиться самому предложению, просьбе, требованию из вн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143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2214720"/>
            <a:ext cx="811512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          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УПРЯМСТВО – желание ребенка настаивать на своем. Зачастую даже не для того, чтобы получить желаемое, а для того, чтобы увидеть, что с его потребностями считаются.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«Борьба с упрямством – борьба за правильное воспитание, за правильную обстановку жизни ребенка, это  борьба за правильное поведение взрослых, за  право ребенка на самостоятельность, на уважение к нему даже тогда, когда он делает ошибки. Не ломать надо упрямство, а направлять силы ребенка на полезные, нужные в жизни цели».   Е.А. Аркин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10:33Z</dcterms:created>
  <dc:creator>USER</dc:creator>
  <dc:description/>
  <dc:language>en-US</dc:language>
  <cp:lastModifiedBy>Ольга</cp:lastModifiedBy>
  <dcterms:modified xsi:type="dcterms:W3CDTF">2010-02-17T08:39:32Z</dcterms:modified>
  <cp:revision>92</cp:revision>
  <dc:subject/>
  <dc:title>презентация</dc:title>
</cp:coreProperties>
</file>