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FAAF-3A28-416C-A67D-67DE5C585E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AD9E-A0AE-4566-98F5-7F76454D6C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184B-0220-40F8-B687-C22ACDF1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222E-CD99-4780-A65F-8D432103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A273-F3A5-470E-955D-2784357E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D5FB-AF91-47B8-B195-E5A4A369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E366-FBF5-4A24-B928-A24A9690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9855-8A44-44DE-B7D0-3D1EB49B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F833-7AA7-41AB-A22E-D5C6A43B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D808-946B-4A8A-84E7-42CC6BD9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7502-941A-4767-8456-C983AF2F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42E2-C1C8-4486-9BBE-249F20C5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856F-041B-4E81-B566-1CBBF068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4995-25B4-4795-AC9C-BEF0C069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8827-B11D-4AD7-862F-B6746B95CD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л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7143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43120" y="0"/>
            <a:ext cx="6215040" cy="62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     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                       </a:t>
            </a:r>
            <a:br>
              <a:rPr sz="2800"/>
            </a:b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4200" y="-143280"/>
            <a:ext cx="8715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                                           </a:t>
            </a:r>
            <a:r>
              <a:rPr b="1" lang="ru-RU" sz="4800" spc="-1" strike="noStrike">
                <a:solidFill>
                  <a:srgbClr val="990000"/>
                </a:solidFill>
                <a:latin typeface="Calibri"/>
              </a:rPr>
              <a:t>тема встречи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Calibri"/>
              </a:rPr>
              <a:t>                           </a:t>
            </a:r>
            <a:r>
              <a:rPr b="1" i="1" lang="ru-RU" sz="8800" spc="-1" strike="noStrike">
                <a:solidFill>
                  <a:srgbClr val="0000cc"/>
                </a:solidFill>
                <a:latin typeface="Calibri"/>
              </a:rPr>
              <a:t>«Кризис    трех лет»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1428840"/>
            <a:ext cx="864396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СВОЕВОЛИЕ – стремление к эмансипации от взрослого, ребенок принимает только то что придумал сам. </a:t>
            </a:r>
            <a:br>
              <a:rPr sz="3200"/>
            </a:br>
            <a:br>
              <a:rPr sz="3600"/>
            </a:b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Проявлению своеволия, как правило, сопутствует фраза «я сам!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1214280"/>
            <a:ext cx="8715600" cy="35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СТРОПТИВОСТЬ – общий протест против уже казалось бы принятых и устоявшихся для ребенка правил, норм поведения или режи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5480" y="1428480"/>
            <a:ext cx="870588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ОБЕСЦЕНИВАНИЕ – резкое непринятие всего любимого и принятого раньше, отказ от привязанностей к дорогим прежде предметам и людя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840" y="1643040"/>
            <a:ext cx="8643960" cy="35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           </a:t>
            </a: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ПРОТЕСТ-БУНТ – этот симптом известный отечественный психолог Л.С. Выготский в своих работах описывал как «состояние войны с окружающими», постоянного конфликта с ними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(Такой бунтарь постоянно провоцирует ссоры с родителями, обзывает их, говорит «плохие слова»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2960" y="3214440"/>
            <a:ext cx="82152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        </a:t>
            </a: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ДЕСПОТИЗМ – ребенок превращается в маленького тирана, он постоянно со всем не согласен, диктует свои нормы и правила поведения, навязывает свои желания, требует подчинения себе. Пытается распоряжаться другими членами своей семьи и т.п.</a:t>
            </a:r>
            <a:br>
              <a:rPr sz="3600"/>
            </a:br>
            <a:br>
              <a:rPr sz="3600"/>
            </a:b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Знаете ли, какой самый верный способ сделать вашего ребенка несчастным – это приучить его не встречать ни в чем отказа. Ж-Ж Руссо</a:t>
            </a:r>
            <a:br>
              <a:rPr sz="28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       </a:t>
            </a: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Главное</a:t>
            </a: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, что должен понимать взрослый, это то, что подобное поведение не является непослушанием, малыш не становится плохим и поэтому ведет себя плохо, он просто не может по-другому выполнить свою главную на этом возрастном этапе задачу – защитить  и отстоять личные границы, неприкосновенность собственного 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285840"/>
            <a:ext cx="8686800" cy="637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alibri"/>
                <a:ea typeface="Times New Roman"/>
              </a:rPr>
              <a:t>Приведем некоторые рекомендации, следование которым облегчит ваше общение с детьми, проявляющими весь поведенческий «букет» кризиса трехлетнего возраста. 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В первую очередь, необходимо 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запастись терпением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 и пониманием тех внутренних механизмов, что стоят за нелицеприятным поведением детей. 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Во-вторых, необходима абсолютная 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последовательность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: если вы что-то не принимаете, значит, не сдаваться и не потакать ни при каких обстоятельствах, а если что-то разрешили, значит, в другой раз то же самое уже не сможете запретить, потому что у вас не то настроение или нет желания (то, что нельзя – всегда нельзя, то, что можно – можно всегда). 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В-третьих, 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жесткие рамки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 там, где это необходимо (дети будут пытаться проверить их на прочность, но эти стены должны оказаться непробиваемыми). </a:t>
            </a:r>
            <a:br>
              <a:rPr sz="2400"/>
            </a:b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Только в таких условиях можно осуществить самый важный принцип – свободы и выбо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431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ВРЕДНЫЕ СОВЕТЫ: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     Специально разработаны для родителей, которые получают удовольствие от кризиса, хотят увеличить его протяженность и считают недостаточной силу негативных проявлений.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- Чаще требуйте от ребенка невозможного. Настаивайте на том, чтобы он мгновенно вставал утром, быстрее мамы одевался, не крошил хлеб и не болтал ерунды.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- Будьте всегда строги и даже суровы: ругайте каждую минуту, посильнее шлепайте, наказывайте даже с целью профилактики, при любом удобном случае подчеркивайте свое превосходство, критикуйте за неудачи и противодействуйте во всем с целью мести.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    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2152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Долго и занудно объясняйте, что вы от него хотите. Чем меньше ребенок поймет – тем лучше. -- Постоянно меняйте требования. Строго следуя запретам, вы проявите излишнее упрямство. Не забывайте: если сегодня залезать на дерево нельзя, то завтра это обязательно нужно будет разрешить.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 - Чтобы ребенок не закатил истерику, предложите ему конфету или катание на карусели. Вы ведь не деспот – не можете пережить ни одной слезинки на любимом личике своего крохи. 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 - Всегда все делайте сами, не разрешайте ребенку самому одеваться, есть и чистить зубы. Ведь он так расстроится, если что-то не получится!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   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3500280"/>
            <a:ext cx="91440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990000"/>
                </a:solidFill>
                <a:uFillTx/>
                <a:latin typeface="Calibri"/>
              </a:rPr>
              <a:t>КРИЗИС  ТРЕХ  ЛЕТ, «Я САМ»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Я негативен и упрям,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строптив и своеволен,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средою социальной я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ужасно недоволен.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Вы не даете мне шагнуть,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всегда помочь готовы.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О, боже! Как же тяжелы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сердечные оковы.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Система «Я» кипит во мне,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Хочу кричать повсюду: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Я – самость, братцы, я живу,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Хочу! Могу! И буду!</a:t>
            </a:r>
            <a:br>
              <a:rPr sz="2800"/>
            </a:br>
            <a:br>
              <a:rPr sz="2800"/>
            </a:b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                   </a:t>
            </a:r>
            <a:br>
              <a:rPr sz="26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-285840" y="0"/>
            <a:ext cx="9429840" cy="7143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356920"/>
            <a:ext cx="900108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           </a:t>
            </a:r>
            <a:r>
              <a:rPr b="1" i="1" lang="ru-RU" sz="4800" spc="-1" strike="noStrike">
                <a:solidFill>
                  <a:srgbClr val="990000"/>
                </a:solidFill>
                <a:latin typeface="Calibri"/>
              </a:rPr>
              <a:t>КРИЗИС </a:t>
            </a: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(греч. </a:t>
            </a:r>
            <a:r>
              <a:rPr b="1" i="1" lang="en-US" sz="3600" spc="-1" strike="noStrike">
                <a:solidFill>
                  <a:srgbClr val="990000"/>
                </a:solidFill>
                <a:latin typeface="Calibri"/>
              </a:rPr>
              <a:t>krisis</a:t>
            </a: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 – решение,   поворотный пункт) – суд,  переворот, пора переходного состояния, перелом, при котором неадекватность средств достижения целей, рождает непредсказуемые проблемы.</a:t>
            </a:r>
            <a:br>
              <a:rPr sz="3600"/>
            </a:br>
            <a:br>
              <a:rPr sz="3600"/>
            </a:b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Кризис в китайском языке записывается двумя иероглифами:</a:t>
            </a:r>
            <a:br>
              <a:rPr sz="2800"/>
            </a:b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«ВЭЙ»: «опасность», «страх»</a:t>
            </a:r>
            <a:br>
              <a:rPr sz="2800"/>
            </a:b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«ЦЗИ»: «возможность»</a:t>
            </a:r>
            <a:br>
              <a:rPr sz="28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285560"/>
            <a:ext cx="81057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    </a:t>
            </a: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И помните: всему есть конец! Самые тяжелые периоды когда-то заканчиваются. И уж тогда вы будете с улыбкой вспоминать выходки своего маленького проказни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3" descr=""/>
          <p:cNvPicPr/>
          <p:nvPr/>
        </p:nvPicPr>
        <p:blipFill>
          <a:blip r:embed="rId2"/>
          <a:stretch/>
        </p:blipFill>
        <p:spPr>
          <a:xfrm>
            <a:off x="5143680" y="3714840"/>
            <a:ext cx="3733560" cy="29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-285840" y="0"/>
            <a:ext cx="9429840" cy="7143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356920"/>
            <a:ext cx="900108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           </a:t>
            </a: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ПСИХОЛОГИЧЕСКИЙ КРИЗИС – состояние, при котором невозможно дальнейшее функционирование личности в рамках прежней модели поведения, даже если она целиком устраивала данного человека. </a:t>
            </a:r>
            <a:br>
              <a:rPr sz="3600"/>
            </a:br>
            <a:br>
              <a:rPr sz="3600"/>
            </a:b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Кризис сопровождается массой позитивных и негативных изменений в детском организме.</a:t>
            </a:r>
            <a:br>
              <a:rPr sz="2800"/>
            </a:b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(Следует помнить, что все трудности носят временный и преходящий характер).</a:t>
            </a:r>
            <a:br>
              <a:rPr sz="28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2714760"/>
            <a:ext cx="90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rgbClr val="990000"/>
                </a:solidFill>
                <a:latin typeface="Calibri"/>
              </a:rPr>
              <a:t>В этот период происходит физиологическая и биологическая перестройка организма, в результате чего у детей наблюдается:</a:t>
            </a:r>
            <a:br>
              <a:rPr sz="2500"/>
            </a:br>
            <a:r>
              <a:rPr b="1" i="1" lang="ru-RU" sz="2500" spc="-1" strike="noStrike">
                <a:solidFill>
                  <a:srgbClr val="990000"/>
                </a:solidFill>
                <a:latin typeface="Calibri"/>
              </a:rPr>
              <a:t>- </a:t>
            </a:r>
            <a:r>
              <a:rPr b="1" i="1" lang="ru-RU" sz="2900" spc="-1" strike="noStrike">
                <a:solidFill>
                  <a:srgbClr val="1f497d"/>
                </a:solidFill>
                <a:latin typeface="Calibri"/>
              </a:rPr>
              <a:t>Повышенная чувствительность мозга к воздействию окружающей среды.</a:t>
            </a:r>
            <a:br>
              <a:rPr sz="2900"/>
            </a:br>
            <a:r>
              <a:rPr b="1" i="1" lang="ru-RU" sz="2900" spc="-1" strike="noStrike">
                <a:solidFill>
                  <a:srgbClr val="1f497d"/>
                </a:solidFill>
                <a:latin typeface="Calibri"/>
              </a:rPr>
              <a:t>- Ранимость центральной нервной системы в связи с отклонениями в перестройке эндокринной системы.</a:t>
            </a:r>
            <a:br>
              <a:rPr sz="2900"/>
            </a:br>
            <a:r>
              <a:rPr b="1" i="1" lang="ru-RU" sz="2900" spc="-1" strike="noStrike">
                <a:solidFill>
                  <a:srgbClr val="1f497d"/>
                </a:solidFill>
                <a:latin typeface="Calibri"/>
              </a:rPr>
              <a:t>- Снижение адаптационно-компенсаторных возможностей детского организма (подверженность заболеваниям, особенно нервно-психическим).</a:t>
            </a:r>
            <a:br>
              <a:rPr sz="2600"/>
            </a:br>
            <a:br>
              <a:rPr sz="32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5723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Calibri"/>
              </a:rPr>
              <a:t>                      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990000"/>
                </a:solidFill>
                <a:latin typeface="Calibri"/>
              </a:rPr>
              <a:t>            </a:t>
            </a:r>
            <a:r>
              <a:rPr b="1" i="1" lang="ru-RU" sz="4000" spc="-1" strike="noStrike">
                <a:solidFill>
                  <a:srgbClr val="990000"/>
                </a:solidFill>
                <a:latin typeface="Calibri"/>
              </a:rPr>
              <a:t>КРИЗИС – </a:t>
            </a: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важный этап в психологическом развитии ребенка, который обозначает переход на новую возрастную ступень.</a:t>
            </a:r>
            <a:br>
              <a:rPr sz="4000"/>
            </a:br>
            <a:br>
              <a:rPr sz="900"/>
            </a:br>
            <a:r>
              <a:rPr b="0" lang="ru-RU" sz="2900" spc="-1" strike="noStrike">
                <a:solidFill>
                  <a:srgbClr val="254061"/>
                </a:solidFill>
                <a:latin typeface="Calibri"/>
              </a:rPr>
              <a:t>      </a:t>
            </a:r>
            <a:r>
              <a:rPr b="1" lang="ru-RU" sz="2500" spc="-1" strike="noStrike">
                <a:solidFill>
                  <a:srgbClr val="254061"/>
                </a:solidFill>
                <a:latin typeface="Calibri"/>
              </a:rPr>
              <a:t>С одной стороны, кризисы являются движущей силой развития, этапом смены ведущей деятельности ребенка; с другой – это сложный период для малыша, его родных и персонала дошкольного учреждения.</a:t>
            </a:r>
            <a:br>
              <a:rPr sz="3200"/>
            </a:b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4200" y="2000160"/>
            <a:ext cx="87156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      </a:t>
            </a:r>
            <a:br>
              <a:rPr sz="3600"/>
            </a:b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      </a:t>
            </a:r>
            <a:r>
              <a:rPr b="1" i="1" lang="ru-RU" sz="4400" spc="-1" strike="noStrike">
                <a:solidFill>
                  <a:srgbClr val="990000"/>
                </a:solidFill>
                <a:latin typeface="Calibri"/>
              </a:rPr>
              <a:t>Формирование нового, захватывающего чувства «Я» - главное достижение кризиса трех лет. И именно с ним связаны все «прелести» этого периода. Почувствовав силу, ребенок требует признания своей независимости и самостоятельности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356920"/>
            <a:ext cx="9144000" cy="264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                   </a:t>
            </a: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Детские психологи Л.В.Выгодский и </a:t>
            </a:r>
            <a:br>
              <a:rPr sz="3200"/>
            </a:b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Э. Келер выявили </a:t>
            </a: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Calibri"/>
              </a:rPr>
              <a:t>семь характеристик </a:t>
            </a:r>
            <a:r>
              <a:rPr b="1" i="1" lang="ru-RU" sz="3200" spc="-1" strike="noStrike">
                <a:solidFill>
                  <a:srgbClr val="990000"/>
                </a:solidFill>
                <a:latin typeface="Calibri"/>
              </a:rPr>
              <a:t>поведения ребенка, переживающего кризис трехлетнего возраста:</a:t>
            </a: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1. НЕГАТИВИЗМ;</a:t>
            </a:r>
            <a:br>
              <a:rPr sz="2800"/>
            </a:b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2. УПРЯМСТВО;</a:t>
            </a:r>
            <a:br>
              <a:rPr sz="2800"/>
            </a:b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3. СВОЕВОЛИЕ;</a:t>
            </a:r>
            <a:br>
              <a:rPr sz="2800"/>
            </a:b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4. СТРОПТИВОСТЬ;</a:t>
            </a:r>
            <a:br>
              <a:rPr sz="2800"/>
            </a:b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5. ОБЕСЦЕНИВАНИЕ;</a:t>
            </a:r>
            <a:br>
              <a:rPr sz="2800"/>
            </a:b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6. ПРОТЕСТ-БУНТ;</a:t>
            </a:r>
            <a:br>
              <a:rPr sz="2800"/>
            </a:b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7. ДЕСПОТИЗМ.</a:t>
            </a:r>
            <a:br>
              <a:rPr sz="26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3840" y="2000160"/>
            <a:ext cx="89298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      </a:t>
            </a:r>
            <a:br>
              <a:rPr sz="3600"/>
            </a:b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      </a:t>
            </a:r>
            <a:r>
              <a:rPr b="1" i="1" lang="ru-RU" sz="3600" spc="-1" strike="noStrike">
                <a:solidFill>
                  <a:srgbClr val="990000"/>
                </a:solidFill>
                <a:latin typeface="Calibri"/>
              </a:rPr>
              <a:t>НЕГАТИВИЗМ – это немотивированное поведение, которое проявляется в действиях и словах, которые намеренно противоположны требованиям и ожиданиям взрослых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Стремление противоречить даже не потому, что реально хочется обратного, а просто для того, чтобы противиться самому предложению, просьбе, требованию из вне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слайд.bmp"/>
          <p:cNvPicPr/>
          <p:nvPr/>
        </p:nvPicPr>
        <p:blipFill>
          <a:blip r:embed="rId1"/>
          <a:stretch/>
        </p:blipFill>
        <p:spPr>
          <a:xfrm>
            <a:off x="-285840" y="0"/>
            <a:ext cx="9429840" cy="71438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680" y="2214720"/>
            <a:ext cx="811512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          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УПРЯМСТВО – желание ребенка настаивать на своем. Зачастую даже не для того, чтобы получить желаемое, а для того, чтобы увидеть, что с его потребностями считаются.</a:t>
            </a:r>
            <a:br>
              <a:rPr sz="3600"/>
            </a:b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«Борьба с упрямством – борьба за правильное воспитание, за правильную обстановку жизни ребенка, это  борьба за правильное поведение взрослых, за  право ребенка на самостоятельность, на уважение к нему даже тогда, когда он делает ошибки. Не ломать надо упрямство, а направлять силы ребенка на полезные, нужные в жизни цели».   Е.А. Аркин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6:10:33Z</dcterms:created>
  <dc:creator>USER</dc:creator>
  <dc:description/>
  <dc:language>en-US</dc:language>
  <cp:lastModifiedBy>Ольга</cp:lastModifiedBy>
  <dcterms:modified xsi:type="dcterms:W3CDTF">2010-02-17T08:39:32Z</dcterms:modified>
  <cp:revision>92</cp:revision>
  <dc:subject/>
  <dc:title>презентация</dc:title>
</cp:coreProperties>
</file>