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638E-C5BF-454B-957A-6803300D16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599D-1BE2-4E00-BFE8-163F57E8ED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367-69B7-453B-82FD-3547E8FC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A37-F0EC-49D5-93AB-3E42046F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BD1-4CC4-4A34-8FC7-824DA799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50E-3396-4322-8D00-E2049B9A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807-AF08-4778-975D-6196C468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793-8F8E-47E3-A91F-B708C02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897-A4CD-4516-B9DC-5AFB0E7D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CEA-C19D-4190-8CB0-542A4629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779-AF12-434B-BFE6-E99BC60A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81D-37F8-4E49-8D84-814572B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F28-112D-483B-9C52-89821842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650-CD68-4D96-B30D-9BE9D91F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58EF-1725-4BBE-8CC0-8B2100613E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л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43120" y="0"/>
            <a:ext cx="621504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4200" y="-14328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                                           </a:t>
            </a: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тема встреч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alibri"/>
              </a:rPr>
              <a:t>                           </a:t>
            </a:r>
            <a:r>
              <a:rPr b="1" i="1" lang="ru-RU" sz="8800" spc="-1" strike="noStrike">
                <a:solidFill>
                  <a:srgbClr val="0000cc"/>
                </a:solidFill>
                <a:latin typeface="Calibri"/>
              </a:rPr>
              <a:t>«Кризис    трех лет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8840"/>
            <a:ext cx="864396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ВОЕВОЛИЕ – стремление к эмансипации от взрослого, ребенок принимает только то что придумал сам. </a:t>
            </a:r>
            <a:br>
              <a:rPr sz="3200"/>
            </a:br>
            <a:br>
              <a:rPr sz="3600"/>
            </a:b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роявлению своеволия, как правило, сопутствует фраза «я сам!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1214280"/>
            <a:ext cx="8715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СТРОПТИВОСТЬ – общий протест против уже казалось бы принятых и устоявшихся для ребенка правил, норм поведения или реж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480" y="1428480"/>
            <a:ext cx="870588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ОБЕСЦЕНИВАНИЕ – резкое непринятие всего любимого и принятого раньше, отказ от привязанностей к дорогим прежде предметам и людя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840" y="1643040"/>
            <a:ext cx="864396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ПРОТЕСТ-БУНТ – этот симптом известный отечественный психолог Л.С. Выготский в своих работах описывал как «состояние войны с окружающими», постоянного конфликта с ними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(Такой бунтарь постоянно провоцирует ссоры с родителями, обзывает их, говорит «плохие слова»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3214440"/>
            <a:ext cx="82152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 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ДЕСПОТИЗМ – ребенок превращается в маленького тирана, он постоянно со всем не согласен, диктует свои нормы и правила поведения, навязывает свои желания, требует подчинения себе. Пытается распоряжаться другими членами своей семьи и т.п.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Знаете ли, какой самый верный способ сделать вашего ребенка несчастным – это приучить его не встречать ни в чем отказа. Ж-Ж Руссо</a:t>
            </a:r>
            <a:br>
              <a:rPr sz="28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Главное</a:t>
            </a: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, что должен понимать взрослый, это то, что подобное поведение не является непослушанием, малыш не становится плохим и поэтому ведет себя плохо, он просто не может по-другому выполнить свою главную на этом возрастном этапе задачу – защитить  и отстоять личные границы, неприкосновенность собственного 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85840"/>
            <a:ext cx="8686800" cy="63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  <a:ea typeface="Times New Roman"/>
              </a:rPr>
              <a:t>Приведем некоторые рекомендации, следование которым облегчит ваше общение с детьми, проявляющими весь поведенческий «букет» кризиса трехлетнего возраста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В первую очередь, необходимо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запастись терпением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 и пониманием тех внутренних механизмов, что стоят за нелицеприятным поведением детей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Во-вторых, необходима абсолютная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последовательность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: если вы что-то не принимаете, значит, не сдаваться и не потакать ни при каких обстоятельствах, а если что-то разрешили, значит, в другой раз то же самое уже не сможете запретить, потому что у вас не то настроение или нет желания (то, что нельзя – всегда нельзя, то, что можно – можно всегда)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В-третьих,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жесткие рамки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 там, где это необходимо (дети будут пытаться проверить их на прочность, но эти стены должны оказаться непробиваемыми). 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Только в таких условиях можно осуществить самый важный принцип – свободы и выб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431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ВРЕДНЫЕ СОВЕТЫ: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    Специально разработаны для родителей, которые получают удовольствие от кризиса, хотят увеличить его протяженность и считают недостаточной силу негативных проявлений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- Чаще требуйте от ребенка невозможного. Настаивайте на том, чтобы он мгновенно вставал утром, быстрее мамы одевался, не крошил хлеб и не болтал ерунды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- Будьте всегда строги и даже суровы: ругайте каждую минуту, посильнее шлепайте, наказывайте даже с целью профилактики, при любом удобном случае подчеркивайте свое превосходство, критикуйте за неудачи и противодействуйте во всем с целью мести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  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152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Долго и занудно объясняйте, что вы от него хотите. Чем меньше ребенок поймет – тем лучше. -- Постоянно меняйте требования. Строго следуя запретам, вы проявите излишнее упрямство. Не забывайте: если сегодня залезать на дерево нельзя, то завтра это обязательно нужно будет разрешить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- Чтобы ребенок не закатил истерику, предложите ему конфету или катание на карусели. Вы ведь не деспот – не можете пережить ни одной слезинки на любимом личике своего крохи.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- Всегда все делайте сами, не разрешайте ребенку самому одеваться, есть и чистить зубы. Ведь он так расстроится, если что-то не получится!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  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500280"/>
            <a:ext cx="91440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Calibri"/>
              </a:rPr>
              <a:t>КРИЗИС  ТРЕХ  ЛЕТ, «Я САМ»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Я негативен и упрям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троптив и своеволен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редою социальной я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ужасно недоволен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Вы не даете мне шагнуть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всегда помочь готовы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О, боже! Как же тяжелы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ердечные оковы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истема «Я» кипит во мне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Хочу кричать повсюду: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Я – самость, братцы, я живу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Хочу! Могу! И буду!</a:t>
            </a: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                  </a:t>
            </a:r>
            <a:br>
              <a:rPr sz="2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35692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     </a:t>
            </a:r>
            <a:r>
              <a:rPr b="1" i="1" lang="ru-RU" sz="4800" spc="-1" strike="noStrike">
                <a:solidFill>
                  <a:srgbClr val="990000"/>
                </a:solidFill>
                <a:latin typeface="Calibri"/>
              </a:rPr>
              <a:t>КРИЗИС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(греч. </a:t>
            </a:r>
            <a:r>
              <a:rPr b="1" i="1" lang="en-US" sz="3600" spc="-1" strike="noStrike">
                <a:solidFill>
                  <a:srgbClr val="990000"/>
                </a:solidFill>
                <a:latin typeface="Calibri"/>
              </a:rPr>
              <a:t>krisis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– решение,   поворотный пункт) – суд,  переворот, пора переходного состояния, перелом, при котором неадекватность средств достижения целей, рождает непредсказуемые проблемы.</a:t>
            </a: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Кризис в китайском языке записывается двумя иероглифами: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«ВЭЙ»: «опасность», «страх»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«ЦЗИ»: «возможность»</a:t>
            </a:r>
            <a:br>
              <a:rPr sz="28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285560"/>
            <a:ext cx="81057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И помните: всему есть конец! Самые тяжелые периоды когда-то заканчиваются. И уж тогда вы будете с улыбкой вспоминать выходки своего маленького проказ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5143680" y="3714840"/>
            <a:ext cx="3733560" cy="29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143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35692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ПСИХОЛОГИЧЕСКИЙ КРИЗИС – состояние, при котором невозможно дальнейшее функционирование личности в рамках прежней модели поведения, даже если она целиком устраивала данного человека. </a:t>
            </a: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Кризис сопровождается массой позитивных и негативных изменений в детском организме.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Следует помнить, что все трудности носят временный и преходящий характер).</a:t>
            </a:r>
            <a:br>
              <a:rPr sz="28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714760"/>
            <a:ext cx="90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В этот период происходит физиологическая и биологическая перестройка организма, в результате чего у детей наблюдается:</a:t>
            </a:r>
            <a:br>
              <a:rPr sz="2500"/>
            </a:br>
            <a:r>
              <a:rPr b="1" i="1" lang="ru-RU" sz="2500" spc="-1" strike="noStrike">
                <a:solidFill>
                  <a:srgbClr val="990000"/>
                </a:solidFill>
                <a:latin typeface="Calibri"/>
              </a:rPr>
              <a:t>- </a:t>
            </a:r>
            <a:r>
              <a:rPr b="1" i="1" lang="ru-RU" sz="2900" spc="-1" strike="noStrike">
                <a:solidFill>
                  <a:srgbClr val="1f497d"/>
                </a:solidFill>
                <a:latin typeface="Calibri"/>
              </a:rPr>
              <a:t>Повышенная чувствительность мозга к воздействию окружающей среды.</a:t>
            </a:r>
            <a:br>
              <a:rPr sz="2900"/>
            </a:br>
            <a:r>
              <a:rPr b="1" i="1" lang="ru-RU" sz="2900" spc="-1" strike="noStrike">
                <a:solidFill>
                  <a:srgbClr val="1f497d"/>
                </a:solidFill>
                <a:latin typeface="Calibri"/>
              </a:rPr>
              <a:t>- Ранимость центральной нервной системы в связи с отклонениями в перестройке эндокринной системы.</a:t>
            </a:r>
            <a:br>
              <a:rPr sz="2900"/>
            </a:br>
            <a:r>
              <a:rPr b="1" i="1" lang="ru-RU" sz="2900" spc="-1" strike="noStrike">
                <a:solidFill>
                  <a:srgbClr val="1f497d"/>
                </a:solidFill>
                <a:latin typeface="Calibri"/>
              </a:rPr>
              <a:t>- Снижение адаптационно-компенсаторных возможностей детского организма (подверженность заболеваниям, особенно нервно-психическим).</a:t>
            </a:r>
            <a:br>
              <a:rPr sz="2600"/>
            </a:b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                     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            </a:t>
            </a: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КРИЗИС –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важный этап в психологическом развитии ребенка, который обозначает переход на новую возрастную ступень.</a:t>
            </a:r>
            <a:br>
              <a:rPr sz="4000"/>
            </a:br>
            <a:br>
              <a:rPr sz="900"/>
            </a:br>
            <a:r>
              <a:rPr b="0" lang="ru-RU" sz="2900" spc="-1" strike="noStrike">
                <a:solidFill>
                  <a:srgbClr val="254061"/>
                </a:solidFill>
                <a:latin typeface="Calibri"/>
              </a:rPr>
              <a:t>      </a:t>
            </a:r>
            <a:r>
              <a:rPr b="1" lang="ru-RU" sz="2500" spc="-1" strike="noStrike">
                <a:solidFill>
                  <a:srgbClr val="254061"/>
                </a:solidFill>
                <a:latin typeface="Calibri"/>
              </a:rPr>
              <a:t>С одной стороны, кризисы являются движущей силой развития, этапом смены ведущей деятельности ребенка; с другой – это сложный период для малыша, его родных и персонала дошкольного учреждения.</a:t>
            </a:r>
            <a:br>
              <a:rPr sz="3200"/>
            </a:b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2000160"/>
            <a:ext cx="8715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br>
              <a:rPr sz="3600"/>
            </a:b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r>
              <a:rPr b="1" i="1" lang="ru-RU" sz="4400" spc="-1" strike="noStrike">
                <a:solidFill>
                  <a:srgbClr val="990000"/>
                </a:solidFill>
                <a:latin typeface="Calibri"/>
              </a:rPr>
              <a:t>Формирование нового, захватывающего чувства «Я» - главное достижение кризиса трех лет. И именно с ним связаны все «прелести» этого периода. Почувствовав силу, ребенок требует признания своей независимости и самостоятельности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356920"/>
            <a:ext cx="91440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                 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Детские психологи Л.В.Выгодский и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Э. Келер выявили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Calibri"/>
              </a:rPr>
              <a:t>семь характеристик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поведения ребенка, переживающего кризис трехлетнего возраста: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1. НЕГАТИВИЗМ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2. УПРЯМСТВО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3. СВОЕВОЛИЕ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4. СТРОПТИВОСТЬ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5. ОБЕСЦЕНИВАНИЕ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6. ПРОТЕСТ-БУНТ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7. ДЕСПОТИЗМ.</a:t>
            </a:r>
            <a:br>
              <a:rPr sz="26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840" y="2000160"/>
            <a:ext cx="89298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br>
              <a:rPr sz="3600"/>
            </a:b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НЕГАТИВИЗМ – это немотивированное поведение, которое проявляется в действиях и словах, которые намеренно противоположны требованиям и ожиданиям взрослых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Стремление противоречить даже не потому, что реально хочется обратного, а просто для того, чтобы противиться самому предложению, просьбе, требованию из вн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143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2214720"/>
            <a:ext cx="811512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         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УПРЯМСТВО – желание ребенка настаивать на своем. Зачастую даже не для того, чтобы получить желаемое, а для того, чтобы увидеть, что с его потребностями считаются.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«Борьба с упрямством – борьба за правильное воспитание, за правильную обстановку жизни ребенка, это  борьба за правильное поведение взрослых, за  право ребенка на самостоятельность, на уважение к нему даже тогда, когда он делает ошибки. Не ломать надо упрямство, а направлять силы ребенка на полезные, нужные в жизни цели».   Е.А. Аркин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10:33Z</dcterms:created>
  <dc:creator>USER</dc:creator>
  <dc:description/>
  <dc:language>en-US</dc:language>
  <cp:lastModifiedBy>Ольга</cp:lastModifiedBy>
  <dcterms:modified xsi:type="dcterms:W3CDTF">2010-02-17T08:39:32Z</dcterms:modified>
  <cp:revision>92</cp:revision>
  <dc:subject/>
  <dc:title>презентация</dc:title>
</cp:coreProperties>
</file>