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png" ContentType="image/png"/>
  <Override PartName="/ppt/media/image7.jpeg" ContentType="image/jpeg"/>
  <Override PartName="/ppt/media/image9.gif" ContentType="image/gif"/>
  <Override PartName="/ppt/media/image10.gif" ContentType="image/gif"/>
  <Override PartName="/ppt/media/image11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DEE-FFEF-4838-9BAE-D722D032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C81-D4A1-4C4D-A94A-80888C04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68A-8010-4CF2-995F-7758FA75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B035-FF9D-4F0A-B0F1-17EE73EE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F89B-B6EB-4CFF-ACA0-B97BB822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6275-83D6-46BE-84A5-CB6CD77F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5896-A5E9-4AA8-895D-8B84859E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46E1-A416-44BD-9D5E-198616CB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553C-096F-4936-85FB-CDEB7E56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D755-7219-4E8C-8AB0-3D18EA39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25BC-9B9F-468D-962D-69017486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B94-CCC1-4B0A-8C47-3A6C60AC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2F1C-A8D4-455F-AB8C-00522378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9CC9-3DE5-4857-8CD9-40EE8EF4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B703-8F43-43F2-9FDF-7AC42579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A403-076A-44DE-8274-CD1D0FD9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3927-D15E-4B6B-833B-C82E1744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8862E-B0D3-4DE6-8E08-AAD8F011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16B18-1049-471F-BF1F-F16C0905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4EB3-E3C7-43BF-86E5-4ABA3F32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21669-8037-497F-836F-8D556410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E7E86-1C6C-4182-95C1-251A5E7C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7A7-CC26-44C2-BCE9-B2F06CC1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65C3-999A-40C9-9784-AA29DD4F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6DD9C-B14E-4A5A-AE29-72101EFF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5257D-689A-45BA-91BA-F992EFF8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232B3-9E54-4462-820B-5EFE2452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BA919-813B-460D-9F50-6488F382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55082-13A8-4565-8350-F8EDE200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85FE1-5D57-4C11-BF7E-D3B8BF8A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6E092-8153-44D5-8EC5-E8FB1DCB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AE2EA-8BDF-4C11-9691-BE891577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26AE-790B-4640-954A-AB609A2C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AFE-B8EA-4ACF-8AA3-332CDB7A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169F6-9E16-4317-BA31-A220A050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7FEF3-E107-4CF6-97DD-4F276915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B6249-9E0C-446A-A532-DD25205D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42324-6AC6-4C6D-99C1-9329B96B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EBF42-1408-479A-B6B5-488CB5EE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8A20E-2276-4BBC-839B-E3803EC1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C1313-0AD2-47F2-85ED-A3C833E2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CBA3C-75AA-4567-AB62-F7153117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54F1D-FE45-48E7-AF56-2D2AC14E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FFCEE-F97B-4B35-8E30-0CB8C0D5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035-852F-4EA9-A8E8-D7533576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9CD8D-F7E6-4395-9A19-5091E1E0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4583F-809C-484F-A33A-3BCD9F41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0356A-1CD5-4B33-8C42-D15A76CA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451D1-4431-4E8A-8527-7F1CC15A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A9B18-85A1-470B-A5B8-D8D2F0B3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839A0-6331-4A6E-A20F-C132D96B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AE54C-C10C-4FB9-8D3D-6BC6920D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FC1CF-1D88-4170-9ACB-2C09E732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F6B5E-2BB4-456F-9428-EB9E2759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B7003-92FB-4C5C-8084-8B88BB4C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E16-1D02-41EF-BC2C-CDA985F9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E6983-8450-462E-9652-F019E681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B86-922D-4AA5-9632-44105711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CFD-FAB2-4DBB-B77F-A691F289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907-613A-44B3-81E3-2D58AA69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0D13-9EB6-4B8C-8B2E-77772BA8AB9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D0CC-320B-44AA-91A3-71114423F83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5083-AB02-4C55-B26E-1C35D95BE82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B1F8-C2C6-4DBD-B901-59E83063D277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94AA-80FF-4109-8E13-06E40AEBEDC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822240" y="109440"/>
            <a:ext cx="7066080" cy="19573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900000" y="1268280"/>
            <a:ext cx="748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1000080" y="1052640"/>
            <a:ext cx="75009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дительское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" name="WordArt 9"/>
          <p:cNvSpPr txBox="1"/>
          <p:nvPr/>
        </p:nvSpPr>
        <p:spPr>
          <a:xfrm>
            <a:off x="2771640" y="3170160"/>
            <a:ext cx="3888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брание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2286000" y="4813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ла и провела  учитель Бишевской СОШ Апастовского района РТ Алексеева Галина Юр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68000" y="1484280"/>
            <a:ext cx="81867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6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Родители – главные «проектировщики, конструкторы и строители» личности ребёнка. Вот почему важно знать, насколько успешно мы справляемся с такой сложной ролью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Рисунок 1" descr="cr_LorrieMathesonNesbitt-TheDrawingLesson"/>
          <p:cNvPicPr/>
          <p:nvPr/>
        </p:nvPicPr>
        <p:blipFill>
          <a:blip r:embed="rId2"/>
          <a:stretch/>
        </p:blipFill>
        <p:spPr>
          <a:xfrm>
            <a:off x="1714680" y="3857760"/>
            <a:ext cx="4937040" cy="2805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285840" y="24717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book023"/>
          <p:cNvPicPr/>
          <p:nvPr/>
        </p:nvPicPr>
        <p:blipFill>
          <a:blip r:embed="rId1"/>
          <a:stretch/>
        </p:blipFill>
        <p:spPr>
          <a:xfrm>
            <a:off x="2357280" y="5433840"/>
            <a:ext cx="1873440" cy="14241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1071720" y="78480"/>
            <a:ext cx="7358040" cy="670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 для определения уровня заботы о собственном ребён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ы отве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-й - категорически не согласе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- мне трудно с этим согласить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-й - может быть, это и вер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-й - верно, я с этим соглас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 вот и 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Родители должны предвидеть все проблемы, с которыми может столкнуться их ребёнок, чтобы помочь ему в их преодол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Для того чтобы быть хорошей матерью, достаточно общения только с собст­венной семьё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Маленького ребёнка следует всегда держать при себе, чтобы предупредить его падения и ушиб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Если ребёнок делает, что он обязан делать, то он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ходится на правильном жизненном пу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.Ребёнок не должен заниматься теми видами спорта, которые могут привести к физическим увечь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.Воспитание ребёнка - труд тяжёлый и зачастую неблагодар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.У ребёнка не должно быть тайн от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.Если мать не успевает уделять время на воспитание детей из-з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ственно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фессионально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ятельности, значит, отец плохо содержит семью матери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9.Любовь родителей ребёнка не испор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.Родители должны ограждать ребёнка от негативных сторон реальной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1.Главное, чем должен заниматься ребёнок, - это учё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2.Мать - главное лицо в до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3.Семья должна жить под девизом: «Все лучшее - детям!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4.Защищать ребёнка от любой инфекции можно путём ограничения его контактов с окружающ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5.Родители должны помочь ребёнку в определении круга его друзей и приятел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 теперь подводим ит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357120" y="511560"/>
            <a:ext cx="85726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Конфликт оп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ути, опека - это забота, ограждение от трудностей. Подростки могут быть в таких семьях безынициативны, покорны, подавлены. Они часто отстранены от решения вопросов, которые касаются их лично и всей семьи. Вялое безразличие подростка иногда превращается в “диктат младшего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357120" y="314316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Конфликт разрешится тогда, когда родители постараются изменить свое поведение. Не отказывайтесь от контроля, без которого невозможно воспитание человека, но сведите опеку к минимуму. Не требуйте от ребенка только правильных поступков, примите его таким, какой он 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Помогайте, но не старайтесь решать за него все проблемы. Стимулируйте общение со сверстниками. Дозируйте опеку, дозируйте свободу, дозируйте похвалу и порицание - это один из выходов в дан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214200" y="436320"/>
            <a:ext cx="89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любви, в принадлежности другому – это одна из самых главных человеческих потребностей. Это значит, что человеку важно чувствовать, что он кому-то нуж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214200" y="2357280"/>
            <a:ext cx="871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Как это проявляется в жизни? Ребёнку необходимо, чтобы вы на него приветливо взглянули, ему хочется услышать: “Как здорово, что ты у нас есть!”, “Я люблю, когда ты дома”, “Рада тебя видеть”, и при этом ласково прикоснулись, погладили, обня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G:\kosh80.gif"/>
          <p:cNvPicPr/>
          <p:nvPr/>
        </p:nvPicPr>
        <p:blipFill>
          <a:blip r:embed="rId1"/>
          <a:stretch/>
        </p:blipFill>
        <p:spPr>
          <a:xfrm>
            <a:off x="3214800" y="4786200"/>
            <a:ext cx="142848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428760" y="214200"/>
            <a:ext cx="83581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ти решения конфликтной ситу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1.Измените отношение к своему ребен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Станьте терпимее к недостаткам подрост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2.Постарайтесь восстановить доверие и уважение ребенка к самому себе. Найдите и развивайте в сыне или дочери те достоинства, которые свойственны их нату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3.Не унижайте, а поддерживайте. Не вступайте в бесконечные споры, не допускайте молчаливой, “холодной”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4. </a:t>
            </a:r>
            <a:r>
              <a:rPr b="0" lang="ru-RU" sz="2800" spc="-1" strike="noStrike" u="sng">
                <a:solidFill>
                  <a:srgbClr val="1e1401"/>
                </a:solidFill>
                <a:uFillTx/>
                <a:latin typeface="Times New Roman"/>
                <a:ea typeface="Times New Roman"/>
              </a:rPr>
              <a:t>И главное </a:t>
            </a:r>
            <a:r>
              <a:rPr b="0" lang="ru-RU" sz="2800" spc="-1" strike="noStrike">
                <a:solidFill>
                  <a:srgbClr val="1e1401"/>
                </a:solidFill>
                <a:latin typeface="Times New Roman"/>
                <a:ea typeface="Times New Roman"/>
              </a:rPr>
              <a:t>- уверьте ребенка в том, что вы всегда будете его любить, что вы гордитесь тем-то и тем-то, чего в вас недостает. Поймите, что ему трудно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428760" y="642960"/>
            <a:ext cx="807228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выхода из конфли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хода из конфликтной ситуации мо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выход своим чувствам, предупреждая об этом друг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авторитетного третьего, кто поможет разобраться в конфлик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ить себя на место другого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ть право на существование иной точки з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твердым, говоря о проблеме, и мягким с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baby18[1]"/>
          <p:cNvPicPr/>
          <p:nvPr/>
        </p:nvPicPr>
        <p:blipFill>
          <a:blip r:embed="rId1"/>
          <a:stretch/>
        </p:blipFill>
        <p:spPr>
          <a:xfrm>
            <a:off x="3071880" y="514368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357120" y="-343080"/>
            <a:ext cx="792972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Притча о бабо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В древности жил-был один мудрец, к которому люди приходили за советом. Всем он помогал, люди ему доверяли и очень уважали его возраст, жизненный опыт и мудрость. И вот однажды один завистливый человек решил опозорить мудреца в присутствии многих людей. Завистник и хитрец придумал целый план, как это сделать: </a:t>
            </a:r>
            <a:r>
              <a:rPr b="0" i="1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“</a:t>
            </a:r>
            <a:r>
              <a:rPr b="0" i="1" lang="ru-RU" sz="2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Я поймаю бабочку и в закрытых ладонях принесу мудрецу, потом спрошу его, как он думает, живая у меня в руках бабочка или мертвая. Если мудрец скажет, что живая, я сомкну плотно ладони, раздавлю бабочку и, раскрыв руки, скажу, что наш великий мудрец ошибся. Если мудрец скажет, что бабочка мертвая, я распахну ладони, бабочка вылетит живая и невредимая и скажу, что наш великий мудрец ошибся</a:t>
            </a:r>
            <a:r>
              <a:rPr b="0" i="1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”</a:t>
            </a:r>
            <a:r>
              <a:rPr b="0" i="1" lang="ru-RU" sz="2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. Так и сделал завистник, поймал бабочку и пошел к мудрецу. Когда он спросил мудреца, какая у него в ладонях бабочка, мудрец ответил: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“</a:t>
            </a:r>
            <a:r>
              <a:rPr b="0" i="1" lang="ru-RU" sz="2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Все в твоих руках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”</a:t>
            </a:r>
            <a:r>
              <a:rPr b="0" i="1" lang="ru-RU" sz="2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.</a:t>
            </a:r>
            <a:br>
              <a:rPr sz="2000"/>
            </a:br>
            <a:r>
              <a:rPr b="0" i="1" lang="ru-RU" sz="2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 Так каждый человек, сделав свой выбор, сам определяет свою судь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Monotype Corsiva"/>
              </a:rPr>
              <a:t>Судьба вашего ребенк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Monotype Corsiva"/>
              </a:rPr>
              <a:t>ваших рука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ROSES001"/>
          <p:cNvPicPr/>
          <p:nvPr/>
        </p:nvPicPr>
        <p:blipFill>
          <a:blip r:embed="rId1"/>
          <a:stretch/>
        </p:blipFill>
        <p:spPr>
          <a:xfrm>
            <a:off x="3000240" y="4929120"/>
            <a:ext cx="2090880" cy="167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 rot="10800000">
            <a:off x="0" y="6858000"/>
            <a:ext cx="82152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Заголовок 7" descr=""/>
          <p:cNvPicPr/>
          <p:nvPr/>
        </p:nvPicPr>
        <p:blipFill>
          <a:blip r:embed="rId1"/>
          <a:stretch/>
        </p:blipFill>
        <p:spPr>
          <a:xfrm>
            <a:off x="182520" y="566640"/>
            <a:ext cx="7712280" cy="47973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0" y="19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3:44:41Z</dcterms:created>
  <dc:creator>МОУ Зональная СОШ</dc:creator>
  <dc:description/>
  <dc:language>en-US</dc:language>
  <cp:lastModifiedBy>Игорь</cp:lastModifiedBy>
  <dcterms:modified xsi:type="dcterms:W3CDTF">2010-10-04T19:14:23Z</dcterms:modified>
  <cp:revision>35</cp:revision>
  <dc:subject/>
  <dc:title>Слайд 1</dc:title>
</cp:coreProperties>
</file>