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media/image9.gif" ContentType="image/gif"/>
  <Override PartName="/ppt/media/image10.gif" ContentType="image/gif"/>
  <Override PartName="/ppt/media/image11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B7F-D105-4E5E-85E8-115F5B94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BFB-9775-42EF-91F9-F0BEB37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B05-1C62-4F7A-936E-3852F505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E6C-98E0-421B-ABD1-20EB6F77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509-57EB-4C95-81CF-364D2BD2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ADCB-88B8-4DFF-8D3D-402B4640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EDB-0739-4BE2-B323-F6D7FBE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A29-125D-448F-B800-943D48EB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C0ED-FC7B-41F4-A186-C12C80A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D755-F2E4-44B6-A8D6-D384316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2D69-A7B0-476E-A4A4-0830AA24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E2F-DC75-4AAB-BA14-C947C01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C5A-D3C4-4065-8ACC-844C23A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3DE8-8FE2-4DD1-BEC1-1A28FBC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8E6-5962-4B2A-8AD2-51998DFD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75D-0E56-4C20-B89B-ED84DED3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C1B-CC38-48D1-A1FF-552B03D2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0446-528E-4D46-9B0E-0599150B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E0BD-0A41-47E9-98EE-5C2DE53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F021-F53E-4FF6-A1FA-ACE4387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2C73-922C-4D0C-8CD1-88EB52A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B2E3-5501-45AE-9E53-6086B614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B51-B70E-4F32-9BB4-FB40EAEB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C3FD-3D3D-41B8-971F-3F26951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FC3B-3B0F-49AE-B017-EE5A7B7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E2C5-F906-465E-B536-A1563AD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367D-F1CE-4F9F-8DE3-FBDDB6F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ED3C-1C42-44BA-91A2-14A470F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0AA2-3FE6-4A0B-89B8-06BE21B9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17A8-599E-4FC8-9D77-5752B0C5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F757-A9D2-4642-97A8-9D8E790F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2612-42BE-4A62-8952-D0AA3D69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5B91-7BA4-41C8-8E0B-DC15D7C4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D6D-2D93-4C49-8C76-FA918AE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F338-DD64-4A6B-B863-D282AAD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DCD9-022B-48DF-9DC6-0BE78D9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39A6-B9BD-4D86-A868-7599606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09C4-7D0D-428D-A633-C4C62453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B19B-848A-4635-BFEB-124D958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898C-135F-4E53-A469-B58F535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D472-838F-467B-AE9D-07A7D57A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0862-0863-4003-A8A2-486E8B6F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D748-9B55-49CE-9925-ADBBBA4E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3666-8A4B-45D0-911D-1BFCDB92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23C-9EA9-4FD8-A2AC-BED89835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5496-6E8F-49B6-A27E-1A71EA5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C92DF-0E45-43A4-B0F6-4AFF4D5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2D9A-1FB3-4056-94C9-EDEE7E6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C925-CE75-4345-B04A-12C980C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035F-5375-4244-9271-68EDA19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BB7A-2E0B-4525-AC6F-BAFBC75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CC7C-0536-4752-8566-36D75E7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6721-838F-4E75-9D8A-97C63C2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FE41A-2FE3-4796-AD4A-52A67959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FAE3-9A1B-425E-9096-27A25A44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BF7-C6AA-46E8-A86E-7BD3806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35836-D16C-45BF-90FC-EF3E5621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560-4D7D-446C-9307-E43CE79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DB4-D0EF-4B47-AFE9-922691D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BC3-0B34-409E-AB64-9E4D8A1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A50-2EC7-4261-BFB0-392AB4533D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1BB0-2B84-4411-94F1-55459243C7D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3672-7705-4365-A5E9-7BCFFA309BE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A9F1-1F21-459C-BDC4-8B938CA972F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2EC4-0F0E-419D-84D4-6EB37AF85CE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822240" y="109440"/>
            <a:ext cx="7066080" cy="19573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900000" y="1268280"/>
            <a:ext cx="74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000080" y="1052640"/>
            <a:ext cx="7500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ительско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2771640" y="3170160"/>
            <a:ext cx="3888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рани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286000" y="48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 и провела  учитель Бишевской СОШ Апастовского района РТ Алексеева Галина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8000" y="1484280"/>
            <a:ext cx="81867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Родители – главные «проектировщики, конструкторы и строители» личности ребёнка. Вот почему важно знать, насколько успешно мы справляемся с такой сложной ролью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1" descr="cr_LorrieMathesonNesbitt-TheDrawingLesson"/>
          <p:cNvPicPr/>
          <p:nvPr/>
        </p:nvPicPr>
        <p:blipFill>
          <a:blip r:embed="rId2"/>
          <a:stretch/>
        </p:blipFill>
        <p:spPr>
          <a:xfrm>
            <a:off x="1714680" y="3857760"/>
            <a:ext cx="4937040" cy="28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85840" y="24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book023"/>
          <p:cNvPicPr/>
          <p:nvPr/>
        </p:nvPicPr>
        <p:blipFill>
          <a:blip r:embed="rId1"/>
          <a:stretch/>
        </p:blipFill>
        <p:spPr>
          <a:xfrm>
            <a:off x="2357280" y="5433840"/>
            <a:ext cx="1873440" cy="1424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1071720" y="78480"/>
            <a:ext cx="7358040" cy="67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для определения уровня заботы о собственном ребё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отве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-й - категорически не согласе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- мне трудно с этим согласи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-й - может быть, это и вер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-й - верно, я с этим согл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т и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Родители должны предвидеть все проблемы, с которыми может столкнуться их ребёнок, чтобы помочь ему в их преодо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Для того чтобы быть хорошей матерью, достаточно общения только с собст­венной семьё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Маленького ребёнка следует всегда держать при себе, чтобы предупредить его падения и уши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Если ребёнок делает, что он обязан делать, то он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ходится на правильном жизненном пу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Ребёнок не должен заниматься теми видами спорта, которые могут привести к физическим увечь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Воспитание ребёнка - труд тяжёлый и зачастую неблагодар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У ребёнка не должно быть тайн от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Если мать не успевает уделять время на воспитание детей из-з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ессиональн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ятельности, значит, отец плохо содержит семью матери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Любовь родителей ребёнка не испор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Родители должны ограждать ребёнка от негативных сторон реально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Главное, чем должен заниматься ребёнок, - это учё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Мать - главное лицо в до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.Семья должна жить под девизом: «Все лучшее - детям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4.Защищать ребёнка от любой инфекции можно путём ограничения его контактов с окружающ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.Родители должны помочь ребёнку в определении круга его друзей и прия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теперь подводим ит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357120" y="511560"/>
            <a:ext cx="8572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фликт оп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, опека - это забота, ограждение от трудностей. Подростки могут быть в таких семьях безынициативны, покорны, подавлены. Они часто отстранены от решения вопросов, которые касаются их лично и всей семьи. Вялое безразличие подростка иногда превращается в “диктат младшег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57120" y="31431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Конфликт разрешится тогда, когда родители постараются изменить свое поведение. Не отказывайтесь от контроля, без которого невозможно воспитание человека, но сведите опеку к минимуму. Не требуйте от ребенка только правильных поступков, примите его таким, какой он 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Помогайте, но не старайтесь решать за него все проблемы. Стимулируйте общение со сверстниками. Дозируйте опеку, дозируйте свободу, дозируйте похвалу и порицание - это один из выходов в дан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14200" y="43632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любви, в принадлежности другому – это одна из самых главных человеческих потребностей. Это значит, что человеку важно чувствовать, что он кому-то н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214200" y="235728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Как это проявляется в жизни? Ребёнку необходимо, чтобы вы на него приветливо взглянули, ему хочется услышать: “Как здорово, что ты у нас есть!”, “Я люблю, когда ты дома”, “Рада тебя видеть”, и при этом ласково прикоснулись, погладили, обн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G:\kosh80.gif"/>
          <p:cNvPicPr/>
          <p:nvPr/>
        </p:nvPicPr>
        <p:blipFill>
          <a:blip r:embed="rId1"/>
          <a:stretch/>
        </p:blipFill>
        <p:spPr>
          <a:xfrm>
            <a:off x="3214800" y="4786200"/>
            <a:ext cx="142848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28760" y="214200"/>
            <a:ext cx="83581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 решения конфликтной ситу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1.Измените отношение к своему реб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Станьте терпимее к недостаткам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2.Постарайтесь восстановить доверие и уважение ребенка к самому себе. Найдите и развивайте в сыне или дочери те достоинства, которые свойственны их на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3.Не унижайте, а поддерживайте. Не вступайте в бесконечные споры, не допускайте молчаливой, “холодной”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 u="sng">
                <a:solidFill>
                  <a:srgbClr val="1e1401"/>
                </a:solidFill>
                <a:uFillTx/>
                <a:latin typeface="Times New Roman"/>
                <a:ea typeface="Times New Roman"/>
              </a:rPr>
              <a:t>И главное </a:t>
            </a: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- уверьте ребенка в том, что вы всегда будете его любить, что вы гордитесь тем-то и тем-то, чего в вас недостает. Поймите, что ему трудн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428760" y="642960"/>
            <a:ext cx="80722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выхода из конфли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хода из конфликтной ситуации мо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выход своим чувствам, предупреждая об этом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авторитетного третьего, кто поможет разобраться в конфлик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себя на место другого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ть право на существование иной точки з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твердым, говоря о проблеме, и мягким с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baby18[1]"/>
          <p:cNvPicPr/>
          <p:nvPr/>
        </p:nvPicPr>
        <p:blipFill>
          <a:blip r:embed="rId1"/>
          <a:stretch/>
        </p:blipFill>
        <p:spPr>
          <a:xfrm>
            <a:off x="3071880" y="51436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357120" y="-343080"/>
            <a:ext cx="7929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Притча о баб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В древности жил-был один мудрец, к которому люди приходили за советом. Всем он помогал, люди ему доверяли и очень уважали его возраст, жизненный опыт и мудрость. И вот однажды один завистливый человек решил опозорить мудреца в присутствии многих людей. Завистник и хитрец придумал целый план, как это сделать: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“</a:t>
            </a: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Я поймаю бабочку и в закрытых ладонях принесу мудрецу, потом спрошу его, как он думает, живая у меня в руках бабочка или мертвая. Если мудрец скажет, что живая, я сомкну плотно ладони, раздавлю бабочку и, раскрыв руки, скажу, что наш великий мудрец ошибся. Если мудрец скажет, что бабочка мертвая, я распахну ладони, бабочка вылетит живая и невредимая и скажу, что наш великий мудрец ошибся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”</a:t>
            </a: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. Так и сделал завистник, поймал бабочку и пошел к мудрецу. Когда он спросил мудреца, какая у него в ладонях бабочка, мудрец ответил: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“</a:t>
            </a:r>
            <a:r>
              <a:rPr b="0" i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се в твоих руках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”</a:t>
            </a:r>
            <a:r>
              <a:rPr b="0" i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.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Так каждый человек, сделав свой выбор, сам определяет свою судь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</a:rPr>
              <a:t>Судьба вашего ребенк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</a:rPr>
              <a:t>ваших рук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ROSES001"/>
          <p:cNvPicPr/>
          <p:nvPr/>
        </p:nvPicPr>
        <p:blipFill>
          <a:blip r:embed="rId1"/>
          <a:stretch/>
        </p:blipFill>
        <p:spPr>
          <a:xfrm>
            <a:off x="3000240" y="4929120"/>
            <a:ext cx="2090880" cy="167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 rot="10800000">
            <a:off x="0" y="6858000"/>
            <a:ext cx="82152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Заголовок 7" descr=""/>
          <p:cNvPicPr/>
          <p:nvPr/>
        </p:nvPicPr>
        <p:blipFill>
          <a:blip r:embed="rId1"/>
          <a:stretch/>
        </p:blipFill>
        <p:spPr>
          <a:xfrm>
            <a:off x="182520" y="566640"/>
            <a:ext cx="7712280" cy="4797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0" y="19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3:44:41Z</dcterms:created>
  <dc:creator>МОУ Зональная СОШ</dc:creator>
  <dc:description/>
  <dc:language>en-US</dc:language>
  <cp:lastModifiedBy>Игорь</cp:lastModifiedBy>
  <dcterms:modified xsi:type="dcterms:W3CDTF">2010-10-04T19:14:23Z</dcterms:modified>
  <cp:revision>35</cp:revision>
  <dc:subject/>
  <dc:title>Слайд 1</dc:title>
</cp:coreProperties>
</file>