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png" ContentType="image/png"/>
  <Override PartName="/ppt/media/image7.jpeg" ContentType="image/jpeg"/>
  <Override PartName="/ppt/media/image9.gif" ContentType="image/gif"/>
  <Override PartName="/ppt/media/image10.gif" ContentType="image/gif"/>
  <Override PartName="/ppt/media/image11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BDA-9319-4648-AA94-01D2129D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17B-FE98-4897-9204-3C5FAF0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441-C4D9-49BB-B7CB-6BA521B8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B42-C15A-4B1A-9CE7-4F2D4F89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AAA4-C095-4760-B849-8A62B4C9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5BC1-846C-4BA6-A167-8CC78401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1923-4267-4F2C-AC30-5CF91E7A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E816-719F-4CAC-AD42-8D28BC79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DC9B-D826-4036-ADB1-10632A3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56CE-F770-46D0-8821-1F845AB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55F4-4F29-4CEA-905D-ABCB27A1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043-75F6-408E-95A7-B3698896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6ADA-8DD7-45E4-87C8-D6970470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A29B-05FB-433F-9A7A-A3309C2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5752-1416-43A9-8395-4B0D00AB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5188-EF0B-4A29-8183-58390100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CF59-7DC0-4B60-8F13-DE079470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D3B9-588D-44E7-B223-AA4E6A86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0C9D-3C8F-432B-8B7D-D40448FB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2997-829A-4CFF-9574-519473D3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604F-20A2-4410-9313-17BDAE07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F807-CE7A-459C-9F40-8883A036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874-5169-4955-9E66-0CE98F87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36734-1383-43C0-B3A2-B24A4011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07A6-DF63-4F77-BE10-79C0FEF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48B8-4A1E-47DC-93A3-16A17E0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5211-2B88-4D41-AFF1-AEBA449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0DDA-4B85-4C31-8604-B369ACAC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A12E-7464-4AB1-BA1F-0CCADE0F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5CC1-062C-47E7-815C-A07776FB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C0A2-94A8-4B06-904B-22FC5BC8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67819-FABD-40C6-B06E-7AA94CE2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B3CF-25CA-48C7-9AD6-4223C14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CC5-E0D3-41BF-9308-79D75536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81217-8E5E-4668-B2CF-4FA3986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A96DF-A503-4ADA-ABB9-96DACB20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F245-D9B5-47E0-95A6-04873A91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3629-445C-425B-87FB-243509A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2426-9C66-4661-8E39-BB2E9178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4063-5BFD-489F-8362-3B4D9E1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BFA4-A8A9-4E01-A1CF-1F832341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10CA-6BC0-45BF-AEB6-2C84FFE1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5A9F-F6A7-4A19-86AE-FCD78DAD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DAF48-8488-44EE-B79C-93DC65AE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A6F-65B9-46CE-9D6C-14223E66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1623D-F8B8-4310-B376-6F00062E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35B6-B777-4DC3-A701-FCACA682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95FE6-7DE5-409B-BAA8-1B6E494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7D99-6D09-41B9-84BB-EA5D670E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7AF4-CD31-4852-BAC2-FA993874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9AED1-F1C1-4B95-8E88-AF54820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37F9-B151-4F21-AD41-0CC2D26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A5CC-ECEB-4A8A-AD64-2BC61D23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1060-68CA-486B-9197-2379D7AB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FBA7-679B-48A4-895E-549A354E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0D2-EFBC-4D48-8E7D-E6F1595F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795C-D2C4-48F2-8476-CCC48B01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9C6-DF76-4345-9EBF-EDDB0270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93F-E3DB-4419-A836-6CAC8BA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9B1-CE13-4424-AAA4-A444FEE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47B3-D48B-4B2E-858F-1BC05716229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6DE8-B42D-45AA-9967-8756A3E240D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B14D-5F8F-4626-8D7B-E6070FBD3A6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B684-CCB3-46DD-BC15-38B21747B73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9B7D-0C76-4422-8391-1ECC6BD054C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822240" y="109440"/>
            <a:ext cx="7066080" cy="19573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900000" y="1268280"/>
            <a:ext cx="74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000080" y="1052640"/>
            <a:ext cx="7500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ительско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2771640" y="3170160"/>
            <a:ext cx="3888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брани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2286000" y="481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 и провела  учитель Бишевской СОШ Апастовского района РТ Алексеева Галина Юр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8000" y="1484280"/>
            <a:ext cx="81867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6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Родители – главные «проектировщики, конструкторы и строители» личности ребёнка. Вот почему важно знать, насколько успешно мы справляемся с такой сложной ролью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1" descr="cr_LorrieMathesonNesbitt-TheDrawingLesson"/>
          <p:cNvPicPr/>
          <p:nvPr/>
        </p:nvPicPr>
        <p:blipFill>
          <a:blip r:embed="rId2"/>
          <a:stretch/>
        </p:blipFill>
        <p:spPr>
          <a:xfrm>
            <a:off x="1714680" y="3857760"/>
            <a:ext cx="4937040" cy="28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285840" y="24717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book023"/>
          <p:cNvPicPr/>
          <p:nvPr/>
        </p:nvPicPr>
        <p:blipFill>
          <a:blip r:embed="rId1"/>
          <a:stretch/>
        </p:blipFill>
        <p:spPr>
          <a:xfrm>
            <a:off x="2357280" y="5433840"/>
            <a:ext cx="1873440" cy="14241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1071720" y="78480"/>
            <a:ext cx="7358040" cy="67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для определения уровня заботы о собственном ребё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отве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-й - категорически не согласе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- мне трудно с этим согласи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-й - может быть, это и вер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-й - верно, я с этим согла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вот и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Родители должны предвидеть все проблемы, с которыми может столкнуться их ребёнок, чтобы помочь ему в их преодол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Для того чтобы быть хорошей матерью, достаточно общения только с собст­венной семьё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Маленького ребёнка следует всегда держать при себе, чтобы предупредить его падения и уши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Если ребёнок делает, что он обязан делать, то он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ходится на правильном жизненном пу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Ребёнок не должен заниматься теми видами спорта, которые могут привести к физическим увечь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Воспитание ребёнка - труд тяжёлый и зачастую неблагодар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У ребёнка не должно быть тайн от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Если мать не успевает уделять время на воспитание детей из-з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ессиональн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ятельности, значит, отец плохо содержит семью матери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Любовь родителей ребёнка не испор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Родители должны ограждать ребёнка от негативных сторон реально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Главное, чем должен заниматься ребёнок, - это учё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Мать - главное лицо в до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3.Семья должна жить под девизом: «Все лучшее - детям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4.Защищать ребёнка от любой инфекции можно путём ограничения его контактов с окружающ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5.Родители должны помочь ребёнку в определении круга его друзей и прия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теперь подводим ит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357120" y="511560"/>
            <a:ext cx="85726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фликт оп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ти, опека - это забота, ограждение от трудностей. Подростки могут быть в таких семьях безынициативны, покорны, подавлены. Они часто отстранены от решения вопросов, которые касаются их лично и всей семьи. Вялое безразличие подростка иногда превращается в “диктат младшег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357120" y="314316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Конфликт разрешится тогда, когда родители постараются изменить свое поведение. Не отказывайтесь от контроля, без которого невозможно воспитание человека, но сведите опеку к минимуму. Не требуйте от ребенка только правильных поступков, примите его таким, какой он 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Помогайте, но не старайтесь решать за него все проблемы. Стимулируйте общение со сверстниками. Дозируйте опеку, дозируйте свободу, дозируйте похвалу и порицание - это один из выходов в дан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14200" y="43632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любви, в принадлежности другому – это одна из самых главных человеческих потребностей. Это значит, что человеку важно чувствовать, что он кому-то н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214200" y="2357280"/>
            <a:ext cx="871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Как это проявляется в жизни? Ребёнку необходимо, чтобы вы на него приветливо взглянули, ему хочется услышать: “Как здорово, что ты у нас есть!”, “Я люблю, когда ты дома”, “Рада тебя видеть”, и при этом ласково прикоснулись, погладили, обня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G:\kosh80.gif"/>
          <p:cNvPicPr/>
          <p:nvPr/>
        </p:nvPicPr>
        <p:blipFill>
          <a:blip r:embed="rId1"/>
          <a:stretch/>
        </p:blipFill>
        <p:spPr>
          <a:xfrm>
            <a:off x="3214800" y="4786200"/>
            <a:ext cx="142848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28760" y="214200"/>
            <a:ext cx="83581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 решения конфликтной ситу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1.Измените отношение к своему ребе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Станьте терпимее к недостаткам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2.Постарайтесь восстановить доверие и уважение ребенка к самому себе. Найдите и развивайте в сыне или дочери те достоинства, которые свойственны их нату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3.Не унижайте, а поддерживайте. Не вступайте в бесконечные споры, не допускайте молчаливой, “холодной”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 u="sng">
                <a:solidFill>
                  <a:srgbClr val="1e1401"/>
                </a:solidFill>
                <a:uFillTx/>
                <a:latin typeface="Times New Roman"/>
                <a:ea typeface="Times New Roman"/>
              </a:rPr>
              <a:t>И главное </a:t>
            </a: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- уверьте ребенка в том, что вы всегда будете его любить, что вы гордитесь тем-то и тем-то, чего в вас недостает. Поймите, что ему трудн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428760" y="642960"/>
            <a:ext cx="80722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выхода из конфли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хода из конфликтной ситуации мо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выход своим чувствам, предупреждая об этом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авторитетного третьего, кто поможет разобраться в конфлик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ть себя на место другого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ть право на существование иной точки з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твердым, говоря о проблеме, и мягким с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baby18[1]"/>
          <p:cNvPicPr/>
          <p:nvPr/>
        </p:nvPicPr>
        <p:blipFill>
          <a:blip r:embed="rId1"/>
          <a:stretch/>
        </p:blipFill>
        <p:spPr>
          <a:xfrm>
            <a:off x="3071880" y="51436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357120" y="-343080"/>
            <a:ext cx="792972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Притча о бабо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В древности жил-был один мудрец, к которому люди приходили за советом. Всем он помогал, люди ему доверяли и очень уважали его возраст, жизненный опыт и мудрость. И вот однажды один завистливый человек решил опозорить мудреца в присутствии многих людей. Завистник и хитрец придумал целый план, как это сделать: 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“</a:t>
            </a: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Я поймаю бабочку и в закрытых ладонях принесу мудрецу, потом спрошу его, как он думает, живая у меня в руках бабочка или мертвая. Если мудрец скажет, что живая, я сомкну плотно ладони, раздавлю бабочку и, раскрыв руки, скажу, что наш великий мудрец ошибся. Если мудрец скажет, что бабочка мертвая, я распахну ладони, бабочка вылетит живая и невредимая и скажу, что наш великий мудрец ошибся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”</a:t>
            </a: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. Так и сделал завистник, поймал бабочку и пошел к мудрецу. Когда он спросил мудреца, какая у него в ладонях бабочка, мудрец ответил: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“</a:t>
            </a:r>
            <a:r>
              <a:rPr b="0" i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Все в твоих руках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”</a:t>
            </a:r>
            <a:r>
              <a:rPr b="0" i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.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Так каждый человек, сделав свой выбор, сам определяет свою судь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</a:rPr>
              <a:t>Судьба вашего ребенк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</a:rPr>
              <a:t>ваших рук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ROSES001"/>
          <p:cNvPicPr/>
          <p:nvPr/>
        </p:nvPicPr>
        <p:blipFill>
          <a:blip r:embed="rId1"/>
          <a:stretch/>
        </p:blipFill>
        <p:spPr>
          <a:xfrm>
            <a:off x="3000240" y="4929120"/>
            <a:ext cx="2090880" cy="167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 rot="10800000">
            <a:off x="0" y="6858000"/>
            <a:ext cx="82152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Заголовок 7" descr=""/>
          <p:cNvPicPr/>
          <p:nvPr/>
        </p:nvPicPr>
        <p:blipFill>
          <a:blip r:embed="rId1"/>
          <a:stretch/>
        </p:blipFill>
        <p:spPr>
          <a:xfrm>
            <a:off x="182520" y="566640"/>
            <a:ext cx="7712280" cy="4797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0" y="19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3:44:41Z</dcterms:created>
  <dc:creator>МОУ Зональная СОШ</dc:creator>
  <dc:description/>
  <dc:language>en-US</dc:language>
  <cp:lastModifiedBy>Игорь</cp:lastModifiedBy>
  <dcterms:modified xsi:type="dcterms:W3CDTF">2010-10-04T19:14:23Z</dcterms:modified>
  <cp:revision>35</cp:revision>
  <dc:subject/>
  <dc:title>Слайд 1</dc:title>
</cp:coreProperties>
</file>