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4A7-7EEB-4EE3-A8D2-C4292AD1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503-CC1D-45F6-91D5-FE1AC51F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1AE-54D4-4CB1-AF86-53C0824B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805-2145-4F8E-A56D-2FB938D3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474-82A3-419B-8B60-9857C603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D61-A8DC-4FF9-82B3-5238E13E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0FC-2C88-4BE5-A903-DA896DBB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06BD-B7DF-4CDE-87E1-053DDCD8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80C-BAFC-44ED-AD64-9F81A2E2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BC5B-3222-4387-ABDC-179C1AA8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80E6-DE3C-4478-A8BD-0B055145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840E-9F91-496E-B68C-5838EAFB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E0D1-78EB-4D34-AFA9-BA87A7503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radley Hand ITC"/>
              </a:rPr>
              <a:t>Иоганн Себастьян Бах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Bradley Hand ITC"/>
              </a:rPr>
              <a:t>«Итальянский концерт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0040" y="4267080"/>
            <a:ext cx="5791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Bradley Hand ITC"/>
              </a:rPr>
              <a:t>Не ручей - море ему им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Bradley Hand ITC"/>
              </a:rPr>
              <a:t>Л.Бетхов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059" r="0" b="0"/>
          <a:stretch/>
        </p:blipFill>
        <p:spPr>
          <a:xfrm>
            <a:off x="100080" y="2666880"/>
            <a:ext cx="3446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56386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Энергия движения, жизнерадостная устремлённость </a:t>
            </a: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Противопоставляется певучей мечтательности </a:t>
            </a: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 части, которая напоминает протяжную, печальную, чисто итальянскую мелод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86400" y="914400"/>
            <a:ext cx="3581280" cy="2749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629400" y="3505320"/>
            <a:ext cx="2276640" cy="2971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029200" y="1676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172200" y="3733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37406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772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1426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Вслушайся в мелодию и аккомпанемент «Итальянского концерта». Какой оркестровый инструмент мог бы вести мелодию, а какие инструменты – аккомпанирующие голос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6868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Большинство слушателей музыки И.С.Баха, объясняя свои ощущения от его музыки, упоминали чаще всего такие слова, как </a:t>
            </a:r>
            <a:r>
              <a:rPr b="1" lang="en-US" sz="4800" spc="-1" strike="noStrike">
                <a:solidFill>
                  <a:srgbClr val="000000"/>
                </a:solidFill>
                <a:latin typeface="Bradley Hand ITC"/>
              </a:rPr>
              <a:t>"очищение", "умиротворение", "прояснение", "утешени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" 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 Сам же Иоганн Себастьян Бах сказал об этом еще более кратк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00200" y="5002200"/>
            <a:ext cx="7010280" cy="1703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91320" y="990720"/>
            <a:ext cx="3124080" cy="410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280" y="2209680"/>
            <a:ext cx="5410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"Цель музыки - трогать сердца"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733920" y="1066320"/>
            <a:ext cx="5410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Иоганн Себастьян Бах - великий немецкий композитор XVIII 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Интерес к музыке Баха возник почти сто лет спустя после его смер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Музыканты всего мира играют музыку Баха, поражаясь её красоте и вдохновению, мастерству и совершенству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3238560" cy="4267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17520" y="5272560"/>
            <a:ext cx="245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(1685-1750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8584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Бах с особой любовью изучал и широко использовал в своих произведениях народные немецкие песни и тан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Он был лучшим среди своих современников исполнителем на органе и клавеси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успех не вскружил Баху голову, он всегда оставался очень скромным и трудолюбивым челове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31332" t="-900" r="0" b="0"/>
          <a:stretch/>
        </p:blipFill>
        <p:spPr>
          <a:xfrm>
            <a:off x="104760" y="914400"/>
            <a:ext cx="3781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66720" y="1905120"/>
            <a:ext cx="4876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radley Hand ITC"/>
              </a:rPr>
              <a:t>Вильгельм Фридеман, Филипп Эммануил, Иоганн Христиан - оказались талантливыми музыкантами. Еще при жизни отца они стали известными композиторам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5409720"/>
            <a:ext cx="2971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И.С. Бах с тремя сынов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080" y="2209680"/>
            <a:ext cx="4476600" cy="3057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1520" y="914400"/>
            <a:ext cx="904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radley Hand ITC"/>
              </a:rPr>
              <a:t>Отрадой в его жизни были творчество и семья. Подросшие сыновья -</a:t>
            </a:r>
            <a:r>
              <a:rPr b="1" lang="en-US" sz="3600" spc="-1" strike="noStrike">
                <a:solidFill>
                  <a:srgbClr val="000000"/>
                </a:solidFill>
                <a:latin typeface="Bradley Hand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9480" y="-31680"/>
            <a:ext cx="8001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47920" y="5943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Утро в семье Баха, отец семейства Иоганн Себастьян за клавесином. Картина ХІХ века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47920" y="990720"/>
            <a:ext cx="75438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Он много ездил по своей стране и никогда не выезжал за её предел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112680" y="838080"/>
            <a:ext cx="423072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657600" y="990720"/>
            <a:ext cx="5486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radley Hand ITC"/>
              </a:rPr>
              <a:t>Среди его произведений есть</a:t>
            </a:r>
            <a:r>
              <a:rPr b="1" lang="ru-RU" sz="36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Bradley Hand ITC"/>
              </a:rPr>
              <a:t>«Итальянский концерт»,</a:t>
            </a:r>
            <a:r>
              <a:rPr b="1" lang="ru-RU" sz="3600" spc="-1" strike="noStrike">
                <a:solidFill>
                  <a:srgbClr val="000000"/>
                </a:solidFill>
                <a:latin typeface="Bradley Hand ITC"/>
              </a:rPr>
              <a:t> написанный для клавира. (клавишные          инструменты – клавикорд, клавесин, фортепиано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3684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«Итальянский концерт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>
              <a:lnSpc>
                <a:spcPct val="90000"/>
              </a:lnSpc>
              <a:spcBef>
                <a:spcPts val="1001"/>
              </a:spcBef>
              <a:buClr>
                <a:srgbClr val="6633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Bradley Hand ITC"/>
              </a:rPr>
              <a:t>Использовал опыт итальянских масте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>
              <a:lnSpc>
                <a:spcPct val="90000"/>
              </a:lnSpc>
              <a:spcBef>
                <a:spcPts val="1001"/>
              </a:spcBef>
              <a:buClr>
                <a:srgbClr val="6633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Bradley Hand ITC"/>
              </a:rPr>
              <a:t>Трёхчастное стро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Bradley Hand ITC"/>
              </a:rPr>
              <a:t>Контраст движения</a:t>
            </a:r>
            <a:r>
              <a:rPr b="1" lang="en-US" sz="3600" spc="-1" strike="noStrike">
                <a:solidFill>
                  <a:srgbClr val="663300"/>
                </a:solidFill>
                <a:latin typeface="Bradley Hand ITC"/>
              </a:rPr>
              <a:t> (быстрое –медленное - быстро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Bradley Hand ITC"/>
              </a:rPr>
              <a:t>Контраст ладовой окраски</a:t>
            </a:r>
            <a:r>
              <a:rPr b="1" lang="en-US" sz="3600" spc="-1" strike="noStrike">
                <a:solidFill>
                  <a:srgbClr val="663300"/>
                </a:solidFill>
                <a:latin typeface="Bradley Hand ITC"/>
              </a:rPr>
              <a:t> (мажор – минор - мажор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5400" y="1905120"/>
            <a:ext cx="2647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77240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3-29T11:42:1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