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825-BFFA-46B9-8E00-00EE8CBB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FC1-355B-4200-A00C-23F020E2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B43-3DE4-48DF-9DC7-5C696A50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C08-ABB2-4202-B6AE-5B8A34D4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0E881-22C3-452F-827B-A505AF01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B18B9-6395-4330-8199-0271833C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AA5A0-D4EF-477C-B35D-EEC227C3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F8C45-EC4C-41E4-B155-87CF5C7E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03FD3-BC83-4E2A-A5FF-3ED9DAC1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8E95F-8375-48F2-BE1C-40681DBE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AE2C0-B93B-4B02-9F90-88B714EF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FF5-C469-46CB-8E2D-1878B8EA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D7969-860B-4901-B478-6D8EA736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E371B-0D48-46B4-890E-1C354FF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9FDA2-39F3-40D9-9249-414CA7AC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56EC8-1C9A-4F38-B7BB-0F8D067E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3BC88-EED8-4861-89E1-2DB1D96B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A88-C98F-4DBA-8F64-4A8DE0ED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7E1-EBA1-42CC-B1CF-6C135780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F93-5B3D-4B04-8B9E-89FA877B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BD2-F5F1-49C9-9BF9-9E414FE9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C6C-A4D3-4800-8627-2A953F74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D80-6004-4E8E-B257-DD3DAC28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6CE-A4F0-4407-B58E-51EDF209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0F15-ED2D-4461-A345-5F26E5E2C6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6198-C0D6-4A9C-BAE0-9C581F24DD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Геолог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рное Уч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детский корп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нкт-Петербургский Горный 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29654" r="-7297" b="31962"/>
          <a:stretch/>
        </p:blipFill>
        <p:spPr>
          <a:xfrm>
            <a:off x="0" y="3860640"/>
            <a:ext cx="96854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Иерархическая систематизация объектов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логия исследует планету на разных уровнях организации вещества, в  связи с этим объектами исследования являю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Атомы (объекты исследования физик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Молекулы (объект исследования химии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инералы – простые или сложные вещества, образованные в недрах план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ороды – совокупность минерал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Горно-породные тела, геологические тела (литом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Земные оболоч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Звездные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 Галак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должен проводится с учетом уровня организации материи и связей между уровн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тношение предмета и призна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и признаки объектов очевидны и могут быть наблюдаемы визуально. Большинство же других скрыты от наблюдателя, и мы можем только предполагать об их существовании. Чтобы догадки получили фактическое подтверждение, необходимо  заняться его изучением, прибегая к помощи специальных приспособлений и приборов. Таким образом, незаметно для нас, признак приобретает статус предмета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502920"/>
            <a:ext cx="8686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ология имеет структуру, полностью подчиненную иерархической систематизации объективно существующего мира, и это выражается в существовании множества геологических дисциплин, объекты изучения которых  соответствуют иерархическим уровн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сматривая взаимосвязь понятий “объект” и “предмет”, надо помнить, что  каждый объект нижестоящего уровня, входя в состав  объекта вышестоящего уровня, становится его характеристикой (признаком), а, стало быть, и его предметом исслед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р: химический элемент, являющийся объектом исследования геохимии, при рассмотрении объектов минерального уровня становится только одной из характеристик минералов, изучаемых другой наукой - минералоги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оответствии с этим, мы начнем курс “Общая геология” с изучения минера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Организация геологических работ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Сбор материалов о строении территории, составление топографически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р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дение геологических съемок  от М 1:1000 000 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 1:50 000 и , с детализацией наиболее перспективных территории и составлением геологических карт, содержащих всю основную информацию о строении терри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Проведение поисковых работ на выявленные полезные ископаемые, на перспективных участках, с проходкой шурфов. Выявляются аномалии, рудопроя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Проведение разведочных работ с бурением, иногда проходкой канав и штолен. Выявляются рудные тела, подсчитываются запа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Эксплутационная разведка и добыча ру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ллельно НИИ проводят тематические работы для оказания помощи производственникам и выявления перспектив дальнейших раб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65240" y="1332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Геология имеет огромное практическое и познавательное значение в жизни человечества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ое практическое значение геологии – это разработка вопросов металлогении и минерагениии – выявление закономерностей образования и размещения месторождений полезных ископаемых, в пространстве, и во времени, анализ геологического строения территории и выделение в ее пределах районов и участков, перспективных на различные руды, нерудное сырье, стройматериалы, драгоценные камни, углеводороды (газ, нефть), и воду, которая становится все более дорогой и дефицит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Геоэкология, предотвращение чрезвычайных происшестви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Радиационные наблюде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редсказание землетряс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Предсказание извержений вулк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Предотвращение обвалов, оползней, карстовых прова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Предсказания поднятий и опусканий районов суш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женерная ге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следование территорий под строительство, изыскание трасс железных дорог и шоссе, участков гидротехнических сооружений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39636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знавательное значение геолог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ловек знает о строении планеты Земля, на которой мы живем значительно меньше, чем об окружающем нас космическом пространстве. При радиусе Земли 6378 км. и мощности континентальной земной коры 40 км, самая глубокая Кольская сверхглубокая скважина проникла в недра всего на 12261м. О глубоких недрах мы судим только по косвенным признакам и строим различные неоднозначные гипотез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сутствие знания всегда таит опасность и ограничивает наши возмо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Геология – синтетическая наука, исследующая Землю и другие планеты. 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использует данные и частично пересекается со многими естественно- научными дисциплинами: географией, геофизикой, геохимией, геоэкологией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логия включает: петрографию, минераграфию, историческую геологию, динамическую геологи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ералогию, кристаллографию, тектонику, литологию, палеонтологию, геофизику, металлогению,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ромное значение имеют практическая геология и техника разведки, тесно связанные с научной геологией, в том числе: геологическая съемка, поиск, разведка, картирование, дистанционные метод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Геологические науки группируются по трем направлениям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ещественно-геохимическое направление: петрология, петрография, минералогия и геохим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Генетическое (история возникновения и развития): историческая геология, стратиграфия, палеогеография, четвертичная геология, палеонтолог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Динамическая геология, изучающая особенности процессов: геотектоника, вулканология, сейсмология, карстовед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истемный анализ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системном анализе  существует два способа упорядочения информации, а именно - классификация и систематизация объе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ассификация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ение однотипных объектов по какому-либо их общему признаку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пример, люди могут быть классифицированы по: росту, цвету глаз и т.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геологии все изучаемые объекты (Минералы, породы, вулканы…) обязательно классифициров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угой способ упорядоченности объектов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стематизац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разделение объектов по их соподчиненности ( субординации), отражение упорядоченности, построенной по принципу соподчин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Признаки геологических объектов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е объекты обладают особыми признаками, характеризующими их, это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форма, 2-состав, 3-строение (структура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 свойства,  5-происхож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знаки подразделяются на качественные и количественны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ичественные признаки, в свою очередь, подразделяются на относительные и абсолют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носительными признаками пользуются при сравнении однотипных объектов.  Относительные признаки лежат в основе построения по ранжирам, несмотря на то, что эти оценки подчас обличены в числовую форму (например, в так называемые баллы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465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6868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оценка бальности землетрясений  является относительной. В связи с внедрением в науку компьютерных технологий возникает необходимость перевода качественных характеристик  в количественные. Этот прием называется формализацией или кодированием, и заключается в придаче качественной характеристике числового значения. Она широко применяется в практике научных исследований с целью упорядочения наблюдаемых объе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бсолют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знаки всегда опираются на строгую меру, которая считается незыблемой и постоянной. Такой мерой может служить мера длины, объема, скорости, солености, температуры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0:10:04Z</dcterms:created>
  <dc:creator>Юрий Сергеевич</dc:creator>
  <dc:description/>
  <dc:language>en-US</dc:language>
  <cp:lastModifiedBy>Admin</cp:lastModifiedBy>
  <dcterms:modified xsi:type="dcterms:W3CDTF">2012-09-02T18:32:09Z</dcterms:modified>
  <cp:revision>4</cp:revision>
  <dc:subject/>
  <dc:title>Геология</dc:title>
</cp:coreProperties>
</file>