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8281-3189-4487-B067-F53402030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9AD0-4645-47D0-9D68-C4CA8540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0BB8-A556-4E82-B681-67956D3D7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58AE-8BB4-4C1B-ACF1-811B4EF53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9F96C-DD64-4EA6-9AB2-73B2C35CF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9669B4-AEF2-4699-B6E9-69B5ED88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C569BF-A5CD-466D-8636-88B762F1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9A1C07-AFAE-4D9C-843C-156BCCF0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795B3-CD8A-46E7-96F1-AC2D53DA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31245-B557-476D-B505-647B0187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C7382-7A45-4FFD-8DF7-8E6D6A1A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5FF1-C55E-442E-9E40-CB575DAC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7F14B-4239-456C-9F3C-35D59329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82B57E-F8DD-40C4-9D1C-09C670FD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3D182D-B2A8-4F54-9354-0BA966DC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73F390-9FF0-463D-A060-9C0FB04B5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91DE26-FB3D-49BB-8497-07EF87D4E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2917-69D5-4672-B8B1-2D3DA861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B980-84C9-4B43-9037-1DF95052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9D71-6C96-424F-9521-8E8FC891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E082-F734-423F-A832-A447F443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647C-A17F-4D42-B7BD-1215D69E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4F82-B6A9-435B-AD4A-1139B4A6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AE03-8900-44D4-8227-7B917EB7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5855-B29B-4558-A2C6-94F61CE8B7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7750-1816-4B5E-8975-17BE00B8EC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Геология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77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орное Училищ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детский корп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Г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анкт-Петербургский Горный университ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0" t="29654" r="-7297" b="31962"/>
          <a:stretch/>
        </p:blipFill>
        <p:spPr>
          <a:xfrm>
            <a:off x="0" y="3860640"/>
            <a:ext cx="9685440" cy="19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Иерархическая систематизация объектов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76500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еология исследует планету на разных уровнях организации вещества, в  связи с этим объектами исследования являютс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Атомы (объекты исследования физики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Молекулы (объект исследования химии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Минералы – простые или сложные вещества, образованные в недрах плане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Породы – совокупность минералов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Горно-породные тела, геологические тела (литомы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 Земные оболочк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. Плане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8. Звездные системы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9. Галакт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ализ должен проводится с учетом уровня организации материи и связей между уровн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Отношение предмета и призна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дни признаки объектов очевидны и могут быть наблюдаемы визуально. Большинство же других скрыты от наблюдателя, и мы можем только предполагать об их существовании. Чтобы догадки получили фактическое подтверждение, необходимо  заняться его изучением, прибегая к помощи специальных приспособлений и приборов. Таким образом, незаметно для нас, признак приобретает статус предмета исслед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71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502920"/>
            <a:ext cx="86868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еология имеет структуру, полностью подчиненную иерархической систематизации объективно существующего мира, и это выражается в существовании множества геологических дисциплин, объекты изучения которых  соответствуют иерархическим уровня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ссматривая взаимосвязь понятий “объект” и “предмет”, надо помнить, что  каждый объект нижестоящего уровня, входя в состав  объекта вышестоящего уровня, становится его характеристикой (признаком), а, стало быть, и его предметом исследо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мер: химический элемент, являющийся объектом исследования геохимии, при рассмотрении объектов минерального уровня становится только одной из характеристик минералов, изучаемых другой наукой - минералоги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соответствии с этим, мы начнем курс “Общая геология” с изучения минерал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Организация геологических работ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Сбор материалов о строении территории, составление топографических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р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ведение геологических съемок  от М 1:1000 000 к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 1:50 000 и , с детализацией наиболее перспективных территории и составлением геологических карт, содержащих всю основную информацию о строении территор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Проведение поисковых работ на выявленные полезные ископаемые, на перспективных участках, с проходкой шурфов. Выявляются аномалии, рудопрояв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 Проведение разведочных работ с бурением, иногда проходкой канав и штолен. Выявляются рудные тела, подсчитываются запас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. Эксплутационная разведка и добыча ру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араллельно НИИ проводят тематические работы для оказания помощи производственникам и выявления перспектив дальнейших рабо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65240" y="13320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Геология имеет огромное практическое и познавательное значение в жизни человечества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лавное практическое значение геологии – это разработка вопросов металлогении и минерагениии – выявление закономерностей образования и размещения месторождений полезных ископаемых, в пространстве, и во времени, анализ геологического строения территории и выделение в ее пределах районов и участков, перспективных на различные руды, нерудное сырье, стройматериалы, драгоценные камни, углеводороды (газ, нефть), и воду, которая становится все более дорогой и дефицитно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Геоэкология, предотвращение чрезвычайных происшествий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964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Радиационные наблюдени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Предсказание землетряс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Предсказание извержений вулкан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Предотвращение обвалов, оползней, карстовых провал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Предсказания поднятий и опусканий районов суш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женерная геолог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сследование территорий под строительство, изыскание трасс железных дорог и шоссе, участков гидротехнических сооружений и т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939636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Познавательное значение геологи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еловек знает о строении планеты Земля, на которой мы живем значительно меньше, чем об окружающем нас космическом пространстве. При радиусе Земли 6378 км. и мощности континентальной земной коры 40 км, самая глубокая Кольская сверхглубокая скважина проникла в недра всего на 12261м. О глубоких недрах мы судим только по косвенным признакам и строим различные неоднозначные гипотез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сутствие знания всегда таит опасность и ограничивает наши возмож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000" y="228240"/>
            <a:ext cx="82184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Геология – синтетическая наука, исследующая Землю и другие планеты. </a:t>
            </a:r>
            <a:br>
              <a:rPr sz="3200"/>
            </a:b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а использует данные и частично пересекается со многими естественно- научными дисциплинами: географией, геофизикой, геохимией, геоэкологией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еология включает: петрографию, минераграфию, историческую геологию, динамическую геологию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инералогию, кристаллографию, тектонику, литологию, палеонтологию, геофизику, металлогению, и т.д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громное значение имеют практическая геология и техника разведки, тесно связанные с научной геологией, в том числе: геологическая съемка, поиск, разведка, картирование, дистанционные методы и т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Геологические науки группируются по трем направлениям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Вещественно-геохимическое направление: петрология, петрография, минералогия и геохим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Генетическое (история возникновения и развития): историческая геология, стратиграфия, палеогеография, четвертичная геология, палеонтолог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Динамическая геология, изучающая особенности процессов: геотектоника, вулканология, сейсмология, карстовед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Системный анализ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2184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системном анализе  существует два способа упорядочения информации, а именно - классификация и систематизация объек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лассификация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деление однотипных объектов по какому-либо их общему признаку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пример, люди могут быть классифицированы по: росту, цвету глаз и т.д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геологии все изучаемые объекты (Минералы, породы, вулканы…) обязательно классифицирова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ругой способ упорядоченности объектов 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стематизация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разделение объектов по их соподчиненности ( субординации), отражение упорядоченности, построенной по принципу соподчинен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Признаки геологических объектов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се объекты обладают особыми признаками, характеризующими их, это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- форма, 2-состав, 3-строение (структура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- свойства,  5-происхожд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знаки подразделяются на качественные и количественные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личественные признаки, в свою очередь, подразделяются на относительные и абсолютны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носительными признаками пользуются при сравнении однотипных объектов.  Относительные признаки лежат в основе построения по ранжирам, несмотря на то, что эти оценки подчас обличены в числовую форму (например, в так называемые баллы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1465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260280"/>
            <a:ext cx="86868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пример, оценка бальности землетрясений  является относительной. В связи с внедрением в науку компьютерных технологий возникает необходимость перевода качественных характеристик  в количественные. Этот прием называется формализацией или кодированием, и заключается в придаче качественной характеристике числового значения. Она широко применяется в практике научных исследований с целью упорядочения наблюдаемых объек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бсолютны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ризнаки всегда опираются на строгую меру, которая считается незыблемой и постоянной. Такой мерой может служить мера длины, объема, скорости, солености, температуры и т.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0:10:04Z</dcterms:created>
  <dc:creator>Юрий Сергеевич</dc:creator>
  <dc:description/>
  <dc:language>en-US</dc:language>
  <cp:lastModifiedBy>Admin</cp:lastModifiedBy>
  <dcterms:modified xsi:type="dcterms:W3CDTF">2012-09-02T18:32:09Z</dcterms:modified>
  <cp:revision>4</cp:revision>
  <dc:subject/>
  <dc:title>Геология</dc:title>
</cp:coreProperties>
</file>