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E275-B75B-440B-B162-F374D4F6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773-DE55-435E-9C47-B418989D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807-7A36-449F-B800-2FB90B6B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DB59-DFB0-427C-9AD7-1783F072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B39A3-83B4-4094-8BDC-5524FE22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539C1-77F7-4938-A564-F618D886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D181B-7CEF-4F34-B9CF-46F26E33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2F663-90B2-46DF-A766-B1855A7A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A0483-C6A5-48D9-BE1C-E9DD523D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BFFD1-60F3-4DC7-86BD-862D8046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5C233-F244-465E-A58D-D5EB5A3E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DFF-1139-417D-8197-BEBCD8FF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11347-0D55-4532-8AC5-14F97616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2F3E3-D26F-4E88-AE12-580891B3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19153-5663-454A-8449-31D2E1F5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EF048-5055-4DC7-AB03-CC074F1C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4036D-3EB2-43BB-ABCC-1E648F55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698-C703-46C1-821D-D6C547BC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74C2-0145-4BB5-95FE-117F0B8F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293-DC09-40AE-BF96-62787357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6EA-E6A4-4FBD-94FF-BF1721E0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5F7-0F1F-4C12-9455-D9A91456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091-BD9B-44BC-9764-0A918345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3BD8-7D76-4C7D-8412-CA3E6E14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3770-5989-434C-8B95-91A7C9E7D6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AFA9-8198-45BD-ACC6-DF431F4B08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Геолог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7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рное Уч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детский корп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нкт-Петербургский Горный 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29654" r="-7297" b="31962"/>
          <a:stretch/>
        </p:blipFill>
        <p:spPr>
          <a:xfrm>
            <a:off x="0" y="3860640"/>
            <a:ext cx="96854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Иерархическая систематизация объектов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логия исследует планету на разных уровнях организации вещества, в  связи с этим объектами исследования являю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Атомы (объекты исследования физики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Молекулы (объект исследования химии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Минералы – простые или сложные вещества, образованные в недрах план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ороды – совокупность минерал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Горно-породные тела, геологические тела (литом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Земные оболоч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План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Звездные систем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 Галак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 должен проводится с учетом уровня организации материи и связей между уровн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тношение предмета и призна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и признаки объектов очевидны и могут быть наблюдаемы визуально. Большинство же других скрыты от наблюдателя, и мы можем только предполагать об их существовании. Чтобы догадки получили фактическое подтверждение, необходимо  заняться его изучением, прибегая к помощи специальных приспособлений и приборов. Таким образом, незаметно для нас, признак приобретает статус предмета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502920"/>
            <a:ext cx="8686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еология имеет структуру, полностью подчиненную иерархической систематизации объективно существующего мира, и это выражается в существовании множества геологических дисциплин, объекты изучения которых  соответствуют иерархическим уровня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сматривая взаимосвязь понятий “объект” и “предмет”, надо помнить, что  каждый объект нижестоящего уровня, входя в состав  объекта вышестоящего уровня, становится его характеристикой (признаком), а, стало быть, и его предметом исслед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мер: химический элемент, являющийся объектом исследования геохимии, при рассмотрении объектов минерального уровня становится только одной из характеристик минералов, изучаемых другой наукой - минералоги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соответствии с этим, мы начнем курс “Общая геология” с изучения минера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Организация геологических работ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Сбор материалов о строении территории, составление топографически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р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едение геологических съемок  от М 1:1000 000 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 1:50 000 и , с детализацией наиболее перспективных территории и составлением геологических карт, содержащих всю основную информацию о строении террит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Проведение поисковых работ на выявленные полезные ископаемые, на перспективных участках, с проходкой шурфов. Выявляются аномалии, рудопроя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Проведение разведочных работ с бурением, иногда проходкой канав и штолен. Выявляются рудные тела, подсчитываются запа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Эксплутационная разведка и добыча ру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раллельно НИИ проводят тематические работы для оказания помощи производственникам и выявления перспектив дальнейших рабо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65240" y="1332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Геология имеет огромное практическое и познавательное значение в жизни человечества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ое практическое значение геологии – это разработка вопросов металлогении и минерагениии – выявление закономерностей образования и размещения месторождений полезных ископаемых, в пространстве, и во времени, анализ геологического строения территории и выделение в ее пределах районов и участков, перспективных на различные руды, нерудное сырье, стройматериалы, драгоценные камни, углеводороды (газ, нефть), и воду, которая становится все более дорогой и дефицит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Геоэкология, предотвращение чрезвычайных происшествий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Радиационные наблюде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Предсказание землетряс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Предсказание извержений вулка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Предотвращение обвалов, оползней, карстовых прова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Предсказания поднятий и опусканий районов суш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женерная геолог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следование территорий под строительство, изыскание трасс железных дорог и шоссе, участков гидротехнических сооружений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39636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ознавательное значение геолог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ловек знает о строении планеты Земля, на которой мы живем значительно меньше, чем об окружающем нас космическом пространстве. При радиусе Земли 6378 км. и мощности континентальной земной коры 40 км, самая глубокая Кольская сверхглубокая скважина проникла в недра всего на 12261м. О глубоких недрах мы судим только по косвенным признакам и строим различные неоднозначные гипотез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сутствие знания всегда таит опасность и ограничивает наши возмож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2184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Геология – синтетическая наука, исследующая Землю и другие планеты. 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использует данные и частично пересекается со многими естественно- научными дисциплинами: географией, геофизикой, геохимией, геоэкологией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ология включает: петрографию, минераграфию, историческую геологию, динамическую геологи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нералогию, кристаллографию, тектонику, литологию, палеонтологию, геофизику, металлогению, и т.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громное значение имеют практическая геология и техника разведки, тесно связанные с научной геологией, в том числе: геологическая съемка, поиск, разведка, картирование, дистанционные методы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Геологические науки группируются по трем направлениям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ещественно-геохимическое направление: петрология, петрография, минералогия и геохим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Генетическое (история возникновения и развития): историческая геология, стратиграфия, палеогеография, четвертичная геология, палеонтолог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Динамическая геология, изучающая особенности процессов: геотектоника, вулканология, сейсмология, карстовед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истемный анализ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218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системном анализе  существует два способа упорядочения информации, а именно - классификация и систематизация объек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ассификация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ение однотипных объектов по какому-либо их общему признаку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пример, люди могут быть классифицированы по: росту, цвету глаз и т.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геологии все изучаемые объекты (Минералы, породы, вулканы…) обязательно классифициров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ругой способ упорядоченности объектов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стематизац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разделение объектов по их соподчиненности ( субординации), отражение упорядоченности, построенной по принципу соподчинен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Признаки геологических объектов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се объекты обладают особыми признаками, характеризующими их, это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форма, 2-состав, 3-строение (структура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 свойства,  5-происхож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знаки подразделяются на качественные и количественные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ичественные признаки, в свою очередь, подразделяются на относительные и абсолют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носительными признаками пользуются при сравнении однотипных объектов.  Относительные признаки лежат в основе построения по ранжирам, несмотря на то, что эти оценки подчас обличены в числовую форму (например, в так называемые баллы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1465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86868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оценка бальности землетрясений  является относительной. В связи с внедрением в науку компьютерных технологий возникает необходимость перевода качественных характеристик  в количественные. Этот прием называется формализацией или кодированием, и заключается в придаче качественной характеристике числового значения. Она широко применяется в практике научных исследований с целью упорядочения наблюдаемых объе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бсолютн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изнаки всегда опираются на строгую меру, которая считается незыблемой и постоянной. Такой мерой может служить мера длины, объема, скорости, солености, температуры и т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0:10:04Z</dcterms:created>
  <dc:creator>Юрий Сергеевич</dc:creator>
  <dc:description/>
  <dc:language>en-US</dc:language>
  <cp:lastModifiedBy>Admin</cp:lastModifiedBy>
  <dcterms:modified xsi:type="dcterms:W3CDTF">2012-09-02T18:32:09Z</dcterms:modified>
  <cp:revision>4</cp:revision>
  <dc:subject/>
  <dc:title>Геология</dc:title>
</cp:coreProperties>
</file>