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16C-7456-43BF-B955-EAC2581F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6A7-692F-4800-9B27-07FCF9B2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F16-8C89-4E9E-A47B-75A5F8D3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3B7-EF17-4875-B1D9-0070A68C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B6E-37C1-4034-ACBA-78A8BB17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A98-0210-416F-AB4D-CA2B35FA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2A2-D82F-4FB8-BF07-86957A4F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217-1A1C-4693-BC27-0FC5D0DD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559-DFE7-44F1-86B1-48D14687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02C-173B-432B-8CE0-67281F74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619-C4E6-4DAE-92DD-5C5677C5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A56-2693-4096-8AD5-D382031A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205A-DEAC-421B-8265-953F38972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86400" y="0"/>
            <a:ext cx="403848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Требования к оформлению презент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240" y="43434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Оформление слайдов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1295280"/>
            <a:ext cx="3657600" cy="3353040"/>
          </a:xfrm>
          <a:prstGeom prst="pentagon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62720" y="1789200"/>
            <a:ext cx="35496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715000"/>
            <a:ext cx="95248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У Лицей №130 имени академика Лаврентьева М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324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осибирск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сельникова Е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Содержа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905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спользуйте короткие слова и предл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инимизируйте количество предлогов, наречий, прилагатель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головки должны привлекать внимание ауди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Располож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903320"/>
            <a:ext cx="7682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почтительно горизонтальное располож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иболее важная информация должна располагаться в центре экр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сли на слайде картинка, надпись должна располагаться под 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Шриф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905120"/>
            <a:ext cx="8077320" cy="41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заголовков - не менее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информации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 менее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Шрифты без засечек легче читать с большого расстоя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льзя смешивать различные типы шрифтов в одной през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выделения информации следует использовать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жирный шриф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урсив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2057400"/>
            <a:ext cx="7391160" cy="23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ДЕ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Шрифт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без засеч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19280" y="2205000"/>
          <a:ext cx="7086600" cy="3809880"/>
        </p:xfrm>
        <a:graphic>
          <a:graphicData uri="http://schemas.openxmlformats.org/drawingml/2006/table">
            <a:tbl>
              <a:tblPr/>
              <a:tblGrid>
                <a:gridCol w="2819160"/>
                <a:gridCol w="426744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rial Bl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rial Nar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ic Sans 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d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зент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0996" y="10800"/>
                </a:moveTo>
                <a:lnTo>
                  <a:pt x="25009" y="3794"/>
                </a:lnTo>
                <a:lnTo>
                  <a:pt x="2500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Выде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90512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Рамки, границы, зали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Разные цвета шрифтов, штриховка, зали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Verdana"/>
              </a:rPr>
              <a:t>Рисунки, диаграммы, схемы для иллюстрации наиболее важных фа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Объем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1905120"/>
            <a:ext cx="57150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 стоит заполнять один слайд слишком большим объемом информации: люди могут запомнить не более трех фактов, выводов, определ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ибольшая эффективность достигается тогда, когда ключевые пункты отображаются по одному на каждом отдельном слай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5257800" cy="533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176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108360" y="837720"/>
            <a:ext cx="94330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Виды слайд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320920"/>
            <a:ext cx="47894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обеспечения разнообразия следует использовать различные виды слайд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текс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таблиц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диаграм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5562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flipH="1">
            <a:off x="5364000" y="1844640"/>
            <a:ext cx="360072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486400" y="0"/>
            <a:ext cx="403848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0560" y="2708280"/>
            <a:ext cx="496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1295280"/>
            <a:ext cx="3657600" cy="3353040"/>
          </a:xfrm>
          <a:prstGeom prst="pentagon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62720" y="1789200"/>
            <a:ext cx="3549600" cy="3468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5715000"/>
            <a:ext cx="95248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У Лицей №130 имени академика Лаврентьева М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381720"/>
            <a:ext cx="532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 материалам Модуля 3, «Intel®– обучение для будущего» при поддержке Microsoft®»,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xit" presetID="3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xit" presetID="2" presetSubtype="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8380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176480"/>
            <a:ext cx="8077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ти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Ф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спользование цв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нимационные эффек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52640"/>
            <a:ext cx="91440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807000"/>
            <a:ext cx="80773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одержание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сположение информации на слай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Шриф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пособы выделения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бъем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иды слай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Сти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757520"/>
            <a:ext cx="8001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блюдайте единый стиль оформ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бегайте стилей, которые будут отвлекать от самой през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спомогательная информация (управляющие кнопки) не должны преобладать над основной информацией (текст, рисуно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Ф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362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холодные т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95280" y="3352680"/>
          <a:ext cx="3276720" cy="2514240"/>
        </p:xfrm>
        <a:graphic>
          <a:graphicData uri="http://schemas.openxmlformats.org/drawingml/2006/table">
            <a:tbl>
              <a:tblPr/>
              <a:tblGrid>
                <a:gridCol w="468360"/>
                <a:gridCol w="468360"/>
                <a:gridCol w="468360"/>
                <a:gridCol w="466560"/>
                <a:gridCol w="468360"/>
                <a:gridCol w="468360"/>
                <a:gridCol w="468360"/>
              </a:tblGrid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5715000" y="22860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контрастные текс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828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фона выбирайт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486400" y="3352680"/>
          <a:ext cx="3124080" cy="251460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41120"/>
              </a:tblGrid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Б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Б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В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Использование ц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1757520"/>
            <a:ext cx="7772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одном слайде рекомендуется использовать три-четыре 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фона и  текста слайда выбирайте контрастные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ратите внимание на цвет гиперссылок (до и после использова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Использование ц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1757520"/>
            <a:ext cx="7772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одном слайде рекомендуется использовать три-четыре 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фона и  текста слайда выбирайте контрастные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ратите внимание на цвет гиперссылок (до и после использова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Verdana"/>
              </a:rPr>
              <a:t>Использование ц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757520"/>
            <a:ext cx="7772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 одном слайде рекомендуется использовать три-четыре 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ля фона и  текста слайда выбирайте контрастные ц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братите внимание на цвет гиперссылок (до и после использова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Анимационные эффек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609480" y="6095880"/>
            <a:ext cx="900360" cy="540000"/>
          </a:xfrm>
          <a:custGeom>
            <a:avLst/>
            <a:gdLst>
              <a:gd name="textAreaLeft" fmla="*/ 34920 w 900360"/>
              <a:gd name="textAreaRight" fmla="*/ 865440 w 90036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6005" h="21600">
                <a:moveTo>
                  <a:pt x="0" y="0"/>
                </a:moveTo>
                <a:lnTo>
                  <a:pt x="36005" y="0"/>
                </a:lnTo>
                <a:lnTo>
                  <a:pt x="36005" y="21600"/>
                </a:lnTo>
                <a:lnTo>
                  <a:pt x="0" y="21600"/>
                </a:lnTo>
                <a:close/>
              </a:path>
              <a:path fill="lightenLess" w="36005" h="21600">
                <a:moveTo>
                  <a:pt x="0" y="0"/>
                </a:moveTo>
                <a:lnTo>
                  <a:pt x="36005" y="0"/>
                </a:lnTo>
                <a:lnTo>
                  <a:pt x="34605" y="1400"/>
                </a:lnTo>
                <a:lnTo>
                  <a:pt x="1400" y="1400"/>
                </a:lnTo>
                <a:close/>
              </a:path>
              <a:path fill="darken" w="36005" h="21600">
                <a:moveTo>
                  <a:pt x="36005" y="0"/>
                </a:moveTo>
                <a:lnTo>
                  <a:pt x="36005" y="21600"/>
                </a:lnTo>
                <a:lnTo>
                  <a:pt x="34605" y="20200"/>
                </a:lnTo>
                <a:lnTo>
                  <a:pt x="34605" y="1400"/>
                </a:lnTo>
                <a:close/>
              </a:path>
              <a:path fill="darkenLess" w="36005" h="21600">
                <a:moveTo>
                  <a:pt x="36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5" y="20200"/>
                </a:lnTo>
                <a:close/>
              </a:path>
              <a:path fill="lighten" w="36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5" h="21600">
                <a:moveTo>
                  <a:pt x="18002" y="3837"/>
                </a:moveTo>
                <a:lnTo>
                  <a:pt x="20579" y="6448"/>
                </a:ln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lnTo>
                  <a:pt x="24965" y="10800"/>
                </a:lnTo>
                <a:lnTo>
                  <a:pt x="23312" y="10800"/>
                </a:lnTo>
                <a:lnTo>
                  <a:pt x="23312" y="17989"/>
                </a:lnTo>
                <a:lnTo>
                  <a:pt x="12693" y="17989"/>
                </a:lnTo>
                <a:lnTo>
                  <a:pt x="12693" y="10800"/>
                </a:lnTo>
                <a:lnTo>
                  <a:pt x="11039" y="10800"/>
                </a:lnTo>
                <a:close/>
              </a:path>
              <a:path fill="darkenLess" w="36005" h="21600">
                <a:moveTo>
                  <a:pt x="20579" y="6448"/>
                </a:moveTo>
                <a:lnTo>
                  <a:pt x="20579" y="4707"/>
                </a:lnTo>
                <a:lnTo>
                  <a:pt x="22354" y="4707"/>
                </a:lnTo>
                <a:lnTo>
                  <a:pt x="22354" y="8224"/>
                </a:lnTo>
                <a:close/>
              </a:path>
              <a:path fill="darkenLess" w="36005" h="21600">
                <a:moveTo>
                  <a:pt x="17080" y="14299"/>
                </a:moveTo>
                <a:lnTo>
                  <a:pt x="18925" y="14299"/>
                </a:lnTo>
                <a:lnTo>
                  <a:pt x="18925" y="17989"/>
                </a:lnTo>
                <a:lnTo>
                  <a:pt x="23312" y="17989"/>
                </a:lnTo>
                <a:lnTo>
                  <a:pt x="23312" y="10800"/>
                </a:lnTo>
                <a:lnTo>
                  <a:pt x="12693" y="10800"/>
                </a:lnTo>
                <a:lnTo>
                  <a:pt x="12693" y="17989"/>
                </a:lnTo>
                <a:lnTo>
                  <a:pt x="17080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1757520"/>
            <a:ext cx="8001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ользуйте возможности компьютерной анимации для представления информации на слай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 стоит злоупотреблять различными анимационными эффектами, они не должны отвлекать внимание от содержания на слай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формление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562720" y="4495680"/>
            <a:ext cx="289548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НЕ отвлекайте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343400"/>
            <a:ext cx="3124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1079640" cy="685800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Представ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905120"/>
            <a:ext cx="8077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держание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положение информации на слай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Шриф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особы выделения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бъем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иды слай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9T23:24:40Z</dcterms:created>
  <dc:creator>Мама Женя</dc:creator>
  <dc:description/>
  <dc:language>en-US</dc:language>
  <cp:lastModifiedBy>Новосибирский Лицей 130 им. академика М.А.Лаврентьев</cp:lastModifiedBy>
  <dcterms:modified xsi:type="dcterms:W3CDTF">2005-03-01T10:37:03Z</dcterms:modified>
  <cp:revision>29</cp:revision>
  <dc:subject/>
  <dc:title>Требования к оформлению презентации</dc:title>
</cp:coreProperties>
</file>