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885-0FD7-4C4D-80BF-FE7BF94A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D92-6910-4470-B459-4A0F3D68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103-E63A-47DC-AA75-812D1A70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DE7-E188-4DAF-9A0C-7DAC6451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825-1F83-4555-8B0E-7FDC52BE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F55-4BE4-42A4-95AB-8A6ADA94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E49-12D4-4DAF-9F3E-36B7519F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730-85F3-4AAE-8965-9D4DE7E4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695-936A-46DA-93E0-2C4FFDA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C06-899E-4047-BE39-B3AAF610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724-52D4-4D08-8F5C-7BCCDD5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ADF-3243-4304-AC0D-964F07AD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131D-7187-4C4C-8335-40A902BC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0"/>
            <a:ext cx="40384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Требования к оформлению презен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Оформление слайдов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1295280"/>
            <a:ext cx="3657600" cy="3353040"/>
          </a:xfrm>
          <a:prstGeom prst="pentagon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62720" y="1789200"/>
            <a:ext cx="35496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15000"/>
            <a:ext cx="9524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Лицей №130 имени академика Лаврентьева М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24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осибирск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ельникова Е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одерж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905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ользуйте короткие слова и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инимизируйте количество предлогов, наречий, прилагате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головки должны привлекать внимание ауди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сполож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903320"/>
            <a:ext cx="7682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почтительно горизонтальное располож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иболее важная информация должна располагаться в центре эк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сли на слайде картинка, надпись должна располагаться под 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Шриф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905120"/>
            <a:ext cx="807732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заголовков - не менее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информации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менее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Шрифты без засечек легче читать с большого рассто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льзя смешивать различные типы шрифтов в одной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выделения информации следует использовать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жирный шриф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урсив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2057400"/>
            <a:ext cx="73911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Шрифт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ез засе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19280" y="2205000"/>
          <a:ext cx="7086600" cy="3809880"/>
        </p:xfrm>
        <a:graphic>
          <a:graphicData uri="http://schemas.openxmlformats.org/drawingml/2006/table">
            <a:tbl>
              <a:tblPr/>
              <a:tblGrid>
                <a:gridCol w="2819160"/>
                <a:gridCol w="426744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rial 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ial Na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c Sans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d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0996" y="10800"/>
                </a:moveTo>
                <a:lnTo>
                  <a:pt x="25009" y="3794"/>
                </a:lnTo>
                <a:lnTo>
                  <a:pt x="2500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Выде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9051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амки, границы, зали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азные цвета шрифтов, штриховка, зали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исунки, диаграммы, схемы для иллюстрации наиболее важных ф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1905120"/>
            <a:ext cx="5715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стоит заполнять один слайд слишком большим объемом информации: люди могут запомнить не более трех фактов, выводов, опреде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ибольшая эффективность достигается тогда, когда ключевые пункты отображаются по одному на каждом отдельном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176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08360" y="837720"/>
            <a:ext cx="9433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320920"/>
            <a:ext cx="4789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беспечения разнообразия следует использовать различные виды слайд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екс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табли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диаграм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562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flipH="1">
            <a:off x="5364000" y="1844640"/>
            <a:ext cx="36007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486400" y="0"/>
            <a:ext cx="40384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560" y="2708280"/>
            <a:ext cx="49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1295280"/>
            <a:ext cx="3657600" cy="3353040"/>
          </a:xfrm>
          <a:prstGeom prst="pentagon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62720" y="1789200"/>
            <a:ext cx="3549600" cy="3468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715000"/>
            <a:ext cx="9524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Лицей №130 имени академика Лаврентьева М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381720"/>
            <a:ext cx="532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 материалам Модуля 3, «Intel®– обучение для будущего» при поддержке Microsoft®»,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2" presetSubtype="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176480"/>
            <a:ext cx="807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и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спользование ц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нимацио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52640"/>
            <a:ext cx="91440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07000"/>
            <a:ext cx="80773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держание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сположение информации на слай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риф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пособы выделения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ти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7520"/>
            <a:ext cx="8001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блюдайте единый стиль оформ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бегайте стилей, которые будут отвлекать от самой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спомогательная информация (управляющие кнопки) не должны преобладать над основной информацией (текст, рисуно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холодные 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3352680"/>
          <a:ext cx="3276720" cy="251424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8360"/>
                <a:gridCol w="466560"/>
                <a:gridCol w="468360"/>
                <a:gridCol w="468360"/>
                <a:gridCol w="46836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5715000" y="2286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контрастные текс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828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выбирай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486400" y="3352680"/>
          <a:ext cx="3124080" cy="251460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Б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Б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В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Анимацион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75752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льзуйте возможности компьютерной анимации для представления информации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стоит злоупотреблять различными анимационными эффектами, они не должны отвлекать внимание от содержания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62720" y="4495680"/>
            <a:ext cx="28954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НЕ отвлекайт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3124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90512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держа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положение информации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Шриф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собы выделения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9T23:24:40Z</dcterms:created>
  <dc:creator>Мама Женя</dc:creator>
  <dc:description/>
  <dc:language>en-US</dc:language>
  <cp:lastModifiedBy>Новосибирский Лицей 130 им. академика М.А.Лаврентьев</cp:lastModifiedBy>
  <dcterms:modified xsi:type="dcterms:W3CDTF">2005-03-01T10:37:03Z</dcterms:modified>
  <cp:revision>29</cp:revision>
  <dc:subject/>
  <dc:title>Требования к оформлению презентации</dc:title>
</cp:coreProperties>
</file>