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F88-02EA-41B3-B7CD-A91E0E56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669-E5F3-49DE-B600-C8DE5F7A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08F-6ACD-4375-9D7B-83D5DF4F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AA2-17CA-4603-A759-27C82870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720-A92E-49C6-8E96-1437B7CC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321-102E-46AA-AF79-19A133CA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6AA-759E-448F-A0DF-B6E2E353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492-C00A-4AC6-9491-5DBFAF7F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46E-457E-4830-99AD-1D7378F0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4FE-B81F-41F9-8F39-F598AFA7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406-B629-42FA-835F-E40FD542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010-6560-4BC6-8D8C-8F0C1421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D75A-D882-4800-BBCC-2D1029138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6400" y="0"/>
            <a:ext cx="403848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Требования к оформлению презент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240" y="43434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Оформление слайдов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1295280"/>
            <a:ext cx="3657600" cy="3353040"/>
          </a:xfrm>
          <a:prstGeom prst="pentagon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62720" y="1789200"/>
            <a:ext cx="35496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715000"/>
            <a:ext cx="95248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У Лицей №130 имени академика Лаврентьева М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324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осибирск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сельникова Е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одержа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905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спользуйте короткие слова и пред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инимизируйте количество предлогов, наречий, прилагатель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головки должны привлекать внимание ауди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Располож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903320"/>
            <a:ext cx="7682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почтительно горизонтальное располож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иболее важная информация должна располагаться в центре экр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сли на слайде картинка, надпись должна располагаться под 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Шриф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905120"/>
            <a:ext cx="8077320" cy="41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заголовков - не менее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информации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 менее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Шрифты без засечек легче читать с большого расстоя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льзя смешивать различные типы шрифтов в одной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выделения информации следует использовать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жирный шриф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урсив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2057400"/>
            <a:ext cx="73911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Шрифт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без засеч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19280" y="2205000"/>
          <a:ext cx="7086600" cy="3809880"/>
        </p:xfrm>
        <a:graphic>
          <a:graphicData uri="http://schemas.openxmlformats.org/drawingml/2006/table">
            <a:tbl>
              <a:tblPr/>
              <a:tblGrid>
                <a:gridCol w="2819160"/>
                <a:gridCol w="426744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rial Bl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rial Nar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ic Sans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d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0996" y="10800"/>
                </a:moveTo>
                <a:lnTo>
                  <a:pt x="25009" y="3794"/>
                </a:lnTo>
                <a:lnTo>
                  <a:pt x="2500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Выде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90512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Рамки, границы, зали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Разные цвета шрифтов, штриховка, зали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Рисунки, диаграммы, схемы для иллюстрации наиболее важных фа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Объем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1905120"/>
            <a:ext cx="5715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стоит заполнять один слайд слишком большим объемом информации: люди могут запомнить не более трех фактов, выводов, опреде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ибольшая эффективность достигается тогда, когда ключевые пункты отображаются по одному на каждом отдельном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176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108360" y="837720"/>
            <a:ext cx="9433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Виды слай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320920"/>
            <a:ext cx="47894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обеспечения разнообразия следует использовать различные виды слайд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текс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таблиц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диаграм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5562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flipH="1">
            <a:off x="5364000" y="1844640"/>
            <a:ext cx="360072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486400" y="0"/>
            <a:ext cx="403848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0560" y="2708280"/>
            <a:ext cx="496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1295280"/>
            <a:ext cx="3657600" cy="3353040"/>
          </a:xfrm>
          <a:prstGeom prst="pentagon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62720" y="1789200"/>
            <a:ext cx="3549600" cy="3468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5715000"/>
            <a:ext cx="95248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У Лицей №130 имени академика Лаврентьева М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381720"/>
            <a:ext cx="532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 материалам Модуля 3, «Intel®– обучение для будущего» при поддержке Microsoft®»,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2" presetSubtype="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176480"/>
            <a:ext cx="8077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и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Ф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спользование цв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нимационные эфф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52640"/>
            <a:ext cx="91440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807000"/>
            <a:ext cx="80773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одержание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сположение информации на слай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риф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пособы выделения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бъем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иды слай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ти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757520"/>
            <a:ext cx="8001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блюдайте единый стиль оформ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бегайте стилей, которые будут отвлекать от самой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спомогательная информация (управляющие кнопки) не должны преобладать над основной информацией (текст, рисуно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36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холодные т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95280" y="3352680"/>
          <a:ext cx="3276720" cy="251424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  <a:gridCol w="468360"/>
                <a:gridCol w="466560"/>
                <a:gridCol w="468360"/>
                <a:gridCol w="468360"/>
                <a:gridCol w="468360"/>
              </a:tblGrid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5715000" y="2286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контрастные текс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828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фона выбирай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486400" y="3352680"/>
          <a:ext cx="3124080" cy="251460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</a:tblGrid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Б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Б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В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Использование ц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175752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одном слайде рекомендуется использовать три-четыре 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фона и  текста слайда выбирайте контрастные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ратите внимание на цвет гиперссылок (до и после использова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Использование ц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175752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одном слайде рекомендуется использовать три-четыре 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фона и  текста слайда выбирайте контрастные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ратите внимание на цвет гиперссылок (до и после использова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Использование ц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75752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 одном слайде рекомендуется использовать три-четыре 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ля фона и  текста слайда выбирайте контрастные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ратите внимание на цвет гиперссылок (до и после использова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Анимационные эффек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175752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ользуйте возможности компьютерной анимации для представления информации на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стоит злоупотреблять различными анимационными эффектами, они не должны отвлекать внимание от содержания на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62720" y="4495680"/>
            <a:ext cx="289548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НЕ отвлекайте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343400"/>
            <a:ext cx="3124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905120"/>
            <a:ext cx="8077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держа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положение информации на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Шриф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особы выделения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ъем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иды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9T23:24:40Z</dcterms:created>
  <dc:creator>Мама Женя</dc:creator>
  <dc:description/>
  <dc:language>en-US</dc:language>
  <cp:lastModifiedBy>Новосибирский Лицей 130 им. академика М.А.Лаврентьев</cp:lastModifiedBy>
  <dcterms:modified xsi:type="dcterms:W3CDTF">2005-03-01T10:37:03Z</dcterms:modified>
  <cp:revision>29</cp:revision>
  <dc:subject/>
  <dc:title>Требования к оформлению презентации</dc:title>
</cp:coreProperties>
</file>