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5E5-A5FF-44C3-858C-759963C9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A5E-58E2-48E1-A3CA-1E8ADD90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964-1DCE-48FF-832C-D23F019D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36C-9E72-4220-B149-7CACE624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C9828-8AD8-4EA1-AB78-F4FB1DBB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4FC5-D7D3-4085-B6AB-D43E1023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1661-6787-4841-9B35-25AF47C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147B7-C9D6-4F98-809B-31DE620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59FAB-955E-43BA-A867-8268DE92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A3A5-B75C-43DD-B1D0-831A8283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5609-7A38-4814-8AF7-0358F83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B86-54B7-4C79-A7ED-C32214C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F1E92-E2E4-4ACA-9E0D-BA2A172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C5376-4A91-45CE-98DF-E66B372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F96A0-B6E9-4C21-9050-8AA70C81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5E95-FBFC-493A-8969-B21DCEFB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0AA5-5847-44B8-9FC7-E2B0EEA1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23E-72A2-4984-BE91-3D810CDE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3BC-EB8E-491C-8BBB-4A71C66E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8EB-7FD1-4804-A29E-80184C63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592-A4EE-4044-A9E1-EC2BCC4A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1BC-A75F-4604-98A6-863FDA6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488-AD17-4FB6-A231-2D9FB5F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4DD-F18B-4B19-A15E-138F773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08E-1BA8-4790-8461-A0AB99DC5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37F-A104-40F0-8E60-17578121F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stralia-ru.com/tasmania.html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stralia-ru.com/sydney.html" TargetMode="External"/><Relationship Id="rId3" Type="http://schemas.openxmlformats.org/officeDocument/2006/relationships/hyperlink" Target="http://australia-ru.com/kanberra.html" TargetMode="External"/><Relationship Id="rId4" Type="http://schemas.openxmlformats.org/officeDocument/2006/relationships/hyperlink" Target="http://australia-ru.com/melbourne.html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280" y="1628640"/>
            <a:ext cx="78404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Это самая засушливая часть света. В Южном полушарии — самая жаркая часть суши. 2/3 территории находятся в зоне пустынного и полупустынного климата. Поскольку Австралия лежит целиком к югу от экватора, то январь здесь самый жаркий месяц, а июль холодный. Но даже 10 градусов выше нуля для июля — редкость. Наибольшее количество осадков выпадает на востоке. Внутренние районы заняты пустынями и полупустын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476280"/>
            <a:ext cx="770400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На севере, востоке, юго-востоке и юго-западе полупустыни переходят в саванны, которые сменяются лесами из эвкалиптов, пальм, древовидных папоротников вдоль побережий и в го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Наиболее, конечно, удивителен животный мир Австралии. Здесь сохранились самые примитивные сумчатые млекопитающие, которые вымерли в остальном мире миллионы лет назад. Это и знаменит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  <a:hlinkClick r:id="rId2" action="ppaction://hlinksldjump"/>
              </a:rPr>
              <a:t>кенгуру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 Black"/>
              </a:rPr>
              <a:t>, и неотразимо симпатичн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  <a:hlinkClick r:id="rId3" action="ppaction://hlinksldjump"/>
              </a:rPr>
              <a:t>коалы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 Black"/>
              </a:rPr>
              <a:t>, и утконосы с ехиднами. Кенгуру и их ближайшие родственники, валлаби, не редки. Но их не любят австралийские овцеводы, а шерсть для Австралии — это самая главная статья доходов от сельского хозяйства. Близкие к Австралии острова Новая Зеландия до прихода европейцев были настоящим птичьим царством. Здесь почти не водились млекопитающие. Сейчас редкие животные и птицы находятся под охра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989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тралия была откры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иллемом Янсзоном в 1606 году. Население страны в то время составляли австралийские аборигены, заселившиеся туда более 42 тысяч лет назад. В 1770 году страна была объявлена колонией Английской империи, а в 1901 году все австралийские колонии объединились в Австралийский союз, полностью подчинющийся английской короле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33336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шестая в мире страна по размеру территории, и это единственное государство, занимающее целый континент. Австралийский союз включает в себя Австралийский материк и несколько островов, крупнейшим из которых является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Тасм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 территории материка разнообразная природа соседствует с современными густонаселенными мегаполисами. Хотя большую часть континента занимают полупустыни и пустыни, в Австралии имеются разнообразные ландшафты: – от альпийских лугов до тропических джунглей. Австралия стала домом для уникальных видов флоры и фауны, некоторые из которых не встречаются в других уголках планеты. Многие растения и животные, включая гигантских сумчатых, вымерли с появлением аборигенов; другие (например, тасманский тигр) – с появлением европей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55736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лекательность Австралии заключена не только в природе материка. Вносят сюда свою лепту и благоустроенные города, центры культурной и деловой жизни государства. Во всех мегаполисах – будь то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Сид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Канбер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ельбур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любой другой крупный город, – исторические достопримечательности соседствуют с небоскребами, уютные парки – с многолюдными улицами, а разнообразные музеи – с шикарными магазин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2600" y="1023840"/>
            <a:ext cx="6238800" cy="481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3608640" cy="540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340240" cy="4492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3546360" cy="493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322800" cy="5043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5:36:17Z</dcterms:created>
  <dc:creator/>
  <dc:description/>
  <dc:language>en-US</dc:language>
  <cp:lastModifiedBy>eMachines</cp:lastModifiedBy>
  <dcterms:modified xsi:type="dcterms:W3CDTF">2011-09-23T11:29:3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60000000000010250300207f7000400038000</vt:lpwstr>
  </property>
</Properties>
</file>