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22E-14C3-488C-969C-37820322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5F2-B2E1-43BB-9115-27678C2F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6BC-6161-4A9E-94FE-2BBCCEE0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107-B7F2-4284-AA31-06FA592B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D9F4C-9DC9-4481-9317-4112C09C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BC9D5-D23D-47D2-8989-7B569363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44CA2-A77F-44C6-8E95-33D0B302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A0907-BE66-40BA-9A0A-6C8AE77E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43B5C-FB5C-47BE-9F94-9165B7A0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6C56D-1412-422F-AD3F-C8DF76B4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EAEB2-CB7C-49EE-956C-2D0453C1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ED5-BB21-4AA2-BBC6-DB224C8D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6141C-E301-4A1B-8EF3-FE9364B3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02586-22D4-4FC4-8595-845A79F5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9014B-2897-4811-8EF0-966ED95E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E861D-E282-44FC-944D-EB9A5E75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31FA7-00B1-4EEC-B492-7FD62D04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06D-4933-44DF-AB17-51D38B88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3C14-0F88-4020-B064-DC9FAEBD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4CF-A045-4F28-83DE-5D8C23A3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000-A8D8-4D15-B1AF-B3C3BD70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9BC-0F73-4702-BA1D-57836092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EE2-DBAF-4DAB-AACE-90CD16D9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C0C-A8E0-4660-98F3-99099077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6B93-C5C5-4AC9-9D99-C31CDBF5B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6CE6-3B74-4DCB-8877-4C6D5BC93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stralia-ru.com/tasmania.html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stralia-ru.com/sydney.html" TargetMode="External"/><Relationship Id="rId3" Type="http://schemas.openxmlformats.org/officeDocument/2006/relationships/hyperlink" Target="http://australia-ru.com/kanberra.html" TargetMode="External"/><Relationship Id="rId4" Type="http://schemas.openxmlformats.org/officeDocument/2006/relationships/hyperlink" Target="http://australia-ru.com/melbourne.html" TargetMode="Externa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71280" y="1628640"/>
            <a:ext cx="78404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Black"/>
              </a:rPr>
              <a:t>Это самая засушливая часть света. В Южном полушарии — самая жаркая часть суши. 2/3 территории находятся в зоне пустынного и полупустынного климата. Поскольку Австралия лежит целиком к югу от экватора, то январь здесь самый жаркий месяц, а июль холодный. Но даже 10 градусов выше нуля для июля — редкость. Наибольшее количество осадков выпадает на востоке. Внутренние районы заняты пустынями и полупустын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476280"/>
            <a:ext cx="770400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На севере, востоке, юго-востоке и юго-западе полупустыни переходят в саванны, которые сменяются лесами из эвкалиптов, пальм, древовидных папоротников вдоль побережий и в гор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Наиболее, конечно, удивителен животный мир Австралии. Здесь сохранились самые примитивные сумчатые млекопитающие, которые вымерли в остальном мире миллионы лет назад. Это и знаменитые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  <a:hlinkClick r:id="rId2" action="ppaction://hlinksldjump"/>
              </a:rPr>
              <a:t>кенгуру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 Black"/>
              </a:rPr>
              <a:t>, и неотразимо симпатичные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  <a:hlinkClick r:id="rId3" action="ppaction://hlinksldjump"/>
              </a:rPr>
              <a:t>коалы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 Black"/>
              </a:rPr>
              <a:t>, и утконосы с ехиднами. Кенгуру и их ближайшие родственники, валлаби, не редки. Но их не любят австралийские овцеводы, а шерсть для Австралии — это самая главная статья доходов от сельского хозяйства. Близкие к Австралии острова Новая Зеландия до прихода европейцев были настоящим птичьим царством. Здесь почти не водились млекопитающие. Сейчас редкие животные и птицы находятся под охра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98900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тралия была откры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иллемом Янсзоном в 1606 году. Население страны в то время составляли австралийские аборигены, заселившиеся туда более 42 тысяч лет назад. В 1770 году страна была объявлена колонией Английской империи, а в 1901 году все австралийские колонии объединились в Австралийский союз, полностью подчинющийся английской короле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333360"/>
            <a:ext cx="79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страл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шестая в мире страна по размеру территории, и это единственное государство, занимающее целый континент. Австралийский союз включает в себя Австралийский материк и несколько островов, крупнейшим из которых является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Тасм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На территории материка разнообразная природа соседствует с современными густонаселенными мегаполисами. Хотя большую часть континента занимают полупустыни и пустыни, в Австралии имеются разнообразные ландшафты: – от альпийских лугов до тропических джунглей. Австралия стала домом для уникальных видов флоры и фауны, некоторые из которых не встречаются в других уголках планеты. Многие растения и животные, включая гигантских сумчатых, вымерли с появлением аборигенов; другие (например, тасманский тигр) – с появлением европейц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557360"/>
            <a:ext cx="77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лекательность Австралии заключена не только в природе материка. Вносят сюда свою лепту и благоустроенные города, центры культурной и деловой жизни государства. Во всех мегаполисах – будь то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Сид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Канбер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Мельбур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ли любой другой крупный город, – исторические достопримечательности соседствуют с небоскребами, уютные парки – с многолюдными улицами, а разнообразные музеи – с шикарными магазин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52600" y="1023840"/>
            <a:ext cx="6238800" cy="4810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532720" y="6507000"/>
            <a:ext cx="611280" cy="351000"/>
          </a:xfrm>
          <a:custGeom>
            <a:avLst/>
            <a:gdLst>
              <a:gd name="textAreaLeft" fmla="*/ 22680 w 611280"/>
              <a:gd name="textAreaRight" fmla="*/ 588600 w 61128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7601" h="21600">
                <a:moveTo>
                  <a:pt x="0" y="0"/>
                </a:moveTo>
                <a:lnTo>
                  <a:pt x="37601" y="0"/>
                </a:lnTo>
                <a:lnTo>
                  <a:pt x="37601" y="21600"/>
                </a:lnTo>
                <a:lnTo>
                  <a:pt x="0" y="21600"/>
                </a:lnTo>
                <a:close/>
              </a:path>
              <a:path fill="lightenLess" w="37601" h="21600">
                <a:moveTo>
                  <a:pt x="0" y="0"/>
                </a:moveTo>
                <a:lnTo>
                  <a:pt x="37601" y="0"/>
                </a:lnTo>
                <a:lnTo>
                  <a:pt x="36201" y="1400"/>
                </a:lnTo>
                <a:lnTo>
                  <a:pt x="1400" y="1400"/>
                </a:lnTo>
                <a:close/>
              </a:path>
              <a:path fill="darken" w="37601" h="21600">
                <a:moveTo>
                  <a:pt x="37601" y="0"/>
                </a:moveTo>
                <a:lnTo>
                  <a:pt x="37601" y="21600"/>
                </a:lnTo>
                <a:lnTo>
                  <a:pt x="36201" y="20200"/>
                </a:lnTo>
                <a:lnTo>
                  <a:pt x="36201" y="1400"/>
                </a:lnTo>
                <a:close/>
              </a:path>
              <a:path fill="darkenLess" w="37601" h="21600">
                <a:moveTo>
                  <a:pt x="37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1" y="20200"/>
                </a:lnTo>
                <a:close/>
              </a:path>
              <a:path fill="lighten" w="37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1" h="21600">
                <a:moveTo>
                  <a:pt x="15302" y="10800"/>
                </a:moveTo>
                <a:lnTo>
                  <a:pt x="25807" y="3794"/>
                </a:lnTo>
                <a:lnTo>
                  <a:pt x="25807" y="17806"/>
                </a:lnTo>
                <a:close/>
              </a:path>
              <a:path fill="darken" w="37601" h="21600">
                <a:moveTo>
                  <a:pt x="11794" y="3794"/>
                </a:moveTo>
                <a:lnTo>
                  <a:pt x="13456" y="3794"/>
                </a:lnTo>
                <a:lnTo>
                  <a:pt x="13456" y="17806"/>
                </a:lnTo>
                <a:lnTo>
                  <a:pt x="11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71640" y="620640"/>
            <a:ext cx="3608640" cy="5405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532720" y="6507000"/>
            <a:ext cx="611280" cy="351000"/>
          </a:xfrm>
          <a:custGeom>
            <a:avLst/>
            <a:gdLst>
              <a:gd name="textAreaLeft" fmla="*/ 22680 w 611280"/>
              <a:gd name="textAreaRight" fmla="*/ 588600 w 61128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7601" h="21600">
                <a:moveTo>
                  <a:pt x="0" y="0"/>
                </a:moveTo>
                <a:lnTo>
                  <a:pt x="37601" y="0"/>
                </a:lnTo>
                <a:lnTo>
                  <a:pt x="37601" y="21600"/>
                </a:lnTo>
                <a:lnTo>
                  <a:pt x="0" y="21600"/>
                </a:lnTo>
                <a:close/>
              </a:path>
              <a:path fill="lightenLess" w="37601" h="21600">
                <a:moveTo>
                  <a:pt x="0" y="0"/>
                </a:moveTo>
                <a:lnTo>
                  <a:pt x="37601" y="0"/>
                </a:lnTo>
                <a:lnTo>
                  <a:pt x="36201" y="1400"/>
                </a:lnTo>
                <a:lnTo>
                  <a:pt x="1400" y="1400"/>
                </a:lnTo>
                <a:close/>
              </a:path>
              <a:path fill="darken" w="37601" h="21600">
                <a:moveTo>
                  <a:pt x="37601" y="0"/>
                </a:moveTo>
                <a:lnTo>
                  <a:pt x="37601" y="21600"/>
                </a:lnTo>
                <a:lnTo>
                  <a:pt x="36201" y="20200"/>
                </a:lnTo>
                <a:lnTo>
                  <a:pt x="36201" y="1400"/>
                </a:lnTo>
                <a:close/>
              </a:path>
              <a:path fill="darkenLess" w="37601" h="21600">
                <a:moveTo>
                  <a:pt x="37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1" y="20200"/>
                </a:lnTo>
                <a:close/>
              </a:path>
              <a:path fill="lighten" w="37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1" h="21600">
                <a:moveTo>
                  <a:pt x="15302" y="10800"/>
                </a:moveTo>
                <a:lnTo>
                  <a:pt x="25807" y="3794"/>
                </a:lnTo>
                <a:lnTo>
                  <a:pt x="25807" y="17806"/>
                </a:lnTo>
                <a:close/>
              </a:path>
              <a:path fill="darken" w="37601" h="21600">
                <a:moveTo>
                  <a:pt x="11794" y="3794"/>
                </a:moveTo>
                <a:lnTo>
                  <a:pt x="13456" y="3794"/>
                </a:lnTo>
                <a:lnTo>
                  <a:pt x="13456" y="17806"/>
                </a:lnTo>
                <a:lnTo>
                  <a:pt x="11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79640" y="907920"/>
            <a:ext cx="5340240" cy="4492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532720" y="6507000"/>
            <a:ext cx="611280" cy="351000"/>
          </a:xfrm>
          <a:custGeom>
            <a:avLst/>
            <a:gdLst>
              <a:gd name="textAreaLeft" fmla="*/ 22680 w 611280"/>
              <a:gd name="textAreaRight" fmla="*/ 588600 w 61128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7601" h="21600">
                <a:moveTo>
                  <a:pt x="0" y="0"/>
                </a:moveTo>
                <a:lnTo>
                  <a:pt x="37601" y="0"/>
                </a:lnTo>
                <a:lnTo>
                  <a:pt x="37601" y="21600"/>
                </a:lnTo>
                <a:lnTo>
                  <a:pt x="0" y="21600"/>
                </a:lnTo>
                <a:close/>
              </a:path>
              <a:path fill="lightenLess" w="37601" h="21600">
                <a:moveTo>
                  <a:pt x="0" y="0"/>
                </a:moveTo>
                <a:lnTo>
                  <a:pt x="37601" y="0"/>
                </a:lnTo>
                <a:lnTo>
                  <a:pt x="36201" y="1400"/>
                </a:lnTo>
                <a:lnTo>
                  <a:pt x="1400" y="1400"/>
                </a:lnTo>
                <a:close/>
              </a:path>
              <a:path fill="darken" w="37601" h="21600">
                <a:moveTo>
                  <a:pt x="37601" y="0"/>
                </a:moveTo>
                <a:lnTo>
                  <a:pt x="37601" y="21600"/>
                </a:lnTo>
                <a:lnTo>
                  <a:pt x="36201" y="20200"/>
                </a:lnTo>
                <a:lnTo>
                  <a:pt x="36201" y="1400"/>
                </a:lnTo>
                <a:close/>
              </a:path>
              <a:path fill="darkenLess" w="37601" h="21600">
                <a:moveTo>
                  <a:pt x="37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1" y="20200"/>
                </a:lnTo>
                <a:close/>
              </a:path>
              <a:path fill="lighten" w="37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1" h="21600">
                <a:moveTo>
                  <a:pt x="15302" y="10800"/>
                </a:moveTo>
                <a:lnTo>
                  <a:pt x="25807" y="3794"/>
                </a:lnTo>
                <a:lnTo>
                  <a:pt x="25807" y="17806"/>
                </a:lnTo>
                <a:close/>
              </a:path>
              <a:path fill="darken" w="37601" h="21600">
                <a:moveTo>
                  <a:pt x="11794" y="3794"/>
                </a:moveTo>
                <a:lnTo>
                  <a:pt x="13456" y="3794"/>
                </a:lnTo>
                <a:lnTo>
                  <a:pt x="13456" y="17806"/>
                </a:lnTo>
                <a:lnTo>
                  <a:pt x="11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92720" y="620640"/>
            <a:ext cx="3546360" cy="493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3322800" cy="5043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532720" y="6507000"/>
            <a:ext cx="611280" cy="351000"/>
          </a:xfrm>
          <a:custGeom>
            <a:avLst/>
            <a:gdLst>
              <a:gd name="textAreaLeft" fmla="*/ 22680 w 611280"/>
              <a:gd name="textAreaRight" fmla="*/ 588600 w 61128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7601" h="21600">
                <a:moveTo>
                  <a:pt x="0" y="0"/>
                </a:moveTo>
                <a:lnTo>
                  <a:pt x="37601" y="0"/>
                </a:lnTo>
                <a:lnTo>
                  <a:pt x="37601" y="21600"/>
                </a:lnTo>
                <a:lnTo>
                  <a:pt x="0" y="21600"/>
                </a:lnTo>
                <a:close/>
              </a:path>
              <a:path fill="lightenLess" w="37601" h="21600">
                <a:moveTo>
                  <a:pt x="0" y="0"/>
                </a:moveTo>
                <a:lnTo>
                  <a:pt x="37601" y="0"/>
                </a:lnTo>
                <a:lnTo>
                  <a:pt x="36201" y="1400"/>
                </a:lnTo>
                <a:lnTo>
                  <a:pt x="1400" y="1400"/>
                </a:lnTo>
                <a:close/>
              </a:path>
              <a:path fill="darken" w="37601" h="21600">
                <a:moveTo>
                  <a:pt x="37601" y="0"/>
                </a:moveTo>
                <a:lnTo>
                  <a:pt x="37601" y="21600"/>
                </a:lnTo>
                <a:lnTo>
                  <a:pt x="36201" y="20200"/>
                </a:lnTo>
                <a:lnTo>
                  <a:pt x="36201" y="1400"/>
                </a:lnTo>
                <a:close/>
              </a:path>
              <a:path fill="darkenLess" w="37601" h="21600">
                <a:moveTo>
                  <a:pt x="37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1" y="20200"/>
                </a:lnTo>
                <a:close/>
              </a:path>
              <a:path fill="lighten" w="37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1" h="21600">
                <a:moveTo>
                  <a:pt x="15302" y="10800"/>
                </a:moveTo>
                <a:lnTo>
                  <a:pt x="25807" y="3794"/>
                </a:lnTo>
                <a:lnTo>
                  <a:pt x="25807" y="17806"/>
                </a:lnTo>
                <a:close/>
              </a:path>
              <a:path fill="darken" w="37601" h="21600">
                <a:moveTo>
                  <a:pt x="11794" y="3794"/>
                </a:moveTo>
                <a:lnTo>
                  <a:pt x="13456" y="3794"/>
                </a:lnTo>
                <a:lnTo>
                  <a:pt x="13456" y="17806"/>
                </a:lnTo>
                <a:lnTo>
                  <a:pt x="11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5:36:17Z</dcterms:created>
  <dc:creator/>
  <dc:description/>
  <dc:language>en-US</dc:language>
  <cp:lastModifiedBy>eMachines</cp:lastModifiedBy>
  <dcterms:modified xsi:type="dcterms:W3CDTF">2011-09-23T11:29:3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60000000000010250300207f7000400038000</vt:lpwstr>
  </property>
</Properties>
</file>