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062-926B-409F-BAB3-2836FB09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533-3FDE-48C7-9DA8-ADB4AF63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800-736C-457F-925F-5C1FAB41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2BD-B892-4336-9B1F-F88F1626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4221F-B19C-466D-A585-7ACA5EEE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BB997-1149-4DC6-ABDD-F85DC2D2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5AF0E-3AE1-400E-AE0C-D3456C73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59431-1371-4E9E-85C7-A3BDAA11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EC802-6551-4146-B6D3-811EECF5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14687-EF17-4D5F-BC37-9FB69014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C6070-1B60-4E27-A268-0C5B505E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451-D97D-4301-A654-01AA367A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5F63E-8435-49CC-9D5F-FA8BBD49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D3EB2-CB69-4400-BEF4-0D8E94F6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25DA1-FE29-47BF-972E-A5F7B08C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35BD2-DC1D-463F-B9BE-7DDC553A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A9C90-EA11-4345-B1BB-6DF1EE95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946-228D-4E33-AADC-6E0B3087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87C-34CC-4499-91D3-20F24378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C5E-86AD-42EE-B329-B79EBAC2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8F3-B010-4F81-A20A-1924424A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E0A-A4E3-4B6C-9EA6-0C86781E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47A-183A-463C-91E5-B953F1FC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5B0-50EA-4DA6-B065-8AE3182E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B8E1-CED1-48CF-8420-6B5C1C75B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5472-B163-4EF9-9D69-99E7BF597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stralia-ru.com/tasmania.html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stralia-ru.com/sydney.html" TargetMode="External"/><Relationship Id="rId3" Type="http://schemas.openxmlformats.org/officeDocument/2006/relationships/hyperlink" Target="http://australia-ru.com/kanberra.html" TargetMode="External"/><Relationship Id="rId4" Type="http://schemas.openxmlformats.org/officeDocument/2006/relationships/hyperlink" Target="http://australia-ru.com/melbourne.html" TargetMode="Externa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71280" y="1628640"/>
            <a:ext cx="78404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Black"/>
              </a:rPr>
              <a:t>Это самая засушливая часть света. В Южном полушарии — самая жаркая часть суши. 2/3 территории находятся в зоне пустынного и полупустынного климата. Поскольку Австралия лежит целиком к югу от экватора, то январь здесь самый жаркий месяц, а июль холодный. Но даже 10 градусов выше нуля для июля — редкость. Наибольшее количество осадков выпадает на востоке. Внутренние районы заняты пустынями и полупустын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476280"/>
            <a:ext cx="770400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На севере, востоке, юго-востоке и юго-западе полупустыни переходят в саванны, которые сменяются лесами из эвкалиптов, пальм, древовидных папоротников вдоль побережий и в го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Наиболее, конечно, удивителен животный мир Австралии. Здесь сохранились самые примитивные сумчатые млекопитающие, которые вымерли в остальном мире миллионы лет назад. Это и знаменитые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  <a:hlinkClick r:id="rId2" action="ppaction://hlinksldjump"/>
              </a:rPr>
              <a:t>кенгуру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 Black"/>
              </a:rPr>
              <a:t>, и неотразимо симпатичные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  <a:hlinkClick r:id="rId3" action="ppaction://hlinksldjump"/>
              </a:rPr>
              <a:t>коалы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 Black"/>
              </a:rPr>
              <a:t>, и утконосы с ехиднами. Кенгуру и их ближайшие родственники, валлаби, не редки. Но их не любят австралийские овцеводы, а шерсть для Австралии — это самая главная статья доходов от сельского хозяйства. Близкие к Австралии острова Новая Зеландия до прихода европейцев были настоящим птичьим царством. Здесь почти не водились млекопитающие. Сейчас редкие животные и птицы находятся под охра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98900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тралия была откры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иллемом Янсзоном в 1606 году. Население страны в то время составляли австралийские аборигены, заселившиеся туда более 42 тысяч лет назад. В 1770 году страна была объявлена колонией Английской империи, а в 1901 году все австралийские колонии объединились в Австралийский союз, полностью подчинющийся английской короле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333360"/>
            <a:ext cx="79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страл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шестая в мире страна по размеру территории, и это единственное государство, занимающее целый континент. Австралийский союз включает в себя Австралийский материк и несколько островов, крупнейшим из которых является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Тасм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На территории материка разнообразная природа соседствует с современными густонаселенными мегаполисами. Хотя большую часть континента занимают полупустыни и пустыни, в Австралии имеются разнообразные ландшафты: – от альпийских лугов до тропических джунглей. Австралия стала домом для уникальных видов флоры и фауны, некоторые из которых не встречаются в других уголках планеты. Многие растения и животные, включая гигантских сумчатых, вымерли с появлением аборигенов; другие (например, тасманский тигр) – с появлением европей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55736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лекательность Австралии заключена не только в природе материка. Вносят сюда свою лепту и благоустроенные города, центры культурной и деловой жизни государства. Во всех мегаполисах – будь то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Сид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Канбер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Мельбур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ли любой другой крупный город, – исторические достопримечательности соседствуют с небоскребами, уютные парки – с многолюдными улицами, а разнообразные музеи – с шикарными магазин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2600" y="1023840"/>
            <a:ext cx="6238800" cy="4810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532720" y="6507000"/>
            <a:ext cx="611280" cy="351000"/>
          </a:xfrm>
          <a:custGeom>
            <a:avLst/>
            <a:gdLst>
              <a:gd name="textAreaLeft" fmla="*/ 22680 w 611280"/>
              <a:gd name="textAreaRight" fmla="*/ 588600 w 61128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7601" h="21600">
                <a:moveTo>
                  <a:pt x="0" y="0"/>
                </a:moveTo>
                <a:lnTo>
                  <a:pt x="37601" y="0"/>
                </a:lnTo>
                <a:lnTo>
                  <a:pt x="37601" y="21600"/>
                </a:lnTo>
                <a:lnTo>
                  <a:pt x="0" y="21600"/>
                </a:lnTo>
                <a:close/>
              </a:path>
              <a:path fill="lightenLess" w="37601" h="21600">
                <a:moveTo>
                  <a:pt x="0" y="0"/>
                </a:moveTo>
                <a:lnTo>
                  <a:pt x="37601" y="0"/>
                </a:lnTo>
                <a:lnTo>
                  <a:pt x="36201" y="1400"/>
                </a:lnTo>
                <a:lnTo>
                  <a:pt x="1400" y="1400"/>
                </a:lnTo>
                <a:close/>
              </a:path>
              <a:path fill="darken" w="37601" h="21600">
                <a:moveTo>
                  <a:pt x="37601" y="0"/>
                </a:moveTo>
                <a:lnTo>
                  <a:pt x="37601" y="21600"/>
                </a:lnTo>
                <a:lnTo>
                  <a:pt x="36201" y="20200"/>
                </a:lnTo>
                <a:lnTo>
                  <a:pt x="36201" y="1400"/>
                </a:lnTo>
                <a:close/>
              </a:path>
              <a:path fill="darkenLess" w="37601" h="21600">
                <a:moveTo>
                  <a:pt x="37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1" y="20200"/>
                </a:lnTo>
                <a:close/>
              </a:path>
              <a:path fill="lighten" w="37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1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1" h="21600">
                <a:moveTo>
                  <a:pt x="11794" y="3794"/>
                </a:moveTo>
                <a:lnTo>
                  <a:pt x="13456" y="3794"/>
                </a:lnTo>
                <a:lnTo>
                  <a:pt x="13456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620640"/>
            <a:ext cx="3608640" cy="5405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532720" y="6507000"/>
            <a:ext cx="611280" cy="351000"/>
          </a:xfrm>
          <a:custGeom>
            <a:avLst/>
            <a:gdLst>
              <a:gd name="textAreaLeft" fmla="*/ 22680 w 611280"/>
              <a:gd name="textAreaRight" fmla="*/ 588600 w 61128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7601" h="21600">
                <a:moveTo>
                  <a:pt x="0" y="0"/>
                </a:moveTo>
                <a:lnTo>
                  <a:pt x="37601" y="0"/>
                </a:lnTo>
                <a:lnTo>
                  <a:pt x="37601" y="21600"/>
                </a:lnTo>
                <a:lnTo>
                  <a:pt x="0" y="21600"/>
                </a:lnTo>
                <a:close/>
              </a:path>
              <a:path fill="lightenLess" w="37601" h="21600">
                <a:moveTo>
                  <a:pt x="0" y="0"/>
                </a:moveTo>
                <a:lnTo>
                  <a:pt x="37601" y="0"/>
                </a:lnTo>
                <a:lnTo>
                  <a:pt x="36201" y="1400"/>
                </a:lnTo>
                <a:lnTo>
                  <a:pt x="1400" y="1400"/>
                </a:lnTo>
                <a:close/>
              </a:path>
              <a:path fill="darken" w="37601" h="21600">
                <a:moveTo>
                  <a:pt x="37601" y="0"/>
                </a:moveTo>
                <a:lnTo>
                  <a:pt x="37601" y="21600"/>
                </a:lnTo>
                <a:lnTo>
                  <a:pt x="36201" y="20200"/>
                </a:lnTo>
                <a:lnTo>
                  <a:pt x="36201" y="1400"/>
                </a:lnTo>
                <a:close/>
              </a:path>
              <a:path fill="darkenLess" w="37601" h="21600">
                <a:moveTo>
                  <a:pt x="37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1" y="20200"/>
                </a:lnTo>
                <a:close/>
              </a:path>
              <a:path fill="lighten" w="37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1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1" h="21600">
                <a:moveTo>
                  <a:pt x="11794" y="3794"/>
                </a:moveTo>
                <a:lnTo>
                  <a:pt x="13456" y="3794"/>
                </a:lnTo>
                <a:lnTo>
                  <a:pt x="13456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9640" y="907920"/>
            <a:ext cx="5340240" cy="4492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532720" y="6507000"/>
            <a:ext cx="611280" cy="351000"/>
          </a:xfrm>
          <a:custGeom>
            <a:avLst/>
            <a:gdLst>
              <a:gd name="textAreaLeft" fmla="*/ 22680 w 611280"/>
              <a:gd name="textAreaRight" fmla="*/ 588600 w 61128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7601" h="21600">
                <a:moveTo>
                  <a:pt x="0" y="0"/>
                </a:moveTo>
                <a:lnTo>
                  <a:pt x="37601" y="0"/>
                </a:lnTo>
                <a:lnTo>
                  <a:pt x="37601" y="21600"/>
                </a:lnTo>
                <a:lnTo>
                  <a:pt x="0" y="21600"/>
                </a:lnTo>
                <a:close/>
              </a:path>
              <a:path fill="lightenLess" w="37601" h="21600">
                <a:moveTo>
                  <a:pt x="0" y="0"/>
                </a:moveTo>
                <a:lnTo>
                  <a:pt x="37601" y="0"/>
                </a:lnTo>
                <a:lnTo>
                  <a:pt x="36201" y="1400"/>
                </a:lnTo>
                <a:lnTo>
                  <a:pt x="1400" y="1400"/>
                </a:lnTo>
                <a:close/>
              </a:path>
              <a:path fill="darken" w="37601" h="21600">
                <a:moveTo>
                  <a:pt x="37601" y="0"/>
                </a:moveTo>
                <a:lnTo>
                  <a:pt x="37601" y="21600"/>
                </a:lnTo>
                <a:lnTo>
                  <a:pt x="36201" y="20200"/>
                </a:lnTo>
                <a:lnTo>
                  <a:pt x="36201" y="1400"/>
                </a:lnTo>
                <a:close/>
              </a:path>
              <a:path fill="darkenLess" w="37601" h="21600">
                <a:moveTo>
                  <a:pt x="37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1" y="20200"/>
                </a:lnTo>
                <a:close/>
              </a:path>
              <a:path fill="lighten" w="37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1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1" h="21600">
                <a:moveTo>
                  <a:pt x="11794" y="3794"/>
                </a:moveTo>
                <a:lnTo>
                  <a:pt x="13456" y="3794"/>
                </a:lnTo>
                <a:lnTo>
                  <a:pt x="13456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92720" y="620640"/>
            <a:ext cx="3546360" cy="493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3322800" cy="5043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532720" y="6507000"/>
            <a:ext cx="611280" cy="351000"/>
          </a:xfrm>
          <a:custGeom>
            <a:avLst/>
            <a:gdLst>
              <a:gd name="textAreaLeft" fmla="*/ 22680 w 611280"/>
              <a:gd name="textAreaRight" fmla="*/ 588600 w 61128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7601" h="21600">
                <a:moveTo>
                  <a:pt x="0" y="0"/>
                </a:moveTo>
                <a:lnTo>
                  <a:pt x="37601" y="0"/>
                </a:lnTo>
                <a:lnTo>
                  <a:pt x="37601" y="21600"/>
                </a:lnTo>
                <a:lnTo>
                  <a:pt x="0" y="21600"/>
                </a:lnTo>
                <a:close/>
              </a:path>
              <a:path fill="lightenLess" w="37601" h="21600">
                <a:moveTo>
                  <a:pt x="0" y="0"/>
                </a:moveTo>
                <a:lnTo>
                  <a:pt x="37601" y="0"/>
                </a:lnTo>
                <a:lnTo>
                  <a:pt x="36201" y="1400"/>
                </a:lnTo>
                <a:lnTo>
                  <a:pt x="1400" y="1400"/>
                </a:lnTo>
                <a:close/>
              </a:path>
              <a:path fill="darken" w="37601" h="21600">
                <a:moveTo>
                  <a:pt x="37601" y="0"/>
                </a:moveTo>
                <a:lnTo>
                  <a:pt x="37601" y="21600"/>
                </a:lnTo>
                <a:lnTo>
                  <a:pt x="36201" y="20200"/>
                </a:lnTo>
                <a:lnTo>
                  <a:pt x="36201" y="1400"/>
                </a:lnTo>
                <a:close/>
              </a:path>
              <a:path fill="darkenLess" w="37601" h="21600">
                <a:moveTo>
                  <a:pt x="37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1" y="20200"/>
                </a:lnTo>
                <a:close/>
              </a:path>
              <a:path fill="lighten" w="37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1" h="21600">
                <a:moveTo>
                  <a:pt x="15302" y="10800"/>
                </a:moveTo>
                <a:lnTo>
                  <a:pt x="25807" y="3794"/>
                </a:lnTo>
                <a:lnTo>
                  <a:pt x="25807" y="17806"/>
                </a:lnTo>
                <a:close/>
              </a:path>
              <a:path fill="darken" w="37601" h="21600">
                <a:moveTo>
                  <a:pt x="11794" y="3794"/>
                </a:moveTo>
                <a:lnTo>
                  <a:pt x="13456" y="3794"/>
                </a:lnTo>
                <a:lnTo>
                  <a:pt x="13456" y="17806"/>
                </a:lnTo>
                <a:lnTo>
                  <a:pt x="11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5:36:17Z</dcterms:created>
  <dc:creator/>
  <dc:description/>
  <dc:language>en-US</dc:language>
  <cp:lastModifiedBy>eMachines</cp:lastModifiedBy>
  <dcterms:modified xsi:type="dcterms:W3CDTF">2011-09-23T11:29:3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60000000000010250300207f7000400038000</vt:lpwstr>
  </property>
</Properties>
</file>