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17F-3412-4B1B-B3D0-E8B5B48D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338-38EB-4772-BF5A-7EE4F90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29C-C755-4BE7-93D7-D7469BC0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3BC-698F-42C5-8765-5A4E6D95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01EC-1BD4-4945-9B73-E91D6093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CB1B-3509-4379-9A15-520E033E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4620-54C1-42AD-A262-185E3486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2EB2-B660-4C3D-B4A2-ECD29710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1131-6CFA-4E0B-BF39-2DA50CA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1DF3-2D50-4AFE-9DA3-E55531CC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6882-9BDA-4C1F-88E6-D219A045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54F-B10D-4375-B960-4CB34D41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003F-B622-48AA-BCA9-E0702A4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F810-1C7E-403B-A4DD-EF0D9F87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3083-79E8-4416-B2A1-BD52A959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145E-2227-429E-9A71-53DD093E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C7BF-1F5B-4DBC-AB0F-9DB0A513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5D9-2893-441E-A40C-F4721559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FA3-70C4-4CA0-A2D9-EA4C31BD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559-8B66-46E3-8CDC-DB4DF4FB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109-7DFD-42A3-A0DE-816486AB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A2F-2D63-4977-B8C1-F2AF5935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3CB-30D9-4B7D-973E-2DC894CA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95A-A625-4058-8459-6129F00D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2CD1-5E38-4BD7-8151-4EA0F0E00B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4E2E-09B7-4EED-94ED-2B3158F416B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5"/>
          <p:cNvSpPr txBox="1"/>
          <p:nvPr/>
        </p:nvSpPr>
        <p:spPr>
          <a:xfrm>
            <a:off x="2050920" y="333360"/>
            <a:ext cx="49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у-Симбе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5" name="Picture 7" descr="2257771-great_temple_of_ramses_ii_at_abu_simbel-temple_of_abu_simbel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4160880"/>
          </a:xfrm>
          <a:prstGeom prst="rect">
            <a:avLst/>
          </a:prstGeom>
          <a:ln w="0">
            <a:noFill/>
          </a:ln>
        </p:spPr>
      </p:pic>
      <p:sp>
        <p:nvSpPr>
          <p:cNvPr id="386" name="WordArt 8"/>
          <p:cNvSpPr txBox="1"/>
          <p:nvPr/>
        </p:nvSpPr>
        <p:spPr>
          <a:xfrm>
            <a:off x="5580000" y="5734080"/>
            <a:ext cx="3187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кандрова Дарь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WordArt 9"/>
          <p:cNvSpPr txBox="1"/>
          <p:nvPr/>
        </p:nvSpPr>
        <p:spPr>
          <a:xfrm>
            <a:off x="7524720" y="6237360"/>
            <a:ext cx="1238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"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image"/>
          <p:cNvPicPr/>
          <p:nvPr/>
        </p:nvPicPr>
        <p:blipFill>
          <a:blip r:embed="rId1"/>
          <a:stretch/>
        </p:blipFill>
        <p:spPr>
          <a:xfrm>
            <a:off x="250920" y="404640"/>
            <a:ext cx="5838840" cy="3889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AbuSimbel_small_02"/>
          <p:cNvPicPr/>
          <p:nvPr/>
        </p:nvPicPr>
        <p:blipFill>
          <a:blip r:embed="rId2"/>
          <a:stretch/>
        </p:blipFill>
        <p:spPr>
          <a:xfrm>
            <a:off x="4356000" y="3645000"/>
            <a:ext cx="435780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0_492e9_cf55795d_XL"/>
          <p:cNvPicPr/>
          <p:nvPr/>
        </p:nvPicPr>
        <p:blipFill>
          <a:blip r:embed="rId1"/>
          <a:stretch/>
        </p:blipFill>
        <p:spPr>
          <a:xfrm>
            <a:off x="539640" y="189000"/>
            <a:ext cx="4734000" cy="6264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003280" y="1599840"/>
            <a:ext cx="3838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На одной из колонн Малого храма высечена надпись: «Рамсес, сильный правдой, любимец Амона, создал это божественное жилище для своей возлюбленной супруги Нефертар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В 1813 году швейцарский путешественник и географ Иоганн Буркхардт увидел на берегу Нила полузасыпанные песками странные каменные  валуны. Произведенные раскопки освободили четыре гигантские сидящие фигуры, которые, как предполагали, изображали богов с внешностью фараона Рамсеса </a:t>
            </a:r>
            <a:r>
              <a:rPr b="0" lang="en-US" sz="1800" spc="-1" strike="noStrike">
                <a:solidFill>
                  <a:srgbClr val="808000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Великого.</a:t>
            </a:r>
            <a:r>
              <a:rPr b="0" lang="ru-RU" sz="2000" spc="-1" strike="noStrike">
                <a:solidFill>
                  <a:srgbClr val="808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2195640" y="623736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Раскопки храма. Художник Д.Роберт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8" descr="Roberts_Abu-Simbel_GreatTemple"/>
          <p:cNvPicPr/>
          <p:nvPr/>
        </p:nvPicPr>
        <p:blipFill>
          <a:blip r:embed="rId1"/>
          <a:stretch/>
        </p:blipFill>
        <p:spPr>
          <a:xfrm>
            <a:off x="1403280" y="1773360"/>
            <a:ext cx="68040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5406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Во второй половине 13 в. до н. э. египетский фараон Рамсес II в ознаменование своей победы над хеттами построил здесь скальный храм,  известный как Большой храм, или храм Рамсеса II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8" descr="Ramszesz_3"/>
          <p:cNvPicPr/>
          <p:nvPr/>
        </p:nvPicPr>
        <p:blipFill>
          <a:blip r:embed="rId1"/>
          <a:stretch/>
        </p:blipFill>
        <p:spPr>
          <a:xfrm>
            <a:off x="395280" y="2492280"/>
            <a:ext cx="3959280" cy="2978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9"/>
          <p:cNvSpPr/>
          <p:nvPr/>
        </p:nvSpPr>
        <p:spPr>
          <a:xfrm>
            <a:off x="90000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Статуя Рамсеса </a:t>
            </a:r>
            <a:r>
              <a:rPr b="0" lang="en-US" sz="1800" spc="-1" strike="noStrike">
                <a:solidFill>
                  <a:srgbClr val="808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Picture 12" descr="RamsesII_82fe6966c79b4402a6e8e8bebdc33a46"/>
          <p:cNvPicPr/>
          <p:nvPr/>
        </p:nvPicPr>
        <p:blipFill>
          <a:blip r:embed="rId2"/>
          <a:stretch/>
        </p:blipFill>
        <p:spPr>
          <a:xfrm>
            <a:off x="4643280" y="1384200"/>
            <a:ext cx="411480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788000" y="260280"/>
            <a:ext cx="4194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Громадные статуи Рамсеса были издалека видны всем плывущим по Нилу. А когда над горизонтом появлялись первые лучи солнца, колоссы окрашивались в темно-красный цвет, резко выделяясь на фоне иссиня-черных отбрасываемых ими тен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Picture 6" descr="abusimbelatnight_3п"/>
          <p:cNvPicPr/>
          <p:nvPr/>
        </p:nvPicPr>
        <p:blipFill>
          <a:blip r:embed="rId1"/>
          <a:stretch/>
        </p:blipFill>
        <p:spPr>
          <a:xfrm>
            <a:off x="3419640" y="2367000"/>
            <a:ext cx="5327640" cy="4491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abu_simbel2_3"/>
          <p:cNvPicPr/>
          <p:nvPr/>
        </p:nvPicPr>
        <p:blipFill>
          <a:blip r:embed="rId2"/>
          <a:stretch/>
        </p:blipFill>
        <p:spPr>
          <a:xfrm>
            <a:off x="0" y="404640"/>
            <a:ext cx="4643280" cy="348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image"/>
          <p:cNvPicPr/>
          <p:nvPr/>
        </p:nvPicPr>
        <p:blipFill>
          <a:blip r:embed="rId1"/>
          <a:stretch/>
        </p:blipFill>
        <p:spPr>
          <a:xfrm>
            <a:off x="1692360" y="549360"/>
            <a:ext cx="2519280" cy="3311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image"/>
          <p:cNvPicPr/>
          <p:nvPr/>
        </p:nvPicPr>
        <p:blipFill>
          <a:blip r:embed="rId2"/>
          <a:stretch/>
        </p:blipFill>
        <p:spPr>
          <a:xfrm>
            <a:off x="4716360" y="115920"/>
            <a:ext cx="3870360" cy="4319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image"/>
          <p:cNvPicPr/>
          <p:nvPr/>
        </p:nvPicPr>
        <p:blipFill>
          <a:blip r:embed="rId3"/>
          <a:stretch/>
        </p:blipFill>
        <p:spPr>
          <a:xfrm>
            <a:off x="4716360" y="4884840"/>
            <a:ext cx="3225960" cy="1973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image"/>
          <p:cNvPicPr/>
          <p:nvPr/>
        </p:nvPicPr>
        <p:blipFill>
          <a:blip r:embed="rId4"/>
          <a:stretch/>
        </p:blipFill>
        <p:spPr>
          <a:xfrm>
            <a:off x="826920" y="4076640"/>
            <a:ext cx="3810240" cy="2371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788000" y="1557360"/>
            <a:ext cx="419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Скальный храм представляет собой четыре последовательно уменьшающихся прямоугольных зала с подсобными боковыми помещения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Picture 7" descr="image"/>
          <p:cNvPicPr/>
          <p:nvPr/>
        </p:nvPicPr>
        <p:blipFill>
          <a:blip r:embed="rId1"/>
          <a:stretch/>
        </p:blipFill>
        <p:spPr>
          <a:xfrm>
            <a:off x="395280" y="549360"/>
            <a:ext cx="3984480" cy="5983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image"/>
          <p:cNvPicPr/>
          <p:nvPr/>
        </p:nvPicPr>
        <p:blipFill>
          <a:blip r:embed="rId2"/>
          <a:stretch/>
        </p:blipFill>
        <p:spPr>
          <a:xfrm>
            <a:off x="4572000" y="3284640"/>
            <a:ext cx="43275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Roberts_Abu-Simbel_Interior"/>
          <p:cNvPicPr/>
          <p:nvPr/>
        </p:nvPicPr>
        <p:blipFill>
          <a:blip r:embed="rId1"/>
          <a:stretch/>
        </p:blipFill>
        <p:spPr>
          <a:xfrm>
            <a:off x="179280" y="260280"/>
            <a:ext cx="5688000" cy="38480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4724280"/>
            <a:ext cx="3726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Сразу же за дверями, в первом помещении храма, посетителя встречают восемь фигур фараона Рамсеса в облике бога Осирис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4" descr="image"/>
          <p:cNvPicPr/>
          <p:nvPr/>
        </p:nvPicPr>
        <p:blipFill>
          <a:blip r:embed="rId2"/>
          <a:stretch/>
        </p:blipFill>
        <p:spPr>
          <a:xfrm>
            <a:off x="5148360" y="2924280"/>
            <a:ext cx="3811320" cy="3616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78920" y="5445000"/>
            <a:ext cx="85410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Стены и потолки внутренних помещений храма покрывают росписи и раскрашенные рельефы, относящиеся к лучшим образцам искусства Древнего Египта позднего пери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Picture 4" descr="Egypt2011_15-1196_AbuSimbel"/>
          <p:cNvPicPr/>
          <p:nvPr/>
        </p:nvPicPr>
        <p:blipFill>
          <a:blip r:embed="rId1"/>
          <a:stretch/>
        </p:blipFill>
        <p:spPr>
          <a:xfrm>
            <a:off x="826920" y="189000"/>
            <a:ext cx="784872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9" descr="image"/>
          <p:cNvPicPr/>
          <p:nvPr/>
        </p:nvPicPr>
        <p:blipFill>
          <a:blip r:embed="rId1"/>
          <a:stretch/>
        </p:blipFill>
        <p:spPr>
          <a:xfrm>
            <a:off x="468360" y="189000"/>
            <a:ext cx="8316720" cy="55386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0"/>
          <p:cNvSpPr/>
          <p:nvPr/>
        </p:nvSpPr>
        <p:spPr>
          <a:xfrm>
            <a:off x="1763640" y="59500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Храм Хатхор, посвященный Нефертар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9:44:07Z</dcterms:created>
  <dc:creator>user</dc:creator>
  <dc:description/>
  <dc:language>en-US</dc:language>
  <cp:lastModifiedBy>Юля</cp:lastModifiedBy>
  <dcterms:modified xsi:type="dcterms:W3CDTF">2012-01-28T23:01:44Z</dcterms:modified>
  <cp:revision>2</cp:revision>
  <dc:subject/>
  <dc:title>Слайд 1</dc:title>
</cp:coreProperties>
</file>