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F3E5-57B3-467A-97DF-311F29DD8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9F45-A380-46E1-8D3A-4D782374B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FC8D-A3EE-4E83-9195-3809DA21B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E6AC-21C3-435A-8CD3-81685A0B2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F7E7A-A0E6-40B4-9228-0B7818987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2FE2F-E724-4163-B6C8-A8D192B5F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10FE2-A881-466C-994C-01C45752A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5A6AB-D6E5-40A2-A4A4-63B14C2A1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CD112-C25E-4284-91D9-2874734D9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DC377-9CF9-4D22-A480-DC82CE507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82A93-CD2E-4B21-A5A4-BAA0F9EB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CCFC-5A09-4E16-B20D-204688ABA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25DA2-434D-4FCA-8E67-E2F27DF6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5AE93-0407-4E85-BAF5-A07BDABC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7B49F-1E8D-4527-9261-6C98649CC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F4312-756B-4202-A7BD-89B93BB78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695E2-9F37-495C-9E4A-698F3AFF7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39D6-01E0-4856-9BAB-2445ADF95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2D47-970D-4D61-97E0-24A820E59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69E7-FE2F-427D-80C1-6BA49ED91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D40E-50B8-48E0-8339-D4C3A36E5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CBCC-476C-4E63-9227-621E95A7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ABD4-F56D-43DC-9B5C-06E14D70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45B4-B425-4038-AF2F-4FFAAD59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ac3"/>
                  </a:gs>
                  <a:gs pos="100000">
                    <a:srgbClr val="d4d3b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7c6b1"/>
                  </a:gs>
                  <a:gs pos="50000">
                    <a:srgbClr val="dbdac3"/>
                  </a:gs>
                  <a:gs pos="100000">
                    <a:srgbClr val="c7c6b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1F9C8-8D22-4B22-AB4A-DB00BD97129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ac3"/>
                  </a:gs>
                  <a:gs pos="100000">
                    <a:srgbClr val="d4d3b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7c6b1"/>
                  </a:gs>
                  <a:gs pos="50000">
                    <a:srgbClr val="dbdac3"/>
                  </a:gs>
                  <a:gs pos="100000">
                    <a:srgbClr val="c7c6b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1AEC0-729E-47EC-9F1B-07CCA331DF74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WordArt 5"/>
          <p:cNvSpPr txBox="1"/>
          <p:nvPr/>
        </p:nvSpPr>
        <p:spPr>
          <a:xfrm>
            <a:off x="2050920" y="333360"/>
            <a:ext cx="4969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cc00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бу-Симбел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9900"/>
                  </a:gs>
                  <a:gs pos="100000">
                    <a:srgbClr val="ffcc00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85" name="Picture 7" descr="2257771-great_temple_of_ramses_ii_at_abu_simbel-temple_of_abu_simbel"/>
          <p:cNvPicPr/>
          <p:nvPr/>
        </p:nvPicPr>
        <p:blipFill>
          <a:blip r:embed="rId1"/>
          <a:stretch/>
        </p:blipFill>
        <p:spPr>
          <a:xfrm>
            <a:off x="1619280" y="1413000"/>
            <a:ext cx="5832360" cy="4160880"/>
          </a:xfrm>
          <a:prstGeom prst="rect">
            <a:avLst/>
          </a:prstGeom>
          <a:ln w="0">
            <a:noFill/>
          </a:ln>
        </p:spPr>
      </p:pic>
      <p:sp>
        <p:nvSpPr>
          <p:cNvPr id="386" name="WordArt 8"/>
          <p:cNvSpPr txBox="1"/>
          <p:nvPr/>
        </p:nvSpPr>
        <p:spPr>
          <a:xfrm>
            <a:off x="5580000" y="5734080"/>
            <a:ext cx="31878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cc00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икандрова Дарья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9900"/>
                  </a:gs>
                  <a:gs pos="100000">
                    <a:srgbClr val="ffcc00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7" name="WordArt 9"/>
          <p:cNvSpPr txBox="1"/>
          <p:nvPr/>
        </p:nvSpPr>
        <p:spPr>
          <a:xfrm>
            <a:off x="7524720" y="6237360"/>
            <a:ext cx="12384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cc00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 "А"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9900"/>
                  </a:gs>
                  <a:gs pos="100000">
                    <a:srgbClr val="ffcc00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pull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4" descr="image"/>
          <p:cNvPicPr/>
          <p:nvPr/>
        </p:nvPicPr>
        <p:blipFill>
          <a:blip r:embed="rId1"/>
          <a:stretch/>
        </p:blipFill>
        <p:spPr>
          <a:xfrm>
            <a:off x="250920" y="404640"/>
            <a:ext cx="5838840" cy="38894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" descr="AbuSimbel_small_02"/>
          <p:cNvPicPr/>
          <p:nvPr/>
        </p:nvPicPr>
        <p:blipFill>
          <a:blip r:embed="rId2"/>
          <a:stretch/>
        </p:blipFill>
        <p:spPr>
          <a:xfrm>
            <a:off x="4356000" y="3645000"/>
            <a:ext cx="4357800" cy="3122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5" descr="0_492e9_cf55795d_XL"/>
          <p:cNvPicPr/>
          <p:nvPr/>
        </p:nvPicPr>
        <p:blipFill>
          <a:blip r:embed="rId1"/>
          <a:stretch/>
        </p:blipFill>
        <p:spPr>
          <a:xfrm>
            <a:off x="539640" y="189000"/>
            <a:ext cx="4734000" cy="626436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5003280" y="1599840"/>
            <a:ext cx="38386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808000"/>
                </a:solidFill>
                <a:latin typeface="Tahoma"/>
              </a:rPr>
              <a:t>На одной из колонн Малого храма высечена надпись: «Рамсес, сильный правдой, любимец Амона, создал это божественное жилище для своей возлюбленной супруги Нефертари»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ll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54064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808000"/>
                </a:solidFill>
                <a:latin typeface="Tahoma"/>
              </a:rPr>
              <a:t>В 1813 году швейцарский путешественник и географ Иоганн Буркхардт увидел на берегу Нила полузасыпанные песками странные каменные  валуны. Произведенные раскопки освободили четыре гигантские сидящие фигуры, которые, как предполагали, изображали богов с внешностью фараона Рамсеса </a:t>
            </a:r>
            <a:r>
              <a:rPr b="0" lang="en-US" sz="1800" spc="-1" strike="noStrike">
                <a:solidFill>
                  <a:srgbClr val="808000"/>
                </a:solidFill>
                <a:latin typeface="Tahoma"/>
              </a:rPr>
              <a:t>II</a:t>
            </a:r>
            <a:r>
              <a:rPr b="0" lang="ru-RU" sz="1800" spc="-1" strike="noStrike">
                <a:solidFill>
                  <a:srgbClr val="808000"/>
                </a:solidFill>
                <a:latin typeface="Tahoma"/>
              </a:rPr>
              <a:t> Великого.</a:t>
            </a:r>
            <a:r>
              <a:rPr b="0" lang="ru-RU" sz="2000" spc="-1" strike="noStrike">
                <a:solidFill>
                  <a:srgbClr val="808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Text Box 7"/>
          <p:cNvSpPr/>
          <p:nvPr/>
        </p:nvSpPr>
        <p:spPr>
          <a:xfrm>
            <a:off x="2195640" y="6237360"/>
            <a:ext cx="48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00"/>
                </a:solidFill>
                <a:latin typeface="Tahoma"/>
              </a:rPr>
              <a:t>Раскопки храма. Художник Д.Робертс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0" name="Picture 8" descr="Roberts_Abu-Simbel_GreatTemple"/>
          <p:cNvPicPr/>
          <p:nvPr/>
        </p:nvPicPr>
        <p:blipFill>
          <a:blip r:embed="rId1"/>
          <a:stretch/>
        </p:blipFill>
        <p:spPr>
          <a:xfrm>
            <a:off x="1403280" y="1773360"/>
            <a:ext cx="6804000" cy="44956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54064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808000"/>
                </a:solidFill>
                <a:latin typeface="Tahoma"/>
              </a:rPr>
              <a:t>Во второй половине 13 в. до н. э. египетский фараон Рамсес II в ознаменование своей победы над хеттами построил здесь скальный храм,  известный как Большой храм, или храм Рамсеса II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2" name="Picture 8" descr="Ramszesz_3"/>
          <p:cNvPicPr/>
          <p:nvPr/>
        </p:nvPicPr>
        <p:blipFill>
          <a:blip r:embed="rId1"/>
          <a:stretch/>
        </p:blipFill>
        <p:spPr>
          <a:xfrm>
            <a:off x="395280" y="2492280"/>
            <a:ext cx="3959280" cy="2978280"/>
          </a:xfrm>
          <a:prstGeom prst="rect">
            <a:avLst/>
          </a:prstGeom>
          <a:ln w="0">
            <a:noFill/>
          </a:ln>
        </p:spPr>
      </p:pic>
      <p:sp>
        <p:nvSpPr>
          <p:cNvPr id="393" name="Text Box 9"/>
          <p:cNvSpPr/>
          <p:nvPr/>
        </p:nvSpPr>
        <p:spPr>
          <a:xfrm>
            <a:off x="900000" y="5516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00"/>
                </a:solidFill>
                <a:latin typeface="Tahoma"/>
              </a:rPr>
              <a:t>Статуя Рамсеса </a:t>
            </a:r>
            <a:r>
              <a:rPr b="0" lang="en-US" sz="1800" spc="-1" strike="noStrike">
                <a:solidFill>
                  <a:srgbClr val="808000"/>
                </a:solidFill>
                <a:latin typeface="Tahoma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4" name="Picture 12" descr="RamsesII_82fe6966c79b4402a6e8e8bebdc33a46"/>
          <p:cNvPicPr/>
          <p:nvPr/>
        </p:nvPicPr>
        <p:blipFill>
          <a:blip r:embed="rId2"/>
          <a:stretch/>
        </p:blipFill>
        <p:spPr>
          <a:xfrm>
            <a:off x="4643280" y="1384200"/>
            <a:ext cx="4114800" cy="5473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4788000" y="260280"/>
            <a:ext cx="419400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00"/>
                </a:solidFill>
                <a:latin typeface="Tahoma"/>
              </a:rPr>
              <a:t>      </a:t>
            </a:r>
            <a:r>
              <a:rPr b="0" lang="ru-RU" sz="1600" spc="-1" strike="noStrike">
                <a:solidFill>
                  <a:srgbClr val="808000"/>
                </a:solidFill>
                <a:latin typeface="Tahoma"/>
              </a:rPr>
              <a:t>Громадные статуи Рамсеса были издалека видны всем плывущим по Нилу. А когда над горизонтом появлялись первые лучи солнца, колоссы окрашивались в темно-красный цвет, резко выделяясь на фоне иссиня-черных отбрасываемых ими теней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6" name="Picture 6" descr="abusimbelatnight_3п"/>
          <p:cNvPicPr/>
          <p:nvPr/>
        </p:nvPicPr>
        <p:blipFill>
          <a:blip r:embed="rId1"/>
          <a:stretch/>
        </p:blipFill>
        <p:spPr>
          <a:xfrm>
            <a:off x="3419640" y="2367000"/>
            <a:ext cx="5327640" cy="44910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8" descr="abu_simbel2_3"/>
          <p:cNvPicPr/>
          <p:nvPr/>
        </p:nvPicPr>
        <p:blipFill>
          <a:blip r:embed="rId2"/>
          <a:stretch/>
        </p:blipFill>
        <p:spPr>
          <a:xfrm>
            <a:off x="0" y="404640"/>
            <a:ext cx="4643280" cy="34894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4" descr="image"/>
          <p:cNvPicPr/>
          <p:nvPr/>
        </p:nvPicPr>
        <p:blipFill>
          <a:blip r:embed="rId1"/>
          <a:stretch/>
        </p:blipFill>
        <p:spPr>
          <a:xfrm>
            <a:off x="1692360" y="549360"/>
            <a:ext cx="2519280" cy="33112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6" descr="image"/>
          <p:cNvPicPr/>
          <p:nvPr/>
        </p:nvPicPr>
        <p:blipFill>
          <a:blip r:embed="rId2"/>
          <a:stretch/>
        </p:blipFill>
        <p:spPr>
          <a:xfrm>
            <a:off x="4716360" y="115920"/>
            <a:ext cx="3870360" cy="43196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7" descr="image"/>
          <p:cNvPicPr/>
          <p:nvPr/>
        </p:nvPicPr>
        <p:blipFill>
          <a:blip r:embed="rId3"/>
          <a:stretch/>
        </p:blipFill>
        <p:spPr>
          <a:xfrm>
            <a:off x="4716360" y="4884840"/>
            <a:ext cx="3225960" cy="19731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8" descr="image"/>
          <p:cNvPicPr/>
          <p:nvPr/>
        </p:nvPicPr>
        <p:blipFill>
          <a:blip r:embed="rId4"/>
          <a:stretch/>
        </p:blipFill>
        <p:spPr>
          <a:xfrm>
            <a:off x="826920" y="4076640"/>
            <a:ext cx="3810240" cy="23716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4788000" y="1557360"/>
            <a:ext cx="41940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808000"/>
                </a:solidFill>
                <a:latin typeface="Tahoma"/>
              </a:rPr>
              <a:t>Скальный храм представляет собой четыре последовательно уменьшающихся прямоугольных зала с подсобными боковыми помещениями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3" name="Picture 7" descr="image"/>
          <p:cNvPicPr/>
          <p:nvPr/>
        </p:nvPicPr>
        <p:blipFill>
          <a:blip r:embed="rId1"/>
          <a:stretch/>
        </p:blipFill>
        <p:spPr>
          <a:xfrm>
            <a:off x="395280" y="549360"/>
            <a:ext cx="3984480" cy="59832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8" descr="image"/>
          <p:cNvPicPr/>
          <p:nvPr/>
        </p:nvPicPr>
        <p:blipFill>
          <a:blip r:embed="rId2"/>
          <a:stretch/>
        </p:blipFill>
        <p:spPr>
          <a:xfrm>
            <a:off x="4572000" y="3284640"/>
            <a:ext cx="4327560" cy="32464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5" descr="Roberts_Abu-Simbel_Interior"/>
          <p:cNvPicPr/>
          <p:nvPr/>
        </p:nvPicPr>
        <p:blipFill>
          <a:blip r:embed="rId1"/>
          <a:stretch/>
        </p:blipFill>
        <p:spPr>
          <a:xfrm>
            <a:off x="179280" y="260280"/>
            <a:ext cx="5688000" cy="384804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826920" y="4724280"/>
            <a:ext cx="3726000" cy="16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00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808000"/>
                </a:solidFill>
                <a:latin typeface="Tahoma"/>
              </a:rPr>
              <a:t>Сразу же за дверями, в первом помещении храма, посетителя встречают восемь фигур фараона Рамсеса в облике бога Осириса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7" name="Picture 4" descr="image"/>
          <p:cNvPicPr/>
          <p:nvPr/>
        </p:nvPicPr>
        <p:blipFill>
          <a:blip r:embed="rId2"/>
          <a:stretch/>
        </p:blipFill>
        <p:spPr>
          <a:xfrm>
            <a:off x="5148360" y="2924280"/>
            <a:ext cx="3811320" cy="36162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178920" y="5445000"/>
            <a:ext cx="8541000" cy="12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808000"/>
                </a:solidFill>
                <a:latin typeface="Tahoma"/>
              </a:rPr>
              <a:t>Стены и потолки внутренних помещений храма покрывают росписи и раскрашенные рельефы, относящиеся к лучшим образцам искусства Древнего Египта позднего период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Picture 4" descr="Egypt2011_15-1196_AbuSimbel"/>
          <p:cNvPicPr/>
          <p:nvPr/>
        </p:nvPicPr>
        <p:blipFill>
          <a:blip r:embed="rId1"/>
          <a:stretch/>
        </p:blipFill>
        <p:spPr>
          <a:xfrm>
            <a:off x="826920" y="189000"/>
            <a:ext cx="7848720" cy="5230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9" descr="image"/>
          <p:cNvPicPr/>
          <p:nvPr/>
        </p:nvPicPr>
        <p:blipFill>
          <a:blip r:embed="rId1"/>
          <a:stretch/>
        </p:blipFill>
        <p:spPr>
          <a:xfrm>
            <a:off x="468360" y="189000"/>
            <a:ext cx="8316720" cy="553860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10"/>
          <p:cNvSpPr/>
          <p:nvPr/>
        </p:nvSpPr>
        <p:spPr>
          <a:xfrm>
            <a:off x="1763640" y="595008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00"/>
                </a:solidFill>
                <a:latin typeface="Tahoma"/>
              </a:rPr>
              <a:t>Храм Хатхор, посвященный Нефертар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ll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09:44:07Z</dcterms:created>
  <dc:creator>user</dc:creator>
  <dc:description/>
  <dc:language>en-US</dc:language>
  <cp:lastModifiedBy>Юля</cp:lastModifiedBy>
  <dcterms:modified xsi:type="dcterms:W3CDTF">2012-01-28T23:01:44Z</dcterms:modified>
  <cp:revision>2</cp:revision>
  <dc:subject/>
  <dc:title>Слайд 1</dc:title>
</cp:coreProperties>
</file>