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357-A0D4-42B2-8E49-AE2E364B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754-5CF0-4A53-8D98-F5C222B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3A2-BC89-4452-A654-B56201D0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E8A-071E-4300-80C1-A5B437A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1FF6-B66A-4A99-A1D7-C05CB8DC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2FF-B78C-4DB8-B816-83E26817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59F-BB40-4445-8240-C84D098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748-FCD8-458B-BDFE-35361E9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F3EA-CF6E-4792-93D0-CA0A5764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07E-0491-4775-8639-CCB26C6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D0E4-A585-4B6C-ADA9-1ED1B4E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020-FFA2-4D94-A9FE-9078006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1BED-256E-4D76-8A64-B02B958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C98-7F3F-4279-804F-22BAA28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0C8-6E45-40EA-8092-3E86DDF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0C03-99C2-40FB-8E34-A0BD60E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011D-CCAF-4C22-8DB4-66DB9962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1BC-9B27-41F0-B4FA-245596E6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36F-C0B8-4F22-9328-2C59CE1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5B5-592A-49D7-AC65-59AC2C4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00-D2F3-4BA0-9BE9-4ABA9B49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DE5-AA20-4DD4-A6E7-7F9E5DC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EDE-6EEC-4B6B-AAA0-2161B24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841-50EE-40CD-AA37-8F7EB2D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2FF-D069-4D85-B34C-73C1DE75B1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F8E-5037-4105-81EF-FB559E25ED9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5"/>
          <p:cNvSpPr txBox="1"/>
          <p:nvPr/>
        </p:nvSpPr>
        <p:spPr>
          <a:xfrm>
            <a:off x="2050920" y="333360"/>
            <a:ext cx="49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-Симбе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5" name="Picture 7" descr="2257771-great_temple_of_ramses_ii_at_abu_simbel-temple_of_abu_simbel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160880"/>
          </a:xfrm>
          <a:prstGeom prst="rect">
            <a:avLst/>
          </a:prstGeom>
          <a:ln w="0">
            <a:noFill/>
          </a:ln>
        </p:spPr>
      </p:pic>
      <p:sp>
        <p:nvSpPr>
          <p:cNvPr id="386" name="WordArt 8"/>
          <p:cNvSpPr txBox="1"/>
          <p:nvPr/>
        </p:nvSpPr>
        <p:spPr>
          <a:xfrm>
            <a:off x="5580000" y="5734080"/>
            <a:ext cx="318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андрова Дарь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9"/>
          <p:cNvSpPr txBox="1"/>
          <p:nvPr/>
        </p:nvSpPr>
        <p:spPr>
          <a:xfrm>
            <a:off x="7524720" y="6237360"/>
            <a:ext cx="1238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"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age"/>
          <p:cNvPicPr/>
          <p:nvPr/>
        </p:nvPicPr>
        <p:blipFill>
          <a:blip r:embed="rId1"/>
          <a:stretch/>
        </p:blipFill>
        <p:spPr>
          <a:xfrm>
            <a:off x="250920" y="404640"/>
            <a:ext cx="583884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AbuSimbel_small_02"/>
          <p:cNvPicPr/>
          <p:nvPr/>
        </p:nvPicPr>
        <p:blipFill>
          <a:blip r:embed="rId2"/>
          <a:stretch/>
        </p:blipFill>
        <p:spPr>
          <a:xfrm>
            <a:off x="4356000" y="3645000"/>
            <a:ext cx="435780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0_492e9_cf55795d_XL"/>
          <p:cNvPicPr/>
          <p:nvPr/>
        </p:nvPicPr>
        <p:blipFill>
          <a:blip r:embed="rId1"/>
          <a:stretch/>
        </p:blipFill>
        <p:spPr>
          <a:xfrm>
            <a:off x="539640" y="189000"/>
            <a:ext cx="4734000" cy="6264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003280" y="1599840"/>
            <a:ext cx="3838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На одной из колонн Малого храма высечена надпись: «Рамсес, сильный правдой, любимец Амона, создал это божественное жилище для своей возлюбленной супруги Нефертар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 1813 году швейцарский путешественник и географ Иоганн Буркхардт увидел на берегу Нила полузасыпанные песками странные каменные  валуны. Произведенные раскопки освободили четыре гигантские сидящие фигуры, которые, как предполагали, изображали богов с внешностью фараона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Великого.</a:t>
            </a:r>
            <a:r>
              <a:rPr b="0" lang="ru-RU" sz="20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2195640" y="623736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Раскопки храма. Художник Д.Роберт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8" descr="Roberts_Abu-Simbel_GreatTemple"/>
          <p:cNvPicPr/>
          <p:nvPr/>
        </p:nvPicPr>
        <p:blipFill>
          <a:blip r:embed="rId1"/>
          <a:stretch/>
        </p:blipFill>
        <p:spPr>
          <a:xfrm>
            <a:off x="1403280" y="1773360"/>
            <a:ext cx="68040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5406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Во второй половине 13 в. до н. э. египетский фараон Рамсес II в ознаменование своей победы над хеттами построил здесь скальный храм,  известный как Большой храм, или храм Рамсеса I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8" descr="Ramszesz_3"/>
          <p:cNvPicPr/>
          <p:nvPr/>
        </p:nvPicPr>
        <p:blipFill>
          <a:blip r:embed="rId1"/>
          <a:stretch/>
        </p:blipFill>
        <p:spPr>
          <a:xfrm>
            <a:off x="395280" y="2492280"/>
            <a:ext cx="3959280" cy="2978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/>
          <p:cNvSpPr/>
          <p:nvPr/>
        </p:nvSpPr>
        <p:spPr>
          <a:xfrm>
            <a:off x="90000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атуя Рамсеса </a:t>
            </a:r>
            <a:r>
              <a:rPr b="0" lang="en-US" sz="1800" spc="-1" strike="noStrike">
                <a:solidFill>
                  <a:srgbClr val="808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12" descr="RamsesII_82fe6966c79b4402a6e8e8bebdc33a46"/>
          <p:cNvPicPr/>
          <p:nvPr/>
        </p:nvPicPr>
        <p:blipFill>
          <a:blip r:embed="rId2"/>
          <a:stretch/>
        </p:blipFill>
        <p:spPr>
          <a:xfrm>
            <a:off x="4643280" y="1384200"/>
            <a:ext cx="411480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788000" y="260280"/>
            <a:ext cx="419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Громадные статуи Рамсеса были издалека видны всем плывущим по Нилу. А когда над горизонтом появлялись первые лучи солнца, колоссы окрашивались в темно-красный цвет, резко выделяясь на фоне иссиня-черных отбрасываемых ими тен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6" descr="abusimbelatnight_3п"/>
          <p:cNvPicPr/>
          <p:nvPr/>
        </p:nvPicPr>
        <p:blipFill>
          <a:blip r:embed="rId1"/>
          <a:stretch/>
        </p:blipFill>
        <p:spPr>
          <a:xfrm>
            <a:off x="3419640" y="2367000"/>
            <a:ext cx="5327640" cy="4491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abu_simbel2_3"/>
          <p:cNvPicPr/>
          <p:nvPr/>
        </p:nvPicPr>
        <p:blipFill>
          <a:blip r:embed="rId2"/>
          <a:stretch/>
        </p:blipFill>
        <p:spPr>
          <a:xfrm>
            <a:off x="0" y="404640"/>
            <a:ext cx="4643280" cy="348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mage"/>
          <p:cNvPicPr/>
          <p:nvPr/>
        </p:nvPicPr>
        <p:blipFill>
          <a:blip r:embed="rId1"/>
          <a:stretch/>
        </p:blipFill>
        <p:spPr>
          <a:xfrm>
            <a:off x="1692360" y="549360"/>
            <a:ext cx="2519280" cy="331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age"/>
          <p:cNvPicPr/>
          <p:nvPr/>
        </p:nvPicPr>
        <p:blipFill>
          <a:blip r:embed="rId2"/>
          <a:stretch/>
        </p:blipFill>
        <p:spPr>
          <a:xfrm>
            <a:off x="4716360" y="115920"/>
            <a:ext cx="3870360" cy="4319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image"/>
          <p:cNvPicPr/>
          <p:nvPr/>
        </p:nvPicPr>
        <p:blipFill>
          <a:blip r:embed="rId3"/>
          <a:stretch/>
        </p:blipFill>
        <p:spPr>
          <a:xfrm>
            <a:off x="4716360" y="4884840"/>
            <a:ext cx="3225960" cy="1973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image"/>
          <p:cNvPicPr/>
          <p:nvPr/>
        </p:nvPicPr>
        <p:blipFill>
          <a:blip r:embed="rId4"/>
          <a:stretch/>
        </p:blipFill>
        <p:spPr>
          <a:xfrm>
            <a:off x="826920" y="407664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788000" y="1557360"/>
            <a:ext cx="419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кальный храм представляет собой четыре последовательно уменьшающихся прямоугольных зала с подсобными боковыми помещения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7" descr="image"/>
          <p:cNvPicPr/>
          <p:nvPr/>
        </p:nvPicPr>
        <p:blipFill>
          <a:blip r:embed="rId1"/>
          <a:stretch/>
        </p:blipFill>
        <p:spPr>
          <a:xfrm>
            <a:off x="395280" y="549360"/>
            <a:ext cx="3984480" cy="5983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image"/>
          <p:cNvPicPr/>
          <p:nvPr/>
        </p:nvPicPr>
        <p:blipFill>
          <a:blip r:embed="rId2"/>
          <a:stretch/>
        </p:blipFill>
        <p:spPr>
          <a:xfrm>
            <a:off x="4572000" y="3284640"/>
            <a:ext cx="43275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Roberts_Abu-Simbel_Interior"/>
          <p:cNvPicPr/>
          <p:nvPr/>
        </p:nvPicPr>
        <p:blipFill>
          <a:blip r:embed="rId1"/>
          <a:stretch/>
        </p:blipFill>
        <p:spPr>
          <a:xfrm>
            <a:off x="179280" y="260280"/>
            <a:ext cx="5688000" cy="38480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4724280"/>
            <a:ext cx="3726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808000"/>
                </a:solidFill>
                <a:latin typeface="Tahoma"/>
              </a:rPr>
              <a:t>Сразу же за дверями, в первом помещении храма, посетителя встречают восемь фигур фараона Рамсеса в облике бога Осирис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4" descr="image"/>
          <p:cNvPicPr/>
          <p:nvPr/>
        </p:nvPicPr>
        <p:blipFill>
          <a:blip r:embed="rId2"/>
          <a:stretch/>
        </p:blipFill>
        <p:spPr>
          <a:xfrm>
            <a:off x="5148360" y="2924280"/>
            <a:ext cx="381132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78920" y="5445000"/>
            <a:ext cx="85410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Стены и потолки внутренних помещений храма покрывают росписи и раскрашенные рельефы, относящиеся к лучшим образцам искусства Древнего Египта поздне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Picture 4" descr="Egypt2011_15-1196_AbuSimbel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image"/>
          <p:cNvPicPr/>
          <p:nvPr/>
        </p:nvPicPr>
        <p:blipFill>
          <a:blip r:embed="rId1"/>
          <a:stretch/>
        </p:blipFill>
        <p:spPr>
          <a:xfrm>
            <a:off x="468360" y="189000"/>
            <a:ext cx="8316720" cy="55386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1763640" y="5950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Tahoma"/>
              </a:rPr>
              <a:t>Храм Хатхор, посвященный Нефертар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9:44:07Z</dcterms:created>
  <dc:creator>user</dc:creator>
  <dc:description/>
  <dc:language>en-US</dc:language>
  <cp:lastModifiedBy>Юля</cp:lastModifiedBy>
  <dcterms:modified xsi:type="dcterms:W3CDTF">2012-01-28T23:01:44Z</dcterms:modified>
  <cp:revision>2</cp:revision>
  <dc:subject/>
  <dc:title>Слайд 1</dc:title>
</cp:coreProperties>
</file>