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12A-5D0E-47DB-B888-56027BD5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3EB-88EB-4BBE-BBD9-54A05AE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EE9-2F12-4826-8578-5F1788BD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842-8B7A-4FA9-B790-70E15BC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9C98-8F6D-4BE8-A9D4-1265D86E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A622-B317-43AA-BFCD-4CFF7F3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E575-97BE-49FF-A0EA-2E7F38A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1D3-859E-4DF4-BA98-103F08E5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40F6-C7E8-4074-86A0-8F1B4272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A3FF-5EB2-48B0-BA1C-F934E262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240-C493-4E4F-A77A-0E3CA1C1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072-ED66-47A0-81A8-2F21C4A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F9F-CD5A-4510-AFC3-9CFDEF5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CE31-6336-4249-9CD9-6D7CC611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81BD-E0CF-4F87-BC76-451CBD7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995C-AA5E-420F-A01B-E207FCEA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2A11-6F31-42C6-B2AF-2620FE3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8D6-3F0A-482D-9952-44A487CF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521-5532-48D0-A568-657C1011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525-0645-4FBE-B0B1-E725A4ED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8B2-D4BF-4FA2-8DBA-8BF8153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6FF-1623-486A-99A8-B70A7B7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FBB-3424-407C-BB60-08F5102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D0A-0E90-4821-949D-81A4051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E19A-CC20-4926-A681-96C8B39E6C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E67-BA9B-442F-91EE-16DF65525D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идродинамически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авар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99640" y="0"/>
            <a:ext cx="75438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идродинамическая авар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ушение (прорыв) гидротехнических сооружений происходит в результате действия сил природы (землетрясений, ураганов, размывов плотин) или воздействия человека (нанесения ударов ядерным или обычным оружием по гидротехническим сооружениям, крупным естественным плотинам диверсионных актов), а также из-за конструктивных дефектов или ошибок проект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ages-KTqk2Vq93b"/>
          <p:cNvPicPr/>
          <p:nvPr/>
        </p:nvPicPr>
        <p:blipFill>
          <a:blip r:embed="rId1"/>
          <a:stretch/>
        </p:blipFill>
        <p:spPr>
          <a:xfrm>
            <a:off x="2843280" y="220500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646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ahoma"/>
              </a:rPr>
              <a:t>Причины гидродинамической аварии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5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Могут быть природные явления или стихийные бедствия (землетрясения, обвалы, оползни, паводки, размыв грунтов, ураганы и т.п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Техногенные факторы (разрушение конструкций соору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Эксплуатационно-технические ава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Конструктивные дефекты или ошибки проектирования, нарушение режима водосбора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В ЧС военного времени – современные средства поражения (ССП) и террористические а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следствиями гидродинамических аварий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вреждение и разрушение гидроузлов и кратковременное или долговременное прекращение выполнения ими свои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ражение людей и разрушение сооружений волной прорыва, образующейся в результате разрушения гидротехнического сооружения, имеющей высоту от 2 до 12 м и скорость движения от 3 до 25 км/ч (для горных районов – до 100 км/ч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тастрофическое затопление обширных территорий слоем воды от 0,5 до 10 м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едупредительные 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ы проживаете на прилегающей к гидроузлу территории, уточните, попадает ли она в зону воздействия волны прорыва и возможного катастрофического затопления. Узнайте, расположены ли вблизи места Вашего проживания возвышенности, и каковы кратчайшие пути движения к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е сами и ознакомьте членов семьи с правилами поведения при воздействии волны прорыва и затопления местности, с порядком общей и частной эвакуации. Заранее уточните место сбора эвакуируемых, составьте перечень документов и имущества, вывозимых при эваку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мните места нахождения лодок, плотов, других плав.средств и подручных материалов для их изгото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lec2_1_1-1"/>
          <p:cNvPicPr/>
          <p:nvPr/>
        </p:nvPicPr>
        <p:blipFill>
          <a:blip r:embed="rId1"/>
          <a:stretch/>
        </p:blipFill>
        <p:spPr>
          <a:xfrm>
            <a:off x="2843280" y="3876840"/>
            <a:ext cx="4098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при угрозе гидродинамической ав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лучении информации об угрозе затопления и об эвакуации безотлагательно, в установленном порядке выходите (выезжайте) из опасной зоны в назначенный безопасный район или на возвышенные участки местности. Возьмите с собой документы, ценности, предметы первой необходимости и запас продуктов питания на 2-3 суток. 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другие отверс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76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в условиях наводнения при гидродинамических авар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внезапном затоплении для спасения от удара волны прорыва срочно займите ближайшее возвышенное место, заберитесь на крупное дерево или верхний этаж устойчивого здания. В случае нахождения в воде, при приближении волны прорыва нырните в глубину у основания вол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казавшись в воде, вплавь или с помощью подручных средств выбирайтесь на сухое место, лучше всего на дорогу или дамбу, по которым можно добраться до незатопленной территор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подтоплении Вашего дома отключите его электроснабжение, подайте сигнал о нахождении в доме (квартире) людей путем вывешивания из окна днем флага из яркой ткани, а ночью – фонаря. Для получения информации используйте радиоприемник с автономным питанием. Наиболее ценное имущество переместите на верхние этажи и чердаки. Организуйте учет продуктов питания и питьевой воды, их защиту от воздействия прибывающей воды и экономное расходов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товясь к возможной эвакуации по воде, возьмите документы, предметы первой необходимости, одежду и обувь с водоотталкивающими свойствами, подручные спасательные средства (надувные матрасы, подуш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 пытайтесь эвакуироваться самостоятельно. Это возможно только при видимости незатопленной территории, угрозе ухудшения обстановки, необходимости получения медицинской помощи, израсходовании продуктов питания и отсутствии перспектив в получении помощи со сторо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 действовать после гидродинамической ава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Просушите помещение, открыв все двери и окна. Уберите грязь с пола и стен, откачайте воду из подвалов. Не употребляйте пищевые продукты, которые находились в контакте с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8:25:49Z</dcterms:created>
  <dc:creator>User</dc:creator>
  <dc:description/>
  <dc:language>en-US</dc:language>
  <cp:lastModifiedBy>COMP</cp:lastModifiedBy>
  <dcterms:modified xsi:type="dcterms:W3CDTF">2011-11-24T06:17:21Z</dcterms:modified>
  <cp:revision>10</cp:revision>
  <dc:subject/>
  <dc:title>Гидродинамические                аварии</dc:title>
</cp:coreProperties>
</file>