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FBA1-525E-4CA7-B5F3-B1F76DB28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865E-3929-4DC7-BD99-B3D3E7A8E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8663-846E-4D35-BF27-63C9DC585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DCDA-BA72-4B8B-8449-97E2264C8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172B9-8DE2-4357-A224-A5288462B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D2BC0-AC62-49B3-88B1-6C639036C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47C18-87E6-4F6A-8DEE-132A6071F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5D1DC-BC97-4DE2-BAA0-54E804E55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BAA74-3A61-4751-929E-008B02224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F1562-CD9A-40D2-AC57-27FE065A4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A4085-C21E-4FF7-98F5-C778439A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ABC5-7143-45E5-AE4B-1DE6B7222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9E7CC-5C0B-4942-94E3-1011C718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A22E0-147B-4D38-BF1D-5E862836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54406-A35C-4CC0-9069-187D7C9D5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BFDA5-F323-4833-9B38-51CDE0E0A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7C161-7900-422C-9C5E-E39A65271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1AE3-AD8B-4046-9024-BBD5435D1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61B3-1ECE-4CC0-A244-5103B1FB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02E6-999D-4D20-A903-4778D09E4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8234-032D-46B2-A0B4-90C2799E3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0948-866C-4DD7-8841-6A3B4ADA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E8CE-2A83-476A-9095-C3196FAF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4562-3B0A-4A19-8D85-4FF43A97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70B2F-A25B-4B90-B810-675728D7AA2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3DAB1-1696-45CD-A2C3-BC7E45DA526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Гидродинамические</a:t>
            </a:r>
            <a:br>
              <a:rPr sz="4400"/>
            </a:b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              авари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99640" y="0"/>
            <a:ext cx="7543800" cy="717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Гидродинамическая авари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это чрезвычайное событие, связанное с выходом из строя (разрушением) гидротехнического сооружения или его части, и неуправляемым перемещением больших масс воды, несущих разрушения и затопления обширных территорий. К основным потенциально опасным гидротехническим сооружениям относятся плотины, водозаборные и водосборные сооружения (шлюзы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зрушение (прорыв) гидротехнических сооружений происходит в результате действия сил природы (землетрясений, ураганов, размывов плотин) или воздействия человека (нанесения ударов ядерным или обычным оружием по гидротехническим сооружениям, крупным естественным плотинам диверсионных актов), а также из-за конструктивных дефектов или ошибок проектирова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4" descr="images-KTqk2Vq93b"/>
          <p:cNvPicPr/>
          <p:nvPr/>
        </p:nvPicPr>
        <p:blipFill>
          <a:blip r:embed="rId1"/>
          <a:stretch/>
        </p:blipFill>
        <p:spPr>
          <a:xfrm>
            <a:off x="2843280" y="2205000"/>
            <a:ext cx="338436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42560" y="-316080"/>
            <a:ext cx="64645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ea"/>
                </a:solidFill>
                <a:latin typeface="Tahoma"/>
              </a:rPr>
              <a:t>Причины гидродинамической аварии: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280" y="981000"/>
            <a:ext cx="754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)Могут быть природные явления или стихийные бедствия (землетрясения, обвалы, оползни, паводки, размыв грунтов, ураганы и т.п.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)Техногенные факторы (разрушение конструкций сооруж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)Эксплуатационно-технические авар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)Конструктивные дефекты или ошибки проектирования, нарушение режима водосбора и др.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5)В ЧС военного времени – современные средства поражения (ССП) и террористические акт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066320" y="333000"/>
            <a:ext cx="7543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Последствиями гидродинамических аварий являютс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повреждение и разрушение гидроузлов и кратковременное или долговременное прекращение выполнения ими своих функци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поражение людей и разрушение сооружений волной прорыва, образующейся в результате разрушения гидротехнического сооружения, имеющей высоту от 2 до 12 м и скорость движения от 3 до 25 км/ч (для горных районов – до 100 км/ч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катастрофическое затопление обширных территорий слоем воды от 0,5 до 10 м и боле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Предупредительные мероприят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сли Вы проживаете на прилегающей к гидроузлу территории, уточните, попадает ли она в зону воздействия волны прорыва и возможного катастрофического затопления. Узнайте, расположены ли вблизи места Вашего проживания возвышенности, и каковы кратчайшие пути движения к ни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учите сами и ознакомьте членов семьи с правилами поведения при воздействии волны прорыва и затопления местности, с порядком общей и частной эвакуации. Заранее уточните место сбора эвакуируемых, составьте перечень документов и имущества, вывозимых при эвакуац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помните места нахождения лодок, плотов, других плав.средств и подручных материалов для их изготовл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4" descr="lec2_1_1-1"/>
          <p:cNvPicPr/>
          <p:nvPr/>
        </p:nvPicPr>
        <p:blipFill>
          <a:blip r:embed="rId1"/>
          <a:stretch/>
        </p:blipFill>
        <p:spPr>
          <a:xfrm>
            <a:off x="2843280" y="3876840"/>
            <a:ext cx="409896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066320" y="476280"/>
            <a:ext cx="75438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Как действовать при угрозе гидродинамической авар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получении информации об угрозе затопления и об эвакуации безотлагательно, в установленном порядке выходите (выезжайте) из опасной зоны в назначенный безопасный район или на возвышенные участки местности. Возьмите с собой документы, ценности, предметы первой необходимости и запас продуктов питания на 2-3 суток. Часть имущества, которое требуется сохранить от затопления, но нельзя взять с собой, перенесите на чердак, верхние этажи здания, деревья и т.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ед уходом из дома выключите электричество и газ, плотно закройте окна, двери, вентиляционные и другие отверст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24000" y="-360"/>
            <a:ext cx="8820000" cy="76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Как действовать в условиях наводнения при гидродинамических авария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ри внезапном затоплении для спасения от удара волны прорыва срочно займите ближайшее возвышенное место, заберитесь на крупное дерево или верхний этаж устойчивого здания. В случае нахождения в воде, при приближении волны прорыва нырните в глубину у основания волн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Оказавшись в воде, вплавь или с помощью подручных средств выбирайтесь на сухое место, лучше всего на дорогу или дамбу, по которым можно добраться до незатопленной территори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ри подтоплении Вашего дома отключите его электроснабжение, подайте сигнал о нахождении в доме (квартире) людей путем вывешивания из окна днем флага из яркой ткани, а ночью – фонаря. Для получения информации используйте радиоприемник с автономным питанием. Наиболее ценное имущество переместите на верхние этажи и чердаки. Организуйте учет продуктов питания и питьевой воды, их защиту от воздействия прибывающей воды и экономное расходовани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Готовясь к возможной эвакуации по воде, возьмите документы, предметы первой необходимости, одежду и обувь с водоотталкивающими свойствами, подручные спасательные средства (надувные матрасы, подушки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Не пытайтесь эвакуироваться самостоятельно. Это возможно только при видимости незатопленной территории, угрозе ухудшения обстановки, необходимости получения медицинской помощи, израсходовании продуктов питания и отсутствии перспектив в получении помощи со сторон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066320" y="0"/>
            <a:ext cx="75438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Как действовать после гидродинамической авар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ед тем, как войти в здание, убедитесь в отсутствии значительных повреждений перекрытий и стен. Проветрите здание для удаления накопившихся газов. Не используйте источники открытого огня до полного проветривания помещения и проверки исправности системы газоснабжения. Проверьте исправность электропроводки, труб газоснабжения, водопровода и канализации. Пользоваться ими разрешается только после заключения специалистов об исправности и пригодности к работе. Просушите помещение, открыв все двери и окна. Уберите грязь с пола и стен, откачайте воду из подвалов. Не употребляйте пищевые продукты, которые находились в контакте с вод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8T18:25:49Z</dcterms:created>
  <dc:creator>User</dc:creator>
  <dc:description/>
  <dc:language>en-US</dc:language>
  <cp:lastModifiedBy>COMP</cp:lastModifiedBy>
  <dcterms:modified xsi:type="dcterms:W3CDTF">2011-11-24T06:17:21Z</dcterms:modified>
  <cp:revision>10</cp:revision>
  <dc:subject/>
  <dc:title>Гидродинамические                аварии</dc:title>
</cp:coreProperties>
</file>