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CCA-4FAC-49EB-9001-4C30899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BEC-624B-4698-B667-52B9301B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94B-B787-421F-B7EF-DB7DA018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C40-3B55-44D7-84F5-521CC3A8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2B9D-CF75-4FBE-ACC1-C26313DF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22C-64BA-4F72-8A36-C3859CB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3F2-6025-4C74-AD91-100AB2F8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813B-4AB6-4A4D-A27C-3AB6665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8891-0701-46B8-B761-863B6BCB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4D85-2511-477E-B7AA-B39AD10E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49B-706A-4013-A30F-3448D32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38A-B6A1-425B-83A3-9B99035B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61E8-91FC-469A-B996-771AEB1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7957-9A6F-4FD7-A245-F22BE006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9FCD-2C10-4E2E-84C1-BEEFF187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3B60-7F06-430C-B849-489A617C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1C00-5056-46EC-9BCF-FDEDE23D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157-1BC9-4767-99C7-39E13DDF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41D-EF80-4BCD-970D-0B31EAC9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B38-2B18-4354-A0CF-BC301032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E62-8118-4071-8351-12C002DE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095-184E-4F5E-8A4B-A0156D5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096-11A8-45EA-9AFC-6F42882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EC7-03F8-4557-924E-AEE66B16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B8DB-33D0-4943-9467-504F15D33A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68AE-2903-4815-BF09-FFCFDF8D02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идродинамически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  авар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99640" y="0"/>
            <a:ext cx="75438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идродинамическая авар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чрезвычайное событие, связанное с выходом из строя (разрушением) гидротехнического сооружения или его части, и неуправляемым перемещением больших масс воды, несущих разрушения и затопления обширных территорий. К основным потенциально опасным гидротехническим сооружениям относятся плотины, водозаборные и водосборные сооружения (шлюз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ушение (прорыв) гидротехнических сооружений происходит в результате действия сил природы (землетрясений, ураганов, размывов плотин) или воздействия человека (нанесения ударов ядерным или обычным оружием по гидротехническим сооружениям, крупным естественным плотинам диверсионных актов), а также из-за конструктивных дефектов или ошибок проект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mages-KTqk2Vq93b"/>
          <p:cNvPicPr/>
          <p:nvPr/>
        </p:nvPicPr>
        <p:blipFill>
          <a:blip r:embed="rId1"/>
          <a:stretch/>
        </p:blipFill>
        <p:spPr>
          <a:xfrm>
            <a:off x="2843280" y="220500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646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ahoma"/>
              </a:rPr>
              <a:t>Причины гидродинамической аварии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54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Могут быть природные явления или стихийные бедствия (землетрясения, обвалы, оползни, паводки, размыв грунтов, ураганы и т.п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Техногенные факторы (разрушение конструкций соору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Эксплуатационно-технические ава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Конструктивные дефекты или ошибки проектирования, нарушение режима водосбора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В ЧС военного времени – современные средства поражения (ССП) и террористические а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33300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следствиями гидродинамических аварий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вреждение и разрушение гидроузлов и кратковременное или долговременное прекращение выполнения ими своих функ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ражение людей и разрушение сооружений волной прорыва, образующейся в результате разрушения гидротехнического сооружения, имеющей высоту от 2 до 12 м и скорость движения от 3 до 25 км/ч (для горных районов – до 100 км/ч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тастрофическое затопление обширных территорий слоем воды от 0,5 до 10 м и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едупредительные 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Вы проживаете на прилегающей к гидроузлу территории, уточните, попадает ли она в зону воздействия волны прорыва и возможного катастрофического затопления. Узнайте, расположены ли вблизи места Вашего проживания возвышенности, и каковы кратчайшие пути движения к н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е сами и ознакомьте членов семьи с правилами поведения при воздействии волны прорыва и затопления местности, с порядком общей и частной эвакуации. Заранее уточните место сбора эвакуируемых, составьте перечень документов и имущества, вывозимых при эваку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мните места нахождения лодок, плотов, других плав.средств и подручных материалов для их изгото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lec2_1_1-1"/>
          <p:cNvPicPr/>
          <p:nvPr/>
        </p:nvPicPr>
        <p:blipFill>
          <a:blip r:embed="rId1"/>
          <a:stretch/>
        </p:blipFill>
        <p:spPr>
          <a:xfrm>
            <a:off x="2843280" y="3876840"/>
            <a:ext cx="4098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действовать при угрозе гидродинамической ава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олучении информации об угрозе затопления и об эвакуации безотлагательно, в установленном порядке выходите (выезжайте) из опасной зоны в назначенный безопасный район или на возвышенные участки местности. Возьмите с собой документы, ценности, предметы первой необходимости и запас продуктов питания на 2-3 суток. Часть имущества, которое требуется сохранить от затопления, но нельзя взять с собой, перенесите на чердак, верхние этажи здания, деревь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 уходом из дома выключите электричество и газ, плотно закройте окна, двери, вентиляционные и другие отверс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820000" cy="76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действовать в условиях наводнения при гидродинамических авар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 внезапном затоплении для спасения от удара волны прорыва срочно займите ближайшее возвышенное место, заберитесь на крупное дерево или верхний этаж устойчивого здания. В случае нахождения в воде, при приближении волны прорыва нырните в глубину у основания вол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казавшись в воде, вплавь или с помощью подручных средств выбирайтесь на сухое место, лучше всего на дорогу или дамбу, по которым можно добраться до незатопленной территор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 подтоплении Вашего дома отключите его электроснабжение, подайте сигнал о нахождении в доме (квартире) людей путем вывешивания из окна днем флага из яркой ткани, а ночью – фонаря. Для получения информации используйте радиоприемник с автономным питанием. Наиболее ценное имущество переместите на верхние этажи и чердаки. Организуйте учет продуктов питания и питьевой воды, их защиту от воздействия прибывающей воды и экономное расходова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товясь к возможной эвакуации по воде, возьмите документы, предметы первой необходимости, одежду и обувь с водоотталкивающими свойствами, подручные спасательные средства (надувные матрасы, подушк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 пытайтесь эвакуироваться самостоятельно. Это возможно только при видимости незатопленной территории, угрозе ухудшения обстановки, необходимости получения медицинской помощи, израсходовании продуктов питания и отсутствии перспектив в получении помощи со сторо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к действовать после гидродинамической ава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тем, как войти в здание, убедитесь в отсутствии значительных повреждений перекрытий и стен. Проветрите здание для удаления накопившихся газов. Не используйте источники открытого огня до полного проветривания помещения и проверки исправности системы газоснабжения. Проверьте исправность электропроводки, труб газоснабжения, водопровода и канализации. Пользоваться ими разрешается только после заключения специалистов об исправности и пригодности к работе. Просушите помещение, открыв все двери и окна. Уберите грязь с пола и стен, откачайте воду из подвалов. Не употребляйте пищевые продукты, которые находились в контакте с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8:25:49Z</dcterms:created>
  <dc:creator>User</dc:creator>
  <dc:description/>
  <dc:language>en-US</dc:language>
  <cp:lastModifiedBy>COMP</cp:lastModifiedBy>
  <dcterms:modified xsi:type="dcterms:W3CDTF">2011-11-24T06:17:21Z</dcterms:modified>
  <cp:revision>10</cp:revision>
  <dc:subject/>
  <dc:title>Гидродинамические                аварии</dc:title>
</cp:coreProperties>
</file>