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8803-1152-4637-9EC8-DDB3F3EB225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7CC4-91B0-4952-9C21-B74B53238255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3109-B8EA-42DB-80DE-7EDC68A74ABA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E7D-A125-47F4-BF48-0DF1F8E97BA4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9C92-C47C-485A-9DD4-A478AD491D27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4119-46C4-4C0B-946D-98D9C8A9386B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CE1F-5D95-4091-A039-C8554D9311F4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DFA9-971B-491E-B29E-EE627B096634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4CC3-1B9F-498C-864A-5B9DDD372774}" type="slidenum">
              <a:rPr b="0" lang="ru-RU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72A8-7CF0-4B88-A6E6-33842B77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43E2-0CDE-4787-8EA6-476888E6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017E-CED2-4C8C-9297-B9E65642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38B8-9206-42D1-9D18-B942A132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6AC8-7E05-4E9E-AAB3-26CD5B29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C01F-3B90-491A-B1C2-BF2FCC27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8FA1-5D07-44CB-9B30-1B96CDF3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896E-CB8D-42DE-A57D-D4190EEF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BE98-BCB1-48DF-B8B1-34562D52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9E48-F243-4BF9-8BC1-BA0F6FF6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74D4-3CB8-4FBE-AFA5-03ABE63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CA0A-3569-4E92-BC68-0CFF80E9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FF4D-E7C2-4246-8C37-26E983CE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CC3B-15B0-401E-B4C4-9868BD6C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B508-7A26-482A-8D35-86FFAB89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E3DF-9C2F-4F95-B6D4-886F9B12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3CDC-60BE-4D4E-9F3E-F8D5329C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33FD-886B-4E6E-A417-6141123A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D07B-6398-4A48-9BD7-D6B74357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979D-7E63-44A3-B9B5-1313EDA2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B013-4427-435C-8F3A-C2E18ADC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82A0-0376-493A-B887-43A71519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A1B9-7F10-49E2-BC57-B4C88AF7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3589-446F-429B-BB30-07AF530D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1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8D8F-AC53-4367-BC3C-1C72AAA83D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18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C7BE-B1F7-4DDB-9057-D05164CCA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Школа №42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ыпуск 1969 г.</a:t>
            </a:r>
            <a:endParaRPr b="1" lang="en-US" sz="36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97" name="Picture 2" descr="C:\Documents and Settings\АДМИНЕСТРАТОР\Мои документы\Мои рисунки\КОЛОКОЛЬЧИК 2.jpg"/>
          <p:cNvPicPr/>
          <p:nvPr/>
        </p:nvPicPr>
        <p:blipFill>
          <a:blip r:embed="rId1"/>
          <a:stretch/>
        </p:blipFill>
        <p:spPr>
          <a:xfrm>
            <a:off x="285840" y="142920"/>
            <a:ext cx="1528560" cy="1428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71360" y="5857920"/>
            <a:ext cx="7086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уборке картофеля, ст. Егозово,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 сентября 1968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1" name="Picture 2" descr="I:\ф\Изображение 002.jpg"/>
          <p:cNvPicPr/>
          <p:nvPr/>
        </p:nvPicPr>
        <p:blipFill>
          <a:blip r:embed="rId1"/>
          <a:stretch/>
        </p:blipFill>
        <p:spPr>
          <a:xfrm>
            <a:off x="214200" y="214200"/>
            <a:ext cx="7045560" cy="45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56760" y="5928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нтябрь 1968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4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5" name="Picture 3" descr="I:\ф\Изображение 003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14200" y="214200"/>
            <a:ext cx="6937560" cy="4786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28400" y="5785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нтябрь 1968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8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9" name="Picture 2" descr="I:\ф\Изображение 005.jpg"/>
          <p:cNvPicPr/>
          <p:nvPr/>
        </p:nvPicPr>
        <p:blipFill>
          <a:blip r:embed="rId1"/>
          <a:stretch/>
        </p:blipFill>
        <p:spPr>
          <a:xfrm>
            <a:off x="214200" y="0"/>
            <a:ext cx="7072560" cy="471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0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85480" y="571500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кола №42, 1969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13" name="Picture 2" descr="I:\ф\Изображение 006.jpg"/>
          <p:cNvPicPr/>
          <p:nvPr/>
        </p:nvPicPr>
        <p:blipFill>
          <a:blip r:embed="rId1"/>
          <a:stretch/>
        </p:blipFill>
        <p:spPr>
          <a:xfrm>
            <a:off x="285840" y="0"/>
            <a:ext cx="7221600" cy="5143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0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85480" y="571500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юнь 1969г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17" name="Picture 2" descr="I:\ф\Изображение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14200" y="214200"/>
            <a:ext cx="7143840" cy="5499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15120" y="928440"/>
            <a:ext cx="1928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0 «А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85480" y="5572080"/>
            <a:ext cx="7086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юнь 1969 г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. руководитель О.А.Зимин,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истории В.А.Шаров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21" name="Picture 2" descr="I:\ф\Изображение 001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14200" y="214200"/>
            <a:ext cx="7112160" cy="4643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31431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асибо за внимание 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5bcd81"/>
              </a:gs>
              <a:gs pos="50000">
                <a:srgbClr val="b4e8c5"/>
              </a:gs>
              <a:gs pos="100000">
                <a:srgbClr val="5bcd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24" name="Picture 2" descr="I:\КОЛОКОЛЬЧИК 1.jpg"/>
          <p:cNvPicPr/>
          <p:nvPr/>
        </p:nvPicPr>
        <p:blipFill>
          <a:blip r:embed="rId1"/>
          <a:stretch/>
        </p:blipFill>
        <p:spPr>
          <a:xfrm>
            <a:off x="214200" y="214200"/>
            <a:ext cx="1468440" cy="2189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3:23:38Z</dcterms:created>
  <dc:creator>Сушкова</dc:creator>
  <dc:description/>
  <dc:language>en-US</dc:language>
  <cp:lastModifiedBy>user1</cp:lastModifiedBy>
  <dcterms:modified xsi:type="dcterms:W3CDTF">2009-05-30T02:46:21Z</dcterms:modified>
  <cp:revision>9</cp:revision>
  <dc:subject/>
  <dc:title>Слайд 1</dc:title>
</cp:coreProperties>
</file>