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08A7-4F76-48A0-967D-4A064868449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E42E-3CBF-443A-A000-CC509207BF29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FC06-66AB-4771-90A1-26986C04022F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38D9-45D2-405B-BBB3-C7C1628D7FC2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6B26-CA51-460B-B8F6-E68D0D65D689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03C2-9B01-4FD5-BD72-EC42DE11113C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8B53-9D94-41D4-B836-4C43788FD798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7351-92F7-4714-9F01-48011DDBE247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6B4F-5746-4B8B-8D24-F82E6A4FF7A2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F4922-2C99-4CB3-BF15-7B3B69A2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6569D-71E0-4039-9960-1C79798E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47682-A174-4E59-B1DA-8D2A9AE8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A1B18-2E4D-4E34-975B-8C09DD53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ECB6-EE3E-4B4C-8905-4187A88A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F7E5-B582-45D4-B224-9605FE18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1359-25A6-40E3-AF45-3E2C7BA4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4FEC-BB20-4B14-A7B7-B34F069B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D573-403D-403E-9B80-0E8CEB90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B6BF-9206-445C-92CF-9484CC07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A933-EA28-47D6-B1A1-8B49D7E0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0A1B-580B-4D56-AACA-BB9FA1E8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8DDB-A66E-4C25-8A20-29ECEE22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0CD4-88C4-4F50-B879-6BC757DD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C486-25C4-4D7A-B250-5E61E889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EF35-C695-4341-8C11-EF4C1A0F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EDAC-6C59-48B1-8DA3-9FD19A97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3160-187A-4DF0-B72B-5FF02ECD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1E6C-F6D6-4CD6-953C-16921993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8174-F079-4F42-B20C-0C659684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64551-13E9-4A50-B907-F5A47A9B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9F440-26C4-4F02-A71B-D8FCDAAC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36BF-7C36-4B03-AA50-CB5B28AE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B462-115F-4BEB-B4BD-98C50883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1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352320" y="6479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7EFC-E394-456A-8D08-6107FB706C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943240" y="64796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18"/>
          <p:cNvSpPr/>
          <p:nvPr/>
        </p:nvSpPr>
        <p:spPr>
          <a:xfrm>
            <a:off x="228600" y="228600"/>
            <a:ext cx="1219320" cy="12193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304920" y="65232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399E-FF50-407F-A979-0209386B5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Школа №42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086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ыпуск 1969 г.</a:t>
            </a:r>
            <a:endParaRPr b="1" lang="en-US" sz="36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6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97" name="Picture 2" descr="C:\Documents and Settings\АДМИНЕСТРАТОР\Мои документы\Мои рисунки\КОЛОКОЛЬЧИК 2.jpg"/>
          <p:cNvPicPr/>
          <p:nvPr/>
        </p:nvPicPr>
        <p:blipFill>
          <a:blip r:embed="rId1"/>
          <a:stretch/>
        </p:blipFill>
        <p:spPr>
          <a:xfrm>
            <a:off x="285840" y="142920"/>
            <a:ext cx="1528560" cy="1428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9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71360" y="5857920"/>
            <a:ext cx="7086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уборке картофеля, ст. Егозово, 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 сентября 1968г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00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01" name="Picture 2" descr="I:\ф\Изображение 002.jpg"/>
          <p:cNvPicPr/>
          <p:nvPr/>
        </p:nvPicPr>
        <p:blipFill>
          <a:blip r:embed="rId1"/>
          <a:stretch/>
        </p:blipFill>
        <p:spPr>
          <a:xfrm>
            <a:off x="214200" y="214200"/>
            <a:ext cx="7045560" cy="457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9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56760" y="59288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нтябрь 1968г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04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05" name="Picture 3" descr="I:\ф\Изображение 003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14200" y="214200"/>
            <a:ext cx="6937560" cy="4786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9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28400" y="57859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нтябрь 1968г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08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09" name="Picture 2" descr="I:\ф\Изображение 005.jpg"/>
          <p:cNvPicPr/>
          <p:nvPr/>
        </p:nvPicPr>
        <p:blipFill>
          <a:blip r:embed="rId1"/>
          <a:stretch/>
        </p:blipFill>
        <p:spPr>
          <a:xfrm>
            <a:off x="214200" y="0"/>
            <a:ext cx="7072560" cy="4714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0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85480" y="571500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Школа №42, 1969г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12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13" name="Picture 2" descr="I:\ф\Изображение 006.jpg"/>
          <p:cNvPicPr/>
          <p:nvPr/>
        </p:nvPicPr>
        <p:blipFill>
          <a:blip r:embed="rId1"/>
          <a:stretch/>
        </p:blipFill>
        <p:spPr>
          <a:xfrm>
            <a:off x="285840" y="0"/>
            <a:ext cx="7221600" cy="5143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0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85480" y="571500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юнь 1969г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16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17" name="Picture 2" descr="I:\ф\Изображение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14200" y="214200"/>
            <a:ext cx="7143840" cy="5499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0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85480" y="5572080"/>
            <a:ext cx="7086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юнь 1969 г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л. руководитель О.А.Зимин,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 истории В.А.Шаров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20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21" name="Picture 2" descr="I:\ф\Изображение 001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14200" y="214200"/>
            <a:ext cx="7112160" cy="4643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314316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Спасибо за внимание !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24" name="Picture 2" descr="I:\КОЛОКОЛЬЧИК 1.jpg"/>
          <p:cNvPicPr/>
          <p:nvPr/>
        </p:nvPicPr>
        <p:blipFill>
          <a:blip r:embed="rId1"/>
          <a:stretch/>
        </p:blipFill>
        <p:spPr>
          <a:xfrm>
            <a:off x="214200" y="214200"/>
            <a:ext cx="1468440" cy="2189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3:23:38Z</dcterms:created>
  <dc:creator>Сушкова</dc:creator>
  <dc:description/>
  <dc:language>en-US</dc:language>
  <cp:lastModifiedBy>user1</cp:lastModifiedBy>
  <dcterms:modified xsi:type="dcterms:W3CDTF">2009-05-30T02:46:21Z</dcterms:modified>
  <cp:revision>9</cp:revision>
  <dc:subject/>
  <dc:title>Слайд 1</dc:title>
</cp:coreProperties>
</file>