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81D-CE0B-4182-9D92-68E7DF094CA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25E-1F28-4868-A96F-D195905F2940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230-3776-459A-9C3B-EE7DFC7E3B94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54F-7538-4159-AA38-5C25BD00B282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738C-7D2F-4B94-94C2-4F3B4A6B5E48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9C3-66B9-408B-A3D2-71FD51D77530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C2E-24F4-4624-81C9-8A3A000B228E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3682-F065-4A37-B0FA-76A031CECDE9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527-EB6D-4C5C-A313-52369CBA3535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E81A-B1C4-44D5-9BB1-65F6B046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12DA-6699-45F5-B606-49E1034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98C8-2230-4D85-9C56-E92B07FD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A9BC-D2EF-4A1C-B9E2-4922B3BC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CAD-F076-4E5E-BE35-F49DAA8C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B55-EFE3-4149-A676-6CC119D9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7E13-583D-4563-8622-A97FE0D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998-CD99-4EBA-86B7-68A6D12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C9B-B263-413E-9FD2-C6C88A5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64D9-BE4D-4154-A2F2-53C215A0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30D-FA71-46DD-85B3-6733119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1DEB-593F-4918-A2A1-74B6542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423-C890-439C-9B63-875A9B65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839A-140C-4570-B372-6551B10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E59-C4F7-4793-BE5F-3ECF124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08B4-5581-47F9-84E2-99A11AA9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1BF-B996-4DA4-A9E7-AF88C127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6622-2B3C-4C91-995A-EA680B5E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542F-4026-4AF8-AA75-302E9FDF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45CF-575D-42C5-B61B-445E1B6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2923-148F-40EB-BF4A-740D747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E618-1B79-4B8B-B832-02807F8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3278-5922-4546-82DB-E7AE8AC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8B93-E171-4BEA-8219-DBE3A30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6726-82DF-41DA-ABE0-C21E80706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C1B-D78C-43BA-A1C8-BD4488A24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Школа №42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ыпуск 1969 г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97" name="Picture 2" descr="C:\Documents and Settings\АДМИНЕСТРАТОР\Мои документы\Мои рисунки\КОЛОКОЛЬЧИК 2.jpg"/>
          <p:cNvPicPr/>
          <p:nvPr/>
        </p:nvPicPr>
        <p:blipFill>
          <a:blip r:embed="rId1"/>
          <a:stretch/>
        </p:blipFill>
        <p:spPr>
          <a:xfrm>
            <a:off x="285840" y="142920"/>
            <a:ext cx="152856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136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борке картофеля, ст. Егозово,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 сентября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1" name="Picture 2" descr="I:\ф\Изображение 002.jpg"/>
          <p:cNvPicPr/>
          <p:nvPr/>
        </p:nvPicPr>
        <p:blipFill>
          <a:blip r:embed="rId1"/>
          <a:stretch/>
        </p:blipFill>
        <p:spPr>
          <a:xfrm>
            <a:off x="214200" y="214200"/>
            <a:ext cx="704556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760" y="5928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5" name="Picture 3" descr="I:\ф\Изображение 003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6937560" cy="478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8400" y="5785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8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9" name="Picture 2" descr="I:\ф\Изображение 005.jpg"/>
          <p:cNvPicPr/>
          <p:nvPr/>
        </p:nvPicPr>
        <p:blipFill>
          <a:blip r:embed="rId1"/>
          <a:stretch/>
        </p:blipFill>
        <p:spPr>
          <a:xfrm>
            <a:off x="214200" y="0"/>
            <a:ext cx="70725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кола №42,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3" name="Picture 2" descr="I:\ф\Изображение 006.jpg"/>
          <p:cNvPicPr/>
          <p:nvPr/>
        </p:nvPicPr>
        <p:blipFill>
          <a:blip r:embed="rId1"/>
          <a:stretch/>
        </p:blipFill>
        <p:spPr>
          <a:xfrm>
            <a:off x="285840" y="0"/>
            <a:ext cx="7221600" cy="514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юнь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7" name="Picture 2" descr="I:\ф\Изображение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43840" cy="549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5480" y="557208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юнь 1969 г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. руководитель О.А.Зимин,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стории В.А.Шаров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1" name="Picture 2" descr="I:\ф\Изображение 00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12160" cy="4643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31431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 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4" name="Picture 2" descr="I:\КОЛОКОЛЬЧИК 1.jpg"/>
          <p:cNvPicPr/>
          <p:nvPr/>
        </p:nvPicPr>
        <p:blipFill>
          <a:blip r:embed="rId1"/>
          <a:stretch/>
        </p:blipFill>
        <p:spPr>
          <a:xfrm>
            <a:off x="214200" y="214200"/>
            <a:ext cx="1468440" cy="2189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23:38Z</dcterms:created>
  <dc:creator>Сушкова</dc:creator>
  <dc:description/>
  <dc:language>en-US</dc:language>
  <cp:lastModifiedBy>user1</cp:lastModifiedBy>
  <dcterms:modified xsi:type="dcterms:W3CDTF">2009-05-30T02:46:21Z</dcterms:modified>
  <cp:revision>9</cp:revision>
  <dc:subject/>
  <dc:title>Слайд 1</dc:title>
</cp:coreProperties>
</file>