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96A-5709-481D-AA39-8BE9F8C8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4BC-B34B-44C5-AEC5-B6293948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407-C5E9-49D7-9CE2-9E9C5A2D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FA9-73DF-473D-B52C-B4F74970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CA0-0995-4197-9BB9-BC17A508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CA9A-BEFA-485B-BE66-AA52E78D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4FC2-A004-46FE-9F54-89A4AA0C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7F80-B166-4F96-879A-169E5E6F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5F61-484B-4991-BD25-A06AB5DF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F744-C8B0-4062-82BA-577DD832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C80A-8B9F-4BD3-AC82-A7B7C22B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B23-8AFA-4727-AC75-CE6D3F42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EA60-BE61-4769-8125-C858C2D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4F8D-C198-4D3B-B4D4-C484C04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0FF0-9AB4-4A95-9C6D-BDD395D5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68DD-AC8F-4D8B-96BF-BF9BAE1C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6363-1741-451D-9BA6-E51C3133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21C7-0D3B-4D49-B0D3-D1837700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EF9E-B19B-4FE7-BAD2-64F2266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804E-A89D-44B3-9F89-3D66AC1E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D8DC-38D3-4156-8BC4-785EDEA2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6643-E73D-4FCC-840F-6F89095A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2A2-DA7A-4677-9853-47EC56B1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0472-840F-48C3-B38C-1A73C7D3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047C-EB5A-4B7C-AD7F-CDCEA6E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EBED-489E-471C-A582-EE29672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0E2B-5329-42DB-BC12-AE526937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2BBC-1652-4751-B0D0-F5E42B0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9F1C-ADC8-4DB0-A659-87277856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D0A1-1A4B-4BCF-A650-E5D0BE0C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108A-953E-4AB3-A61B-42A9EC73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54CE-6D8B-4E11-9E81-F4CE3C19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2605-A63F-4704-AE53-6588C462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DFF-A11F-4606-A535-E83E1687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639D-83DD-475E-A2D9-9FB15CEF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0AE8-BCD7-4CB2-8FC1-0EE2F373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9E756-2461-408D-9E44-528DD01B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0099-8C69-472A-8F47-923D857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82E99-A6AA-4F00-B9F3-C922954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AA33-3F60-4D41-A244-B8D63B8B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D412-73C1-4CD3-A0AA-B17DD07E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F17C0-6460-4312-A5BC-E3F59715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69E02-19E5-4F28-8AB1-4B342102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6D7B-1385-4BF8-BAAA-6475F463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613-7E72-443F-8AC5-71E6E8B2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76163-7077-47B0-B9FD-23D3971F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7A02-FDCC-4895-A5B9-86E3B5D3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4A921-4B05-49EF-8771-589991E4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F39C-9BC2-4AFE-99AD-10318828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A518-EB83-4BBD-B102-C30BA0ED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28B27-DA1E-40D0-AECF-51B08787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016C3-15EA-4556-859B-BB059A0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0F590-FE67-4C4D-908E-CDD563EF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AC2FA-BFBB-465A-8CD8-D40F44DB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2092-8581-41FA-89A7-63DD8AD1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C7E-A1A0-4E16-BECC-06A21C93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3D13-6CC1-4F68-ACA5-77D04553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608B1-32F0-4803-8E07-F252474F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5E598-AED7-4CB6-BCBF-2335BFEE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39E37-3146-4FF2-A2ED-D6AF092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E392D-FBBA-4F9D-9364-D71FDA21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C08D-1D21-4FE1-8D50-C7237949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A3E3-EC49-4B42-ABD0-55688AC4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953D5-C7CF-494D-B1BD-386593F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152E-8791-4278-ABFE-7D61F7B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9AF1-86A2-44C4-ABE1-DA1AB213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988-9F34-46B3-9E2C-A720570E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6D32-9613-44B5-80FD-C1A3F888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B6D2-A52A-4FC8-81A1-A9F1C4C7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53ED3-E5D9-4E60-9056-A7DCDF4D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425-B61F-4FDE-8054-07474F8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E7E-2E43-45FA-86B1-4E0C1E96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08E1-D224-44D4-B1B1-4DC5D017635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71DA-C5D1-42F3-8E53-15438441FE6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D3E-EEEB-4A0F-87C4-5F5A329857C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33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DBDC-E6D7-46BC-9001-3A37AF8D6C0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F8FC-B740-48DA-9BE6-9C57CC02057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7203-9042-4589-929C-49A316DF9F5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99640" y="3141720"/>
            <a:ext cx="770580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bri"/>
              </a:rPr>
              <a:t>Классификация прав человека.</a:t>
            </a:r>
            <a:br>
              <a:rPr sz="3600"/>
            </a:br>
            <a:r>
              <a:rPr b="1" lang="en-US" sz="3600" spc="-1" strike="noStrike">
                <a:solidFill>
                  <a:srgbClr val="66ffff"/>
                </a:solidFill>
                <a:latin typeface="Calibri"/>
              </a:rPr>
              <a:t>Классификация конституционных обязанностей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Calibri"/>
              </a:rPr>
              <a:t>московский государственный университет экономики, статистики и информати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"/>
          <p:cNvSpPr/>
          <p:nvPr/>
        </p:nvSpPr>
        <p:spPr>
          <a:xfrm>
            <a:off x="3205440" y="907920"/>
            <a:ext cx="25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калининградский филиал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"/>
          <p:cNvSpPr/>
          <p:nvPr/>
        </p:nvSpPr>
        <p:spPr>
          <a:xfrm>
            <a:off x="2634120" y="155736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зентация на тему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прав человека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9840" y="1413000"/>
            <a:ext cx="90741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уществует несколько классификаций прав человека, но мы остановимся только на концепции “поколений” прав человека. Эта концепция возникла в 70-е годы XX 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Права человека, по времени их возникновения, делятся на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Franklin Gothic Book"/>
              </a:rPr>
              <a:t>три поколения</a:t>
            </a: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Первое покол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конец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.) – личные (гражданские) и политические права (провозглашенные Великой Французской революцией, а также американской борьбой за независимость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Второе покол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сер.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.) – социально-экономические и культурные права (появились в результате борьбы народа за улучшение своего положения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Треть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, новейшее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 покол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70-е г.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.) – права коллективны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Большинство специалистов считает, что в рамках прав человека нельзя говорить о коллективных правах. Права человека – это не права наций, меньшинств или иных социальных групп. Это права отдельных лиц, права “единицы”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пок. Личные и политические права:</a:t>
            </a:r>
            <a:endParaRPr b="0" lang="en-US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6868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Личные права и свободы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(принадлежат каждому человеку от рождения, являются неотъемлемыми и не подлежат какому-либо ограничению.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жизнь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уважение чести и достоинства человека; право на свободу и личную неприкосновенность; неприкосновенность частной жизн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свободу передвижения и выбора местожительства; свободу выбора национальности и выбора языка общ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судебное разбирательство и др.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Политические права и свободы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(принадлежат не просто людям, а исключительно гражданам конкретного государства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управление делами государст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свобода передвиже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свобода сло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мирные собра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создание союзов и объединений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e3b30"/>
                </a:solidFill>
                <a:latin typeface="Calibri"/>
              </a:rPr>
              <a:t>II </a:t>
            </a:r>
            <a:r>
              <a:rPr b="1" lang="ru-RU" sz="3400" spc="-1" strike="noStrike">
                <a:solidFill>
                  <a:srgbClr val="4e3b30"/>
                </a:solidFill>
                <a:latin typeface="Calibri"/>
              </a:rPr>
              <a:t>пок.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оциально-экономические и культурные прав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К социально-экономическим правам относятся: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труд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отдых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социальное обеспечени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жилищ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достойный уровень жизн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охрану здоровья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К культурным правам относятся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образовани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доступ к культурным ценностям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свободно участвовать в культурной жизни общест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творчество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пользование результатами научного прогресса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пок. Коллективные правила</a:t>
            </a:r>
            <a:endParaRPr b="0" lang="en-US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 мир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запрет геноцида и апартеид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родов на самоопределе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а национальных меньшинств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 развит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 благоприятную окружающую сред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294" name="Текст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5774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конституционных обязанностей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Конституционные обязанности могут возникать у гражданина и (или) человека, следовательно возможно разделение конституционных обязанностей на обязанности граждан и обязанности людей (сюда необходимо включить лиц без гражданства и иностранных граждан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Конституция Российской Федерации закрепляет следующие обязанности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·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бязанность соблюдать Конституцию Российской Федерации и законы (ст. 15 п.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в ходе экономической деятельности не допускать монополизацию и недобросовестную конкуренцию (ст. 34 п. 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не наносить ущерба окружающей среде (ст. 36 п. 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заботиться о детях и их воспитании (ст. 38 п. 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трудоспособных детей с 18 лет заботиться о нетрудоспособных родителях (ст. 38 п.3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получить основное общее образование (ст. 43 п. 4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заботиться о сохранении культурного и исторического наследия, беречь памятники истории и культуры (ст. 44 п. 3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уплаты налогов и сборов (ст. 57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охраны природы и окружающей среды (ст. 58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защиты Отечества (ст. 59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воинской или альтернативной службы (ст. 58 п.2 и п.3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Особенности конституционных прав, свобод и обязанностей заключаются в следующе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 Конституционные права, свободы и обязанности выражают наиболее важные, наиболее значимые отношения между личностью и государством, без которых нормальная жизнедеятельность как отдельного человека, так и государства в целом невозможн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. Конституционные права, свободы и обязанности получают правовое закрепление в Основном Законе государства, тем самым они обладают высшей юридической силой и имеют повышенную государственно-правовую охран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3. Конституционные права, свободы и обязанности, в отличие от иных прав, свобод и обязанностей, закрепленных нормами других отраслей, носят всеобщий характер, обладание ими не связано с наличием у лица какого-либо статуса (например, собственника имущества, индивидуального предпринимателя, трудящегося и т. д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4. Конституционные права, свободы и обязанности являются юридической базой для всех иных прав, свобод и обязанностей, закрепленных в текущем законодательстве, ибо они содержат исходные положения в той или иной сфере регулирования общественных отношений. Например, из права    человека на жилище вытекают все права и обязанности, закрепленные нормами жилищного прав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Прав человека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10 декабря 1948 год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Генеральная Ассамблея Организации Объединенных Наций утвердила и провозгласила Всеобщую декларацию прав человека. Приняв это решение исторического значения, Ассамблея обратилась с призывом ко всем государствам — членам Организации обнародовать текст Декларации и сделать все возможное для «ее распространения, оглашения и разъяснения, без различия, основанного на политическом статусе стран или территорий»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Классификацию конституционных прав и свобод человека и гражданина можно проводить по различным основаниям.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 зависимости от субъекта обладания конституционные права и свободы можно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классифицировать на свободы человека и права, и свободы гражданина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Отличие в том, что права человека являются естественными, неотчуждаемыми и принадлежат каждому от рождения независимо от того, является ли он гражданином какого-либо государства или нет, а права гражданина связаны с принадлежностью человека к государству (с гражданством данного государства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о форме осуществления конституционных прав и свобод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можно выделить конституционные права и свободы,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реализуемые в индивидуальном и коллективном порядке. Так, только в коллективном порядке может быть реализовано право на забастовку (ч. 4 ст. 37), право на свободу публичных мероприятий (ст. 31), право на объединение (ст. 30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Можно классифицировать права и свободы на основные и их составляющие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Например, право участвовать в управлении делами государства (ч. 1 ст. 32) - основное право, а избирательное право (ч. 2 ст. 32)- составляющее, оно является частью основного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Права человека и гражданина принято делить на абсолютные и относительные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Абсолютные права, в отличие от относительных, не подлежат ограничению ни при каких обстоятельствах. Сюда относятся право на жизнь, право на неприкосновенность частной жизни, право на жилище и ряд других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95280" y="1412640"/>
            <a:ext cx="8353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состоит из преамбулы и 30 статей, в которых провозглашен круг основных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гражданских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олитических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социальных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экономических 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культурных прав и свобод человека.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-181080" y="1554120"/>
            <a:ext cx="58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Несмотря на то что ВДПЧ не является международным договором, весьма широкое распространение получила позиция, что она в силу обычая приобрела обязательную сил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27720" y="620640"/>
            <a:ext cx="371628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90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Положения, закрепленные в декларации включены в соответствующие законы каждой конкретной страны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в конституции, кодексах, законах, указах, постановлениях и т.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384720" cy="4868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50920" y="3284640"/>
            <a:ext cx="52560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Примером, подтверждающим данное положение, является Конституция Российской Федерации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в главе второй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которой закрепляются основ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6080" y="0"/>
            <a:ext cx="7470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Идея прав человека имела своё продвижение и развит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6800" y="1643040"/>
            <a:ext cx="76438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В 1966 г. Декларация была дополнена двумя документами: Международным пактом о гражданских и политических правах и Международным пактом об экономических, социальных и культурных правах, которые в совокупности неофициально называют Международным биллем о прав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4" name="Содержимое 4" descr="is.jpg"/>
          <p:cNvPicPr/>
          <p:nvPr/>
        </p:nvPicPr>
        <p:blipFill>
          <a:blip r:embed="rId2"/>
          <a:stretch/>
        </p:blipFill>
        <p:spPr>
          <a:xfrm>
            <a:off x="158760" y="182520"/>
            <a:ext cx="993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6560" y="1483920"/>
            <a:ext cx="78296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В последующем были подготовлены и другие конвенции, детально рассматривающие права отдельных категорий граждан: Конвенция о правах ребенка,  Конвенция  против  пыток и других  жестоких,   бесчеловечных  или унижающих достоинство видов обращения и наказания и друг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6" name="Содержимое 4" descr="is.jpg"/>
          <p:cNvPicPr/>
          <p:nvPr/>
        </p:nvPicPr>
        <p:blipFill>
          <a:blip r:embed="rId2"/>
          <a:stretch/>
        </p:blipFill>
        <p:spPr>
          <a:xfrm>
            <a:off x="158760" y="182520"/>
            <a:ext cx="993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Конвенция о правах ребенка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56800" y="1189080"/>
            <a:ext cx="7829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является первым и основным международно-правовым документом, в котором права ребенка рассматривались на уровне международного права. Документ состоит из 54 статей, детализирующих индивидуальные права юных граждан в возрасте от рождения до 18 лет на полное развитие своих возможностей в условиях, свободных от голода и нужды, жестокости, эксплуатации и других форм злоупотреблений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Содержимое 4" descr="is.jpg"/>
          <p:cNvPicPr/>
          <p:nvPr/>
        </p:nvPicPr>
        <p:blipFill>
          <a:blip r:embed="rId2"/>
          <a:stretch/>
        </p:blipFill>
        <p:spPr>
          <a:xfrm>
            <a:off x="158760" y="182520"/>
            <a:ext cx="993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281" name="Picture 7" descr="C:\Documents and Settings\administrator\Мои документы\права детей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8:44:03Z</dcterms:created>
  <dc:creator>VSvirin</dc:creator>
  <dc:description/>
  <dc:language>en-US</dc:language>
  <cp:lastModifiedBy>Admin</cp:lastModifiedBy>
  <dcterms:modified xsi:type="dcterms:W3CDTF">2012-05-11T12:44:39Z</dcterms:modified>
  <cp:revision>102</cp:revision>
  <dc:subject/>
  <dc:title>Конституционное право</dc:title>
</cp:coreProperties>
</file>