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D9B-4757-422C-93D4-1C3B34E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256-FD42-4D0C-AD54-2BC156F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172-8F5F-4936-8E2E-87A036EE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C9B-75B4-4F35-9E86-52C866D0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7AA6-9D39-464C-BC84-4DCB83A2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718E-22B5-4B30-8B63-1150F7CD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7A5B-A9A3-40B3-8004-5788D57C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0E8-B36A-4ACC-8993-86926DB3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E30F-695A-4040-A104-5FA13452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7AC9-B75D-487D-B14F-BC5282E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2AD3-D03A-46EF-993F-65B8152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E93-F304-48C1-8D46-09D8065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0257-834C-4280-AA3B-081279E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7AE6-EA14-41FF-8275-DF758D8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4E3E-70D2-4962-ABCC-0246C5E9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9DD-17C2-49E3-8013-F58C4A9F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3DE0-41A0-4D03-8277-74B919A7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E6AB-C8EA-424E-8DCC-25831D5E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F728-00E7-40DA-8915-0872B5BF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7BDC-06FE-4DA3-8F1C-523DAC24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E271-8872-449E-9685-9A2C097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6D54-956E-4A4C-B42E-A51D5E8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11D-0F78-436C-91E5-B76E52D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B5E5-A702-44C6-BF72-8190452E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6349-CA6E-4B41-8BA9-4292436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8324-0A2F-4131-8C62-AD23AC4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465B-F7BE-48A1-B939-4B191F74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DBF2-9802-40DA-814F-CFC83D6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DC24-F5F4-430C-953A-51943054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77C4-7618-4518-A449-17C10E31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7734-B351-4226-85A4-FE56C37D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9B95-6CCD-46AD-97AD-412BE68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EADA-9A3E-484F-BAC2-A104FD3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24D-ECD8-496B-ABAF-AB698D6F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5C50-E551-468B-B206-EA9261FE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D58AB-C47A-4AD4-88CA-E0C7915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641B-BCE7-4DF1-82C5-91009B1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0680-B041-4BEA-9209-DBED4AB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6935-3B0A-401D-BD06-4A5BA4F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B56C-0B22-4A72-9B02-920D510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C28F-FC14-4D64-A73D-A5A000AB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B3E5-050F-4056-A48B-7FD5213A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EA38-3A09-4D1D-8515-4A178738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CF39-4C43-4B92-94FF-DED028C4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ABB-DE07-4F1F-B8E1-20A51018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3A50-5592-4A5A-8E2A-386AE8D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72E8-6A63-40C7-90C1-DBAB06B7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38D5-40F5-4B31-BBD4-C046274D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97FB-0CE7-4A9D-BAAB-C30C1FC9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D529-B846-456A-9B24-3826E02D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A1F21-0ADF-4F34-877A-F991084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71E8-E41E-4775-846B-6D3833B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66BC-03DF-4EFF-80A7-4845367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D214-E58C-469D-8437-3EEA0BDD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FE1A-9245-47B6-A354-34BE8621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FD5-4E53-4D1D-8963-A05E3F3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6391-6B07-4F52-AA43-3B3CE34A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387A-FA9D-4AE6-83B4-29C8094B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54FE1-07CB-474B-BE76-1822F4B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D6D6-6CBA-4681-A1E6-8A53C31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B7C62-497B-4325-8594-F718F6BD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EC96B-2E16-46E6-A1D2-CC756FFA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52E8-CCEA-4248-85F8-4E5D43C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A811-6280-46AD-95AA-75C3F9C2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E4A2-1794-420D-9274-E31A131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71687-9101-45AB-8732-036570B8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3CF-519A-4BF5-BA81-8381C41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2CF4-654C-47CD-AE12-38C3807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05C70-17C8-4A50-9FF1-C610DEAB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1F86-4639-41F4-B20F-7BD0650F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1E8-1525-4A4F-9F32-D7F3FF18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715-1919-4DD2-841A-7EE5A61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AA6-0E27-4B65-9334-A0BCA7C3E2F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C5A-5863-43F4-BEC9-7E0B9C73582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8E8D-585A-4135-AF37-25B6117706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33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9476-8055-4BD9-883D-05C99B6A2B6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6470-EB0B-464F-872F-BE361C814C2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94B-1D27-4F8B-83ED-4198AC02F9B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9640" y="3141720"/>
            <a:ext cx="770580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bri"/>
              </a:rPr>
              <a:t>Классификация прав человека.</a:t>
            </a: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Calibri"/>
              </a:rPr>
              <a:t>Классификация конституционных обязанностей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Calibri"/>
              </a:rPr>
              <a:t>московский государственный университет экономики, статистики и информати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"/>
          <p:cNvSpPr/>
          <p:nvPr/>
        </p:nvSpPr>
        <p:spPr>
          <a:xfrm>
            <a:off x="3205440" y="907920"/>
            <a:ext cx="25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калининградский филиал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"/>
          <p:cNvSpPr/>
          <p:nvPr/>
        </p:nvSpPr>
        <p:spPr>
          <a:xfrm>
            <a:off x="2634120" y="155736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зентация на тему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прав человека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840" y="1413000"/>
            <a:ext cx="90741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уществует несколько классификаций прав человека, но мы остановимся только на концепции “поколений” прав человека. Эта концепция возникла в 70-е годы XX 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Права человека, по времени их возникновения, делятся на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Franklin Gothic Book"/>
              </a:rPr>
              <a:t>три поколения</a:t>
            </a:r>
            <a:r>
              <a:rPr b="1" lang="ru-RU" sz="2000" spc="-1" strike="noStrike">
                <a:solidFill>
                  <a:srgbClr val="000066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вое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конец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личные (гражданские) и политические права (провозглашенные Великой Французской революцией, а также американской борьбой за независимость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Второе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сер.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социально-экономические и культурные права (появились в результате борьбы народа за улучшение своего положения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Треть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, новейше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 покол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70-е г.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.) – права коллективны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Большинство специалистов считает, что в рамках прав человека нельзя говорить о коллективных правах. Права человека – это не права наций, меньшинств или иных социальных групп. Это права отдельных лиц, права “единицы”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ок. Личные и политические права: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6868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Личные права и свободы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(принадлежат каждому человеку от рождения, являются неотъемлемыми и не подлежат какому-либо ограничению.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жизнь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уважение чести и достоинства человека; право на свободу и личную неприкосновенность; неприкосновенность частной жизн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у передвижения и выбора местожительства; свободу выбора национальности и выбора языка общ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удебное разбирательство и др.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литические права и свободы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(принадлежат не просто людям, а исключительно гражданам конкретного государства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управление делами государ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а передвиж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свобода сло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мирные собра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оздание союзов и объединений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e3b30"/>
                </a:solidFill>
                <a:latin typeface="Calibri"/>
              </a:rPr>
              <a:t>II </a:t>
            </a:r>
            <a:r>
              <a:rPr b="1" lang="ru-RU" sz="3400" spc="-1" strike="noStrike">
                <a:solidFill>
                  <a:srgbClr val="4e3b30"/>
                </a:solidFill>
                <a:latin typeface="Calibri"/>
              </a:rPr>
              <a:t>пок.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оциально-экономические и культурные прав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К социально-экономическим правам относятся: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труд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тдых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социальное обеспечени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жилищ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достойный уровень жизн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храну здоровья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К культурным правам относя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образовани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доступ к культурным ценностям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свободно участвовать в культурной жизни обще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творчество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право на пользование результатами научного прогресса и д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пок. Коллективные правила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мир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запрет геноцида и апартеид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родов на самоопредел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а национальных меньшинст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развит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раво на благоприятную окружающую сре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94" name="Текст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774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конституционных обязанностей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Конституционные обязанности могут возникать у гражданина и (или) человека, следовательно возможно разделение конституционных обязанностей на обязанности граждан и обязанности людей (сюда необходимо включить лиц без гражданства и иностранных граждан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Конституция Российской Федерации закрепляет следующие обязанности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бязанность соблюдать Конституцию Российской Федерации и законы (ст. 15 п.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в ходе экономической деятельности не допускать монополизацию и недобросовестную конкуренцию (ст. 34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не наносить ущерба окружающей среде (ст. 36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ботиться о детях и их воспитании (ст. 38 п. 2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трудоспособных детей с 18 лет заботиться о нетрудоспособных родителях (ст. 38 п.3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получить основное общее образование (ст. 43 п. 4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ботиться о сохранении культурного и исторического наследия, беречь памятники истории и культуры (ст. 44 п. 3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уплаты налогов и сборов (ст. 57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охраны природы и окружающей среды (ст. 58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защиты Отечества (ст. 59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· обязанность воинской или альтернативной службы (ст. 58 п.2 и п.3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Особенности конституционных прав, свобод и обязанностей заключаются в следующе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Конституционные права, свободы и обязанности выражают наиболее важные, наиболее значимые отношения между личностью и государством, без которых нормальная жизнедеятельность как отдельного человека, так и государства в целом невозможн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 Конституционные права, свободы и обязанности получают правовое закрепление в Основном Законе государства, тем самым они обладают высшей юридической силой и имеют повышенную государственно-правовую охран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. Конституционные права, свободы и обязанности, в отличие от иных прав, свобод и обязанностей, закрепленных нормами других отраслей, носят всеобщий характер, обладание ими не связано с наличием у лица какого-либо статуса (например, собственника имущества, индивидуального предпринимателя, трудящегося и т. д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4. Конституционные права, свободы и обязанности являются юридической базой для всех иных прав, свобод и обязанностей, закрепленных в текущем законодательстве, ибо они содержат исходные положения в той или иной сфере регулирования общественных отношений. Например, из права    человека на жилище вытекают все права и обязанности, закрепленные нормами жилищного пра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Прав человека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10 декабря 1948 год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Генеральная Ассамблея Организации Объединенных Наций утвердила и провозгласила Всеобщую декларацию прав человека. Приняв это решение исторического значения, Ассамблея обратилась с призывом ко всем государствам — членам Организации обнародовать текст Декларации и сделать все возможное для «ее распространения, оглашения и разъяснения, без различия, основанного на политическом статусе стран или территорий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Классификацию конституционных прав и свобод человека и гражданина можно проводить по различным основаниям.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 зависимости от субъекта обладания конституционные права и свободы можно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сифицировать на свободы человека и права, и свободы гражданина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Отличие в том, что права человека являются естественными, неотчуждаемыми и принадлежат каждому от рождения независимо от того, является ли он гражданином какого-либо государства или нет, а права гражданина связаны с принадлежностью человека к государству (с гражданством данного государства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о форме осуществления конституционных прав и свобод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можно выделить конституционные права и свободы,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реализуемые в индивидуальном и коллективном порядке. Так, только в коллективном порядке может быть реализовано право на забастовку (ч. 4 ст. 37), право на свободу публичных мероприятий (ст. 31), право на объединение (ст. 30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Можно классифицировать права и свободы на основные и их составляющие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Например, право участвовать в управлении делами государства (ч. 1 ст. 32) - основное право, а избирательное право (ч. 2 ст. 32)- составляющее, оно является частью основного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ава человека и гражданина принято делить на абсолютные и относительные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Абсолютные права, в отличие от относительных, не подлежат ограничению ни при каких обстоятельствах. Сюда относятся право на жизнь, право на неприкосновенность частной жизни, право на жилище и ряд других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95280" y="1412640"/>
            <a:ext cx="8353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состоит из преамбулы и 30 статей, в которых провозглашен круг основных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граждански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политически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социальных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экономических 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культурных прав и свобод человека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181080" y="155412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Несмотря на то что ВДПЧ не является международным договором, весьма широкое распространение получила позиция, что она в силу обычая приобрела обязательную сил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27720" y="620640"/>
            <a:ext cx="37162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90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оложения, закрепленные в декларации включены в соответствующие законы каждой конкретной страны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конституции, кодексах, законах, указах, постановлениях и т.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384720" cy="4868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50920" y="3284640"/>
            <a:ext cx="52560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римером, подтверждающим данное положение, является Конституция Российской Федерации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главе второй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которой закрепляются основ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6080" y="0"/>
            <a:ext cx="7470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Идея прав человека имела своё продвижение и развит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1643040"/>
            <a:ext cx="76438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В 1966 г. Декларация была дополнена двумя документами: Международным пактом о гражданских и политических правах и Международным пактом об экономических, социальных и культурных правах, которые в совокупности неофициально называют Международным биллем о прав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4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6560" y="1483920"/>
            <a:ext cx="7829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В последующем были подготовлены и другие конвенции, детально рассматривающие права отдельных категорий граждан: Конвенция о правах ребенка,  Конвенция  против  пыток и других  жестоких,   бесчеловечных  или унижающих достоинство видов обращения и наказания и друг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6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Конвенция о правах ребенка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56800" y="1189080"/>
            <a:ext cx="7829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является первым и основным международно-правовым документом, в котором права ребенка рассматривались на уровне международного права. Документ состоит из 54 статей, детализирующих индивидуальные права юных граждан в возрасте от рождения до 18 лет на полное развитие своих возможностей в условиях, свободных от голода и нужды, жестокости, эксплуатации и других форм злоупотреблений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Содержимое 4" descr="is.jpg"/>
          <p:cNvPicPr/>
          <p:nvPr/>
        </p:nvPicPr>
        <p:blipFill>
          <a:blip r:embed="rId2"/>
          <a:stretch/>
        </p:blipFill>
        <p:spPr>
          <a:xfrm>
            <a:off x="158760" y="182520"/>
            <a:ext cx="993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81" name="Picture 7" descr="C:\Documents and Settings\administrator\Мои документы\права детей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8:44:03Z</dcterms:created>
  <dc:creator>VSvirin</dc:creator>
  <dc:description/>
  <dc:language>en-US</dc:language>
  <cp:lastModifiedBy>Admin</cp:lastModifiedBy>
  <dcterms:modified xsi:type="dcterms:W3CDTF">2012-05-11T12:44:39Z</dcterms:modified>
  <cp:revision>102</cp:revision>
  <dc:subject/>
  <dc:title>Конституционное право</dc:title>
</cp:coreProperties>
</file>