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0BC-3DDC-4A6F-ADA1-6193741A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27C-6E6E-4608-9B7A-232F4624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F14-FD36-4F3D-BAC4-6F8E6B49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BB4-73BF-4FFA-93D3-3F68C7EA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0AB4-D4B2-4990-8128-944E5967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0F46-653B-40AB-A8E1-0FA24B3A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6272-0930-4719-8298-2DA77541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A59E-ADC9-426C-97EB-4BF61557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D79B-0ED4-4AB1-BAF1-282324B2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DAED-AA02-434F-A194-D8DB8F80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F502-4A4A-4FFB-9895-2D34899B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F71-7010-4B20-B992-59CDD4ED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0BE2-1191-4D26-96EB-CD60B1F4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7802-1CC9-4079-8E37-C8A07EF7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431F-37D5-41BA-951F-C80FA8B1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9060-6732-499E-B6CC-C6D3A27C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257A-3B4C-4158-84D7-AE9CD483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6E2C-8973-4708-BF3F-1FB0814D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B5AA-F62D-4699-9299-B83F9F62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F396-F11D-4A94-A2DE-D99AE6B1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030E-6DFA-4845-AB80-75CD9C36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2AE0-F397-446B-BCE3-AC003045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C1C-6A82-49DF-B658-18634EC1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62AF-417C-4B86-A961-57DE8B01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D4AF1-896A-4877-ABB6-1C4CF911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7368-15EB-4412-8B56-0E40AAC5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461F-8137-454C-AA2C-6B17C3E7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38B2-2236-42DC-BB74-2D8D0897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A2EC-B7B0-4D24-B16B-83D1C711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CCD4-4946-407E-88F6-F366BAB6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5B23C-BEC0-4D08-B61C-B747ED77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77DA8-BA09-4FC0-A6C4-C5803C19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53FA9-F2C6-40AB-8540-AFE99FC7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437-EA7A-4381-8B6E-5F5B9E10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D2EC2-25C7-4DD8-B73F-6EADC485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482EA-E413-4821-89FE-694A9D03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B1F0-5DF4-4337-86CD-F93C9275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628A-C1E4-4B75-AE26-9C30C8B6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D8D8D-C465-4679-AF60-4A05C57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7BEA-1A13-4A65-9CD6-E0358875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D130D-6A83-4FCB-94CE-8E93A60F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523A-2445-4527-B6A3-A46185F2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83B29-F478-4796-9AC4-E2A9F82E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30A64-EAFA-47DD-B1DC-A9CD02F0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150-D7D1-4E66-BEE0-697D139A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971D4-CD97-437D-BB7E-EEF71353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84EBB-8E9A-41D8-B63F-4A5D39D0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0698-A5CD-4E71-A53B-AE4C6C31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2D6CB-E416-415D-AA9E-BD8993F8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E80AC-8C77-4CCB-87AD-EE2D9474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0DD9D-94C2-4A9F-ADEC-17230DB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16889-442B-42CE-8B04-2DD04B4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348B1-9A3C-4F0D-A174-8E56CBA6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A7F54-D16C-4FAA-90E1-2D580605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69986-CC3C-4804-A5AE-0297F8F9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A57-99CA-47B4-9A3E-E6D010FA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4A9FB-7D4C-4FEE-B8FF-254223D9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4418D-21FE-4BFF-A062-9541D41E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3978F-739D-4587-901E-6F5C8714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76B26-DF39-46B1-9C8A-748F7BEA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25882-E0E1-4909-99A1-16E16DA3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A064-B2E8-42B4-B063-48773621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414DE-A944-45C3-BA09-251527C7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28C87-0AA0-4EAB-B3AD-5BBEEC1B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C9957-44D1-4038-9F39-47983BA9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3B1D2-DB27-4A22-9676-1FC3DCA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EF4-73FB-43DB-A9DB-BEC10F1F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A7EBF-E2CC-45E6-8861-9D2FFD5D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4DECD-47CE-47F7-83D9-CCFDC7D1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67193-68D8-458E-8E7B-5DA9A199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4FD-9BF7-4D32-9AF5-E92957FA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A58-C9C1-41FC-BCFB-00285E4A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7CB9-96FE-4354-8D8C-BF489026598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8286-53EC-41F1-B44F-1FD908CB683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E3D6-007F-4796-ABCE-0EB1636F33D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33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554-D79A-41C3-9B5C-A4C1FD042C4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CAD-2526-4C30-9DAB-9FE4A57E1B0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E0EF-0881-474E-AD83-33DF7990B64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99640" y="3141720"/>
            <a:ext cx="770580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bri"/>
              </a:rPr>
              <a:t>Классификация прав человека.</a:t>
            </a:r>
            <a:br>
              <a:rPr sz="3600"/>
            </a:br>
            <a:r>
              <a:rPr b="1" lang="en-US" sz="3600" spc="-1" strike="noStrike">
                <a:solidFill>
                  <a:srgbClr val="66ffff"/>
                </a:solidFill>
                <a:latin typeface="Calibri"/>
              </a:rPr>
              <a:t>Классификация конституционных обязанностей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Calibri"/>
              </a:rPr>
              <a:t>московский государственный университет экономики, статистики и информати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"/>
          <p:cNvSpPr/>
          <p:nvPr/>
        </p:nvSpPr>
        <p:spPr>
          <a:xfrm>
            <a:off x="3205440" y="907920"/>
            <a:ext cx="25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калининградский филиал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"/>
          <p:cNvSpPr/>
          <p:nvPr/>
        </p:nvSpPr>
        <p:spPr>
          <a:xfrm>
            <a:off x="2634120" y="155736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зентация на тему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прав человека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9840" y="1413000"/>
            <a:ext cx="90741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уществует несколько классификаций прав человека, но мы остановимся только на концепции “поколений” прав человека. Эта концепция возникла в 70-е годы XX ве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000066"/>
                </a:solidFill>
                <a:latin typeface="Franklin Gothic Book"/>
              </a:rPr>
              <a:t>Права человека, по времени их возникновения, делятся на 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Franklin Gothic Book"/>
              </a:rPr>
              <a:t>три поколения</a:t>
            </a:r>
            <a:r>
              <a:rPr b="1" lang="ru-RU" sz="2000" spc="-1" strike="noStrike">
                <a:solidFill>
                  <a:srgbClr val="000066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Первое поколе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конец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.) – личные (гражданские) и политические права (провозглашенные Великой Французской революцией, а также американской борьбой за независимость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Второе поколе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сер.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.) – социально-экономические и культурные права (появились в результате борьбы народа за улучшение своего положения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Третье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, новейшее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 поколе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70-е г.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.) – права коллективны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Большинство специалистов считает, что в рамках прав человека нельзя говорить о коллективных правах. Права человека – это не права наций, меньшинств или иных социальных групп. Это права отдельных лиц, права “единицы”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пок. Личные и политические права:</a:t>
            </a:r>
            <a:endParaRPr b="0" lang="en-US" sz="3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68680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n-US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Личные права и свободы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(принадлежат каждому человеку от рождения, являются неотъемлемыми и не подлежат какому-либо ограничению.)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жизнь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уважение чести и достоинства человека; право на свободу и личную неприкосновенность; неприкосновенность частной жизн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свободу передвижения и выбора местожительства; свободу выбора национальности и выбора языка общ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судебное разбирательство и др.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n-US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Политические права и свободы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(принадлежат не просто людям, а исключительно гражданам конкретного государства)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управление делами государст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свобода передвижени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свобода сло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мирные собрани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создание союзов и объединений и д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e3b30"/>
                </a:solidFill>
                <a:latin typeface="Calibri"/>
              </a:rPr>
              <a:t>II </a:t>
            </a:r>
            <a:r>
              <a:rPr b="1" lang="ru-RU" sz="3400" spc="-1" strike="noStrike">
                <a:solidFill>
                  <a:srgbClr val="4e3b30"/>
                </a:solidFill>
                <a:latin typeface="Calibri"/>
              </a:rPr>
              <a:t>пок.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оциально-экономические и культурные прав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К социально-экономическим правам относятся: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труд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отдых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социальное обеспечение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жилище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достойный уровень жизн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охрану здоровья и д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К культурным правам относятся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образование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доступ к культурным ценностям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свободно участвовать в культурной жизни общест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творчество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пользование результатами научного прогресса и д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пок. Коллективные правила</a:t>
            </a:r>
            <a:endParaRPr b="0" lang="en-US" sz="3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 мир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запрет геноцида и апартеид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родов на самоопределе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а национальных меньшинств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 развит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 благоприятную окружающую сред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294" name="Текст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5774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конституционных обязанностей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Конституционные обязанности могут возникать у гражданина и (или) человека, следовательно возможно разделение конституционных обязанностей на обязанности граждан и обязанности людей (сюда необходимо включить лиц без гражданства и иностранных граждан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Конституция Российской Федерации закрепляет следующие обязанности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·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бязанность соблюдать Конституцию Российской Федерации и законы (ст. 15 п.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в ходе экономической деятельности не допускать монополизацию и недобросовестную конкуренцию (ст. 34 п. 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не наносить ущерба окружающей среде (ст. 36 п. 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заботиться о детях и их воспитании (ст. 38 п. 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трудоспособных детей с 18 лет заботиться о нетрудоспособных родителях (ст. 38 п.3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получить основное общее образование (ст. 43 п. 4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заботиться о сохранении культурного и исторического наследия, беречь памятники истории и культуры (ст. 44 п. 3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уплаты налогов и сборов (ст. 57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охраны природы и окружающей среды (ст. 58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защиты Отечества (ст. 59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воинской или альтернативной службы (ст. 58 п.2 и п.3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Особенности конституционных прав, свобод и обязанностей заключаются в следующем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 Конституционные права, свободы и обязанности выражают наиболее важные, наиболее значимые отношения между личностью и государством, без которых нормальная жизнедеятельность как отдельного человека, так и государства в целом невозможн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. Конституционные права, свободы и обязанности получают правовое закрепление в Основном Законе государства, тем самым они обладают высшей юридической силой и имеют повышенную государственно-правовую охран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3. Конституционные права, свободы и обязанности, в отличие от иных прав, свобод и обязанностей, закрепленных нормами других отраслей, носят всеобщий характер, обладание ими не связано с наличием у лица какого-либо статуса (например, собственника имущества, индивидуального предпринимателя, трудящегося и т. д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4. Конституционные права, свободы и обязанности являются юридической базой для всех иных прав, свобод и обязанностей, закрепленных в текущем законодательстве, ибо они содержат исходные положения в той или иной сфере регулирования общественных отношений. Например, из права    человека на жилище вытекают все права и обязанности, закрепленные нормами жилищного прав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Прав человека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10 декабря 1948 год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Генеральная Ассамблея Организации Объединенных Наций утвердила и провозгласила Всеобщую декларацию прав человека. Приняв это решение исторического значения, Ассамблея обратилась с призывом ко всем государствам — членам Организации обнародовать текст Декларации и сделать все возможное для «ее распространения, оглашения и разъяснения, без различия, основанного на политическом статусе стран или территорий»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Классификацию конституционных прав и свобод человека и гражданина можно проводить по различным основаниям.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В зависимости от субъекта обладания конституционные права и свободы можно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классифицировать на свободы человека и права, и свободы гражданина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Отличие в том, что права человека являются естественными, неотчуждаемыми и принадлежат каждому от рождения независимо от того, является ли он гражданином какого-либо государства или нет, а права гражданина связаны с принадлежностью человека к государству (с гражданством данного государства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По форме осуществления конституционных прав и свобод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можно выделить конституционные права и свободы,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реализуемые в индивидуальном и коллективном порядке. Так, только в коллективном порядке может быть реализовано право на забастовку (ч. 4 ст. 37), право на свободу публичных мероприятий (ст. 31), право на объединение (ст. 30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Можно классифицировать права и свободы на основные и их составляющие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Например, право участвовать в управлении делами государства (ч. 1 ст. 32) - основное право, а избирательное право (ч. 2 ст. 32)- составляющее, оно является частью основного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Права человека и гражданина принято делить на абсолютные и относительные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Абсолютные права, в отличие от относительных, не подлежат ограничению ни при каких обстоятельствах. Сюда относятся право на жизнь, право на неприкосновенность частной жизни, право на жилище и ряд других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95280" y="1412640"/>
            <a:ext cx="835344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состоит из преамбулы и 30 статей, в которых провозглашен круг основных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гражданских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олитических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социальных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экономических 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культурных прав и свобод человека.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-181080" y="1554120"/>
            <a:ext cx="58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Несмотря на то что ВДПЧ не является международным договором, весьма широкое распространение получила позиция, что она в силу обычая приобрела обязательную сил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27720" y="620640"/>
            <a:ext cx="371628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90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Положения, закрепленные в декларации включены в соответствующие законы каждой конкретной страны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в конституции, кодексах, законах, указах, постановлениях и т.д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384720" cy="4868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50920" y="3284640"/>
            <a:ext cx="525600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Примером, подтверждающим данное положение, является Конституция Российской Федерации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в главе второй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которой закрепляются основ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6080" y="0"/>
            <a:ext cx="7470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Идея прав человека имела своё продвижение и развит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56800" y="1643040"/>
            <a:ext cx="76438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В 1966 г. Декларация была дополнена двумя документами: Международным пактом о гражданских и политических правах и Международным пактом об экономических, социальных и культурных правах, которые в совокупности неофициально называют Международным биллем о права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4" name="Содержимое 4" descr="is.jpg"/>
          <p:cNvPicPr/>
          <p:nvPr/>
        </p:nvPicPr>
        <p:blipFill>
          <a:blip r:embed="rId2"/>
          <a:stretch/>
        </p:blipFill>
        <p:spPr>
          <a:xfrm>
            <a:off x="158760" y="182520"/>
            <a:ext cx="993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26560" y="1483920"/>
            <a:ext cx="782964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В последующем были подготовлены и другие конвенции, детально рассматривающие права отдельных категорий граждан: Конвенция о правах ребенка,  Конвенция  против  пыток и других  жестоких,   бесчеловечных  или унижающих достоинство видов обращения и наказания и други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6" name="Содержимое 4" descr="is.jpg"/>
          <p:cNvPicPr/>
          <p:nvPr/>
        </p:nvPicPr>
        <p:blipFill>
          <a:blip r:embed="rId2"/>
          <a:stretch/>
        </p:blipFill>
        <p:spPr>
          <a:xfrm>
            <a:off x="158760" y="182520"/>
            <a:ext cx="993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Конвенция о правах ребенка</a:t>
            </a: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56800" y="1189080"/>
            <a:ext cx="7829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является первым и основным международно-правовым документом, в котором права ребенка рассматривались на уровне международного права. Документ состоит из 54 статей, детализирующих индивидуальные права юных граждан в возрасте от рождения до 18 лет на полное развитие своих возможностей в условиях, свободных от голода и нужды, жестокости, эксплуатации и других форм злоупотреблений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9" name="Содержимое 4" descr="is.jpg"/>
          <p:cNvPicPr/>
          <p:nvPr/>
        </p:nvPicPr>
        <p:blipFill>
          <a:blip r:embed="rId2"/>
          <a:stretch/>
        </p:blipFill>
        <p:spPr>
          <a:xfrm>
            <a:off x="158760" y="182520"/>
            <a:ext cx="993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281" name="Picture 7" descr="C:\Documents and Settings\administrator\Мои документы\права детей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8:44:03Z</dcterms:created>
  <dc:creator>VSvirin</dc:creator>
  <dc:description/>
  <dc:language>en-US</dc:language>
  <cp:lastModifiedBy>Admin</cp:lastModifiedBy>
  <dcterms:modified xsi:type="dcterms:W3CDTF">2012-05-11T12:44:39Z</dcterms:modified>
  <cp:revision>102</cp:revision>
  <dc:subject/>
  <dc:title>Конституционное право</dc:title>
</cp:coreProperties>
</file>