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41.wmf" ContentType="image/x-wmf"/>
  <Override PartName="/ppt/media/image8.jpeg" ContentType="image/jpeg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9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7.jpeg" ContentType="image/jpeg"/>
  <Override PartName="/ppt/media/image45.wmf" ContentType="image/x-wmf"/>
  <Override PartName="/ppt/media/image47.wmf" ContentType="image/x-wmf"/>
  <Override PartName="/ppt/media/image10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59C-5E4A-4F3E-8641-3A6408BB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B33-2B74-423D-B831-9BF8FF1F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B7E-C360-4757-BA7E-35FC046B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AC21-F827-47DD-A2CA-3DF3FF9C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0E4F-F28B-47F0-9928-BA6755DE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9444-DDD1-4CB3-9FB7-E3B593C7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4E65-2B27-4117-9C49-200FEDE6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C0C8-6382-478D-B4C7-95F836EF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1548-857A-4796-A530-FAC49571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0AF7-8C35-44DA-9407-7D321647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D371-8D83-4454-B8C2-C49479AB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2AE0-0741-44B3-BE6A-EE0CF062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D528-C195-4B4B-86D2-2CB71492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CDA6-EED9-4B24-B1C5-370BFD11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9FE7-9115-4B63-A541-69AEC44B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E780-5B93-4751-91EB-32E1E9F0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7C22-D133-4577-90B8-C04257DC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AD5-1E86-49F4-923F-CC96DDF2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712-3AB1-4EBA-B1B9-2A43A576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F25-88C7-4FFE-8917-F3D77D6F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2BAB-CC49-4450-83AC-752AB022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CD6-BF42-49FF-9FF6-61C8196A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9DC-AA1B-4FCE-B1BD-507729C3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498-EBCD-4D8D-AF21-79E4E904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11A4-CAF4-4199-B016-6393745F156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1F32-B0D9-43A4-81B4-76B6C4E251F5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1.wmf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image" Target="../media/image45.wmf"/><Relationship Id="rId8" Type="http://schemas.openxmlformats.org/officeDocument/2006/relationships/image" Target="../media/image42.wmf"/><Relationship Id="rId9" Type="http://schemas.openxmlformats.org/officeDocument/2006/relationships/image" Target="../media/image41.wmf"/><Relationship Id="rId10" Type="http://schemas.openxmlformats.org/officeDocument/2006/relationships/image" Target="../media/image43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6633"/>
                </a:solidFill>
                <a:uFillTx/>
                <a:latin typeface="Times New Roman"/>
              </a:rPr>
              <a:t>ПОЗНАВАТЕЛЬНАЯ</a:t>
            </a: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4400" spc="-1" strike="noStrike" u="sng">
                <a:solidFill>
                  <a:srgbClr val="996633"/>
                </a:solidFill>
                <a:uFillTx/>
                <a:latin typeface="Times New Roman"/>
              </a:rPr>
              <a:t>ДЕЯТЕ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налы получения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1141560" cy="2743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3886200" y="5410080"/>
            <a:ext cx="4772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ерез органы чувств</a:t>
            </a:r>
            <a:endParaRPr b="1" lang="en-US" sz="2400" spc="1" strike="noStrike">
              <a:ln w="12600">
                <a:solidFill>
                  <a:srgbClr val="0000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282760" y="1066680"/>
            <a:ext cx="1722600" cy="2058840"/>
            <a:chOff x="2282760" y="1066680"/>
            <a:chExt cx="1722600" cy="2058840"/>
          </a:xfrm>
        </p:grpSpPr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2282760" y="1066680"/>
              <a:ext cx="172260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2745000" y="2604960"/>
              <a:ext cx="91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вку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095880" y="1066680"/>
            <a:ext cx="2455920" cy="1482840"/>
            <a:chOff x="6095880" y="1066680"/>
            <a:chExt cx="2455920" cy="1482840"/>
          </a:xfrm>
        </p:grpSpPr>
        <p:pic>
          <p:nvPicPr>
            <p:cNvPr id="223" name="" descr=""/>
            <p:cNvPicPr/>
            <p:nvPr/>
          </p:nvPicPr>
          <p:blipFill>
            <a:blip r:embed="rId3"/>
            <a:stretch/>
          </p:blipFill>
          <p:spPr>
            <a:xfrm>
              <a:off x="6095880" y="1066680"/>
              <a:ext cx="24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859800" y="1905120"/>
              <a:ext cx="159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осязани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752480" y="2732040"/>
            <a:ext cx="1612080" cy="1893960"/>
            <a:chOff x="1752480" y="2732040"/>
            <a:chExt cx="1612080" cy="1893960"/>
          </a:xfrm>
        </p:grpSpPr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1752480" y="2732040"/>
              <a:ext cx="1247760" cy="16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2120040" y="4105440"/>
              <a:ext cx="124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зрени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553080" y="2743200"/>
            <a:ext cx="2076480" cy="2516040"/>
            <a:chOff x="6553080" y="2743200"/>
            <a:chExt cx="2076480" cy="2516040"/>
          </a:xfrm>
        </p:grpSpPr>
        <p:pic>
          <p:nvPicPr>
            <p:cNvPr id="229" name="" descr=""/>
            <p:cNvPicPr/>
            <p:nvPr/>
          </p:nvPicPr>
          <p:blipFill>
            <a:blip r:embed="rId5"/>
            <a:stretch/>
          </p:blipFill>
          <p:spPr>
            <a:xfrm>
              <a:off x="6553080" y="2743200"/>
              <a:ext cx="207648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316640" y="473868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слу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752480" y="4724280"/>
            <a:ext cx="3339720" cy="1812960"/>
            <a:chOff x="1752480" y="4724280"/>
            <a:chExt cx="3339720" cy="1812960"/>
          </a:xfrm>
        </p:grpSpPr>
        <p:pic>
          <p:nvPicPr>
            <p:cNvPr id="232" name="" descr=""/>
            <p:cNvPicPr/>
            <p:nvPr/>
          </p:nvPicPr>
          <p:blipFill>
            <a:blip r:embed="rId6"/>
            <a:stretch/>
          </p:blipFill>
          <p:spPr>
            <a:xfrm>
              <a:off x="1752480" y="4724280"/>
              <a:ext cx="1828800" cy="18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414960" y="6010200"/>
              <a:ext cx="167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обоняни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 txBox="1"/>
          <p:nvPr/>
        </p:nvSpPr>
        <p:spPr>
          <a:xfrm>
            <a:off x="6705720" y="5943600"/>
            <a:ext cx="173340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аристотель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143000" y="2590920"/>
            <a:ext cx="42876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!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458200" y="609480"/>
            <a:ext cx="42876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!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налы получения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1141560" cy="27432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3886200" y="5410080"/>
            <a:ext cx="4772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ерез органы чувств</a:t>
            </a:r>
            <a:endParaRPr b="1" lang="en-US" sz="2400" spc="1" strike="noStrike">
              <a:ln w="12600">
                <a:solidFill>
                  <a:srgbClr val="0000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419720" y="5943600"/>
            <a:ext cx="37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(дополнительные)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602360" y="1143000"/>
            <a:ext cx="2034000" cy="2591640"/>
            <a:chOff x="1602360" y="1143000"/>
            <a:chExt cx="2034000" cy="2591640"/>
          </a:xfrm>
        </p:grpSpPr>
        <p:pic>
          <p:nvPicPr>
            <p:cNvPr id="242" name="" descr=""/>
            <p:cNvPicPr/>
            <p:nvPr/>
          </p:nvPicPr>
          <p:blipFill>
            <a:blip r:embed="rId4"/>
            <a:stretch/>
          </p:blipFill>
          <p:spPr>
            <a:xfrm>
              <a:off x="1676520" y="1143000"/>
              <a:ext cx="172692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602360" y="2787480"/>
              <a:ext cx="203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Чувство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равновес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869080" y="1752480"/>
            <a:ext cx="2423880" cy="2877840"/>
            <a:chOff x="5869080" y="1752480"/>
            <a:chExt cx="2423880" cy="2877840"/>
          </a:xfrm>
        </p:grpSpPr>
        <p:pic>
          <p:nvPicPr>
            <p:cNvPr id="245" name="" descr=""/>
            <p:cNvPicPr/>
            <p:nvPr/>
          </p:nvPicPr>
          <p:blipFill>
            <a:blip r:embed="rId5"/>
            <a:stretch/>
          </p:blipFill>
          <p:spPr>
            <a:xfrm>
              <a:off x="6095880" y="1752480"/>
              <a:ext cx="1981440" cy="20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869080" y="3683160"/>
              <a:ext cx="24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Музыкально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удовольстви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895320" y="4191120"/>
            <a:ext cx="3157200" cy="2537640"/>
            <a:chOff x="895320" y="4191120"/>
            <a:chExt cx="3157200" cy="2537640"/>
          </a:xfrm>
        </p:grpSpPr>
        <p:pic>
          <p:nvPicPr>
            <p:cNvPr id="248" name="" descr=""/>
            <p:cNvPicPr/>
            <p:nvPr/>
          </p:nvPicPr>
          <p:blipFill>
            <a:blip r:embed="rId6"/>
            <a:stretch/>
          </p:blipFill>
          <p:spPr>
            <a:xfrm>
              <a:off x="1752480" y="4191120"/>
              <a:ext cx="1527120" cy="17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895320" y="5781600"/>
              <a:ext cx="3157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Чувствительност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кож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налы получения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43600" y="2560680"/>
            <a:ext cx="1919520" cy="1506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962520" y="2362320"/>
            <a:ext cx="1611360" cy="17524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 rot="18018600">
            <a:off x="495360" y="2743200"/>
            <a:ext cx="2733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нформация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"/>
          <p:cNvSpPr/>
          <p:nvPr/>
        </p:nvSpPr>
        <p:spPr>
          <a:xfrm>
            <a:off x="2590920" y="3276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29400" y="3276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629400" y="2362320"/>
            <a:ext cx="2225520" cy="217944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2587320" y="3120840"/>
            <a:ext cx="768600" cy="768600"/>
            <a:chOff x="2587320" y="3120840"/>
            <a:chExt cx="768600" cy="768600"/>
          </a:xfrm>
        </p:grpSpPr>
        <p:sp>
          <p:nvSpPr>
            <p:cNvPr id="258" name=""/>
            <p:cNvSpPr/>
            <p:nvPr/>
          </p:nvSpPr>
          <p:spPr>
            <a:xfrm rot="2607000">
              <a:off x="2514240" y="3429000"/>
              <a:ext cx="9144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8007600">
              <a:off x="2514600" y="3429000"/>
              <a:ext cx="9144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415880" y="5425920"/>
            <a:ext cx="7093440" cy="82548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 современном обществе информация станови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жизненно необход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иды чувственного познания ми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114156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2251440" y="1219320"/>
            <a:ext cx="2927520" cy="1175040"/>
            <a:chOff x="2251440" y="1219320"/>
            <a:chExt cx="2927520" cy="1175040"/>
          </a:xfrm>
        </p:grpSpPr>
        <p:pic>
          <p:nvPicPr>
            <p:cNvPr id="264" name="" descr=""/>
            <p:cNvPicPr/>
            <p:nvPr/>
          </p:nvPicPr>
          <p:blipFill>
            <a:blip r:embed="rId2"/>
            <a:stretch/>
          </p:blipFill>
          <p:spPr>
            <a:xfrm>
              <a:off x="2971800" y="1365120"/>
              <a:ext cx="614160" cy="59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 rot="19566600">
              <a:off x="2286000" y="1898280"/>
              <a:ext cx="685800" cy="333000"/>
            </a:xfrm>
            <a:prstGeom prst="rightArrow">
              <a:avLst>
                <a:gd name="adj1" fmla="val 50000"/>
                <a:gd name="adj2" fmla="val 51486"/>
              </a:avLst>
            </a:prstGeom>
            <a:solidFill>
              <a:srgbClr val="ffcc00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64800" y="1219320"/>
              <a:ext cx="1514160" cy="825480"/>
            </a:xfrm>
            <a:prstGeom prst="rect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Внешние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каче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 txBox="1"/>
          <p:nvPr/>
        </p:nvSpPr>
        <p:spPr>
          <a:xfrm>
            <a:off x="5857920" y="1447920"/>
            <a:ext cx="2371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ощущение</a:t>
            </a:r>
            <a:endParaRPr b="1" lang="en-US" sz="2400" spc="1" strike="noStrike">
              <a:ln w="936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327760" y="2565360"/>
            <a:ext cx="3659760" cy="1343520"/>
            <a:chOff x="2327760" y="2565360"/>
            <a:chExt cx="3659760" cy="1343520"/>
          </a:xfrm>
        </p:grpSpPr>
        <p:grpSp>
          <p:nvGrpSpPr>
            <p:cNvPr id="269" name=""/>
            <p:cNvGrpSpPr/>
            <p:nvPr/>
          </p:nvGrpSpPr>
          <p:grpSpPr>
            <a:xfrm>
              <a:off x="2590920" y="2565360"/>
              <a:ext cx="1103040" cy="1254240"/>
              <a:chOff x="2590920" y="2565360"/>
              <a:chExt cx="1103040" cy="1254240"/>
            </a:xfrm>
          </p:grpSpPr>
          <p:pic>
            <p:nvPicPr>
              <p:cNvPr id="27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0400" y="3175200"/>
                <a:ext cx="493560" cy="644400"/>
              </a:xfrm>
              <a:prstGeom prst="rect">
                <a:avLst/>
              </a:prstGeom>
              <a:ln w="9360">
                <a:solidFill>
                  <a:srgbClr val="221304"/>
                </a:solidFill>
                <a:miter/>
              </a:ln>
            </p:spPr>
          </p:pic>
          <p:pic>
            <p:nvPicPr>
              <p:cNvPr id="27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0920" y="2565360"/>
                <a:ext cx="614160" cy="600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2" name=""/>
            <p:cNvSpPr/>
            <p:nvPr/>
          </p:nvSpPr>
          <p:spPr>
            <a:xfrm rot="19566600">
              <a:off x="2362320" y="3403080"/>
              <a:ext cx="685800" cy="333360"/>
            </a:xfrm>
            <a:prstGeom prst="rightArrow">
              <a:avLst>
                <a:gd name="adj1" fmla="val 50000"/>
                <a:gd name="adj2" fmla="val 51431"/>
              </a:avLst>
            </a:prstGeom>
            <a:solidFill>
              <a:srgbClr val="ffcc00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40840" y="2717640"/>
              <a:ext cx="2146680" cy="1191240"/>
            </a:xfrm>
            <a:prstGeom prst="rect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Совокуп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внешних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качест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6153120" y="3098880"/>
            <a:ext cx="2685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восприятие</a:t>
            </a:r>
            <a:endParaRPr b="1" lang="en-US" sz="2400" spc="1" strike="noStrike">
              <a:ln w="936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371600" y="4437360"/>
            <a:ext cx="4312800" cy="2063160"/>
            <a:chOff x="1371600" y="4437360"/>
            <a:chExt cx="4312800" cy="2063160"/>
          </a:xfrm>
        </p:grpSpPr>
        <p:pic>
          <p:nvPicPr>
            <p:cNvPr id="276" name="" descr=""/>
            <p:cNvPicPr/>
            <p:nvPr/>
          </p:nvPicPr>
          <p:blipFill>
            <a:blip r:embed="rId5"/>
            <a:stretch/>
          </p:blipFill>
          <p:spPr>
            <a:xfrm>
              <a:off x="1981080" y="5442120"/>
              <a:ext cx="493920" cy="644400"/>
            </a:xfrm>
            <a:prstGeom prst="rect">
              <a:avLst/>
            </a:prstGeom>
            <a:ln w="9360">
              <a:solidFill>
                <a:srgbClr val="221304"/>
              </a:solidFill>
              <a:miter/>
            </a:ln>
          </p:spPr>
        </p:pic>
        <p:pic>
          <p:nvPicPr>
            <p:cNvPr id="277" name="" descr=""/>
            <p:cNvPicPr/>
            <p:nvPr/>
          </p:nvPicPr>
          <p:blipFill>
            <a:blip r:embed="rId6"/>
            <a:stretch/>
          </p:blipFill>
          <p:spPr>
            <a:xfrm>
              <a:off x="1371600" y="5867280"/>
              <a:ext cx="61452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 flipV="1" rot="4380600">
              <a:off x="1600200" y="4646880"/>
              <a:ext cx="685800" cy="333720"/>
            </a:xfrm>
            <a:prstGeom prst="rightArrow">
              <a:avLst>
                <a:gd name="adj1" fmla="val 50000"/>
                <a:gd name="adj2" fmla="val 51375"/>
              </a:avLst>
            </a:prstGeom>
            <a:solidFill>
              <a:srgbClr val="ffcc00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15200" y="4943520"/>
              <a:ext cx="2869200" cy="1557000"/>
            </a:xfrm>
            <a:prstGeom prst="rect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Чувственный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образ бе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непосредствен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воздейств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386720" y="5129280"/>
              <a:ext cx="1234440" cy="1197720"/>
              <a:chOff x="1386720" y="5129280"/>
              <a:chExt cx="1234440" cy="1197720"/>
            </a:xfrm>
          </p:grpSpPr>
          <p:sp>
            <p:nvSpPr>
              <p:cNvPr id="281" name=""/>
              <p:cNvSpPr/>
              <p:nvPr/>
            </p:nvSpPr>
            <p:spPr>
              <a:xfrm rot="2607000">
                <a:off x="1265040" y="5610240"/>
                <a:ext cx="1477440" cy="235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8007600">
                <a:off x="1295280" y="5605200"/>
                <a:ext cx="1416960" cy="245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"/>
          <p:cNvSpPr txBox="1"/>
          <p:nvPr/>
        </p:nvSpPr>
        <p:spPr>
          <a:xfrm>
            <a:off x="5657760" y="5486400"/>
            <a:ext cx="3486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едставление</a:t>
            </a:r>
            <a:endParaRPr b="1" lang="en-US" sz="2400" spc="1" strike="noStrike">
              <a:ln w="936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6633"/>
                </a:solidFill>
                <a:uFillTx/>
                <a:latin typeface="Times New Roman"/>
              </a:rPr>
              <a:t>Я думаю,значит-</a:t>
            </a:r>
            <a:br>
              <a:rPr sz="4400"/>
            </a:br>
            <a:r>
              <a:rPr b="1" lang="ru-RU" sz="4400" spc="-1" strike="noStrike" u="sng">
                <a:solidFill>
                  <a:srgbClr val="996633"/>
                </a:solidFill>
                <a:uFillTx/>
                <a:latin typeface="Times New Roman"/>
              </a:rPr>
              <a:t>я существую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 rot="18018600">
            <a:off x="495360" y="2743200"/>
            <a:ext cx="2733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нформация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/>
          <p:nvPr/>
        </p:nvSpPr>
        <p:spPr>
          <a:xfrm>
            <a:off x="2590920" y="3276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3039840" cy="3405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733920" y="1447920"/>
            <a:ext cx="1600200" cy="1530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562720" y="3276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 rot="4109400">
            <a:off x="6144840" y="2868480"/>
            <a:ext cx="288432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мышление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62960" y="5181480"/>
            <a:ext cx="5235840" cy="119124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ышление,рациональное познани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-это необходимый этап познаватель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ой деятельности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ыслительные опе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362240" y="1447920"/>
            <a:ext cx="2166840" cy="896760"/>
            <a:chOff x="1362240" y="1447920"/>
            <a:chExt cx="2166840" cy="896760"/>
          </a:xfrm>
        </p:grpSpPr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1362240" y="1600200"/>
              <a:ext cx="474480" cy="59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2"/>
            <a:stretch/>
          </p:blipFill>
          <p:spPr>
            <a:xfrm>
              <a:off x="2809800" y="1447920"/>
              <a:ext cx="71928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1971720" y="1676520"/>
              <a:ext cx="685800" cy="457200"/>
            </a:xfrm>
            <a:prstGeom prst="leftRightArrow">
              <a:avLst>
                <a:gd name="adj1" fmla="val 50000"/>
                <a:gd name="adj2" fmla="val 29861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724200" y="16765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13600" y="1488960"/>
            <a:ext cx="17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алень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и больш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238800" y="16765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924600" y="1600200"/>
            <a:ext cx="1914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авнение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371600" y="2819520"/>
            <a:ext cx="1998720" cy="591840"/>
            <a:chOff x="1371600" y="2819520"/>
            <a:chExt cx="1998720" cy="591840"/>
          </a:xfrm>
        </p:grpSpPr>
        <p:pic>
          <p:nvPicPr>
            <p:cNvPr id="303" name="" descr=""/>
            <p:cNvPicPr/>
            <p:nvPr/>
          </p:nvPicPr>
          <p:blipFill>
            <a:blip r:embed="rId3"/>
            <a:stretch/>
          </p:blipFill>
          <p:spPr>
            <a:xfrm>
              <a:off x="1371600" y="2895480"/>
              <a:ext cx="47304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4"/>
            <a:stretch/>
          </p:blipFill>
          <p:spPr>
            <a:xfrm>
              <a:off x="2895840" y="2819520"/>
              <a:ext cx="474480" cy="5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2057400" y="2819520"/>
              <a:ext cx="685800" cy="457200"/>
            </a:xfrm>
            <a:prstGeom prst="leftRightArrow">
              <a:avLst>
                <a:gd name="adj1" fmla="val 50000"/>
                <a:gd name="adj2" fmla="val 29861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657600" y="2895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21880" y="2682720"/>
            <a:ext cx="15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Красный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кус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67280" y="28195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553080" y="266688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одобление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09720" y="4952880"/>
            <a:ext cx="1314360" cy="1114560"/>
            <a:chOff x="1809720" y="4952880"/>
            <a:chExt cx="1314360" cy="1114560"/>
          </a:xfrm>
        </p:grpSpPr>
        <p:pic>
          <p:nvPicPr>
            <p:cNvPr id="311" name="" descr=""/>
            <p:cNvPicPr/>
            <p:nvPr/>
          </p:nvPicPr>
          <p:blipFill>
            <a:blip r:embed="rId5"/>
            <a:stretch/>
          </p:blipFill>
          <p:spPr>
            <a:xfrm>
              <a:off x="1809720" y="5562720"/>
              <a:ext cx="500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6"/>
            <a:stretch/>
          </p:blipFill>
          <p:spPr>
            <a:xfrm>
              <a:off x="2309760" y="5486400"/>
              <a:ext cx="81432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7"/>
            <a:stretch/>
          </p:blipFill>
          <p:spPr>
            <a:xfrm>
              <a:off x="1928880" y="4952880"/>
              <a:ext cx="995400" cy="49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"/>
          <p:cNvSpPr/>
          <p:nvPr/>
        </p:nvSpPr>
        <p:spPr>
          <a:xfrm>
            <a:off x="3505320" y="53053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09560" y="522936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ру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53053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705720" y="5229360"/>
            <a:ext cx="1981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влечение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600200" y="3505320"/>
            <a:ext cx="1908000" cy="1388880"/>
            <a:chOff x="1600200" y="3505320"/>
            <a:chExt cx="1908000" cy="1388880"/>
          </a:xfrm>
        </p:grpSpPr>
        <p:pic>
          <p:nvPicPr>
            <p:cNvPr id="319" name="" descr=""/>
            <p:cNvPicPr/>
            <p:nvPr/>
          </p:nvPicPr>
          <p:blipFill>
            <a:blip r:embed="rId8"/>
            <a:stretch/>
          </p:blipFill>
          <p:spPr>
            <a:xfrm>
              <a:off x="1600200" y="3733920"/>
              <a:ext cx="47304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9"/>
            <a:stretch/>
          </p:blipFill>
          <p:spPr>
            <a:xfrm>
              <a:off x="2666880" y="3505320"/>
              <a:ext cx="841320" cy="104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0"/>
            <a:stretch/>
          </p:blipFill>
          <p:spPr>
            <a:xfrm>
              <a:off x="1981080" y="4114800"/>
              <a:ext cx="858960" cy="77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"/>
          <p:cNvSpPr/>
          <p:nvPr/>
        </p:nvSpPr>
        <p:spPr>
          <a:xfrm>
            <a:off x="3581280" y="4038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47080" y="392760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Ябло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4038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705720" y="3886200"/>
            <a:ext cx="21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общение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ыслительные опе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809880" y="2971800"/>
            <a:ext cx="175284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510920" y="17938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ру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67600" y="1565280"/>
            <a:ext cx="12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желт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34840" y="202248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тра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33880" y="34704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Изогнут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96360" y="468936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роз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07840" y="49179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Аф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87120" y="339408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яко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50640" y="5791320"/>
            <a:ext cx="3515400" cy="459720"/>
          </a:xfrm>
          <a:prstGeom prst="rect">
            <a:avLst/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ормирование поня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5791320"/>
            <a:ext cx="824040" cy="457200"/>
          </a:xfrm>
          <a:prstGeom prst="rightArrow">
            <a:avLst>
              <a:gd name="adj1" fmla="val 50000"/>
              <a:gd name="adj2" fmla="val 45059"/>
            </a:avLst>
          </a:prstGeom>
          <a:solidFill>
            <a:srgbClr val="ffcc00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53400" y="5105520"/>
            <a:ext cx="2975760" cy="1557000"/>
          </a:xfrm>
          <a:prstGeom prst="rect">
            <a:avLst/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Понятие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-это мысл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отражающая пред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еты,или явления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их призна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5915160" y="2895480"/>
            <a:ext cx="1857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нятие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ыслительные опе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933720" y="1295280"/>
            <a:ext cx="1857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нятие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905120" y="2895480"/>
            <a:ext cx="1857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нятие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33720" y="4495680"/>
            <a:ext cx="1857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нятие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176720" y="2486160"/>
            <a:ext cx="1371600" cy="13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+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276720" y="2514600"/>
            <a:ext cx="3047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6633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Суждение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6633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07840" y="5578560"/>
            <a:ext cx="802044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Сужд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форма мысли, в которой через связь понят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верждается или отрицается что-ли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ыслительные опе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67920" y="5578560"/>
            <a:ext cx="712872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Умозаключ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логический вывод,связывающ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ва,или более сужд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753000" y="1219320"/>
            <a:ext cx="2342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ждение1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562720" y="1791360"/>
            <a:ext cx="2342880" cy="1447200"/>
            <a:chOff x="5562720" y="1791360"/>
            <a:chExt cx="2342880" cy="1447200"/>
          </a:xfrm>
        </p:grpSpPr>
        <p:sp>
          <p:nvSpPr>
            <p:cNvPr id="350" name=""/>
            <p:cNvSpPr txBox="1"/>
            <p:nvPr/>
          </p:nvSpPr>
          <p:spPr>
            <a:xfrm>
              <a:off x="5562720" y="2666880"/>
              <a:ext cx="23428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уждение3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2548800">
              <a:off x="5714640" y="205704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ffff"/>
            </a:solidFill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209680" y="1791360"/>
            <a:ext cx="2343240" cy="1447200"/>
            <a:chOff x="2209680" y="1791360"/>
            <a:chExt cx="2343240" cy="1447200"/>
          </a:xfrm>
        </p:grpSpPr>
        <p:sp>
          <p:nvSpPr>
            <p:cNvPr id="353" name=""/>
            <p:cNvSpPr txBox="1"/>
            <p:nvPr/>
          </p:nvSpPr>
          <p:spPr>
            <a:xfrm>
              <a:off x="2209680" y="2666880"/>
              <a:ext cx="23432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уждение2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19051200">
              <a:off x="3351600" y="205704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ffff"/>
            </a:solidFill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743200" y="3286800"/>
            <a:ext cx="4572000" cy="1818720"/>
            <a:chOff x="2743200" y="3286800"/>
            <a:chExt cx="4572000" cy="1818720"/>
          </a:xfrm>
        </p:grpSpPr>
        <p:sp>
          <p:nvSpPr>
            <p:cNvPr id="356" name=""/>
            <p:cNvSpPr/>
            <p:nvPr/>
          </p:nvSpPr>
          <p:spPr>
            <a:xfrm flipH="1" rot="19051200">
              <a:off x="5713920" y="35524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ffff"/>
            </a:solidFill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548800">
              <a:off x="3352320" y="355248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ffff"/>
            </a:solidFill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2743200" y="4343400"/>
              <a:ext cx="45720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9900"/>
                    </a:solidFill>
                    <a:miter/>
                  </a:ln>
                  <a:gradFill rotWithShape="0">
                    <a:gsLst>
                      <a:gs pos="0">
                        <a:srgbClr val="99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Умозаключение</a:t>
              </a:r>
              <a:endParaRPr b="1" lang="en-US" sz="2400" spc="1" strike="noStrike">
                <a:ln w="1908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100000">
                      <a:srgbClr val="0099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«Знание-сила».(Ф.Бэкон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766960" y="1295280"/>
            <a:ext cx="3176640" cy="1908360"/>
            <a:chOff x="2766960" y="1295280"/>
            <a:chExt cx="3176640" cy="19083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3919680" y="1295280"/>
              <a:ext cx="2023920" cy="19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766960" y="2104920"/>
              <a:ext cx="814320" cy="86688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191e1"/>
            </a:solidFill>
            <a:ln w="3816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205280" y="3352680"/>
            <a:ext cx="2021760" cy="2695680"/>
            <a:chOff x="1205280" y="3352680"/>
            <a:chExt cx="2021760" cy="269568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1447920" y="3352680"/>
              <a:ext cx="1541520" cy="1967040"/>
            </a:xfrm>
            <a:prstGeom prst="rect">
              <a:avLst/>
            </a:prstGeom>
            <a:ln w="9360">
              <a:solidFill>
                <a:srgbClr val="221304"/>
              </a:solidFill>
              <a:miter/>
            </a:ln>
          </p:spPr>
        </p:pic>
        <p:sp>
          <p:nvSpPr>
            <p:cNvPr id="122" name=""/>
            <p:cNvSpPr/>
            <p:nvPr/>
          </p:nvSpPr>
          <p:spPr>
            <a:xfrm>
              <a:off x="1205280" y="5222880"/>
              <a:ext cx="2021760" cy="8254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Times New Roman"/>
                </a:rPr>
                <a:t>Зна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Times New Roman"/>
                </a:rPr>
                <a:t>человече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296040" y="2133720"/>
            <a:ext cx="2390760" cy="3472560"/>
            <a:chOff x="6296040" y="2133720"/>
            <a:chExt cx="2390760" cy="3472560"/>
          </a:xfrm>
        </p:grpSpPr>
        <p:sp>
          <p:nvSpPr>
            <p:cNvPr id="124" name=""/>
            <p:cNvSpPr/>
            <p:nvPr/>
          </p:nvSpPr>
          <p:spPr>
            <a:xfrm rot="5400000">
              <a:off x="6322320" y="2107440"/>
              <a:ext cx="814320" cy="86688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191e1"/>
            </a:solidFill>
            <a:ln w="3816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6400800" y="3124080"/>
              <a:ext cx="2286000" cy="22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488280" y="5146560"/>
              <a:ext cx="2082600" cy="459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Times New Roman"/>
                </a:rPr>
                <a:t>Деятель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071880" y="3352680"/>
            <a:ext cx="3417840" cy="1557000"/>
          </a:xfrm>
          <a:prstGeom prst="rect">
            <a:avLst/>
          </a:prstGeom>
          <a:solidFill>
            <a:srgbClr val="ffff00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ятельность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а на использ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нии знаний накоп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ных человечест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066680" y="152280"/>
            <a:ext cx="7772400" cy="129564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заимосвязь чувственного и рационального позн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88400" y="5578560"/>
            <a:ext cx="632556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Развитие умственных способностей связа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с чувственными ощущ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1905120" cy="1904760"/>
          </a:xfrm>
          <a:prstGeom prst="rect">
            <a:avLst/>
          </a:prstGeom>
          <a:ln w="76320">
            <a:solidFill>
              <a:srgbClr val="221304"/>
            </a:solidFill>
            <a:miter/>
          </a:ln>
        </p:spPr>
      </p:pic>
      <p:grpSp>
        <p:nvGrpSpPr>
          <p:cNvPr id="362" name=""/>
          <p:cNvGrpSpPr/>
          <p:nvPr/>
        </p:nvGrpSpPr>
        <p:grpSpPr>
          <a:xfrm>
            <a:off x="6095880" y="2286000"/>
            <a:ext cx="2743200" cy="2057400"/>
            <a:chOff x="6095880" y="2286000"/>
            <a:chExt cx="2743200" cy="2057400"/>
          </a:xfrm>
        </p:grpSpPr>
        <p:pic>
          <p:nvPicPr>
            <p:cNvPr id="363" name="" descr=""/>
            <p:cNvPicPr/>
            <p:nvPr/>
          </p:nvPicPr>
          <p:blipFill>
            <a:blip r:embed="rId2"/>
            <a:stretch/>
          </p:blipFill>
          <p:spPr>
            <a:xfrm>
              <a:off x="6781680" y="2286000"/>
              <a:ext cx="20574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6095880" y="312444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352680" y="2362320"/>
            <a:ext cx="2590920" cy="2440800"/>
            <a:chOff x="3352680" y="2362320"/>
            <a:chExt cx="2590920" cy="2440800"/>
          </a:xfrm>
        </p:grpSpPr>
        <p:grpSp>
          <p:nvGrpSpPr>
            <p:cNvPr id="366" name=""/>
            <p:cNvGrpSpPr/>
            <p:nvPr/>
          </p:nvGrpSpPr>
          <p:grpSpPr>
            <a:xfrm>
              <a:off x="3352680" y="2362320"/>
              <a:ext cx="2590920" cy="1906560"/>
              <a:chOff x="3352680" y="2362320"/>
              <a:chExt cx="2590920" cy="1906560"/>
            </a:xfrm>
          </p:grpSpPr>
          <p:pic>
            <p:nvPicPr>
              <p:cNvPr id="3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037040" y="2362320"/>
                <a:ext cx="1906560" cy="190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3352680" y="3124440"/>
                <a:ext cx="685800" cy="380880"/>
              </a:xfrm>
              <a:prstGeom prst="rightArrow">
                <a:avLst>
                  <a:gd name="adj1" fmla="val 50000"/>
                  <a:gd name="adj2" fmla="val 45014"/>
                </a:avLst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2200" y="434340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Times New Roman"/>
                </a:rPr>
                <a:t>Масса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«Знание-сила».(Ф.Бэкон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86200" y="3054240"/>
            <a:ext cx="1981080" cy="1898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30" name=""/>
          <p:cNvSpPr txBox="1"/>
          <p:nvPr/>
        </p:nvSpPr>
        <p:spPr>
          <a:xfrm rot="5400000">
            <a:off x="-304920" y="3429000"/>
            <a:ext cx="464796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Знания </a:t>
            </a:r>
            <a:endParaRPr b="1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человечества</a:t>
            </a:r>
            <a:endParaRPr b="1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1523880"/>
            <a:ext cx="914400" cy="4953240"/>
          </a:xfrm>
          <a:prstGeom prst="rightArrowCallout">
            <a:avLst>
              <a:gd name="adj1" fmla="val 135436"/>
              <a:gd name="adj2" fmla="val 135423"/>
              <a:gd name="adj3" fmla="val 16667"/>
              <a:gd name="adj4" fmla="val 66667"/>
            </a:avLst>
          </a:prstGeom>
          <a:solidFill>
            <a:srgbClr val="a1bd69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019920" y="2647080"/>
            <a:ext cx="3330360" cy="2954160"/>
            <a:chOff x="6019920" y="2647080"/>
            <a:chExt cx="3330360" cy="2954160"/>
          </a:xfrm>
        </p:grpSpPr>
        <p:sp>
          <p:nvSpPr>
            <p:cNvPr id="133" name=""/>
            <p:cNvSpPr/>
            <p:nvPr/>
          </p:nvSpPr>
          <p:spPr>
            <a:xfrm>
              <a:off x="6019920" y="373392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a1bd69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 rot="19036200">
              <a:off x="6477120" y="3371400"/>
              <a:ext cx="2724120" cy="150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Усво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039560" y="1114560"/>
            <a:ext cx="4222440" cy="1557000"/>
          </a:xfrm>
          <a:prstGeom prst="rect">
            <a:avLst/>
          </a:prstGeom>
          <a:solidFill>
            <a:srgbClr val="3694b6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Каждый человек,пропу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через себя огромный инфор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мационный поток,усваива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лишь небольшую его ча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51000" y="5791320"/>
            <a:ext cx="4083840" cy="459720"/>
          </a:xfrm>
          <a:prstGeom prst="rect">
            <a:avLst/>
          </a:prstGeom>
          <a:solidFill>
            <a:srgbClr val="996633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то-усвоенные нами 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«Знание-сила».(Ф.Бэкон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43240" y="5943600"/>
            <a:ext cx="307944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азнообразие зн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219320" y="2438280"/>
            <a:ext cx="2286000" cy="2233440"/>
            <a:chOff x="1219320" y="2438280"/>
            <a:chExt cx="2286000" cy="223344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1219320" y="2438280"/>
              <a:ext cx="228600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 txBox="1"/>
            <p:nvPr/>
          </p:nvSpPr>
          <p:spPr>
            <a:xfrm>
              <a:off x="1752840" y="3443040"/>
              <a:ext cx="1647720" cy="81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Arial"/>
                </a:rPr>
                <a:t>Знания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38480" y="3048120"/>
            <a:ext cx="4428360" cy="1560240"/>
            <a:chOff x="4038480" y="3048120"/>
            <a:chExt cx="4428360" cy="1560240"/>
          </a:xfrm>
        </p:grpSpPr>
        <p:grpSp>
          <p:nvGrpSpPr>
            <p:cNvPr id="143" name=""/>
            <p:cNvGrpSpPr/>
            <p:nvPr/>
          </p:nvGrpSpPr>
          <p:grpSpPr>
            <a:xfrm>
              <a:off x="5181480" y="3048120"/>
              <a:ext cx="3285360" cy="1560240"/>
              <a:chOff x="5181480" y="3048120"/>
              <a:chExt cx="3285360" cy="1560240"/>
            </a:xfrm>
          </p:grpSpPr>
          <p:pic>
            <p:nvPicPr>
              <p:cNvPr id="14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181480" y="3048120"/>
                <a:ext cx="1249560" cy="156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6426720" y="3368520"/>
                <a:ext cx="2040120" cy="825480"/>
              </a:xfrm>
              <a:prstGeom prst="rect">
                <a:avLst/>
              </a:prstGeom>
              <a:solidFill>
                <a:srgbClr val="ffffff"/>
              </a:solidFill>
              <a:ln w="763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Times New Roman"/>
                  </a:rPr>
                  <a:t>О способа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Times New Roman"/>
                  </a:rPr>
                  <a:t>деятельност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4038480" y="38098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ffff"/>
            </a:solidFill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677040" y="4590000"/>
            <a:ext cx="5232960" cy="1249560"/>
            <a:chOff x="3677040" y="4590000"/>
            <a:chExt cx="5232960" cy="1249560"/>
          </a:xfrm>
        </p:grpSpPr>
        <p:grpSp>
          <p:nvGrpSpPr>
            <p:cNvPr id="148" name=""/>
            <p:cNvGrpSpPr/>
            <p:nvPr/>
          </p:nvGrpSpPr>
          <p:grpSpPr>
            <a:xfrm>
              <a:off x="5486400" y="4648320"/>
              <a:ext cx="3423600" cy="1191240"/>
              <a:chOff x="5486400" y="4648320"/>
              <a:chExt cx="3423600" cy="1191240"/>
            </a:xfrm>
          </p:grpSpPr>
          <p:pic>
            <p:nvPicPr>
              <p:cNvPr id="1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86400" y="4648320"/>
                <a:ext cx="1150920" cy="11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6650640" y="4648320"/>
                <a:ext cx="2259360" cy="1191240"/>
              </a:xfrm>
              <a:prstGeom prst="rect">
                <a:avLst/>
              </a:prstGeom>
              <a:solidFill>
                <a:srgbClr val="ffffff"/>
              </a:solidFill>
              <a:ln w="763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Times New Roman"/>
                  </a:rPr>
                  <a:t>Знания о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Times New Roman"/>
                  </a:rPr>
                  <a:t>формировани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Times New Roman"/>
                  </a:rPr>
                  <a:t>знани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rot="1487400">
              <a:off x="3733920" y="47721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ffff"/>
            </a:solidFill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753000" y="1066680"/>
            <a:ext cx="4336920" cy="2269080"/>
            <a:chOff x="3753000" y="1066680"/>
            <a:chExt cx="4336920" cy="2269080"/>
          </a:xfrm>
        </p:grpSpPr>
        <p:grpSp>
          <p:nvGrpSpPr>
            <p:cNvPr id="153" name=""/>
            <p:cNvGrpSpPr/>
            <p:nvPr/>
          </p:nvGrpSpPr>
          <p:grpSpPr>
            <a:xfrm>
              <a:off x="5486400" y="1066680"/>
              <a:ext cx="2603520" cy="1857600"/>
              <a:chOff x="5486400" y="1066680"/>
              <a:chExt cx="2603520" cy="1857600"/>
            </a:xfrm>
          </p:grpSpPr>
          <p:pic>
            <p:nvPicPr>
              <p:cNvPr id="1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86400" y="1066680"/>
                <a:ext cx="2603520" cy="133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5488920" y="2098800"/>
                <a:ext cx="2581200" cy="8254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Times New Roman"/>
                  </a:rPr>
                  <a:t>О предметах и и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Times New Roman"/>
                  </a:rPr>
                  <a:t>свойства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 rot="20105400">
              <a:off x="3809880" y="26668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ffff"/>
            </a:solidFill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пособы получения знаний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1424160" cy="147492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2690640" y="1143000"/>
            <a:ext cx="3135960" cy="2695680"/>
            <a:chOff x="2690640" y="1143000"/>
            <a:chExt cx="3135960" cy="2695680"/>
          </a:xfrm>
        </p:grpSpPr>
        <p:grpSp>
          <p:nvGrpSpPr>
            <p:cNvPr id="160" name=""/>
            <p:cNvGrpSpPr/>
            <p:nvPr/>
          </p:nvGrpSpPr>
          <p:grpSpPr>
            <a:xfrm>
              <a:off x="3577680" y="1143000"/>
              <a:ext cx="2248920" cy="2695680"/>
              <a:chOff x="3577680" y="1143000"/>
              <a:chExt cx="2248920" cy="2695680"/>
            </a:xfrm>
          </p:grpSpPr>
          <p:pic>
            <p:nvPicPr>
              <p:cNvPr id="16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782880" y="1143000"/>
                <a:ext cx="1836360" cy="192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3577680" y="3013200"/>
                <a:ext cx="2248920" cy="825480"/>
              </a:xfrm>
              <a:prstGeom prst="rect">
                <a:avLst/>
              </a:prstGeom>
              <a:solidFill>
                <a:srgbClr val="ffffff"/>
              </a:solidFill>
              <a:ln w="763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ознавательна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еятельност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690640" y="1981080"/>
              <a:ext cx="814680" cy="866880"/>
            </a:xfrm>
            <a:custGeom>
              <a:avLst/>
              <a:gdLst>
                <a:gd name="textAreaLeft" fmla="*/ 0 w 814680"/>
                <a:gd name="textAreaRight" fmla="*/ 815040 w 81468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219720" y="2004840"/>
            <a:ext cx="2390760" cy="2557800"/>
            <a:chOff x="6219720" y="2004840"/>
            <a:chExt cx="2390760" cy="2557800"/>
          </a:xfrm>
        </p:grpSpPr>
        <p:sp>
          <p:nvSpPr>
            <p:cNvPr id="165" name=""/>
            <p:cNvSpPr txBox="1"/>
            <p:nvPr/>
          </p:nvSpPr>
          <p:spPr>
            <a:xfrm>
              <a:off x="6629400" y="3048120"/>
              <a:ext cx="1981080" cy="1514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9999ff"/>
                    </a:outerShdw>
                  </a:effectLst>
                  <a:latin typeface="Impact"/>
                </a:rPr>
                <a:t>Знание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6245640" y="1978560"/>
              <a:ext cx="814680" cy="866880"/>
            </a:xfrm>
            <a:custGeom>
              <a:avLst/>
              <a:gdLst>
                <a:gd name="textAreaLeft" fmla="*/ 0 w 814680"/>
                <a:gd name="textAreaRight" fmla="*/ 815040 w 81468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828800" y="4724280"/>
            <a:ext cx="961920" cy="1791000"/>
            <a:chOff x="1828800" y="4724280"/>
            <a:chExt cx="961920" cy="1791000"/>
          </a:xfrm>
        </p:grpSpPr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1828800" y="5410080"/>
              <a:ext cx="96192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828800" y="4724280"/>
              <a:ext cx="380880" cy="457200"/>
            </a:xfrm>
            <a:prstGeom prst="downArrow">
              <a:avLst>
                <a:gd name="adj1" fmla="val 50000"/>
                <a:gd name="adj2" fmla="val 30009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666880" y="5410080"/>
            <a:ext cx="1667160" cy="827280"/>
            <a:chOff x="2666880" y="5410080"/>
            <a:chExt cx="1667160" cy="827280"/>
          </a:xfrm>
        </p:grpSpPr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3276720" y="5410080"/>
              <a:ext cx="1057320" cy="8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 rot="16200000">
              <a:off x="2705040" y="5676840"/>
              <a:ext cx="380880" cy="457200"/>
            </a:xfrm>
            <a:prstGeom prst="downArrow">
              <a:avLst>
                <a:gd name="adj1" fmla="val 50000"/>
                <a:gd name="adj2" fmla="val 30009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495680" y="5410080"/>
            <a:ext cx="1524240" cy="1036800"/>
            <a:chOff x="4495680" y="5410080"/>
            <a:chExt cx="1524240" cy="1036800"/>
          </a:xfrm>
        </p:grpSpPr>
        <p:pic>
          <p:nvPicPr>
            <p:cNvPr id="174" name="" descr=""/>
            <p:cNvPicPr/>
            <p:nvPr/>
          </p:nvPicPr>
          <p:blipFill>
            <a:blip r:embed="rId5"/>
            <a:stretch/>
          </p:blipFill>
          <p:spPr>
            <a:xfrm>
              <a:off x="4952880" y="5410080"/>
              <a:ext cx="106704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 rot="16200000">
              <a:off x="4533840" y="5676840"/>
              <a:ext cx="380880" cy="457200"/>
            </a:xfrm>
            <a:prstGeom prst="downArrow">
              <a:avLst>
                <a:gd name="adj1" fmla="val 50000"/>
                <a:gd name="adj2" fmla="val 30009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5880" y="5486400"/>
            <a:ext cx="2667240" cy="685800"/>
            <a:chOff x="6095880" y="5486400"/>
            <a:chExt cx="2667240" cy="685800"/>
          </a:xfrm>
        </p:grpSpPr>
        <p:sp>
          <p:nvSpPr>
            <p:cNvPr id="177" name=""/>
            <p:cNvSpPr txBox="1"/>
            <p:nvPr/>
          </p:nvSpPr>
          <p:spPr>
            <a:xfrm>
              <a:off x="6858000" y="5486400"/>
              <a:ext cx="19051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07932" dir="2700000" blurRad="0" rotWithShape="0">
                      <a:srgbClr val="c0c0c0"/>
                    </a:outerShdw>
                  </a:effectLst>
                  <a:latin typeface="Arial"/>
                </a:rPr>
                <a:t>Опыт</a:t>
              </a:r>
              <a:endParaRPr b="1" lang="en-US" sz="2400" spc="1" strike="noStrike">
                <a:ln w="1260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c0c0c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95880" y="5715000"/>
              <a:ext cx="609840" cy="380880"/>
            </a:xfrm>
            <a:custGeom>
              <a:avLst/>
              <a:gdLst>
                <a:gd name="textAreaLeft" fmla="*/ 95040 w 609840"/>
                <a:gd name="textAreaRight" fmla="*/ 533880 w 60984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035160" y="4460760"/>
            <a:ext cx="332460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е приобрет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езультате опыта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пособы получения знаний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219320" y="3505320"/>
            <a:ext cx="228600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420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221304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цель</a:t>
            </a:r>
            <a:endParaRPr b="1" lang="en-US" sz="2400" spc="1" strike="noStrike">
              <a:ln w="28440">
                <a:solidFill>
                  <a:srgbClr val="221304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847600" y="1295280"/>
            <a:ext cx="3553200" cy="2210040"/>
            <a:chOff x="2847600" y="1295280"/>
            <a:chExt cx="3553200" cy="2210040"/>
          </a:xfrm>
        </p:grpSpPr>
        <p:pic>
          <p:nvPicPr>
            <p:cNvPr id="183" name="" descr=""/>
            <p:cNvPicPr/>
            <p:nvPr/>
          </p:nvPicPr>
          <p:blipFill>
            <a:blip r:embed="rId3"/>
            <a:stretch/>
          </p:blipFill>
          <p:spPr>
            <a:xfrm>
              <a:off x="3809880" y="1295280"/>
              <a:ext cx="2590920" cy="22100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84" name=""/>
            <p:cNvSpPr/>
            <p:nvPr/>
          </p:nvSpPr>
          <p:spPr>
            <a:xfrm>
              <a:off x="4039560" y="2757600"/>
              <a:ext cx="217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cc00"/>
                  </a:solidFill>
                  <a:latin typeface="Times New Roman"/>
                </a:rPr>
                <a:t>образовани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 rot="16200000">
              <a:off x="2787840" y="2102400"/>
              <a:ext cx="852480" cy="73332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1920 h 733320"/>
                <a:gd name="textAreaBottom" fmla="*/ 62784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923920" y="3962520"/>
            <a:ext cx="3476880" cy="2516040"/>
            <a:chOff x="2923920" y="3962520"/>
            <a:chExt cx="3476880" cy="2516040"/>
          </a:xfrm>
        </p:grpSpPr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3809880" y="3962520"/>
              <a:ext cx="2590920" cy="23857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88" name=""/>
            <p:cNvSpPr/>
            <p:nvPr/>
          </p:nvSpPr>
          <p:spPr>
            <a:xfrm>
              <a:off x="4589280" y="5958000"/>
              <a:ext cx="11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наук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 rot="16200000">
              <a:off x="2863800" y="4617000"/>
              <a:ext cx="852480" cy="73332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1920 h 733320"/>
                <a:gd name="textAreaBottom" fmla="*/ 62784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781680" y="1219320"/>
            <a:ext cx="1905120" cy="5181480"/>
            <a:chOff x="6781680" y="1219320"/>
            <a:chExt cx="1905120" cy="5181480"/>
          </a:xfrm>
        </p:grpSpPr>
        <p:sp>
          <p:nvSpPr>
            <p:cNvPr id="191" name=""/>
            <p:cNvSpPr txBox="1"/>
            <p:nvPr/>
          </p:nvSpPr>
          <p:spPr>
            <a:xfrm rot="5400000">
              <a:off x="6591240" y="3467160"/>
              <a:ext cx="3657600" cy="5335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33cc33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"/>
                </a:rPr>
                <a:t>результат</a:t>
              </a:r>
              <a:endParaRPr b="1" lang="en-US" sz="2400" spc="1" strike="noStrike">
                <a:ln w="9360">
                  <a:solidFill>
                    <a:srgbClr val="33cc33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81680" y="1219320"/>
              <a:ext cx="1067040" cy="5181480"/>
            </a:xfrm>
            <a:prstGeom prst="rightArrowCallout">
              <a:avLst>
                <a:gd name="adj1" fmla="val 121409"/>
                <a:gd name="adj2" fmla="val 121398"/>
                <a:gd name="adj3" fmla="val 16667"/>
                <a:gd name="adj4" fmla="val 66667"/>
              </a:avLst>
            </a:prstGeom>
            <a:solidFill>
              <a:srgbClr val="a1bd6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861640" y="3276720"/>
            <a:ext cx="440820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Знание-результат специальн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организованно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тороны процесса познания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676520" y="1384200"/>
            <a:ext cx="2743200" cy="24256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89520" y="1371600"/>
            <a:ext cx="2363760" cy="24256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4586400" y="23335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162160" y="2362320"/>
            <a:ext cx="1724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убъект</a:t>
            </a:r>
            <a:endParaRPr b="1" lang="en-US" sz="2400" spc="1" strike="noStrike">
              <a:ln w="9360">
                <a:solidFill>
                  <a:srgbClr val="221304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00640" y="2324160"/>
            <a:ext cx="1495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Объект</a:t>
            </a:r>
            <a:endParaRPr b="1" lang="en-US" sz="2400" spc="1" strike="noStrike">
              <a:ln w="9360">
                <a:solidFill>
                  <a:srgbClr val="221304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4191120"/>
            <a:ext cx="6553080" cy="457200"/>
          </a:xfrm>
          <a:prstGeom prst="downArrowCallout">
            <a:avLst>
              <a:gd name="adj1" fmla="val 62514"/>
              <a:gd name="adj2" fmla="val 80557"/>
              <a:gd name="adj3" fmla="val 16667"/>
              <a:gd name="adj4" fmla="val 29514"/>
            </a:avLst>
          </a:prstGeom>
          <a:solidFill>
            <a:srgbClr val="ffff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97240" y="5070600"/>
            <a:ext cx="5070240" cy="1312920"/>
          </a:xfrm>
          <a:prstGeom prst="rect">
            <a:avLst/>
          </a:prstGeom>
          <a:solidFill>
            <a:srgbClr val="ffff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21304"/>
                </a:solidFill>
                <a:uFillTx/>
                <a:latin typeface="Times New Roman"/>
              </a:rPr>
              <a:t>Цель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-позн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окружающ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ми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тороны процесса познания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960560" y="2298600"/>
            <a:ext cx="1795320" cy="15876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073920" y="2286000"/>
            <a:ext cx="1546200" cy="15876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2397240" y="5070600"/>
            <a:ext cx="5070240" cy="1557000"/>
          </a:xfrm>
          <a:prstGeom prst="rect">
            <a:avLst/>
          </a:prstGeom>
          <a:solidFill>
            <a:srgbClr val="ffff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Полученное знание завис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от метода познания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возможно существование нескольких теорий одновремен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809880" y="2514600"/>
            <a:ext cx="2209680" cy="838080"/>
            <a:chOff x="3809880" y="2514600"/>
            <a:chExt cx="2209680" cy="838080"/>
          </a:xfrm>
        </p:grpSpPr>
        <p:sp>
          <p:nvSpPr>
            <p:cNvPr id="207" name=""/>
            <p:cNvSpPr txBox="1"/>
            <p:nvPr/>
          </p:nvSpPr>
          <p:spPr>
            <a:xfrm>
              <a:off x="3943080" y="2514600"/>
              <a:ext cx="18669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вопросы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9880" y="3352680"/>
              <a:ext cx="2209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809520" y="1219320"/>
            <a:ext cx="3048120" cy="761760"/>
            <a:chOff x="3809520" y="1219320"/>
            <a:chExt cx="3048120" cy="761760"/>
          </a:xfrm>
        </p:grpSpPr>
        <p:sp>
          <p:nvSpPr>
            <p:cNvPr id="210" name=""/>
            <p:cNvSpPr/>
            <p:nvPr/>
          </p:nvSpPr>
          <p:spPr>
            <a:xfrm flipH="1">
              <a:off x="3809520" y="1981080"/>
              <a:ext cx="3048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4343400" y="1219320"/>
              <a:ext cx="205740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ответ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809520" y="3990960"/>
            <a:ext cx="3048120" cy="885960"/>
            <a:chOff x="3809520" y="3990960"/>
            <a:chExt cx="3048120" cy="885960"/>
          </a:xfrm>
        </p:grpSpPr>
        <p:sp>
          <p:nvSpPr>
            <p:cNvPr id="213" name=""/>
            <p:cNvSpPr/>
            <p:nvPr/>
          </p:nvSpPr>
          <p:spPr>
            <a:xfrm flipH="1">
              <a:off x="3809520" y="4876920"/>
              <a:ext cx="3048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343400" y="3990960"/>
              <a:ext cx="205740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ответ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6633"/>
                </a:solidFill>
                <a:uFillTx/>
                <a:latin typeface="Times New Roman"/>
              </a:rPr>
              <a:t>Каналы получения информации об окружающем ми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9T14:23:52Z</dcterms:created>
  <dc:creator>elior</dc:creator>
  <dc:description/>
  <dc:language>en-US</dc:language>
  <cp:lastModifiedBy>Чернов Алексей</cp:lastModifiedBy>
  <dcterms:modified xsi:type="dcterms:W3CDTF">2002-04-03T16:46:48Z</dcterms:modified>
  <cp:revision>10</cp:revision>
  <dc:subject/>
  <dc:title>ПОЗНАВАТЕЛЬНАЯ ДЕЯТЕЛЬНОСТЬ</dc:title>
</cp:coreProperties>
</file>