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1.wmf" ContentType="image/x-wmf"/>
  <Override PartName="/ppt/media/image8.jpeg" ContentType="image/jpeg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7.jpeg" ContentType="image/jpeg"/>
  <Override PartName="/ppt/media/image45.wmf" ContentType="image/x-wmf"/>
  <Override PartName="/ppt/media/image47.wmf" ContentType="image/x-wmf"/>
  <Override PartName="/ppt/media/image10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D84-3CA3-43F0-8922-CE150AD9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D23-F152-4124-8F2E-5B48CCCC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A73-5762-4558-9CED-3755D03F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32E-8F9E-4C7F-88B9-DF63669A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F5C6-7DE3-4BE1-8CDD-A409C6D6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3F52-B6D5-49BD-A92E-7C46950F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FDA0-6B1C-4188-A7EA-7CC84E4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FF9C-0816-4EEC-B2C2-716336F1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35CE-CBA6-4186-9AEF-D248BFB0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8ADF-A27A-4955-9B76-0D4F9C84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A1EC-EA81-4AA6-8FD9-B022FECA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82F-8A13-4633-8D9E-B80A703A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37A8-F3FF-4240-A73D-D4AEB125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23F4-F767-4CB3-90A1-BA6AC39C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6D47-4D8A-4A79-BF7B-51C3EF61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9A37-EDCC-4A0F-B3AA-4A035C09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4C19-3F84-4F64-8293-FCA86F38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091-5C6B-4EBC-8B07-6FCC7225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7AF-6510-4D1D-8AF5-F1FA3136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00A-25F1-4A0C-8BE8-3D899E12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405-9010-4626-8C8C-0E84858D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C1D-B173-45C5-8799-9F19485D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5B4-BF4D-48D5-9609-F5BB42B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EAA-5302-476B-9B17-ACC5CB6C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7BEE-58F9-48F1-9201-A77C1C7BDAC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626C-A11D-487C-B8E8-932EE8B1E6C1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1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2.wmf"/><Relationship Id="rId9" Type="http://schemas.openxmlformats.org/officeDocument/2006/relationships/image" Target="../media/image41.wmf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ПОЗНАВАТЕЛЬНАЯ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ДЕЯТЕ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налы получения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1141560" cy="2743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3886200" y="5410080"/>
            <a:ext cx="4772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рез органы чувств</a:t>
            </a:r>
            <a:endParaRPr b="1" lang="en-US" sz="2400" spc="1" strike="noStrike">
              <a:ln w="12600">
                <a:solidFill>
                  <a:srgbClr val="0000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282760" y="1066680"/>
            <a:ext cx="1722600" cy="2058840"/>
            <a:chOff x="2282760" y="1066680"/>
            <a:chExt cx="1722600" cy="205884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2282760" y="1066680"/>
              <a:ext cx="17226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745000" y="260496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вку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1066680"/>
            <a:ext cx="2455920" cy="1482840"/>
            <a:chOff x="6095880" y="1066680"/>
            <a:chExt cx="2455920" cy="1482840"/>
          </a:xfrm>
        </p:grpSpPr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6095880" y="1066680"/>
              <a:ext cx="24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59800" y="1905120"/>
              <a:ext cx="159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осяза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752480" y="2732040"/>
            <a:ext cx="1612080" cy="1893960"/>
            <a:chOff x="1752480" y="2732040"/>
            <a:chExt cx="1612080" cy="1893960"/>
          </a:xfrm>
        </p:grpSpPr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1752480" y="2732040"/>
              <a:ext cx="1247760" cy="16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120040" y="4105440"/>
              <a:ext cx="124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зре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553080" y="2743200"/>
            <a:ext cx="2076480" cy="2516040"/>
            <a:chOff x="6553080" y="2743200"/>
            <a:chExt cx="2076480" cy="2516040"/>
          </a:xfrm>
        </p:grpSpPr>
        <p:pic>
          <p:nvPicPr>
            <p:cNvPr id="229" name="" descr=""/>
            <p:cNvPicPr/>
            <p:nvPr/>
          </p:nvPicPr>
          <p:blipFill>
            <a:blip r:embed="rId5"/>
            <a:stretch/>
          </p:blipFill>
          <p:spPr>
            <a:xfrm>
              <a:off x="6553080" y="2743200"/>
              <a:ext cx="207648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316640" y="473868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слу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752480" y="4724280"/>
            <a:ext cx="3339720" cy="1812960"/>
            <a:chOff x="1752480" y="4724280"/>
            <a:chExt cx="3339720" cy="1812960"/>
          </a:xfrm>
        </p:grpSpPr>
        <p:pic>
          <p:nvPicPr>
            <p:cNvPr id="232" name="" descr=""/>
            <p:cNvPicPr/>
            <p:nvPr/>
          </p:nvPicPr>
          <p:blipFill>
            <a:blip r:embed="rId6"/>
            <a:stretch/>
          </p:blipFill>
          <p:spPr>
            <a:xfrm>
              <a:off x="1752480" y="4724280"/>
              <a:ext cx="182880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414960" y="6010200"/>
              <a:ext cx="167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обоня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6705720" y="5943600"/>
            <a:ext cx="173340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аристотель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43000" y="2590920"/>
            <a:ext cx="4287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458200" y="609480"/>
            <a:ext cx="4287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налы получения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1141560" cy="2743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886200" y="5410080"/>
            <a:ext cx="4772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рез органы чувств</a:t>
            </a:r>
            <a:endParaRPr b="1" lang="en-US" sz="2400" spc="1" strike="noStrike">
              <a:ln w="12600">
                <a:solidFill>
                  <a:srgbClr val="0000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419720" y="594360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(дополнительные)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602360" y="1143000"/>
            <a:ext cx="2034000" cy="2591640"/>
            <a:chOff x="1602360" y="1143000"/>
            <a:chExt cx="2034000" cy="2591640"/>
          </a:xfrm>
        </p:grpSpPr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1676520" y="1143000"/>
              <a:ext cx="172692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602360" y="2787480"/>
              <a:ext cx="203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Чувство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равновес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869080" y="1752480"/>
            <a:ext cx="2423880" cy="2877840"/>
            <a:chOff x="5869080" y="1752480"/>
            <a:chExt cx="2423880" cy="2877840"/>
          </a:xfrm>
        </p:grpSpPr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6095880" y="1752480"/>
              <a:ext cx="1981440" cy="20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869080" y="3683160"/>
              <a:ext cx="24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Музыкально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удовольств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895320" y="4191120"/>
            <a:ext cx="3157200" cy="2537640"/>
            <a:chOff x="895320" y="4191120"/>
            <a:chExt cx="3157200" cy="2537640"/>
          </a:xfrm>
        </p:grpSpPr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1752480" y="4191120"/>
              <a:ext cx="152712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895320" y="5781600"/>
              <a:ext cx="3157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Чувствительност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кож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налы получения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43600" y="2560680"/>
            <a:ext cx="1919520" cy="1506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1611360" cy="1752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 rot="18018600">
            <a:off x="495360" y="2743200"/>
            <a:ext cx="273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формация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2940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629400" y="2362320"/>
            <a:ext cx="2225520" cy="217944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2587320" y="3120840"/>
            <a:ext cx="768600" cy="768600"/>
            <a:chOff x="2587320" y="3120840"/>
            <a:chExt cx="768600" cy="768600"/>
          </a:xfrm>
        </p:grpSpPr>
        <p:sp>
          <p:nvSpPr>
            <p:cNvPr id="258" name=""/>
            <p:cNvSpPr/>
            <p:nvPr/>
          </p:nvSpPr>
          <p:spPr>
            <a:xfrm rot="2607000">
              <a:off x="2514240" y="3429000"/>
              <a:ext cx="9144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8007600">
              <a:off x="2514600" y="3429000"/>
              <a:ext cx="9144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415880" y="5425920"/>
            <a:ext cx="7093440" cy="82548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 современном обществе информация станови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изненно необход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иды чувственного познания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11415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2251440" y="1219320"/>
            <a:ext cx="2927520" cy="1175040"/>
            <a:chOff x="2251440" y="1219320"/>
            <a:chExt cx="2927520" cy="117504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2971800" y="1365120"/>
              <a:ext cx="6141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rot="19566600">
              <a:off x="2286000" y="1898280"/>
              <a:ext cx="685800" cy="333000"/>
            </a:xfrm>
            <a:prstGeom prst="rightArrow">
              <a:avLst>
                <a:gd name="adj1" fmla="val 50000"/>
                <a:gd name="adj2" fmla="val 51486"/>
              </a:avLst>
            </a:prstGeom>
            <a:solidFill>
              <a:srgbClr val="ffcc00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64800" y="1219320"/>
              <a:ext cx="1514160" cy="82548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Внешни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каче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 txBox="1"/>
          <p:nvPr/>
        </p:nvSpPr>
        <p:spPr>
          <a:xfrm>
            <a:off x="5857920" y="1447920"/>
            <a:ext cx="2371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ощущение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327760" y="2565360"/>
            <a:ext cx="3659760" cy="1343520"/>
            <a:chOff x="2327760" y="2565360"/>
            <a:chExt cx="3659760" cy="1343520"/>
          </a:xfrm>
        </p:grpSpPr>
        <p:grpSp>
          <p:nvGrpSpPr>
            <p:cNvPr id="269" name=""/>
            <p:cNvGrpSpPr/>
            <p:nvPr/>
          </p:nvGrpSpPr>
          <p:grpSpPr>
            <a:xfrm>
              <a:off x="2590920" y="2565360"/>
              <a:ext cx="1103040" cy="1254240"/>
              <a:chOff x="2590920" y="2565360"/>
              <a:chExt cx="1103040" cy="1254240"/>
            </a:xfrm>
          </p:grpSpPr>
          <p:pic>
            <p:nvPicPr>
              <p:cNvPr id="2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0400" y="3175200"/>
                <a:ext cx="493560" cy="644400"/>
              </a:xfrm>
              <a:prstGeom prst="rect">
                <a:avLst/>
              </a:prstGeom>
              <a:ln w="9360">
                <a:solidFill>
                  <a:srgbClr val="221304"/>
                </a:solidFill>
                <a:miter/>
              </a:ln>
            </p:spPr>
          </p:pic>
          <p:pic>
            <p:nvPicPr>
              <p:cNvPr id="2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2565360"/>
                <a:ext cx="614160" cy="60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"/>
            <p:cNvSpPr/>
            <p:nvPr/>
          </p:nvSpPr>
          <p:spPr>
            <a:xfrm rot="19566600">
              <a:off x="2362320" y="340308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cc00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40840" y="2717640"/>
              <a:ext cx="2146680" cy="119124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Совокуп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внешни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качест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6153120" y="3098880"/>
            <a:ext cx="2685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восприятие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71600" y="4437360"/>
            <a:ext cx="4312800" cy="2063160"/>
            <a:chOff x="1371600" y="4437360"/>
            <a:chExt cx="4312800" cy="2063160"/>
          </a:xfrm>
        </p:grpSpPr>
        <p:pic>
          <p:nvPicPr>
            <p:cNvPr id="276" name="" descr=""/>
            <p:cNvPicPr/>
            <p:nvPr/>
          </p:nvPicPr>
          <p:blipFill>
            <a:blip r:embed="rId5"/>
            <a:stretch/>
          </p:blipFill>
          <p:spPr>
            <a:xfrm>
              <a:off x="1981080" y="5442120"/>
              <a:ext cx="493920" cy="644400"/>
            </a:xfrm>
            <a:prstGeom prst="rect">
              <a:avLst/>
            </a:prstGeom>
            <a:ln w="9360">
              <a:solidFill>
                <a:srgbClr val="221304"/>
              </a:solidFill>
              <a:miter/>
            </a:ln>
          </p:spPr>
        </p:pic>
        <p:pic>
          <p:nvPicPr>
            <p:cNvPr id="277" name="" descr=""/>
            <p:cNvPicPr/>
            <p:nvPr/>
          </p:nvPicPr>
          <p:blipFill>
            <a:blip r:embed="rId6"/>
            <a:stretch/>
          </p:blipFill>
          <p:spPr>
            <a:xfrm>
              <a:off x="1371600" y="5867280"/>
              <a:ext cx="6145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V="1" rot="4380600">
              <a:off x="1600200" y="4646880"/>
              <a:ext cx="685800" cy="333720"/>
            </a:xfrm>
            <a:prstGeom prst="rightArrow">
              <a:avLst>
                <a:gd name="adj1" fmla="val 50000"/>
                <a:gd name="adj2" fmla="val 51375"/>
              </a:avLst>
            </a:prstGeom>
            <a:solidFill>
              <a:srgbClr val="ffcc00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5200" y="4943520"/>
              <a:ext cx="2869200" cy="155700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Чувственны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образ бе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непосредствен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воз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386720" y="5129280"/>
              <a:ext cx="1234440" cy="1197720"/>
              <a:chOff x="1386720" y="5129280"/>
              <a:chExt cx="1234440" cy="1197720"/>
            </a:xfrm>
          </p:grpSpPr>
          <p:sp>
            <p:nvSpPr>
              <p:cNvPr id="281" name=""/>
              <p:cNvSpPr/>
              <p:nvPr/>
            </p:nvSpPr>
            <p:spPr>
              <a:xfrm rot="2607000">
                <a:off x="1265040" y="5610240"/>
                <a:ext cx="1477440" cy="23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8007600">
                <a:off x="1295280" y="5605200"/>
                <a:ext cx="1416960" cy="245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 txBox="1"/>
          <p:nvPr/>
        </p:nvSpPr>
        <p:spPr>
          <a:xfrm>
            <a:off x="5657760" y="548640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ставление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Я думаю,значит-</a:t>
            </a:r>
            <a:br>
              <a:rPr sz="4400"/>
            </a:br>
            <a:r>
              <a:rPr b="1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я существую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 rot="18018600">
            <a:off x="495360" y="2743200"/>
            <a:ext cx="273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формация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3039840" cy="3405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733920" y="1447920"/>
            <a:ext cx="1600200" cy="1530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56272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 rot="4109400">
            <a:off x="6144840" y="2868480"/>
            <a:ext cx="288432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ышлени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62960" y="5181480"/>
            <a:ext cx="5235840" cy="11912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ышление,рациональное позн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-это необходимый этап познаватель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ой деятельности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362240" y="1447920"/>
            <a:ext cx="2166840" cy="896760"/>
            <a:chOff x="1362240" y="1447920"/>
            <a:chExt cx="2166840" cy="89676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1362240" y="1600200"/>
              <a:ext cx="47448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2809800" y="1447920"/>
              <a:ext cx="7192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971720" y="1676520"/>
              <a:ext cx="685800" cy="457200"/>
            </a:xfrm>
            <a:prstGeom prst="leftRightArrow">
              <a:avLst>
                <a:gd name="adj1" fmla="val 50000"/>
                <a:gd name="adj2" fmla="val 29861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724200" y="1676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3600" y="148896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алень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 больш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38800" y="1676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924600" y="1600200"/>
            <a:ext cx="1914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авн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371600" y="2819520"/>
            <a:ext cx="1998720" cy="591840"/>
            <a:chOff x="1371600" y="2819520"/>
            <a:chExt cx="1998720" cy="591840"/>
          </a:xfrm>
        </p:grpSpPr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1371600" y="2895480"/>
              <a:ext cx="47304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2895840" y="2819520"/>
              <a:ext cx="4744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2057400" y="2819520"/>
              <a:ext cx="685800" cy="457200"/>
            </a:xfrm>
            <a:prstGeom prst="leftRightArrow">
              <a:avLst>
                <a:gd name="adj1" fmla="val 50000"/>
                <a:gd name="adj2" fmla="val 29861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65760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1880" y="2682720"/>
            <a:ext cx="15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расный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ку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67280" y="28195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553080" y="266688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одобл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09720" y="4952880"/>
            <a:ext cx="1314360" cy="1114560"/>
            <a:chOff x="1809720" y="4952880"/>
            <a:chExt cx="1314360" cy="1114560"/>
          </a:xfrm>
        </p:grpSpPr>
        <p:pic>
          <p:nvPicPr>
            <p:cNvPr id="311" name="" descr=""/>
            <p:cNvPicPr/>
            <p:nvPr/>
          </p:nvPicPr>
          <p:blipFill>
            <a:blip r:embed="rId5"/>
            <a:stretch/>
          </p:blipFill>
          <p:spPr>
            <a:xfrm>
              <a:off x="1809720" y="5562720"/>
              <a:ext cx="500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6"/>
            <a:stretch/>
          </p:blipFill>
          <p:spPr>
            <a:xfrm>
              <a:off x="2309760" y="5486400"/>
              <a:ext cx="81432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7"/>
            <a:stretch/>
          </p:blipFill>
          <p:spPr>
            <a:xfrm>
              <a:off x="1928880" y="4952880"/>
              <a:ext cx="995400" cy="49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/>
          <p:cNvSpPr/>
          <p:nvPr/>
        </p:nvSpPr>
        <p:spPr>
          <a:xfrm>
            <a:off x="3505320" y="53053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09560" y="52293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3053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705720" y="5229360"/>
            <a:ext cx="1981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влеч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600200" y="3505320"/>
            <a:ext cx="1908000" cy="1388880"/>
            <a:chOff x="1600200" y="3505320"/>
            <a:chExt cx="1908000" cy="1388880"/>
          </a:xfrm>
        </p:grpSpPr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>
              <a:off x="1600200" y="3733920"/>
              <a:ext cx="47304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9"/>
            <a:stretch/>
          </p:blipFill>
          <p:spPr>
            <a:xfrm>
              <a:off x="2666880" y="3505320"/>
              <a:ext cx="84132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"/>
            <a:stretch/>
          </p:blipFill>
          <p:spPr>
            <a:xfrm>
              <a:off x="1981080" y="4114800"/>
              <a:ext cx="85896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358128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47080" y="392760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Ябл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705720" y="388620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общени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809880" y="2971800"/>
            <a:ext cx="175284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510920" y="17938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ру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67600" y="156528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ел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34840" y="20224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р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33880" y="34704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зогну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96360" y="468936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роз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07840" y="49179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Аф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87120" y="33940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яко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50640" y="5791320"/>
            <a:ext cx="3515400" cy="459720"/>
          </a:xfrm>
          <a:prstGeom prst="rect">
            <a:avLst/>
          </a:prstGeom>
          <a:solidFill>
            <a:srgbClr val="ffcc00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ормирование пон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5791320"/>
            <a:ext cx="824040" cy="457200"/>
          </a:xfrm>
          <a:prstGeom prst="rightArrow">
            <a:avLst>
              <a:gd name="adj1" fmla="val 50000"/>
              <a:gd name="adj2" fmla="val 45059"/>
            </a:avLst>
          </a:prstGeom>
          <a:solidFill>
            <a:srgbClr val="ffcc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53400" y="5105520"/>
            <a:ext cx="2975760" cy="1557000"/>
          </a:xfrm>
          <a:prstGeom prst="rect">
            <a:avLst/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онятие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-это мысл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тражающая пред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еты,или явления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х призн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915160" y="2895480"/>
            <a:ext cx="1857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33720" y="1295280"/>
            <a:ext cx="18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905120" y="2895480"/>
            <a:ext cx="1857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33720" y="4495680"/>
            <a:ext cx="18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ят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176720" y="2486160"/>
            <a:ext cx="137160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+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76720" y="2514600"/>
            <a:ext cx="3047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Суждени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6633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7840" y="5578560"/>
            <a:ext cx="802044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ужд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форма мысли, в которой через связь понят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верждается или отрицается что-ли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066680" y="39996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слительные оп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67920" y="5578560"/>
            <a:ext cx="712872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Умозаключ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логический вывод,связыва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ва,или более су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753000" y="1219320"/>
            <a:ext cx="2342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ждение1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562720" y="1791360"/>
            <a:ext cx="2342880" cy="1447200"/>
            <a:chOff x="5562720" y="1791360"/>
            <a:chExt cx="2342880" cy="1447200"/>
          </a:xfrm>
        </p:grpSpPr>
        <p:sp>
          <p:nvSpPr>
            <p:cNvPr id="350" name=""/>
            <p:cNvSpPr txBox="1"/>
            <p:nvPr/>
          </p:nvSpPr>
          <p:spPr>
            <a:xfrm>
              <a:off x="5562720" y="2666880"/>
              <a:ext cx="23428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уждение3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548800">
              <a:off x="5714640" y="20570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209680" y="1791360"/>
            <a:ext cx="2343240" cy="1447200"/>
            <a:chOff x="2209680" y="1791360"/>
            <a:chExt cx="2343240" cy="1447200"/>
          </a:xfrm>
        </p:grpSpPr>
        <p:sp>
          <p:nvSpPr>
            <p:cNvPr id="353" name=""/>
            <p:cNvSpPr txBox="1"/>
            <p:nvPr/>
          </p:nvSpPr>
          <p:spPr>
            <a:xfrm>
              <a:off x="2209680" y="2666880"/>
              <a:ext cx="2343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уждение2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19051200">
              <a:off x="3351600" y="205704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743200" y="3286800"/>
            <a:ext cx="4572000" cy="1818720"/>
            <a:chOff x="2743200" y="3286800"/>
            <a:chExt cx="4572000" cy="1818720"/>
          </a:xfrm>
        </p:grpSpPr>
        <p:sp>
          <p:nvSpPr>
            <p:cNvPr id="356" name=""/>
            <p:cNvSpPr/>
            <p:nvPr/>
          </p:nvSpPr>
          <p:spPr>
            <a:xfrm flipH="1" rot="19051200">
              <a:off x="5713920" y="35524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548800">
              <a:off x="3352320" y="355248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2743200" y="4343400"/>
              <a:ext cx="45720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9900"/>
                    </a:solidFill>
                    <a:miter/>
                  </a:ln>
                  <a:gradFill rotWithShape="0">
                    <a:gsLst>
                      <a:gs pos="0">
                        <a:srgbClr val="99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Умозаключение</a:t>
              </a:r>
              <a:endParaRPr b="1" lang="en-US" sz="2400" spc="1" strike="noStrike">
                <a:ln w="1908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100000">
                      <a:srgbClr val="00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«Знание-сила».(Ф.Бэкон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766960" y="1295280"/>
            <a:ext cx="3176640" cy="1908360"/>
            <a:chOff x="2766960" y="1295280"/>
            <a:chExt cx="3176640" cy="19083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3919680" y="1295280"/>
              <a:ext cx="202392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766960" y="2104920"/>
              <a:ext cx="814320" cy="866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191e1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05280" y="3352680"/>
            <a:ext cx="2021760" cy="2695680"/>
            <a:chOff x="1205280" y="3352680"/>
            <a:chExt cx="2021760" cy="26956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447920" y="3352680"/>
              <a:ext cx="1541520" cy="1967040"/>
            </a:xfrm>
            <a:prstGeom prst="rect">
              <a:avLst/>
            </a:prstGeom>
            <a:ln w="9360">
              <a:solidFill>
                <a:srgbClr val="221304"/>
              </a:solidFill>
              <a:miter/>
            </a:ln>
          </p:spPr>
        </p:pic>
        <p:sp>
          <p:nvSpPr>
            <p:cNvPr id="122" name=""/>
            <p:cNvSpPr/>
            <p:nvPr/>
          </p:nvSpPr>
          <p:spPr>
            <a:xfrm>
              <a:off x="1205280" y="5222880"/>
              <a:ext cx="2021760" cy="8254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Зн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человече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96040" y="2133720"/>
            <a:ext cx="2390760" cy="3472560"/>
            <a:chOff x="6296040" y="2133720"/>
            <a:chExt cx="2390760" cy="3472560"/>
          </a:xfrm>
        </p:grpSpPr>
        <p:sp>
          <p:nvSpPr>
            <p:cNvPr id="124" name=""/>
            <p:cNvSpPr/>
            <p:nvPr/>
          </p:nvSpPr>
          <p:spPr>
            <a:xfrm rot="5400000">
              <a:off x="6322320" y="2107440"/>
              <a:ext cx="814320" cy="866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191e1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6400800" y="3124080"/>
              <a:ext cx="2286000" cy="22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488280" y="5146560"/>
              <a:ext cx="2082600" cy="45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071880" y="3352680"/>
            <a:ext cx="34178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а на использ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нии знаний накоп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ных человеч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066680" y="152280"/>
            <a:ext cx="7772400" cy="129564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заимосвязь чувственного и рационального по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88400" y="5578560"/>
            <a:ext cx="63255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Развитие умственных способностей связа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с чувственными ощущ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1905120" cy="1904760"/>
          </a:xfrm>
          <a:prstGeom prst="rect">
            <a:avLst/>
          </a:prstGeom>
          <a:ln w="76320">
            <a:solidFill>
              <a:srgbClr val="221304"/>
            </a:solidFill>
            <a:miter/>
          </a:ln>
        </p:spPr>
      </p:pic>
      <p:grpSp>
        <p:nvGrpSpPr>
          <p:cNvPr id="362" name=""/>
          <p:cNvGrpSpPr/>
          <p:nvPr/>
        </p:nvGrpSpPr>
        <p:grpSpPr>
          <a:xfrm>
            <a:off x="6095880" y="2286000"/>
            <a:ext cx="2743200" cy="2057400"/>
            <a:chOff x="6095880" y="2286000"/>
            <a:chExt cx="2743200" cy="2057400"/>
          </a:xfrm>
        </p:grpSpPr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6781680" y="2286000"/>
              <a:ext cx="20574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095880" y="312444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52680" y="2362320"/>
            <a:ext cx="2590920" cy="2440800"/>
            <a:chOff x="3352680" y="2362320"/>
            <a:chExt cx="2590920" cy="2440800"/>
          </a:xfrm>
        </p:grpSpPr>
        <p:grpSp>
          <p:nvGrpSpPr>
            <p:cNvPr id="366" name=""/>
            <p:cNvGrpSpPr/>
            <p:nvPr/>
          </p:nvGrpSpPr>
          <p:grpSpPr>
            <a:xfrm>
              <a:off x="3352680" y="2362320"/>
              <a:ext cx="2590920" cy="1906560"/>
              <a:chOff x="3352680" y="2362320"/>
              <a:chExt cx="2590920" cy="1906560"/>
            </a:xfrm>
          </p:grpSpPr>
          <p:pic>
            <p:nvPicPr>
              <p:cNvPr id="3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37040" y="2362320"/>
                <a:ext cx="1906560" cy="190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3352680" y="3124440"/>
                <a:ext cx="685800" cy="380880"/>
              </a:xfrm>
              <a:prstGeom prst="rightArrow">
                <a:avLst>
                  <a:gd name="adj1" fmla="val 50000"/>
                  <a:gd name="adj2" fmla="val 45014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2200" y="434340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Times New Roman"/>
                </a:rPr>
                <a:t>Масса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«Знание-сила».(Ф.Бэкон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86200" y="3054240"/>
            <a:ext cx="1981080" cy="189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30" name=""/>
          <p:cNvSpPr txBox="1"/>
          <p:nvPr/>
        </p:nvSpPr>
        <p:spPr>
          <a:xfrm rot="5400000">
            <a:off x="-304920" y="3429000"/>
            <a:ext cx="464796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Знания </a:t>
            </a:r>
            <a:endParaRPr b="1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человечества</a:t>
            </a:r>
            <a:endParaRPr b="1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1523880"/>
            <a:ext cx="914400" cy="4953240"/>
          </a:xfrm>
          <a:prstGeom prst="rightArrowCallout">
            <a:avLst>
              <a:gd name="adj1" fmla="val 135436"/>
              <a:gd name="adj2" fmla="val 135423"/>
              <a:gd name="adj3" fmla="val 16667"/>
              <a:gd name="adj4" fmla="val 66667"/>
            </a:avLst>
          </a:prstGeom>
          <a:solidFill>
            <a:srgbClr val="a1bd69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019920" y="2647080"/>
            <a:ext cx="3330360" cy="2954160"/>
            <a:chOff x="6019920" y="2647080"/>
            <a:chExt cx="3330360" cy="2954160"/>
          </a:xfrm>
        </p:grpSpPr>
        <p:sp>
          <p:nvSpPr>
            <p:cNvPr id="133" name=""/>
            <p:cNvSpPr/>
            <p:nvPr/>
          </p:nvSpPr>
          <p:spPr>
            <a:xfrm>
              <a:off x="6019920" y="37339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a1bd69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19036200">
              <a:off x="6477120" y="3371400"/>
              <a:ext cx="2724120" cy="150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Усво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39560" y="1114560"/>
            <a:ext cx="4222440" cy="1557000"/>
          </a:xfrm>
          <a:prstGeom prst="rect">
            <a:avLst/>
          </a:prstGeom>
          <a:solidFill>
            <a:srgbClr val="3694b6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ждый человек,пропу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через себя огромный инфор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мационный поток,усваив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лишь небольшую его ча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1000" y="5791320"/>
            <a:ext cx="4083840" cy="459720"/>
          </a:xfrm>
          <a:prstGeom prst="rect">
            <a:avLst/>
          </a:prstGeom>
          <a:solidFill>
            <a:srgbClr val="996633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о-усвоенные нами 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«Знание-сила».(Ф.Бэкон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43240" y="5943600"/>
            <a:ext cx="307944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знообразие зн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19320" y="2438280"/>
            <a:ext cx="2286000" cy="2233440"/>
            <a:chOff x="1219320" y="2438280"/>
            <a:chExt cx="2286000" cy="22334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219320" y="2438280"/>
              <a:ext cx="228600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1752840" y="3443040"/>
              <a:ext cx="1647720" cy="81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Знан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38480" y="3048120"/>
            <a:ext cx="4428360" cy="1560240"/>
            <a:chOff x="4038480" y="3048120"/>
            <a:chExt cx="4428360" cy="1560240"/>
          </a:xfrm>
        </p:grpSpPr>
        <p:grpSp>
          <p:nvGrpSpPr>
            <p:cNvPr id="143" name=""/>
            <p:cNvGrpSpPr/>
            <p:nvPr/>
          </p:nvGrpSpPr>
          <p:grpSpPr>
            <a:xfrm>
              <a:off x="5181480" y="3048120"/>
              <a:ext cx="3285360" cy="1560240"/>
              <a:chOff x="5181480" y="3048120"/>
              <a:chExt cx="3285360" cy="1560240"/>
            </a:xfrm>
          </p:grpSpPr>
          <p:pic>
            <p:nvPicPr>
              <p:cNvPr id="14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048120"/>
                <a:ext cx="1249560" cy="156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6426720" y="3368520"/>
                <a:ext cx="2040120" cy="82548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О способа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деятельност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4038480" y="3809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ff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77040" y="4590000"/>
            <a:ext cx="5232960" cy="1249560"/>
            <a:chOff x="3677040" y="4590000"/>
            <a:chExt cx="5232960" cy="1249560"/>
          </a:xfrm>
        </p:grpSpPr>
        <p:grpSp>
          <p:nvGrpSpPr>
            <p:cNvPr id="148" name=""/>
            <p:cNvGrpSpPr/>
            <p:nvPr/>
          </p:nvGrpSpPr>
          <p:grpSpPr>
            <a:xfrm>
              <a:off x="5486400" y="4648320"/>
              <a:ext cx="3423600" cy="1191240"/>
              <a:chOff x="5486400" y="4648320"/>
              <a:chExt cx="3423600" cy="1191240"/>
            </a:xfrm>
          </p:grpSpPr>
          <p:pic>
            <p:nvPicPr>
              <p:cNvPr id="1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86400" y="4648320"/>
                <a:ext cx="115092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6650640" y="4648320"/>
                <a:ext cx="2259360" cy="119124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Знания 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формировани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знани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rot="1487400">
              <a:off x="3733920" y="4772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53000" y="1066680"/>
            <a:ext cx="4336920" cy="2269080"/>
            <a:chOff x="3753000" y="1066680"/>
            <a:chExt cx="4336920" cy="2269080"/>
          </a:xfrm>
        </p:grpSpPr>
        <p:grpSp>
          <p:nvGrpSpPr>
            <p:cNvPr id="153" name=""/>
            <p:cNvGrpSpPr/>
            <p:nvPr/>
          </p:nvGrpSpPr>
          <p:grpSpPr>
            <a:xfrm>
              <a:off x="5486400" y="1066680"/>
              <a:ext cx="2603520" cy="1857600"/>
              <a:chOff x="5486400" y="1066680"/>
              <a:chExt cx="2603520" cy="1857600"/>
            </a:xfrm>
          </p:grpSpPr>
          <p:pic>
            <p:nvPicPr>
              <p:cNvPr id="1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6400" y="1066680"/>
                <a:ext cx="2603520" cy="13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5488920" y="2098800"/>
                <a:ext cx="2581200" cy="8254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О предметах и и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Times New Roman"/>
                  </a:rPr>
                  <a:t>свойства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rot="20105400">
              <a:off x="3809880" y="2666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ff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пособы получения знаний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1424160" cy="14749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690640" y="1143000"/>
            <a:ext cx="3135960" cy="2695680"/>
            <a:chOff x="2690640" y="1143000"/>
            <a:chExt cx="3135960" cy="2695680"/>
          </a:xfrm>
        </p:grpSpPr>
        <p:grpSp>
          <p:nvGrpSpPr>
            <p:cNvPr id="160" name=""/>
            <p:cNvGrpSpPr/>
            <p:nvPr/>
          </p:nvGrpSpPr>
          <p:grpSpPr>
            <a:xfrm>
              <a:off x="3577680" y="1143000"/>
              <a:ext cx="2248920" cy="2695680"/>
              <a:chOff x="3577680" y="1143000"/>
              <a:chExt cx="2248920" cy="2695680"/>
            </a:xfrm>
          </p:grpSpPr>
          <p:pic>
            <p:nvPicPr>
              <p:cNvPr id="1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2880" y="1143000"/>
                <a:ext cx="1836360" cy="19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577680" y="3013200"/>
                <a:ext cx="2248920" cy="82548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знавательна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690640" y="1981080"/>
              <a:ext cx="814680" cy="8668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219720" y="2004840"/>
            <a:ext cx="2390760" cy="2557800"/>
            <a:chOff x="6219720" y="2004840"/>
            <a:chExt cx="2390760" cy="2557800"/>
          </a:xfrm>
        </p:grpSpPr>
        <p:sp>
          <p:nvSpPr>
            <p:cNvPr id="165" name=""/>
            <p:cNvSpPr txBox="1"/>
            <p:nvPr/>
          </p:nvSpPr>
          <p:spPr>
            <a:xfrm>
              <a:off x="6629400" y="3048120"/>
              <a:ext cx="1981080" cy="151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9999ff"/>
                    </a:outerShdw>
                  </a:effectLst>
                  <a:latin typeface="Impact"/>
                </a:rPr>
                <a:t>Знание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6245640" y="1978560"/>
              <a:ext cx="814680" cy="8668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828800" y="4724280"/>
            <a:ext cx="961920" cy="1791000"/>
            <a:chOff x="1828800" y="4724280"/>
            <a:chExt cx="961920" cy="179100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1828800" y="5410080"/>
              <a:ext cx="96192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828800" y="472428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66880" y="5410080"/>
            <a:ext cx="1667160" cy="827280"/>
            <a:chOff x="2666880" y="5410080"/>
            <a:chExt cx="1667160" cy="82728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3276720" y="5410080"/>
              <a:ext cx="105732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rot="16200000">
              <a:off x="2705040" y="567684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95680" y="5410080"/>
            <a:ext cx="1524240" cy="1036800"/>
            <a:chOff x="4495680" y="5410080"/>
            <a:chExt cx="1524240" cy="1036800"/>
          </a:xfrm>
        </p:grpSpPr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4952880" y="5410080"/>
              <a:ext cx="10670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16200000">
              <a:off x="4533840" y="567684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5880" y="5486400"/>
            <a:ext cx="2667240" cy="685800"/>
            <a:chOff x="6095880" y="5486400"/>
            <a:chExt cx="2667240" cy="685800"/>
          </a:xfrm>
        </p:grpSpPr>
        <p:sp>
          <p:nvSpPr>
            <p:cNvPr id="177" name=""/>
            <p:cNvSpPr txBox="1"/>
            <p:nvPr/>
          </p:nvSpPr>
          <p:spPr>
            <a:xfrm>
              <a:off x="6858000" y="5486400"/>
              <a:ext cx="19051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07932" dir="2700000" blurRad="0" rotWithShape="0">
                      <a:srgbClr val="c0c0c0"/>
                    </a:outerShdw>
                  </a:effectLst>
                  <a:latin typeface="Arial"/>
                </a:rPr>
                <a:t>Опыт</a:t>
              </a:r>
              <a:endPara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c0c0c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880" y="5715000"/>
              <a:ext cx="609840" cy="38088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035160" y="4460760"/>
            <a:ext cx="33246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е приобрет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опыт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пособы получения знаний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19320" y="3505320"/>
            <a:ext cx="22860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420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221304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ь</a:t>
            </a:r>
            <a:endParaRPr b="1" lang="en-US" sz="2400" spc="1" strike="noStrike">
              <a:ln w="28440">
                <a:solidFill>
                  <a:srgbClr val="221304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847600" y="1295280"/>
            <a:ext cx="3553200" cy="2210040"/>
            <a:chOff x="2847600" y="1295280"/>
            <a:chExt cx="3553200" cy="221004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3809880" y="1295280"/>
              <a:ext cx="2590920" cy="2210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84" name=""/>
            <p:cNvSpPr/>
            <p:nvPr/>
          </p:nvSpPr>
          <p:spPr>
            <a:xfrm>
              <a:off x="4039560" y="2757600"/>
              <a:ext cx="217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c00"/>
                  </a:solidFill>
                  <a:latin typeface="Times New Roman"/>
                </a:rPr>
                <a:t>образова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16200000">
              <a:off x="2787840" y="2102400"/>
              <a:ext cx="852480" cy="73332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1920 h 733320"/>
                <a:gd name="textAreaBottom" fmla="*/ 62784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23920" y="3962520"/>
            <a:ext cx="3476880" cy="2516040"/>
            <a:chOff x="2923920" y="3962520"/>
            <a:chExt cx="3476880" cy="251604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3809880" y="3962520"/>
              <a:ext cx="2590920" cy="23857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88" name=""/>
            <p:cNvSpPr/>
            <p:nvPr/>
          </p:nvSpPr>
          <p:spPr>
            <a:xfrm>
              <a:off x="4589280" y="5958000"/>
              <a:ext cx="11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аук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 rot="16200000">
              <a:off x="2863800" y="4617000"/>
              <a:ext cx="852480" cy="73332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1920 h 733320"/>
                <a:gd name="textAreaBottom" fmla="*/ 62784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781680" y="1219320"/>
            <a:ext cx="1905120" cy="5181480"/>
            <a:chOff x="6781680" y="1219320"/>
            <a:chExt cx="1905120" cy="5181480"/>
          </a:xfrm>
        </p:grpSpPr>
        <p:sp>
          <p:nvSpPr>
            <p:cNvPr id="191" name=""/>
            <p:cNvSpPr txBox="1"/>
            <p:nvPr/>
          </p:nvSpPr>
          <p:spPr>
            <a:xfrm rot="5400000">
              <a:off x="6591240" y="3467160"/>
              <a:ext cx="3657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"/>
                </a:rPr>
                <a:t>результат</a:t>
              </a:r>
              <a:endParaRPr b="1" lang="en-US" sz="2400" spc="1" strike="noStrike">
                <a:ln w="9360">
                  <a:solidFill>
                    <a:srgbClr val="33cc33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1680" y="1219320"/>
              <a:ext cx="1067040" cy="5181480"/>
            </a:xfrm>
            <a:prstGeom prst="rightArrowCallout">
              <a:avLst>
                <a:gd name="adj1" fmla="val 121409"/>
                <a:gd name="adj2" fmla="val 121398"/>
                <a:gd name="adj3" fmla="val 16667"/>
                <a:gd name="adj4" fmla="val 66667"/>
              </a:avLst>
            </a:prstGeom>
            <a:solidFill>
              <a:srgbClr val="a1bd6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861640" y="3276720"/>
            <a:ext cx="44082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Знание-результат специаль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орган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тороны процесса познан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76520" y="1384200"/>
            <a:ext cx="2743200" cy="24256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89520" y="1371600"/>
            <a:ext cx="2363760" cy="24256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4586400" y="2333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62160" y="2362320"/>
            <a:ext cx="172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убъект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00640" y="2324160"/>
            <a:ext cx="149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бъект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4191120"/>
            <a:ext cx="6553080" cy="457200"/>
          </a:xfrm>
          <a:prstGeom prst="downArrowCallout">
            <a:avLst>
              <a:gd name="adj1" fmla="val 62514"/>
              <a:gd name="adj2" fmla="val 80557"/>
              <a:gd name="adj3" fmla="val 16667"/>
              <a:gd name="adj4" fmla="val 29514"/>
            </a:avLst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97240" y="5070600"/>
            <a:ext cx="5070240" cy="131292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1304"/>
                </a:solidFill>
                <a:uFillTx/>
                <a:latin typeface="Times New Roman"/>
              </a:rPr>
              <a:t>Цель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-позн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окружающ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4a573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тороны процесса познан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60560" y="2298600"/>
            <a:ext cx="1795320" cy="15876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073920" y="2286000"/>
            <a:ext cx="1546200" cy="15876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2397240" y="5070600"/>
            <a:ext cx="5070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олученное знание зави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от метода познания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возможно существование нескольких теорий одноврем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09880" y="2514600"/>
            <a:ext cx="2209680" cy="838080"/>
            <a:chOff x="3809880" y="2514600"/>
            <a:chExt cx="2209680" cy="838080"/>
          </a:xfrm>
        </p:grpSpPr>
        <p:sp>
          <p:nvSpPr>
            <p:cNvPr id="207" name=""/>
            <p:cNvSpPr txBox="1"/>
            <p:nvPr/>
          </p:nvSpPr>
          <p:spPr>
            <a:xfrm>
              <a:off x="3943080" y="2514600"/>
              <a:ext cx="18669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опросы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3352680"/>
              <a:ext cx="2209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9520" y="1219320"/>
            <a:ext cx="3048120" cy="761760"/>
            <a:chOff x="3809520" y="1219320"/>
            <a:chExt cx="3048120" cy="761760"/>
          </a:xfrm>
        </p:grpSpPr>
        <p:sp>
          <p:nvSpPr>
            <p:cNvPr id="210" name=""/>
            <p:cNvSpPr/>
            <p:nvPr/>
          </p:nvSpPr>
          <p:spPr>
            <a:xfrm flipH="1">
              <a:off x="3809520" y="1981080"/>
              <a:ext cx="3048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4343400" y="1219320"/>
              <a:ext cx="205740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ответ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9520" y="3990960"/>
            <a:ext cx="3048120" cy="885960"/>
            <a:chOff x="3809520" y="3990960"/>
            <a:chExt cx="3048120" cy="885960"/>
          </a:xfrm>
        </p:grpSpPr>
        <p:sp>
          <p:nvSpPr>
            <p:cNvPr id="213" name=""/>
            <p:cNvSpPr/>
            <p:nvPr/>
          </p:nvSpPr>
          <p:spPr>
            <a:xfrm flipH="1">
              <a:off x="3809520" y="4876920"/>
              <a:ext cx="3048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343400" y="3990960"/>
              <a:ext cx="205740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ответ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6633"/>
                </a:solidFill>
                <a:uFillTx/>
                <a:latin typeface="Times New Roman"/>
              </a:rPr>
              <a:t>Каналы получения информации об окружающем ми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9T14:23:52Z</dcterms:created>
  <dc:creator>elior</dc:creator>
  <dc:description/>
  <dc:language>en-US</dc:language>
  <cp:lastModifiedBy>Чернов Алексей</cp:lastModifiedBy>
  <dcterms:modified xsi:type="dcterms:W3CDTF">2002-04-03T16:46:48Z</dcterms:modified>
  <cp:revision>10</cp:revision>
  <dc:subject/>
  <dc:title>ПОЗНАВАТЕЛЬНАЯ ДЕЯТЕЛЬНОСТЬ</dc:title>
</cp:coreProperties>
</file>