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549-4868-4AE4-A443-CF9CE162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B23-8125-425A-8281-5C27552C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7C2-3D74-4888-8C52-F0A5C932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455-FE98-45FE-B2BF-3D951258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9F0-2186-4B87-8E54-96FC9122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DC2-1220-4022-A1BD-50F6B211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275-6FB2-492E-B344-0D190061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B42-B85B-4BF2-916C-C5693A34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54D-6DAB-42BC-A7B4-0BA016F0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E8D-F1EA-4807-B999-F4CBEA7A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F6D-D8B8-46D2-994B-30542EBE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E54-D6C2-4D38-961C-88260CEF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CFCE-5914-4A20-A402-58A42B5746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dioms.chat.ru/09/pix/192.gif" TargetMode="External"/><Relationship Id="rId2" Type="http://schemas.openxmlformats.org/officeDocument/2006/relationships/hyperlink" Target="http://photo.newslab.ru/image.aspx?id=3560" TargetMode="External"/><Relationship Id="rId3" Type="http://schemas.openxmlformats.org/officeDocument/2006/relationships/hyperlink" Target="http://www.fotodeti.ru/images/foto_b/01.jpg" TargetMode="External"/><Relationship Id="rId4" Type="http://schemas.openxmlformats.org/officeDocument/2006/relationships/hyperlink" Target="http://www.numismat-invest.ru/images/lots/349070.jpg" TargetMode="External"/><Relationship Id="rId5" Type="http://schemas.openxmlformats.org/officeDocument/2006/relationships/hyperlink" Target="http://lj.okamaster.ru/canon/2103/_MG_1474.jpg" TargetMode="External"/><Relationship Id="rId6" Type="http://schemas.openxmlformats.org/officeDocument/2006/relationships/hyperlink" Target="http://idioms.chat.ru/13/pix/330.gif" TargetMode="External"/><Relationship Id="rId7" Type="http://schemas.openxmlformats.org/officeDocument/2006/relationships/hyperlink" Target="http://www.topnews.ru/upload/img/fe99102845.jpg" TargetMode="External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questrian.ru/photos/user_photo/2008/c3631f6a.jpg" TargetMode="External"/><Relationship Id="rId2" Type="http://schemas.openxmlformats.org/officeDocument/2006/relationships/hyperlink" Target="http://img-fotki.yandex.ru/get/3714/teplohod62.b/0_1eb87_72456214_L" TargetMode="External"/><Relationship Id="rId3" Type="http://schemas.openxmlformats.org/officeDocument/2006/relationships/hyperlink" Target="http://i034.radikal.ru/0907/37/728ee33a284b.jpg" TargetMode="External"/><Relationship Id="rId4" Type="http://schemas.openxmlformats.org/officeDocument/2006/relationships/hyperlink" Target="http://img-fotki.yandex.ru/get/3903/natavoro.10/0_3c291_ace62026_L" TargetMode="External"/><Relationship Id="rId5" Type="http://schemas.openxmlformats.org/officeDocument/2006/relationships/hyperlink" Target="http://img-fotki.yandex.ru/get/15/mackey.1/0_62b6_2fc01bd_XL" TargetMode="External"/><Relationship Id="rId6" Type="http://schemas.openxmlformats.org/officeDocument/2006/relationships/hyperlink" Target="http://kemclub.ru/best/3484063.jpg" TargetMode="External"/><Relationship Id="rId7" Type="http://schemas.openxmlformats.org/officeDocument/2006/relationships/hyperlink" Target="http://i023.radikal.ru/0803/67/98ec9f6dbf5f.jpg" TargetMode="External"/><Relationship Id="rId8" Type="http://schemas.openxmlformats.org/officeDocument/2006/relationships/hyperlink" Target="http://www.shaturyane.ru/images/103.jpg" TargetMode="External"/><Relationship Id="rId9" Type="http://schemas.openxmlformats.org/officeDocument/2006/relationships/hyperlink" Target="http://s42.radikal.ru/i095/0901/a9/967bbdea72c1.jpg" TargetMode="External"/><Relationship Id="rId10" Type="http://schemas.openxmlformats.org/officeDocument/2006/relationships/hyperlink" Target="http://allday.ru/uploads/posts/1211126102_noty_vector_500.jpg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3"/>
          <p:cNvSpPr/>
          <p:nvPr/>
        </p:nvSpPr>
        <p:spPr>
          <a:xfrm>
            <a:off x="609480" y="990720"/>
            <a:ext cx="7772400" cy="2590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огатство русского языка Словарь устойчивых с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5486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ыть, стоять, сидеть, вести себя, держаться, вы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 мокрая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к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0" y="1600200"/>
            <a:ext cx="434340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.Быть инерт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ынициатив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оя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растороп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беспомощ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2. Находиться в мор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авленном со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4419720" y="3276720"/>
            <a:ext cx="4724280" cy="3581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От обычая окунать в в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куриц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тремящуюся с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а яйца для вы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цыплят(это делалось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аседка  не нужн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Будучи мокрой, т.е. находя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 непривычном состоя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курица теря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обычную подвиж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активность и энерг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0" y="4495680"/>
            <a:ext cx="4343400" cy="23623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Завтра соревнования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 мне какая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увер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Возьми себя в р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то  ты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окрая курица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агетная рамка 6"/>
          <p:cNvSpPr/>
          <p:nvPr/>
        </p:nvSpPr>
        <p:spPr>
          <a:xfrm>
            <a:off x="6172200" y="0"/>
            <a:ext cx="2971800" cy="91440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агетная рамка 7"/>
          <p:cNvSpPr/>
          <p:nvPr/>
        </p:nvSpPr>
        <p:spPr>
          <a:xfrm>
            <a:off x="6172200" y="990720"/>
            <a:ext cx="297180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агетная рамка 8"/>
          <p:cNvSpPr/>
          <p:nvPr/>
        </p:nvSpPr>
        <p:spPr>
          <a:xfrm>
            <a:off x="6172200" y="1905120"/>
            <a:ext cx="297180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C:\Users\Елена\Desktop\мокрая курица.jpg"/>
          <p:cNvPicPr/>
          <p:nvPr/>
        </p:nvPicPr>
        <p:blipFill>
          <a:blip r:embed="rId1"/>
          <a:stretch/>
        </p:blipFill>
        <p:spPr>
          <a:xfrm>
            <a:off x="4191120" y="1371600"/>
            <a:ext cx="189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едой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114800" y="838080"/>
            <a:ext cx="4800600" cy="1676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 сед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л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 еди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ёмного в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4191120" y="4572000"/>
            <a:ext cx="4724280" cy="20574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унь – хищная пт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зрос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амец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меет серовато-б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п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114800" y="2590920"/>
            <a:ext cx="480060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Профессор, навер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епе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же совсем сед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Белый как лу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агетная рамка 6"/>
          <p:cNvSpPr/>
          <p:nvPr/>
        </p:nvSpPr>
        <p:spPr>
          <a:xfrm>
            <a:off x="22860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агетная рамка 7"/>
          <p:cNvSpPr/>
          <p:nvPr/>
        </p:nvSpPr>
        <p:spPr>
          <a:xfrm>
            <a:off x="228600" y="2209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агетная рамка 8"/>
          <p:cNvSpPr/>
          <p:nvPr/>
        </p:nvSpPr>
        <p:spPr>
          <a:xfrm>
            <a:off x="228600" y="3429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ТО ТАКОЙ ЛУ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C:\Users\Елена\Desktop\лунь.jpg"/>
          <p:cNvPicPr/>
          <p:nvPr/>
        </p:nvPicPr>
        <p:blipFill>
          <a:blip r:embed="rId1"/>
          <a:stretch/>
        </p:blipFill>
        <p:spPr>
          <a:xfrm>
            <a:off x="609480" y="4572000"/>
            <a:ext cx="29084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Ждать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нны небес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200400" y="1066680"/>
            <a:ext cx="2590920" cy="289584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895840"/>
              <a:gd name="textAreaBottom" fmla="*/ 2769480 h 2895840"/>
            </a:gdLst>
            <a:ahLst/>
            <a:rect l="textAreaLeft" t="textAreaTop" r="textAreaRight" b="textAreaBottom"/>
            <a:pathLst>
              <a:path w="21600" h="24142">
                <a:moveTo>
                  <a:pt x="3600" y="0"/>
                </a:moveTo>
                <a:arcTo wR="3600" hR="3600" stAng="16200000" swAng="-5400000"/>
                <a:lnTo>
                  <a:pt x="0" y="20542"/>
                </a:lnTo>
                <a:arcTo wR="3600" hR="3600" stAng="10800000" swAng="-5400000"/>
                <a:lnTo>
                  <a:pt x="18000" y="241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Ж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его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 боль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терп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 надеж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0" y="4191120"/>
            <a:ext cx="4343400" cy="2666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нна небесна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 библейскому миф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адавшая с неба пищ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торой питались евре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ранствовав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 пустыне в поис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емли обетова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648320" y="4191120"/>
            <a:ext cx="426708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Вы всё ещё надеете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лу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 него письм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Жду как манны неб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агетная рамка 6"/>
          <p:cNvSpPr/>
          <p:nvPr/>
        </p:nvSpPr>
        <p:spPr>
          <a:xfrm>
            <a:off x="0" y="838080"/>
            <a:ext cx="3124080" cy="99072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агетная рамка 7"/>
          <p:cNvSpPr/>
          <p:nvPr/>
        </p:nvSpPr>
        <p:spPr>
          <a:xfrm>
            <a:off x="0" y="1905120"/>
            <a:ext cx="3124080" cy="91440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агетная рамка 8"/>
          <p:cNvSpPr/>
          <p:nvPr/>
        </p:nvSpPr>
        <p:spPr>
          <a:xfrm>
            <a:off x="0" y="2971800"/>
            <a:ext cx="3124080" cy="91440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 ТАКОЕ МАННА НЕБЕ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C:\Users\Елена\Desktop\манна небесная.jpg"/>
          <p:cNvPicPr/>
          <p:nvPr/>
        </p:nvPicPr>
        <p:blipFill>
          <a:blip r:embed="rId1"/>
          <a:stretch/>
        </p:blipFill>
        <p:spPr>
          <a:xfrm>
            <a:off x="5943600" y="990720"/>
            <a:ext cx="301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Идти как по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886200" y="914400"/>
            <a:ext cx="502920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дти, осуществля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хорошо, успешно или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было намечено, задум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ранее (о деле, событ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йств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962520" y="3733920"/>
            <a:ext cx="4876560" cy="25146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Разве у них заранее всё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едусмотр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Конечно. Всё шло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 но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агетная рамка 5"/>
          <p:cNvSpPr/>
          <p:nvPr/>
        </p:nvSpPr>
        <p:spPr>
          <a:xfrm>
            <a:off x="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Багетная рамка 6"/>
          <p:cNvSpPr/>
          <p:nvPr/>
        </p:nvSpPr>
        <p:spPr>
          <a:xfrm>
            <a:off x="0" y="2286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C:\Users\Елена\Desktop\ноты.jpg"/>
          <p:cNvPicPr/>
          <p:nvPr/>
        </p:nvPicPr>
        <p:blipFill>
          <a:blip r:embed="rId1"/>
          <a:stretch/>
        </p:blipFill>
        <p:spPr>
          <a:xfrm>
            <a:off x="380880" y="3505320"/>
            <a:ext cx="28195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о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ехи щёлк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962520" y="838080"/>
            <a:ext cx="4952880" cy="2438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егко и непринуждё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правляться с ряд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ру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физических работ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мственных операци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04920" y="3581280"/>
            <a:ext cx="495288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Вы считаете, что ваш 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удет учёным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темати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Уверен. Он зада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 арифмет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ешает, как орешки щёлк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агетная рамка 5"/>
          <p:cNvSpPr/>
          <p:nvPr/>
        </p:nvSpPr>
        <p:spPr>
          <a:xfrm>
            <a:off x="22860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агетная рамка 6"/>
          <p:cNvSpPr/>
          <p:nvPr/>
        </p:nvSpPr>
        <p:spPr>
          <a:xfrm>
            <a:off x="22860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C:\Users\Елена\Desktop\белка-орехи.jpeg"/>
          <p:cNvPicPr/>
          <p:nvPr/>
        </p:nvPicPr>
        <p:blipFill>
          <a:blip r:embed="rId1"/>
          <a:stretch/>
        </p:blipFill>
        <p:spPr>
          <a:xfrm>
            <a:off x="5638680" y="350532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дин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п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р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3962520" y="762120"/>
            <a:ext cx="4952880" cy="1752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 один, одино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шённый родствен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друзей, соратни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диномышле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304920" y="4648320"/>
            <a:ext cx="5029200" cy="1981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ерст– большой палец р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сравнении использ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го отдельное поло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носительно других паль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962520" y="2666880"/>
            <a:ext cx="4952880" cy="1447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У вас из родственников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то-нибу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дин я остался, как пер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Багетная рамка 6"/>
          <p:cNvSpPr/>
          <p:nvPr/>
        </p:nvSpPr>
        <p:spPr>
          <a:xfrm>
            <a:off x="22860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агетная рамка 7"/>
          <p:cNvSpPr/>
          <p:nvPr/>
        </p:nvSpPr>
        <p:spPr>
          <a:xfrm>
            <a:off x="22860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агетная рамка 8"/>
          <p:cNvSpPr/>
          <p:nvPr/>
        </p:nvSpPr>
        <p:spPr>
          <a:xfrm>
            <a:off x="228600" y="3276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ТО ТАКОЕ ПЕР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C:\Users\Елена\Desktop\330.gif"/>
          <p:cNvPicPr/>
          <p:nvPr/>
        </p:nvPicPr>
        <p:blipFill>
          <a:blip r:embed="rId1"/>
          <a:stretch/>
        </p:blipFill>
        <p:spPr>
          <a:xfrm>
            <a:off x="5486400" y="4343400"/>
            <a:ext cx="367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14479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из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р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га изоби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6095880" y="914400"/>
            <a:ext cx="304812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явля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сту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 множ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0" y="5181480"/>
            <a:ext cx="9144000" cy="1676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Рог изобилия – в древнегреческой мифолог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удесный рог козы Амалфеи, который Зевс подар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оспитавшим его нимфам, сообщив 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удодейственную силу наполняться в изобилии в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то пожелает его владел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0" y="1600200"/>
            <a:ext cx="571500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Много ли поздрав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иходи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дрес юбиля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Сыплются как из 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зоб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агетная рамка 6"/>
          <p:cNvSpPr/>
          <p:nvPr/>
        </p:nvSpPr>
        <p:spPr>
          <a:xfrm>
            <a:off x="6095880" y="0"/>
            <a:ext cx="304812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агетная рамка 7"/>
          <p:cNvSpPr/>
          <p:nvPr/>
        </p:nvSpPr>
        <p:spPr>
          <a:xfrm>
            <a:off x="1219320" y="685800"/>
            <a:ext cx="304776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агетная рамка 8"/>
          <p:cNvSpPr/>
          <p:nvPr/>
        </p:nvSpPr>
        <p:spPr>
          <a:xfrm>
            <a:off x="1600200" y="3809880"/>
            <a:ext cx="3048120" cy="8384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 ТАКОЕ РОГ ИЗОБИЛ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C:\Users\Елена\Desktop\рог изобилия.jpeg"/>
          <p:cNvPicPr/>
          <p:nvPr/>
        </p:nvPicPr>
        <p:blipFill>
          <a:blip r:embed="rId1"/>
          <a:stretch/>
        </p:blipFill>
        <p:spPr>
          <a:xfrm>
            <a:off x="6095880" y="3429000"/>
            <a:ext cx="27338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ести себя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бака на с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343400" y="914400"/>
            <a:ext cx="358128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 давать друг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спольз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то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ужно самому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3809880" y="3429000"/>
            <a:ext cx="5029200" cy="2133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Сергею совсем не нуж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эта книг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ступить её мне не х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как собака на се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и себе ни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Багетная рамка 5"/>
          <p:cNvSpPr/>
          <p:nvPr/>
        </p:nvSpPr>
        <p:spPr>
          <a:xfrm>
            <a:off x="22860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Багетная рамка 6"/>
          <p:cNvSpPr/>
          <p:nvPr/>
        </p:nvSpPr>
        <p:spPr>
          <a:xfrm>
            <a:off x="152280" y="2286000"/>
            <a:ext cx="358164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C:\Users\Елена\Desktop\собака на сене.jpg"/>
          <p:cNvPicPr/>
          <p:nvPr/>
        </p:nvPicPr>
        <p:blipFill>
          <a:blip r:embed="rId1"/>
          <a:stretch/>
        </p:blipFill>
        <p:spPr>
          <a:xfrm>
            <a:off x="762120" y="3657600"/>
            <a:ext cx="25146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9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334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оситься с чем(кем)-либо как с писаной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4876920" y="380880"/>
            <a:ext cx="4267080" cy="3124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лать предме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резме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бот или постоя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зго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го(чего)-либо,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служива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ерьёзного 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0" y="5257800"/>
            <a:ext cx="4876920" cy="1600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исаная торба – расписан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цветистый, выши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мешок, применявший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 старину дл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или ношения чего-л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952880" y="3886200"/>
            <a:ext cx="419112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на и вам показыв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ипломы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родистой соб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Да. Носится с 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с писаной тор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Багетная рамка 6"/>
          <p:cNvSpPr/>
          <p:nvPr/>
        </p:nvSpPr>
        <p:spPr>
          <a:xfrm>
            <a:off x="0" y="1600200"/>
            <a:ext cx="2895480" cy="99072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агетная рамка 7"/>
          <p:cNvSpPr/>
          <p:nvPr/>
        </p:nvSpPr>
        <p:spPr>
          <a:xfrm>
            <a:off x="0" y="2743200"/>
            <a:ext cx="28954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Багетная рамка 8"/>
          <p:cNvSpPr/>
          <p:nvPr/>
        </p:nvSpPr>
        <p:spPr>
          <a:xfrm>
            <a:off x="0" y="3886200"/>
            <a:ext cx="28954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 ТАКОЕ ПИСАНАЯ ТОРБ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C:\Users\Елена\Desktop\торба.jpg"/>
          <p:cNvPicPr/>
          <p:nvPr/>
        </p:nvPicPr>
        <p:blipFill>
          <a:blip r:embed="rId1"/>
          <a:stretch/>
        </p:blipFill>
        <p:spPr>
          <a:xfrm>
            <a:off x="2971800" y="1905120"/>
            <a:ext cx="18097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500"/>
                            </p:stCondLst>
                            <p:childTnLst>
                              <p:par>
                                <p:cTn id="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9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егать как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у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гор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895480" y="685800"/>
            <a:ext cx="281952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Бегать, ве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ебя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бестолк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оспешност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уетлив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791320" y="609480"/>
            <a:ext cx="312408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-И чего это они 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осятся как угорел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- Это же футболи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тренируются, бабуш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Багетная рамка 6"/>
          <p:cNvSpPr/>
          <p:nvPr/>
        </p:nvSpPr>
        <p:spPr>
          <a:xfrm>
            <a:off x="0" y="838080"/>
            <a:ext cx="28954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Багетная рамка 7"/>
          <p:cNvSpPr/>
          <p:nvPr/>
        </p:nvSpPr>
        <p:spPr>
          <a:xfrm>
            <a:off x="0" y="2057400"/>
            <a:ext cx="2895480" cy="99072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Багетная рамка 8"/>
          <p:cNvSpPr/>
          <p:nvPr/>
        </p:nvSpPr>
        <p:spPr>
          <a:xfrm>
            <a:off x="0" y="3200400"/>
            <a:ext cx="28954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ТО ТАКОЙ УГОРЕЛ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3048120" y="3048120"/>
            <a:ext cx="6095880" cy="3581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горелый  - угоревший, т.е.  Отравивши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гарным газом от печи в доме. Обычно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роисходило тогда, когда труба п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акрывалась для сохранения теп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лишком рано. Бегать, будучи угоревшим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для человека нехарактерно.  Вы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является сокращённым  вариантом устойчи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равнения  бегать как угорелая ко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 котором поведение кошки,  чувствовав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гарный га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отражено вполне мотивиров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C:\Users\Елена\Desktop\2cb21b911aa5.jpg"/>
          <p:cNvPicPr/>
          <p:nvPr/>
        </p:nvPicPr>
        <p:blipFill>
          <a:blip r:embed="rId1"/>
          <a:stretch/>
        </p:blipFill>
        <p:spPr>
          <a:xfrm>
            <a:off x="0" y="4495680"/>
            <a:ext cx="3076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07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C:\Users\Елена\Desktop\аршин.gif"/>
          <p:cNvPicPr/>
          <p:nvPr/>
        </p:nvPicPr>
        <p:blipFill>
          <a:blip r:embed="rId1"/>
          <a:stretch/>
        </p:blipFill>
        <p:spPr>
          <a:xfrm>
            <a:off x="6781680" y="990720"/>
            <a:ext cx="2210040" cy="3154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43000" y="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к </a:t>
            </a:r>
            <a:r>
              <a:rPr b="1" i="1" lang="ru-RU" sz="54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шин проглот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3886200" y="1219320"/>
            <a:ext cx="2590920" cy="304776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3047760"/>
              <a:gd name="textAreaBottom" fmla="*/ 2921400 h 3047760"/>
            </a:gdLst>
            <a:ahLst/>
            <a:rect l="textAreaLeft" t="textAreaTop" r="textAreaRight" b="textAreaBottom"/>
            <a:pathLst>
              <a:path w="21600" h="25408">
                <a:moveTo>
                  <a:pt x="3600" y="0"/>
                </a:moveTo>
                <a:arcTo wR="3600" hR="3600" stAng="16200000" swAng="-5400000"/>
                <a:lnTo>
                  <a:pt x="0" y="21808"/>
                </a:lnTo>
                <a:arcTo wR="3600" hR="3600" stAng="10800000" swAng="-5400000"/>
                <a:lnTo>
                  <a:pt x="18000" y="254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лиш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естеств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724280" y="4419720"/>
            <a:ext cx="419112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стро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смотря на свой р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Скорее пря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аршин прогло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52280" y="4800600"/>
            <a:ext cx="449604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ршин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арая мера дл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вная  71 сантимет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ка, планка та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лин для 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агетная рамка 9"/>
          <p:cNvSpPr/>
          <p:nvPr/>
        </p:nvSpPr>
        <p:spPr>
          <a:xfrm>
            <a:off x="152280" y="10666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агетная рамка 10"/>
          <p:cNvSpPr/>
          <p:nvPr/>
        </p:nvSpPr>
        <p:spPr>
          <a:xfrm>
            <a:off x="152280" y="2286000"/>
            <a:ext cx="358164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агетная рамка 11"/>
          <p:cNvSpPr/>
          <p:nvPr/>
        </p:nvSpPr>
        <p:spPr>
          <a:xfrm>
            <a:off x="228600" y="35053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ертеться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люг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886200" y="5257800"/>
            <a:ext cx="4952880" cy="1600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ведь с Виктором друж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 теперь опять с Пе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Вертится как флюг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0" y="3276720"/>
            <a:ext cx="3733920" cy="3581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Это и есть са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пас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есто ре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Да. В прошл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ша  лодка верте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десь как флюг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Багетная рамка 6"/>
          <p:cNvSpPr/>
          <p:nvPr/>
        </p:nvSpPr>
        <p:spPr>
          <a:xfrm>
            <a:off x="0" y="7621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Багетная рамка 7"/>
          <p:cNvSpPr/>
          <p:nvPr/>
        </p:nvSpPr>
        <p:spPr>
          <a:xfrm>
            <a:off x="0" y="19051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4191120" y="1905120"/>
            <a:ext cx="4267080" cy="32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оворачиваться в ра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тороны под воздейств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каких-либо внешних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2. Быть непостоян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ме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убеждения, пове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 зависимости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оображ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ыгоды или под влия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обстоя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Users\Елена\Desktop\0_3c291_ace62026_L.jpeg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1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Жить как у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Х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иста за паз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4343400" y="3657600"/>
            <a:ext cx="441972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Жить где-либо или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г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условиях пол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беспеч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ово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забот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опасности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228600" y="3809880"/>
            <a:ext cx="380988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Ваша подруга доволь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муже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Ещё бы! Живёт как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Христа за пазух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Багетная рамка 5"/>
          <p:cNvSpPr/>
          <p:nvPr/>
        </p:nvSpPr>
        <p:spPr>
          <a:xfrm>
            <a:off x="228600" y="12193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Багетная рамка 6"/>
          <p:cNvSpPr/>
          <p:nvPr/>
        </p:nvSpPr>
        <p:spPr>
          <a:xfrm>
            <a:off x="228600" y="25146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C:\Users\Елена\Desktop\собака с кошкой.jpg"/>
          <p:cNvPicPr/>
          <p:nvPr/>
        </p:nvPicPr>
        <p:blipFill>
          <a:blip r:embed="rId1"/>
          <a:stretch/>
        </p:blipFill>
        <p:spPr>
          <a:xfrm>
            <a:off x="4267080" y="1143000"/>
            <a:ext cx="3733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16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7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с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ц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пи сорв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3886200" y="838080"/>
            <a:ext cx="4952880" cy="2743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иступить к кому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 бранью, упрё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грозами вдр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ожиданно, без вся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идимой на то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3962520" y="3809880"/>
            <a:ext cx="4952880" cy="26672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Что это брат вдруг на т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брос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с цепи сорвал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думал, что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его канарей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з клетки выпус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Багетная рамка 5"/>
          <p:cNvSpPr/>
          <p:nvPr/>
        </p:nvSpPr>
        <p:spPr>
          <a:xfrm>
            <a:off x="228600" y="914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Багетная рамка 6"/>
          <p:cNvSpPr/>
          <p:nvPr/>
        </p:nvSpPr>
        <p:spPr>
          <a:xfrm>
            <a:off x="228600" y="2133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Елена\Desktop\0_1eb87_72456214_L.jpeg"/>
          <p:cNvPicPr/>
          <p:nvPr/>
        </p:nvPicPr>
        <p:blipFill>
          <a:blip r:embed="rId1"/>
          <a:stretch/>
        </p:blipFill>
        <p:spPr>
          <a:xfrm>
            <a:off x="838080" y="3352680"/>
            <a:ext cx="2438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21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22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ертеться как на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ш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рни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886200" y="914400"/>
            <a:ext cx="2895480" cy="2590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ыть чрезме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виж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сед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5029200" y="3657600"/>
            <a:ext cx="3962520" cy="2971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Шарнир – подвиж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вух ч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еханиз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беспечивающе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х вра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228600" y="4572000"/>
            <a:ext cx="4572000" cy="20574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А в школе за партой А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покойно си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н и там верт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на шарни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Багетная рамка 6"/>
          <p:cNvSpPr/>
          <p:nvPr/>
        </p:nvSpPr>
        <p:spPr>
          <a:xfrm>
            <a:off x="228600" y="1066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Багетная рамка 7"/>
          <p:cNvSpPr/>
          <p:nvPr/>
        </p:nvSpPr>
        <p:spPr>
          <a:xfrm>
            <a:off x="228600" y="2209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C:\Users\Елена\Desktop\как на шарнирах.jpg"/>
          <p:cNvPicPr/>
          <p:nvPr/>
        </p:nvPicPr>
        <p:blipFill>
          <a:blip r:embed="rId1"/>
          <a:stretch/>
        </p:blipFill>
        <p:spPr>
          <a:xfrm>
            <a:off x="6934320" y="914400"/>
            <a:ext cx="1981080" cy="2575080"/>
          </a:xfrm>
          <a:prstGeom prst="rect">
            <a:avLst/>
          </a:prstGeom>
          <a:ln w="0">
            <a:noFill/>
          </a:ln>
        </p:spPr>
      </p:pic>
      <p:sp>
        <p:nvSpPr>
          <p:cNvPr id="203" name="Багетная рамка 8"/>
          <p:cNvSpPr/>
          <p:nvPr/>
        </p:nvSpPr>
        <p:spPr>
          <a:xfrm>
            <a:off x="304920" y="3429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ШАРН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2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287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спользованные ресур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ольцов В.М. Устойчивые сравнения русского языка. - С-П.: «Просвещение»,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dioms.chat.ru/09/pix/192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р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oto.newslab.ru/image.aspx?id=35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ыл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otodeti.ru/images/foto_b/0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ребёнок и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umismat-invest.ru/images/lots/349070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гриве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lj.okamaster.ru/canon/2103/_MG_1474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р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dioms.chat.ru/13/pix/330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дин как пер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pnews.ru/upload/img/fe99102845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сту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questrian.ru/photos/user_photo/2008/c3631f6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ош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3714/teplohod62.b/0_1eb87_72456214_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зё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034.radikal.ru/0907/37/728ee33a284b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собака с кош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3903/natavoro.10/0_3c291_ace62026_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лю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-fotki.yandex.ru/get/15/mackey.1/0_62b6_2fc01bd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рточный дом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kemclub.ru/best/3484063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девочка-ег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023.radikal.ru/0803/67/98ec9f6dbf5f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окрая кур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shaturyane.ru/images/103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-л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42.radikal.ru/i095/0901/a9/967bbdea72c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бака на с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allday.ru/uploads/posts/1211126102_noty_vector_50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-fotki.yandex.ru/get/2/crazy-sp32.c/0_feaa_4188ec75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е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39.beon.ru/5/28/62805/27/25440327/freedoc_ru_42507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ог изоб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orinka-m.kiev.ua/uploaded/tkatstvo/8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ор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tihi.ru/pics/2010/01/15/329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анна небес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50.radikal.ru/i127/0906/c9/2cb21b911aa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т как угоре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динокий как </a:t>
            </a: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б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ыл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952880" y="4419720"/>
            <a:ext cx="358164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 одино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533520" y="3809880"/>
            <a:ext cx="3962160" cy="2743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У неё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одственн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Нет, 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динока как былин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агетная рамка 5"/>
          <p:cNvSpPr/>
          <p:nvPr/>
        </p:nvSpPr>
        <p:spPr>
          <a:xfrm>
            <a:off x="685800" y="1066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агетная рамка 6"/>
          <p:cNvSpPr/>
          <p:nvPr/>
        </p:nvSpPr>
        <p:spPr>
          <a:xfrm>
            <a:off x="685800" y="23623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:\Users\Елена\Desktop\былинка.jpeg"/>
          <p:cNvPicPr/>
          <p:nvPr/>
        </p:nvPicPr>
        <p:blipFill>
          <a:blip r:embed="rId1"/>
          <a:stretch/>
        </p:blipFill>
        <p:spPr>
          <a:xfrm>
            <a:off x="5257800" y="990720"/>
            <a:ext cx="23623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в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ду смотре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962520" y="1143000"/>
            <a:ext cx="289548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очно предсказа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едуга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т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2280" y="4267080"/>
            <a:ext cx="3962520" cy="2438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 стари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родных гада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 время которых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де(в посуде с вод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иделось т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олжно было произой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4191120" y="3962520"/>
            <a:ext cx="480060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же говорил, что эт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штангист займ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ерв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Так и выш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н как в воду смотр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агетная рамка 6"/>
          <p:cNvSpPr/>
          <p:nvPr/>
        </p:nvSpPr>
        <p:spPr>
          <a:xfrm>
            <a:off x="152280" y="8380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агетная рамка 7"/>
          <p:cNvSpPr/>
          <p:nvPr/>
        </p:nvSpPr>
        <p:spPr>
          <a:xfrm>
            <a:off x="152280" y="19810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агетная рамка 8"/>
          <p:cNvSpPr/>
          <p:nvPr/>
        </p:nvSpPr>
        <p:spPr>
          <a:xfrm>
            <a:off x="152280" y="31240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ГДА СМОТРЕЛИ В В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C:\Users\Елена\Desktop\как в воду смотрел.jpg"/>
          <p:cNvPicPr/>
          <p:nvPr/>
        </p:nvPicPr>
        <p:blipFill>
          <a:blip r:embed="rId1"/>
          <a:stretch/>
        </p:blipFill>
        <p:spPr>
          <a:xfrm>
            <a:off x="6983280" y="914400"/>
            <a:ext cx="19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иять как новый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г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иве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4267080" y="2438280"/>
            <a:ext cx="4648320" cy="198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есело улыб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ход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благодушно-приподнят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достном настро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4267080" y="4495680"/>
            <a:ext cx="4648320" cy="221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Представляю, как он р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иезду бр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Сияет как новый гривен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28600" y="4572000"/>
            <a:ext cx="3886200" cy="2133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Гривенник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ореволюцио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ереб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он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осто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10 копе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агетная рамка 6"/>
          <p:cNvSpPr/>
          <p:nvPr/>
        </p:nvSpPr>
        <p:spPr>
          <a:xfrm>
            <a:off x="22860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агетная рамка 7"/>
          <p:cNvSpPr/>
          <p:nvPr/>
        </p:nvSpPr>
        <p:spPr>
          <a:xfrm>
            <a:off x="22860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8"/>
          <p:cNvSpPr/>
          <p:nvPr/>
        </p:nvSpPr>
        <p:spPr>
          <a:xfrm>
            <a:off x="228600" y="3276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ГРИВЕН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C:\Users\Елена\Desktop\гривенник.jpg"/>
          <p:cNvPicPr/>
          <p:nvPr/>
        </p:nvPicPr>
        <p:blipFill>
          <a:blip r:embed="rId1"/>
          <a:stretch/>
        </p:blipFill>
        <p:spPr>
          <a:xfrm>
            <a:off x="4267080" y="762120"/>
            <a:ext cx="42674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ухнуть как карточный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д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м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4191120" y="1219320"/>
            <a:ext cx="426708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звалиться легко, раз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(о сооружени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лане, надеж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3276720" y="3886200"/>
            <a:ext cx="5562360" cy="2666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И это мощное з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оже разрушилось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емлетряс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Рухнуло как карточный дом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5"/>
          <p:cNvSpPr/>
          <p:nvPr/>
        </p:nvSpPr>
        <p:spPr>
          <a:xfrm>
            <a:off x="22860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агетная рамка 6"/>
          <p:cNvSpPr/>
          <p:nvPr/>
        </p:nvSpPr>
        <p:spPr>
          <a:xfrm>
            <a:off x="228600" y="2286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C:\Users\Елена\Desktop\карт.домик.jpeg"/>
          <p:cNvPicPr/>
          <p:nvPr/>
        </p:nvPicPr>
        <p:blipFill>
          <a:blip r:embed="rId1"/>
          <a:stretch/>
        </p:blipFill>
        <p:spPr>
          <a:xfrm>
            <a:off x="838080" y="3505320"/>
            <a:ext cx="2133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рутиться, вертеться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е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г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3733920" y="83808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резме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виж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сед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4191120" y="4343400"/>
            <a:ext cx="472428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на математ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лохо поним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Вертится, неб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 уроке как его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т и не поним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304920" y="4419720"/>
            <a:ext cx="358128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гоза – суетли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лиш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виж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седли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агетная рамка 6"/>
          <p:cNvSpPr/>
          <p:nvPr/>
        </p:nvSpPr>
        <p:spPr>
          <a:xfrm>
            <a:off x="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агетная рамка 7"/>
          <p:cNvSpPr/>
          <p:nvPr/>
        </p:nvSpPr>
        <p:spPr>
          <a:xfrm>
            <a:off x="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агетная рамка 8"/>
          <p:cNvSpPr/>
          <p:nvPr/>
        </p:nvSpPr>
        <p:spPr>
          <a:xfrm>
            <a:off x="0" y="3276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ТО ТАКОЙ ЕГО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C:\Users\Елена\Desktop\егоза.jpg"/>
          <p:cNvPicPr/>
          <p:nvPr/>
        </p:nvPicPr>
        <p:blipFill>
          <a:blip r:embed="rId1"/>
          <a:stretch/>
        </p:blipFill>
        <p:spPr>
          <a:xfrm>
            <a:off x="6629400" y="1447920"/>
            <a:ext cx="19810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еречь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ницу 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114800" y="838080"/>
            <a:ext cx="4800600" cy="1905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речь, 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го(что)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 особой забо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ветствен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267080" y="4876920"/>
            <a:ext cx="4496040" cy="1447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еница о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уквально: зрачок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191120" y="2819520"/>
            <a:ext cx="4724280" cy="1752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Это же очень ред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 ценная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Я это знаю и берегу е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зеницу 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агетная рамка 6"/>
          <p:cNvSpPr/>
          <p:nvPr/>
        </p:nvSpPr>
        <p:spPr>
          <a:xfrm>
            <a:off x="228600" y="914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агетная рамка 7"/>
          <p:cNvSpPr/>
          <p:nvPr/>
        </p:nvSpPr>
        <p:spPr>
          <a:xfrm>
            <a:off x="228600" y="2133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агетная рамка 8"/>
          <p:cNvSpPr/>
          <p:nvPr/>
        </p:nvSpPr>
        <p:spPr>
          <a:xfrm>
            <a:off x="228600" y="3352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ЗЕН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C:\Users\Елена\Desktop\зрачок.jpg"/>
          <p:cNvPicPr/>
          <p:nvPr/>
        </p:nvPicPr>
        <p:blipFill>
          <a:blip r:embed="rId1"/>
          <a:stretch/>
        </p:blipFill>
        <p:spPr>
          <a:xfrm>
            <a:off x="304920" y="4648320"/>
            <a:ext cx="3504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идеть, стоять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и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ту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3962520" y="838080"/>
            <a:ext cx="4724280" cy="1600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идеть, сто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дви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олча или бездея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ынициати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52280" y="4724280"/>
            <a:ext cx="3962520" cy="198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стукан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атуя, идол, 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зычники поклоня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бож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4038480" y="2514600"/>
            <a:ext cx="4572000" cy="1981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Вы даже с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й не предлож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Я совсем растеря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оял как истука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агетная рамка 6"/>
          <p:cNvSpPr/>
          <p:nvPr/>
        </p:nvSpPr>
        <p:spPr>
          <a:xfrm>
            <a:off x="0" y="914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агетная рамка 7"/>
          <p:cNvSpPr/>
          <p:nvPr/>
        </p:nvSpPr>
        <p:spPr>
          <a:xfrm>
            <a:off x="0" y="3429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ИСТУК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агетная рамка 8"/>
          <p:cNvSpPr/>
          <p:nvPr/>
        </p:nvSpPr>
        <p:spPr>
          <a:xfrm>
            <a:off x="0" y="2209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C:\Users\Елена\Desktop\fe99102845.jpg"/>
          <p:cNvPicPr/>
          <p:nvPr/>
        </p:nvPicPr>
        <p:blipFill>
          <a:blip r:embed="rId1"/>
          <a:stretch/>
        </p:blipFill>
        <p:spPr>
          <a:xfrm>
            <a:off x="5181480" y="4648320"/>
            <a:ext cx="25146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10-13T17:52:4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