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13C-5CA8-4F76-82CA-63009F03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73C-6DFE-4085-8A59-4FBD4703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1F1-4BC0-4478-BC8E-659A0A3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A30-D9AD-492F-B643-3D0F9267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A66-5557-45D6-A5AA-D88E36A2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AC4-F2DE-4CCB-BC9A-264CD30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5D5-ACAB-4D17-B4DD-028D46A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30D-BE9D-4E3C-A68D-277B28E3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7A4-65C1-46F4-A5F6-50D04CAD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31E-BE0D-4D2E-A377-AAE812E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8EA-6D36-4DD6-97CC-C223933E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5CC-6929-4F83-8766-F93AAF7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7709-1001-46EC-B61B-A4F771038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dioms.chat.ru/09/pix/192.gif" TargetMode="External"/><Relationship Id="rId2" Type="http://schemas.openxmlformats.org/officeDocument/2006/relationships/hyperlink" Target="http://photo.newslab.ru/image.aspx?id=3560" TargetMode="External"/><Relationship Id="rId3" Type="http://schemas.openxmlformats.org/officeDocument/2006/relationships/hyperlink" Target="http://www.fotodeti.ru/images/foto_b/01.jpg" TargetMode="External"/><Relationship Id="rId4" Type="http://schemas.openxmlformats.org/officeDocument/2006/relationships/hyperlink" Target="http://www.numismat-invest.ru/images/lots/349070.jpg" TargetMode="External"/><Relationship Id="rId5" Type="http://schemas.openxmlformats.org/officeDocument/2006/relationships/hyperlink" Target="http://lj.okamaster.ru/canon/2103/_MG_1474.jpg" TargetMode="External"/><Relationship Id="rId6" Type="http://schemas.openxmlformats.org/officeDocument/2006/relationships/hyperlink" Target="http://idioms.chat.ru/13/pix/330.gif" TargetMode="External"/><Relationship Id="rId7" Type="http://schemas.openxmlformats.org/officeDocument/2006/relationships/hyperlink" Target="http://www.topnews.ru/upload/img/fe99102845.jpg" TargetMode="Externa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questrian.ru/photos/user_photo/2008/c3631f6a.jpg" TargetMode="External"/><Relationship Id="rId2" Type="http://schemas.openxmlformats.org/officeDocument/2006/relationships/hyperlink" Target="http://img-fotki.yandex.ru/get/3714/teplohod62.b/0_1eb87_72456214_L" TargetMode="External"/><Relationship Id="rId3" Type="http://schemas.openxmlformats.org/officeDocument/2006/relationships/hyperlink" Target="http://i034.radikal.ru/0907/37/728ee33a284b.jpg" TargetMode="External"/><Relationship Id="rId4" Type="http://schemas.openxmlformats.org/officeDocument/2006/relationships/hyperlink" Target="http://img-fotki.yandex.ru/get/3903/natavoro.10/0_3c291_ace62026_L" TargetMode="External"/><Relationship Id="rId5" Type="http://schemas.openxmlformats.org/officeDocument/2006/relationships/hyperlink" Target="http://img-fotki.yandex.ru/get/15/mackey.1/0_62b6_2fc01bd_XL" TargetMode="External"/><Relationship Id="rId6" Type="http://schemas.openxmlformats.org/officeDocument/2006/relationships/hyperlink" Target="http://kemclub.ru/best/3484063.jpg" TargetMode="External"/><Relationship Id="rId7" Type="http://schemas.openxmlformats.org/officeDocument/2006/relationships/hyperlink" Target="http://i023.radikal.ru/0803/67/98ec9f6dbf5f.jpg" TargetMode="External"/><Relationship Id="rId8" Type="http://schemas.openxmlformats.org/officeDocument/2006/relationships/hyperlink" Target="http://www.shaturyane.ru/images/103.jpg" TargetMode="External"/><Relationship Id="rId9" Type="http://schemas.openxmlformats.org/officeDocument/2006/relationships/hyperlink" Target="http://s42.radikal.ru/i095/0901/a9/967bbdea72c1.jpg" TargetMode="External"/><Relationship Id="rId10" Type="http://schemas.openxmlformats.org/officeDocument/2006/relationships/hyperlink" Target="http://allday.ru/uploads/posts/1211126102_noty_vector_500.jpg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609480" y="990720"/>
            <a:ext cx="7772400" cy="2590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огатство русского языка Словарь устойчивых с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ыть, стоять, сидеть, вести себя, держаться, 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 мокрая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160020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.Быть инерт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ынициатив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я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расторо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беспомо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. Находиться в мор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авлен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47242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т обычая окунать в в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уриц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тремящуюся с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 яйца для вы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цыплят(это делалось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седка  не нуж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удучи мокрой, т.е. находя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непривычном состоя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урица теря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ычную подви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активность и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4495680"/>
            <a:ext cx="4343400" cy="23623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Завтра соревнования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мне какая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уве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озьми себя в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 ты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края куриц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агетная рамка 6"/>
          <p:cNvSpPr/>
          <p:nvPr/>
        </p:nvSpPr>
        <p:spPr>
          <a:xfrm>
            <a:off x="6172200" y="0"/>
            <a:ext cx="297180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агетная рамка 7"/>
          <p:cNvSpPr/>
          <p:nvPr/>
        </p:nvSpPr>
        <p:spPr>
          <a:xfrm>
            <a:off x="6172200" y="9907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агетная рамка 8"/>
          <p:cNvSpPr/>
          <p:nvPr/>
        </p:nvSpPr>
        <p:spPr>
          <a:xfrm>
            <a:off x="6172200" y="19051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C:\Users\Елена\Desktop\мокрая курица.jpg"/>
          <p:cNvPicPr/>
          <p:nvPr/>
        </p:nvPicPr>
        <p:blipFill>
          <a:blip r:embed="rId1"/>
          <a:stretch/>
        </p:blipFill>
        <p:spPr>
          <a:xfrm>
            <a:off x="4191120" y="1371600"/>
            <a:ext cx="18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едой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114800" y="838080"/>
            <a:ext cx="48006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сед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 еди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ёмного в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91120" y="4572000"/>
            <a:ext cx="472428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унь – хищная пт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зро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амец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меет серовато-б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п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114800" y="2590920"/>
            <a:ext cx="48006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Профессор, навер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пе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же совсем сед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Белый как лу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агетная рамка 6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агетная рамка 8"/>
          <p:cNvSpPr/>
          <p:nvPr/>
        </p:nvSpPr>
        <p:spPr>
          <a:xfrm>
            <a:off x="22860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Й ЛУ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C:\Users\Елена\Desktop\лунь.jpg"/>
          <p:cNvPicPr/>
          <p:nvPr/>
        </p:nvPicPr>
        <p:blipFill>
          <a:blip r:embed="rId1"/>
          <a:stretch/>
        </p:blipFill>
        <p:spPr>
          <a:xfrm>
            <a:off x="609480" y="4572000"/>
            <a:ext cx="2908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дат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нны небес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00400" y="1066680"/>
            <a:ext cx="2590920" cy="289584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95840"/>
              <a:gd name="textAreaBottom" fmla="*/ 2769480 h 2895840"/>
            </a:gdLst>
            <a:ahLst/>
            <a:rect l="textAreaLeft" t="textAreaTop" r="textAreaRight" b="textAreaBottom"/>
            <a:pathLst>
              <a:path w="21600" h="24142">
                <a:moveTo>
                  <a:pt x="3600" y="0"/>
                </a:moveTo>
                <a:arcTo wR="3600" hR="3600" stAng="16200000" swAng="-5400000"/>
                <a:lnTo>
                  <a:pt x="0" y="20542"/>
                </a:lnTo>
                <a:arcTo wR="3600" hR="3600" stAng="10800000" swAng="-5400000"/>
                <a:lnTo>
                  <a:pt x="18000" y="24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его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ол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терп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надеж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419112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нна небесн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библейскому миф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адавшая с неба п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торой питались евре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ранствова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пустыне в поис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мли обетова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648320" y="4191120"/>
            <a:ext cx="42670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всё ещё надее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лу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 него письм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Жду как манны неб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агетная рамка 6"/>
          <p:cNvSpPr/>
          <p:nvPr/>
        </p:nvSpPr>
        <p:spPr>
          <a:xfrm>
            <a:off x="0" y="838080"/>
            <a:ext cx="31240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агетная рамка 7"/>
          <p:cNvSpPr/>
          <p:nvPr/>
        </p:nvSpPr>
        <p:spPr>
          <a:xfrm>
            <a:off x="0" y="190512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агетная рамка 8"/>
          <p:cNvSpPr/>
          <p:nvPr/>
        </p:nvSpPr>
        <p:spPr>
          <a:xfrm>
            <a:off x="0" y="297180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МАННА НЕБЕ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:\Users\Елена\Desktop\манна небесная.jpg"/>
          <p:cNvPicPr/>
          <p:nvPr/>
        </p:nvPicPr>
        <p:blipFill>
          <a:blip r:embed="rId1"/>
          <a:stretch/>
        </p:blipFill>
        <p:spPr>
          <a:xfrm>
            <a:off x="5943600" y="990720"/>
            <a:ext cx="301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дти как по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886200" y="914400"/>
            <a:ext cx="50292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дти, осуществля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хорошо, успешно ил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было намечено, задум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ранее (о деле, событ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йств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962520" y="3733920"/>
            <a:ext cx="4876560" cy="2514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азве у них заранее всё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едусмотр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Конечно. Всё шло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но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5"/>
          <p:cNvSpPr/>
          <p:nvPr/>
        </p:nvSpPr>
        <p:spPr>
          <a:xfrm>
            <a:off x="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агетная рамка 6"/>
          <p:cNvSpPr/>
          <p:nvPr/>
        </p:nvSpPr>
        <p:spPr>
          <a:xfrm>
            <a:off x="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Users\Елена\Desktop\ноты.jpg"/>
          <p:cNvPicPr/>
          <p:nvPr/>
        </p:nvPicPr>
        <p:blipFill>
          <a:blip r:embed="rId1"/>
          <a:stretch/>
        </p:blipFill>
        <p:spPr>
          <a:xfrm>
            <a:off x="380880" y="3505320"/>
            <a:ext cx="28195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ехи щёлк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962520" y="838080"/>
            <a:ext cx="495288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егко и непринуждё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равляться с ря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ру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физических работ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мственных операци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04920" y="3581280"/>
            <a:ext cx="4952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считаете, что ваш 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удет учёны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темати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Уверен. Он зада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арифме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ешает, как орешки щёл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агетная рамка 5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6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Users\Елена\Desktop\белка-орехи.jpeg"/>
          <p:cNvPicPr/>
          <p:nvPr/>
        </p:nvPicPr>
        <p:blipFill>
          <a:blip r:embed="rId1"/>
          <a:stretch/>
        </p:blipFill>
        <p:spPr>
          <a:xfrm>
            <a:off x="5638680" y="35053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р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962520" y="762120"/>
            <a:ext cx="49528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, одино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шённый родстве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друзей, сорат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диномышл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04920" y="4648320"/>
            <a:ext cx="50292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ст– большой палец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сравнении использ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го отдельное 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носительно других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962520" y="26668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вас из родственников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то-нибу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дин я остался, как пер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Е ПЕР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:\Users\Елена\Desktop\330.gif"/>
          <p:cNvPicPr/>
          <p:nvPr/>
        </p:nvPicPr>
        <p:blipFill>
          <a:blip r:embed="rId1"/>
          <a:stretch/>
        </p:blipFill>
        <p:spPr>
          <a:xfrm>
            <a:off x="5486400" y="4343400"/>
            <a:ext cx="367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1447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из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р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га изоб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095880" y="914400"/>
            <a:ext cx="3048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явля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сту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множ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0" y="5181480"/>
            <a:ext cx="91440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Рог изобилия – в древнегреческой мифолог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есный рог козы Амалфеи, который Зевс подар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оспитавшим его нимфам, сообщив 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одейственную силу наполняться в изобилии 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то пожелает его владе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0" y="1600200"/>
            <a:ext cx="57150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Много ли поздр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ходи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дрес юбиля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ыплются как из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об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6"/>
          <p:cNvSpPr/>
          <p:nvPr/>
        </p:nvSpPr>
        <p:spPr>
          <a:xfrm>
            <a:off x="6095880" y="0"/>
            <a:ext cx="304812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агетная рамка 7"/>
          <p:cNvSpPr/>
          <p:nvPr/>
        </p:nvSpPr>
        <p:spPr>
          <a:xfrm>
            <a:off x="1219320" y="685800"/>
            <a:ext cx="304776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агетная рамка 8"/>
          <p:cNvSpPr/>
          <p:nvPr/>
        </p:nvSpPr>
        <p:spPr>
          <a:xfrm>
            <a:off x="1600200" y="3809880"/>
            <a:ext cx="3048120" cy="8384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РОГ ИЗОБИЛ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C:\Users\Елена\Desktop\рог изобилия.jpeg"/>
          <p:cNvPicPr/>
          <p:nvPr/>
        </p:nvPicPr>
        <p:blipFill>
          <a:blip r:embed="rId1"/>
          <a:stretch/>
        </p:blipFill>
        <p:spPr>
          <a:xfrm>
            <a:off x="6095880" y="3429000"/>
            <a:ext cx="27338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сти себ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бака на с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343400" y="914400"/>
            <a:ext cx="3581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 давать друг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спольз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жно самому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809880" y="3429000"/>
            <a:ext cx="5029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Сергею совсем не ну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эта книг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ступить её мне не х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как собака на с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и себе ни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агетная рамка 6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Елена\Desktop\собака на сене.jpg"/>
          <p:cNvPicPr/>
          <p:nvPr/>
        </p:nvPicPr>
        <p:blipFill>
          <a:blip r:embed="rId1"/>
          <a:stretch/>
        </p:blipFill>
        <p:spPr>
          <a:xfrm>
            <a:off x="762120" y="3657600"/>
            <a:ext cx="2514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ситься с чем(кем)-либо как с писаной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4876920" y="380880"/>
            <a:ext cx="4267080" cy="312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лать предм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резме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бот или постоя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з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(чего)-либо,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служив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ерьёзного 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0" y="5257800"/>
            <a:ext cx="487692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исаная торба – расписа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цветистый, выш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шок, применявший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старину дл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или ношения че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952880" y="3886200"/>
            <a:ext cx="4191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а и вам показы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ипломы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родистой соб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Да. Носится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писаной тор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агетная рамка 6"/>
          <p:cNvSpPr/>
          <p:nvPr/>
        </p:nvSpPr>
        <p:spPr>
          <a:xfrm>
            <a:off x="0" y="16002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7"/>
          <p:cNvSpPr/>
          <p:nvPr/>
        </p:nvSpPr>
        <p:spPr>
          <a:xfrm>
            <a:off x="0" y="2743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8"/>
          <p:cNvSpPr/>
          <p:nvPr/>
        </p:nvSpPr>
        <p:spPr>
          <a:xfrm>
            <a:off x="0" y="3886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ПИСАНАЯ ТОР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C:\Users\Елена\Desktop\торба.jpg"/>
          <p:cNvPicPr/>
          <p:nvPr/>
        </p:nvPicPr>
        <p:blipFill>
          <a:blip r:embed="rId1"/>
          <a:stretch/>
        </p:blipFill>
        <p:spPr>
          <a:xfrm>
            <a:off x="2971800" y="1905120"/>
            <a:ext cx="1809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егать как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у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ор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895480" y="685800"/>
            <a:ext cx="28195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егать, в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еб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естолк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спешно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уетлив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791320" y="609480"/>
            <a:ext cx="3124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И чего это они 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осятся как угорел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 Это же футболи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ренируются, бабуш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агетная рамка 6"/>
          <p:cNvSpPr/>
          <p:nvPr/>
        </p:nvSpPr>
        <p:spPr>
          <a:xfrm>
            <a:off x="0" y="838080"/>
            <a:ext cx="28954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Багетная рамка 7"/>
          <p:cNvSpPr/>
          <p:nvPr/>
        </p:nvSpPr>
        <p:spPr>
          <a:xfrm>
            <a:off x="0" y="20574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агетная рамка 8"/>
          <p:cNvSpPr/>
          <p:nvPr/>
        </p:nvSpPr>
        <p:spPr>
          <a:xfrm>
            <a:off x="0" y="32004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ТО ТАКОЙ УГОРЕЛ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048120" y="3048120"/>
            <a:ext cx="60958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орелый  - угоревший, т.е.  Отравивш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арным газом от печи в доме. Обычно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роисходило тогда, когда труба п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крывалась для сохранения те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лишком рано. Бегать, будучи угоревшим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ля человека нехарактерно. 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является сокращённым  вариантом устойчи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равнения  бегать как угорелая ко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котором поведение кошки,  чувствовав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арный г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тражено вполне мотивиров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C:\Users\Елена\Desktop\2cb21b911aa5.jpg"/>
          <p:cNvPicPr/>
          <p:nvPr/>
        </p:nvPicPr>
        <p:blipFill>
          <a:blip r:embed="rId1"/>
          <a:stretch/>
        </p:blipFill>
        <p:spPr>
          <a:xfrm>
            <a:off x="0" y="4495680"/>
            <a:ext cx="30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C:\Users\Елена\Desktop\аршин.gif"/>
          <p:cNvPicPr/>
          <p:nvPr/>
        </p:nvPicPr>
        <p:blipFill>
          <a:blip r:embed="rId1"/>
          <a:stretch/>
        </p:blipFill>
        <p:spPr>
          <a:xfrm>
            <a:off x="6781680" y="990720"/>
            <a:ext cx="2210040" cy="315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300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шин проглот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886200" y="1219320"/>
            <a:ext cx="2590920" cy="30477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047760"/>
              <a:gd name="textAreaBottom" fmla="*/ 2921400 h 3047760"/>
            </a:gdLst>
            <a:ahLst/>
            <a:rect l="textAreaLeft" t="textAreaTop" r="textAreaRight" b="textAreaBottom"/>
            <a:pathLst>
              <a:path w="21600" h="25408">
                <a:moveTo>
                  <a:pt x="3600" y="0"/>
                </a:moveTo>
                <a:arcTo wR="3600" hR="3600" stAng="16200000" swAng="-5400000"/>
                <a:lnTo>
                  <a:pt x="0" y="21808"/>
                </a:lnTo>
                <a:arcTo wR="3600" hR="3600" stAng="10800000" swAng="-5400000"/>
                <a:lnTo>
                  <a:pt x="18000" y="25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есте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724280" y="4419720"/>
            <a:ext cx="419112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стро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смотря на свой 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корее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аршин прогло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52280" y="4800600"/>
            <a:ext cx="44960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ршин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рая мера д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ая  71 сантимет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ка, планка т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 для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агетная рамка 9"/>
          <p:cNvSpPr/>
          <p:nvPr/>
        </p:nvSpPr>
        <p:spPr>
          <a:xfrm>
            <a:off x="152280" y="10666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агетная рамка 10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агетная рамка 11"/>
          <p:cNvSpPr/>
          <p:nvPr/>
        </p:nvSpPr>
        <p:spPr>
          <a:xfrm>
            <a:off x="228600" y="3505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люг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886200" y="5257800"/>
            <a:ext cx="49528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ведь с Виктором друж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 теперь опять с П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ертится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0" y="3276720"/>
            <a:ext cx="373392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Это и есть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пас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сто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Да. В прошл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ша  лодка верте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десь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Багетная рамка 6"/>
          <p:cNvSpPr/>
          <p:nvPr/>
        </p:nvSpPr>
        <p:spPr>
          <a:xfrm>
            <a:off x="0" y="762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Багетная рамка 7"/>
          <p:cNvSpPr/>
          <p:nvPr/>
        </p:nvSpPr>
        <p:spPr>
          <a:xfrm>
            <a:off x="0" y="1905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191120" y="1905120"/>
            <a:ext cx="4267080" cy="32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ворачиваться в 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тороны под воздейст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аких-либо внешни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2. Быть непостоя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убеждения, пове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зависимост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обра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ыгоды или под влия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стоя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Елена\Desktop\0_3c291_ace62026_L.jpeg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ить как у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Х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иста за паз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343400" y="3657600"/>
            <a:ext cx="441972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ить где-либо или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условиях пол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во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забо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опасност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3809880"/>
            <a:ext cx="3809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аша подруга доволь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муже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Ещё бы! Живёт как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Христа за пазух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агетная рамка 5"/>
          <p:cNvSpPr/>
          <p:nvPr/>
        </p:nvSpPr>
        <p:spPr>
          <a:xfrm>
            <a:off x="228600" y="1219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агетная рамка 6"/>
          <p:cNvSpPr/>
          <p:nvPr/>
        </p:nvSpPr>
        <p:spPr>
          <a:xfrm>
            <a:off x="228600" y="25146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C:\Users\Елена\Desktop\собака с кошкой.jpg"/>
          <p:cNvPicPr/>
          <p:nvPr/>
        </p:nvPicPr>
        <p:blipFill>
          <a:blip r:embed="rId1"/>
          <a:stretch/>
        </p:blipFill>
        <p:spPr>
          <a:xfrm>
            <a:off x="4267080" y="1143000"/>
            <a:ext cx="3733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с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ц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пи сор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886200" y="838080"/>
            <a:ext cx="495288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ступить к кому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ранью, упрё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грозами вд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ожиданно, без вся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имой на то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962520" y="3809880"/>
            <a:ext cx="4952880" cy="266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Что это брат вдруг на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брос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цепи сорва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думал, что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его канарей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 клетки выпус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агетная рамка 5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агетная рамка 6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Елена\Desktop\0_1eb87_72456214_L.jpeg"/>
          <p:cNvPicPr/>
          <p:nvPr/>
        </p:nvPicPr>
        <p:blipFill>
          <a:blip r:embed="rId1"/>
          <a:stretch/>
        </p:blipFill>
        <p:spPr>
          <a:xfrm>
            <a:off x="838080" y="3352680"/>
            <a:ext cx="24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на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рни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886200" y="914400"/>
            <a:ext cx="2895480" cy="2590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5029200" y="3657600"/>
            <a:ext cx="3962520" cy="2971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арнир – подвиж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вух ч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ханиз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ивающе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х в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8600" y="4572000"/>
            <a:ext cx="457200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А в школе за партой А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окойно си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 и там верт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на шарни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Багетная рамка 6"/>
          <p:cNvSpPr/>
          <p:nvPr/>
        </p:nvSpPr>
        <p:spPr>
          <a:xfrm>
            <a:off x="2286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C:\Users\Елена\Desktop\как на шарнирах.jpg"/>
          <p:cNvPicPr/>
          <p:nvPr/>
        </p:nvPicPr>
        <p:blipFill>
          <a:blip r:embed="rId1"/>
          <a:stretch/>
        </p:blipFill>
        <p:spPr>
          <a:xfrm>
            <a:off x="6934320" y="914400"/>
            <a:ext cx="1981080" cy="2575080"/>
          </a:xfrm>
          <a:prstGeom prst="rect">
            <a:avLst/>
          </a:prstGeom>
          <a:ln w="0">
            <a:noFill/>
          </a:ln>
        </p:spPr>
      </p:pic>
      <p:sp>
        <p:nvSpPr>
          <p:cNvPr id="203" name="Багетная рамка 8"/>
          <p:cNvSpPr/>
          <p:nvPr/>
        </p:nvSpPr>
        <p:spPr>
          <a:xfrm>
            <a:off x="30492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ШАРН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спользованные ресу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льцов В.М. Устойчивые сравнения русского языка. - С-П.: «Просвещение»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dioms.chat.ru/09/pix/192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.newslab.ru/image.aspx?id=35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ыл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otodeti.ru/images/foto_b/0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ребёнок 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umismat-invest.ru/images/lots/349070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ри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j.okamaster.ru/canon/2103/_MG_1474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р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dioms.chat.ru/13/pix/330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дин как пер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pnews.ru/upload/img/fe99102845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у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questrian.ru/photos/user_photo/2008/c3631f6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ш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3714/teplohod62.b/0_1eb87_72456214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з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034.radikal.ru/0907/37/728ee33a284b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собака с к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3903/natavoro.10/0_3c291_ace62026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лю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-fotki.yandex.ru/get/15/mackey.1/0_62b6_2fc01bd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очный до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kemclub.ru/best/348406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евочка-ег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023.radikal.ru/0803/67/98ec9f6dbf5f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края ку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haturyane.ru/images/10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-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42.radikal.ru/i095/0901/a9/967bbdea72c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бака на с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allday.ru/uploads/posts/1211126102_noty_vector_5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2/crazy-sp32.c/0_feaa_4188ec75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е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39.beon.ru/5/28/62805/27/25440327/freedoc_ru_42507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г изоб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orinka-m.kiev.ua/uploaded/tkatstvo/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р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ihi.ru/pics/2010/01/15/329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анна небе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50.radikal.ru/i127/0906/c9/2cb21b911aa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т как угор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окий как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ы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952880" y="441972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о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533520" y="3809880"/>
            <a:ext cx="396216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неё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одствен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Нет,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динока как были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агетная рамка 5"/>
          <p:cNvSpPr/>
          <p:nvPr/>
        </p:nvSpPr>
        <p:spPr>
          <a:xfrm>
            <a:off x="6858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агетная рамка 6"/>
          <p:cNvSpPr/>
          <p:nvPr/>
        </p:nvSpPr>
        <p:spPr>
          <a:xfrm>
            <a:off x="685800" y="2362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Users\Елена\Desktop\былинка.jpeg"/>
          <p:cNvPicPr/>
          <p:nvPr/>
        </p:nvPicPr>
        <p:blipFill>
          <a:blip r:embed="rId1"/>
          <a:stretch/>
        </p:blipFill>
        <p:spPr>
          <a:xfrm>
            <a:off x="5257800" y="990720"/>
            <a:ext cx="23623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в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у смотре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962520" y="1143000"/>
            <a:ext cx="28954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очно предсказ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едуга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2280" y="4267080"/>
            <a:ext cx="396252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 стари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родных г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время которых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де(в посуде с вод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елось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лжно было произой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191120" y="3962520"/>
            <a:ext cx="48006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же говорил, что эт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тангист займ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Так и выш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н как в воду смо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агетная рамка 6"/>
          <p:cNvSpPr/>
          <p:nvPr/>
        </p:nvSpPr>
        <p:spPr>
          <a:xfrm>
            <a:off x="152280" y="838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агетная рамка 7"/>
          <p:cNvSpPr/>
          <p:nvPr/>
        </p:nvSpPr>
        <p:spPr>
          <a:xfrm>
            <a:off x="152280" y="1981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8"/>
          <p:cNvSpPr/>
          <p:nvPr/>
        </p:nvSpPr>
        <p:spPr>
          <a:xfrm>
            <a:off x="152280" y="3124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ГДА СМОТРЕЛИ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:\Users\Елена\Desktop\как в воду смотрел.jpg"/>
          <p:cNvPicPr/>
          <p:nvPr/>
        </p:nvPicPr>
        <p:blipFill>
          <a:blip r:embed="rId1"/>
          <a:stretch/>
        </p:blipFill>
        <p:spPr>
          <a:xfrm>
            <a:off x="6983280" y="914400"/>
            <a:ext cx="19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иять как новый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и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267080" y="2438280"/>
            <a:ext cx="46483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село улыб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х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благодушно-приподня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достном на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267080" y="4495680"/>
            <a:ext cx="4648320" cy="221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Представляю, как он р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езду б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ияет как новый гриве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28600" y="4572000"/>
            <a:ext cx="3886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Гривенн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революцио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ереб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н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10 коп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ГРИВЕН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Елена\Desktop\гривенник.jpg"/>
          <p:cNvPicPr/>
          <p:nvPr/>
        </p:nvPicPr>
        <p:blipFill>
          <a:blip r:embed="rId1"/>
          <a:stretch/>
        </p:blipFill>
        <p:spPr>
          <a:xfrm>
            <a:off x="4267080" y="762120"/>
            <a:ext cx="42674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ухнуть как карточный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191120" y="1219320"/>
            <a:ext cx="4267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звалиться легко, 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(о сооружени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лане, надеж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3276720" y="3886200"/>
            <a:ext cx="556236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И это мощное 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оже разрушило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млетряс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ухнуло как карточный дом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6"/>
          <p:cNvSpPr/>
          <p:nvPr/>
        </p:nvSpPr>
        <p:spPr>
          <a:xfrm>
            <a:off x="22860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C:\Users\Елена\Desktop\карт.домик.jpeg"/>
          <p:cNvPicPr/>
          <p:nvPr/>
        </p:nvPicPr>
        <p:blipFill>
          <a:blip r:embed="rId1"/>
          <a:stretch/>
        </p:blipFill>
        <p:spPr>
          <a:xfrm>
            <a:off x="838080" y="350532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утиться, вертетьс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е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733920" y="83808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191120" y="4343400"/>
            <a:ext cx="4724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а математ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лохо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ертится, неб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уроке как ег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т и не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04920" y="4419720"/>
            <a:ext cx="35812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гоза – суетли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агетная рамка 6"/>
          <p:cNvSpPr/>
          <p:nvPr/>
        </p:nvSpPr>
        <p:spPr>
          <a:xfrm>
            <a:off x="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агетная рамка 7"/>
          <p:cNvSpPr/>
          <p:nvPr/>
        </p:nvSpPr>
        <p:spPr>
          <a:xfrm>
            <a:off x="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агетная рамка 8"/>
          <p:cNvSpPr/>
          <p:nvPr/>
        </p:nvSpPr>
        <p:spPr>
          <a:xfrm>
            <a:off x="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Й ЕГО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Users\Елена\Desktop\егоза.jpg"/>
          <p:cNvPicPr/>
          <p:nvPr/>
        </p:nvPicPr>
        <p:blipFill>
          <a:blip r:embed="rId1"/>
          <a:stretch/>
        </p:blipFill>
        <p:spPr>
          <a:xfrm>
            <a:off x="6629400" y="1447920"/>
            <a:ext cx="1981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ереч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ницу 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838080"/>
            <a:ext cx="4800600" cy="1905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речь, 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(что)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особой забо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267080" y="4876920"/>
            <a:ext cx="4496040" cy="1447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ница о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уквально: зрачок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191120" y="2819520"/>
            <a:ext cx="47242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Это же очень ред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цен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Я это знаю и берегу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зеницу 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агетная рамка 6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агетная рамка 7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агетная рамка 8"/>
          <p:cNvSpPr/>
          <p:nvPr/>
        </p:nvSpPr>
        <p:spPr>
          <a:xfrm>
            <a:off x="228600" y="3352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ЗЕН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Users\Елена\Desktop\зрачок.jpg"/>
          <p:cNvPicPr/>
          <p:nvPr/>
        </p:nvPicPr>
        <p:blipFill>
          <a:blip r:embed="rId1"/>
          <a:stretch/>
        </p:blipFill>
        <p:spPr>
          <a:xfrm>
            <a:off x="304920" y="4648320"/>
            <a:ext cx="3504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идеть, стоят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у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962520" y="838080"/>
            <a:ext cx="47242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идеть, сто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дви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лча или бездея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ынициа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52280" y="4724280"/>
            <a:ext cx="39625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стука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туя, идол,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зычники покло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бож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038480" y="2514600"/>
            <a:ext cx="45720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даже с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й не предлож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Я совсем растеря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оял как истука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агетная рамка 6"/>
          <p:cNvSpPr/>
          <p:nvPr/>
        </p:nvSpPr>
        <p:spPr>
          <a:xfrm>
            <a:off x="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агетная рамка 7"/>
          <p:cNvSpPr/>
          <p:nvPr/>
        </p:nvSpPr>
        <p:spPr>
          <a:xfrm>
            <a:off x="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ИСТУ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агетная рамка 8"/>
          <p:cNvSpPr/>
          <p:nvPr/>
        </p:nvSpPr>
        <p:spPr>
          <a:xfrm>
            <a:off x="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Елена\Desktop\fe99102845.jpg"/>
          <p:cNvPicPr/>
          <p:nvPr/>
        </p:nvPicPr>
        <p:blipFill>
          <a:blip r:embed="rId1"/>
          <a:stretch/>
        </p:blipFill>
        <p:spPr>
          <a:xfrm>
            <a:off x="5181480" y="4648320"/>
            <a:ext cx="2514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3T17:52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