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2B6-4F4F-4A8E-A36D-D013DF9B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DE2-0B83-407B-879A-7EFDEED1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81A-BD89-4594-A301-0FF6363B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192-992F-479F-BB6B-067E0F6B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C0C3-D179-4F9E-9335-D5A5F724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00A8-4C65-45F8-8D92-CB15703F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00E-8166-44F2-AE71-4A9090D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60F6-4EA0-4BE0-8903-367638C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D273-BE1A-4263-B841-5788B81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525A-4C3C-4034-8FEC-709D8F8F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0A0-1BDB-4D86-A7BD-BA52BD88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A38-1B95-47B7-9839-FA32DDC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F153-C8DA-444E-86A5-3775A17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C15-507D-4F09-838D-0CFE50A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639-49DC-470D-BCB5-AF5D0E9E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1A58-C3E6-4538-96F4-DB51C9D4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F47-7EB8-41BB-9F34-D4C887A7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986-D569-49A3-8E87-FD6461D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BB3-3E46-4553-B473-04909D3C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F40-7BD0-486C-9B4B-7A4F306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86C-FA89-4256-A578-B7808F5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57B-D8F7-40DC-8D99-832AC9E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33A-A9F1-4009-BFAE-6E0B1A5C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0A0-C166-4895-86F2-4A553C4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0563-FFB0-435F-97CE-0959D44A56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284-D01B-4C43-97C3-8CBB517B33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ventology.wiki-wiki.ru/ru-wz/index.php/&#1060;&#1072;&#1081;&#1083;:Hrom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оганн Себастьян Ба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окката и фуга ре мин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стой математический анализ, не выходящий за рамки арифметики, позволяет совершенно иными глазами взглянуть на музыкальное произведение, увидеть его скрытую внутреннюю красоту, которую мы только ощущаем, слушая произведение, и которую мы "видим", проводя его математический анали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окката (фантазия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роматическая фантазия написана в размере 4/4, имеет 79 тактов, т. е. 79• 4 = 316 четвертных до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стоит из двух ясно различимых по характеру частей, отделенных друг от друга паузо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ервая часть фактически заканчивается на 3-й четверти 49-го такта, т. е. на 195-й (48 • 4 + 3) четверти 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 = 195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роматическая фантазия разделена на первую и вторую части в золотой пропорци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a_{1}=a\varphi=0,316\cdot0,618=195,3."/>
          <p:cNvPicPr/>
          <p:nvPr/>
        </p:nvPicPr>
        <p:blipFill>
          <a:blip r:embed="rId2"/>
          <a:stretch/>
        </p:blipFill>
        <p:spPr>
          <a:xfrm>
            <a:off x="0" y="520560"/>
            <a:ext cx="8820000" cy="6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\frac {316}{195}=\frac {195}{121}, \quad 195+121=316."/>
          <p:cNvPicPr/>
          <p:nvPr/>
        </p:nvPicPr>
        <p:blipFill>
          <a:blip r:embed="rId3"/>
          <a:stretch/>
        </p:blipFill>
        <p:spPr>
          <a:xfrm>
            <a:off x="395280" y="3121200"/>
            <a:ext cx="7993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исло Фибонач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на этом чудеса гениального творения Баха только начинаются. Построив ряд золотого сечения при 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316, имеем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316 \qquad 195,3 \qquad  120,7 \qquad 74,6 \qquad 46,1 \qquad 28,5 \qquad 17,6."/>
          <p:cNvPicPr/>
          <p:nvPr/>
        </p:nvPicPr>
        <p:blipFill>
          <a:blip r:embed="rId2"/>
          <a:stretch/>
        </p:blipFill>
        <p:spPr>
          <a:xfrm>
            <a:off x="468360" y="4457880"/>
            <a:ext cx="83516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айл:hro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76280"/>
            <a:ext cx="87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усский советский музыковед Э. К. Розенов (1861-1935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вод: Хроматическая фантазия, произведение свободного по форме жанра, буквально соткано из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золотых пропорци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Пожалуй, эстетическое впечатление от математического анализа Хроматической фантазии имеет не меньшую силу, чем прослушивание бессмертного творения Баха. А взятые вместе - чувственное впечатление и рациональный анализ, безусловно, позволяют еще на один шаг приблизиться к сокровенным тайникам г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Фуг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Фуг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(от лат. fuga - бег) является наиболее совершенной формой многоголосной музыки (полифон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строится на многократных проведениях основной музыкальной темы в разных голос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дения основной темы обычно перемежаются в фуге с промежуточными вставками,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интермедия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в отличие от фантазии имеет четко определенный закон постро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о тем не менее точность "математического" построения фуги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е минор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просто поражает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Файл:fuga.jpg"/>
          <p:cNvPicPr/>
          <p:nvPr/>
        </p:nvPicPr>
        <p:blipFill>
          <a:blip r:embed="rId2"/>
          <a:stretch/>
        </p:blipFill>
        <p:spPr>
          <a:xfrm>
            <a:off x="611280" y="189000"/>
            <a:ext cx="81010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 пар"проведение-интермедия" пять пар строго подчиняются закону золотого сеч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роение фуги ре минор И. С. Бах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Целые ч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указывают число четвертей в фуг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Дробные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еоретическое значение золотых сечени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олотые пропорции в более крупных частях фуги отмечены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фигурными скоб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Центры симметрии –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круж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провед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интермед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20:33:35Z</dcterms:created>
  <dc:creator>Albion</dc:creator>
  <dc:description/>
  <dc:language>en-US</dc:language>
  <cp:lastModifiedBy>Albion</cp:lastModifiedBy>
  <dcterms:modified xsi:type="dcterms:W3CDTF">2013-03-15T21:06:57Z</dcterms:modified>
  <cp:revision>3</cp:revision>
  <dc:subject/>
  <dc:title>Иоганн Себастьян Бах</dc:title>
</cp:coreProperties>
</file>