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EC4-B364-4BD4-8F0F-EC2A835A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4D1-7E6B-4DE6-B557-7A47B61E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A2F-1B3C-45B5-8825-9191DA40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411-E4E4-4F42-B4E6-5835E0B5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72D6-125A-4676-BAB3-A097B76D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5AAF-31CF-44A7-8907-8B92BED4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E349-7AE8-42C5-9D44-B8512033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AA49-D030-40AA-AD64-36FA6FB6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2DD5-2AFB-41EB-B9C9-49196147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8024-80D7-4CC0-B840-6156CB5F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B84E-7FDD-4B6F-A358-346BCF4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C5E-3D76-4860-9DEC-FC34A7FD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05CD-07D5-4A05-91E3-008EB814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3A7D-7EF2-4DA5-A32E-4DF6E8A6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FE00-F833-492F-A4F2-F863A076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AE7E-3CDF-405E-8736-F9EFAA0A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ED6C-8495-44C8-8998-E352DA38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351-05C7-416B-9954-4446C407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2BB-3B66-4DCB-ABF0-FA161B0C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6E9-FD40-4408-8E35-AF25DFC8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C8E-2B34-4E23-9D06-C5270E2D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D82-72C9-4551-9C24-BA3710A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686-A76D-4759-B412-B92216D0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9BA-9AB1-4A41-BF1C-E4F8290D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7625-F11A-4968-B209-5ED6B1AC99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49C0-076B-41D3-9D9A-D3D59DA6AA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ventology.wiki-wiki.ru/ru-wz/index.php/&#1060;&#1072;&#1081;&#1083;:Hrom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Иоганн Себастьян Ба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окката и фуга ре мин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ыв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остой математический анализ, не выходящий за рамки арифметики, позволяет совершенно иными глазами взглянуть на музыкальное произведение, увидеть его скрытую внутреннюю красоту, которую мы только ощущаем, слушая произведение, и которую мы "видим", проводя его математический анали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окката (фантазия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Хроматическая фантазия написана в размере 4/4, имеет 79 тактов, т. е. 79• 4 = 316 четвертных дол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стоит из двух ясно различимых по характеру частей, отделенных друг от друга паузо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ервая часть фактически заканчивается на 3-й четверти 49-го такта, т. е. на 195-й (48 • 4 + 3) четверти 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 = 195. 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Хроматическая фантазия разделена на первую и вторую части в золотой пропорци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a_{1}=a\varphi=0,316\cdot0,618=195,3."/>
          <p:cNvPicPr/>
          <p:nvPr/>
        </p:nvPicPr>
        <p:blipFill>
          <a:blip r:embed="rId2"/>
          <a:stretch/>
        </p:blipFill>
        <p:spPr>
          <a:xfrm>
            <a:off x="0" y="520560"/>
            <a:ext cx="8820000" cy="67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\frac {316}{195}=\frac {195}{121}, \quad 195+121=316."/>
          <p:cNvPicPr/>
          <p:nvPr/>
        </p:nvPicPr>
        <p:blipFill>
          <a:blip r:embed="rId3"/>
          <a:stretch/>
        </p:blipFill>
        <p:spPr>
          <a:xfrm>
            <a:off x="395280" y="3121200"/>
            <a:ext cx="79930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исло Фибоначч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о на этом чудеса гениального творения Баха только начинаются. Построив ряд золотого сечения при 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316, имеем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316 \qquad 195,3 \qquad  120,7 \qquad 74,6 \qquad 46,1 \qquad 28,5 \qquad 17,6."/>
          <p:cNvPicPr/>
          <p:nvPr/>
        </p:nvPicPr>
        <p:blipFill>
          <a:blip r:embed="rId2"/>
          <a:stretch/>
        </p:blipFill>
        <p:spPr>
          <a:xfrm>
            <a:off x="468360" y="4457880"/>
            <a:ext cx="835164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Файл:hro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76280"/>
            <a:ext cx="8748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Русский советский музыковед Э. К. Розенов (1861-1935)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ывод: Хроматическая фантазия, произведение свободного по форме жанра, буквально соткано из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золотых пропорци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Пожалуй, эстетическое впечатление от математического анализа Хроматической фантазии имеет не меньшую силу, чем прослушивание бессмертного творения Баха. А взятые вместе - чувственное впечатление и рациональный анализ, безусловно, позволяют еще на один шаг приблизиться к сокровенным тайникам г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Фуг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Фуг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(от лат. fuga - бег) является наиболее совершенной формой многоголосной музыки (полифон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уга строится на многократных проведениях основной музыкальной темы в разных голоса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ведения основной темы обычно перемежаются в фуге с промежуточными вставками,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интермедиям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Фуга в отличие от фантазии имеет четко определенный закон постро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о тем не менее точность "математического" построения фуги 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ре минор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просто поражает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Файл:fuga.jpg"/>
          <p:cNvPicPr/>
          <p:nvPr/>
        </p:nvPicPr>
        <p:blipFill>
          <a:blip r:embed="rId2"/>
          <a:stretch/>
        </p:blipFill>
        <p:spPr>
          <a:xfrm>
            <a:off x="611280" y="189000"/>
            <a:ext cx="810108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7 пар"проведение-интермедия" пять пар строго подчиняются закону золотого сечения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роение фуги ре минор И. С. Баха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Целые чис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указывают число четвертей в фуг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Дробные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теоретическое значение золотых сечени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олотые пропорции в более крупных частях фуги отмечены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фигурными скобка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Центры симметрии – </a:t>
            </a: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кружка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провед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интермед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20:33:35Z</dcterms:created>
  <dc:creator>Albion</dc:creator>
  <dc:description/>
  <dc:language>en-US</dc:language>
  <cp:lastModifiedBy>Albion</cp:lastModifiedBy>
  <dcterms:modified xsi:type="dcterms:W3CDTF">2013-03-15T21:06:57Z</dcterms:modified>
  <cp:revision>3</cp:revision>
  <dc:subject/>
  <dc:title>Иоганн Себастьян Бах</dc:title>
</cp:coreProperties>
</file>