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01F-1E62-458B-89A6-460A73E5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CE8-1C5E-4365-9D66-B8032B35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786-6870-4D65-99EA-D9A10931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C22-A687-4269-B035-FAB03679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59A6-1580-4C03-86EF-5C657EF4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9A8-2D3C-40A9-AD6B-5CD9689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B640-033A-44E2-B628-CFF42C57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7B10-39F9-46AA-81A1-0016A18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289B-F890-4144-9874-A457971A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772-E450-4B8D-8D19-2571202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CC4-F013-4C55-AD84-B26083D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D4F-3064-41FC-AFCF-32F2D50B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DC53-BD09-4EAB-8C07-F1FFA5C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85E8-9E32-4F83-8FD2-45288E5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650-1CFE-4AF4-B5DC-6583B50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8ECF-90F9-42F8-BFA4-65FC8F0F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88C9-2884-47B9-B42F-F6849F42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C85-B750-4409-A494-E053805D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F09-18C7-4821-B463-98398027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8B6-840C-45B0-AE2F-8B9C7AE5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A9F-1552-4F60-8767-4A216CC2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451-3F6C-4BED-8699-8AF29AA8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6E3-F5A6-4714-AD5B-4281CEE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BF5-8663-4FF8-A6CD-7968D90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E1A1-2D3A-4A48-976E-4B2995A77B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ED6-F98C-41FD-805D-9FD566583B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ventology.wiki-wiki.ru/ru-wz/index.php/&#1060;&#1072;&#1081;&#1083;:Hrom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оганн Себастьян Ба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окката и фуга ре мин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стой математический анализ, не выходящий за рамки арифметики, позволяет совершенно иными глазами взглянуть на музыкальное произведение, увидеть его скрытую внутреннюю красоту, которую мы только ощущаем, слушая произведение, и которую мы "видим", проводя его математический анали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окката (фантазия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роматическая фантазия написана в размере 4/4, имеет 79 тактов, т. е. 79• 4 = 316 четвертных до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стоит из двух ясно различимых по характеру частей, отделенных друг от друга паузо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ервая часть фактически заканчивается на 3-й четверти 49-го такта, т. е. на 195-й (48 • 4 + 3) четверти 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 = 195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роматическая фантазия разделена на первую и вторую части в золотой пропорци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a_{1}=a\varphi=0,316\cdot0,618=195,3."/>
          <p:cNvPicPr/>
          <p:nvPr/>
        </p:nvPicPr>
        <p:blipFill>
          <a:blip r:embed="rId2"/>
          <a:stretch/>
        </p:blipFill>
        <p:spPr>
          <a:xfrm>
            <a:off x="0" y="520560"/>
            <a:ext cx="8820000" cy="6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\frac {316}{195}=\frac {195}{121}, \quad 195+121=316."/>
          <p:cNvPicPr/>
          <p:nvPr/>
        </p:nvPicPr>
        <p:blipFill>
          <a:blip r:embed="rId3"/>
          <a:stretch/>
        </p:blipFill>
        <p:spPr>
          <a:xfrm>
            <a:off x="395280" y="3121200"/>
            <a:ext cx="7993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исло Фибонач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на этом чудеса гениального творения Баха только начинаются. Построив ряд золотого сечения при 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316, имеем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316 \qquad 195,3 \qquad  120,7 \qquad 74,6 \qquad 46,1 \qquad 28,5 \qquad 17,6."/>
          <p:cNvPicPr/>
          <p:nvPr/>
        </p:nvPicPr>
        <p:blipFill>
          <a:blip r:embed="rId2"/>
          <a:stretch/>
        </p:blipFill>
        <p:spPr>
          <a:xfrm>
            <a:off x="468360" y="4457880"/>
            <a:ext cx="83516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айл:hro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76280"/>
            <a:ext cx="87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усский советский музыковед Э. К. Розенов (1861-1935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вод: Хроматическая фантазия, произведение свободного по форме жанра, буквально соткано из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золотых пропорци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Пожалуй, эстетическое впечатление от математического анализа Хроматической фантазии имеет не меньшую силу, чем прослушивание бессмертного творения Баха. А взятые вместе - чувственное впечатление и рациональный анализ, безусловно, позволяют еще на один шаг приблизиться к сокровенным тайникам г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Фуг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Фуг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(от лат. fuga - бег) является наиболее совершенной формой многоголосной музыки (полифон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строится на многократных проведениях основной музыкальной темы в разных голос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дения основной темы обычно перемежаются в фуге с промежуточными вставками,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интермедия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в отличие от фантазии имеет четко определенный закон постро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о тем не менее точность "математического" построения фуги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е минор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просто поражает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Файл:fuga.jpg"/>
          <p:cNvPicPr/>
          <p:nvPr/>
        </p:nvPicPr>
        <p:blipFill>
          <a:blip r:embed="rId2"/>
          <a:stretch/>
        </p:blipFill>
        <p:spPr>
          <a:xfrm>
            <a:off x="611280" y="189000"/>
            <a:ext cx="81010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 пар"проведение-интермедия" пять пар строго подчиняются закону золотого сеч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роение фуги ре минор И. С. Бах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Целые ч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указывают число четвертей в фуг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Дробные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еоретическое значение золотых сечени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олотые пропорции в более крупных частях фуги отмечены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фигурными скоб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Центры симметрии –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круж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провед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интермед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20:33:35Z</dcterms:created>
  <dc:creator>Albion</dc:creator>
  <dc:description/>
  <dc:language>en-US</dc:language>
  <cp:lastModifiedBy>Albion</cp:lastModifiedBy>
  <dcterms:modified xsi:type="dcterms:W3CDTF">2013-03-15T21:06:57Z</dcterms:modified>
  <cp:revision>3</cp:revision>
  <dc:subject/>
  <dc:title>Иоганн Себастьян Бах</dc:title>
</cp:coreProperties>
</file>