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C91-A0EE-4B62-ABAE-FE0CCB81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321-AE78-4DF3-B118-1BA6084B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F3A-96A0-45D4-B327-E860C93E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FED-643D-4FA4-A9AC-75DD6E99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11B8-2901-47D5-842F-04688EA5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7EAF-6B93-427B-8310-632B7026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CAFB-8ADB-4787-8C21-6C42BCB5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4DBE-AB7B-4157-ADB1-A6F104CD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AC86-85C3-4CED-8558-CD89734F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4919-B697-4B72-8011-A2D50D03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2182-35FA-4709-A667-663694E7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BB7-09AE-4256-AFD5-0ADD5E15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4602-8728-4DE5-8189-B23C989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3AA8-AE2D-4750-8A7A-7FF668A8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68D2-F7CA-4004-86C9-188E93DE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A9EB-BD99-46E8-A9D7-9D3B162F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DF7E-66B1-40D7-A0F7-D26BD2DC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1B4-CB27-45ED-9FAA-A03B8CBC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30C-E581-4709-992B-8CCD278A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380-C209-47E7-A9F5-1439524F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508-4BD6-41D5-B909-F3DD56A2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0A0-D734-4A9A-8CE7-89EAFE8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7AE-3717-4A4F-A126-EE4A938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BCF-A397-4809-8CE1-233E9EE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D5EB-90DE-470D-95A2-4E999B25ED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D6EE-3B70-4B15-BB3B-DABA4A38AF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ВОЙНА – ЗА , ЧТО СТРАДАЮТ МАТЕРИ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962080" cy="2962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2259000" cy="352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443640" y="2060640"/>
            <a:ext cx="2484360" cy="381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5661000"/>
            <a:ext cx="5256360" cy="1197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гей Полищу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пускник МОУ «СОШ № 1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Сергей Полищук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гей родился в г.Новотроицке, учился в МОУ «СОШ № 10». С 15 лет начал работать во втором механическом цехе ОХМК, освоил профессию токаря. После окончания школы поступил в Орский политехнический инстит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енью 1994 года Сергея призвали в армию. Службу проходил в Германии. В декабре 1995 года наши войска вошли в Чечню. Сергей участвовал во многих боях, где он проявлял отвагу и мужество. Погиб Сергей во время атаки на позиции противника. Сергею всего было 19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ждая мать растит своего сына с надеждой, что он будет ей опора в старости, каждый отец растит сына с надеждой, что его род будет жить долго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348000" y="3573360"/>
            <a:ext cx="263844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2595600" cy="2233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26766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е высказать словами сердца боль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на – не заживающая рана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вой сын погиб у речки Кара-Коль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 долине горного Афган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31575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3594240" cy="273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83280" y="3789360"/>
            <a:ext cx="30607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55896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11640" y="260280"/>
            <a:ext cx="3575160" cy="2668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87640" y="3429000"/>
            <a:ext cx="5977080" cy="34290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усть знает каждого солдата м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то не напрасно сына кровь проли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то дело чести другу помог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вятое дело – Родины защит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итика всегда была и есть, но жизни мы вернуть не  смож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вайте думать о живых, пока это 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841920" cy="2606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786120" cy="266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76720" y="1052640"/>
            <a:ext cx="2962080" cy="2962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1:35:41Z</dcterms:created>
  <dc:creator>Admin</dc:creator>
  <dc:description/>
  <dc:language>en-US</dc:language>
  <cp:lastModifiedBy>Scool</cp:lastModifiedBy>
  <dcterms:modified xsi:type="dcterms:W3CDTF">2010-05-03T16:03:21Z</dcterms:modified>
  <cp:revision>4</cp:revision>
  <dc:subject/>
  <dc:title>ВОЙНА – ЗА , ЧТО СТРАДАЮТ МАТЕРЯ?</dc:title>
</cp:coreProperties>
</file>