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35B-EC4E-41E4-AFE6-ABBC915E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B0A-201F-46C7-9E05-4BF7D3F3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A73-6141-4B75-BB26-943CC496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3B9-5AAF-41B6-811D-67AA2137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4960-7FCE-4045-93E1-BA53A81E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55D3-7BA8-4FD8-8505-9BB61FF9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941B-8170-41AE-9592-3A8098E2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F6B9-B52F-4B53-8302-6D67F983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44C8-52AE-4D6F-B257-529CFE7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736B-D0B3-4C60-A2CA-496DE541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D1FB-3846-4C37-88F4-0DFD9292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0A7-3FCC-4088-8ACB-AA8E5AD9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C38D-98FC-4E14-87D5-1F20FBF6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C49A-730C-49B1-B136-5D85EA6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AAB2-9653-4CA8-A798-8061155C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4135-1B44-40AA-AA18-121DB29A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81B8-7306-4FE5-8DE2-3FFF5B29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B67-3AC1-4862-AAC1-D5B60BAD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A07-8D5F-4ECA-97F9-8AE3A1D0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A29-3A3F-4DDA-8A07-DA91544E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C7C-4BFB-4902-A9EA-37E9D0B4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33F-B95F-4B76-AA96-284DD9DB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99C-4E1E-4981-AF82-4DE1FBF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249-90B5-4ACE-9DE6-E38A753F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5597-A89A-4EE8-BD21-04D4CD1D64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6546-B03B-410C-A50B-39ABA6B580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ВОЙНА – ЗА , ЧТО СТРАДАЮТ МАТЕРИ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962080" cy="2962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2259000" cy="352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443640" y="2060640"/>
            <a:ext cx="2484360" cy="381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5661000"/>
            <a:ext cx="5256360" cy="1197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гей Полищу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пускник МОУ «СОШ № 1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Сергей Полищук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гей родился в г.Новотроицке, учился в МОУ «СОШ № 10». С 15 лет начал работать во втором механическом цехе ОХМК, освоил профессию токаря. После окончания школы поступил в Орский политехнический инстит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енью 1994 года Сергея призвали в армию. Службу проходил в Германии. В декабре 1995 года наши войска вошли в Чечню. Сергей участвовал во многих боях, где он проявлял отвагу и мужество. Погиб Сергей во время атаки на позиции противника. Сергею всего было 19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ждая мать растит своего сына с надеждой, что он будет ей опора в старости, каждый отец растит сына с надеждой, что его род будет жить долго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348000" y="3573360"/>
            <a:ext cx="263844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2595600" cy="2233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26766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е высказать словами сердца боль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на – не заживающая рана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вой сын погиб у речки Кара-Коль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 долине горного Афган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31575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3594240" cy="273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83280" y="3789360"/>
            <a:ext cx="30607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55896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11640" y="260280"/>
            <a:ext cx="3575160" cy="2668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87640" y="3429000"/>
            <a:ext cx="5977080" cy="34290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усть знает каждого солдата м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то не напрасно сына кровь проли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то дело чести другу помог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вятое дело – Родины защит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итика всегда была и есть, но жизни мы вернуть не  смож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вайте думать о живых, пока это 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841920" cy="2606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786120" cy="266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76720" y="1052640"/>
            <a:ext cx="2962080" cy="2962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1:35:41Z</dcterms:created>
  <dc:creator>Admin</dc:creator>
  <dc:description/>
  <dc:language>en-US</dc:language>
  <cp:lastModifiedBy>Scool</cp:lastModifiedBy>
  <dcterms:modified xsi:type="dcterms:W3CDTF">2010-05-03T16:03:21Z</dcterms:modified>
  <cp:revision>4</cp:revision>
  <dc:subject/>
  <dc:title>ВОЙНА – ЗА , ЧТО СТРАДАЮТ МАТЕРЯ?</dc:title>
</cp:coreProperties>
</file>