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6E88-D377-448C-B4E6-DBDA076C3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2BA4-5101-4DEB-A651-CDFBB1E3B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C383-5A26-4093-9800-089521718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6546-4A40-42DA-BD61-5AFE3AD95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10885-7B46-4758-8055-2BAFB10E2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DD407-393D-4CCF-8D9E-7F186FB58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40B92-0B93-4B1B-BCEF-6FFE5A959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C79C8-F3C7-456B-A857-47D34C29A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DBBBD-ECFF-4251-94A3-7ABE3523A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F1081-69AE-439D-A9FD-50DDB00C8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2810A-613C-4748-9F87-33813BD9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A7DB-99E8-4D4B-8F20-9EBCB7F14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A807A-ABCB-483E-AF72-728610BF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182C3-CA53-4A8A-99C6-0391D236E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957E4-B28F-49A8-A55D-BE7A43533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56602-9B18-40D2-9296-3B893617F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9F7FC-5E86-4105-86A8-87B292DB0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97D0-992A-4760-9B6B-0D759B07F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1F0C-0664-4C2A-8B8F-97B0DA800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5801-9ADF-4548-8737-306D789C0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FF87-5F15-49AC-A868-20357338F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D1C7-59A4-4656-9042-5809D508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C2A6-F016-4C2D-97B3-B4AE863D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38CF-CE9E-405B-B6FB-489ED845A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419F0-23A7-4884-B4B0-0D96F745BF2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9E3E6-54B3-4DCF-B194-B8B5C5FB28E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ВОЙНА – ЗА , ЧТО СТРАДАЮТ МАТЕРИ?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203640" y="2205000"/>
            <a:ext cx="2962080" cy="29624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39640" y="2133720"/>
            <a:ext cx="2259000" cy="35287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6443640" y="2060640"/>
            <a:ext cx="2484360" cy="38163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763640" y="5661000"/>
            <a:ext cx="5256360" cy="1197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ергей Полищук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ыпускник МОУ «СОШ № 10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ahoma"/>
              </a:rPr>
              <a:t>Сергей Полищук</a:t>
            </a:r>
            <a:br>
              <a:rPr sz="6000"/>
            </a:b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ергей родился в г.Новотроицке, учился в МОУ «СОШ № 10». С 15 лет начал работать во втором механическом цехе ОХМК, освоил профессию токаря. После окончания школы поступил в Орский политехнический институ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сенью 1994 года Сергея призвали в армию. Службу проходил в Германии. В декабре 1995 года наши войска вошли в Чечню. Сергей участвовал во многих боях, где он проявлял отвагу и мужество. Погиб Сергей во время атаки на позиции противника. Сергею всего было 19 ле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28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Каждая мать растит своего сына с надеждой, что он будет ей опора в старости, каждый отец растит сына с надеждой, что его род будет жить долго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3357720"/>
            <a:ext cx="8229600" cy="27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348000" y="3573360"/>
            <a:ext cx="2638440" cy="20163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68360" y="3500280"/>
            <a:ext cx="2595600" cy="22338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6227640" y="3573360"/>
            <a:ext cx="2676600" cy="23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30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Не высказать словами сердца боль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Она – не заживающая рана.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Твой сын погиб у речки Кара-Коль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В долине горного Афгана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3716280"/>
            <a:ext cx="8229600" cy="23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50920" y="3789360"/>
            <a:ext cx="3157560" cy="2376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484360" y="3789360"/>
            <a:ext cx="3594240" cy="27320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6083280" y="3789360"/>
            <a:ext cx="3060720" cy="23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3558960" cy="47242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211640" y="260280"/>
            <a:ext cx="3575160" cy="26686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987640" y="3429000"/>
            <a:ext cx="5977080" cy="3429000"/>
          </a:xfrm>
          <a:prstGeom prst="rect">
            <a:avLst/>
          </a:prstGeom>
          <a:solidFill>
            <a:srgbClr val="99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усть знает каждого солдата мать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Что не напрасно сына кровь пролит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Что дело чести другу помога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Святое дело – Родины защита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4149720"/>
            <a:ext cx="8229600" cy="19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литика всегда была и есть, но жизни мы вернуть не  сможе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авайте думать о живых, пока это возможн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76720" y="260280"/>
            <a:ext cx="3841920" cy="26067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39640" y="260280"/>
            <a:ext cx="3786120" cy="26607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3276720" y="1052640"/>
            <a:ext cx="2962080" cy="2962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7T11:35:41Z</dcterms:created>
  <dc:creator>Admin</dc:creator>
  <dc:description/>
  <dc:language>en-US</dc:language>
  <cp:lastModifiedBy>Scool</cp:lastModifiedBy>
  <dcterms:modified xsi:type="dcterms:W3CDTF">2010-05-03T16:03:21Z</dcterms:modified>
  <cp:revision>4</cp:revision>
  <dc:subject/>
  <dc:title>ВОЙНА – ЗА , ЧТО СТРАДАЮТ МАТЕРЯ?</dc:title>
</cp:coreProperties>
</file>