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775-5164-48A5-94A1-CC17531F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1EC-25C2-4808-BC44-B357D43B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C2E-99C8-49CD-BED7-DA2E6D3A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720-02E1-4A6A-BE6B-14C7DB90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810-28A5-45DA-9831-672DAB92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AB9-047D-4897-A7FA-773E44BA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57A-8687-4AAD-970F-FD4E239B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301-8055-4734-96C6-0C604F26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AF9-131A-4238-B366-BEB87C25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1D1-F346-4E99-B702-E2F76BF7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CF3-9EA8-4B36-9D5F-B3050AB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D63-72E8-4A7E-AD29-4656201C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5652-57CE-44D2-B4B8-5ED702EE4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udy.online.ks.ua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Vivaldi"/>
              </a:rPr>
              <a:t>Вегетарианство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157360"/>
            <a:ext cx="3241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зентация выполн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oto-1_article-full"/>
          <p:cNvPicPr/>
          <p:nvPr/>
        </p:nvPicPr>
        <p:blipFill>
          <a:blip r:embed="rId1"/>
          <a:stretch/>
        </p:blipFill>
        <p:spPr>
          <a:xfrm>
            <a:off x="5435640" y="2421000"/>
            <a:ext cx="3016080" cy="392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fornian FB"/>
              </a:rPr>
              <a:t>Веггибург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800px-Veggie_burger_miikkahoo_flickr_creative_commons"/>
          <p:cNvPicPr/>
          <p:nvPr/>
        </p:nvPicPr>
        <p:blipFill>
          <a:blip r:embed="rId1"/>
          <a:stretch/>
        </p:blipFill>
        <p:spPr>
          <a:xfrm>
            <a:off x="900000" y="1197000"/>
            <a:ext cx="76201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11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ред вегетариан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означно можно утверждать, что длительное применение ортодоксальн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 годами приводит к резкому дефициту железа, цинка, кальция, витаминов А1, В2, В12, D, незаменимых аминокислот, поскольку они отсутствуют в растительной пище или имеются в недостаточном количестве. Хотя содержание кальция, железа, меди, цинка в рационах веганов количественно может быть достаточным, но усвояемость их из растительных продуктов низ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же у здоровых людей, исключивших из своего рациона все продукты животного происхождения, могут развиваться дисбиоз, гиповитаминоз и белковая недостаточность. Следовательно, строго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льзя считать рациональным питанием для детей, подростков, беременных женщин, кормящих матерей, спортсме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 может обеспечить повышенную потребность в легкоусвояемом кальции у женщин в период постменопаузы и у пожилых людей, высок риск развития остеопоро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чение вегетариан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кто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тем бо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ктоово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 вызывает таких возражений ка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но может быть рекомендовано при ряде заболеваний ( обычно в виде разгрузочных дней или коротких курсов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пертоническая болезн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достаточность кровообращ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еросклероз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гр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ирени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чекаменная болезнь с уратури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иелонефри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оническая почечная недостаточност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рый гепатит или цирроз печен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 только растительные продукты с минимальным количеством белков и жиров 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ая диетология, признавая очень большое значение растительной пищи, отвергает утверждение стороннико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 возможности лечения большинства болезней только растительными продукт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1104-0"/>
          <p:cNvPicPr/>
          <p:nvPr/>
        </p:nvPicPr>
        <p:blipFill>
          <a:blip r:embed="rId1"/>
          <a:stretch/>
        </p:blipFill>
        <p:spPr>
          <a:xfrm>
            <a:off x="356400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Vegetarianism"/>
          <p:cNvPicPr/>
          <p:nvPr/>
        </p:nvPicPr>
        <p:blipFill>
          <a:blip r:embed="rId2"/>
          <a:stretch/>
        </p:blipFill>
        <p:spPr>
          <a:xfrm>
            <a:off x="6659640" y="260280"/>
            <a:ext cx="1871640" cy="125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tropicalfruitwebbab5b6tv3"/>
          <p:cNvPicPr/>
          <p:nvPr/>
        </p:nvPicPr>
        <p:blipFill>
          <a:blip r:embed="rId3"/>
          <a:stretch/>
        </p:blipFill>
        <p:spPr>
          <a:xfrm>
            <a:off x="179280" y="0"/>
            <a:ext cx="1692360" cy="14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Всемирной Организации Здравоохранения  к вегетарианств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гетарианств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однозначно даже среди специалистов. Согласно экспертным консультациям ВОЗ ( 1989 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гетариан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ета признана адекватной. Другие же исследования под эгидой ВОЗ ( Young, Pellet, 1990 ) подтверждают, что в рационе должен в обязательном порядке присутствовать белок животного происхождения ( примерно 30% от общей квоты белка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x_e0480eef"/>
          <p:cNvPicPr/>
          <p:nvPr/>
        </p:nvPicPr>
        <p:blipFill>
          <a:blip r:embed="rId1"/>
          <a:stretch/>
        </p:blipFill>
        <p:spPr>
          <a:xfrm>
            <a:off x="2195640" y="333360"/>
            <a:ext cx="4778280" cy="59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fornian FB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В заключение отмечу, что в последние годы вегетарианство приобрело буквально всемирную популярность. Тысячи рецептов немясной кулинарии ежедневно предлагаются нам по телевидению, радио, в прессе. Политики и артисты, спортсмены и ученые, люди буквально всех профессий нынче увлекаются вегетарианской кухней и находят в ней пользу для себя. Главное, при этом, подчеркнуть, что в каждом деле важно определить для себя необходим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И, если все больше людей будет проповедовать здоровый образ жизни, одним из элементов которого является вегетарианство, на Земле уменьшится число больных атеросклерозом и ишемией, гипертонией и аллергопатологией, а также многими другими недугами. А это - важнейший путь к долголе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fornian FB"/>
              </a:rPr>
              <a:t>Список литерату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Ф. А. Брокгауз, И. А. Ефрон. Энциклопедический словарь. М.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В. С. Безрукова. "Педагогика". Екатеринбург, 1994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А. И. Немировский. "Мифы и легенды Древнего Востока". Москва, 1994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И. Л. Медкова, Т. Н. Павлова. "Альтернативный мир". М., "Интер-Соя"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Е. В. Щадилов. "Идеальное питание". С-Пб., "Питер"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Для подготовки данной работы были использованы материалы с сайта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alifornian FB"/>
                <a:hlinkClick r:id="rId1"/>
              </a:rPr>
              <a:t>http://study.online.ks.ua/</a:t>
            </a: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fornian FB"/>
              </a:rPr>
              <a:t>Слово "вегетарианец", введено в обиход в 1842 году основателями "Британского вегетарианского общества". За основу было взято латинское "vegetus", что означает "крепкий, здоровый, свежий, бодрый". Словосочетание "homo vegetus" указывает на духовно и физически развитую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fornian FB"/>
              </a:rPr>
              <a:t>Изначально слово "вегетарианство" означало образ жизни, гармоничный с философской и нравственной точки зрения, а не только фруктово-овощную ди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fornian FB"/>
              </a:rPr>
              <a:t>Иногда вегетарианцами называют себя и те, кто не употребляет мясной пищи, но допускает рыбу и изделия из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vegetarian"/>
          <p:cNvPicPr/>
          <p:nvPr/>
        </p:nvPicPr>
        <p:blipFill>
          <a:blip r:embed="rId1"/>
          <a:stretch/>
        </p:blipFill>
        <p:spPr>
          <a:xfrm>
            <a:off x="6516720" y="260280"/>
            <a:ext cx="2411280" cy="22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Old English Text MT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Уже 5-6 тысяч лет до нашей эры в Древнем Египте священнослужители не употребляли мясо, разделяя чистую и нечистую пищу. Туши животных считались нечистыми. К ним нельзя было даже прикас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Многие известные философы древности и основоположники религий являлись вегетарианцами. Можно выделить Зороастра, Будду, Сократа, Платона, Пифагора, Плутарха, Овидия, Сенеку и врача Гиппократа. На заре христианства вегетарианцами были отцы церкви Ориген, Тертуллиан, Хризостем, Климент Александрийский. Среди большого числа христианских аскетов, отшельников и святых было принято питание без мяса, в первую очередь по религиозно-аскетическим причи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tromata_1"/>
          <p:cNvPicPr/>
          <p:nvPr/>
        </p:nvPicPr>
        <p:blipFill>
          <a:blip r:embed="rId1"/>
          <a:stretch/>
        </p:blipFill>
        <p:spPr>
          <a:xfrm>
            <a:off x="7858080" y="214200"/>
            <a:ext cx="120348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laton"/>
          <p:cNvPicPr/>
          <p:nvPr/>
        </p:nvPicPr>
        <p:blipFill>
          <a:blip r:embed="rId2"/>
          <a:stretch/>
        </p:blipFill>
        <p:spPr>
          <a:xfrm>
            <a:off x="3143160" y="5143680"/>
            <a:ext cx="134316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fornian FB"/>
              </a:rPr>
              <a:t>История вегетарианства в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 Condensed Extra Bold"/>
              </a:rPr>
              <a:t>В России вегетарианцами были монахи (точнее пескетарианцами), многие святые и приверженцы религиозных движений. В начале XX века сформировалось большое вегетарианское движение, в 1901 году в Санкт-Петербурге было зарегистрировано первое вегетарианское об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 Condensed Extra Bold"/>
              </a:rPr>
              <a:t>Определенную роль при этом сыграло влияние писателя Льва Николаевича Толстого. Вегетарианство является главной темой одной из работ Толстого — эссе «Первая ступен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420px-Ilya_Efimovich_Repin_(1844-1930)_-_Portrait_of_Leo_Tolstoy_(1887)"/>
          <p:cNvPicPr/>
          <p:nvPr/>
        </p:nvPicPr>
        <p:blipFill>
          <a:blip r:embed="rId1"/>
          <a:stretch/>
        </p:blipFill>
        <p:spPr>
          <a:xfrm>
            <a:off x="5079960" y="1600200"/>
            <a:ext cx="3173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УДАИЗМ - употребление мяса в пищу считается разрешенным, но не предписанным; вовсе не употребляли в пищу мяса ессеи - известное своим благочестием направление внутри Иудаизма времен второго Храма; в целом употребление мясной пищи обусловлено целым рядом ограничений, в частности, при умерщвлении животного из него полностью должна быть удалена вся кровь, нельзя есть мясо животных, которые сами питаются мясной пищей, а также умерщвленных иным способом кроме традиционного безболезненного; нельзя употреблять мясную пищу совместно с молочной; есть и другие огранич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ХРИСТИАHСТВО - в Католичестве и Православии вегетарианство принято среди монашества, в том числе среди всего высшего духовенства; для мирян обычно установлена система постов, в течение которых запрещено есть мясную пищу (в Православии постных дней в течение года насчитывается около 200); в Старообрядчестве помимо того встречаются дополнительные ограничения на мясоедение, восходящие к установлениям Ветхого Завета; в традиционных русских неправославных христианских направлениях (у духоборов,  молокан, христововеров) вегетарианство было принято почти повсеместно (надо заметить, что неправославных, включая Старообрядчество, христианских верований в конце XIX века придерживалась примерно половина населения России); в разных направлениях Протестантизма на этот счет существуют различные традиции, например, вегетарианства придерживаются адвентисты седьмого дня, нов целом протестантские учения к вегетарианству не склоняютс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УСУЛЬМАHСТВО - традиции отношения к мясоедению близки иудейским, но несколько мягче; в течение месяца Рамадан в дневное время принят полный пост для всех верующих; вегетарианство практикуется преимущественно среди суфиев - мусульманских мис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УДДИЗМ - Хинаяна (строгий Буддизм) мясоедение отвергает, Махаяна разрешает, но не поощряет; целиком вегетарианскими являются некоторые особые течения, например, дзэн - буддистское монашеств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HДУИЗМ - к вегетарианству весьма склонен; многие направления его прямо предписывают; индуисты составляют подавляющее большинство населения Индии (700 млн. жителей) - почти все они вегетарианц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ЫВОД. Практически во всех религиозных системах отказ от мясоедения считается необходимой составляющей очищения, без которой невозможно интенсивное духовное восхождение. Иногда очищение такого рода считается уделом избранных, иногда - всех приверженцев данной религиозной систем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fornian FB"/>
              </a:rPr>
              <a:t>Несколько причин быть вегетарианце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В последние годы число адептов вегетарианства увеличивается. Этому способству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БОЛЕЗНИ: современный образ жизни с гиподинамией и переданием вызывает "болезни цивилизации" — ожирение, атеросклероз, ишемическую болезнь сердца, сахарный диабет и другие. Неестественная, излишняя обработка пищи приводит к разным заболеваниям. Одно из давно изученных — болезнь бери-б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ЭКОНОМИЯ: вегетарианство оказалось более экономичным для людей. Ученые высчитали, что один гектар обрабатываемой земли способен дать пищу для 7 вегетарианцев, а для пропитания 1 человека-мясоеда нужны 2 гектара земли (сюда включаются поле, сад и луг). Экономия особенно важна теперь, в период мирового финансово-экономического кризиса, связанного с падением доходов и жизненного уровня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ЭТИКА: этическое отношение к животным. Лев Толстой пис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Californian FB"/>
              </a:rPr>
              <a:t>Десять лет кормила корова тебя и твоих детей, одевала и грела тебя овца своей шерстью. Какая же им за это награда? Перерезать горло и съесть?</a:t>
            </a: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Способы убоя животных чрезвычайно жестоки, хотя ученые уверены, что животные ощущают боль так же сильно, как лю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_11948540"/>
          <p:cNvPicPr/>
          <p:nvPr/>
        </p:nvPicPr>
        <p:blipFill>
          <a:blip r:embed="rId1"/>
          <a:stretch/>
        </p:blipFill>
        <p:spPr>
          <a:xfrm>
            <a:off x="2556000" y="88920"/>
            <a:ext cx="4249440" cy="67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Разновидности вегетариан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сыроеды (растительная пища без кулинари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строгое вегетарианство (только растительная пищ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нестрогое вегетарианство (допущение продуктов животного происхождения кроме мяса животн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лактовегетарианцы (допускают молоко и молочные продук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лактоововегетарианцы (кроме молока и продуктов из него допускают еще и яй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вегетарианство, &#13;&#10;вегетарианская диета, питание вегетарианцев, вегетарианство вред"/>
          <p:cNvPicPr/>
          <p:nvPr/>
        </p:nvPicPr>
        <p:blipFill>
          <a:blip r:embed="rId1"/>
          <a:stretch/>
        </p:blipFill>
        <p:spPr>
          <a:xfrm>
            <a:off x="7524720" y="0"/>
            <a:ext cx="13222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итание при вегетари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человек использует около 300 видов овощей, корнеплодов, около 600 видов фруктов и около 200 видов орехов. Источниками белка служат орехи, бобовые ( особенно соя, чечевица, фасоль, горох ), а также шпинат, цветная капуста, кольраби и пшеница. Источниками жира являются растительные масла – оливковое, подсолнечное, льняное, конопляное, горчичное, кокосовое, бобовое, кукурузное, ореховое, маковое, миндальное, хлопковое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комендованы следующие пропорции в питан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% - сырые лиственные и корневые овощи по сезону в форме сала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% - сырые свежие фрукты или хорошо размоченные сушенны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% - зеленые и корневые овощи, приготовленные на ог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% - белки ( орехи, творог, кисломолочные продукты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% - углеводы ( все виды крупяных и хлебных продуктов, сахар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% - жиры ( масло, маргарин, растительные жиры 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ключается применение приправ и уксу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более полного обеспечения потребности в белках рекомендуется сочетание следующих проду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с с бобовыми или кунжут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шеницу с бобовыми, арахисом, кунжутом и со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бовые с кукурузой или пшениц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ю с рисом и пшеницей, с пшеницей и кунжутом или с арахисом и кунжут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нжут с бобовыми, с арахисом и соей, с соей и пшениц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ахис с семечками подсолнечника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egetables1"/>
          <p:cNvPicPr/>
          <p:nvPr/>
        </p:nvPicPr>
        <p:blipFill>
          <a:blip r:embed="rId1"/>
          <a:stretch/>
        </p:blipFill>
        <p:spPr>
          <a:xfrm>
            <a:off x="0" y="3213000"/>
            <a:ext cx="1517760" cy="113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54127_21678-paragraf-photo-text-left-img-dir"/>
          <p:cNvPicPr/>
          <p:nvPr/>
        </p:nvPicPr>
        <p:blipFill>
          <a:blip r:embed="rId2"/>
          <a:stretch/>
        </p:blipFill>
        <p:spPr>
          <a:xfrm>
            <a:off x="6877080" y="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20090624-vegan"/>
          <p:cNvPicPr/>
          <p:nvPr/>
        </p:nvPicPr>
        <p:blipFill>
          <a:blip r:embed="rId3"/>
          <a:stretch/>
        </p:blipFill>
        <p:spPr>
          <a:xfrm>
            <a:off x="0" y="5013360"/>
            <a:ext cx="1547640" cy="1281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veget_34517_340x260"/>
          <p:cNvPicPr/>
          <p:nvPr/>
        </p:nvPicPr>
        <p:blipFill>
          <a:blip r:embed="rId4"/>
          <a:stretch/>
        </p:blipFill>
        <p:spPr>
          <a:xfrm>
            <a:off x="7704000" y="3429000"/>
            <a:ext cx="144000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8:04:55Z</dcterms:created>
  <dc:creator/>
  <dc:description/>
  <dc:language>en-US</dc:language>
  <cp:lastModifiedBy/>
  <dcterms:modified xsi:type="dcterms:W3CDTF">2011-09-17T13:56:20Z</dcterms:modified>
  <cp:revision>7</cp:revision>
  <dc:subject/>
  <dc:title/>
</cp:coreProperties>
</file>