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B52-48F6-454D-B204-360A7C9F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27B-8182-4D55-A2AC-EDDA970F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8B4-D94F-4EE5-AC68-89E8528C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BC9-E58E-4BC0-9B1D-931B64D8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A816-BE05-4ABE-BB54-08293854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A053-D246-4E3B-A1B3-EC21A83C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25A0-3954-45BD-AC79-2B40DE31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71AE-F2B5-440C-A855-A571988C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8985-8ECD-4EA5-9174-0ECD8FD7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823E-4F5C-4766-9D25-B68CC65C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1802-CF7D-4299-BF01-C53B56A4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F3B-C4DD-41B4-B124-E259CA0A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6F14-D845-42B0-862D-017395E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E8F4-B9C3-46FD-BCD0-AEBA1C1D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1A29-633E-4807-A559-8266F9B0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9282-98B1-44A8-ACCF-BCF0371F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E66F-BE58-4FBE-BA04-9749D400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46A-72BC-4D69-80A2-3DE8F58A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7FC-5A5E-4AF3-B459-41CF62B2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2EB-DFC2-4882-9856-3F8949B1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C9B-937F-49C5-99D1-B4E620BD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B38-BC15-4EE7-A2A4-14B1FCC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9BF-5930-43C1-A5BB-41765B5C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BD7-E68A-4E31-BDA7-03086E7A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F5D4-ED86-4551-986A-00CAEB9EE7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03E9-224D-4EA6-AFB8-955519FE02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990720"/>
            <a:ext cx="639936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Использование  ИКТ  на  уроках  музыки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11640" y="4805280"/>
            <a:ext cx="45720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435640" y="3160800"/>
            <a:ext cx="2868480" cy="206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656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Одной  из  важнейших  составляющих  является  мотивация  ученика.  Использование  информационных  технологий  на  уроках  музыки  делает  обучение  ярким,  запоминающимся,  интересным  для  учащегося  любого  возраста,  формирует  эмоционально  положительное  отношение  к  уро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ализ  вышеизложенных  идей  привел  меня  к  выводу  о  необходимости  овладения  современными  компьютерными  технолог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йдя  обучение  на  курсах,  я  определила  параметры  необходимого  технического  оснащения  кабинет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министрация  школы  помогла  мне  всем  необходимым  оборудова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92376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067280" y="508464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3"/>
          <a:stretch/>
        </p:blipFill>
        <p:spPr>
          <a:xfrm>
            <a:off x="1403280" y="5157720"/>
            <a:ext cx="12286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  выше  перечисленное  позволило  мне  органично  включить  ИКТ  в  уроки  музы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монстрация  презентаций,  разработанных  мною  по  теме  уро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 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VD,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исков  с  записями  лучших  образцов  классической  музыки,  оперных  и  балетных  спектаклей,  мюзиклов  и  рок – оп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формация,  представленная  на  компьютерных  дисках,  позволяет  проводить  виртуальные  экскурсии  по  музею  музыкальных  инструментов,  по  странам  и  эпохам,  с   лучшими  исполнителями  мира,  с  разнообразными  стилями  и  направлениями  в  музыкальном  искусств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 это  помогает  эффективному  решению  образовательных  задач,  достижению  нового  качества  обуч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5364000" y="4591080"/>
            <a:ext cx="2934000" cy="226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 за 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езентация  учителя  музы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лицея  им. Атякшева  Г.Ф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Ляховицкой           Ириной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Эдуардовной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6" descr="IMG_0002"/>
          <p:cNvPicPr/>
          <p:nvPr/>
        </p:nvPicPr>
        <p:blipFill>
          <a:blip r:embed="rId1"/>
          <a:stretch/>
        </p:blipFill>
        <p:spPr>
          <a:xfrm>
            <a:off x="7236000" y="3500280"/>
            <a:ext cx="299052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общение современного школьника к вопросам искусства в 21 веке происходит в условиях чрезвычайно насыщенного информационного поля. Восприятие ребенка меняется, он живет в мире технологических символов и знаков, в мире электронной культуры. Компьютерное пространство значительно расширяет поле активности обучающихся школьн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является более интенсивным собеседником, по сравнению с книг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093080" y="5373720"/>
            <a:ext cx="1228680" cy="743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1476360" y="5445000"/>
            <a:ext cx="116208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4500720" y="5084640"/>
            <a:ext cx="110484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80787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чность учителя, безусловно, остается стержневой направляющей  в   обучении  и  ведущей  на  всех  этапах  урока,  а  компьютер  при  этом  выступает  как  средство,  помогающее  в  решении  поставленных  задач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 перестает  быть  единственным  источником  информации,  а  становится  организатором  учебно – познавательной  деятельности  школьни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годня  учитель  должен  владеть  современными  методиками  и  новыми  образовательными  технологиями,  чтобы  общаться  со  школьником  на  одном  языке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6443640" y="537372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на из важнейших задач современной школ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учить  учащихся  ориентироваться  в  информационной  среде,  приобретать  навыки  «чтения»,  переработки  и  анализа  информации,  получаемой  из  разных  источников,  критически  осмыслять  её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этому  следует  учитывать  новые  цели  и  задачи,  определяющие  направления  современного  художественно – эстетического  образов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804000" y="53737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даптация  детей  к  социокультурной  сред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изация  использования  современных  образовательных  технологий  для  освоения  содержания  образования  и  развития 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ение  информационных  коммуникативных  технологий  в  системе  развивающих  занятий  для  активизации  познавательной  и  творческой  деятельности  школь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IMG_1694"/>
          <p:cNvPicPr/>
          <p:nvPr/>
        </p:nvPicPr>
        <p:blipFill>
          <a:blip r:embed="rId1"/>
          <a:stretch/>
        </p:blipFill>
        <p:spPr>
          <a:xfrm>
            <a:off x="-3230640" y="-2422440"/>
            <a:ext cx="15605280" cy="117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IMG_2143"/>
          <p:cNvPicPr/>
          <p:nvPr/>
        </p:nvPicPr>
        <p:blipFill>
          <a:blip r:embed="rId1"/>
          <a:stretch/>
        </p:blipFill>
        <p:spPr>
          <a:xfrm>
            <a:off x="-396720" y="-674640"/>
            <a:ext cx="13872960" cy="117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мышляя  о  современном  уроке  музыки  я  определила  для  себя  некоторые  ведущие  иде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Необходимо  изменить  роль  ученика  в  уроке:  из  пассивного  слушателя  сделать  его  активным  участником  процесса  обучения.  В  этом  случае  отношения  между  учеником  и  учителем  изменяются  в  сторону  партнёрских,  а  ученик  из  объекта  педагогического  воздействия  превращается  в  субъекта  учебной 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Учебным  планом  предусмотрен  лишь  один  урок  музыки  в  неделю,  что  недостаточно  для  развития  всесторонне  развитой  личности,  поэтому  возникает  проблема  увеличения  интенсивности  урока.  Одним  из  способов  решения  этой  задачи  могут  стать  современные  информационные  технолог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Одним  из  условий  успешного  обучения  на  уроках  музыки,  несомненно,  является  использование  аудио-  и  видеоматер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084720" y="5495760"/>
            <a:ext cx="1019520" cy="1362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971640" y="5373720"/>
            <a:ext cx="90468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3348000" y="5589720"/>
            <a:ext cx="11336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5:52:45Z</dcterms:created>
  <dc:creator>Ляховицкая Ирина</dc:creator>
  <dc:description/>
  <dc:language>en-US</dc:language>
  <cp:lastModifiedBy>Коля</cp:lastModifiedBy>
  <dcterms:modified xsi:type="dcterms:W3CDTF">2013-03-20T19:42:23Z</dcterms:modified>
  <cp:revision>14</cp:revision>
  <dc:subject/>
  <dc:title>Использование  информационных  компьютерных  технологий  на  уроках  музыки</dc:title>
</cp:coreProperties>
</file>