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082-5D0A-41D2-AB06-F63AF35C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5C0-E2FD-468A-8B7D-9741F152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64E-4D4E-4FA3-81D7-E2E30B31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506F-0528-4883-BA59-62775C80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FB5D-780D-461A-A15E-38CBBE62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E29E-6642-4326-85ED-E43513CA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19C1-AF94-4657-8AB9-1A6165BA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1DB5-F8DA-4A2B-9559-8E6A397C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5C7D-EE88-476C-B428-D659E330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7515-D9C3-4909-8041-7FDB6AF9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A01E-A4A5-4086-82E7-89D6846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841-8EE5-41A7-92D7-EDDC0BB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8012-E9C9-4D3E-90F5-F9BEC91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D060-7635-47A8-9C16-6086BBE9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E3EB-FD31-4154-B795-23B687C3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14E5-7ADE-4B58-B7CF-EA357B46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A4E-C98B-4086-855E-0F6CC7AF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8EE-E6BC-480D-9C97-A349F322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289-0AE0-41B0-B373-C20EB454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B41-9278-4BF1-AB25-DF829368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B11-A839-4941-93AB-3D69EE1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1AF-8E97-4F97-8728-BA915DA1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268-ADE3-40DC-9953-7A479CD4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A90-FFB7-463B-BA65-9DDD1952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BDAB-B836-4EB7-9B1F-A9719DD182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E17F-AB72-49F2-81A9-1EE0E072F8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990720"/>
            <a:ext cx="639936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спользование  ИКТ  на  уроках  музыки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211640" y="4805280"/>
            <a:ext cx="45720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435640" y="3160800"/>
            <a:ext cx="2868480" cy="206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560" y="620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Одной  из  важнейших  составляющих  является  мотивация  ученика.  Использование  информационных  технологий  на  уроках  музыки  делает  обучение  ярким,  запоминающимся,  интересным  для  учащегося  любого  возраста,  формирует  эмоционально  положительное  отношение  к  уро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ализ  вышеизложенных  идей  привел  меня  к  выводу  о  необходимости  овладения  современными  компьютерными  технолог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йдя  обучение  на  курсах,  я  определила  параметры  необходимого  технического  оснащения  кабинет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министрация  школы  помогла  мне  всем  необходимым  оборудова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92376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067280" y="508464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1403280" y="5157720"/>
            <a:ext cx="12286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  выше  перечисленное  позволило  мне  органично  включить  ИКТ  в  уроки  музы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монстрация  презентаций,  разработанных  мною  по  теме  уро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 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VD,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исков  с  записями  лучших  образцов  классической  музыки,  оперных  и  балетных  спектаклей,  мюзиклов  и  рок – опе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формация,  представленная  на  компьютерных  дисках,  позволяет  проводить  виртуальные  экскурсии  по  музею  музыкальных  инструментов,  по  странам  и  эпохам,  с   лучшими  исполнителями  мира,  с  разнообразными  стилями  и  направлениями  в  музыкальном  искусств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  это  помогает  эффективному  решению  образовательных  задач,  достижению  нового  качества  обуч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5364000" y="4591080"/>
            <a:ext cx="2934000" cy="226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 за 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резентация  учителя  музы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лицея  им. Атякшева  Г.Ф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Ляховицкой           Ириной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Эдуардовной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6" descr="IMG_0002"/>
          <p:cNvPicPr/>
          <p:nvPr/>
        </p:nvPicPr>
        <p:blipFill>
          <a:blip r:embed="rId1"/>
          <a:stretch/>
        </p:blipFill>
        <p:spPr>
          <a:xfrm>
            <a:off x="7236000" y="3500280"/>
            <a:ext cx="29905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общение современного школьника к вопросам искусства в 21 веке происходит в условиях чрезвычайно насыщенного информационного поля. Восприятие ребенка меняется, он живет в мире технологических символов и знаков, в мире электронной культуры. Компьютерное пространство значительно расширяет поле активности обучающихся школьн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является более интенсивным собеседником, по сравнению с книг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093080" y="5373720"/>
            <a:ext cx="1228680" cy="743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476360" y="5445000"/>
            <a:ext cx="116208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4500720" y="5084640"/>
            <a:ext cx="110484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980640"/>
            <a:ext cx="80787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чность учителя, безусловно, остается стержневой направляющей  в   обучении  и  ведущей  на  всех  этапах  урока,  а  компьютер  при  этом  выступает  как  средство,  помогающее  в  решении  поставленных  задач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 перестает  быть  единственным  источником  информации,  а  становится  организатором  учебно – познавательной  деятельности  школьни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годня  учитель  должен  владеть  современными  методиками  и  новыми  образовательными  технологиями,  чтобы  общаться  со  школьником  на  одном  языке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6443640" y="537372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на из важнейших задач современной школ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учить  учащихся  ориентироваться  в  информационной  среде,  приобретать  навыки  «чтения»,  переработки  и  анализа  информации,  получаемой  из  разных  источников,  критически  осмыслять  её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этому  следует  учитывать  новые  цели  и  задачи,  определяющие  направления  современного  художественно – эстетического  образ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804000" y="537372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даптация  детей  к  социокультурной  сре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изация  использования  современных  образовательных  технологий  для  освоения  содержания  образования  и  развития  дет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ение  информационных  коммуникативных  технологий  в  системе  развивающих  занятий  для  активизации  познавательной  и  творческой  деятельности  школь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IMG_1694"/>
          <p:cNvPicPr/>
          <p:nvPr/>
        </p:nvPicPr>
        <p:blipFill>
          <a:blip r:embed="rId1"/>
          <a:stretch/>
        </p:blipFill>
        <p:spPr>
          <a:xfrm>
            <a:off x="-3230640" y="-2422440"/>
            <a:ext cx="15605280" cy="1170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IMG_2143"/>
          <p:cNvPicPr/>
          <p:nvPr/>
        </p:nvPicPr>
        <p:blipFill>
          <a:blip r:embed="rId1"/>
          <a:stretch/>
        </p:blipFill>
        <p:spPr>
          <a:xfrm>
            <a:off x="-396720" y="-674640"/>
            <a:ext cx="13872960" cy="117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мышляя  о  современном  уроке  музыки  я  определила  для  себя  некоторые  ведущие  иде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Необходимо  изменить  роль  ученика  в  уроке:  из  пассивного  слушателя  сделать  его  активным  участником  процесса  обучения.  В  этом  случае  отношения  между  учеником  и  учителем  изменяются  в  сторону  партнёрских,  а  ученик  из  объекта  педагогического  воздействия  превращается  в  субъекта  учебной 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Учебным  планом  предусмотрен  лишь  один  урок  музыки  в  неделю,  что  недостаточно  для  развития  всесторонне  развитой  личности,  поэтому  возникает  проблема  увеличения  интенсивности  урока.  Одним  из  способов  решения  этой  задачи  могут  стать  современные  информационные  технолог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Одним  из  условий  успешного  обучения  на  уроках  музыки,  несомненно,  является  использование  аудио-  и  видеоматер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084720" y="5495760"/>
            <a:ext cx="1019520" cy="136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971640" y="5373720"/>
            <a:ext cx="90468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3"/>
          <a:stretch/>
        </p:blipFill>
        <p:spPr>
          <a:xfrm>
            <a:off x="3348000" y="5589720"/>
            <a:ext cx="113364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5:52:45Z</dcterms:created>
  <dc:creator>Ляховицкая Ирина</dc:creator>
  <dc:description/>
  <dc:language>en-US</dc:language>
  <cp:lastModifiedBy>Коля</cp:lastModifiedBy>
  <dcterms:modified xsi:type="dcterms:W3CDTF">2013-03-20T19:42:23Z</dcterms:modified>
  <cp:revision>14</cp:revision>
  <dc:subject/>
  <dc:title>Использование  информационных  компьютерных  технологий  на  уроках  музыки</dc:title>
</cp:coreProperties>
</file>