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1C6-2A39-4F9B-A55E-E00DABB1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E80-0DB7-4B34-B248-94329F3A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252-1F20-4871-A3D5-7E576FFA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C5A-94D3-4D39-8938-4E21AC35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F107-3BC6-49D1-BA29-AC976C19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F0FB-67D3-4E25-B31E-E8FF3B9C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962C-4E07-4BD2-AB30-6D9890EB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F8A6-D201-42AB-9A5C-2E369F94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CD83-5B5C-47B0-9EF3-D772EBFB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85A2-DF0E-4E00-889D-C7AABED0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ABF0-CE7F-415F-92AF-56E67B3D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BF3-8FBF-428C-8F73-3B6866B6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4172-142F-4CDF-B513-0D62F136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90D2-585C-413E-87F4-C0909956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5AE7-693F-43CB-AEA4-0B353F2F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9607-D1FF-4DFE-BE7A-EB0B9068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1ADE-2444-4A6B-B8B5-FDA8589D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E24-F12F-4A4C-B72C-16288A3F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97A7-7871-4204-A7B1-3C98AD6B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FFC-809E-4214-978F-24F86FDD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778-A9CF-4D45-8A1E-127CC3EC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FCC-1F67-4966-96E8-1D429DEA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4DB-1091-4D03-8DE3-6DA2E1D4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F5C-406E-4671-B37A-3FC45768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E2E1-BAEE-4B16-A67D-E050FD5D2D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441F-DDDE-4391-8A77-FB9D304D76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990720"/>
            <a:ext cx="6399360" cy="14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Использование  ИКТ  на  уроках  музыки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211640" y="4805280"/>
            <a:ext cx="457200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435640" y="3160800"/>
            <a:ext cx="2868480" cy="206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26560" y="620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Одной  из  важнейших  составляющих  является  мотивация  ученика.  Использование  информационных  технологий  на  уроках  музыки  делает  обучение  ярким,  запоминающимся,  интересным  для  учащегося  любого  возраста,  формирует  эмоционально  положительное  отношение  к  урок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нализ  вышеизложенных  идей  привел  меня  к  выводу  о  необходимости  овладения  современными  компьютерными  технолог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йдя  обучение  на  курсах,  я  определила  параметры  необходимого  технического  оснащения  кабинета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министрация  школы  помогла  мне  всем  необходимым  оборудова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6659640" y="4869000"/>
            <a:ext cx="923760" cy="115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4067280" y="508464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3"/>
          <a:stretch/>
        </p:blipFill>
        <p:spPr>
          <a:xfrm>
            <a:off x="1403280" y="5157720"/>
            <a:ext cx="12286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  выше  перечисленное  позволило  мне  органично  включить  ИКТ  в  уроки  музы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монстрация  презентаций,  разработанных  мною  по  теме  уро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спользование  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VD,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исков  с  записями  лучших  образцов  классической  музыки,  оперных  и  балетных  спектаклей,  мюзиклов  и  рок – опе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формация,  представленная  на  компьютерных  дисках,  позволяет  проводить  виртуальные  экскурсии  по  музею  музыкальных  инструментов,  по  странам  и  эпохам,  с   лучшими  исполнителями  мира,  с  разнообразными  стилями  и  направлениями  в  музыкальном  искусств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 это  помогает  эффективному  решению  образовательных  задач,  достижению  нового  качества  обуч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5364000" y="4591080"/>
            <a:ext cx="2934000" cy="226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 за 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резентация  учителя  музы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лицея  им. Атякшева  Г.Ф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Ляховицкой           Ириной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Эдуардовной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6" descr="IMG_0002"/>
          <p:cNvPicPr/>
          <p:nvPr/>
        </p:nvPicPr>
        <p:blipFill>
          <a:blip r:embed="rId1"/>
          <a:stretch/>
        </p:blipFill>
        <p:spPr>
          <a:xfrm>
            <a:off x="7236000" y="3500280"/>
            <a:ext cx="299052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общение современного школьника к вопросам искусства в 21 веке происходит в условиях чрезвычайно насыщенного информационного поля. Восприятие ребенка меняется, он живет в мире технологических символов и знаков, в мире электронной культуры. Компьютерное пространство значительно расширяет поле активности обучающихся школьни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является более интенсивным собеседником, по сравнению с книг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7093080" y="5373720"/>
            <a:ext cx="1228680" cy="743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1476360" y="5445000"/>
            <a:ext cx="116208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3"/>
          <a:stretch/>
        </p:blipFill>
        <p:spPr>
          <a:xfrm>
            <a:off x="4500720" y="5084640"/>
            <a:ext cx="1104840" cy="10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360" y="980640"/>
            <a:ext cx="80787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чность учителя, безусловно, остается стержневой направляющей  в   обучении  и  ведущей  на  всех  этапах  урока,  а  компьютер  при  этом  выступает  как  средство,  помогающее  в  решении  поставленных  задач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 перестает  быть  единственным  источником  информации,  а  становится  организатором  учебно – познавательной  деятельности  школьник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годня  учитель  должен  владеть  современными  методиками  и  новыми  образовательными  технологиями,  чтобы  общаться  со  школьником  на  одном  языке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6443640" y="537372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на из важнейших задач современной школ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учить  учащихся  ориентироваться  в  информационной  среде,  приобретать  навыки  «чтения»,  переработки  и  анализа  информации,  получаемой  из  разных  источников,  критически  осмыслять  её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этому  следует  учитывать  новые  цели  и  задачи,  определяющие  направления  современного  художественно – эстетического  образова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804000" y="53737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даптация  детей  к  социокультурной  сред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тивизация  использования  современных  образовательных  технологий  для  освоения  содержания  образования  и  развития  дет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ение  информационных  коммуникативных  технологий  в  системе  развивающих  занятий  для  активизации  познавательной  и  творческой  деятельности  школь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IMG_1694"/>
          <p:cNvPicPr/>
          <p:nvPr/>
        </p:nvPicPr>
        <p:blipFill>
          <a:blip r:embed="rId1"/>
          <a:stretch/>
        </p:blipFill>
        <p:spPr>
          <a:xfrm>
            <a:off x="-3230640" y="-2422440"/>
            <a:ext cx="15605280" cy="1170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IMG_2143"/>
          <p:cNvPicPr/>
          <p:nvPr/>
        </p:nvPicPr>
        <p:blipFill>
          <a:blip r:embed="rId1"/>
          <a:stretch/>
        </p:blipFill>
        <p:spPr>
          <a:xfrm>
            <a:off x="-396720" y="-674640"/>
            <a:ext cx="13872960" cy="117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мышляя  о  современном  уроке  музыки  я  определила  для  себя  некоторые  ведущие  иде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Необходимо  изменить  роль  ученика  в  уроке:  из  пассивного  слушателя  сделать  его  активным  участником  процесса  обучения.  В  этом  случае  отношения  между  учеником  и  учителем  изменяются  в  сторону  партнёрских,  а  ученик  из  объекта  педагогического  воздействия  превращается  в  субъекта  учебной  деятель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Учебным  планом  предусмотрен  лишь  один  урок  музыки  в  неделю,  что  недостаточно  для  развития  всесторонне  развитой  личности,  поэтому  возникает  проблема  увеличения  интенсивности  урока.  Одним  из  способов  решения  этой  задачи  могут  стать  современные  информационные  технолог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Одним  из  условий  успешного  обучения  на  уроках  музыки,  несомненно,  является  использование  аудио-  и  видеоматериа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6084720" y="5495760"/>
            <a:ext cx="1019520" cy="1362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971640" y="5373720"/>
            <a:ext cx="90468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3"/>
          <a:stretch/>
        </p:blipFill>
        <p:spPr>
          <a:xfrm>
            <a:off x="3348000" y="5589720"/>
            <a:ext cx="113364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5:52:45Z</dcterms:created>
  <dc:creator>Ляховицкая Ирина</dc:creator>
  <dc:description/>
  <dc:language>en-US</dc:language>
  <cp:lastModifiedBy>Коля</cp:lastModifiedBy>
  <dcterms:modified xsi:type="dcterms:W3CDTF">2013-03-20T19:42:23Z</dcterms:modified>
  <cp:revision>14</cp:revision>
  <dc:subject/>
  <dc:title>Использование  информационных  компьютерных  технологий  на  уроках  музыки</dc:title>
</cp:coreProperties>
</file>